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1B65-31C5-46D8-884A-3374DFB50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B457-AC26-471D-A3BE-9C7D8547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9DEE-2762-41EB-B041-66B40C1F1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CC5C-5027-4901-BF4E-BD966121B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678A-B029-45EF-BE72-D98010BB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6932-7A97-4AE4-89DE-E368DFFE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5ED7-269C-42F0-9D22-83A3E3F9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FC4D-CDA4-43A8-BAB3-DD4F5C4C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3527-4C28-4D94-A44A-1E8E59DB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5E63-BE32-4C6C-85BF-1933B168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5BB4-1D9C-492C-A48E-C757C904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FEFC-BD57-4BF7-A590-A6F506F1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BC4E-0E1A-41B0-AFF2-BEF4ED398A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457200"/>
            <a:ext cx="8382240" cy="563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Deflate">
              <a:avLst>
                <a:gd name="adj" fmla="val 28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1bfe1b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34b08"/>
                  </a:outerShdw>
                </a:effectLst>
                <a:latin typeface="Benguiat Bk BT"/>
              </a:rPr>
              <a:t>JOB SAFETY ANALYSIS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1bfe1b"/>
                  </a:gs>
                </a:gsLst>
                <a:lin ang="8100000"/>
              </a:gradFill>
              <a:effectLst>
                <a:outerShdw dist="107932" dir="2700000" blurRad="0" rotWithShape="0">
                  <a:srgbClr val="034b08"/>
                </a:outerShdw>
              </a:effectLst>
              <a:latin typeface="Benguiat Bk BT"/>
              <a:ea typeface="Benguiat Bk BT"/>
            </a:endParaRPr>
          </a:p>
        </p:txBody>
      </p:sp>
      <p:sp>
        <p:nvSpPr>
          <p:cNvPr id="42" name="DownRibbonSharp"/>
          <p:cNvSpPr/>
          <p:nvPr/>
        </p:nvSpPr>
        <p:spPr>
          <a:xfrm>
            <a:off x="1447920" y="2286000"/>
            <a:ext cx="6400800" cy="3276720"/>
          </a:xfrm>
          <a:custGeom>
            <a:avLst/>
            <a:gdLst>
              <a:gd name="textAreaLeft" fmla="*/ 1600200 w 6400800"/>
              <a:gd name="textAreaRight" fmla="*/ 4800600 w 6400800"/>
              <a:gd name="textAreaTop" fmla="*/ 409320 h 3276720"/>
              <a:gd name="textAreaBottom" fmla="*/ 327708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00" y="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2700"/>
                </a:moveTo>
                <a:lnTo>
                  <a:pt x="5400" y="2700"/>
                </a:lnTo>
                <a:lnTo>
                  <a:pt x="5400" y="18900"/>
                </a:lnTo>
              </a:path>
              <a:path fill="none" w="21600" h="21600">
                <a:moveTo>
                  <a:pt x="5400" y="2700"/>
                </a:moveTo>
                <a:lnTo>
                  <a:pt x="8100" y="0"/>
                </a:lnTo>
              </a:path>
              <a:path fill="none" w="21600" h="21600">
                <a:moveTo>
                  <a:pt x="13500" y="2700"/>
                </a:moveTo>
                <a:lnTo>
                  <a:pt x="16200" y="2700"/>
                </a:lnTo>
                <a:lnTo>
                  <a:pt x="16200" y="18900"/>
                </a:lnTo>
              </a:path>
              <a:path fill="none" w="21600" h="21600">
                <a:moveTo>
                  <a:pt x="16200" y="2700"/>
                </a:moveTo>
                <a:lnTo>
                  <a:pt x="13500" y="0"/>
                </a:lnTo>
              </a:path>
            </a:pathLst>
          </a:custGeom>
          <a:solidFill>
            <a:srgbClr val="ffff00"/>
          </a:solidFill>
          <a:ln w="38160">
            <a:solidFill>
              <a:srgbClr val="ff3300"/>
            </a:solidFill>
            <a:miter/>
          </a:ln>
          <a:effectLst>
            <a:outerShdw dist="107932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enguiat Bk BT"/>
              </a:rPr>
              <a:t>Be Proactive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enguiat Bk BT"/>
              </a:rPr>
              <a:t>- Not Reactiv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5867280"/>
            <a:ext cx="6019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enguiat Bk BT"/>
              </a:rPr>
              <a:t>Arkansas Workers’ Compensation Commissio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enguiat Bk BT"/>
              </a:rPr>
              <a:t>Health &amp; Safety Divisio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enguiat Bk BT"/>
              </a:rPr>
              <a:t>Training Supervisors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enguiat Bk BT"/>
              </a:rPr>
              <a:t>Supervisors can use JSAs as self-teaching tools for jobs they have never performed.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1600200"/>
            <a:ext cx="74674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6" name="clip0010" descr=""/>
          <p:cNvPicPr/>
          <p:nvPr/>
        </p:nvPicPr>
        <p:blipFill>
          <a:blip r:embed="rId1"/>
          <a:stretch/>
        </p:blipFill>
        <p:spPr>
          <a:xfrm>
            <a:off x="5424480" y="1447920"/>
            <a:ext cx="3719520" cy="541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enguiat Bk BT"/>
              </a:rPr>
              <a:t>Inspections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enguiat Bk BT"/>
              </a:rPr>
              <a:t>JSAs help in machinery inspections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enguiat Bk BT"/>
              </a:rPr>
              <a:t>Break each job down step by step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enguiat Bk BT"/>
              </a:rPr>
              <a:t>Health Hazards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00400" y="144792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JSAs can help uncover health hazards of a job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Health hazards are not as visible as accidents because they usually don’t happen suddenly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They are still costly!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1371600"/>
            <a:ext cx="56386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14480" y="1371600"/>
          <a:ext cx="323820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1371600"/>
                    <a:ext cx="32382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enguiat Bk BT"/>
              </a:rPr>
              <a:t>Ergonomics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The science of designing the job and workplace to the worker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JSAs identify worker positions, tool usage, loads, lifting, repetitive motions, and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Helps identify existing and/or potential “ergonomic” problems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1066680"/>
            <a:ext cx="45720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114960" y="1447920"/>
          <a:ext cx="302904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4960" y="1447920"/>
                    <a:ext cx="302904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14479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enguiat Bk BT"/>
              </a:rPr>
              <a:t>Accident Investigations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57040" y="1981080"/>
            <a:ext cx="7086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Was a JSA developed for the job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Were the recommended procedures followed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Evaluate the correctness of the JSA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1676520"/>
          <a:ext cx="2438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2438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enguiat Bk BT"/>
              </a:rPr>
              <a:t>Safety Contacts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JSAs help when observing workers doing their job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Use the JSA to show how to do  the job correctly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464080" y="1638360"/>
          <a:ext cx="3756240" cy="52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4080" y="1638360"/>
                    <a:ext cx="375624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enguiat Bk BT"/>
              </a:rPr>
              <a:t>Documentation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487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enguiat Bk BT"/>
              </a:rPr>
              <a:t>JSAs are records of what training the employees received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876920" y="2523960"/>
            <a:ext cx="4038480" cy="3962520"/>
            <a:chOff x="4876920" y="2523960"/>
            <a:chExt cx="4038480" cy="3962520"/>
          </a:xfrm>
        </p:grpSpPr>
        <p:pic>
          <p:nvPicPr>
            <p:cNvPr id="110" name="clip0065" descr=""/>
            <p:cNvPicPr/>
            <p:nvPr/>
          </p:nvPicPr>
          <p:blipFill>
            <a:blip r:embed="rId1"/>
            <a:stretch/>
          </p:blipFill>
          <p:spPr>
            <a:xfrm>
              <a:off x="4876920" y="2523960"/>
              <a:ext cx="403848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299200" y="2971800"/>
              <a:ext cx="141444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he following have been trained in safe job procedures: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ohn Doe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ry Smith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Benguiat Bk BT"/>
              </a:rPr>
              <a:t>Which Jobs Need JSAs?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6248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Accident Frequenc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Injury and Illness  Severit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Potential Injury/Illness Severit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New Jobs, Non-Routine Jobs, or Job Chang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High Cost Accident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Repetitive Exposur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1295280"/>
            <a:ext cx="8229600" cy="0"/>
          </a:xfrm>
          <a:prstGeom prst="line">
            <a:avLst/>
          </a:prstGeom>
          <a:ln w="88920">
            <a:solidFill>
              <a:srgbClr val="ff3300"/>
            </a:solidFill>
            <a:miter/>
            <a:tailEnd len="lg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5" name="clip0003" descr=""/>
          <p:cNvPicPr/>
          <p:nvPr/>
        </p:nvPicPr>
        <p:blipFill>
          <a:blip r:embed="rId1"/>
          <a:stretch/>
        </p:blipFill>
        <p:spPr>
          <a:xfrm>
            <a:off x="6121440" y="2514600"/>
            <a:ext cx="3022560" cy="3886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7200" y="144792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Benguiat Bk BT"/>
              </a:rPr>
              <a:t>Consider several factors when ranking the jobs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Benguiat Bk BT"/>
              </a:rPr>
              <a:t>Use a 2-Fold Approach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7162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44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Benguiat Bk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First hand experiences are documented, and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444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Benguiat Bk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Procedures are accepted because workers participate in the process.</a:t>
            </a: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371600"/>
            <a:ext cx="7848720" cy="0"/>
          </a:xfrm>
          <a:prstGeom prst="line">
            <a:avLst/>
          </a:prstGeom>
          <a:ln w="88920">
            <a:solidFill>
              <a:srgbClr val="ff33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211800" y="2286000"/>
          <a:ext cx="293220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11800" y="2286000"/>
                    <a:ext cx="29322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Benguiat Bk BT"/>
              </a:rPr>
              <a:t>JSA involves 4 </a:t>
            </a:r>
            <a:br>
              <a:rPr sz="5400"/>
            </a:br>
            <a:r>
              <a:rPr b="1" lang="en-US" sz="5400" spc="-1" strike="noStrike">
                <a:solidFill>
                  <a:srgbClr val="00ff00"/>
                </a:solidFill>
                <a:latin typeface="Benguiat Bk BT"/>
              </a:rPr>
              <a:t>basic steps:</a:t>
            </a:r>
            <a:br>
              <a:rPr sz="5400"/>
            </a:b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14240" y="22096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Benguiat Bk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Select the job to be analyzed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Benguiat Bk BT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Separate the job into basic steps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Benguiat Bk BT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Identify the hazards of each step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Benguiat Bk BT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Control the hazards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1905120"/>
            <a:ext cx="7696080" cy="0"/>
          </a:xfrm>
          <a:prstGeom prst="line">
            <a:avLst/>
          </a:prstGeom>
          <a:ln w="88920">
            <a:solidFill>
              <a:srgbClr val="ff33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0" y="2057400"/>
          <a:ext cx="2727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57400"/>
                    <a:ext cx="2727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enguiat Bk BT"/>
              </a:rPr>
              <a:t>Accidents = Losses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Benguiat Bk BT"/>
              </a:rPr>
              <a:t>Losses</a:t>
            </a:r>
            <a:r>
              <a:rPr b="1" lang="en-US" sz="4800" spc="-1" strike="noStrike">
                <a:solidFill>
                  <a:srgbClr val="ffff00"/>
                </a:solidFill>
                <a:latin typeface="Benguiat Bk BT"/>
              </a:rPr>
              <a:t> to the employer and employe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enguiat Bk BT"/>
              </a:rPr>
              <a:t>Both </a:t>
            </a:r>
            <a:r>
              <a:rPr b="1" lang="en-US" sz="4800" spc="-1" strike="noStrike" u="sng">
                <a:solidFill>
                  <a:srgbClr val="ffff00"/>
                </a:solidFill>
                <a:uFillTx/>
                <a:latin typeface="Benguiat Bk BT"/>
              </a:rPr>
              <a:t>human losses</a:t>
            </a:r>
            <a:r>
              <a:rPr b="1" lang="en-US" sz="4800" spc="-1" strike="noStrike">
                <a:solidFill>
                  <a:srgbClr val="ffff00"/>
                </a:solidFill>
                <a:latin typeface="Benguiat Bk BT"/>
              </a:rPr>
              <a:t> and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Benguiat Bk BT"/>
              </a:rPr>
              <a:t>Dollar loss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1752480"/>
            <a:ext cx="7162920" cy="0"/>
          </a:xfrm>
          <a:prstGeom prst="line">
            <a:avLst/>
          </a:prstGeom>
          <a:ln w="8892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Benguiat Bk BT"/>
              </a:rPr>
              <a:t>1.</a:t>
            </a:r>
            <a:r>
              <a:rPr b="1" lang="en-US" sz="5400" spc="-1" strike="noStrike">
                <a:solidFill>
                  <a:srgbClr val="00ff00"/>
                </a:solidFill>
                <a:latin typeface="Benguiat Bk BT"/>
              </a:rPr>
              <a:t> </a:t>
            </a:r>
            <a:r>
              <a:rPr b="1" lang="en-US" sz="4800" spc="-1" strike="noStrike">
                <a:solidFill>
                  <a:srgbClr val="00ff00"/>
                </a:solidFill>
                <a:latin typeface="Benguiat Bk BT"/>
              </a:rPr>
              <a:t>Select the job to be             </a:t>
            </a:r>
            <a:r>
              <a:rPr b="1" lang="en-US" sz="4800" spc="-1" strike="noStrike">
                <a:solidFill>
                  <a:srgbClr val="00ff00"/>
                </a:solidFill>
                <a:latin typeface="Benguiat Bk BT"/>
              </a:rPr>
              <a:t>	</a:t>
            </a:r>
            <a:r>
              <a:rPr b="1" lang="en-US" sz="4800" spc="-1" strike="noStrike">
                <a:solidFill>
                  <a:srgbClr val="00ff00"/>
                </a:solidFill>
                <a:latin typeface="Benguiat Bk BT"/>
              </a:rPr>
              <a:t> analyzed:</a:t>
            </a:r>
            <a:br>
              <a:rPr sz="4800"/>
            </a:b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666520" y="22860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Prioritize the jobs to be analyzed according to the greatest accident frequency.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Jobs with the highest risks should be analyzed first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1905120"/>
            <a:ext cx="8076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0" name="clip0000" descr=""/>
          <p:cNvPicPr/>
          <p:nvPr/>
        </p:nvPicPr>
        <p:blipFill>
          <a:blip r:embed="rId1"/>
          <a:stretch/>
        </p:blipFill>
        <p:spPr>
          <a:xfrm>
            <a:off x="239760" y="2209680"/>
            <a:ext cx="2598840" cy="419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Benguiat Bk BT"/>
              </a:rPr>
              <a:t>2.</a:t>
            </a:r>
            <a:r>
              <a:rPr b="1" lang="en-US" sz="4800" spc="-1" strike="noStrike">
                <a:solidFill>
                  <a:srgbClr val="00ff00"/>
                </a:solidFill>
                <a:latin typeface="Benguiat Bk BT"/>
              </a:rPr>
              <a:t> Separate the job into </a:t>
            </a:r>
            <a:r>
              <a:rPr b="1" lang="en-US" sz="4800" spc="-1" strike="noStrike">
                <a:solidFill>
                  <a:srgbClr val="00ff00"/>
                </a:solidFill>
                <a:latin typeface="Benguiat Bk BT"/>
              </a:rPr>
              <a:t>	</a:t>
            </a:r>
            <a:r>
              <a:rPr b="1" lang="en-US" sz="4800" spc="-1" strike="noStrike">
                <a:solidFill>
                  <a:srgbClr val="00ff00"/>
                </a:solidFill>
                <a:latin typeface="Benguiat Bk BT"/>
              </a:rPr>
              <a:t>basic steps:</a:t>
            </a:r>
            <a:br>
              <a:rPr sz="4800"/>
            </a:b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0400" y="1981080"/>
            <a:ext cx="5943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A worksheet is used to list the basic job steps, the corresponding hazards, and the safe procedures for each step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A worker with firsthand knowledge of the job should be asked to help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1752480"/>
            <a:ext cx="8076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4" name="clip0004" descr=""/>
          <p:cNvPicPr/>
          <p:nvPr/>
        </p:nvPicPr>
        <p:blipFill>
          <a:blip r:embed="rId1"/>
          <a:stretch/>
        </p:blipFill>
        <p:spPr>
          <a:xfrm>
            <a:off x="0" y="2286000"/>
            <a:ext cx="3413160" cy="4267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rot="21469200">
            <a:off x="2741760" y="274176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enguiat Bk BT"/>
              </a:rPr>
              <a:t>JS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2971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nguiat Bk BT"/>
              </a:rPr>
              <a:t>JS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Benguiat Bk BT"/>
              </a:rPr>
              <a:t>3.</a:t>
            </a:r>
            <a:r>
              <a:rPr b="1" lang="en-US" sz="4800" spc="-1" strike="noStrike">
                <a:solidFill>
                  <a:srgbClr val="00ff00"/>
                </a:solidFill>
                <a:latin typeface="Benguiat Bk BT"/>
              </a:rPr>
              <a:t> Identify the hazards   of each step:</a:t>
            </a:r>
            <a:r>
              <a:rPr b="1" lang="en-US" sz="4800" spc="-1" strike="noStrike">
                <a:solidFill>
                  <a:srgbClr val="ffff00"/>
                </a:solidFill>
                <a:latin typeface="Benguiat Bk BT"/>
              </a:rPr>
              <a:t>	</a:t>
            </a:r>
            <a:br>
              <a:rPr sz="4800"/>
            </a:b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37920" y="1904760"/>
            <a:ext cx="6705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1" marL="822240" indent="-4428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Some hazards are more likely to occur , and some are more likely to produce serious injuries than others.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822240" indent="-4428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Consider all logical possibilities when identifying hazards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1828800"/>
            <a:ext cx="807696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0" name="clip0011" descr=""/>
          <p:cNvPicPr/>
          <p:nvPr/>
        </p:nvPicPr>
        <p:blipFill>
          <a:blip r:embed="rId1"/>
          <a:stretch/>
        </p:blipFill>
        <p:spPr>
          <a:xfrm>
            <a:off x="0" y="2057400"/>
            <a:ext cx="3168720" cy="4313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Benguiat Bk BT"/>
              </a:rPr>
              <a:t>4.</a:t>
            </a:r>
            <a:r>
              <a:rPr b="1" lang="en-US" sz="5400" spc="-1" strike="noStrike">
                <a:solidFill>
                  <a:srgbClr val="00ff00"/>
                </a:solidFill>
                <a:latin typeface="Benguiat Bk BT"/>
              </a:rPr>
              <a:t>  Control the hazard:</a:t>
            </a:r>
            <a:br>
              <a:rPr sz="5400"/>
            </a:b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Safe job procedures to eliminate or reduce potential accidents</a:t>
            </a: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523880"/>
            <a:ext cx="8076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495680" y="2286000"/>
            <a:ext cx="4419720" cy="4114800"/>
            <a:chOff x="4495680" y="2286000"/>
            <a:chExt cx="4419720" cy="4114800"/>
          </a:xfrm>
        </p:grpSpPr>
        <p:pic>
          <p:nvPicPr>
            <p:cNvPr id="145" name="clip0017" descr=""/>
            <p:cNvPicPr/>
            <p:nvPr/>
          </p:nvPicPr>
          <p:blipFill>
            <a:blip r:embed="rId1"/>
            <a:stretch/>
          </p:blipFill>
          <p:spPr>
            <a:xfrm>
              <a:off x="4495680" y="2286000"/>
              <a:ext cx="441972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800600" y="2743200"/>
              <a:ext cx="1752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Benguiat Bk BT"/>
                </a:rPr>
                <a:t>Safe Job Procedures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Benguiat Bk BT"/>
              </a:rPr>
              <a:t>5 points to consider for each hazard:</a:t>
            </a:r>
            <a:br>
              <a:rPr sz="4800"/>
            </a:b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6629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Benguiat Bk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Is there a less hazardous way to do the job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Benguiat Bk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Can the physical conditions creating the hazard be changed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1600200"/>
            <a:ext cx="8001000" cy="0"/>
          </a:xfrm>
          <a:prstGeom prst="line">
            <a:avLst/>
          </a:prstGeom>
          <a:ln w="88920">
            <a:solidFill>
              <a:srgbClr val="ff3300"/>
            </a:solidFill>
            <a:miter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0" name="clip0018" descr=""/>
          <p:cNvPicPr/>
          <p:nvPr/>
        </p:nvPicPr>
        <p:blipFill>
          <a:blip r:embed="rId1"/>
          <a:stretch/>
        </p:blipFill>
        <p:spPr>
          <a:xfrm>
            <a:off x="5915160" y="1828800"/>
            <a:ext cx="3228840" cy="4724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905120" y="837720"/>
            <a:ext cx="7238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Benguiat Bk BT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Can the job procedures be changed if engineering controls don’t work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Benguiat Bk BT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Is it possible to reduce the frequency of performing the job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Benguiat Bk BT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Can personal protective equipment be used when all else fails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2" name="clip0020" descr=""/>
          <p:cNvPicPr/>
          <p:nvPr/>
        </p:nvPicPr>
        <p:blipFill>
          <a:blip r:embed="rId1"/>
          <a:stretch/>
        </p:blipFill>
        <p:spPr>
          <a:xfrm>
            <a:off x="0" y="838080"/>
            <a:ext cx="2057400" cy="5181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enguiat Bk BT"/>
              </a:rPr>
              <a:t>JSA is an Ongoing Activity!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274284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enguiat Bk BT"/>
              </a:rPr>
              <a:t>When an accident occurs and/o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enguiat Bk BT"/>
              </a:rPr>
              <a:t>Whenever the job, equipment, tools or process changes.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137160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Benguiat Bk BT"/>
              </a:rPr>
              <a:t>When should you update      the JSAs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1143000"/>
            <a:ext cx="86104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7" name="clip0034" descr=""/>
          <p:cNvPicPr/>
          <p:nvPr/>
        </p:nvPicPr>
        <p:blipFill>
          <a:blip r:embed="rId1"/>
          <a:stretch/>
        </p:blipFill>
        <p:spPr>
          <a:xfrm>
            <a:off x="6024600" y="1371600"/>
            <a:ext cx="3119400" cy="5486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enguiat Bk BT"/>
              </a:rPr>
              <a:t>Cost Reduction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enguiat Bk BT"/>
              </a:rPr>
              <a:t>JSAs can improve operations and reduce costs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0" name="BS00508_" descr=""/>
          <p:cNvPicPr/>
          <p:nvPr/>
        </p:nvPicPr>
        <p:blipFill>
          <a:blip r:embed="rId1"/>
          <a:stretch/>
        </p:blipFill>
        <p:spPr>
          <a:xfrm>
            <a:off x="5334120" y="3352680"/>
            <a:ext cx="2958840" cy="3124440"/>
          </a:xfrm>
          <a:prstGeom prst="rect">
            <a:avLst/>
          </a:prstGeom>
          <a:ln w="0">
            <a:noFill/>
          </a:ln>
        </p:spPr>
      </p:pic>
      <p:pic>
        <p:nvPicPr>
          <p:cNvPr id="161" name="BS02064_" descr=""/>
          <p:cNvPicPr/>
          <p:nvPr/>
        </p:nvPicPr>
        <p:blipFill>
          <a:blip r:embed="rId2"/>
          <a:stretch/>
        </p:blipFill>
        <p:spPr>
          <a:xfrm>
            <a:off x="838080" y="3976560"/>
            <a:ext cx="2895840" cy="28814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191120" y="45720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81280" y="2895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5" name="clip0058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2846520" cy="57913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352680" y="380880"/>
            <a:ext cx="5105520" cy="3048120"/>
          </a:xfrm>
          <a:prstGeom prst="wedgeEllipseCallout">
            <a:avLst>
              <a:gd name="adj1" fmla="val -64583"/>
              <a:gd name="adj2" fmla="val 18907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K – Now let’s do a Job Safety Analysis!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304920" y="0"/>
          <a:ext cx="85341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534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Benguiat Bk BT"/>
              </a:rPr>
              <a:t>Job Safety Analysis (JSA) –</a:t>
            </a:r>
            <a:r>
              <a:rPr b="1" lang="en-US" sz="5400" spc="-1" strike="noStrike">
                <a:solidFill>
                  <a:srgbClr val="ffff00"/>
                </a:solidFill>
                <a:latin typeface="Benguiat Bk BT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enguiat Bk BT"/>
              </a:rPr>
              <a:t>also known as </a:t>
            </a:r>
            <a:r>
              <a:rPr b="1" lang="en-US" sz="4400" spc="-1" strike="noStrike" u="sng">
                <a:solidFill>
                  <a:srgbClr val="ffff00"/>
                </a:solidFill>
                <a:uFillTx/>
                <a:latin typeface="Benguiat Bk BT"/>
              </a:rPr>
              <a:t>Worksite Analysis</a:t>
            </a:r>
            <a:r>
              <a:rPr b="1" lang="en-US" sz="4400" spc="-1" strike="noStrike">
                <a:solidFill>
                  <a:srgbClr val="ffff00"/>
                </a:solidFill>
                <a:latin typeface="Benguiat Bk BT"/>
              </a:rPr>
              <a:t> or </a:t>
            </a:r>
            <a:r>
              <a:rPr b="1" lang="en-US" sz="4400" spc="-1" strike="noStrike" u="sng">
                <a:solidFill>
                  <a:srgbClr val="ffff00"/>
                </a:solidFill>
                <a:uFillTx/>
                <a:latin typeface="Benguiat Bk BT"/>
              </a:rPr>
              <a:t>Task Analy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enguiat Bk BT"/>
              </a:rPr>
              <a:t>A proactive approach to           workplace safety.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1981080"/>
            <a:ext cx="7162920" cy="0"/>
          </a:xfrm>
          <a:prstGeom prst="line">
            <a:avLst/>
          </a:prstGeom>
          <a:ln w="8892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685800" y="1295280"/>
            <a:ext cx="769608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THANK YOU!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enguiat Bk BT"/>
              </a:rPr>
              <a:t>Objective of this Training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2362320"/>
            <a:ext cx="60958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To help you develop a good Job Safety Analysis or JS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2209680"/>
            <a:ext cx="7162560" cy="0"/>
          </a:xfrm>
          <a:prstGeom prst="line">
            <a:avLst/>
          </a:prstGeom>
          <a:ln w="8892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4572000"/>
            <a:ext cx="4800600" cy="1828800"/>
          </a:xfrm>
          <a:prstGeom prst="wedgeRoundRectCallout">
            <a:avLst>
              <a:gd name="adj1" fmla="val 76023"/>
              <a:gd name="adj2" fmla="val -75175"/>
              <a:gd name="adj3" fmla="val 16667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914400" y="2362320"/>
            <a:ext cx="7867800" cy="4495680"/>
            <a:chOff x="914400" y="2362320"/>
            <a:chExt cx="7867800" cy="4495680"/>
          </a:xfrm>
        </p:grpSpPr>
        <p:sp>
          <p:nvSpPr>
            <p:cNvPr id="55" name=""/>
            <p:cNvSpPr/>
            <p:nvPr/>
          </p:nvSpPr>
          <p:spPr>
            <a:xfrm>
              <a:off x="914400" y="5181480"/>
              <a:ext cx="1447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aphicFrame>
          <p:nvGraphicFramePr>
            <p:cNvPr id="56" name=""/>
            <p:cNvGraphicFramePr/>
            <p:nvPr/>
          </p:nvGraphicFramePr>
          <p:xfrm>
            <a:off x="5853240" y="2362320"/>
            <a:ext cx="2928960" cy="4495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53240" y="2362320"/>
                      <a:ext cx="2928960" cy="449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" name=""/>
            <p:cNvSpPr txBox="1"/>
            <p:nvPr/>
          </p:nvSpPr>
          <p:spPr>
            <a:xfrm>
              <a:off x="1295640" y="4724280"/>
              <a:ext cx="3733560" cy="1600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Up">
                <a:avLst>
                  <a:gd name="adj" fmla="val 8569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ff0000"/>
                    </a:outerShdw>
                  </a:effectLst>
                  <a:latin typeface="Comic Sans MS"/>
                </a:rPr>
                <a:t>Why?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Comic Sans MS"/>
                <a:ea typeface="Comic Sans MS"/>
              </a:endParaRPr>
            </a:p>
          </p:txBody>
        </p:sp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33"/>
                </a:solidFill>
                <a:latin typeface="Benguiat Bk BT"/>
              </a:rPr>
              <a:t>Lots of Reasons!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00400" y="144792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Benguiat Bk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Prevent acciden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Benguiat Bk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Job training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Benguiat Bk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Inspec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Benguiat Bk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Investigation and analysis of accidents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Benguiat Bk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Safety contacts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Benguiat Bk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Reference for documenta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Benguiat Bk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Reduce cos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1066680"/>
            <a:ext cx="6705360" cy="0"/>
          </a:xfrm>
          <a:prstGeom prst="line">
            <a:avLst/>
          </a:prstGeom>
          <a:ln w="8892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-103320" y="1523880"/>
          <a:ext cx="319572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3320" y="1523880"/>
                    <a:ext cx="319572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enguiat Bk BT"/>
              </a:rPr>
              <a:t>Accident Prevention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JSAs are effective tools to help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enguiat Bk BT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Benguiat Bk BT"/>
              </a:rPr>
              <a:t>1.</a:t>
            </a: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 </a:t>
            </a:r>
            <a:r>
              <a:rPr b="1" lang="en-US" sz="4000" spc="-1" strike="noStrike" u="sng">
                <a:solidFill>
                  <a:srgbClr val="66ffff"/>
                </a:solidFill>
                <a:uFillTx/>
                <a:latin typeface="Benguiat Bk BT"/>
              </a:rPr>
              <a:t>Identify</a:t>
            </a: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 hazards an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124080" y="2133720"/>
          <a:ext cx="2597400" cy="43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133720"/>
                    <a:ext cx="2597400" cy="43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5410080" y="2133720"/>
            <a:ext cx="3733920" cy="37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enguiat Bk BT"/>
              </a:rPr>
              <a:t>2.</a:t>
            </a:r>
            <a:r>
              <a:rPr b="1" lang="en-US" sz="4000" spc="-1" strike="noStrike" u="sng">
                <a:solidFill>
                  <a:srgbClr val="ffff00"/>
                </a:solidFill>
                <a:uFillTx/>
                <a:latin typeface="Benguiat Bk BT"/>
              </a:rPr>
              <a:t> </a:t>
            </a:r>
            <a:r>
              <a:rPr b="1" lang="en-US" sz="4000" spc="-1" strike="noStrike" u="sng">
                <a:solidFill>
                  <a:srgbClr val="66ffff"/>
                </a:solidFill>
                <a:uFillTx/>
                <a:latin typeface="Benguiat Bk BT"/>
              </a:rPr>
              <a:t>Eliminate</a:t>
            </a:r>
            <a:r>
              <a:rPr b="1" lang="en-US" sz="4000" spc="-1" strike="noStrike">
                <a:solidFill>
                  <a:srgbClr val="66ffff"/>
                </a:solidFill>
                <a:latin typeface="Benguiat Bk BT"/>
              </a:rPr>
              <a:t>  </a:t>
            </a: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        or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enguiat Bk BT"/>
              </a:rPr>
              <a:t>3.</a:t>
            </a: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 </a:t>
            </a:r>
            <a:r>
              <a:rPr b="1" lang="en-US" sz="4000" spc="-1" strike="noStrike" u="sng">
                <a:solidFill>
                  <a:srgbClr val="66ffff"/>
                </a:solidFill>
                <a:uFillTx/>
                <a:latin typeface="Benguiat Bk BT"/>
              </a:rPr>
              <a:t>Minimize </a:t>
            </a: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those hazards</a:t>
            </a: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enguiat Bk BT"/>
              </a:rPr>
              <a:t>Accidents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2743200"/>
            <a:ext cx="81536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Struck agains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Struck b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Contact with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Contacted by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Caught i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1219320"/>
            <a:ext cx="4267080" cy="0"/>
          </a:xfrm>
          <a:prstGeom prst="line">
            <a:avLst/>
          </a:prstGeom>
          <a:ln w="88920">
            <a:solidFill>
              <a:srgbClr val="ff3300"/>
            </a:solidFill>
            <a:miter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2" name="clip0015" descr=""/>
          <p:cNvPicPr/>
          <p:nvPr/>
        </p:nvPicPr>
        <p:blipFill>
          <a:blip r:embed="rId1"/>
          <a:stretch/>
        </p:blipFill>
        <p:spPr>
          <a:xfrm>
            <a:off x="4979880" y="2003400"/>
            <a:ext cx="4164120" cy="4854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09480" y="137160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Benguiat Bk BT"/>
              </a:rPr>
              <a:t>Eleven (11) basic types of accidents: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343040" y="990360"/>
            <a:ext cx="4800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Caught 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Caught between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Fall from same level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Fall from a higher level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Overexer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Exposu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5" name="clip0013" descr=""/>
          <p:cNvPicPr/>
          <p:nvPr/>
        </p:nvPicPr>
        <p:blipFill>
          <a:blip r:embed="rId1"/>
          <a:stretch/>
        </p:blipFill>
        <p:spPr>
          <a:xfrm>
            <a:off x="0" y="609480"/>
            <a:ext cx="4343400" cy="6019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enguiat Bk BT"/>
              </a:rPr>
              <a:t>Training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743200" y="15235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JSAs take time to develop and implement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The most important advantage is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Benguiat Bk BT"/>
              </a:rPr>
              <a:t>training</a:t>
            </a: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 new employees on safe job procedures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Safety training is provided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Benguiat Bk BT"/>
              </a:rPr>
              <a:t>before</a:t>
            </a: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 the new employee begins the job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0" y="1828800"/>
            <a:ext cx="3048120" cy="4343400"/>
            <a:chOff x="0" y="1828800"/>
            <a:chExt cx="3048120" cy="4343400"/>
          </a:xfrm>
        </p:grpSpPr>
        <p:grpSp>
          <p:nvGrpSpPr>
            <p:cNvPr id="79" name=""/>
            <p:cNvGrpSpPr/>
            <p:nvPr/>
          </p:nvGrpSpPr>
          <p:grpSpPr>
            <a:xfrm>
              <a:off x="0" y="1828800"/>
              <a:ext cx="3048120" cy="4343400"/>
              <a:chOff x="0" y="1828800"/>
              <a:chExt cx="3048120" cy="4343400"/>
            </a:xfrm>
          </p:grpSpPr>
          <p:pic>
            <p:nvPicPr>
              <p:cNvPr id="80" name="clip0021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1828800"/>
                <a:ext cx="3048120" cy="434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"/>
              <p:cNvSpPr/>
              <p:nvPr/>
            </p:nvSpPr>
            <p:spPr>
              <a:xfrm>
                <a:off x="277200" y="3737160"/>
                <a:ext cx="69732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76320" y="3809880"/>
              <a:ext cx="990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Safety Procedures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21:02:27Z</dcterms:created>
  <dc:creator>Becky White</dc:creator>
  <dc:description/>
  <dc:language>en-US</dc:language>
  <cp:lastModifiedBy>AWCC</cp:lastModifiedBy>
  <dcterms:modified xsi:type="dcterms:W3CDTF">2006-10-12T20:49:38Z</dcterms:modified>
  <cp:revision>24</cp:revision>
  <dc:subject/>
  <dc:title>PowerPoint Presentation</dc:title>
</cp:coreProperties>
</file>