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527-CEDD-4DC0-8962-564265FE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CC0-C33F-432E-BDE3-2426903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5A7-39E5-464F-A45E-6B8F4BBD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29F-8E71-4A1D-BDE7-6A340C67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FE2-1103-453C-8721-329316EA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FA2-651E-4B6E-8AB4-66907BC2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F44-B072-42E7-B21B-32A65189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A0F-CAC0-4FFC-9E73-96D0982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E68-C65D-4168-B6B6-C3F7AF7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42A-BCB1-4D6C-9955-F7B2B2D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E84-F70A-4163-AD61-C8F082CE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C65-9CF9-489F-8022-4C17843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C4C-484D-4FD8-8892-C614504CA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80880"/>
            <a:ext cx="82296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fety Committees</a:t>
            </a:r>
            <a:endParaRPr b="1" lang="en-US" sz="2400" spc="1" strike="noStrike">
              <a:ln w="3168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afety Committee members need to work as a Team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clip007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2359080" cy="3581280"/>
          </a:xfrm>
          <a:prstGeom prst="rect">
            <a:avLst/>
          </a:prstGeom>
          <a:ln w="0">
            <a:noFill/>
          </a:ln>
        </p:spPr>
      </p:pic>
      <p:pic>
        <p:nvPicPr>
          <p:cNvPr id="86" name="clip0073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3194280" cy="3657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4864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y all have the same goal – to make their workplace a SAFE place to work!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lip0067" descr=""/>
          <p:cNvPicPr/>
          <p:nvPr/>
        </p:nvPicPr>
        <p:blipFill>
          <a:blip r:embed="rId1"/>
          <a:stretch/>
        </p:blipFill>
        <p:spPr>
          <a:xfrm>
            <a:off x="1676520" y="2058840"/>
            <a:ext cx="5638680" cy="455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3808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fter all – the members should all be running together towards the same  finish line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21333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mote health and safety during the meetings, at their work stations and in their daily liv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make recommendations to make the workplace safer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7315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But the committee members need to know what is expected from them.  They should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clip0068" descr=""/>
          <p:cNvPicPr/>
          <p:nvPr/>
        </p:nvPicPr>
        <p:blipFill>
          <a:blip r:embed="rId1"/>
          <a:stretch/>
        </p:blipFill>
        <p:spPr>
          <a:xfrm>
            <a:off x="6091200" y="990720"/>
            <a:ext cx="305280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courage others to participate in the safety committee activities and in making the workplace a safer plac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clip0030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194760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clip0076" descr=""/>
          <p:cNvPicPr/>
          <p:nvPr/>
        </p:nvPicPr>
        <p:blipFill>
          <a:blip r:embed="rId2"/>
          <a:stretch/>
        </p:blipFill>
        <p:spPr>
          <a:xfrm>
            <a:off x="3851280" y="3124080"/>
            <a:ext cx="243828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57400" y="4267080"/>
            <a:ext cx="571500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lyze accidents and tre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aluate safety progra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Committee members need to know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clip0086" descr=""/>
          <p:cNvPicPr/>
          <p:nvPr/>
        </p:nvPicPr>
        <p:blipFill>
          <a:blip r:embed="rId1"/>
          <a:stretch/>
        </p:blipFill>
        <p:spPr>
          <a:xfrm>
            <a:off x="0" y="2514600"/>
            <a:ext cx="2525760" cy="3902040"/>
          </a:xfrm>
          <a:prstGeom prst="rect">
            <a:avLst/>
          </a:prstGeom>
          <a:ln w="0">
            <a:noFill/>
          </a:ln>
        </p:spPr>
      </p:pic>
      <p:pic>
        <p:nvPicPr>
          <p:cNvPr id="99" name="clip0087" descr=""/>
          <p:cNvPicPr/>
          <p:nvPr/>
        </p:nvPicPr>
        <p:blipFill>
          <a:blip r:embed="rId2"/>
          <a:stretch/>
        </p:blipFill>
        <p:spPr>
          <a:xfrm>
            <a:off x="7032600" y="3581280"/>
            <a:ext cx="186696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at they will meet regular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ill help to identify problems and make recommend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lip0091" descr=""/>
          <p:cNvPicPr/>
          <p:nvPr/>
        </p:nvPicPr>
        <p:blipFill>
          <a:blip r:embed="rId1"/>
          <a:stretch/>
        </p:blipFill>
        <p:spPr>
          <a:xfrm>
            <a:off x="1828800" y="2003400"/>
            <a:ext cx="4114800" cy="23353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0" y="304920"/>
            <a:ext cx="3581280" cy="1523880"/>
            <a:chOff x="0" y="304920"/>
            <a:chExt cx="3581280" cy="1523880"/>
          </a:xfrm>
        </p:grpSpPr>
        <p:sp>
          <p:nvSpPr>
            <p:cNvPr id="104" name=""/>
            <p:cNvSpPr/>
            <p:nvPr/>
          </p:nvSpPr>
          <p:spPr>
            <a:xfrm>
              <a:off x="0" y="304920"/>
              <a:ext cx="3581280" cy="152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0948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Review work areas and specific job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267080" y="228600"/>
            <a:ext cx="5181840" cy="1981080"/>
            <a:chOff x="4267080" y="228600"/>
            <a:chExt cx="5181840" cy="1981080"/>
          </a:xfrm>
        </p:grpSpPr>
        <p:sp>
          <p:nvSpPr>
            <p:cNvPr id="107" name=""/>
            <p:cNvSpPr/>
            <p:nvPr/>
          </p:nvSpPr>
          <p:spPr>
            <a:xfrm>
              <a:off x="4267080" y="228600"/>
              <a:ext cx="4876920" cy="1981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PlaceHolder 1"/>
            <p:cNvSpPr>
              <a:spLocks noGrp="1"/>
            </p:cNvSpPr>
            <p:nvPr>
              <p:ph type="title"/>
            </p:nvPr>
          </p:nvSpPr>
          <p:spPr>
            <a:xfrm>
              <a:off x="4876920" y="838080"/>
              <a:ext cx="45720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lnSpc>
                  <a:spcPct val="100000"/>
                </a:lnSpc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Comic Sans MS"/>
                </a:rPr>
                <a:t>Help identify potential hazards and suggest ways </a:t>
              </a:r>
              <a:br>
                <a:rPr sz="2400"/>
              </a:br>
              <a:r>
                <a:rPr b="1" lang="en-US" sz="2400" spc="-1" strike="noStrike">
                  <a:solidFill>
                    <a:srgbClr val="0033cc"/>
                  </a:solidFill>
                  <a:latin typeface="Comic Sans MS"/>
                </a:rPr>
                <a:t>to eliminate them </a:t>
              </a:r>
              <a:br>
                <a:rPr sz="2400"/>
              </a:b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600" y="4343400"/>
            <a:ext cx="3429000" cy="2151360"/>
            <a:chOff x="228600" y="4343400"/>
            <a:chExt cx="3429000" cy="2151360"/>
          </a:xfrm>
        </p:grpSpPr>
        <p:sp>
          <p:nvSpPr>
            <p:cNvPr id="110" name=""/>
            <p:cNvSpPr/>
            <p:nvPr/>
          </p:nvSpPr>
          <p:spPr>
            <a:xfrm>
              <a:off x="228600" y="4343400"/>
              <a:ext cx="3429000" cy="2057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4572000"/>
              <a:ext cx="2743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Review employee suggestions for improvements in the workplac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029200" y="3886200"/>
            <a:ext cx="4114800" cy="2743200"/>
            <a:chOff x="5029200" y="3886200"/>
            <a:chExt cx="4114800" cy="2743200"/>
          </a:xfrm>
        </p:grpSpPr>
        <p:sp>
          <p:nvSpPr>
            <p:cNvPr id="113" name=""/>
            <p:cNvSpPr/>
            <p:nvPr/>
          </p:nvSpPr>
          <p:spPr>
            <a:xfrm>
              <a:off x="5029200" y="3886200"/>
              <a:ext cx="4114800" cy="2743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PlaceHolder 2"/>
            <p:cNvSpPr>
              <a:spLocks noGrp="1"/>
            </p:cNvSpPr>
            <p:nvPr>
              <p:ph/>
            </p:nvPr>
          </p:nvSpPr>
          <p:spPr>
            <a:xfrm>
              <a:off x="5791320" y="4343040"/>
              <a:ext cx="30477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51000"/>
            </a:bodyPr>
            <a:p>
              <a:pPr marL="174960" indent="0">
                <a:lnSpc>
                  <a:spcPct val="90000"/>
                </a:lnSpc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Prioritize safety-related concerns according to frequency and severity of injuri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marL="17496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426672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mmunicate information to employees so accidents can be prevente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57200"/>
            <a:ext cx="33530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mote safety awareness by taking an active part in identifying safety education nee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743200" y="1600200"/>
            <a:ext cx="3654360" cy="4691160"/>
            <a:chOff x="2743200" y="1600200"/>
            <a:chExt cx="3654360" cy="4691160"/>
          </a:xfrm>
        </p:grpSpPr>
        <p:pic>
          <p:nvPicPr>
            <p:cNvPr id="118" name="clip0092" descr=""/>
            <p:cNvPicPr/>
            <p:nvPr/>
          </p:nvPicPr>
          <p:blipFill>
            <a:blip r:embed="rId1"/>
            <a:stretch/>
          </p:blipFill>
          <p:spPr>
            <a:xfrm>
              <a:off x="2743200" y="1600200"/>
              <a:ext cx="3654360" cy="46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971800" y="2133720"/>
              <a:ext cx="1905120" cy="17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Safety!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Safety!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Safety!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510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mployees with safety-related duties, such as the fire marshal, plant nurse, or the industrial hygienist may serve as resource people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126040" y="326880"/>
            <a:ext cx="3686040" cy="6508800"/>
            <a:chOff x="5126040" y="326880"/>
            <a:chExt cx="3686040" cy="6508800"/>
          </a:xfrm>
        </p:grpSpPr>
        <p:sp>
          <p:nvSpPr>
            <p:cNvPr id="122" name=""/>
            <p:cNvSpPr/>
            <p:nvPr/>
          </p:nvSpPr>
          <p:spPr>
            <a:xfrm>
              <a:off x="6699240" y="1044720"/>
              <a:ext cx="2100240" cy="2220840"/>
            </a:xfrm>
            <a:custGeom>
              <a:avLst/>
              <a:gdLst/>
              <a:ahLst/>
              <a:rect l="l" t="t" r="r" b="b"/>
              <a:pathLst>
                <a:path w="1323" h="1399">
                  <a:moveTo>
                    <a:pt x="215" y="671"/>
                  </a:moveTo>
                  <a:lnTo>
                    <a:pt x="133" y="635"/>
                  </a:lnTo>
                  <a:lnTo>
                    <a:pt x="96" y="601"/>
                  </a:lnTo>
                  <a:lnTo>
                    <a:pt x="85" y="579"/>
                  </a:lnTo>
                  <a:lnTo>
                    <a:pt x="90" y="508"/>
                  </a:lnTo>
                  <a:lnTo>
                    <a:pt x="125" y="435"/>
                  </a:lnTo>
                  <a:lnTo>
                    <a:pt x="29" y="405"/>
                  </a:lnTo>
                  <a:lnTo>
                    <a:pt x="8" y="379"/>
                  </a:lnTo>
                  <a:lnTo>
                    <a:pt x="0" y="323"/>
                  </a:lnTo>
                  <a:lnTo>
                    <a:pt x="3" y="278"/>
                  </a:lnTo>
                  <a:lnTo>
                    <a:pt x="19" y="233"/>
                  </a:lnTo>
                  <a:lnTo>
                    <a:pt x="56" y="188"/>
                  </a:lnTo>
                  <a:lnTo>
                    <a:pt x="112" y="163"/>
                  </a:lnTo>
                  <a:lnTo>
                    <a:pt x="162" y="163"/>
                  </a:lnTo>
                  <a:lnTo>
                    <a:pt x="218" y="177"/>
                  </a:lnTo>
                  <a:lnTo>
                    <a:pt x="255" y="129"/>
                  </a:lnTo>
                  <a:lnTo>
                    <a:pt x="303" y="115"/>
                  </a:lnTo>
                  <a:lnTo>
                    <a:pt x="348" y="54"/>
                  </a:lnTo>
                  <a:lnTo>
                    <a:pt x="401" y="34"/>
                  </a:lnTo>
                  <a:lnTo>
                    <a:pt x="470" y="34"/>
                  </a:lnTo>
                  <a:lnTo>
                    <a:pt x="826" y="0"/>
                  </a:lnTo>
                  <a:lnTo>
                    <a:pt x="1004" y="70"/>
                  </a:lnTo>
                  <a:lnTo>
                    <a:pt x="1068" y="76"/>
                  </a:lnTo>
                  <a:lnTo>
                    <a:pt x="1118" y="93"/>
                  </a:lnTo>
                  <a:lnTo>
                    <a:pt x="1179" y="138"/>
                  </a:lnTo>
                  <a:lnTo>
                    <a:pt x="1224" y="208"/>
                  </a:lnTo>
                  <a:lnTo>
                    <a:pt x="1240" y="348"/>
                  </a:lnTo>
                  <a:lnTo>
                    <a:pt x="1211" y="405"/>
                  </a:lnTo>
                  <a:lnTo>
                    <a:pt x="1267" y="430"/>
                  </a:lnTo>
                  <a:lnTo>
                    <a:pt x="1304" y="466"/>
                  </a:lnTo>
                  <a:lnTo>
                    <a:pt x="1323" y="520"/>
                  </a:lnTo>
                  <a:lnTo>
                    <a:pt x="1320" y="607"/>
                  </a:lnTo>
                  <a:lnTo>
                    <a:pt x="1304" y="660"/>
                  </a:lnTo>
                  <a:lnTo>
                    <a:pt x="1259" y="719"/>
                  </a:lnTo>
                  <a:lnTo>
                    <a:pt x="1195" y="753"/>
                  </a:lnTo>
                  <a:lnTo>
                    <a:pt x="1235" y="812"/>
                  </a:lnTo>
                  <a:lnTo>
                    <a:pt x="1264" y="868"/>
                  </a:lnTo>
                  <a:lnTo>
                    <a:pt x="1267" y="918"/>
                  </a:lnTo>
                  <a:lnTo>
                    <a:pt x="1227" y="991"/>
                  </a:lnTo>
                  <a:lnTo>
                    <a:pt x="1174" y="1036"/>
                  </a:lnTo>
                  <a:lnTo>
                    <a:pt x="1057" y="1087"/>
                  </a:lnTo>
                  <a:lnTo>
                    <a:pt x="988" y="1093"/>
                  </a:lnTo>
                  <a:lnTo>
                    <a:pt x="898" y="1084"/>
                  </a:lnTo>
                  <a:lnTo>
                    <a:pt x="866" y="1129"/>
                  </a:lnTo>
                  <a:lnTo>
                    <a:pt x="797" y="1146"/>
                  </a:lnTo>
                  <a:lnTo>
                    <a:pt x="778" y="1174"/>
                  </a:lnTo>
                  <a:lnTo>
                    <a:pt x="765" y="1208"/>
                  </a:lnTo>
                  <a:lnTo>
                    <a:pt x="722" y="1216"/>
                  </a:lnTo>
                  <a:lnTo>
                    <a:pt x="712" y="1286"/>
                  </a:lnTo>
                  <a:lnTo>
                    <a:pt x="645" y="1376"/>
                  </a:lnTo>
                  <a:lnTo>
                    <a:pt x="560" y="1399"/>
                  </a:lnTo>
                  <a:lnTo>
                    <a:pt x="515" y="1385"/>
                  </a:lnTo>
                  <a:lnTo>
                    <a:pt x="491" y="1337"/>
                  </a:lnTo>
                  <a:lnTo>
                    <a:pt x="114" y="1078"/>
                  </a:lnTo>
                  <a:lnTo>
                    <a:pt x="202" y="778"/>
                  </a:lnTo>
                  <a:lnTo>
                    <a:pt x="215" y="671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6040" y="326880"/>
              <a:ext cx="3686040" cy="6508800"/>
            </a:xfrm>
            <a:custGeom>
              <a:avLst/>
              <a:gdLst/>
              <a:ahLst/>
              <a:rect l="l" t="t" r="r" b="b"/>
              <a:pathLst>
                <a:path w="2322" h="4100">
                  <a:moveTo>
                    <a:pt x="1448" y="4100"/>
                  </a:moveTo>
                  <a:lnTo>
                    <a:pt x="1387" y="4097"/>
                  </a:lnTo>
                  <a:lnTo>
                    <a:pt x="1347" y="4097"/>
                  </a:lnTo>
                  <a:lnTo>
                    <a:pt x="1315" y="4097"/>
                  </a:lnTo>
                  <a:lnTo>
                    <a:pt x="1273" y="4100"/>
                  </a:lnTo>
                  <a:lnTo>
                    <a:pt x="1273" y="4094"/>
                  </a:lnTo>
                  <a:lnTo>
                    <a:pt x="1273" y="4089"/>
                  </a:lnTo>
                  <a:lnTo>
                    <a:pt x="1302" y="4086"/>
                  </a:lnTo>
                  <a:lnTo>
                    <a:pt x="1328" y="4086"/>
                  </a:lnTo>
                  <a:lnTo>
                    <a:pt x="1358" y="4083"/>
                  </a:lnTo>
                  <a:lnTo>
                    <a:pt x="1384" y="4083"/>
                  </a:lnTo>
                  <a:lnTo>
                    <a:pt x="1384" y="4077"/>
                  </a:lnTo>
                  <a:lnTo>
                    <a:pt x="1384" y="4072"/>
                  </a:lnTo>
                  <a:lnTo>
                    <a:pt x="1326" y="4072"/>
                  </a:lnTo>
                  <a:lnTo>
                    <a:pt x="1267" y="4072"/>
                  </a:lnTo>
                  <a:lnTo>
                    <a:pt x="1209" y="4072"/>
                  </a:lnTo>
                  <a:lnTo>
                    <a:pt x="1150" y="4072"/>
                  </a:lnTo>
                  <a:lnTo>
                    <a:pt x="1150" y="4063"/>
                  </a:lnTo>
                  <a:lnTo>
                    <a:pt x="1150" y="4055"/>
                  </a:lnTo>
                  <a:lnTo>
                    <a:pt x="1140" y="4055"/>
                  </a:lnTo>
                  <a:lnTo>
                    <a:pt x="1126" y="4055"/>
                  </a:lnTo>
                  <a:lnTo>
                    <a:pt x="1121" y="4047"/>
                  </a:lnTo>
                  <a:lnTo>
                    <a:pt x="1119" y="4041"/>
                  </a:lnTo>
                  <a:lnTo>
                    <a:pt x="1076" y="4041"/>
                  </a:lnTo>
                  <a:lnTo>
                    <a:pt x="1031" y="4041"/>
                  </a:lnTo>
                  <a:lnTo>
                    <a:pt x="986" y="4041"/>
                  </a:lnTo>
                  <a:lnTo>
                    <a:pt x="941" y="4044"/>
                  </a:lnTo>
                  <a:lnTo>
                    <a:pt x="941" y="4038"/>
                  </a:lnTo>
                  <a:lnTo>
                    <a:pt x="941" y="4033"/>
                  </a:lnTo>
                  <a:lnTo>
                    <a:pt x="970" y="4033"/>
                  </a:lnTo>
                  <a:lnTo>
                    <a:pt x="1002" y="4033"/>
                  </a:lnTo>
                  <a:lnTo>
                    <a:pt x="1031" y="4033"/>
                  </a:lnTo>
                  <a:lnTo>
                    <a:pt x="1063" y="4033"/>
                  </a:lnTo>
                  <a:lnTo>
                    <a:pt x="1063" y="4027"/>
                  </a:lnTo>
                  <a:lnTo>
                    <a:pt x="1063" y="4021"/>
                  </a:lnTo>
                  <a:lnTo>
                    <a:pt x="1002" y="4016"/>
                  </a:lnTo>
                  <a:lnTo>
                    <a:pt x="943" y="4013"/>
                  </a:lnTo>
                  <a:lnTo>
                    <a:pt x="882" y="4007"/>
                  </a:lnTo>
                  <a:lnTo>
                    <a:pt x="824" y="4004"/>
                  </a:lnTo>
                  <a:lnTo>
                    <a:pt x="824" y="3999"/>
                  </a:lnTo>
                  <a:lnTo>
                    <a:pt x="824" y="3993"/>
                  </a:lnTo>
                  <a:lnTo>
                    <a:pt x="967" y="4004"/>
                  </a:lnTo>
                  <a:lnTo>
                    <a:pt x="1044" y="4010"/>
                  </a:lnTo>
                  <a:lnTo>
                    <a:pt x="1081" y="4010"/>
                  </a:lnTo>
                  <a:lnTo>
                    <a:pt x="1103" y="4010"/>
                  </a:lnTo>
                  <a:lnTo>
                    <a:pt x="1108" y="3985"/>
                  </a:lnTo>
                  <a:lnTo>
                    <a:pt x="1113" y="3962"/>
                  </a:lnTo>
                  <a:lnTo>
                    <a:pt x="1124" y="3937"/>
                  </a:lnTo>
                  <a:lnTo>
                    <a:pt x="1137" y="3915"/>
                  </a:lnTo>
                  <a:lnTo>
                    <a:pt x="1150" y="3892"/>
                  </a:lnTo>
                  <a:lnTo>
                    <a:pt x="1166" y="3872"/>
                  </a:lnTo>
                  <a:lnTo>
                    <a:pt x="1182" y="3850"/>
                  </a:lnTo>
                  <a:lnTo>
                    <a:pt x="1198" y="3830"/>
                  </a:lnTo>
                  <a:lnTo>
                    <a:pt x="1238" y="3791"/>
                  </a:lnTo>
                  <a:lnTo>
                    <a:pt x="1275" y="3755"/>
                  </a:lnTo>
                  <a:lnTo>
                    <a:pt x="1315" y="3724"/>
                  </a:lnTo>
                  <a:lnTo>
                    <a:pt x="1352" y="3693"/>
                  </a:lnTo>
                  <a:lnTo>
                    <a:pt x="1352" y="3673"/>
                  </a:lnTo>
                  <a:lnTo>
                    <a:pt x="1350" y="3662"/>
                  </a:lnTo>
                  <a:lnTo>
                    <a:pt x="1344" y="3651"/>
                  </a:lnTo>
                  <a:lnTo>
                    <a:pt x="1342" y="3639"/>
                  </a:lnTo>
                  <a:lnTo>
                    <a:pt x="1302" y="3628"/>
                  </a:lnTo>
                  <a:lnTo>
                    <a:pt x="1262" y="3617"/>
                  </a:lnTo>
                  <a:lnTo>
                    <a:pt x="1222" y="3606"/>
                  </a:lnTo>
                  <a:lnTo>
                    <a:pt x="1182" y="3594"/>
                  </a:lnTo>
                  <a:lnTo>
                    <a:pt x="1174" y="3572"/>
                  </a:lnTo>
                  <a:lnTo>
                    <a:pt x="1166" y="3544"/>
                  </a:lnTo>
                  <a:lnTo>
                    <a:pt x="1161" y="3510"/>
                  </a:lnTo>
                  <a:lnTo>
                    <a:pt x="1158" y="3477"/>
                  </a:lnTo>
                  <a:lnTo>
                    <a:pt x="1156" y="3437"/>
                  </a:lnTo>
                  <a:lnTo>
                    <a:pt x="1158" y="3398"/>
                  </a:lnTo>
                  <a:lnTo>
                    <a:pt x="1158" y="3359"/>
                  </a:lnTo>
                  <a:lnTo>
                    <a:pt x="1164" y="3316"/>
                  </a:lnTo>
                  <a:lnTo>
                    <a:pt x="1172" y="3232"/>
                  </a:lnTo>
                  <a:lnTo>
                    <a:pt x="1182" y="3154"/>
                  </a:lnTo>
                  <a:lnTo>
                    <a:pt x="1193" y="3083"/>
                  </a:lnTo>
                  <a:lnTo>
                    <a:pt x="1201" y="3027"/>
                  </a:lnTo>
                  <a:lnTo>
                    <a:pt x="1209" y="3013"/>
                  </a:lnTo>
                  <a:lnTo>
                    <a:pt x="1214" y="2988"/>
                  </a:lnTo>
                  <a:lnTo>
                    <a:pt x="1222" y="2957"/>
                  </a:lnTo>
                  <a:lnTo>
                    <a:pt x="1230" y="2923"/>
                  </a:lnTo>
                  <a:lnTo>
                    <a:pt x="1241" y="2859"/>
                  </a:lnTo>
                  <a:lnTo>
                    <a:pt x="1246" y="2819"/>
                  </a:lnTo>
                  <a:lnTo>
                    <a:pt x="1227" y="2822"/>
                  </a:lnTo>
                  <a:lnTo>
                    <a:pt x="1211" y="2825"/>
                  </a:lnTo>
                  <a:lnTo>
                    <a:pt x="1201" y="2825"/>
                  </a:lnTo>
                  <a:lnTo>
                    <a:pt x="1190" y="2825"/>
                  </a:lnTo>
                  <a:lnTo>
                    <a:pt x="1182" y="2819"/>
                  </a:lnTo>
                  <a:lnTo>
                    <a:pt x="1177" y="2814"/>
                  </a:lnTo>
                  <a:lnTo>
                    <a:pt x="1174" y="2808"/>
                  </a:lnTo>
                  <a:lnTo>
                    <a:pt x="1172" y="2800"/>
                  </a:lnTo>
                  <a:lnTo>
                    <a:pt x="1172" y="2780"/>
                  </a:lnTo>
                  <a:lnTo>
                    <a:pt x="1177" y="2758"/>
                  </a:lnTo>
                  <a:lnTo>
                    <a:pt x="1185" y="2732"/>
                  </a:lnTo>
                  <a:lnTo>
                    <a:pt x="1193" y="2710"/>
                  </a:lnTo>
                  <a:lnTo>
                    <a:pt x="1198" y="2710"/>
                  </a:lnTo>
                  <a:lnTo>
                    <a:pt x="1203" y="2710"/>
                  </a:lnTo>
                  <a:lnTo>
                    <a:pt x="1203" y="2701"/>
                  </a:lnTo>
                  <a:lnTo>
                    <a:pt x="1203" y="2693"/>
                  </a:lnTo>
                  <a:lnTo>
                    <a:pt x="1148" y="2682"/>
                  </a:lnTo>
                  <a:lnTo>
                    <a:pt x="1103" y="2679"/>
                  </a:lnTo>
                  <a:lnTo>
                    <a:pt x="1084" y="2673"/>
                  </a:lnTo>
                  <a:lnTo>
                    <a:pt x="1065" y="2665"/>
                  </a:lnTo>
                  <a:lnTo>
                    <a:pt x="1055" y="2657"/>
                  </a:lnTo>
                  <a:lnTo>
                    <a:pt x="1047" y="2648"/>
                  </a:lnTo>
                  <a:lnTo>
                    <a:pt x="1036" y="2637"/>
                  </a:lnTo>
                  <a:lnTo>
                    <a:pt x="1028" y="2623"/>
                  </a:lnTo>
                  <a:lnTo>
                    <a:pt x="970" y="2620"/>
                  </a:lnTo>
                  <a:lnTo>
                    <a:pt x="914" y="2617"/>
                  </a:lnTo>
                  <a:lnTo>
                    <a:pt x="858" y="2612"/>
                  </a:lnTo>
                  <a:lnTo>
                    <a:pt x="802" y="2606"/>
                  </a:lnTo>
                  <a:lnTo>
                    <a:pt x="747" y="2603"/>
                  </a:lnTo>
                  <a:lnTo>
                    <a:pt x="694" y="2600"/>
                  </a:lnTo>
                  <a:lnTo>
                    <a:pt x="638" y="2600"/>
                  </a:lnTo>
                  <a:lnTo>
                    <a:pt x="585" y="2606"/>
                  </a:lnTo>
                  <a:lnTo>
                    <a:pt x="585" y="2659"/>
                  </a:lnTo>
                  <a:lnTo>
                    <a:pt x="585" y="2713"/>
                  </a:lnTo>
                  <a:lnTo>
                    <a:pt x="587" y="2769"/>
                  </a:lnTo>
                  <a:lnTo>
                    <a:pt x="587" y="2825"/>
                  </a:lnTo>
                  <a:lnTo>
                    <a:pt x="521" y="2853"/>
                  </a:lnTo>
                  <a:lnTo>
                    <a:pt x="449" y="2881"/>
                  </a:lnTo>
                  <a:lnTo>
                    <a:pt x="369" y="2912"/>
                  </a:lnTo>
                  <a:lnTo>
                    <a:pt x="290" y="2946"/>
                  </a:lnTo>
                  <a:lnTo>
                    <a:pt x="210" y="2982"/>
                  </a:lnTo>
                  <a:lnTo>
                    <a:pt x="138" y="3019"/>
                  </a:lnTo>
                  <a:lnTo>
                    <a:pt x="104" y="3036"/>
                  </a:lnTo>
                  <a:lnTo>
                    <a:pt x="72" y="3055"/>
                  </a:lnTo>
                  <a:lnTo>
                    <a:pt x="45" y="3075"/>
                  </a:lnTo>
                  <a:lnTo>
                    <a:pt x="22" y="3097"/>
                  </a:lnTo>
                  <a:lnTo>
                    <a:pt x="11" y="3095"/>
                  </a:lnTo>
                  <a:lnTo>
                    <a:pt x="3" y="3095"/>
                  </a:lnTo>
                  <a:lnTo>
                    <a:pt x="0" y="2923"/>
                  </a:lnTo>
                  <a:lnTo>
                    <a:pt x="0" y="2752"/>
                  </a:lnTo>
                  <a:lnTo>
                    <a:pt x="0" y="2584"/>
                  </a:lnTo>
                  <a:lnTo>
                    <a:pt x="0" y="2415"/>
                  </a:lnTo>
                  <a:lnTo>
                    <a:pt x="3" y="2247"/>
                  </a:lnTo>
                  <a:lnTo>
                    <a:pt x="8" y="2081"/>
                  </a:lnTo>
                  <a:lnTo>
                    <a:pt x="11" y="1912"/>
                  </a:lnTo>
                  <a:lnTo>
                    <a:pt x="19" y="1747"/>
                  </a:lnTo>
                  <a:lnTo>
                    <a:pt x="43" y="1747"/>
                  </a:lnTo>
                  <a:lnTo>
                    <a:pt x="69" y="1750"/>
                  </a:lnTo>
                  <a:lnTo>
                    <a:pt x="99" y="1758"/>
                  </a:lnTo>
                  <a:lnTo>
                    <a:pt x="128" y="1766"/>
                  </a:lnTo>
                  <a:lnTo>
                    <a:pt x="157" y="1775"/>
                  </a:lnTo>
                  <a:lnTo>
                    <a:pt x="189" y="1780"/>
                  </a:lnTo>
                  <a:lnTo>
                    <a:pt x="221" y="1786"/>
                  </a:lnTo>
                  <a:lnTo>
                    <a:pt x="253" y="1786"/>
                  </a:lnTo>
                  <a:lnTo>
                    <a:pt x="255" y="1758"/>
                  </a:lnTo>
                  <a:lnTo>
                    <a:pt x="261" y="1730"/>
                  </a:lnTo>
                  <a:lnTo>
                    <a:pt x="279" y="1721"/>
                  </a:lnTo>
                  <a:lnTo>
                    <a:pt x="295" y="1716"/>
                  </a:lnTo>
                  <a:lnTo>
                    <a:pt x="311" y="1713"/>
                  </a:lnTo>
                  <a:lnTo>
                    <a:pt x="324" y="1713"/>
                  </a:lnTo>
                  <a:lnTo>
                    <a:pt x="338" y="1713"/>
                  </a:lnTo>
                  <a:lnTo>
                    <a:pt x="348" y="1719"/>
                  </a:lnTo>
                  <a:lnTo>
                    <a:pt x="356" y="1721"/>
                  </a:lnTo>
                  <a:lnTo>
                    <a:pt x="364" y="1730"/>
                  </a:lnTo>
                  <a:lnTo>
                    <a:pt x="372" y="1738"/>
                  </a:lnTo>
                  <a:lnTo>
                    <a:pt x="377" y="1747"/>
                  </a:lnTo>
                  <a:lnTo>
                    <a:pt x="385" y="1758"/>
                  </a:lnTo>
                  <a:lnTo>
                    <a:pt x="388" y="1772"/>
                  </a:lnTo>
                  <a:lnTo>
                    <a:pt x="399" y="1800"/>
                  </a:lnTo>
                  <a:lnTo>
                    <a:pt x="407" y="1837"/>
                  </a:lnTo>
                  <a:lnTo>
                    <a:pt x="452" y="1856"/>
                  </a:lnTo>
                  <a:lnTo>
                    <a:pt x="497" y="1873"/>
                  </a:lnTo>
                  <a:lnTo>
                    <a:pt x="547" y="1890"/>
                  </a:lnTo>
                  <a:lnTo>
                    <a:pt x="601" y="1904"/>
                  </a:lnTo>
                  <a:lnTo>
                    <a:pt x="598" y="2005"/>
                  </a:lnTo>
                  <a:lnTo>
                    <a:pt x="598" y="2106"/>
                  </a:lnTo>
                  <a:lnTo>
                    <a:pt x="598" y="2204"/>
                  </a:lnTo>
                  <a:lnTo>
                    <a:pt x="598" y="2306"/>
                  </a:lnTo>
                  <a:lnTo>
                    <a:pt x="622" y="2320"/>
                  </a:lnTo>
                  <a:lnTo>
                    <a:pt x="640" y="2331"/>
                  </a:lnTo>
                  <a:lnTo>
                    <a:pt x="651" y="2342"/>
                  </a:lnTo>
                  <a:lnTo>
                    <a:pt x="659" y="2353"/>
                  </a:lnTo>
                  <a:lnTo>
                    <a:pt x="664" y="2387"/>
                  </a:lnTo>
                  <a:lnTo>
                    <a:pt x="672" y="2446"/>
                  </a:lnTo>
                  <a:lnTo>
                    <a:pt x="683" y="2454"/>
                  </a:lnTo>
                  <a:lnTo>
                    <a:pt x="694" y="2463"/>
                  </a:lnTo>
                  <a:lnTo>
                    <a:pt x="707" y="2468"/>
                  </a:lnTo>
                  <a:lnTo>
                    <a:pt x="723" y="2471"/>
                  </a:lnTo>
                  <a:lnTo>
                    <a:pt x="757" y="2477"/>
                  </a:lnTo>
                  <a:lnTo>
                    <a:pt x="794" y="2477"/>
                  </a:lnTo>
                  <a:lnTo>
                    <a:pt x="834" y="2474"/>
                  </a:lnTo>
                  <a:lnTo>
                    <a:pt x="871" y="2471"/>
                  </a:lnTo>
                  <a:lnTo>
                    <a:pt x="906" y="2466"/>
                  </a:lnTo>
                  <a:lnTo>
                    <a:pt x="935" y="2457"/>
                  </a:lnTo>
                  <a:lnTo>
                    <a:pt x="930" y="2438"/>
                  </a:lnTo>
                  <a:lnTo>
                    <a:pt x="930" y="2421"/>
                  </a:lnTo>
                  <a:lnTo>
                    <a:pt x="930" y="2407"/>
                  </a:lnTo>
                  <a:lnTo>
                    <a:pt x="935" y="2393"/>
                  </a:lnTo>
                  <a:lnTo>
                    <a:pt x="941" y="2384"/>
                  </a:lnTo>
                  <a:lnTo>
                    <a:pt x="949" y="2376"/>
                  </a:lnTo>
                  <a:lnTo>
                    <a:pt x="959" y="2367"/>
                  </a:lnTo>
                  <a:lnTo>
                    <a:pt x="972" y="2362"/>
                  </a:lnTo>
                  <a:lnTo>
                    <a:pt x="1034" y="2348"/>
                  </a:lnTo>
                  <a:lnTo>
                    <a:pt x="1100" y="2331"/>
                  </a:lnTo>
                  <a:lnTo>
                    <a:pt x="1148" y="2297"/>
                  </a:lnTo>
                  <a:lnTo>
                    <a:pt x="1209" y="2247"/>
                  </a:lnTo>
                  <a:lnTo>
                    <a:pt x="1235" y="2218"/>
                  </a:lnTo>
                  <a:lnTo>
                    <a:pt x="1257" y="2188"/>
                  </a:lnTo>
                  <a:lnTo>
                    <a:pt x="1265" y="2174"/>
                  </a:lnTo>
                  <a:lnTo>
                    <a:pt x="1270" y="2160"/>
                  </a:lnTo>
                  <a:lnTo>
                    <a:pt x="1273" y="2143"/>
                  </a:lnTo>
                  <a:lnTo>
                    <a:pt x="1273" y="2129"/>
                  </a:lnTo>
                  <a:lnTo>
                    <a:pt x="1259" y="2117"/>
                  </a:lnTo>
                  <a:lnTo>
                    <a:pt x="1246" y="2103"/>
                  </a:lnTo>
                  <a:lnTo>
                    <a:pt x="1235" y="2089"/>
                  </a:lnTo>
                  <a:lnTo>
                    <a:pt x="1225" y="2078"/>
                  </a:lnTo>
                  <a:lnTo>
                    <a:pt x="1190" y="2092"/>
                  </a:lnTo>
                  <a:lnTo>
                    <a:pt x="1150" y="2112"/>
                  </a:lnTo>
                  <a:lnTo>
                    <a:pt x="1140" y="2115"/>
                  </a:lnTo>
                  <a:lnTo>
                    <a:pt x="1129" y="2115"/>
                  </a:lnTo>
                  <a:lnTo>
                    <a:pt x="1121" y="2115"/>
                  </a:lnTo>
                  <a:lnTo>
                    <a:pt x="1113" y="2112"/>
                  </a:lnTo>
                  <a:lnTo>
                    <a:pt x="1103" y="2109"/>
                  </a:lnTo>
                  <a:lnTo>
                    <a:pt x="1097" y="2101"/>
                  </a:lnTo>
                  <a:lnTo>
                    <a:pt x="1089" y="2089"/>
                  </a:lnTo>
                  <a:lnTo>
                    <a:pt x="1084" y="2075"/>
                  </a:lnTo>
                  <a:lnTo>
                    <a:pt x="1076" y="2075"/>
                  </a:lnTo>
                  <a:lnTo>
                    <a:pt x="1071" y="2075"/>
                  </a:lnTo>
                  <a:lnTo>
                    <a:pt x="1063" y="2042"/>
                  </a:lnTo>
                  <a:lnTo>
                    <a:pt x="1055" y="2005"/>
                  </a:lnTo>
                  <a:lnTo>
                    <a:pt x="1047" y="1971"/>
                  </a:lnTo>
                  <a:lnTo>
                    <a:pt x="1041" y="1938"/>
                  </a:lnTo>
                  <a:lnTo>
                    <a:pt x="1039" y="1901"/>
                  </a:lnTo>
                  <a:lnTo>
                    <a:pt x="1036" y="1867"/>
                  </a:lnTo>
                  <a:lnTo>
                    <a:pt x="1036" y="1831"/>
                  </a:lnTo>
                  <a:lnTo>
                    <a:pt x="1036" y="1797"/>
                  </a:lnTo>
                  <a:lnTo>
                    <a:pt x="1031" y="1797"/>
                  </a:lnTo>
                  <a:lnTo>
                    <a:pt x="1026" y="1797"/>
                  </a:lnTo>
                  <a:lnTo>
                    <a:pt x="1015" y="1778"/>
                  </a:lnTo>
                  <a:lnTo>
                    <a:pt x="1004" y="1764"/>
                  </a:lnTo>
                  <a:lnTo>
                    <a:pt x="999" y="1764"/>
                  </a:lnTo>
                  <a:lnTo>
                    <a:pt x="994" y="1764"/>
                  </a:lnTo>
                  <a:lnTo>
                    <a:pt x="991" y="1735"/>
                  </a:lnTo>
                  <a:lnTo>
                    <a:pt x="991" y="1710"/>
                  </a:lnTo>
                  <a:lnTo>
                    <a:pt x="988" y="1682"/>
                  </a:lnTo>
                  <a:lnTo>
                    <a:pt x="988" y="1657"/>
                  </a:lnTo>
                  <a:lnTo>
                    <a:pt x="983" y="1657"/>
                  </a:lnTo>
                  <a:lnTo>
                    <a:pt x="978" y="1657"/>
                  </a:lnTo>
                  <a:lnTo>
                    <a:pt x="975" y="1623"/>
                  </a:lnTo>
                  <a:lnTo>
                    <a:pt x="975" y="1589"/>
                  </a:lnTo>
                  <a:lnTo>
                    <a:pt x="1002" y="1561"/>
                  </a:lnTo>
                  <a:lnTo>
                    <a:pt x="1026" y="1539"/>
                  </a:lnTo>
                  <a:lnTo>
                    <a:pt x="1036" y="1528"/>
                  </a:lnTo>
                  <a:lnTo>
                    <a:pt x="1047" y="1514"/>
                  </a:lnTo>
                  <a:lnTo>
                    <a:pt x="1057" y="1500"/>
                  </a:lnTo>
                  <a:lnTo>
                    <a:pt x="1068" y="1483"/>
                  </a:lnTo>
                  <a:lnTo>
                    <a:pt x="1039" y="1469"/>
                  </a:lnTo>
                  <a:lnTo>
                    <a:pt x="1010" y="1455"/>
                  </a:lnTo>
                  <a:lnTo>
                    <a:pt x="996" y="1443"/>
                  </a:lnTo>
                  <a:lnTo>
                    <a:pt x="986" y="1435"/>
                  </a:lnTo>
                  <a:lnTo>
                    <a:pt x="978" y="1421"/>
                  </a:lnTo>
                  <a:lnTo>
                    <a:pt x="972" y="1410"/>
                  </a:lnTo>
                  <a:lnTo>
                    <a:pt x="967" y="1410"/>
                  </a:lnTo>
                  <a:lnTo>
                    <a:pt x="962" y="1410"/>
                  </a:lnTo>
                  <a:lnTo>
                    <a:pt x="962" y="1373"/>
                  </a:lnTo>
                  <a:lnTo>
                    <a:pt x="964" y="1345"/>
                  </a:lnTo>
                  <a:lnTo>
                    <a:pt x="970" y="1320"/>
                  </a:lnTo>
                  <a:lnTo>
                    <a:pt x="972" y="1292"/>
                  </a:lnTo>
                  <a:lnTo>
                    <a:pt x="1028" y="1269"/>
                  </a:lnTo>
                  <a:lnTo>
                    <a:pt x="1076" y="1252"/>
                  </a:lnTo>
                  <a:lnTo>
                    <a:pt x="1113" y="1236"/>
                  </a:lnTo>
                  <a:lnTo>
                    <a:pt x="1142" y="1216"/>
                  </a:lnTo>
                  <a:lnTo>
                    <a:pt x="1156" y="1205"/>
                  </a:lnTo>
                  <a:lnTo>
                    <a:pt x="1166" y="1194"/>
                  </a:lnTo>
                  <a:lnTo>
                    <a:pt x="1177" y="1177"/>
                  </a:lnTo>
                  <a:lnTo>
                    <a:pt x="1185" y="1160"/>
                  </a:lnTo>
                  <a:lnTo>
                    <a:pt x="1193" y="1140"/>
                  </a:lnTo>
                  <a:lnTo>
                    <a:pt x="1198" y="1118"/>
                  </a:lnTo>
                  <a:lnTo>
                    <a:pt x="1206" y="1090"/>
                  </a:lnTo>
                  <a:lnTo>
                    <a:pt x="1211" y="1062"/>
                  </a:lnTo>
                  <a:lnTo>
                    <a:pt x="1233" y="1031"/>
                  </a:lnTo>
                  <a:lnTo>
                    <a:pt x="1254" y="997"/>
                  </a:lnTo>
                  <a:lnTo>
                    <a:pt x="1278" y="966"/>
                  </a:lnTo>
                  <a:lnTo>
                    <a:pt x="1288" y="938"/>
                  </a:lnTo>
                  <a:lnTo>
                    <a:pt x="1270" y="927"/>
                  </a:lnTo>
                  <a:lnTo>
                    <a:pt x="1254" y="918"/>
                  </a:lnTo>
                  <a:lnTo>
                    <a:pt x="1241" y="910"/>
                  </a:lnTo>
                  <a:lnTo>
                    <a:pt x="1233" y="899"/>
                  </a:lnTo>
                  <a:lnTo>
                    <a:pt x="1225" y="890"/>
                  </a:lnTo>
                  <a:lnTo>
                    <a:pt x="1219" y="876"/>
                  </a:lnTo>
                  <a:lnTo>
                    <a:pt x="1214" y="859"/>
                  </a:lnTo>
                  <a:lnTo>
                    <a:pt x="1209" y="842"/>
                  </a:lnTo>
                  <a:lnTo>
                    <a:pt x="1214" y="842"/>
                  </a:lnTo>
                  <a:lnTo>
                    <a:pt x="1219" y="842"/>
                  </a:lnTo>
                  <a:lnTo>
                    <a:pt x="1222" y="857"/>
                  </a:lnTo>
                  <a:lnTo>
                    <a:pt x="1225" y="876"/>
                  </a:lnTo>
                  <a:lnTo>
                    <a:pt x="1230" y="876"/>
                  </a:lnTo>
                  <a:lnTo>
                    <a:pt x="1235" y="876"/>
                  </a:lnTo>
                  <a:lnTo>
                    <a:pt x="1246" y="890"/>
                  </a:lnTo>
                  <a:lnTo>
                    <a:pt x="1254" y="901"/>
                  </a:lnTo>
                  <a:lnTo>
                    <a:pt x="1265" y="910"/>
                  </a:lnTo>
                  <a:lnTo>
                    <a:pt x="1275" y="918"/>
                  </a:lnTo>
                  <a:lnTo>
                    <a:pt x="1286" y="924"/>
                  </a:lnTo>
                  <a:lnTo>
                    <a:pt x="1296" y="930"/>
                  </a:lnTo>
                  <a:lnTo>
                    <a:pt x="1307" y="932"/>
                  </a:lnTo>
                  <a:lnTo>
                    <a:pt x="1318" y="935"/>
                  </a:lnTo>
                  <a:lnTo>
                    <a:pt x="1368" y="932"/>
                  </a:lnTo>
                  <a:lnTo>
                    <a:pt x="1421" y="927"/>
                  </a:lnTo>
                  <a:lnTo>
                    <a:pt x="1424" y="938"/>
                  </a:lnTo>
                  <a:lnTo>
                    <a:pt x="1427" y="949"/>
                  </a:lnTo>
                  <a:lnTo>
                    <a:pt x="1429" y="960"/>
                  </a:lnTo>
                  <a:lnTo>
                    <a:pt x="1435" y="969"/>
                  </a:lnTo>
                  <a:lnTo>
                    <a:pt x="1448" y="980"/>
                  </a:lnTo>
                  <a:lnTo>
                    <a:pt x="1466" y="991"/>
                  </a:lnTo>
                  <a:lnTo>
                    <a:pt x="1506" y="1003"/>
                  </a:lnTo>
                  <a:lnTo>
                    <a:pt x="1554" y="1011"/>
                  </a:lnTo>
                  <a:lnTo>
                    <a:pt x="1554" y="1017"/>
                  </a:lnTo>
                  <a:lnTo>
                    <a:pt x="1554" y="1028"/>
                  </a:lnTo>
                  <a:lnTo>
                    <a:pt x="1549" y="1028"/>
                  </a:lnTo>
                  <a:lnTo>
                    <a:pt x="1543" y="1028"/>
                  </a:lnTo>
                  <a:lnTo>
                    <a:pt x="1549" y="1050"/>
                  </a:lnTo>
                  <a:lnTo>
                    <a:pt x="1554" y="1067"/>
                  </a:lnTo>
                  <a:lnTo>
                    <a:pt x="1554" y="1081"/>
                  </a:lnTo>
                  <a:lnTo>
                    <a:pt x="1554" y="1095"/>
                  </a:lnTo>
                  <a:lnTo>
                    <a:pt x="1528" y="1106"/>
                  </a:lnTo>
                  <a:lnTo>
                    <a:pt x="1504" y="1120"/>
                  </a:lnTo>
                  <a:lnTo>
                    <a:pt x="1482" y="1137"/>
                  </a:lnTo>
                  <a:lnTo>
                    <a:pt x="1464" y="1160"/>
                  </a:lnTo>
                  <a:lnTo>
                    <a:pt x="1451" y="1185"/>
                  </a:lnTo>
                  <a:lnTo>
                    <a:pt x="1437" y="1210"/>
                  </a:lnTo>
                  <a:lnTo>
                    <a:pt x="1429" y="1238"/>
                  </a:lnTo>
                  <a:lnTo>
                    <a:pt x="1427" y="1267"/>
                  </a:lnTo>
                  <a:lnTo>
                    <a:pt x="1427" y="1292"/>
                  </a:lnTo>
                  <a:lnTo>
                    <a:pt x="1432" y="1320"/>
                  </a:lnTo>
                  <a:lnTo>
                    <a:pt x="1440" y="1342"/>
                  </a:lnTo>
                  <a:lnTo>
                    <a:pt x="1456" y="1365"/>
                  </a:lnTo>
                  <a:lnTo>
                    <a:pt x="1464" y="1376"/>
                  </a:lnTo>
                  <a:lnTo>
                    <a:pt x="1474" y="1384"/>
                  </a:lnTo>
                  <a:lnTo>
                    <a:pt x="1485" y="1393"/>
                  </a:lnTo>
                  <a:lnTo>
                    <a:pt x="1498" y="1399"/>
                  </a:lnTo>
                  <a:lnTo>
                    <a:pt x="1512" y="1404"/>
                  </a:lnTo>
                  <a:lnTo>
                    <a:pt x="1525" y="1410"/>
                  </a:lnTo>
                  <a:lnTo>
                    <a:pt x="1543" y="1413"/>
                  </a:lnTo>
                  <a:lnTo>
                    <a:pt x="1559" y="1415"/>
                  </a:lnTo>
                  <a:lnTo>
                    <a:pt x="1549" y="1441"/>
                  </a:lnTo>
                  <a:lnTo>
                    <a:pt x="1538" y="1460"/>
                  </a:lnTo>
                  <a:lnTo>
                    <a:pt x="1533" y="1474"/>
                  </a:lnTo>
                  <a:lnTo>
                    <a:pt x="1530" y="1488"/>
                  </a:lnTo>
                  <a:lnTo>
                    <a:pt x="1528" y="1508"/>
                  </a:lnTo>
                  <a:lnTo>
                    <a:pt x="1525" y="1533"/>
                  </a:lnTo>
                  <a:lnTo>
                    <a:pt x="1541" y="1545"/>
                  </a:lnTo>
                  <a:lnTo>
                    <a:pt x="1559" y="1553"/>
                  </a:lnTo>
                  <a:lnTo>
                    <a:pt x="1583" y="1564"/>
                  </a:lnTo>
                  <a:lnTo>
                    <a:pt x="1605" y="1570"/>
                  </a:lnTo>
                  <a:lnTo>
                    <a:pt x="1628" y="1570"/>
                  </a:lnTo>
                  <a:lnTo>
                    <a:pt x="1652" y="1567"/>
                  </a:lnTo>
                  <a:lnTo>
                    <a:pt x="1660" y="1561"/>
                  </a:lnTo>
                  <a:lnTo>
                    <a:pt x="1671" y="1556"/>
                  </a:lnTo>
                  <a:lnTo>
                    <a:pt x="1679" y="1547"/>
                  </a:lnTo>
                  <a:lnTo>
                    <a:pt x="1684" y="1539"/>
                  </a:lnTo>
                  <a:lnTo>
                    <a:pt x="1700" y="1533"/>
                  </a:lnTo>
                  <a:lnTo>
                    <a:pt x="1713" y="1528"/>
                  </a:lnTo>
                  <a:lnTo>
                    <a:pt x="1729" y="1519"/>
                  </a:lnTo>
                  <a:lnTo>
                    <a:pt x="1743" y="1511"/>
                  </a:lnTo>
                  <a:lnTo>
                    <a:pt x="1769" y="1497"/>
                  </a:lnTo>
                  <a:lnTo>
                    <a:pt x="1793" y="1488"/>
                  </a:lnTo>
                  <a:lnTo>
                    <a:pt x="1783" y="1502"/>
                  </a:lnTo>
                  <a:lnTo>
                    <a:pt x="1767" y="1516"/>
                  </a:lnTo>
                  <a:lnTo>
                    <a:pt x="1748" y="1528"/>
                  </a:lnTo>
                  <a:lnTo>
                    <a:pt x="1727" y="1542"/>
                  </a:lnTo>
                  <a:lnTo>
                    <a:pt x="1687" y="1561"/>
                  </a:lnTo>
                  <a:lnTo>
                    <a:pt x="1650" y="1578"/>
                  </a:lnTo>
                  <a:lnTo>
                    <a:pt x="1639" y="1606"/>
                  </a:lnTo>
                  <a:lnTo>
                    <a:pt x="1628" y="1629"/>
                  </a:lnTo>
                  <a:lnTo>
                    <a:pt x="1618" y="1646"/>
                  </a:lnTo>
                  <a:lnTo>
                    <a:pt x="1605" y="1660"/>
                  </a:lnTo>
                  <a:lnTo>
                    <a:pt x="1591" y="1668"/>
                  </a:lnTo>
                  <a:lnTo>
                    <a:pt x="1575" y="1679"/>
                  </a:lnTo>
                  <a:lnTo>
                    <a:pt x="1554" y="1688"/>
                  </a:lnTo>
                  <a:lnTo>
                    <a:pt x="1528" y="1696"/>
                  </a:lnTo>
                  <a:lnTo>
                    <a:pt x="1530" y="1727"/>
                  </a:lnTo>
                  <a:lnTo>
                    <a:pt x="1528" y="1750"/>
                  </a:lnTo>
                  <a:lnTo>
                    <a:pt x="1525" y="1758"/>
                  </a:lnTo>
                  <a:lnTo>
                    <a:pt x="1517" y="1764"/>
                  </a:lnTo>
                  <a:lnTo>
                    <a:pt x="1506" y="1772"/>
                  </a:lnTo>
                  <a:lnTo>
                    <a:pt x="1490" y="1780"/>
                  </a:lnTo>
                  <a:lnTo>
                    <a:pt x="1496" y="1803"/>
                  </a:lnTo>
                  <a:lnTo>
                    <a:pt x="1501" y="1820"/>
                  </a:lnTo>
                  <a:lnTo>
                    <a:pt x="1512" y="1834"/>
                  </a:lnTo>
                  <a:lnTo>
                    <a:pt x="1522" y="1842"/>
                  </a:lnTo>
                  <a:lnTo>
                    <a:pt x="1536" y="1845"/>
                  </a:lnTo>
                  <a:lnTo>
                    <a:pt x="1551" y="1845"/>
                  </a:lnTo>
                  <a:lnTo>
                    <a:pt x="1567" y="1842"/>
                  </a:lnTo>
                  <a:lnTo>
                    <a:pt x="1583" y="1837"/>
                  </a:lnTo>
                  <a:lnTo>
                    <a:pt x="1602" y="1828"/>
                  </a:lnTo>
                  <a:lnTo>
                    <a:pt x="1618" y="1820"/>
                  </a:lnTo>
                  <a:lnTo>
                    <a:pt x="1636" y="1808"/>
                  </a:lnTo>
                  <a:lnTo>
                    <a:pt x="1652" y="1794"/>
                  </a:lnTo>
                  <a:lnTo>
                    <a:pt x="1666" y="1780"/>
                  </a:lnTo>
                  <a:lnTo>
                    <a:pt x="1679" y="1766"/>
                  </a:lnTo>
                  <a:lnTo>
                    <a:pt x="1692" y="1755"/>
                  </a:lnTo>
                  <a:lnTo>
                    <a:pt x="1700" y="1741"/>
                  </a:lnTo>
                  <a:lnTo>
                    <a:pt x="1703" y="1696"/>
                  </a:lnTo>
                  <a:lnTo>
                    <a:pt x="1706" y="1671"/>
                  </a:lnTo>
                  <a:lnTo>
                    <a:pt x="1706" y="1654"/>
                  </a:lnTo>
                  <a:lnTo>
                    <a:pt x="1703" y="1634"/>
                  </a:lnTo>
                  <a:lnTo>
                    <a:pt x="1708" y="1634"/>
                  </a:lnTo>
                  <a:lnTo>
                    <a:pt x="1713" y="1634"/>
                  </a:lnTo>
                  <a:lnTo>
                    <a:pt x="1716" y="1640"/>
                  </a:lnTo>
                  <a:lnTo>
                    <a:pt x="1719" y="1648"/>
                  </a:lnTo>
                  <a:lnTo>
                    <a:pt x="1735" y="1651"/>
                  </a:lnTo>
                  <a:lnTo>
                    <a:pt x="1751" y="1654"/>
                  </a:lnTo>
                  <a:lnTo>
                    <a:pt x="1764" y="1629"/>
                  </a:lnTo>
                  <a:lnTo>
                    <a:pt x="1769" y="1609"/>
                  </a:lnTo>
                  <a:lnTo>
                    <a:pt x="1772" y="1589"/>
                  </a:lnTo>
                  <a:lnTo>
                    <a:pt x="1772" y="1567"/>
                  </a:lnTo>
                  <a:lnTo>
                    <a:pt x="1780" y="1567"/>
                  </a:lnTo>
                  <a:lnTo>
                    <a:pt x="1788" y="1567"/>
                  </a:lnTo>
                  <a:lnTo>
                    <a:pt x="1790" y="1578"/>
                  </a:lnTo>
                  <a:lnTo>
                    <a:pt x="1793" y="1589"/>
                  </a:lnTo>
                  <a:lnTo>
                    <a:pt x="1814" y="1589"/>
                  </a:lnTo>
                  <a:lnTo>
                    <a:pt x="1830" y="1587"/>
                  </a:lnTo>
                  <a:lnTo>
                    <a:pt x="1846" y="1578"/>
                  </a:lnTo>
                  <a:lnTo>
                    <a:pt x="1860" y="1570"/>
                  </a:lnTo>
                  <a:lnTo>
                    <a:pt x="1870" y="1559"/>
                  </a:lnTo>
                  <a:lnTo>
                    <a:pt x="1875" y="1545"/>
                  </a:lnTo>
                  <a:lnTo>
                    <a:pt x="1881" y="1525"/>
                  </a:lnTo>
                  <a:lnTo>
                    <a:pt x="1883" y="1505"/>
                  </a:lnTo>
                  <a:lnTo>
                    <a:pt x="1923" y="1522"/>
                  </a:lnTo>
                  <a:lnTo>
                    <a:pt x="1960" y="1533"/>
                  </a:lnTo>
                  <a:lnTo>
                    <a:pt x="1976" y="1536"/>
                  </a:lnTo>
                  <a:lnTo>
                    <a:pt x="1992" y="1539"/>
                  </a:lnTo>
                  <a:lnTo>
                    <a:pt x="2011" y="1539"/>
                  </a:lnTo>
                  <a:lnTo>
                    <a:pt x="2027" y="1536"/>
                  </a:lnTo>
                  <a:lnTo>
                    <a:pt x="2059" y="1528"/>
                  </a:lnTo>
                  <a:lnTo>
                    <a:pt x="2093" y="1514"/>
                  </a:lnTo>
                  <a:lnTo>
                    <a:pt x="2133" y="1497"/>
                  </a:lnTo>
                  <a:lnTo>
                    <a:pt x="2176" y="1474"/>
                  </a:lnTo>
                  <a:lnTo>
                    <a:pt x="2205" y="1449"/>
                  </a:lnTo>
                  <a:lnTo>
                    <a:pt x="2226" y="1427"/>
                  </a:lnTo>
                  <a:lnTo>
                    <a:pt x="2234" y="1418"/>
                  </a:lnTo>
                  <a:lnTo>
                    <a:pt x="2239" y="1407"/>
                  </a:lnTo>
                  <a:lnTo>
                    <a:pt x="2245" y="1396"/>
                  </a:lnTo>
                  <a:lnTo>
                    <a:pt x="2247" y="1384"/>
                  </a:lnTo>
                  <a:lnTo>
                    <a:pt x="2250" y="1359"/>
                  </a:lnTo>
                  <a:lnTo>
                    <a:pt x="2247" y="1334"/>
                  </a:lnTo>
                  <a:lnTo>
                    <a:pt x="2242" y="1303"/>
                  </a:lnTo>
                  <a:lnTo>
                    <a:pt x="2229" y="1269"/>
                  </a:lnTo>
                  <a:lnTo>
                    <a:pt x="2223" y="1269"/>
                  </a:lnTo>
                  <a:lnTo>
                    <a:pt x="2218" y="1269"/>
                  </a:lnTo>
                  <a:lnTo>
                    <a:pt x="2215" y="1255"/>
                  </a:lnTo>
                  <a:lnTo>
                    <a:pt x="2208" y="1244"/>
                  </a:lnTo>
                  <a:lnTo>
                    <a:pt x="2200" y="1233"/>
                  </a:lnTo>
                  <a:lnTo>
                    <a:pt x="2192" y="1227"/>
                  </a:lnTo>
                  <a:lnTo>
                    <a:pt x="2184" y="1219"/>
                  </a:lnTo>
                  <a:lnTo>
                    <a:pt x="2173" y="1213"/>
                  </a:lnTo>
                  <a:lnTo>
                    <a:pt x="2168" y="1205"/>
                  </a:lnTo>
                  <a:lnTo>
                    <a:pt x="2160" y="1196"/>
                  </a:lnTo>
                  <a:lnTo>
                    <a:pt x="2176" y="1194"/>
                  </a:lnTo>
                  <a:lnTo>
                    <a:pt x="2192" y="1191"/>
                  </a:lnTo>
                  <a:lnTo>
                    <a:pt x="2205" y="1185"/>
                  </a:lnTo>
                  <a:lnTo>
                    <a:pt x="2218" y="1179"/>
                  </a:lnTo>
                  <a:lnTo>
                    <a:pt x="2231" y="1171"/>
                  </a:lnTo>
                  <a:lnTo>
                    <a:pt x="2245" y="1163"/>
                  </a:lnTo>
                  <a:lnTo>
                    <a:pt x="2255" y="1154"/>
                  </a:lnTo>
                  <a:lnTo>
                    <a:pt x="2266" y="1143"/>
                  </a:lnTo>
                  <a:lnTo>
                    <a:pt x="2282" y="1118"/>
                  </a:lnTo>
                  <a:lnTo>
                    <a:pt x="2298" y="1092"/>
                  </a:lnTo>
                  <a:lnTo>
                    <a:pt x="2306" y="1062"/>
                  </a:lnTo>
                  <a:lnTo>
                    <a:pt x="2311" y="1033"/>
                  </a:lnTo>
                  <a:lnTo>
                    <a:pt x="2314" y="1003"/>
                  </a:lnTo>
                  <a:lnTo>
                    <a:pt x="2308" y="974"/>
                  </a:lnTo>
                  <a:lnTo>
                    <a:pt x="2306" y="960"/>
                  </a:lnTo>
                  <a:lnTo>
                    <a:pt x="2300" y="946"/>
                  </a:lnTo>
                  <a:lnTo>
                    <a:pt x="2295" y="932"/>
                  </a:lnTo>
                  <a:lnTo>
                    <a:pt x="2287" y="921"/>
                  </a:lnTo>
                  <a:lnTo>
                    <a:pt x="2279" y="907"/>
                  </a:lnTo>
                  <a:lnTo>
                    <a:pt x="2271" y="899"/>
                  </a:lnTo>
                  <a:lnTo>
                    <a:pt x="2258" y="887"/>
                  </a:lnTo>
                  <a:lnTo>
                    <a:pt x="2247" y="879"/>
                  </a:lnTo>
                  <a:lnTo>
                    <a:pt x="2231" y="871"/>
                  </a:lnTo>
                  <a:lnTo>
                    <a:pt x="2218" y="865"/>
                  </a:lnTo>
                  <a:lnTo>
                    <a:pt x="2200" y="862"/>
                  </a:lnTo>
                  <a:lnTo>
                    <a:pt x="2181" y="859"/>
                  </a:lnTo>
                  <a:lnTo>
                    <a:pt x="2202" y="826"/>
                  </a:lnTo>
                  <a:lnTo>
                    <a:pt x="2226" y="798"/>
                  </a:lnTo>
                  <a:lnTo>
                    <a:pt x="2223" y="747"/>
                  </a:lnTo>
                  <a:lnTo>
                    <a:pt x="2218" y="702"/>
                  </a:lnTo>
                  <a:lnTo>
                    <a:pt x="2213" y="682"/>
                  </a:lnTo>
                  <a:lnTo>
                    <a:pt x="2205" y="663"/>
                  </a:lnTo>
                  <a:lnTo>
                    <a:pt x="2200" y="646"/>
                  </a:lnTo>
                  <a:lnTo>
                    <a:pt x="2192" y="629"/>
                  </a:lnTo>
                  <a:lnTo>
                    <a:pt x="2181" y="615"/>
                  </a:lnTo>
                  <a:lnTo>
                    <a:pt x="2173" y="601"/>
                  </a:lnTo>
                  <a:lnTo>
                    <a:pt x="2162" y="590"/>
                  </a:lnTo>
                  <a:lnTo>
                    <a:pt x="2149" y="579"/>
                  </a:lnTo>
                  <a:lnTo>
                    <a:pt x="2125" y="559"/>
                  </a:lnTo>
                  <a:lnTo>
                    <a:pt x="2096" y="545"/>
                  </a:lnTo>
                  <a:lnTo>
                    <a:pt x="2067" y="536"/>
                  </a:lnTo>
                  <a:lnTo>
                    <a:pt x="2035" y="531"/>
                  </a:lnTo>
                  <a:lnTo>
                    <a:pt x="2000" y="528"/>
                  </a:lnTo>
                  <a:lnTo>
                    <a:pt x="1963" y="531"/>
                  </a:lnTo>
                  <a:lnTo>
                    <a:pt x="1929" y="536"/>
                  </a:lnTo>
                  <a:lnTo>
                    <a:pt x="1889" y="545"/>
                  </a:lnTo>
                  <a:lnTo>
                    <a:pt x="1852" y="556"/>
                  </a:lnTo>
                  <a:lnTo>
                    <a:pt x="1812" y="573"/>
                  </a:lnTo>
                  <a:lnTo>
                    <a:pt x="1812" y="579"/>
                  </a:lnTo>
                  <a:lnTo>
                    <a:pt x="1809" y="584"/>
                  </a:lnTo>
                  <a:lnTo>
                    <a:pt x="1804" y="584"/>
                  </a:lnTo>
                  <a:lnTo>
                    <a:pt x="1798" y="584"/>
                  </a:lnTo>
                  <a:lnTo>
                    <a:pt x="1798" y="556"/>
                  </a:lnTo>
                  <a:lnTo>
                    <a:pt x="1798" y="534"/>
                  </a:lnTo>
                  <a:lnTo>
                    <a:pt x="1796" y="517"/>
                  </a:lnTo>
                  <a:lnTo>
                    <a:pt x="1790" y="503"/>
                  </a:lnTo>
                  <a:lnTo>
                    <a:pt x="1785" y="491"/>
                  </a:lnTo>
                  <a:lnTo>
                    <a:pt x="1777" y="483"/>
                  </a:lnTo>
                  <a:lnTo>
                    <a:pt x="1767" y="477"/>
                  </a:lnTo>
                  <a:lnTo>
                    <a:pt x="1759" y="477"/>
                  </a:lnTo>
                  <a:lnTo>
                    <a:pt x="1745" y="477"/>
                  </a:lnTo>
                  <a:lnTo>
                    <a:pt x="1735" y="480"/>
                  </a:lnTo>
                  <a:lnTo>
                    <a:pt x="1721" y="486"/>
                  </a:lnTo>
                  <a:lnTo>
                    <a:pt x="1706" y="491"/>
                  </a:lnTo>
                  <a:lnTo>
                    <a:pt x="1674" y="506"/>
                  </a:lnTo>
                  <a:lnTo>
                    <a:pt x="1639" y="522"/>
                  </a:lnTo>
                  <a:lnTo>
                    <a:pt x="1613" y="542"/>
                  </a:lnTo>
                  <a:lnTo>
                    <a:pt x="1591" y="553"/>
                  </a:lnTo>
                  <a:lnTo>
                    <a:pt x="1583" y="559"/>
                  </a:lnTo>
                  <a:lnTo>
                    <a:pt x="1575" y="559"/>
                  </a:lnTo>
                  <a:lnTo>
                    <a:pt x="1567" y="559"/>
                  </a:lnTo>
                  <a:lnTo>
                    <a:pt x="1559" y="559"/>
                  </a:lnTo>
                  <a:lnTo>
                    <a:pt x="1533" y="539"/>
                  </a:lnTo>
                  <a:lnTo>
                    <a:pt x="1490" y="506"/>
                  </a:lnTo>
                  <a:lnTo>
                    <a:pt x="1453" y="494"/>
                  </a:lnTo>
                  <a:lnTo>
                    <a:pt x="1421" y="491"/>
                  </a:lnTo>
                  <a:lnTo>
                    <a:pt x="1405" y="489"/>
                  </a:lnTo>
                  <a:lnTo>
                    <a:pt x="1392" y="491"/>
                  </a:lnTo>
                  <a:lnTo>
                    <a:pt x="1379" y="494"/>
                  </a:lnTo>
                  <a:lnTo>
                    <a:pt x="1366" y="500"/>
                  </a:lnTo>
                  <a:lnTo>
                    <a:pt x="1352" y="506"/>
                  </a:lnTo>
                  <a:lnTo>
                    <a:pt x="1342" y="514"/>
                  </a:lnTo>
                  <a:lnTo>
                    <a:pt x="1331" y="525"/>
                  </a:lnTo>
                  <a:lnTo>
                    <a:pt x="1320" y="536"/>
                  </a:lnTo>
                  <a:lnTo>
                    <a:pt x="1302" y="564"/>
                  </a:lnTo>
                  <a:lnTo>
                    <a:pt x="1286" y="601"/>
                  </a:lnTo>
                  <a:lnTo>
                    <a:pt x="1281" y="604"/>
                  </a:lnTo>
                  <a:lnTo>
                    <a:pt x="1273" y="607"/>
                  </a:lnTo>
                  <a:lnTo>
                    <a:pt x="1273" y="593"/>
                  </a:lnTo>
                  <a:lnTo>
                    <a:pt x="1273" y="579"/>
                  </a:lnTo>
                  <a:lnTo>
                    <a:pt x="1257" y="584"/>
                  </a:lnTo>
                  <a:lnTo>
                    <a:pt x="1243" y="593"/>
                  </a:lnTo>
                  <a:lnTo>
                    <a:pt x="1235" y="601"/>
                  </a:lnTo>
                  <a:lnTo>
                    <a:pt x="1230" y="612"/>
                  </a:lnTo>
                  <a:lnTo>
                    <a:pt x="1225" y="623"/>
                  </a:lnTo>
                  <a:lnTo>
                    <a:pt x="1219" y="632"/>
                  </a:lnTo>
                  <a:lnTo>
                    <a:pt x="1211" y="643"/>
                  </a:lnTo>
                  <a:lnTo>
                    <a:pt x="1198" y="652"/>
                  </a:lnTo>
                  <a:lnTo>
                    <a:pt x="1193" y="643"/>
                  </a:lnTo>
                  <a:lnTo>
                    <a:pt x="1188" y="635"/>
                  </a:lnTo>
                  <a:lnTo>
                    <a:pt x="1182" y="629"/>
                  </a:lnTo>
                  <a:lnTo>
                    <a:pt x="1174" y="623"/>
                  </a:lnTo>
                  <a:lnTo>
                    <a:pt x="1158" y="618"/>
                  </a:lnTo>
                  <a:lnTo>
                    <a:pt x="1137" y="615"/>
                  </a:lnTo>
                  <a:lnTo>
                    <a:pt x="1119" y="618"/>
                  </a:lnTo>
                  <a:lnTo>
                    <a:pt x="1097" y="623"/>
                  </a:lnTo>
                  <a:lnTo>
                    <a:pt x="1076" y="632"/>
                  </a:lnTo>
                  <a:lnTo>
                    <a:pt x="1055" y="646"/>
                  </a:lnTo>
                  <a:lnTo>
                    <a:pt x="1036" y="660"/>
                  </a:lnTo>
                  <a:lnTo>
                    <a:pt x="1020" y="680"/>
                  </a:lnTo>
                  <a:lnTo>
                    <a:pt x="1007" y="702"/>
                  </a:lnTo>
                  <a:lnTo>
                    <a:pt x="999" y="727"/>
                  </a:lnTo>
                  <a:lnTo>
                    <a:pt x="994" y="739"/>
                  </a:lnTo>
                  <a:lnTo>
                    <a:pt x="994" y="753"/>
                  </a:lnTo>
                  <a:lnTo>
                    <a:pt x="994" y="767"/>
                  </a:lnTo>
                  <a:lnTo>
                    <a:pt x="994" y="784"/>
                  </a:lnTo>
                  <a:lnTo>
                    <a:pt x="996" y="798"/>
                  </a:lnTo>
                  <a:lnTo>
                    <a:pt x="1002" y="814"/>
                  </a:lnTo>
                  <a:lnTo>
                    <a:pt x="1007" y="831"/>
                  </a:lnTo>
                  <a:lnTo>
                    <a:pt x="1015" y="848"/>
                  </a:lnTo>
                  <a:lnTo>
                    <a:pt x="1047" y="862"/>
                  </a:lnTo>
                  <a:lnTo>
                    <a:pt x="1076" y="873"/>
                  </a:lnTo>
                  <a:lnTo>
                    <a:pt x="1105" y="876"/>
                  </a:lnTo>
                  <a:lnTo>
                    <a:pt x="1148" y="882"/>
                  </a:lnTo>
                  <a:lnTo>
                    <a:pt x="1134" y="904"/>
                  </a:lnTo>
                  <a:lnTo>
                    <a:pt x="1124" y="918"/>
                  </a:lnTo>
                  <a:lnTo>
                    <a:pt x="1113" y="932"/>
                  </a:lnTo>
                  <a:lnTo>
                    <a:pt x="1103" y="944"/>
                  </a:lnTo>
                  <a:lnTo>
                    <a:pt x="1095" y="958"/>
                  </a:lnTo>
                  <a:lnTo>
                    <a:pt x="1087" y="977"/>
                  </a:lnTo>
                  <a:lnTo>
                    <a:pt x="1081" y="1003"/>
                  </a:lnTo>
                  <a:lnTo>
                    <a:pt x="1079" y="1039"/>
                  </a:lnTo>
                  <a:lnTo>
                    <a:pt x="1103" y="1059"/>
                  </a:lnTo>
                  <a:lnTo>
                    <a:pt x="1126" y="1078"/>
                  </a:lnTo>
                  <a:lnTo>
                    <a:pt x="1156" y="1098"/>
                  </a:lnTo>
                  <a:lnTo>
                    <a:pt x="1182" y="1112"/>
                  </a:lnTo>
                  <a:lnTo>
                    <a:pt x="1182" y="1118"/>
                  </a:lnTo>
                  <a:lnTo>
                    <a:pt x="1182" y="1123"/>
                  </a:lnTo>
                  <a:lnTo>
                    <a:pt x="1164" y="1120"/>
                  </a:lnTo>
                  <a:lnTo>
                    <a:pt x="1140" y="1112"/>
                  </a:lnTo>
                  <a:lnTo>
                    <a:pt x="1129" y="1106"/>
                  </a:lnTo>
                  <a:lnTo>
                    <a:pt x="1121" y="1101"/>
                  </a:lnTo>
                  <a:lnTo>
                    <a:pt x="1116" y="1092"/>
                  </a:lnTo>
                  <a:lnTo>
                    <a:pt x="1116" y="1084"/>
                  </a:lnTo>
                  <a:lnTo>
                    <a:pt x="1108" y="1084"/>
                  </a:lnTo>
                  <a:lnTo>
                    <a:pt x="1100" y="1084"/>
                  </a:lnTo>
                  <a:lnTo>
                    <a:pt x="1100" y="1078"/>
                  </a:lnTo>
                  <a:lnTo>
                    <a:pt x="1100" y="1073"/>
                  </a:lnTo>
                  <a:lnTo>
                    <a:pt x="1084" y="1062"/>
                  </a:lnTo>
                  <a:lnTo>
                    <a:pt x="1071" y="1056"/>
                  </a:lnTo>
                  <a:lnTo>
                    <a:pt x="1071" y="1033"/>
                  </a:lnTo>
                  <a:lnTo>
                    <a:pt x="1071" y="1011"/>
                  </a:lnTo>
                  <a:lnTo>
                    <a:pt x="1071" y="989"/>
                  </a:lnTo>
                  <a:lnTo>
                    <a:pt x="1071" y="966"/>
                  </a:lnTo>
                  <a:lnTo>
                    <a:pt x="1079" y="946"/>
                  </a:lnTo>
                  <a:lnTo>
                    <a:pt x="1087" y="930"/>
                  </a:lnTo>
                  <a:lnTo>
                    <a:pt x="1092" y="913"/>
                  </a:lnTo>
                  <a:lnTo>
                    <a:pt x="1095" y="893"/>
                  </a:lnTo>
                  <a:lnTo>
                    <a:pt x="1057" y="882"/>
                  </a:lnTo>
                  <a:lnTo>
                    <a:pt x="1020" y="871"/>
                  </a:lnTo>
                  <a:lnTo>
                    <a:pt x="1020" y="865"/>
                  </a:lnTo>
                  <a:lnTo>
                    <a:pt x="1020" y="859"/>
                  </a:lnTo>
                  <a:lnTo>
                    <a:pt x="1007" y="848"/>
                  </a:lnTo>
                  <a:lnTo>
                    <a:pt x="994" y="842"/>
                  </a:lnTo>
                  <a:lnTo>
                    <a:pt x="991" y="809"/>
                  </a:lnTo>
                  <a:lnTo>
                    <a:pt x="991" y="781"/>
                  </a:lnTo>
                  <a:lnTo>
                    <a:pt x="991" y="753"/>
                  </a:lnTo>
                  <a:lnTo>
                    <a:pt x="994" y="727"/>
                  </a:lnTo>
                  <a:lnTo>
                    <a:pt x="996" y="705"/>
                  </a:lnTo>
                  <a:lnTo>
                    <a:pt x="1004" y="682"/>
                  </a:lnTo>
                  <a:lnTo>
                    <a:pt x="1012" y="666"/>
                  </a:lnTo>
                  <a:lnTo>
                    <a:pt x="1023" y="649"/>
                  </a:lnTo>
                  <a:lnTo>
                    <a:pt x="1036" y="635"/>
                  </a:lnTo>
                  <a:lnTo>
                    <a:pt x="1052" y="623"/>
                  </a:lnTo>
                  <a:lnTo>
                    <a:pt x="1068" y="615"/>
                  </a:lnTo>
                  <a:lnTo>
                    <a:pt x="1089" y="609"/>
                  </a:lnTo>
                  <a:lnTo>
                    <a:pt x="1113" y="609"/>
                  </a:lnTo>
                  <a:lnTo>
                    <a:pt x="1140" y="609"/>
                  </a:lnTo>
                  <a:lnTo>
                    <a:pt x="1172" y="612"/>
                  </a:lnTo>
                  <a:lnTo>
                    <a:pt x="1203" y="621"/>
                  </a:lnTo>
                  <a:lnTo>
                    <a:pt x="1222" y="593"/>
                  </a:lnTo>
                  <a:lnTo>
                    <a:pt x="1238" y="579"/>
                  </a:lnTo>
                  <a:lnTo>
                    <a:pt x="1254" y="567"/>
                  </a:lnTo>
                  <a:lnTo>
                    <a:pt x="1286" y="562"/>
                  </a:lnTo>
                  <a:lnTo>
                    <a:pt x="1294" y="548"/>
                  </a:lnTo>
                  <a:lnTo>
                    <a:pt x="1299" y="536"/>
                  </a:lnTo>
                  <a:lnTo>
                    <a:pt x="1307" y="525"/>
                  </a:lnTo>
                  <a:lnTo>
                    <a:pt x="1315" y="517"/>
                  </a:lnTo>
                  <a:lnTo>
                    <a:pt x="1334" y="500"/>
                  </a:lnTo>
                  <a:lnTo>
                    <a:pt x="1355" y="491"/>
                  </a:lnTo>
                  <a:lnTo>
                    <a:pt x="1379" y="483"/>
                  </a:lnTo>
                  <a:lnTo>
                    <a:pt x="1403" y="480"/>
                  </a:lnTo>
                  <a:lnTo>
                    <a:pt x="1427" y="477"/>
                  </a:lnTo>
                  <a:lnTo>
                    <a:pt x="1453" y="477"/>
                  </a:lnTo>
                  <a:lnTo>
                    <a:pt x="1448" y="435"/>
                  </a:lnTo>
                  <a:lnTo>
                    <a:pt x="1437" y="402"/>
                  </a:lnTo>
                  <a:lnTo>
                    <a:pt x="1427" y="365"/>
                  </a:lnTo>
                  <a:lnTo>
                    <a:pt x="1416" y="331"/>
                  </a:lnTo>
                  <a:lnTo>
                    <a:pt x="1411" y="331"/>
                  </a:lnTo>
                  <a:lnTo>
                    <a:pt x="1405" y="331"/>
                  </a:lnTo>
                  <a:lnTo>
                    <a:pt x="1408" y="295"/>
                  </a:lnTo>
                  <a:lnTo>
                    <a:pt x="1413" y="267"/>
                  </a:lnTo>
                  <a:lnTo>
                    <a:pt x="1421" y="242"/>
                  </a:lnTo>
                  <a:lnTo>
                    <a:pt x="1435" y="222"/>
                  </a:lnTo>
                  <a:lnTo>
                    <a:pt x="1466" y="180"/>
                  </a:lnTo>
                  <a:lnTo>
                    <a:pt x="1509" y="135"/>
                  </a:lnTo>
                  <a:lnTo>
                    <a:pt x="1517" y="112"/>
                  </a:lnTo>
                  <a:lnTo>
                    <a:pt x="1525" y="93"/>
                  </a:lnTo>
                  <a:lnTo>
                    <a:pt x="1543" y="59"/>
                  </a:lnTo>
                  <a:lnTo>
                    <a:pt x="1575" y="0"/>
                  </a:lnTo>
                  <a:lnTo>
                    <a:pt x="1613" y="17"/>
                  </a:lnTo>
                  <a:lnTo>
                    <a:pt x="1650" y="39"/>
                  </a:lnTo>
                  <a:lnTo>
                    <a:pt x="1650" y="42"/>
                  </a:lnTo>
                  <a:lnTo>
                    <a:pt x="1650" y="51"/>
                  </a:lnTo>
                  <a:lnTo>
                    <a:pt x="1711" y="93"/>
                  </a:lnTo>
                  <a:lnTo>
                    <a:pt x="1772" y="135"/>
                  </a:lnTo>
                  <a:lnTo>
                    <a:pt x="1836" y="174"/>
                  </a:lnTo>
                  <a:lnTo>
                    <a:pt x="1905" y="213"/>
                  </a:lnTo>
                  <a:lnTo>
                    <a:pt x="1905" y="219"/>
                  </a:lnTo>
                  <a:lnTo>
                    <a:pt x="1905" y="225"/>
                  </a:lnTo>
                  <a:lnTo>
                    <a:pt x="1998" y="261"/>
                  </a:lnTo>
                  <a:lnTo>
                    <a:pt x="2048" y="281"/>
                  </a:lnTo>
                  <a:lnTo>
                    <a:pt x="2075" y="295"/>
                  </a:lnTo>
                  <a:lnTo>
                    <a:pt x="2093" y="309"/>
                  </a:lnTo>
                  <a:lnTo>
                    <a:pt x="2093" y="323"/>
                  </a:lnTo>
                  <a:lnTo>
                    <a:pt x="2091" y="337"/>
                  </a:lnTo>
                  <a:lnTo>
                    <a:pt x="2085" y="351"/>
                  </a:lnTo>
                  <a:lnTo>
                    <a:pt x="2080" y="365"/>
                  </a:lnTo>
                  <a:lnTo>
                    <a:pt x="2067" y="390"/>
                  </a:lnTo>
                  <a:lnTo>
                    <a:pt x="2051" y="413"/>
                  </a:lnTo>
                  <a:lnTo>
                    <a:pt x="2035" y="435"/>
                  </a:lnTo>
                  <a:lnTo>
                    <a:pt x="2019" y="461"/>
                  </a:lnTo>
                  <a:lnTo>
                    <a:pt x="2014" y="472"/>
                  </a:lnTo>
                  <a:lnTo>
                    <a:pt x="2008" y="486"/>
                  </a:lnTo>
                  <a:lnTo>
                    <a:pt x="2003" y="500"/>
                  </a:lnTo>
                  <a:lnTo>
                    <a:pt x="2000" y="517"/>
                  </a:lnTo>
                  <a:lnTo>
                    <a:pt x="2032" y="520"/>
                  </a:lnTo>
                  <a:lnTo>
                    <a:pt x="2061" y="525"/>
                  </a:lnTo>
                  <a:lnTo>
                    <a:pt x="2088" y="531"/>
                  </a:lnTo>
                  <a:lnTo>
                    <a:pt x="2112" y="539"/>
                  </a:lnTo>
                  <a:lnTo>
                    <a:pt x="2133" y="550"/>
                  </a:lnTo>
                  <a:lnTo>
                    <a:pt x="2152" y="562"/>
                  </a:lnTo>
                  <a:lnTo>
                    <a:pt x="2168" y="576"/>
                  </a:lnTo>
                  <a:lnTo>
                    <a:pt x="2184" y="590"/>
                  </a:lnTo>
                  <a:lnTo>
                    <a:pt x="2197" y="609"/>
                  </a:lnTo>
                  <a:lnTo>
                    <a:pt x="2208" y="629"/>
                  </a:lnTo>
                  <a:lnTo>
                    <a:pt x="2218" y="652"/>
                  </a:lnTo>
                  <a:lnTo>
                    <a:pt x="2223" y="677"/>
                  </a:lnTo>
                  <a:lnTo>
                    <a:pt x="2229" y="705"/>
                  </a:lnTo>
                  <a:lnTo>
                    <a:pt x="2234" y="733"/>
                  </a:lnTo>
                  <a:lnTo>
                    <a:pt x="2237" y="767"/>
                  </a:lnTo>
                  <a:lnTo>
                    <a:pt x="2237" y="803"/>
                  </a:lnTo>
                  <a:lnTo>
                    <a:pt x="2226" y="823"/>
                  </a:lnTo>
                  <a:lnTo>
                    <a:pt x="2218" y="834"/>
                  </a:lnTo>
                  <a:lnTo>
                    <a:pt x="2215" y="842"/>
                  </a:lnTo>
                  <a:lnTo>
                    <a:pt x="2213" y="854"/>
                  </a:lnTo>
                  <a:lnTo>
                    <a:pt x="2245" y="871"/>
                  </a:lnTo>
                  <a:lnTo>
                    <a:pt x="2274" y="890"/>
                  </a:lnTo>
                  <a:lnTo>
                    <a:pt x="2290" y="904"/>
                  </a:lnTo>
                  <a:lnTo>
                    <a:pt x="2300" y="918"/>
                  </a:lnTo>
                  <a:lnTo>
                    <a:pt x="2311" y="938"/>
                  </a:lnTo>
                  <a:lnTo>
                    <a:pt x="2322" y="960"/>
                  </a:lnTo>
                  <a:lnTo>
                    <a:pt x="2322" y="994"/>
                  </a:lnTo>
                  <a:lnTo>
                    <a:pt x="2319" y="1031"/>
                  </a:lnTo>
                  <a:lnTo>
                    <a:pt x="2314" y="1070"/>
                  </a:lnTo>
                  <a:lnTo>
                    <a:pt x="2300" y="1104"/>
                  </a:lnTo>
                  <a:lnTo>
                    <a:pt x="2293" y="1120"/>
                  </a:lnTo>
                  <a:lnTo>
                    <a:pt x="2285" y="1137"/>
                  </a:lnTo>
                  <a:lnTo>
                    <a:pt x="2274" y="1154"/>
                  </a:lnTo>
                  <a:lnTo>
                    <a:pt x="2263" y="1168"/>
                  </a:lnTo>
                  <a:lnTo>
                    <a:pt x="2250" y="1179"/>
                  </a:lnTo>
                  <a:lnTo>
                    <a:pt x="2237" y="1191"/>
                  </a:lnTo>
                  <a:lnTo>
                    <a:pt x="2221" y="1199"/>
                  </a:lnTo>
                  <a:lnTo>
                    <a:pt x="2202" y="1208"/>
                  </a:lnTo>
                  <a:lnTo>
                    <a:pt x="2208" y="1224"/>
                  </a:lnTo>
                  <a:lnTo>
                    <a:pt x="2215" y="1241"/>
                  </a:lnTo>
                  <a:lnTo>
                    <a:pt x="2229" y="1258"/>
                  </a:lnTo>
                  <a:lnTo>
                    <a:pt x="2239" y="1275"/>
                  </a:lnTo>
                  <a:lnTo>
                    <a:pt x="2250" y="1295"/>
                  </a:lnTo>
                  <a:lnTo>
                    <a:pt x="2261" y="1317"/>
                  </a:lnTo>
                  <a:lnTo>
                    <a:pt x="2266" y="1340"/>
                  </a:lnTo>
                  <a:lnTo>
                    <a:pt x="2269" y="1370"/>
                  </a:lnTo>
                  <a:lnTo>
                    <a:pt x="2255" y="1396"/>
                  </a:lnTo>
                  <a:lnTo>
                    <a:pt x="2242" y="1421"/>
                  </a:lnTo>
                  <a:lnTo>
                    <a:pt x="2223" y="1443"/>
                  </a:lnTo>
                  <a:lnTo>
                    <a:pt x="2205" y="1463"/>
                  </a:lnTo>
                  <a:lnTo>
                    <a:pt x="2184" y="1483"/>
                  </a:lnTo>
                  <a:lnTo>
                    <a:pt x="2160" y="1497"/>
                  </a:lnTo>
                  <a:lnTo>
                    <a:pt x="2136" y="1511"/>
                  </a:lnTo>
                  <a:lnTo>
                    <a:pt x="2112" y="1522"/>
                  </a:lnTo>
                  <a:lnTo>
                    <a:pt x="2085" y="1533"/>
                  </a:lnTo>
                  <a:lnTo>
                    <a:pt x="2059" y="1539"/>
                  </a:lnTo>
                  <a:lnTo>
                    <a:pt x="2032" y="1545"/>
                  </a:lnTo>
                  <a:lnTo>
                    <a:pt x="2006" y="1550"/>
                  </a:lnTo>
                  <a:lnTo>
                    <a:pt x="1976" y="1550"/>
                  </a:lnTo>
                  <a:lnTo>
                    <a:pt x="1950" y="1550"/>
                  </a:lnTo>
                  <a:lnTo>
                    <a:pt x="1921" y="1550"/>
                  </a:lnTo>
                  <a:lnTo>
                    <a:pt x="1894" y="1547"/>
                  </a:lnTo>
                  <a:lnTo>
                    <a:pt x="1883" y="1564"/>
                  </a:lnTo>
                  <a:lnTo>
                    <a:pt x="1870" y="1578"/>
                  </a:lnTo>
                  <a:lnTo>
                    <a:pt x="1860" y="1589"/>
                  </a:lnTo>
                  <a:lnTo>
                    <a:pt x="1849" y="1595"/>
                  </a:lnTo>
                  <a:lnTo>
                    <a:pt x="1822" y="1604"/>
                  </a:lnTo>
                  <a:lnTo>
                    <a:pt x="1783" y="1606"/>
                  </a:lnTo>
                  <a:lnTo>
                    <a:pt x="1780" y="1623"/>
                  </a:lnTo>
                  <a:lnTo>
                    <a:pt x="1775" y="1637"/>
                  </a:lnTo>
                  <a:lnTo>
                    <a:pt x="1772" y="1648"/>
                  </a:lnTo>
                  <a:lnTo>
                    <a:pt x="1767" y="1657"/>
                  </a:lnTo>
                  <a:lnTo>
                    <a:pt x="1759" y="1662"/>
                  </a:lnTo>
                  <a:lnTo>
                    <a:pt x="1748" y="1668"/>
                  </a:lnTo>
                  <a:lnTo>
                    <a:pt x="1735" y="1671"/>
                  </a:lnTo>
                  <a:lnTo>
                    <a:pt x="1719" y="1674"/>
                  </a:lnTo>
                  <a:lnTo>
                    <a:pt x="1713" y="1710"/>
                  </a:lnTo>
                  <a:lnTo>
                    <a:pt x="1703" y="1744"/>
                  </a:lnTo>
                  <a:lnTo>
                    <a:pt x="1698" y="1761"/>
                  </a:lnTo>
                  <a:lnTo>
                    <a:pt x="1690" y="1778"/>
                  </a:lnTo>
                  <a:lnTo>
                    <a:pt x="1682" y="1792"/>
                  </a:lnTo>
                  <a:lnTo>
                    <a:pt x="1671" y="1806"/>
                  </a:lnTo>
                  <a:lnTo>
                    <a:pt x="1658" y="1817"/>
                  </a:lnTo>
                  <a:lnTo>
                    <a:pt x="1647" y="1828"/>
                  </a:lnTo>
                  <a:lnTo>
                    <a:pt x="1634" y="1837"/>
                  </a:lnTo>
                  <a:lnTo>
                    <a:pt x="1618" y="1845"/>
                  </a:lnTo>
                  <a:lnTo>
                    <a:pt x="1602" y="1853"/>
                  </a:lnTo>
                  <a:lnTo>
                    <a:pt x="1583" y="1856"/>
                  </a:lnTo>
                  <a:lnTo>
                    <a:pt x="1565" y="1859"/>
                  </a:lnTo>
                  <a:lnTo>
                    <a:pt x="1543" y="1862"/>
                  </a:lnTo>
                  <a:lnTo>
                    <a:pt x="1514" y="1845"/>
                  </a:lnTo>
                  <a:lnTo>
                    <a:pt x="1496" y="1837"/>
                  </a:lnTo>
                  <a:lnTo>
                    <a:pt x="1496" y="1831"/>
                  </a:lnTo>
                  <a:lnTo>
                    <a:pt x="1496" y="1825"/>
                  </a:lnTo>
                  <a:lnTo>
                    <a:pt x="1488" y="1820"/>
                  </a:lnTo>
                  <a:lnTo>
                    <a:pt x="1485" y="1817"/>
                  </a:lnTo>
                  <a:lnTo>
                    <a:pt x="1482" y="1814"/>
                  </a:lnTo>
                  <a:lnTo>
                    <a:pt x="1480" y="1808"/>
                  </a:lnTo>
                  <a:lnTo>
                    <a:pt x="1472" y="1811"/>
                  </a:lnTo>
                  <a:lnTo>
                    <a:pt x="1461" y="1814"/>
                  </a:lnTo>
                  <a:lnTo>
                    <a:pt x="1456" y="1837"/>
                  </a:lnTo>
                  <a:lnTo>
                    <a:pt x="1451" y="1856"/>
                  </a:lnTo>
                  <a:lnTo>
                    <a:pt x="1445" y="1876"/>
                  </a:lnTo>
                  <a:lnTo>
                    <a:pt x="1445" y="1896"/>
                  </a:lnTo>
                  <a:lnTo>
                    <a:pt x="1445" y="1932"/>
                  </a:lnTo>
                  <a:lnTo>
                    <a:pt x="1448" y="1983"/>
                  </a:lnTo>
                  <a:lnTo>
                    <a:pt x="1472" y="1977"/>
                  </a:lnTo>
                  <a:lnTo>
                    <a:pt x="1490" y="1974"/>
                  </a:lnTo>
                  <a:lnTo>
                    <a:pt x="1509" y="1974"/>
                  </a:lnTo>
                  <a:lnTo>
                    <a:pt x="1525" y="1977"/>
                  </a:lnTo>
                  <a:lnTo>
                    <a:pt x="1538" y="1983"/>
                  </a:lnTo>
                  <a:lnTo>
                    <a:pt x="1551" y="1988"/>
                  </a:lnTo>
                  <a:lnTo>
                    <a:pt x="1562" y="1997"/>
                  </a:lnTo>
                  <a:lnTo>
                    <a:pt x="1573" y="2008"/>
                  </a:lnTo>
                  <a:lnTo>
                    <a:pt x="1613" y="2056"/>
                  </a:lnTo>
                  <a:lnTo>
                    <a:pt x="1655" y="2101"/>
                  </a:lnTo>
                  <a:lnTo>
                    <a:pt x="1676" y="2101"/>
                  </a:lnTo>
                  <a:lnTo>
                    <a:pt x="1698" y="2101"/>
                  </a:lnTo>
                  <a:lnTo>
                    <a:pt x="1713" y="2101"/>
                  </a:lnTo>
                  <a:lnTo>
                    <a:pt x="1727" y="2103"/>
                  </a:lnTo>
                  <a:lnTo>
                    <a:pt x="1740" y="2106"/>
                  </a:lnTo>
                  <a:lnTo>
                    <a:pt x="1751" y="2112"/>
                  </a:lnTo>
                  <a:lnTo>
                    <a:pt x="1761" y="2120"/>
                  </a:lnTo>
                  <a:lnTo>
                    <a:pt x="1769" y="2129"/>
                  </a:lnTo>
                  <a:lnTo>
                    <a:pt x="1801" y="2176"/>
                  </a:lnTo>
                  <a:lnTo>
                    <a:pt x="1844" y="2244"/>
                  </a:lnTo>
                  <a:lnTo>
                    <a:pt x="1878" y="2263"/>
                  </a:lnTo>
                  <a:lnTo>
                    <a:pt x="1923" y="2297"/>
                  </a:lnTo>
                  <a:lnTo>
                    <a:pt x="1971" y="2331"/>
                  </a:lnTo>
                  <a:lnTo>
                    <a:pt x="2011" y="2365"/>
                  </a:lnTo>
                  <a:lnTo>
                    <a:pt x="2016" y="2384"/>
                  </a:lnTo>
                  <a:lnTo>
                    <a:pt x="2019" y="2401"/>
                  </a:lnTo>
                  <a:lnTo>
                    <a:pt x="2016" y="2415"/>
                  </a:lnTo>
                  <a:lnTo>
                    <a:pt x="2011" y="2426"/>
                  </a:lnTo>
                  <a:lnTo>
                    <a:pt x="2000" y="2449"/>
                  </a:lnTo>
                  <a:lnTo>
                    <a:pt x="1990" y="2474"/>
                  </a:lnTo>
                  <a:lnTo>
                    <a:pt x="1995" y="2474"/>
                  </a:lnTo>
                  <a:lnTo>
                    <a:pt x="2000" y="2474"/>
                  </a:lnTo>
                  <a:lnTo>
                    <a:pt x="2019" y="2505"/>
                  </a:lnTo>
                  <a:lnTo>
                    <a:pt x="2045" y="2539"/>
                  </a:lnTo>
                  <a:lnTo>
                    <a:pt x="2043" y="2553"/>
                  </a:lnTo>
                  <a:lnTo>
                    <a:pt x="2035" y="2570"/>
                  </a:lnTo>
                  <a:lnTo>
                    <a:pt x="2027" y="2586"/>
                  </a:lnTo>
                  <a:lnTo>
                    <a:pt x="2016" y="2600"/>
                  </a:lnTo>
                  <a:lnTo>
                    <a:pt x="1990" y="2631"/>
                  </a:lnTo>
                  <a:lnTo>
                    <a:pt x="1958" y="2657"/>
                  </a:lnTo>
                  <a:lnTo>
                    <a:pt x="1891" y="2707"/>
                  </a:lnTo>
                  <a:lnTo>
                    <a:pt x="1830" y="2744"/>
                  </a:lnTo>
                  <a:lnTo>
                    <a:pt x="1870" y="2831"/>
                  </a:lnTo>
                  <a:lnTo>
                    <a:pt x="1910" y="2923"/>
                  </a:lnTo>
                  <a:lnTo>
                    <a:pt x="1947" y="3019"/>
                  </a:lnTo>
                  <a:lnTo>
                    <a:pt x="1984" y="3120"/>
                  </a:lnTo>
                  <a:lnTo>
                    <a:pt x="2000" y="3170"/>
                  </a:lnTo>
                  <a:lnTo>
                    <a:pt x="2016" y="3221"/>
                  </a:lnTo>
                  <a:lnTo>
                    <a:pt x="2030" y="3274"/>
                  </a:lnTo>
                  <a:lnTo>
                    <a:pt x="2040" y="3325"/>
                  </a:lnTo>
                  <a:lnTo>
                    <a:pt x="2048" y="3375"/>
                  </a:lnTo>
                  <a:lnTo>
                    <a:pt x="2056" y="3423"/>
                  </a:lnTo>
                  <a:lnTo>
                    <a:pt x="2061" y="3474"/>
                  </a:lnTo>
                  <a:lnTo>
                    <a:pt x="2061" y="3521"/>
                  </a:lnTo>
                  <a:lnTo>
                    <a:pt x="2045" y="3541"/>
                  </a:lnTo>
                  <a:lnTo>
                    <a:pt x="2024" y="3558"/>
                  </a:lnTo>
                  <a:lnTo>
                    <a:pt x="2000" y="3575"/>
                  </a:lnTo>
                  <a:lnTo>
                    <a:pt x="1976" y="3589"/>
                  </a:lnTo>
                  <a:lnTo>
                    <a:pt x="1950" y="3600"/>
                  </a:lnTo>
                  <a:lnTo>
                    <a:pt x="1921" y="3611"/>
                  </a:lnTo>
                  <a:lnTo>
                    <a:pt x="1891" y="3620"/>
                  </a:lnTo>
                  <a:lnTo>
                    <a:pt x="1860" y="3625"/>
                  </a:lnTo>
                  <a:lnTo>
                    <a:pt x="1798" y="3637"/>
                  </a:lnTo>
                  <a:lnTo>
                    <a:pt x="1737" y="3645"/>
                  </a:lnTo>
                  <a:lnTo>
                    <a:pt x="1682" y="3651"/>
                  </a:lnTo>
                  <a:lnTo>
                    <a:pt x="1634" y="3656"/>
                  </a:lnTo>
                  <a:lnTo>
                    <a:pt x="1636" y="3676"/>
                  </a:lnTo>
                  <a:lnTo>
                    <a:pt x="1636" y="3687"/>
                  </a:lnTo>
                  <a:lnTo>
                    <a:pt x="1639" y="3693"/>
                  </a:lnTo>
                  <a:lnTo>
                    <a:pt x="1644" y="3696"/>
                  </a:lnTo>
                  <a:lnTo>
                    <a:pt x="1698" y="3696"/>
                  </a:lnTo>
                  <a:lnTo>
                    <a:pt x="1759" y="3698"/>
                  </a:lnTo>
                  <a:lnTo>
                    <a:pt x="1775" y="3698"/>
                  </a:lnTo>
                  <a:lnTo>
                    <a:pt x="1788" y="3704"/>
                  </a:lnTo>
                  <a:lnTo>
                    <a:pt x="1801" y="3710"/>
                  </a:lnTo>
                  <a:lnTo>
                    <a:pt x="1814" y="3715"/>
                  </a:lnTo>
                  <a:lnTo>
                    <a:pt x="1825" y="3724"/>
                  </a:lnTo>
                  <a:lnTo>
                    <a:pt x="1836" y="3735"/>
                  </a:lnTo>
                  <a:lnTo>
                    <a:pt x="1844" y="3746"/>
                  </a:lnTo>
                  <a:lnTo>
                    <a:pt x="1849" y="3763"/>
                  </a:lnTo>
                  <a:lnTo>
                    <a:pt x="1846" y="3825"/>
                  </a:lnTo>
                  <a:lnTo>
                    <a:pt x="1841" y="3887"/>
                  </a:lnTo>
                  <a:lnTo>
                    <a:pt x="1836" y="3951"/>
                  </a:lnTo>
                  <a:lnTo>
                    <a:pt x="1825" y="4016"/>
                  </a:lnTo>
                  <a:lnTo>
                    <a:pt x="1889" y="4016"/>
                  </a:lnTo>
                  <a:lnTo>
                    <a:pt x="1953" y="4016"/>
                  </a:lnTo>
                  <a:lnTo>
                    <a:pt x="2016" y="4016"/>
                  </a:lnTo>
                  <a:lnTo>
                    <a:pt x="2080" y="4016"/>
                  </a:lnTo>
                  <a:lnTo>
                    <a:pt x="2080" y="4021"/>
                  </a:lnTo>
                  <a:lnTo>
                    <a:pt x="2080" y="4027"/>
                  </a:lnTo>
                  <a:lnTo>
                    <a:pt x="2051" y="4027"/>
                  </a:lnTo>
                  <a:lnTo>
                    <a:pt x="2022" y="4027"/>
                  </a:lnTo>
                  <a:lnTo>
                    <a:pt x="2022" y="4033"/>
                  </a:lnTo>
                  <a:lnTo>
                    <a:pt x="2022" y="4038"/>
                  </a:lnTo>
                  <a:lnTo>
                    <a:pt x="2061" y="4038"/>
                  </a:lnTo>
                  <a:lnTo>
                    <a:pt x="2101" y="4038"/>
                  </a:lnTo>
                  <a:lnTo>
                    <a:pt x="2101" y="4030"/>
                  </a:lnTo>
                  <a:lnTo>
                    <a:pt x="2101" y="4021"/>
                  </a:lnTo>
                  <a:lnTo>
                    <a:pt x="2138" y="4021"/>
                  </a:lnTo>
                  <a:lnTo>
                    <a:pt x="2173" y="4024"/>
                  </a:lnTo>
                  <a:lnTo>
                    <a:pt x="2210" y="4024"/>
                  </a:lnTo>
                  <a:lnTo>
                    <a:pt x="2245" y="4027"/>
                  </a:lnTo>
                  <a:lnTo>
                    <a:pt x="2245" y="4033"/>
                  </a:lnTo>
                  <a:lnTo>
                    <a:pt x="2245" y="4038"/>
                  </a:lnTo>
                  <a:lnTo>
                    <a:pt x="2205" y="4038"/>
                  </a:lnTo>
                  <a:lnTo>
                    <a:pt x="2165" y="4038"/>
                  </a:lnTo>
                  <a:lnTo>
                    <a:pt x="2165" y="4047"/>
                  </a:lnTo>
                  <a:lnTo>
                    <a:pt x="2165" y="4055"/>
                  </a:lnTo>
                  <a:lnTo>
                    <a:pt x="2160" y="4055"/>
                  </a:lnTo>
                  <a:lnTo>
                    <a:pt x="2154" y="4055"/>
                  </a:lnTo>
                  <a:lnTo>
                    <a:pt x="2154" y="4063"/>
                  </a:lnTo>
                  <a:lnTo>
                    <a:pt x="2154" y="4072"/>
                  </a:lnTo>
                  <a:lnTo>
                    <a:pt x="2141" y="4069"/>
                  </a:lnTo>
                  <a:lnTo>
                    <a:pt x="2120" y="4069"/>
                  </a:lnTo>
                  <a:lnTo>
                    <a:pt x="2093" y="4069"/>
                  </a:lnTo>
                  <a:lnTo>
                    <a:pt x="2056" y="4069"/>
                  </a:lnTo>
                  <a:lnTo>
                    <a:pt x="2003" y="4069"/>
                  </a:lnTo>
                  <a:lnTo>
                    <a:pt x="1939" y="4066"/>
                  </a:lnTo>
                  <a:lnTo>
                    <a:pt x="1854" y="4063"/>
                  </a:lnTo>
                  <a:lnTo>
                    <a:pt x="1751" y="4061"/>
                  </a:lnTo>
                  <a:lnTo>
                    <a:pt x="1751" y="4055"/>
                  </a:lnTo>
                  <a:lnTo>
                    <a:pt x="1751" y="4049"/>
                  </a:lnTo>
                  <a:lnTo>
                    <a:pt x="1737" y="4044"/>
                  </a:lnTo>
                  <a:lnTo>
                    <a:pt x="1724" y="4041"/>
                  </a:lnTo>
                  <a:lnTo>
                    <a:pt x="1721" y="4033"/>
                  </a:lnTo>
                  <a:lnTo>
                    <a:pt x="1719" y="4027"/>
                  </a:lnTo>
                  <a:lnTo>
                    <a:pt x="1745" y="4021"/>
                  </a:lnTo>
                  <a:lnTo>
                    <a:pt x="1772" y="4016"/>
                  </a:lnTo>
                  <a:lnTo>
                    <a:pt x="1775" y="4004"/>
                  </a:lnTo>
                  <a:lnTo>
                    <a:pt x="1775" y="3996"/>
                  </a:lnTo>
                  <a:lnTo>
                    <a:pt x="1772" y="3988"/>
                  </a:lnTo>
                  <a:lnTo>
                    <a:pt x="1767" y="3976"/>
                  </a:lnTo>
                  <a:lnTo>
                    <a:pt x="1684" y="4024"/>
                  </a:lnTo>
                  <a:lnTo>
                    <a:pt x="1615" y="4063"/>
                  </a:lnTo>
                  <a:lnTo>
                    <a:pt x="1581" y="4080"/>
                  </a:lnTo>
                  <a:lnTo>
                    <a:pt x="1543" y="4092"/>
                  </a:lnTo>
                  <a:lnTo>
                    <a:pt x="1522" y="4094"/>
                  </a:lnTo>
                  <a:lnTo>
                    <a:pt x="1501" y="4100"/>
                  </a:lnTo>
                  <a:lnTo>
                    <a:pt x="1474" y="4100"/>
                  </a:lnTo>
                  <a:lnTo>
                    <a:pt x="1448" y="4100"/>
                  </a:lnTo>
                  <a:close/>
                  <a:moveTo>
                    <a:pt x="2080" y="4058"/>
                  </a:moveTo>
                  <a:lnTo>
                    <a:pt x="2115" y="4055"/>
                  </a:lnTo>
                  <a:lnTo>
                    <a:pt x="2149" y="4055"/>
                  </a:lnTo>
                  <a:lnTo>
                    <a:pt x="2112" y="4052"/>
                  </a:lnTo>
                  <a:lnTo>
                    <a:pt x="2093" y="4052"/>
                  </a:lnTo>
                  <a:lnTo>
                    <a:pt x="2085" y="4052"/>
                  </a:lnTo>
                  <a:lnTo>
                    <a:pt x="2080" y="4058"/>
                  </a:lnTo>
                  <a:close/>
                  <a:moveTo>
                    <a:pt x="2133" y="4041"/>
                  </a:moveTo>
                  <a:lnTo>
                    <a:pt x="2146" y="4041"/>
                  </a:lnTo>
                  <a:lnTo>
                    <a:pt x="2160" y="4044"/>
                  </a:lnTo>
                  <a:lnTo>
                    <a:pt x="2160" y="4038"/>
                  </a:lnTo>
                  <a:lnTo>
                    <a:pt x="2160" y="4033"/>
                  </a:lnTo>
                  <a:lnTo>
                    <a:pt x="2133" y="4033"/>
                  </a:lnTo>
                  <a:lnTo>
                    <a:pt x="2107" y="4033"/>
                  </a:lnTo>
                  <a:lnTo>
                    <a:pt x="2120" y="4035"/>
                  </a:lnTo>
                  <a:lnTo>
                    <a:pt x="2133" y="4041"/>
                  </a:lnTo>
                  <a:close/>
                  <a:moveTo>
                    <a:pt x="1995" y="4055"/>
                  </a:moveTo>
                  <a:lnTo>
                    <a:pt x="2035" y="4052"/>
                  </a:lnTo>
                  <a:lnTo>
                    <a:pt x="2072" y="4049"/>
                  </a:lnTo>
                  <a:lnTo>
                    <a:pt x="2035" y="4047"/>
                  </a:lnTo>
                  <a:lnTo>
                    <a:pt x="1995" y="4044"/>
                  </a:lnTo>
                  <a:lnTo>
                    <a:pt x="1995" y="4049"/>
                  </a:lnTo>
                  <a:lnTo>
                    <a:pt x="1995" y="4055"/>
                  </a:lnTo>
                  <a:close/>
                  <a:moveTo>
                    <a:pt x="1921" y="4049"/>
                  </a:moveTo>
                  <a:lnTo>
                    <a:pt x="1950" y="4047"/>
                  </a:lnTo>
                  <a:lnTo>
                    <a:pt x="1979" y="4047"/>
                  </a:lnTo>
                  <a:lnTo>
                    <a:pt x="1950" y="4041"/>
                  </a:lnTo>
                  <a:lnTo>
                    <a:pt x="1921" y="4038"/>
                  </a:lnTo>
                  <a:lnTo>
                    <a:pt x="1921" y="4044"/>
                  </a:lnTo>
                  <a:lnTo>
                    <a:pt x="1921" y="4049"/>
                  </a:lnTo>
                  <a:close/>
                  <a:moveTo>
                    <a:pt x="1358" y="4027"/>
                  </a:moveTo>
                  <a:lnTo>
                    <a:pt x="1376" y="4024"/>
                  </a:lnTo>
                  <a:lnTo>
                    <a:pt x="1392" y="4021"/>
                  </a:lnTo>
                  <a:lnTo>
                    <a:pt x="1397" y="4013"/>
                  </a:lnTo>
                  <a:lnTo>
                    <a:pt x="1400" y="4004"/>
                  </a:lnTo>
                  <a:lnTo>
                    <a:pt x="1381" y="4007"/>
                  </a:lnTo>
                  <a:lnTo>
                    <a:pt x="1363" y="4013"/>
                  </a:lnTo>
                  <a:lnTo>
                    <a:pt x="1360" y="4019"/>
                  </a:lnTo>
                  <a:lnTo>
                    <a:pt x="1358" y="4027"/>
                  </a:lnTo>
                  <a:close/>
                  <a:moveTo>
                    <a:pt x="1517" y="3693"/>
                  </a:moveTo>
                  <a:lnTo>
                    <a:pt x="1522" y="3690"/>
                  </a:lnTo>
                  <a:lnTo>
                    <a:pt x="1525" y="3690"/>
                  </a:lnTo>
                  <a:lnTo>
                    <a:pt x="1522" y="3676"/>
                  </a:lnTo>
                  <a:lnTo>
                    <a:pt x="1520" y="3662"/>
                  </a:lnTo>
                  <a:lnTo>
                    <a:pt x="1482" y="3659"/>
                  </a:lnTo>
                  <a:lnTo>
                    <a:pt x="1443" y="3656"/>
                  </a:lnTo>
                  <a:lnTo>
                    <a:pt x="1443" y="3668"/>
                  </a:lnTo>
                  <a:lnTo>
                    <a:pt x="1443" y="3679"/>
                  </a:lnTo>
                  <a:lnTo>
                    <a:pt x="1480" y="3684"/>
                  </a:lnTo>
                  <a:lnTo>
                    <a:pt x="1517" y="36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48680" y="6219720"/>
              <a:ext cx="691920" cy="584280"/>
            </a:xfrm>
            <a:custGeom>
              <a:avLst/>
              <a:gdLst/>
              <a:ahLst/>
              <a:rect l="l" t="t" r="r" b="b"/>
              <a:pathLst>
                <a:path w="436" h="368">
                  <a:moveTo>
                    <a:pt x="43" y="368"/>
                  </a:moveTo>
                  <a:lnTo>
                    <a:pt x="27" y="365"/>
                  </a:lnTo>
                  <a:lnTo>
                    <a:pt x="11" y="365"/>
                  </a:lnTo>
                  <a:lnTo>
                    <a:pt x="11" y="357"/>
                  </a:lnTo>
                  <a:lnTo>
                    <a:pt x="11" y="349"/>
                  </a:lnTo>
                  <a:lnTo>
                    <a:pt x="5" y="349"/>
                  </a:lnTo>
                  <a:lnTo>
                    <a:pt x="0" y="349"/>
                  </a:lnTo>
                  <a:lnTo>
                    <a:pt x="3" y="332"/>
                  </a:lnTo>
                  <a:lnTo>
                    <a:pt x="8" y="312"/>
                  </a:lnTo>
                  <a:lnTo>
                    <a:pt x="16" y="290"/>
                  </a:lnTo>
                  <a:lnTo>
                    <a:pt x="24" y="267"/>
                  </a:lnTo>
                  <a:lnTo>
                    <a:pt x="45" y="219"/>
                  </a:lnTo>
                  <a:lnTo>
                    <a:pt x="72" y="169"/>
                  </a:lnTo>
                  <a:lnTo>
                    <a:pt x="88" y="146"/>
                  </a:lnTo>
                  <a:lnTo>
                    <a:pt x="104" y="124"/>
                  </a:lnTo>
                  <a:lnTo>
                    <a:pt x="120" y="104"/>
                  </a:lnTo>
                  <a:lnTo>
                    <a:pt x="136" y="87"/>
                  </a:lnTo>
                  <a:lnTo>
                    <a:pt x="154" y="73"/>
                  </a:lnTo>
                  <a:lnTo>
                    <a:pt x="170" y="62"/>
                  </a:lnTo>
                  <a:lnTo>
                    <a:pt x="186" y="54"/>
                  </a:lnTo>
                  <a:lnTo>
                    <a:pt x="202" y="51"/>
                  </a:lnTo>
                  <a:lnTo>
                    <a:pt x="197" y="65"/>
                  </a:lnTo>
                  <a:lnTo>
                    <a:pt x="189" y="82"/>
                  </a:lnTo>
                  <a:lnTo>
                    <a:pt x="178" y="96"/>
                  </a:lnTo>
                  <a:lnTo>
                    <a:pt x="165" y="110"/>
                  </a:lnTo>
                  <a:lnTo>
                    <a:pt x="138" y="141"/>
                  </a:lnTo>
                  <a:lnTo>
                    <a:pt x="109" y="175"/>
                  </a:lnTo>
                  <a:lnTo>
                    <a:pt x="96" y="191"/>
                  </a:lnTo>
                  <a:lnTo>
                    <a:pt x="82" y="208"/>
                  </a:lnTo>
                  <a:lnTo>
                    <a:pt x="72" y="225"/>
                  </a:lnTo>
                  <a:lnTo>
                    <a:pt x="61" y="242"/>
                  </a:lnTo>
                  <a:lnTo>
                    <a:pt x="53" y="259"/>
                  </a:lnTo>
                  <a:lnTo>
                    <a:pt x="48" y="278"/>
                  </a:lnTo>
                  <a:lnTo>
                    <a:pt x="48" y="298"/>
                  </a:lnTo>
                  <a:lnTo>
                    <a:pt x="48" y="321"/>
                  </a:lnTo>
                  <a:lnTo>
                    <a:pt x="85" y="301"/>
                  </a:lnTo>
                  <a:lnTo>
                    <a:pt x="133" y="273"/>
                  </a:lnTo>
                  <a:lnTo>
                    <a:pt x="189" y="239"/>
                  </a:lnTo>
                  <a:lnTo>
                    <a:pt x="244" y="200"/>
                  </a:lnTo>
                  <a:lnTo>
                    <a:pt x="271" y="177"/>
                  </a:lnTo>
                  <a:lnTo>
                    <a:pt x="295" y="158"/>
                  </a:lnTo>
                  <a:lnTo>
                    <a:pt x="319" y="135"/>
                  </a:lnTo>
                  <a:lnTo>
                    <a:pt x="337" y="113"/>
                  </a:lnTo>
                  <a:lnTo>
                    <a:pt x="353" y="90"/>
                  </a:lnTo>
                  <a:lnTo>
                    <a:pt x="364" y="68"/>
                  </a:lnTo>
                  <a:lnTo>
                    <a:pt x="369" y="57"/>
                  </a:lnTo>
                  <a:lnTo>
                    <a:pt x="372" y="45"/>
                  </a:lnTo>
                  <a:lnTo>
                    <a:pt x="372" y="34"/>
                  </a:lnTo>
                  <a:lnTo>
                    <a:pt x="372" y="26"/>
                  </a:lnTo>
                  <a:lnTo>
                    <a:pt x="367" y="20"/>
                  </a:lnTo>
                  <a:lnTo>
                    <a:pt x="356" y="17"/>
                  </a:lnTo>
                  <a:lnTo>
                    <a:pt x="335" y="14"/>
                  </a:lnTo>
                  <a:lnTo>
                    <a:pt x="295" y="12"/>
                  </a:lnTo>
                  <a:lnTo>
                    <a:pt x="295" y="6"/>
                  </a:lnTo>
                  <a:lnTo>
                    <a:pt x="292" y="0"/>
                  </a:lnTo>
                  <a:lnTo>
                    <a:pt x="340" y="3"/>
                  </a:lnTo>
                  <a:lnTo>
                    <a:pt x="367" y="9"/>
                  </a:lnTo>
                  <a:lnTo>
                    <a:pt x="388" y="12"/>
                  </a:lnTo>
                  <a:lnTo>
                    <a:pt x="409" y="17"/>
                  </a:lnTo>
                  <a:lnTo>
                    <a:pt x="417" y="29"/>
                  </a:lnTo>
                  <a:lnTo>
                    <a:pt x="422" y="40"/>
                  </a:lnTo>
                  <a:lnTo>
                    <a:pt x="428" y="54"/>
                  </a:lnTo>
                  <a:lnTo>
                    <a:pt x="430" y="71"/>
                  </a:lnTo>
                  <a:lnTo>
                    <a:pt x="436" y="104"/>
                  </a:lnTo>
                  <a:lnTo>
                    <a:pt x="433" y="144"/>
                  </a:lnTo>
                  <a:lnTo>
                    <a:pt x="430" y="180"/>
                  </a:lnTo>
                  <a:lnTo>
                    <a:pt x="425" y="219"/>
                  </a:lnTo>
                  <a:lnTo>
                    <a:pt x="420" y="256"/>
                  </a:lnTo>
                  <a:lnTo>
                    <a:pt x="412" y="287"/>
                  </a:lnTo>
                  <a:lnTo>
                    <a:pt x="404" y="292"/>
                  </a:lnTo>
                  <a:lnTo>
                    <a:pt x="393" y="298"/>
                  </a:lnTo>
                  <a:lnTo>
                    <a:pt x="383" y="270"/>
                  </a:lnTo>
                  <a:lnTo>
                    <a:pt x="372" y="242"/>
                  </a:lnTo>
                  <a:lnTo>
                    <a:pt x="361" y="242"/>
                  </a:lnTo>
                  <a:lnTo>
                    <a:pt x="351" y="245"/>
                  </a:lnTo>
                  <a:lnTo>
                    <a:pt x="313" y="278"/>
                  </a:lnTo>
                  <a:lnTo>
                    <a:pt x="276" y="307"/>
                  </a:lnTo>
                  <a:lnTo>
                    <a:pt x="242" y="329"/>
                  </a:lnTo>
                  <a:lnTo>
                    <a:pt x="207" y="343"/>
                  </a:lnTo>
                  <a:lnTo>
                    <a:pt x="173" y="354"/>
                  </a:lnTo>
                  <a:lnTo>
                    <a:pt x="133" y="363"/>
                  </a:lnTo>
                  <a:lnTo>
                    <a:pt x="90" y="365"/>
                  </a:lnTo>
                  <a:lnTo>
                    <a:pt x="43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42200" y="6724800"/>
              <a:ext cx="84240" cy="1440"/>
            </a:xfrm>
            <a:custGeom>
              <a:avLst/>
              <a:gdLst/>
              <a:ahLst/>
              <a:rect l="l" t="t" r="r" b="b"/>
              <a:pathLst>
                <a:path w="53" h="0">
                  <a:moveTo>
                    <a:pt x="0" y="0"/>
                  </a:moveTo>
                  <a:lnTo>
                    <a:pt x="27" y="0"/>
                  </a:lnTo>
                  <a:lnTo>
                    <a:pt x="53" y="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13440" y="6202440"/>
              <a:ext cx="692280" cy="495360"/>
            </a:xfrm>
            <a:custGeom>
              <a:avLst/>
              <a:gdLst/>
              <a:ahLst/>
              <a:rect l="l" t="t" r="r" b="b"/>
              <a:pathLst>
                <a:path w="436" h="312">
                  <a:moveTo>
                    <a:pt x="64" y="312"/>
                  </a:moveTo>
                  <a:lnTo>
                    <a:pt x="32" y="301"/>
                  </a:lnTo>
                  <a:lnTo>
                    <a:pt x="0" y="292"/>
                  </a:lnTo>
                  <a:lnTo>
                    <a:pt x="3" y="275"/>
                  </a:lnTo>
                  <a:lnTo>
                    <a:pt x="8" y="259"/>
                  </a:lnTo>
                  <a:lnTo>
                    <a:pt x="19" y="236"/>
                  </a:lnTo>
                  <a:lnTo>
                    <a:pt x="30" y="216"/>
                  </a:lnTo>
                  <a:lnTo>
                    <a:pt x="59" y="169"/>
                  </a:lnTo>
                  <a:lnTo>
                    <a:pt x="96" y="124"/>
                  </a:lnTo>
                  <a:lnTo>
                    <a:pt x="136" y="79"/>
                  </a:lnTo>
                  <a:lnTo>
                    <a:pt x="178" y="42"/>
                  </a:lnTo>
                  <a:lnTo>
                    <a:pt x="197" y="28"/>
                  </a:lnTo>
                  <a:lnTo>
                    <a:pt x="216" y="17"/>
                  </a:lnTo>
                  <a:lnTo>
                    <a:pt x="232" y="9"/>
                  </a:lnTo>
                  <a:lnTo>
                    <a:pt x="247" y="6"/>
                  </a:lnTo>
                  <a:lnTo>
                    <a:pt x="240" y="20"/>
                  </a:lnTo>
                  <a:lnTo>
                    <a:pt x="218" y="45"/>
                  </a:lnTo>
                  <a:lnTo>
                    <a:pt x="189" y="79"/>
                  </a:lnTo>
                  <a:lnTo>
                    <a:pt x="155" y="118"/>
                  </a:lnTo>
                  <a:lnTo>
                    <a:pt x="85" y="194"/>
                  </a:lnTo>
                  <a:lnTo>
                    <a:pt x="43" y="242"/>
                  </a:lnTo>
                  <a:lnTo>
                    <a:pt x="46" y="253"/>
                  </a:lnTo>
                  <a:lnTo>
                    <a:pt x="48" y="264"/>
                  </a:lnTo>
                  <a:lnTo>
                    <a:pt x="123" y="233"/>
                  </a:lnTo>
                  <a:lnTo>
                    <a:pt x="242" y="177"/>
                  </a:lnTo>
                  <a:lnTo>
                    <a:pt x="271" y="160"/>
                  </a:lnTo>
                  <a:lnTo>
                    <a:pt x="301" y="143"/>
                  </a:lnTo>
                  <a:lnTo>
                    <a:pt x="327" y="127"/>
                  </a:lnTo>
                  <a:lnTo>
                    <a:pt x="351" y="110"/>
                  </a:lnTo>
                  <a:lnTo>
                    <a:pt x="370" y="93"/>
                  </a:lnTo>
                  <a:lnTo>
                    <a:pt x="386" y="76"/>
                  </a:lnTo>
                  <a:lnTo>
                    <a:pt x="391" y="68"/>
                  </a:lnTo>
                  <a:lnTo>
                    <a:pt x="396" y="59"/>
                  </a:lnTo>
                  <a:lnTo>
                    <a:pt x="399" y="51"/>
                  </a:lnTo>
                  <a:lnTo>
                    <a:pt x="399" y="45"/>
                  </a:lnTo>
                  <a:lnTo>
                    <a:pt x="383" y="34"/>
                  </a:lnTo>
                  <a:lnTo>
                    <a:pt x="370" y="25"/>
                  </a:lnTo>
                  <a:lnTo>
                    <a:pt x="359" y="23"/>
                  </a:lnTo>
                  <a:lnTo>
                    <a:pt x="343" y="17"/>
                  </a:lnTo>
                  <a:lnTo>
                    <a:pt x="343" y="9"/>
                  </a:lnTo>
                  <a:lnTo>
                    <a:pt x="343" y="0"/>
                  </a:lnTo>
                  <a:lnTo>
                    <a:pt x="367" y="6"/>
                  </a:lnTo>
                  <a:lnTo>
                    <a:pt x="391" y="14"/>
                  </a:lnTo>
                  <a:lnTo>
                    <a:pt x="412" y="20"/>
                  </a:lnTo>
                  <a:lnTo>
                    <a:pt x="436" y="28"/>
                  </a:lnTo>
                  <a:lnTo>
                    <a:pt x="431" y="42"/>
                  </a:lnTo>
                  <a:lnTo>
                    <a:pt x="415" y="70"/>
                  </a:lnTo>
                  <a:lnTo>
                    <a:pt x="394" y="107"/>
                  </a:lnTo>
                  <a:lnTo>
                    <a:pt x="367" y="146"/>
                  </a:lnTo>
                  <a:lnTo>
                    <a:pt x="314" y="222"/>
                  </a:lnTo>
                  <a:lnTo>
                    <a:pt x="279" y="278"/>
                  </a:lnTo>
                  <a:lnTo>
                    <a:pt x="224" y="292"/>
                  </a:lnTo>
                  <a:lnTo>
                    <a:pt x="168" y="303"/>
                  </a:lnTo>
                  <a:lnTo>
                    <a:pt x="115" y="309"/>
                  </a:lnTo>
                  <a:lnTo>
                    <a:pt x="64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0480" y="6167520"/>
              <a:ext cx="468360" cy="525240"/>
            </a:xfrm>
            <a:custGeom>
              <a:avLst/>
              <a:gdLst/>
              <a:ahLst/>
              <a:rect l="l" t="t" r="r" b="b"/>
              <a:pathLst>
                <a:path w="295" h="331">
                  <a:moveTo>
                    <a:pt x="0" y="331"/>
                  </a:moveTo>
                  <a:lnTo>
                    <a:pt x="6" y="311"/>
                  </a:lnTo>
                  <a:lnTo>
                    <a:pt x="14" y="295"/>
                  </a:lnTo>
                  <a:lnTo>
                    <a:pt x="24" y="275"/>
                  </a:lnTo>
                  <a:lnTo>
                    <a:pt x="35" y="258"/>
                  </a:lnTo>
                  <a:lnTo>
                    <a:pt x="59" y="222"/>
                  </a:lnTo>
                  <a:lnTo>
                    <a:pt x="88" y="188"/>
                  </a:lnTo>
                  <a:lnTo>
                    <a:pt x="115" y="160"/>
                  </a:lnTo>
                  <a:lnTo>
                    <a:pt x="139" y="129"/>
                  </a:lnTo>
                  <a:lnTo>
                    <a:pt x="147" y="118"/>
                  </a:lnTo>
                  <a:lnTo>
                    <a:pt x="155" y="104"/>
                  </a:lnTo>
                  <a:lnTo>
                    <a:pt x="160" y="92"/>
                  </a:lnTo>
                  <a:lnTo>
                    <a:pt x="163" y="84"/>
                  </a:lnTo>
                  <a:lnTo>
                    <a:pt x="141" y="64"/>
                  </a:lnTo>
                  <a:lnTo>
                    <a:pt x="128" y="62"/>
                  </a:lnTo>
                  <a:lnTo>
                    <a:pt x="128" y="56"/>
                  </a:lnTo>
                  <a:lnTo>
                    <a:pt x="128" y="50"/>
                  </a:lnTo>
                  <a:lnTo>
                    <a:pt x="112" y="36"/>
                  </a:lnTo>
                  <a:lnTo>
                    <a:pt x="96" y="28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128" y="3"/>
                  </a:lnTo>
                  <a:lnTo>
                    <a:pt x="160" y="0"/>
                  </a:lnTo>
                  <a:lnTo>
                    <a:pt x="173" y="28"/>
                  </a:lnTo>
                  <a:lnTo>
                    <a:pt x="186" y="56"/>
                  </a:lnTo>
                  <a:lnTo>
                    <a:pt x="213" y="59"/>
                  </a:lnTo>
                  <a:lnTo>
                    <a:pt x="242" y="64"/>
                  </a:lnTo>
                  <a:lnTo>
                    <a:pt x="269" y="67"/>
                  </a:lnTo>
                  <a:lnTo>
                    <a:pt x="295" y="73"/>
                  </a:lnTo>
                  <a:lnTo>
                    <a:pt x="293" y="90"/>
                  </a:lnTo>
                  <a:lnTo>
                    <a:pt x="287" y="106"/>
                  </a:lnTo>
                  <a:lnTo>
                    <a:pt x="274" y="126"/>
                  </a:lnTo>
                  <a:lnTo>
                    <a:pt x="261" y="146"/>
                  </a:lnTo>
                  <a:lnTo>
                    <a:pt x="242" y="165"/>
                  </a:lnTo>
                  <a:lnTo>
                    <a:pt x="221" y="185"/>
                  </a:lnTo>
                  <a:lnTo>
                    <a:pt x="200" y="202"/>
                  </a:lnTo>
                  <a:lnTo>
                    <a:pt x="176" y="222"/>
                  </a:lnTo>
                  <a:lnTo>
                    <a:pt x="125" y="258"/>
                  </a:lnTo>
                  <a:lnTo>
                    <a:pt x="78" y="289"/>
                  </a:lnTo>
                  <a:lnTo>
                    <a:pt x="35" y="314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6180120"/>
              <a:ext cx="468360" cy="396720"/>
            </a:xfrm>
            <a:custGeom>
              <a:avLst/>
              <a:gdLst/>
              <a:ahLst/>
              <a:rect l="l" t="t" r="r" b="b"/>
              <a:pathLst>
                <a:path w="295" h="250">
                  <a:moveTo>
                    <a:pt x="0" y="250"/>
                  </a:moveTo>
                  <a:lnTo>
                    <a:pt x="6" y="230"/>
                  </a:lnTo>
                  <a:lnTo>
                    <a:pt x="11" y="214"/>
                  </a:lnTo>
                  <a:lnTo>
                    <a:pt x="22" y="197"/>
                  </a:lnTo>
                  <a:lnTo>
                    <a:pt x="32" y="180"/>
                  </a:lnTo>
                  <a:lnTo>
                    <a:pt x="62" y="149"/>
                  </a:lnTo>
                  <a:lnTo>
                    <a:pt x="96" y="121"/>
                  </a:lnTo>
                  <a:lnTo>
                    <a:pt x="128" y="93"/>
                  </a:lnTo>
                  <a:lnTo>
                    <a:pt x="160" y="62"/>
                  </a:lnTo>
                  <a:lnTo>
                    <a:pt x="173" y="48"/>
                  </a:lnTo>
                  <a:lnTo>
                    <a:pt x="184" y="31"/>
                  </a:lnTo>
                  <a:lnTo>
                    <a:pt x="192" y="17"/>
                  </a:lnTo>
                  <a:lnTo>
                    <a:pt x="197" y="0"/>
                  </a:lnTo>
                  <a:lnTo>
                    <a:pt x="208" y="0"/>
                  </a:lnTo>
                  <a:lnTo>
                    <a:pt x="218" y="0"/>
                  </a:lnTo>
                  <a:lnTo>
                    <a:pt x="226" y="11"/>
                  </a:lnTo>
                  <a:lnTo>
                    <a:pt x="232" y="20"/>
                  </a:lnTo>
                  <a:lnTo>
                    <a:pt x="240" y="28"/>
                  </a:lnTo>
                  <a:lnTo>
                    <a:pt x="250" y="34"/>
                  </a:lnTo>
                  <a:lnTo>
                    <a:pt x="271" y="45"/>
                  </a:lnTo>
                  <a:lnTo>
                    <a:pt x="295" y="59"/>
                  </a:lnTo>
                  <a:lnTo>
                    <a:pt x="295" y="70"/>
                  </a:lnTo>
                  <a:lnTo>
                    <a:pt x="293" y="84"/>
                  </a:lnTo>
                  <a:lnTo>
                    <a:pt x="221" y="132"/>
                  </a:lnTo>
                  <a:lnTo>
                    <a:pt x="149" y="174"/>
                  </a:lnTo>
                  <a:lnTo>
                    <a:pt x="78" y="214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638600"/>
              <a:ext cx="1382760" cy="1462320"/>
            </a:xfrm>
            <a:custGeom>
              <a:avLst/>
              <a:gdLst/>
              <a:ahLst/>
              <a:rect l="l" t="t" r="r" b="b"/>
              <a:pathLst>
                <a:path w="871" h="921">
                  <a:moveTo>
                    <a:pt x="300" y="921"/>
                  </a:moveTo>
                  <a:lnTo>
                    <a:pt x="228" y="912"/>
                  </a:lnTo>
                  <a:lnTo>
                    <a:pt x="159" y="901"/>
                  </a:lnTo>
                  <a:lnTo>
                    <a:pt x="125" y="893"/>
                  </a:lnTo>
                  <a:lnTo>
                    <a:pt x="90" y="884"/>
                  </a:lnTo>
                  <a:lnTo>
                    <a:pt x="58" y="876"/>
                  </a:lnTo>
                  <a:lnTo>
                    <a:pt x="24" y="862"/>
                  </a:lnTo>
                  <a:lnTo>
                    <a:pt x="13" y="828"/>
                  </a:lnTo>
                  <a:lnTo>
                    <a:pt x="5" y="789"/>
                  </a:lnTo>
                  <a:lnTo>
                    <a:pt x="0" y="747"/>
                  </a:lnTo>
                  <a:lnTo>
                    <a:pt x="0" y="699"/>
                  </a:lnTo>
                  <a:lnTo>
                    <a:pt x="0" y="645"/>
                  </a:lnTo>
                  <a:lnTo>
                    <a:pt x="5" y="592"/>
                  </a:lnTo>
                  <a:lnTo>
                    <a:pt x="11" y="539"/>
                  </a:lnTo>
                  <a:lnTo>
                    <a:pt x="19" y="483"/>
                  </a:lnTo>
                  <a:lnTo>
                    <a:pt x="37" y="373"/>
                  </a:lnTo>
                  <a:lnTo>
                    <a:pt x="58" y="272"/>
                  </a:lnTo>
                  <a:lnTo>
                    <a:pt x="77" y="182"/>
                  </a:lnTo>
                  <a:lnTo>
                    <a:pt x="96" y="112"/>
                  </a:lnTo>
                  <a:lnTo>
                    <a:pt x="96" y="101"/>
                  </a:lnTo>
                  <a:lnTo>
                    <a:pt x="98" y="87"/>
                  </a:lnTo>
                  <a:lnTo>
                    <a:pt x="101" y="75"/>
                  </a:lnTo>
                  <a:lnTo>
                    <a:pt x="106" y="64"/>
                  </a:lnTo>
                  <a:lnTo>
                    <a:pt x="117" y="47"/>
                  </a:lnTo>
                  <a:lnTo>
                    <a:pt x="133" y="30"/>
                  </a:lnTo>
                  <a:lnTo>
                    <a:pt x="151" y="19"/>
                  </a:lnTo>
                  <a:lnTo>
                    <a:pt x="173" y="11"/>
                  </a:lnTo>
                  <a:lnTo>
                    <a:pt x="197" y="5"/>
                  </a:lnTo>
                  <a:lnTo>
                    <a:pt x="220" y="0"/>
                  </a:lnTo>
                  <a:lnTo>
                    <a:pt x="218" y="16"/>
                  </a:lnTo>
                  <a:lnTo>
                    <a:pt x="210" y="30"/>
                  </a:lnTo>
                  <a:lnTo>
                    <a:pt x="202" y="42"/>
                  </a:lnTo>
                  <a:lnTo>
                    <a:pt x="191" y="56"/>
                  </a:lnTo>
                  <a:lnTo>
                    <a:pt x="167" y="84"/>
                  </a:lnTo>
                  <a:lnTo>
                    <a:pt x="143" y="112"/>
                  </a:lnTo>
                  <a:lnTo>
                    <a:pt x="133" y="126"/>
                  </a:lnTo>
                  <a:lnTo>
                    <a:pt x="122" y="140"/>
                  </a:lnTo>
                  <a:lnTo>
                    <a:pt x="114" y="157"/>
                  </a:lnTo>
                  <a:lnTo>
                    <a:pt x="109" y="174"/>
                  </a:lnTo>
                  <a:lnTo>
                    <a:pt x="106" y="190"/>
                  </a:lnTo>
                  <a:lnTo>
                    <a:pt x="109" y="210"/>
                  </a:lnTo>
                  <a:lnTo>
                    <a:pt x="114" y="233"/>
                  </a:lnTo>
                  <a:lnTo>
                    <a:pt x="122" y="255"/>
                  </a:lnTo>
                  <a:lnTo>
                    <a:pt x="133" y="255"/>
                  </a:lnTo>
                  <a:lnTo>
                    <a:pt x="141" y="255"/>
                  </a:lnTo>
                  <a:lnTo>
                    <a:pt x="173" y="207"/>
                  </a:lnTo>
                  <a:lnTo>
                    <a:pt x="202" y="160"/>
                  </a:lnTo>
                  <a:lnTo>
                    <a:pt x="231" y="109"/>
                  </a:lnTo>
                  <a:lnTo>
                    <a:pt x="266" y="61"/>
                  </a:lnTo>
                  <a:lnTo>
                    <a:pt x="271" y="70"/>
                  </a:lnTo>
                  <a:lnTo>
                    <a:pt x="271" y="78"/>
                  </a:lnTo>
                  <a:lnTo>
                    <a:pt x="271" y="89"/>
                  </a:lnTo>
                  <a:lnTo>
                    <a:pt x="268" y="103"/>
                  </a:lnTo>
                  <a:lnTo>
                    <a:pt x="260" y="132"/>
                  </a:lnTo>
                  <a:lnTo>
                    <a:pt x="247" y="165"/>
                  </a:lnTo>
                  <a:lnTo>
                    <a:pt x="234" y="202"/>
                  </a:lnTo>
                  <a:lnTo>
                    <a:pt x="226" y="241"/>
                  </a:lnTo>
                  <a:lnTo>
                    <a:pt x="226" y="261"/>
                  </a:lnTo>
                  <a:lnTo>
                    <a:pt x="226" y="278"/>
                  </a:lnTo>
                  <a:lnTo>
                    <a:pt x="228" y="297"/>
                  </a:lnTo>
                  <a:lnTo>
                    <a:pt x="234" y="314"/>
                  </a:lnTo>
                  <a:lnTo>
                    <a:pt x="250" y="314"/>
                  </a:lnTo>
                  <a:lnTo>
                    <a:pt x="263" y="311"/>
                  </a:lnTo>
                  <a:lnTo>
                    <a:pt x="274" y="306"/>
                  </a:lnTo>
                  <a:lnTo>
                    <a:pt x="287" y="300"/>
                  </a:lnTo>
                  <a:lnTo>
                    <a:pt x="295" y="292"/>
                  </a:lnTo>
                  <a:lnTo>
                    <a:pt x="305" y="280"/>
                  </a:lnTo>
                  <a:lnTo>
                    <a:pt x="313" y="266"/>
                  </a:lnTo>
                  <a:lnTo>
                    <a:pt x="319" y="255"/>
                  </a:lnTo>
                  <a:lnTo>
                    <a:pt x="343" y="196"/>
                  </a:lnTo>
                  <a:lnTo>
                    <a:pt x="364" y="137"/>
                  </a:lnTo>
                  <a:lnTo>
                    <a:pt x="372" y="137"/>
                  </a:lnTo>
                  <a:lnTo>
                    <a:pt x="380" y="137"/>
                  </a:lnTo>
                  <a:lnTo>
                    <a:pt x="380" y="148"/>
                  </a:lnTo>
                  <a:lnTo>
                    <a:pt x="380" y="160"/>
                  </a:lnTo>
                  <a:lnTo>
                    <a:pt x="385" y="160"/>
                  </a:lnTo>
                  <a:lnTo>
                    <a:pt x="390" y="160"/>
                  </a:lnTo>
                  <a:lnTo>
                    <a:pt x="401" y="174"/>
                  </a:lnTo>
                  <a:lnTo>
                    <a:pt x="406" y="188"/>
                  </a:lnTo>
                  <a:lnTo>
                    <a:pt x="433" y="188"/>
                  </a:lnTo>
                  <a:lnTo>
                    <a:pt x="454" y="182"/>
                  </a:lnTo>
                  <a:lnTo>
                    <a:pt x="470" y="176"/>
                  </a:lnTo>
                  <a:lnTo>
                    <a:pt x="483" y="168"/>
                  </a:lnTo>
                  <a:lnTo>
                    <a:pt x="497" y="154"/>
                  </a:lnTo>
                  <a:lnTo>
                    <a:pt x="507" y="140"/>
                  </a:lnTo>
                  <a:lnTo>
                    <a:pt x="518" y="120"/>
                  </a:lnTo>
                  <a:lnTo>
                    <a:pt x="531" y="95"/>
                  </a:lnTo>
                  <a:lnTo>
                    <a:pt x="560" y="81"/>
                  </a:lnTo>
                  <a:lnTo>
                    <a:pt x="587" y="67"/>
                  </a:lnTo>
                  <a:lnTo>
                    <a:pt x="614" y="56"/>
                  </a:lnTo>
                  <a:lnTo>
                    <a:pt x="645" y="47"/>
                  </a:lnTo>
                  <a:lnTo>
                    <a:pt x="653" y="59"/>
                  </a:lnTo>
                  <a:lnTo>
                    <a:pt x="664" y="81"/>
                  </a:lnTo>
                  <a:lnTo>
                    <a:pt x="688" y="132"/>
                  </a:lnTo>
                  <a:lnTo>
                    <a:pt x="730" y="230"/>
                  </a:lnTo>
                  <a:lnTo>
                    <a:pt x="736" y="230"/>
                  </a:lnTo>
                  <a:lnTo>
                    <a:pt x="741" y="230"/>
                  </a:lnTo>
                  <a:lnTo>
                    <a:pt x="765" y="300"/>
                  </a:lnTo>
                  <a:lnTo>
                    <a:pt x="786" y="367"/>
                  </a:lnTo>
                  <a:lnTo>
                    <a:pt x="805" y="438"/>
                  </a:lnTo>
                  <a:lnTo>
                    <a:pt x="823" y="511"/>
                  </a:lnTo>
                  <a:lnTo>
                    <a:pt x="839" y="581"/>
                  </a:lnTo>
                  <a:lnTo>
                    <a:pt x="855" y="657"/>
                  </a:lnTo>
                  <a:lnTo>
                    <a:pt x="866" y="730"/>
                  </a:lnTo>
                  <a:lnTo>
                    <a:pt x="871" y="805"/>
                  </a:lnTo>
                  <a:lnTo>
                    <a:pt x="847" y="828"/>
                  </a:lnTo>
                  <a:lnTo>
                    <a:pt x="818" y="848"/>
                  </a:lnTo>
                  <a:lnTo>
                    <a:pt x="786" y="864"/>
                  </a:lnTo>
                  <a:lnTo>
                    <a:pt x="752" y="878"/>
                  </a:lnTo>
                  <a:lnTo>
                    <a:pt x="714" y="890"/>
                  </a:lnTo>
                  <a:lnTo>
                    <a:pt x="675" y="901"/>
                  </a:lnTo>
                  <a:lnTo>
                    <a:pt x="635" y="907"/>
                  </a:lnTo>
                  <a:lnTo>
                    <a:pt x="595" y="912"/>
                  </a:lnTo>
                  <a:lnTo>
                    <a:pt x="515" y="918"/>
                  </a:lnTo>
                  <a:lnTo>
                    <a:pt x="436" y="921"/>
                  </a:lnTo>
                  <a:lnTo>
                    <a:pt x="364" y="921"/>
                  </a:lnTo>
                  <a:lnTo>
                    <a:pt x="300" y="9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5775480"/>
              <a:ext cx="59040" cy="204480"/>
            </a:xfrm>
            <a:custGeom>
              <a:avLst/>
              <a:gdLst/>
              <a:ahLst/>
              <a:rect l="l" t="t" r="r" b="b"/>
              <a:pathLst>
                <a:path w="37" h="129">
                  <a:moveTo>
                    <a:pt x="26" y="126"/>
                  </a:moveTo>
                  <a:lnTo>
                    <a:pt x="21" y="118"/>
                  </a:lnTo>
                  <a:lnTo>
                    <a:pt x="18" y="104"/>
                  </a:lnTo>
                  <a:lnTo>
                    <a:pt x="10" y="6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25"/>
                  </a:lnTo>
                  <a:lnTo>
                    <a:pt x="16" y="47"/>
                  </a:lnTo>
                  <a:lnTo>
                    <a:pt x="18" y="70"/>
                  </a:lnTo>
                  <a:lnTo>
                    <a:pt x="26" y="112"/>
                  </a:lnTo>
                  <a:lnTo>
                    <a:pt x="32" y="112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7" y="129"/>
                  </a:lnTo>
                  <a:lnTo>
                    <a:pt x="32" y="126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61280" y="5587920"/>
              <a:ext cx="104760" cy="374760"/>
            </a:xfrm>
            <a:custGeom>
              <a:avLst/>
              <a:gdLst/>
              <a:ahLst/>
              <a:rect l="l" t="t" r="r" b="b"/>
              <a:pathLst>
                <a:path w="66" h="236">
                  <a:moveTo>
                    <a:pt x="56" y="236"/>
                  </a:moveTo>
                  <a:lnTo>
                    <a:pt x="53" y="199"/>
                  </a:lnTo>
                  <a:lnTo>
                    <a:pt x="50" y="163"/>
                  </a:lnTo>
                  <a:lnTo>
                    <a:pt x="48" y="129"/>
                  </a:lnTo>
                  <a:lnTo>
                    <a:pt x="45" y="95"/>
                  </a:lnTo>
                  <a:lnTo>
                    <a:pt x="40" y="95"/>
                  </a:lnTo>
                  <a:lnTo>
                    <a:pt x="35" y="95"/>
                  </a:lnTo>
                  <a:lnTo>
                    <a:pt x="35" y="123"/>
                  </a:lnTo>
                  <a:lnTo>
                    <a:pt x="35" y="151"/>
                  </a:lnTo>
                  <a:lnTo>
                    <a:pt x="35" y="179"/>
                  </a:lnTo>
                  <a:lnTo>
                    <a:pt x="35" y="207"/>
                  </a:lnTo>
                  <a:lnTo>
                    <a:pt x="29" y="207"/>
                  </a:lnTo>
                  <a:lnTo>
                    <a:pt x="24" y="207"/>
                  </a:lnTo>
                  <a:lnTo>
                    <a:pt x="24" y="193"/>
                  </a:lnTo>
                  <a:lnTo>
                    <a:pt x="24" y="179"/>
                  </a:lnTo>
                  <a:lnTo>
                    <a:pt x="13" y="177"/>
                  </a:lnTo>
                  <a:lnTo>
                    <a:pt x="0" y="174"/>
                  </a:lnTo>
                  <a:lnTo>
                    <a:pt x="0" y="129"/>
                  </a:lnTo>
                  <a:lnTo>
                    <a:pt x="3" y="87"/>
                  </a:lnTo>
                  <a:lnTo>
                    <a:pt x="3" y="4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39"/>
                  </a:lnTo>
                  <a:lnTo>
                    <a:pt x="13" y="78"/>
                  </a:lnTo>
                  <a:lnTo>
                    <a:pt x="11" y="120"/>
                  </a:lnTo>
                  <a:lnTo>
                    <a:pt x="11" y="163"/>
                  </a:lnTo>
                  <a:lnTo>
                    <a:pt x="19" y="163"/>
                  </a:lnTo>
                  <a:lnTo>
                    <a:pt x="24" y="168"/>
                  </a:lnTo>
                  <a:lnTo>
                    <a:pt x="24" y="129"/>
                  </a:lnTo>
                  <a:lnTo>
                    <a:pt x="24" y="92"/>
                  </a:lnTo>
                  <a:lnTo>
                    <a:pt x="24" y="53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50"/>
                  </a:lnTo>
                  <a:lnTo>
                    <a:pt x="35" y="84"/>
                  </a:lnTo>
                  <a:lnTo>
                    <a:pt x="45" y="87"/>
                  </a:lnTo>
                  <a:lnTo>
                    <a:pt x="53" y="90"/>
                  </a:lnTo>
                  <a:lnTo>
                    <a:pt x="56" y="126"/>
                  </a:lnTo>
                  <a:lnTo>
                    <a:pt x="61" y="163"/>
                  </a:lnTo>
                  <a:lnTo>
                    <a:pt x="64" y="199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6" y="2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48360" y="3139920"/>
              <a:ext cx="888840" cy="2051280"/>
            </a:xfrm>
            <a:custGeom>
              <a:avLst/>
              <a:gdLst/>
              <a:ahLst/>
              <a:rect l="l" t="t" r="r" b="b"/>
              <a:pathLst>
                <a:path w="560" h="1292">
                  <a:moveTo>
                    <a:pt x="2" y="1292"/>
                  </a:moveTo>
                  <a:lnTo>
                    <a:pt x="0" y="1129"/>
                  </a:lnTo>
                  <a:lnTo>
                    <a:pt x="0" y="969"/>
                  </a:lnTo>
                  <a:lnTo>
                    <a:pt x="0" y="806"/>
                  </a:lnTo>
                  <a:lnTo>
                    <a:pt x="2" y="643"/>
                  </a:lnTo>
                  <a:lnTo>
                    <a:pt x="5" y="483"/>
                  </a:lnTo>
                  <a:lnTo>
                    <a:pt x="8" y="323"/>
                  </a:lnTo>
                  <a:lnTo>
                    <a:pt x="13" y="160"/>
                  </a:lnTo>
                  <a:lnTo>
                    <a:pt x="18" y="0"/>
                  </a:lnTo>
                  <a:lnTo>
                    <a:pt x="39" y="0"/>
                  </a:lnTo>
                  <a:lnTo>
                    <a:pt x="66" y="3"/>
                  </a:lnTo>
                  <a:lnTo>
                    <a:pt x="114" y="11"/>
                  </a:lnTo>
                  <a:lnTo>
                    <a:pt x="204" y="31"/>
                  </a:lnTo>
                  <a:lnTo>
                    <a:pt x="201" y="42"/>
                  </a:lnTo>
                  <a:lnTo>
                    <a:pt x="199" y="56"/>
                  </a:lnTo>
                  <a:lnTo>
                    <a:pt x="159" y="51"/>
                  </a:lnTo>
                  <a:lnTo>
                    <a:pt x="119" y="45"/>
                  </a:lnTo>
                  <a:lnTo>
                    <a:pt x="111" y="76"/>
                  </a:lnTo>
                  <a:lnTo>
                    <a:pt x="103" y="124"/>
                  </a:lnTo>
                  <a:lnTo>
                    <a:pt x="98" y="185"/>
                  </a:lnTo>
                  <a:lnTo>
                    <a:pt x="93" y="253"/>
                  </a:lnTo>
                  <a:lnTo>
                    <a:pt x="85" y="413"/>
                  </a:lnTo>
                  <a:lnTo>
                    <a:pt x="79" y="590"/>
                  </a:lnTo>
                  <a:lnTo>
                    <a:pt x="79" y="674"/>
                  </a:lnTo>
                  <a:lnTo>
                    <a:pt x="82" y="758"/>
                  </a:lnTo>
                  <a:lnTo>
                    <a:pt x="85" y="837"/>
                  </a:lnTo>
                  <a:lnTo>
                    <a:pt x="90" y="910"/>
                  </a:lnTo>
                  <a:lnTo>
                    <a:pt x="98" y="972"/>
                  </a:lnTo>
                  <a:lnTo>
                    <a:pt x="106" y="1019"/>
                  </a:lnTo>
                  <a:lnTo>
                    <a:pt x="111" y="1042"/>
                  </a:lnTo>
                  <a:lnTo>
                    <a:pt x="116" y="1056"/>
                  </a:lnTo>
                  <a:lnTo>
                    <a:pt x="122" y="1070"/>
                  </a:lnTo>
                  <a:lnTo>
                    <a:pt x="130" y="1076"/>
                  </a:lnTo>
                  <a:lnTo>
                    <a:pt x="170" y="1067"/>
                  </a:lnTo>
                  <a:lnTo>
                    <a:pt x="223" y="1056"/>
                  </a:lnTo>
                  <a:lnTo>
                    <a:pt x="281" y="1042"/>
                  </a:lnTo>
                  <a:lnTo>
                    <a:pt x="342" y="1028"/>
                  </a:lnTo>
                  <a:lnTo>
                    <a:pt x="403" y="1008"/>
                  </a:lnTo>
                  <a:lnTo>
                    <a:pt x="459" y="988"/>
                  </a:lnTo>
                  <a:lnTo>
                    <a:pt x="483" y="977"/>
                  </a:lnTo>
                  <a:lnTo>
                    <a:pt x="504" y="966"/>
                  </a:lnTo>
                  <a:lnTo>
                    <a:pt x="520" y="952"/>
                  </a:lnTo>
                  <a:lnTo>
                    <a:pt x="536" y="938"/>
                  </a:lnTo>
                  <a:lnTo>
                    <a:pt x="528" y="899"/>
                  </a:lnTo>
                  <a:lnTo>
                    <a:pt x="523" y="859"/>
                  </a:lnTo>
                  <a:lnTo>
                    <a:pt x="518" y="859"/>
                  </a:lnTo>
                  <a:lnTo>
                    <a:pt x="512" y="859"/>
                  </a:lnTo>
                  <a:lnTo>
                    <a:pt x="504" y="792"/>
                  </a:lnTo>
                  <a:lnTo>
                    <a:pt x="499" y="727"/>
                  </a:lnTo>
                  <a:lnTo>
                    <a:pt x="496" y="666"/>
                  </a:lnTo>
                  <a:lnTo>
                    <a:pt x="496" y="601"/>
                  </a:lnTo>
                  <a:lnTo>
                    <a:pt x="504" y="601"/>
                  </a:lnTo>
                  <a:lnTo>
                    <a:pt x="512" y="601"/>
                  </a:lnTo>
                  <a:lnTo>
                    <a:pt x="512" y="607"/>
                  </a:lnTo>
                  <a:lnTo>
                    <a:pt x="512" y="615"/>
                  </a:lnTo>
                  <a:lnTo>
                    <a:pt x="528" y="618"/>
                  </a:lnTo>
                  <a:lnTo>
                    <a:pt x="544" y="623"/>
                  </a:lnTo>
                  <a:lnTo>
                    <a:pt x="536" y="651"/>
                  </a:lnTo>
                  <a:lnTo>
                    <a:pt x="531" y="680"/>
                  </a:lnTo>
                  <a:lnTo>
                    <a:pt x="533" y="694"/>
                  </a:lnTo>
                  <a:lnTo>
                    <a:pt x="539" y="708"/>
                  </a:lnTo>
                  <a:lnTo>
                    <a:pt x="547" y="716"/>
                  </a:lnTo>
                  <a:lnTo>
                    <a:pt x="560" y="724"/>
                  </a:lnTo>
                  <a:lnTo>
                    <a:pt x="555" y="800"/>
                  </a:lnTo>
                  <a:lnTo>
                    <a:pt x="555" y="879"/>
                  </a:lnTo>
                  <a:lnTo>
                    <a:pt x="555" y="955"/>
                  </a:lnTo>
                  <a:lnTo>
                    <a:pt x="557" y="1036"/>
                  </a:lnTo>
                  <a:lnTo>
                    <a:pt x="499" y="1070"/>
                  </a:lnTo>
                  <a:lnTo>
                    <a:pt x="438" y="1104"/>
                  </a:lnTo>
                  <a:lnTo>
                    <a:pt x="377" y="1134"/>
                  </a:lnTo>
                  <a:lnTo>
                    <a:pt x="310" y="1163"/>
                  </a:lnTo>
                  <a:lnTo>
                    <a:pt x="247" y="1191"/>
                  </a:lnTo>
                  <a:lnTo>
                    <a:pt x="180" y="1216"/>
                  </a:lnTo>
                  <a:lnTo>
                    <a:pt x="116" y="1241"/>
                  </a:lnTo>
                  <a:lnTo>
                    <a:pt x="55" y="1266"/>
                  </a:lnTo>
                  <a:lnTo>
                    <a:pt x="37" y="1281"/>
                  </a:lnTo>
                  <a:lnTo>
                    <a:pt x="23" y="1289"/>
                  </a:lnTo>
                  <a:lnTo>
                    <a:pt x="15" y="1292"/>
                  </a:lnTo>
                  <a:lnTo>
                    <a:pt x="2" y="129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02360" y="4197240"/>
              <a:ext cx="1349640" cy="927360"/>
            </a:xfrm>
            <a:custGeom>
              <a:avLst/>
              <a:gdLst/>
              <a:ahLst/>
              <a:rect l="l" t="t" r="r" b="b"/>
              <a:pathLst>
                <a:path w="850" h="584">
                  <a:moveTo>
                    <a:pt x="229" y="584"/>
                  </a:moveTo>
                  <a:lnTo>
                    <a:pt x="231" y="542"/>
                  </a:lnTo>
                  <a:lnTo>
                    <a:pt x="237" y="505"/>
                  </a:lnTo>
                  <a:lnTo>
                    <a:pt x="245" y="471"/>
                  </a:lnTo>
                  <a:lnTo>
                    <a:pt x="255" y="443"/>
                  </a:lnTo>
                  <a:lnTo>
                    <a:pt x="266" y="415"/>
                  </a:lnTo>
                  <a:lnTo>
                    <a:pt x="276" y="384"/>
                  </a:lnTo>
                  <a:lnTo>
                    <a:pt x="287" y="353"/>
                  </a:lnTo>
                  <a:lnTo>
                    <a:pt x="292" y="320"/>
                  </a:lnTo>
                  <a:lnTo>
                    <a:pt x="274" y="322"/>
                  </a:lnTo>
                  <a:lnTo>
                    <a:pt x="258" y="331"/>
                  </a:lnTo>
                  <a:lnTo>
                    <a:pt x="242" y="339"/>
                  </a:lnTo>
                  <a:lnTo>
                    <a:pt x="231" y="348"/>
                  </a:lnTo>
                  <a:lnTo>
                    <a:pt x="218" y="359"/>
                  </a:lnTo>
                  <a:lnTo>
                    <a:pt x="210" y="373"/>
                  </a:lnTo>
                  <a:lnTo>
                    <a:pt x="199" y="387"/>
                  </a:lnTo>
                  <a:lnTo>
                    <a:pt x="191" y="401"/>
                  </a:lnTo>
                  <a:lnTo>
                    <a:pt x="176" y="429"/>
                  </a:lnTo>
                  <a:lnTo>
                    <a:pt x="160" y="460"/>
                  </a:lnTo>
                  <a:lnTo>
                    <a:pt x="144" y="491"/>
                  </a:lnTo>
                  <a:lnTo>
                    <a:pt x="120" y="522"/>
                  </a:lnTo>
                  <a:lnTo>
                    <a:pt x="117" y="502"/>
                  </a:lnTo>
                  <a:lnTo>
                    <a:pt x="114" y="483"/>
                  </a:lnTo>
                  <a:lnTo>
                    <a:pt x="114" y="463"/>
                  </a:lnTo>
                  <a:lnTo>
                    <a:pt x="117" y="446"/>
                  </a:lnTo>
                  <a:lnTo>
                    <a:pt x="122" y="429"/>
                  </a:lnTo>
                  <a:lnTo>
                    <a:pt x="128" y="415"/>
                  </a:lnTo>
                  <a:lnTo>
                    <a:pt x="133" y="398"/>
                  </a:lnTo>
                  <a:lnTo>
                    <a:pt x="141" y="384"/>
                  </a:lnTo>
                  <a:lnTo>
                    <a:pt x="162" y="356"/>
                  </a:lnTo>
                  <a:lnTo>
                    <a:pt x="184" y="331"/>
                  </a:lnTo>
                  <a:lnTo>
                    <a:pt x="210" y="306"/>
                  </a:lnTo>
                  <a:lnTo>
                    <a:pt x="237" y="286"/>
                  </a:lnTo>
                  <a:lnTo>
                    <a:pt x="237" y="275"/>
                  </a:lnTo>
                  <a:lnTo>
                    <a:pt x="234" y="263"/>
                  </a:lnTo>
                  <a:lnTo>
                    <a:pt x="221" y="261"/>
                  </a:lnTo>
                  <a:lnTo>
                    <a:pt x="207" y="258"/>
                  </a:lnTo>
                  <a:lnTo>
                    <a:pt x="194" y="258"/>
                  </a:lnTo>
                  <a:lnTo>
                    <a:pt x="178" y="263"/>
                  </a:lnTo>
                  <a:lnTo>
                    <a:pt x="149" y="278"/>
                  </a:lnTo>
                  <a:lnTo>
                    <a:pt x="120" y="297"/>
                  </a:lnTo>
                  <a:lnTo>
                    <a:pt x="93" y="322"/>
                  </a:lnTo>
                  <a:lnTo>
                    <a:pt x="67" y="342"/>
                  </a:lnTo>
                  <a:lnTo>
                    <a:pt x="40" y="362"/>
                  </a:lnTo>
                  <a:lnTo>
                    <a:pt x="16" y="373"/>
                  </a:lnTo>
                  <a:lnTo>
                    <a:pt x="11" y="365"/>
                  </a:lnTo>
                  <a:lnTo>
                    <a:pt x="6" y="356"/>
                  </a:lnTo>
                  <a:lnTo>
                    <a:pt x="3" y="348"/>
                  </a:lnTo>
                  <a:lnTo>
                    <a:pt x="0" y="339"/>
                  </a:lnTo>
                  <a:lnTo>
                    <a:pt x="0" y="331"/>
                  </a:lnTo>
                  <a:lnTo>
                    <a:pt x="3" y="322"/>
                  </a:lnTo>
                  <a:lnTo>
                    <a:pt x="6" y="314"/>
                  </a:lnTo>
                  <a:lnTo>
                    <a:pt x="11" y="308"/>
                  </a:lnTo>
                  <a:lnTo>
                    <a:pt x="24" y="292"/>
                  </a:lnTo>
                  <a:lnTo>
                    <a:pt x="40" y="278"/>
                  </a:lnTo>
                  <a:lnTo>
                    <a:pt x="61" y="266"/>
                  </a:lnTo>
                  <a:lnTo>
                    <a:pt x="83" y="252"/>
                  </a:lnTo>
                  <a:lnTo>
                    <a:pt x="130" y="233"/>
                  </a:lnTo>
                  <a:lnTo>
                    <a:pt x="176" y="216"/>
                  </a:lnTo>
                  <a:lnTo>
                    <a:pt x="213" y="205"/>
                  </a:lnTo>
                  <a:lnTo>
                    <a:pt x="234" y="196"/>
                  </a:lnTo>
                  <a:lnTo>
                    <a:pt x="274" y="210"/>
                  </a:lnTo>
                  <a:lnTo>
                    <a:pt x="314" y="224"/>
                  </a:lnTo>
                  <a:lnTo>
                    <a:pt x="316" y="233"/>
                  </a:lnTo>
                  <a:lnTo>
                    <a:pt x="319" y="238"/>
                  </a:lnTo>
                  <a:lnTo>
                    <a:pt x="324" y="238"/>
                  </a:lnTo>
                  <a:lnTo>
                    <a:pt x="330" y="238"/>
                  </a:lnTo>
                  <a:lnTo>
                    <a:pt x="335" y="252"/>
                  </a:lnTo>
                  <a:lnTo>
                    <a:pt x="343" y="263"/>
                  </a:lnTo>
                  <a:lnTo>
                    <a:pt x="348" y="272"/>
                  </a:lnTo>
                  <a:lnTo>
                    <a:pt x="359" y="280"/>
                  </a:lnTo>
                  <a:lnTo>
                    <a:pt x="367" y="286"/>
                  </a:lnTo>
                  <a:lnTo>
                    <a:pt x="377" y="292"/>
                  </a:lnTo>
                  <a:lnTo>
                    <a:pt x="391" y="294"/>
                  </a:lnTo>
                  <a:lnTo>
                    <a:pt x="401" y="297"/>
                  </a:lnTo>
                  <a:lnTo>
                    <a:pt x="428" y="297"/>
                  </a:lnTo>
                  <a:lnTo>
                    <a:pt x="457" y="294"/>
                  </a:lnTo>
                  <a:lnTo>
                    <a:pt x="486" y="286"/>
                  </a:lnTo>
                  <a:lnTo>
                    <a:pt x="518" y="275"/>
                  </a:lnTo>
                  <a:lnTo>
                    <a:pt x="547" y="261"/>
                  </a:lnTo>
                  <a:lnTo>
                    <a:pt x="577" y="244"/>
                  </a:lnTo>
                  <a:lnTo>
                    <a:pt x="603" y="224"/>
                  </a:lnTo>
                  <a:lnTo>
                    <a:pt x="630" y="207"/>
                  </a:lnTo>
                  <a:lnTo>
                    <a:pt x="651" y="188"/>
                  </a:lnTo>
                  <a:lnTo>
                    <a:pt x="670" y="168"/>
                  </a:lnTo>
                  <a:lnTo>
                    <a:pt x="683" y="151"/>
                  </a:lnTo>
                  <a:lnTo>
                    <a:pt x="691" y="134"/>
                  </a:lnTo>
                  <a:lnTo>
                    <a:pt x="678" y="123"/>
                  </a:lnTo>
                  <a:lnTo>
                    <a:pt x="670" y="115"/>
                  </a:lnTo>
                  <a:lnTo>
                    <a:pt x="662" y="106"/>
                  </a:lnTo>
                  <a:lnTo>
                    <a:pt x="659" y="98"/>
                  </a:lnTo>
                  <a:lnTo>
                    <a:pt x="656" y="89"/>
                  </a:lnTo>
                  <a:lnTo>
                    <a:pt x="659" y="81"/>
                  </a:lnTo>
                  <a:lnTo>
                    <a:pt x="662" y="73"/>
                  </a:lnTo>
                  <a:lnTo>
                    <a:pt x="667" y="64"/>
                  </a:lnTo>
                  <a:lnTo>
                    <a:pt x="696" y="33"/>
                  </a:lnTo>
                  <a:lnTo>
                    <a:pt x="728" y="0"/>
                  </a:lnTo>
                  <a:lnTo>
                    <a:pt x="747" y="2"/>
                  </a:lnTo>
                  <a:lnTo>
                    <a:pt x="763" y="8"/>
                  </a:lnTo>
                  <a:lnTo>
                    <a:pt x="776" y="19"/>
                  </a:lnTo>
                  <a:lnTo>
                    <a:pt x="789" y="30"/>
                  </a:lnTo>
                  <a:lnTo>
                    <a:pt x="810" y="61"/>
                  </a:lnTo>
                  <a:lnTo>
                    <a:pt x="829" y="95"/>
                  </a:lnTo>
                  <a:lnTo>
                    <a:pt x="840" y="98"/>
                  </a:lnTo>
                  <a:lnTo>
                    <a:pt x="850" y="101"/>
                  </a:lnTo>
                  <a:lnTo>
                    <a:pt x="837" y="123"/>
                  </a:lnTo>
                  <a:lnTo>
                    <a:pt x="818" y="146"/>
                  </a:lnTo>
                  <a:lnTo>
                    <a:pt x="802" y="168"/>
                  </a:lnTo>
                  <a:lnTo>
                    <a:pt x="784" y="188"/>
                  </a:lnTo>
                  <a:lnTo>
                    <a:pt x="744" y="224"/>
                  </a:lnTo>
                  <a:lnTo>
                    <a:pt x="699" y="255"/>
                  </a:lnTo>
                  <a:lnTo>
                    <a:pt x="654" y="283"/>
                  </a:lnTo>
                  <a:lnTo>
                    <a:pt x="606" y="311"/>
                  </a:lnTo>
                  <a:lnTo>
                    <a:pt x="555" y="334"/>
                  </a:lnTo>
                  <a:lnTo>
                    <a:pt x="505" y="356"/>
                  </a:lnTo>
                  <a:lnTo>
                    <a:pt x="497" y="381"/>
                  </a:lnTo>
                  <a:lnTo>
                    <a:pt x="486" y="401"/>
                  </a:lnTo>
                  <a:lnTo>
                    <a:pt x="476" y="421"/>
                  </a:lnTo>
                  <a:lnTo>
                    <a:pt x="462" y="435"/>
                  </a:lnTo>
                  <a:lnTo>
                    <a:pt x="457" y="438"/>
                  </a:lnTo>
                  <a:lnTo>
                    <a:pt x="449" y="443"/>
                  </a:lnTo>
                  <a:lnTo>
                    <a:pt x="441" y="446"/>
                  </a:lnTo>
                  <a:lnTo>
                    <a:pt x="433" y="446"/>
                  </a:lnTo>
                  <a:lnTo>
                    <a:pt x="412" y="446"/>
                  </a:lnTo>
                  <a:lnTo>
                    <a:pt x="388" y="438"/>
                  </a:lnTo>
                  <a:lnTo>
                    <a:pt x="380" y="412"/>
                  </a:lnTo>
                  <a:lnTo>
                    <a:pt x="372" y="387"/>
                  </a:lnTo>
                  <a:lnTo>
                    <a:pt x="359" y="393"/>
                  </a:lnTo>
                  <a:lnTo>
                    <a:pt x="346" y="401"/>
                  </a:lnTo>
                  <a:lnTo>
                    <a:pt x="335" y="412"/>
                  </a:lnTo>
                  <a:lnTo>
                    <a:pt x="327" y="426"/>
                  </a:lnTo>
                  <a:lnTo>
                    <a:pt x="314" y="454"/>
                  </a:lnTo>
                  <a:lnTo>
                    <a:pt x="303" y="485"/>
                  </a:lnTo>
                  <a:lnTo>
                    <a:pt x="292" y="516"/>
                  </a:lnTo>
                  <a:lnTo>
                    <a:pt x="279" y="544"/>
                  </a:lnTo>
                  <a:lnTo>
                    <a:pt x="269" y="558"/>
                  </a:lnTo>
                  <a:lnTo>
                    <a:pt x="258" y="567"/>
                  </a:lnTo>
                  <a:lnTo>
                    <a:pt x="245" y="575"/>
                  </a:lnTo>
                  <a:lnTo>
                    <a:pt x="229" y="58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91280" y="3251160"/>
              <a:ext cx="669960" cy="1550880"/>
            </a:xfrm>
            <a:custGeom>
              <a:avLst/>
              <a:gdLst/>
              <a:ahLst/>
              <a:rect l="l" t="t" r="r" b="b"/>
              <a:pathLst>
                <a:path w="422" h="977">
                  <a:moveTo>
                    <a:pt x="50" y="977"/>
                  </a:moveTo>
                  <a:lnTo>
                    <a:pt x="37" y="955"/>
                  </a:lnTo>
                  <a:lnTo>
                    <a:pt x="29" y="930"/>
                  </a:lnTo>
                  <a:lnTo>
                    <a:pt x="21" y="899"/>
                  </a:lnTo>
                  <a:lnTo>
                    <a:pt x="16" y="865"/>
                  </a:lnTo>
                  <a:lnTo>
                    <a:pt x="5" y="795"/>
                  </a:lnTo>
                  <a:lnTo>
                    <a:pt x="3" y="719"/>
                  </a:lnTo>
                  <a:lnTo>
                    <a:pt x="0" y="640"/>
                  </a:lnTo>
                  <a:lnTo>
                    <a:pt x="3" y="567"/>
                  </a:lnTo>
                  <a:lnTo>
                    <a:pt x="3" y="500"/>
                  </a:lnTo>
                  <a:lnTo>
                    <a:pt x="5" y="444"/>
                  </a:lnTo>
                  <a:lnTo>
                    <a:pt x="10" y="326"/>
                  </a:lnTo>
                  <a:lnTo>
                    <a:pt x="16" y="236"/>
                  </a:lnTo>
                  <a:lnTo>
                    <a:pt x="21" y="171"/>
                  </a:lnTo>
                  <a:lnTo>
                    <a:pt x="24" y="124"/>
                  </a:lnTo>
                  <a:lnTo>
                    <a:pt x="26" y="87"/>
                  </a:lnTo>
                  <a:lnTo>
                    <a:pt x="29" y="56"/>
                  </a:lnTo>
                  <a:lnTo>
                    <a:pt x="32" y="31"/>
                  </a:lnTo>
                  <a:lnTo>
                    <a:pt x="37" y="0"/>
                  </a:lnTo>
                  <a:lnTo>
                    <a:pt x="64" y="0"/>
                  </a:lnTo>
                  <a:lnTo>
                    <a:pt x="88" y="3"/>
                  </a:lnTo>
                  <a:lnTo>
                    <a:pt x="111" y="9"/>
                  </a:lnTo>
                  <a:lnTo>
                    <a:pt x="130" y="20"/>
                  </a:lnTo>
                  <a:lnTo>
                    <a:pt x="170" y="40"/>
                  </a:lnTo>
                  <a:lnTo>
                    <a:pt x="215" y="62"/>
                  </a:lnTo>
                  <a:lnTo>
                    <a:pt x="215" y="68"/>
                  </a:lnTo>
                  <a:lnTo>
                    <a:pt x="215" y="73"/>
                  </a:lnTo>
                  <a:lnTo>
                    <a:pt x="228" y="76"/>
                  </a:lnTo>
                  <a:lnTo>
                    <a:pt x="239" y="76"/>
                  </a:lnTo>
                  <a:lnTo>
                    <a:pt x="252" y="76"/>
                  </a:lnTo>
                  <a:lnTo>
                    <a:pt x="265" y="73"/>
                  </a:lnTo>
                  <a:lnTo>
                    <a:pt x="292" y="68"/>
                  </a:lnTo>
                  <a:lnTo>
                    <a:pt x="321" y="65"/>
                  </a:lnTo>
                  <a:lnTo>
                    <a:pt x="356" y="79"/>
                  </a:lnTo>
                  <a:lnTo>
                    <a:pt x="390" y="96"/>
                  </a:lnTo>
                  <a:lnTo>
                    <a:pt x="390" y="101"/>
                  </a:lnTo>
                  <a:lnTo>
                    <a:pt x="390" y="107"/>
                  </a:lnTo>
                  <a:lnTo>
                    <a:pt x="406" y="115"/>
                  </a:lnTo>
                  <a:lnTo>
                    <a:pt x="422" y="124"/>
                  </a:lnTo>
                  <a:lnTo>
                    <a:pt x="422" y="169"/>
                  </a:lnTo>
                  <a:lnTo>
                    <a:pt x="420" y="228"/>
                  </a:lnTo>
                  <a:lnTo>
                    <a:pt x="414" y="289"/>
                  </a:lnTo>
                  <a:lnTo>
                    <a:pt x="409" y="346"/>
                  </a:lnTo>
                  <a:lnTo>
                    <a:pt x="390" y="371"/>
                  </a:lnTo>
                  <a:lnTo>
                    <a:pt x="377" y="391"/>
                  </a:lnTo>
                  <a:lnTo>
                    <a:pt x="369" y="407"/>
                  </a:lnTo>
                  <a:lnTo>
                    <a:pt x="364" y="424"/>
                  </a:lnTo>
                  <a:lnTo>
                    <a:pt x="364" y="441"/>
                  </a:lnTo>
                  <a:lnTo>
                    <a:pt x="366" y="458"/>
                  </a:lnTo>
                  <a:lnTo>
                    <a:pt x="374" y="480"/>
                  </a:lnTo>
                  <a:lnTo>
                    <a:pt x="388" y="511"/>
                  </a:lnTo>
                  <a:lnTo>
                    <a:pt x="388" y="562"/>
                  </a:lnTo>
                  <a:lnTo>
                    <a:pt x="390" y="615"/>
                  </a:lnTo>
                  <a:lnTo>
                    <a:pt x="390" y="669"/>
                  </a:lnTo>
                  <a:lnTo>
                    <a:pt x="393" y="722"/>
                  </a:lnTo>
                  <a:lnTo>
                    <a:pt x="412" y="792"/>
                  </a:lnTo>
                  <a:lnTo>
                    <a:pt x="420" y="829"/>
                  </a:lnTo>
                  <a:lnTo>
                    <a:pt x="422" y="848"/>
                  </a:lnTo>
                  <a:lnTo>
                    <a:pt x="422" y="859"/>
                  </a:lnTo>
                  <a:lnTo>
                    <a:pt x="388" y="882"/>
                  </a:lnTo>
                  <a:lnTo>
                    <a:pt x="343" y="902"/>
                  </a:lnTo>
                  <a:lnTo>
                    <a:pt x="292" y="921"/>
                  </a:lnTo>
                  <a:lnTo>
                    <a:pt x="239" y="941"/>
                  </a:lnTo>
                  <a:lnTo>
                    <a:pt x="186" y="955"/>
                  </a:lnTo>
                  <a:lnTo>
                    <a:pt x="133" y="969"/>
                  </a:lnTo>
                  <a:lnTo>
                    <a:pt x="88" y="975"/>
                  </a:lnTo>
                  <a:lnTo>
                    <a:pt x="50" y="977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2920" y="3687840"/>
              <a:ext cx="1683000" cy="954000"/>
            </a:xfrm>
            <a:custGeom>
              <a:avLst/>
              <a:gdLst/>
              <a:ahLst/>
              <a:rect l="l" t="t" r="r" b="b"/>
              <a:pathLst>
                <a:path w="1060" h="601">
                  <a:moveTo>
                    <a:pt x="622" y="601"/>
                  </a:moveTo>
                  <a:lnTo>
                    <a:pt x="606" y="587"/>
                  </a:lnTo>
                  <a:lnTo>
                    <a:pt x="587" y="565"/>
                  </a:lnTo>
                  <a:lnTo>
                    <a:pt x="571" y="545"/>
                  </a:lnTo>
                  <a:lnTo>
                    <a:pt x="563" y="531"/>
                  </a:lnTo>
                  <a:lnTo>
                    <a:pt x="534" y="520"/>
                  </a:lnTo>
                  <a:lnTo>
                    <a:pt x="508" y="514"/>
                  </a:lnTo>
                  <a:lnTo>
                    <a:pt x="486" y="509"/>
                  </a:lnTo>
                  <a:lnTo>
                    <a:pt x="468" y="506"/>
                  </a:lnTo>
                  <a:lnTo>
                    <a:pt x="449" y="506"/>
                  </a:lnTo>
                  <a:lnTo>
                    <a:pt x="428" y="511"/>
                  </a:lnTo>
                  <a:lnTo>
                    <a:pt x="404" y="517"/>
                  </a:lnTo>
                  <a:lnTo>
                    <a:pt x="372" y="523"/>
                  </a:lnTo>
                  <a:lnTo>
                    <a:pt x="356" y="517"/>
                  </a:lnTo>
                  <a:lnTo>
                    <a:pt x="340" y="509"/>
                  </a:lnTo>
                  <a:lnTo>
                    <a:pt x="340" y="503"/>
                  </a:lnTo>
                  <a:lnTo>
                    <a:pt x="340" y="497"/>
                  </a:lnTo>
                  <a:lnTo>
                    <a:pt x="335" y="497"/>
                  </a:lnTo>
                  <a:lnTo>
                    <a:pt x="330" y="497"/>
                  </a:lnTo>
                  <a:lnTo>
                    <a:pt x="327" y="486"/>
                  </a:lnTo>
                  <a:lnTo>
                    <a:pt x="324" y="475"/>
                  </a:lnTo>
                  <a:lnTo>
                    <a:pt x="314" y="475"/>
                  </a:lnTo>
                  <a:lnTo>
                    <a:pt x="303" y="472"/>
                  </a:lnTo>
                  <a:lnTo>
                    <a:pt x="303" y="481"/>
                  </a:lnTo>
                  <a:lnTo>
                    <a:pt x="300" y="489"/>
                  </a:lnTo>
                  <a:lnTo>
                    <a:pt x="311" y="500"/>
                  </a:lnTo>
                  <a:lnTo>
                    <a:pt x="319" y="509"/>
                  </a:lnTo>
                  <a:lnTo>
                    <a:pt x="330" y="517"/>
                  </a:lnTo>
                  <a:lnTo>
                    <a:pt x="345" y="526"/>
                  </a:lnTo>
                  <a:lnTo>
                    <a:pt x="343" y="534"/>
                  </a:lnTo>
                  <a:lnTo>
                    <a:pt x="335" y="540"/>
                  </a:lnTo>
                  <a:lnTo>
                    <a:pt x="324" y="548"/>
                  </a:lnTo>
                  <a:lnTo>
                    <a:pt x="314" y="554"/>
                  </a:lnTo>
                  <a:lnTo>
                    <a:pt x="290" y="568"/>
                  </a:lnTo>
                  <a:lnTo>
                    <a:pt x="271" y="576"/>
                  </a:lnTo>
                  <a:lnTo>
                    <a:pt x="271" y="570"/>
                  </a:lnTo>
                  <a:lnTo>
                    <a:pt x="271" y="565"/>
                  </a:lnTo>
                  <a:lnTo>
                    <a:pt x="258" y="562"/>
                  </a:lnTo>
                  <a:lnTo>
                    <a:pt x="245" y="554"/>
                  </a:lnTo>
                  <a:lnTo>
                    <a:pt x="234" y="542"/>
                  </a:lnTo>
                  <a:lnTo>
                    <a:pt x="223" y="534"/>
                  </a:lnTo>
                  <a:lnTo>
                    <a:pt x="213" y="523"/>
                  </a:lnTo>
                  <a:lnTo>
                    <a:pt x="205" y="514"/>
                  </a:lnTo>
                  <a:lnTo>
                    <a:pt x="197" y="506"/>
                  </a:lnTo>
                  <a:lnTo>
                    <a:pt x="189" y="506"/>
                  </a:lnTo>
                  <a:lnTo>
                    <a:pt x="178" y="478"/>
                  </a:lnTo>
                  <a:lnTo>
                    <a:pt x="170" y="453"/>
                  </a:lnTo>
                  <a:lnTo>
                    <a:pt x="168" y="427"/>
                  </a:lnTo>
                  <a:lnTo>
                    <a:pt x="168" y="408"/>
                  </a:lnTo>
                  <a:lnTo>
                    <a:pt x="170" y="388"/>
                  </a:lnTo>
                  <a:lnTo>
                    <a:pt x="176" y="371"/>
                  </a:lnTo>
                  <a:lnTo>
                    <a:pt x="183" y="354"/>
                  </a:lnTo>
                  <a:lnTo>
                    <a:pt x="191" y="337"/>
                  </a:lnTo>
                  <a:lnTo>
                    <a:pt x="213" y="306"/>
                  </a:lnTo>
                  <a:lnTo>
                    <a:pt x="237" y="273"/>
                  </a:lnTo>
                  <a:lnTo>
                    <a:pt x="247" y="253"/>
                  </a:lnTo>
                  <a:lnTo>
                    <a:pt x="258" y="233"/>
                  </a:lnTo>
                  <a:lnTo>
                    <a:pt x="268" y="214"/>
                  </a:lnTo>
                  <a:lnTo>
                    <a:pt x="276" y="189"/>
                  </a:lnTo>
                  <a:lnTo>
                    <a:pt x="271" y="189"/>
                  </a:lnTo>
                  <a:lnTo>
                    <a:pt x="266" y="189"/>
                  </a:lnTo>
                  <a:lnTo>
                    <a:pt x="242" y="242"/>
                  </a:lnTo>
                  <a:lnTo>
                    <a:pt x="205" y="309"/>
                  </a:lnTo>
                  <a:lnTo>
                    <a:pt x="183" y="343"/>
                  </a:lnTo>
                  <a:lnTo>
                    <a:pt x="162" y="374"/>
                  </a:lnTo>
                  <a:lnTo>
                    <a:pt x="141" y="399"/>
                  </a:lnTo>
                  <a:lnTo>
                    <a:pt x="125" y="413"/>
                  </a:lnTo>
                  <a:lnTo>
                    <a:pt x="117" y="396"/>
                  </a:lnTo>
                  <a:lnTo>
                    <a:pt x="106" y="379"/>
                  </a:lnTo>
                  <a:lnTo>
                    <a:pt x="96" y="365"/>
                  </a:lnTo>
                  <a:lnTo>
                    <a:pt x="85" y="351"/>
                  </a:lnTo>
                  <a:lnTo>
                    <a:pt x="64" y="329"/>
                  </a:lnTo>
                  <a:lnTo>
                    <a:pt x="45" y="304"/>
                  </a:lnTo>
                  <a:lnTo>
                    <a:pt x="37" y="304"/>
                  </a:lnTo>
                  <a:lnTo>
                    <a:pt x="29" y="304"/>
                  </a:lnTo>
                  <a:lnTo>
                    <a:pt x="27" y="315"/>
                  </a:lnTo>
                  <a:lnTo>
                    <a:pt x="24" y="326"/>
                  </a:lnTo>
                  <a:lnTo>
                    <a:pt x="13" y="329"/>
                  </a:lnTo>
                  <a:lnTo>
                    <a:pt x="3" y="329"/>
                  </a:lnTo>
                  <a:lnTo>
                    <a:pt x="0" y="309"/>
                  </a:lnTo>
                  <a:lnTo>
                    <a:pt x="0" y="290"/>
                  </a:lnTo>
                  <a:lnTo>
                    <a:pt x="19" y="278"/>
                  </a:lnTo>
                  <a:lnTo>
                    <a:pt x="37" y="267"/>
                  </a:lnTo>
                  <a:lnTo>
                    <a:pt x="59" y="262"/>
                  </a:lnTo>
                  <a:lnTo>
                    <a:pt x="80" y="253"/>
                  </a:lnTo>
                  <a:lnTo>
                    <a:pt x="122" y="239"/>
                  </a:lnTo>
                  <a:lnTo>
                    <a:pt x="168" y="225"/>
                  </a:lnTo>
                  <a:lnTo>
                    <a:pt x="199" y="200"/>
                  </a:lnTo>
                  <a:lnTo>
                    <a:pt x="229" y="180"/>
                  </a:lnTo>
                  <a:lnTo>
                    <a:pt x="258" y="163"/>
                  </a:lnTo>
                  <a:lnTo>
                    <a:pt x="287" y="155"/>
                  </a:lnTo>
                  <a:lnTo>
                    <a:pt x="300" y="152"/>
                  </a:lnTo>
                  <a:lnTo>
                    <a:pt x="316" y="152"/>
                  </a:lnTo>
                  <a:lnTo>
                    <a:pt x="330" y="152"/>
                  </a:lnTo>
                  <a:lnTo>
                    <a:pt x="348" y="155"/>
                  </a:lnTo>
                  <a:lnTo>
                    <a:pt x="383" y="163"/>
                  </a:lnTo>
                  <a:lnTo>
                    <a:pt x="425" y="177"/>
                  </a:lnTo>
                  <a:lnTo>
                    <a:pt x="428" y="186"/>
                  </a:lnTo>
                  <a:lnTo>
                    <a:pt x="430" y="191"/>
                  </a:lnTo>
                  <a:lnTo>
                    <a:pt x="441" y="191"/>
                  </a:lnTo>
                  <a:lnTo>
                    <a:pt x="449" y="189"/>
                  </a:lnTo>
                  <a:lnTo>
                    <a:pt x="457" y="172"/>
                  </a:lnTo>
                  <a:lnTo>
                    <a:pt x="468" y="158"/>
                  </a:lnTo>
                  <a:lnTo>
                    <a:pt x="481" y="149"/>
                  </a:lnTo>
                  <a:lnTo>
                    <a:pt x="494" y="144"/>
                  </a:lnTo>
                  <a:lnTo>
                    <a:pt x="508" y="141"/>
                  </a:lnTo>
                  <a:lnTo>
                    <a:pt x="523" y="141"/>
                  </a:lnTo>
                  <a:lnTo>
                    <a:pt x="542" y="144"/>
                  </a:lnTo>
                  <a:lnTo>
                    <a:pt x="558" y="149"/>
                  </a:lnTo>
                  <a:lnTo>
                    <a:pt x="627" y="177"/>
                  </a:lnTo>
                  <a:lnTo>
                    <a:pt x="685" y="203"/>
                  </a:lnTo>
                  <a:lnTo>
                    <a:pt x="685" y="169"/>
                  </a:lnTo>
                  <a:lnTo>
                    <a:pt x="685" y="138"/>
                  </a:lnTo>
                  <a:lnTo>
                    <a:pt x="688" y="87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5" y="3"/>
                  </a:lnTo>
                  <a:lnTo>
                    <a:pt x="715" y="20"/>
                  </a:lnTo>
                  <a:lnTo>
                    <a:pt x="712" y="37"/>
                  </a:lnTo>
                  <a:lnTo>
                    <a:pt x="720" y="37"/>
                  </a:lnTo>
                  <a:lnTo>
                    <a:pt x="728" y="37"/>
                  </a:lnTo>
                  <a:lnTo>
                    <a:pt x="736" y="20"/>
                  </a:lnTo>
                  <a:lnTo>
                    <a:pt x="744" y="0"/>
                  </a:lnTo>
                  <a:lnTo>
                    <a:pt x="765" y="3"/>
                  </a:lnTo>
                  <a:lnTo>
                    <a:pt x="781" y="3"/>
                  </a:lnTo>
                  <a:lnTo>
                    <a:pt x="797" y="9"/>
                  </a:lnTo>
                  <a:lnTo>
                    <a:pt x="808" y="14"/>
                  </a:lnTo>
                  <a:lnTo>
                    <a:pt x="818" y="26"/>
                  </a:lnTo>
                  <a:lnTo>
                    <a:pt x="829" y="40"/>
                  </a:lnTo>
                  <a:lnTo>
                    <a:pt x="837" y="59"/>
                  </a:lnTo>
                  <a:lnTo>
                    <a:pt x="845" y="85"/>
                  </a:lnTo>
                  <a:lnTo>
                    <a:pt x="850" y="85"/>
                  </a:lnTo>
                  <a:lnTo>
                    <a:pt x="855" y="85"/>
                  </a:lnTo>
                  <a:lnTo>
                    <a:pt x="874" y="110"/>
                  </a:lnTo>
                  <a:lnTo>
                    <a:pt x="893" y="135"/>
                  </a:lnTo>
                  <a:lnTo>
                    <a:pt x="914" y="160"/>
                  </a:lnTo>
                  <a:lnTo>
                    <a:pt x="940" y="186"/>
                  </a:lnTo>
                  <a:lnTo>
                    <a:pt x="986" y="208"/>
                  </a:lnTo>
                  <a:lnTo>
                    <a:pt x="1033" y="236"/>
                  </a:lnTo>
                  <a:lnTo>
                    <a:pt x="1044" y="248"/>
                  </a:lnTo>
                  <a:lnTo>
                    <a:pt x="1052" y="256"/>
                  </a:lnTo>
                  <a:lnTo>
                    <a:pt x="1057" y="267"/>
                  </a:lnTo>
                  <a:lnTo>
                    <a:pt x="1060" y="278"/>
                  </a:lnTo>
                  <a:lnTo>
                    <a:pt x="1060" y="290"/>
                  </a:lnTo>
                  <a:lnTo>
                    <a:pt x="1057" y="304"/>
                  </a:lnTo>
                  <a:lnTo>
                    <a:pt x="1052" y="318"/>
                  </a:lnTo>
                  <a:lnTo>
                    <a:pt x="1041" y="332"/>
                  </a:lnTo>
                  <a:lnTo>
                    <a:pt x="1033" y="332"/>
                  </a:lnTo>
                  <a:lnTo>
                    <a:pt x="1025" y="332"/>
                  </a:lnTo>
                  <a:lnTo>
                    <a:pt x="1015" y="323"/>
                  </a:lnTo>
                  <a:lnTo>
                    <a:pt x="996" y="312"/>
                  </a:lnTo>
                  <a:lnTo>
                    <a:pt x="999" y="304"/>
                  </a:lnTo>
                  <a:lnTo>
                    <a:pt x="999" y="292"/>
                  </a:lnTo>
                  <a:lnTo>
                    <a:pt x="1010" y="287"/>
                  </a:lnTo>
                  <a:lnTo>
                    <a:pt x="1020" y="281"/>
                  </a:lnTo>
                  <a:lnTo>
                    <a:pt x="1023" y="276"/>
                  </a:lnTo>
                  <a:lnTo>
                    <a:pt x="1023" y="270"/>
                  </a:lnTo>
                  <a:lnTo>
                    <a:pt x="1015" y="267"/>
                  </a:lnTo>
                  <a:lnTo>
                    <a:pt x="1004" y="264"/>
                  </a:lnTo>
                  <a:lnTo>
                    <a:pt x="951" y="315"/>
                  </a:lnTo>
                  <a:lnTo>
                    <a:pt x="903" y="368"/>
                  </a:lnTo>
                  <a:lnTo>
                    <a:pt x="882" y="394"/>
                  </a:lnTo>
                  <a:lnTo>
                    <a:pt x="863" y="424"/>
                  </a:lnTo>
                  <a:lnTo>
                    <a:pt x="847" y="455"/>
                  </a:lnTo>
                  <a:lnTo>
                    <a:pt x="834" y="489"/>
                  </a:lnTo>
                  <a:lnTo>
                    <a:pt x="824" y="489"/>
                  </a:lnTo>
                  <a:lnTo>
                    <a:pt x="813" y="486"/>
                  </a:lnTo>
                  <a:lnTo>
                    <a:pt x="802" y="483"/>
                  </a:lnTo>
                  <a:lnTo>
                    <a:pt x="794" y="478"/>
                  </a:lnTo>
                  <a:lnTo>
                    <a:pt x="784" y="467"/>
                  </a:lnTo>
                  <a:lnTo>
                    <a:pt x="773" y="455"/>
                  </a:lnTo>
                  <a:lnTo>
                    <a:pt x="765" y="453"/>
                  </a:lnTo>
                  <a:lnTo>
                    <a:pt x="760" y="450"/>
                  </a:lnTo>
                  <a:lnTo>
                    <a:pt x="749" y="447"/>
                  </a:lnTo>
                  <a:lnTo>
                    <a:pt x="741" y="447"/>
                  </a:lnTo>
                  <a:lnTo>
                    <a:pt x="728" y="450"/>
                  </a:lnTo>
                  <a:lnTo>
                    <a:pt x="715" y="455"/>
                  </a:lnTo>
                  <a:lnTo>
                    <a:pt x="699" y="464"/>
                  </a:lnTo>
                  <a:lnTo>
                    <a:pt x="678" y="475"/>
                  </a:lnTo>
                  <a:lnTo>
                    <a:pt x="678" y="483"/>
                  </a:lnTo>
                  <a:lnTo>
                    <a:pt x="675" y="492"/>
                  </a:lnTo>
                  <a:lnTo>
                    <a:pt x="680" y="492"/>
                  </a:lnTo>
                  <a:lnTo>
                    <a:pt x="685" y="492"/>
                  </a:lnTo>
                  <a:lnTo>
                    <a:pt x="685" y="486"/>
                  </a:lnTo>
                  <a:lnTo>
                    <a:pt x="685" y="481"/>
                  </a:lnTo>
                  <a:lnTo>
                    <a:pt x="704" y="472"/>
                  </a:lnTo>
                  <a:lnTo>
                    <a:pt x="717" y="467"/>
                  </a:lnTo>
                  <a:lnTo>
                    <a:pt x="736" y="461"/>
                  </a:lnTo>
                  <a:lnTo>
                    <a:pt x="757" y="458"/>
                  </a:lnTo>
                  <a:lnTo>
                    <a:pt x="731" y="492"/>
                  </a:lnTo>
                  <a:lnTo>
                    <a:pt x="712" y="514"/>
                  </a:lnTo>
                  <a:lnTo>
                    <a:pt x="728" y="509"/>
                  </a:lnTo>
                  <a:lnTo>
                    <a:pt x="744" y="497"/>
                  </a:lnTo>
                  <a:lnTo>
                    <a:pt x="757" y="486"/>
                  </a:lnTo>
                  <a:lnTo>
                    <a:pt x="765" y="472"/>
                  </a:lnTo>
                  <a:lnTo>
                    <a:pt x="778" y="475"/>
                  </a:lnTo>
                  <a:lnTo>
                    <a:pt x="792" y="481"/>
                  </a:lnTo>
                  <a:lnTo>
                    <a:pt x="800" y="495"/>
                  </a:lnTo>
                  <a:lnTo>
                    <a:pt x="813" y="503"/>
                  </a:lnTo>
                  <a:lnTo>
                    <a:pt x="829" y="514"/>
                  </a:lnTo>
                  <a:lnTo>
                    <a:pt x="845" y="523"/>
                  </a:lnTo>
                  <a:lnTo>
                    <a:pt x="818" y="542"/>
                  </a:lnTo>
                  <a:lnTo>
                    <a:pt x="789" y="556"/>
                  </a:lnTo>
                  <a:lnTo>
                    <a:pt x="763" y="570"/>
                  </a:lnTo>
                  <a:lnTo>
                    <a:pt x="739" y="582"/>
                  </a:lnTo>
                  <a:lnTo>
                    <a:pt x="709" y="590"/>
                  </a:lnTo>
                  <a:lnTo>
                    <a:pt x="683" y="596"/>
                  </a:lnTo>
                  <a:lnTo>
                    <a:pt x="654" y="601"/>
                  </a:lnTo>
                  <a:lnTo>
                    <a:pt x="622" y="6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21640" y="448632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48" y="42"/>
                  </a:moveTo>
                  <a:lnTo>
                    <a:pt x="24" y="37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6"/>
                  </a:lnTo>
                  <a:lnTo>
                    <a:pt x="56" y="17"/>
                  </a:lnTo>
                  <a:lnTo>
                    <a:pt x="66" y="28"/>
                  </a:lnTo>
                  <a:lnTo>
                    <a:pt x="64" y="37"/>
                  </a:lnTo>
                  <a:lnTo>
                    <a:pt x="64" y="42"/>
                  </a:lnTo>
                  <a:lnTo>
                    <a:pt x="56" y="42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f6c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2560" y="4370400"/>
              <a:ext cx="88920" cy="133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0" y="84"/>
                  </a:moveTo>
                  <a:lnTo>
                    <a:pt x="11" y="4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11"/>
                  </a:lnTo>
                  <a:lnTo>
                    <a:pt x="48" y="17"/>
                  </a:lnTo>
                  <a:lnTo>
                    <a:pt x="53" y="25"/>
                  </a:lnTo>
                  <a:lnTo>
                    <a:pt x="56" y="42"/>
                  </a:lnTo>
                  <a:lnTo>
                    <a:pt x="29" y="65"/>
                  </a:lnTo>
                  <a:lnTo>
                    <a:pt x="16" y="79"/>
                  </a:lnTo>
                  <a:lnTo>
                    <a:pt x="8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6c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97520" y="3825720"/>
              <a:ext cx="941400" cy="638280"/>
            </a:xfrm>
            <a:custGeom>
              <a:avLst/>
              <a:gdLst/>
              <a:ahLst/>
              <a:rect l="l" t="t" r="r" b="b"/>
              <a:pathLst>
                <a:path w="593" h="402">
                  <a:moveTo>
                    <a:pt x="593" y="402"/>
                  </a:moveTo>
                  <a:lnTo>
                    <a:pt x="587" y="394"/>
                  </a:lnTo>
                  <a:lnTo>
                    <a:pt x="582" y="385"/>
                  </a:lnTo>
                  <a:lnTo>
                    <a:pt x="529" y="391"/>
                  </a:lnTo>
                  <a:lnTo>
                    <a:pt x="476" y="394"/>
                  </a:lnTo>
                  <a:lnTo>
                    <a:pt x="423" y="394"/>
                  </a:lnTo>
                  <a:lnTo>
                    <a:pt x="370" y="394"/>
                  </a:lnTo>
                  <a:lnTo>
                    <a:pt x="316" y="388"/>
                  </a:lnTo>
                  <a:lnTo>
                    <a:pt x="266" y="382"/>
                  </a:lnTo>
                  <a:lnTo>
                    <a:pt x="213" y="374"/>
                  </a:lnTo>
                  <a:lnTo>
                    <a:pt x="162" y="363"/>
                  </a:lnTo>
                  <a:lnTo>
                    <a:pt x="146" y="374"/>
                  </a:lnTo>
                  <a:lnTo>
                    <a:pt x="130" y="380"/>
                  </a:lnTo>
                  <a:lnTo>
                    <a:pt x="117" y="382"/>
                  </a:lnTo>
                  <a:lnTo>
                    <a:pt x="99" y="385"/>
                  </a:lnTo>
                  <a:lnTo>
                    <a:pt x="99" y="349"/>
                  </a:lnTo>
                  <a:lnTo>
                    <a:pt x="99" y="309"/>
                  </a:lnTo>
                  <a:lnTo>
                    <a:pt x="115" y="309"/>
                  </a:lnTo>
                  <a:lnTo>
                    <a:pt x="130" y="309"/>
                  </a:lnTo>
                  <a:lnTo>
                    <a:pt x="130" y="304"/>
                  </a:lnTo>
                  <a:lnTo>
                    <a:pt x="130" y="301"/>
                  </a:lnTo>
                  <a:lnTo>
                    <a:pt x="117" y="295"/>
                  </a:lnTo>
                  <a:lnTo>
                    <a:pt x="107" y="292"/>
                  </a:lnTo>
                  <a:lnTo>
                    <a:pt x="99" y="287"/>
                  </a:lnTo>
                  <a:lnTo>
                    <a:pt x="91" y="281"/>
                  </a:lnTo>
                  <a:lnTo>
                    <a:pt x="85" y="276"/>
                  </a:lnTo>
                  <a:lnTo>
                    <a:pt x="83" y="270"/>
                  </a:lnTo>
                  <a:lnTo>
                    <a:pt x="80" y="262"/>
                  </a:lnTo>
                  <a:lnTo>
                    <a:pt x="80" y="253"/>
                  </a:lnTo>
                  <a:lnTo>
                    <a:pt x="80" y="219"/>
                  </a:lnTo>
                  <a:lnTo>
                    <a:pt x="83" y="177"/>
                  </a:lnTo>
                  <a:lnTo>
                    <a:pt x="38" y="152"/>
                  </a:lnTo>
                  <a:lnTo>
                    <a:pt x="3" y="132"/>
                  </a:lnTo>
                  <a:lnTo>
                    <a:pt x="0" y="85"/>
                  </a:lnTo>
                  <a:lnTo>
                    <a:pt x="3" y="43"/>
                  </a:lnTo>
                  <a:lnTo>
                    <a:pt x="6" y="34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19" y="14"/>
                  </a:lnTo>
                  <a:lnTo>
                    <a:pt x="27" y="9"/>
                  </a:lnTo>
                  <a:lnTo>
                    <a:pt x="38" y="6"/>
                  </a:lnTo>
                  <a:lnTo>
                    <a:pt x="48" y="3"/>
                  </a:lnTo>
                  <a:lnTo>
                    <a:pt x="61" y="0"/>
                  </a:lnTo>
                  <a:lnTo>
                    <a:pt x="61" y="37"/>
                  </a:lnTo>
                  <a:lnTo>
                    <a:pt x="61" y="73"/>
                  </a:lnTo>
                  <a:lnTo>
                    <a:pt x="67" y="73"/>
                  </a:lnTo>
                  <a:lnTo>
                    <a:pt x="72" y="73"/>
                  </a:lnTo>
                  <a:lnTo>
                    <a:pt x="93" y="99"/>
                  </a:lnTo>
                  <a:lnTo>
                    <a:pt x="112" y="118"/>
                  </a:lnTo>
                  <a:lnTo>
                    <a:pt x="136" y="135"/>
                  </a:lnTo>
                  <a:lnTo>
                    <a:pt x="168" y="152"/>
                  </a:lnTo>
                  <a:lnTo>
                    <a:pt x="168" y="177"/>
                  </a:lnTo>
                  <a:lnTo>
                    <a:pt x="168" y="200"/>
                  </a:lnTo>
                  <a:lnTo>
                    <a:pt x="170" y="225"/>
                  </a:lnTo>
                  <a:lnTo>
                    <a:pt x="170" y="250"/>
                  </a:lnTo>
                  <a:lnTo>
                    <a:pt x="194" y="262"/>
                  </a:lnTo>
                  <a:lnTo>
                    <a:pt x="215" y="273"/>
                  </a:lnTo>
                  <a:lnTo>
                    <a:pt x="237" y="281"/>
                  </a:lnTo>
                  <a:lnTo>
                    <a:pt x="258" y="284"/>
                  </a:lnTo>
                  <a:lnTo>
                    <a:pt x="277" y="287"/>
                  </a:lnTo>
                  <a:lnTo>
                    <a:pt x="298" y="287"/>
                  </a:lnTo>
                  <a:lnTo>
                    <a:pt x="316" y="284"/>
                  </a:lnTo>
                  <a:lnTo>
                    <a:pt x="338" y="281"/>
                  </a:lnTo>
                  <a:lnTo>
                    <a:pt x="378" y="273"/>
                  </a:lnTo>
                  <a:lnTo>
                    <a:pt x="417" y="264"/>
                  </a:lnTo>
                  <a:lnTo>
                    <a:pt x="460" y="256"/>
                  </a:lnTo>
                  <a:lnTo>
                    <a:pt x="508" y="250"/>
                  </a:lnTo>
                  <a:lnTo>
                    <a:pt x="524" y="273"/>
                  </a:lnTo>
                  <a:lnTo>
                    <a:pt x="534" y="284"/>
                  </a:lnTo>
                  <a:lnTo>
                    <a:pt x="537" y="292"/>
                  </a:lnTo>
                  <a:lnTo>
                    <a:pt x="540" y="301"/>
                  </a:lnTo>
                  <a:lnTo>
                    <a:pt x="545" y="301"/>
                  </a:lnTo>
                  <a:lnTo>
                    <a:pt x="550" y="301"/>
                  </a:lnTo>
                  <a:lnTo>
                    <a:pt x="561" y="323"/>
                  </a:lnTo>
                  <a:lnTo>
                    <a:pt x="577" y="346"/>
                  </a:lnTo>
                  <a:lnTo>
                    <a:pt x="582" y="360"/>
                  </a:lnTo>
                  <a:lnTo>
                    <a:pt x="587" y="374"/>
                  </a:lnTo>
                  <a:lnTo>
                    <a:pt x="593" y="388"/>
                  </a:lnTo>
                  <a:lnTo>
                    <a:pt x="593" y="4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23120" y="41432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01" y="90"/>
                  </a:moveTo>
                  <a:lnTo>
                    <a:pt x="77" y="84"/>
                  </a:lnTo>
                  <a:lnTo>
                    <a:pt x="59" y="81"/>
                  </a:lnTo>
                  <a:lnTo>
                    <a:pt x="35" y="78"/>
                  </a:lnTo>
                  <a:lnTo>
                    <a:pt x="0" y="76"/>
                  </a:lnTo>
                  <a:lnTo>
                    <a:pt x="8" y="42"/>
                  </a:lnTo>
                  <a:lnTo>
                    <a:pt x="16" y="8"/>
                  </a:lnTo>
                  <a:lnTo>
                    <a:pt x="11" y="8"/>
                  </a:lnTo>
                  <a:lnTo>
                    <a:pt x="5" y="8"/>
                  </a:lnTo>
                  <a:lnTo>
                    <a:pt x="5" y="3"/>
                  </a:lnTo>
                  <a:lnTo>
                    <a:pt x="5" y="0"/>
                  </a:lnTo>
                  <a:lnTo>
                    <a:pt x="40" y="5"/>
                  </a:lnTo>
                  <a:lnTo>
                    <a:pt x="72" y="14"/>
                  </a:lnTo>
                  <a:lnTo>
                    <a:pt x="106" y="22"/>
                  </a:lnTo>
                  <a:lnTo>
                    <a:pt x="138" y="28"/>
                  </a:lnTo>
                  <a:lnTo>
                    <a:pt x="141" y="42"/>
                  </a:lnTo>
                  <a:lnTo>
                    <a:pt x="141" y="50"/>
                  </a:lnTo>
                  <a:lnTo>
                    <a:pt x="138" y="64"/>
                  </a:lnTo>
                  <a:lnTo>
                    <a:pt x="133" y="84"/>
                  </a:lnTo>
                  <a:lnTo>
                    <a:pt x="117" y="87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8680" y="4183200"/>
              <a:ext cx="17748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58" y="42"/>
                  </a:moveTo>
                  <a:lnTo>
                    <a:pt x="29" y="39"/>
                  </a:lnTo>
                  <a:lnTo>
                    <a:pt x="0" y="34"/>
                  </a:lnTo>
                  <a:lnTo>
                    <a:pt x="3" y="17"/>
                  </a:lnTo>
                  <a:lnTo>
                    <a:pt x="5" y="0"/>
                  </a:lnTo>
                  <a:lnTo>
                    <a:pt x="32" y="3"/>
                  </a:lnTo>
                  <a:lnTo>
                    <a:pt x="58" y="6"/>
                  </a:lnTo>
                  <a:lnTo>
                    <a:pt x="85" y="9"/>
                  </a:lnTo>
                  <a:lnTo>
                    <a:pt x="112" y="11"/>
                  </a:lnTo>
                  <a:lnTo>
                    <a:pt x="109" y="25"/>
                  </a:lnTo>
                  <a:lnTo>
                    <a:pt x="106" y="34"/>
                  </a:lnTo>
                  <a:lnTo>
                    <a:pt x="101" y="39"/>
                  </a:lnTo>
                  <a:lnTo>
                    <a:pt x="96" y="42"/>
                  </a:lnTo>
                  <a:lnTo>
                    <a:pt x="80" y="45"/>
                  </a:lnTo>
                  <a:lnTo>
                    <a:pt x="58" y="4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78720" y="1833480"/>
              <a:ext cx="1031760" cy="2122560"/>
            </a:xfrm>
            <a:custGeom>
              <a:avLst/>
              <a:gdLst/>
              <a:ahLst/>
              <a:rect l="l" t="t" r="r" b="b"/>
              <a:pathLst>
                <a:path w="650" h="1337">
                  <a:moveTo>
                    <a:pt x="401" y="1337"/>
                  </a:moveTo>
                  <a:lnTo>
                    <a:pt x="395" y="1317"/>
                  </a:lnTo>
                  <a:lnTo>
                    <a:pt x="393" y="1300"/>
                  </a:lnTo>
                  <a:lnTo>
                    <a:pt x="390" y="1272"/>
                  </a:lnTo>
                  <a:lnTo>
                    <a:pt x="385" y="1222"/>
                  </a:lnTo>
                  <a:lnTo>
                    <a:pt x="353" y="1205"/>
                  </a:lnTo>
                  <a:lnTo>
                    <a:pt x="321" y="1188"/>
                  </a:lnTo>
                  <a:lnTo>
                    <a:pt x="321" y="1182"/>
                  </a:lnTo>
                  <a:lnTo>
                    <a:pt x="321" y="1177"/>
                  </a:lnTo>
                  <a:lnTo>
                    <a:pt x="295" y="1160"/>
                  </a:lnTo>
                  <a:lnTo>
                    <a:pt x="279" y="1143"/>
                  </a:lnTo>
                  <a:lnTo>
                    <a:pt x="271" y="1135"/>
                  </a:lnTo>
                  <a:lnTo>
                    <a:pt x="265" y="1126"/>
                  </a:lnTo>
                  <a:lnTo>
                    <a:pt x="263" y="1118"/>
                  </a:lnTo>
                  <a:lnTo>
                    <a:pt x="263" y="1109"/>
                  </a:lnTo>
                  <a:lnTo>
                    <a:pt x="263" y="1093"/>
                  </a:lnTo>
                  <a:lnTo>
                    <a:pt x="268" y="1076"/>
                  </a:lnTo>
                  <a:lnTo>
                    <a:pt x="279" y="1053"/>
                  </a:lnTo>
                  <a:lnTo>
                    <a:pt x="289" y="1028"/>
                  </a:lnTo>
                  <a:lnTo>
                    <a:pt x="295" y="1028"/>
                  </a:lnTo>
                  <a:lnTo>
                    <a:pt x="300" y="1028"/>
                  </a:lnTo>
                  <a:lnTo>
                    <a:pt x="300" y="1020"/>
                  </a:lnTo>
                  <a:lnTo>
                    <a:pt x="300" y="1011"/>
                  </a:lnTo>
                  <a:lnTo>
                    <a:pt x="289" y="1020"/>
                  </a:lnTo>
                  <a:lnTo>
                    <a:pt x="279" y="1028"/>
                  </a:lnTo>
                  <a:lnTo>
                    <a:pt x="268" y="1042"/>
                  </a:lnTo>
                  <a:lnTo>
                    <a:pt x="260" y="1053"/>
                  </a:lnTo>
                  <a:lnTo>
                    <a:pt x="244" y="1081"/>
                  </a:lnTo>
                  <a:lnTo>
                    <a:pt x="225" y="1109"/>
                  </a:lnTo>
                  <a:lnTo>
                    <a:pt x="218" y="1123"/>
                  </a:lnTo>
                  <a:lnTo>
                    <a:pt x="207" y="1132"/>
                  </a:lnTo>
                  <a:lnTo>
                    <a:pt x="196" y="1140"/>
                  </a:lnTo>
                  <a:lnTo>
                    <a:pt x="186" y="1146"/>
                  </a:lnTo>
                  <a:lnTo>
                    <a:pt x="172" y="1146"/>
                  </a:lnTo>
                  <a:lnTo>
                    <a:pt x="156" y="1146"/>
                  </a:lnTo>
                  <a:lnTo>
                    <a:pt x="138" y="1138"/>
                  </a:lnTo>
                  <a:lnTo>
                    <a:pt x="117" y="1126"/>
                  </a:lnTo>
                  <a:lnTo>
                    <a:pt x="103" y="1095"/>
                  </a:lnTo>
                  <a:lnTo>
                    <a:pt x="90" y="1059"/>
                  </a:lnTo>
                  <a:lnTo>
                    <a:pt x="82" y="1022"/>
                  </a:lnTo>
                  <a:lnTo>
                    <a:pt x="77" y="983"/>
                  </a:lnTo>
                  <a:lnTo>
                    <a:pt x="69" y="907"/>
                  </a:lnTo>
                  <a:lnTo>
                    <a:pt x="69" y="837"/>
                  </a:lnTo>
                  <a:lnTo>
                    <a:pt x="82" y="831"/>
                  </a:lnTo>
                  <a:lnTo>
                    <a:pt x="93" y="823"/>
                  </a:lnTo>
                  <a:lnTo>
                    <a:pt x="103" y="812"/>
                  </a:lnTo>
                  <a:lnTo>
                    <a:pt x="111" y="801"/>
                  </a:lnTo>
                  <a:lnTo>
                    <a:pt x="127" y="775"/>
                  </a:lnTo>
                  <a:lnTo>
                    <a:pt x="143" y="747"/>
                  </a:lnTo>
                  <a:lnTo>
                    <a:pt x="164" y="742"/>
                  </a:lnTo>
                  <a:lnTo>
                    <a:pt x="186" y="739"/>
                  </a:lnTo>
                  <a:lnTo>
                    <a:pt x="212" y="736"/>
                  </a:lnTo>
                  <a:lnTo>
                    <a:pt x="257" y="733"/>
                  </a:lnTo>
                  <a:lnTo>
                    <a:pt x="268" y="744"/>
                  </a:lnTo>
                  <a:lnTo>
                    <a:pt x="273" y="753"/>
                  </a:lnTo>
                  <a:lnTo>
                    <a:pt x="279" y="756"/>
                  </a:lnTo>
                  <a:lnTo>
                    <a:pt x="284" y="758"/>
                  </a:lnTo>
                  <a:lnTo>
                    <a:pt x="284" y="750"/>
                  </a:lnTo>
                  <a:lnTo>
                    <a:pt x="284" y="742"/>
                  </a:lnTo>
                  <a:lnTo>
                    <a:pt x="279" y="742"/>
                  </a:lnTo>
                  <a:lnTo>
                    <a:pt x="273" y="742"/>
                  </a:lnTo>
                  <a:lnTo>
                    <a:pt x="273" y="733"/>
                  </a:lnTo>
                  <a:lnTo>
                    <a:pt x="273" y="725"/>
                  </a:lnTo>
                  <a:lnTo>
                    <a:pt x="268" y="725"/>
                  </a:lnTo>
                  <a:lnTo>
                    <a:pt x="263" y="725"/>
                  </a:lnTo>
                  <a:lnTo>
                    <a:pt x="260" y="711"/>
                  </a:lnTo>
                  <a:lnTo>
                    <a:pt x="255" y="697"/>
                  </a:lnTo>
                  <a:lnTo>
                    <a:pt x="244" y="694"/>
                  </a:lnTo>
                  <a:lnTo>
                    <a:pt x="236" y="691"/>
                  </a:lnTo>
                  <a:lnTo>
                    <a:pt x="241" y="699"/>
                  </a:lnTo>
                  <a:lnTo>
                    <a:pt x="244" y="705"/>
                  </a:lnTo>
                  <a:lnTo>
                    <a:pt x="244" y="711"/>
                  </a:lnTo>
                  <a:lnTo>
                    <a:pt x="241" y="716"/>
                  </a:lnTo>
                  <a:lnTo>
                    <a:pt x="202" y="722"/>
                  </a:lnTo>
                  <a:lnTo>
                    <a:pt x="167" y="722"/>
                  </a:lnTo>
                  <a:lnTo>
                    <a:pt x="151" y="719"/>
                  </a:lnTo>
                  <a:lnTo>
                    <a:pt x="135" y="716"/>
                  </a:lnTo>
                  <a:lnTo>
                    <a:pt x="119" y="711"/>
                  </a:lnTo>
                  <a:lnTo>
                    <a:pt x="101" y="702"/>
                  </a:lnTo>
                  <a:lnTo>
                    <a:pt x="101" y="697"/>
                  </a:lnTo>
                  <a:lnTo>
                    <a:pt x="101" y="691"/>
                  </a:lnTo>
                  <a:lnTo>
                    <a:pt x="85" y="683"/>
                  </a:lnTo>
                  <a:lnTo>
                    <a:pt x="69" y="674"/>
                  </a:lnTo>
                  <a:lnTo>
                    <a:pt x="69" y="669"/>
                  </a:lnTo>
                  <a:lnTo>
                    <a:pt x="69" y="663"/>
                  </a:lnTo>
                  <a:lnTo>
                    <a:pt x="53" y="652"/>
                  </a:lnTo>
                  <a:lnTo>
                    <a:pt x="45" y="643"/>
                  </a:lnTo>
                  <a:lnTo>
                    <a:pt x="42" y="635"/>
                  </a:lnTo>
                  <a:lnTo>
                    <a:pt x="37" y="624"/>
                  </a:lnTo>
                  <a:lnTo>
                    <a:pt x="48" y="615"/>
                  </a:lnTo>
                  <a:lnTo>
                    <a:pt x="58" y="607"/>
                  </a:lnTo>
                  <a:lnTo>
                    <a:pt x="69" y="593"/>
                  </a:lnTo>
                  <a:lnTo>
                    <a:pt x="79" y="579"/>
                  </a:lnTo>
                  <a:lnTo>
                    <a:pt x="87" y="565"/>
                  </a:lnTo>
                  <a:lnTo>
                    <a:pt x="95" y="551"/>
                  </a:lnTo>
                  <a:lnTo>
                    <a:pt x="101" y="534"/>
                  </a:lnTo>
                  <a:lnTo>
                    <a:pt x="106" y="523"/>
                  </a:lnTo>
                  <a:lnTo>
                    <a:pt x="90" y="523"/>
                  </a:lnTo>
                  <a:lnTo>
                    <a:pt x="74" y="520"/>
                  </a:lnTo>
                  <a:lnTo>
                    <a:pt x="61" y="511"/>
                  </a:lnTo>
                  <a:lnTo>
                    <a:pt x="48" y="503"/>
                  </a:lnTo>
                  <a:lnTo>
                    <a:pt x="26" y="483"/>
                  </a:lnTo>
                  <a:lnTo>
                    <a:pt x="10" y="472"/>
                  </a:lnTo>
                  <a:lnTo>
                    <a:pt x="2" y="441"/>
                  </a:lnTo>
                  <a:lnTo>
                    <a:pt x="0" y="413"/>
                  </a:lnTo>
                  <a:lnTo>
                    <a:pt x="0" y="391"/>
                  </a:lnTo>
                  <a:lnTo>
                    <a:pt x="5" y="374"/>
                  </a:lnTo>
                  <a:lnTo>
                    <a:pt x="16" y="357"/>
                  </a:lnTo>
                  <a:lnTo>
                    <a:pt x="26" y="343"/>
                  </a:lnTo>
                  <a:lnTo>
                    <a:pt x="40" y="332"/>
                  </a:lnTo>
                  <a:lnTo>
                    <a:pt x="58" y="320"/>
                  </a:lnTo>
                  <a:lnTo>
                    <a:pt x="95" y="303"/>
                  </a:lnTo>
                  <a:lnTo>
                    <a:pt x="138" y="284"/>
                  </a:lnTo>
                  <a:lnTo>
                    <a:pt x="162" y="273"/>
                  </a:lnTo>
                  <a:lnTo>
                    <a:pt x="183" y="261"/>
                  </a:lnTo>
                  <a:lnTo>
                    <a:pt x="204" y="247"/>
                  </a:lnTo>
                  <a:lnTo>
                    <a:pt x="223" y="230"/>
                  </a:lnTo>
                  <a:lnTo>
                    <a:pt x="231" y="188"/>
                  </a:lnTo>
                  <a:lnTo>
                    <a:pt x="241" y="149"/>
                  </a:lnTo>
                  <a:lnTo>
                    <a:pt x="252" y="113"/>
                  </a:lnTo>
                  <a:lnTo>
                    <a:pt x="265" y="79"/>
                  </a:lnTo>
                  <a:lnTo>
                    <a:pt x="308" y="25"/>
                  </a:lnTo>
                  <a:lnTo>
                    <a:pt x="321" y="6"/>
                  </a:lnTo>
                  <a:lnTo>
                    <a:pt x="366" y="6"/>
                  </a:lnTo>
                  <a:lnTo>
                    <a:pt x="390" y="6"/>
                  </a:lnTo>
                  <a:lnTo>
                    <a:pt x="409" y="3"/>
                  </a:lnTo>
                  <a:lnTo>
                    <a:pt x="427" y="0"/>
                  </a:lnTo>
                  <a:lnTo>
                    <a:pt x="430" y="9"/>
                  </a:lnTo>
                  <a:lnTo>
                    <a:pt x="433" y="17"/>
                  </a:lnTo>
                  <a:lnTo>
                    <a:pt x="438" y="23"/>
                  </a:lnTo>
                  <a:lnTo>
                    <a:pt x="443" y="31"/>
                  </a:lnTo>
                  <a:lnTo>
                    <a:pt x="457" y="40"/>
                  </a:lnTo>
                  <a:lnTo>
                    <a:pt x="475" y="48"/>
                  </a:lnTo>
                  <a:lnTo>
                    <a:pt x="512" y="59"/>
                  </a:lnTo>
                  <a:lnTo>
                    <a:pt x="550" y="68"/>
                  </a:lnTo>
                  <a:lnTo>
                    <a:pt x="558" y="98"/>
                  </a:lnTo>
                  <a:lnTo>
                    <a:pt x="563" y="129"/>
                  </a:lnTo>
                  <a:lnTo>
                    <a:pt x="544" y="141"/>
                  </a:lnTo>
                  <a:lnTo>
                    <a:pt x="526" y="155"/>
                  </a:lnTo>
                  <a:lnTo>
                    <a:pt x="510" y="169"/>
                  </a:lnTo>
                  <a:lnTo>
                    <a:pt x="496" y="183"/>
                  </a:lnTo>
                  <a:lnTo>
                    <a:pt x="483" y="200"/>
                  </a:lnTo>
                  <a:lnTo>
                    <a:pt x="470" y="216"/>
                  </a:lnTo>
                  <a:lnTo>
                    <a:pt x="459" y="236"/>
                  </a:lnTo>
                  <a:lnTo>
                    <a:pt x="451" y="253"/>
                  </a:lnTo>
                  <a:lnTo>
                    <a:pt x="446" y="273"/>
                  </a:lnTo>
                  <a:lnTo>
                    <a:pt x="441" y="292"/>
                  </a:lnTo>
                  <a:lnTo>
                    <a:pt x="438" y="315"/>
                  </a:lnTo>
                  <a:lnTo>
                    <a:pt x="438" y="334"/>
                  </a:lnTo>
                  <a:lnTo>
                    <a:pt x="441" y="357"/>
                  </a:lnTo>
                  <a:lnTo>
                    <a:pt x="446" y="379"/>
                  </a:lnTo>
                  <a:lnTo>
                    <a:pt x="451" y="402"/>
                  </a:lnTo>
                  <a:lnTo>
                    <a:pt x="462" y="427"/>
                  </a:lnTo>
                  <a:lnTo>
                    <a:pt x="475" y="435"/>
                  </a:lnTo>
                  <a:lnTo>
                    <a:pt x="486" y="444"/>
                  </a:lnTo>
                  <a:lnTo>
                    <a:pt x="486" y="450"/>
                  </a:lnTo>
                  <a:lnTo>
                    <a:pt x="486" y="455"/>
                  </a:lnTo>
                  <a:lnTo>
                    <a:pt x="520" y="469"/>
                  </a:lnTo>
                  <a:lnTo>
                    <a:pt x="552" y="483"/>
                  </a:lnTo>
                  <a:lnTo>
                    <a:pt x="550" y="503"/>
                  </a:lnTo>
                  <a:lnTo>
                    <a:pt x="544" y="520"/>
                  </a:lnTo>
                  <a:lnTo>
                    <a:pt x="539" y="531"/>
                  </a:lnTo>
                  <a:lnTo>
                    <a:pt x="531" y="539"/>
                  </a:lnTo>
                  <a:lnTo>
                    <a:pt x="528" y="551"/>
                  </a:lnTo>
                  <a:lnTo>
                    <a:pt x="528" y="562"/>
                  </a:lnTo>
                  <a:lnTo>
                    <a:pt x="536" y="584"/>
                  </a:lnTo>
                  <a:lnTo>
                    <a:pt x="550" y="612"/>
                  </a:lnTo>
                  <a:lnTo>
                    <a:pt x="555" y="612"/>
                  </a:lnTo>
                  <a:lnTo>
                    <a:pt x="560" y="615"/>
                  </a:lnTo>
                  <a:lnTo>
                    <a:pt x="539" y="621"/>
                  </a:lnTo>
                  <a:lnTo>
                    <a:pt x="518" y="629"/>
                  </a:lnTo>
                  <a:lnTo>
                    <a:pt x="518" y="649"/>
                  </a:lnTo>
                  <a:lnTo>
                    <a:pt x="518" y="669"/>
                  </a:lnTo>
                  <a:lnTo>
                    <a:pt x="523" y="669"/>
                  </a:lnTo>
                  <a:lnTo>
                    <a:pt x="528" y="669"/>
                  </a:lnTo>
                  <a:lnTo>
                    <a:pt x="531" y="652"/>
                  </a:lnTo>
                  <a:lnTo>
                    <a:pt x="534" y="638"/>
                  </a:lnTo>
                  <a:lnTo>
                    <a:pt x="558" y="638"/>
                  </a:lnTo>
                  <a:lnTo>
                    <a:pt x="581" y="640"/>
                  </a:lnTo>
                  <a:lnTo>
                    <a:pt x="581" y="663"/>
                  </a:lnTo>
                  <a:lnTo>
                    <a:pt x="576" y="677"/>
                  </a:lnTo>
                  <a:lnTo>
                    <a:pt x="573" y="683"/>
                  </a:lnTo>
                  <a:lnTo>
                    <a:pt x="568" y="685"/>
                  </a:lnTo>
                  <a:lnTo>
                    <a:pt x="560" y="688"/>
                  </a:lnTo>
                  <a:lnTo>
                    <a:pt x="550" y="691"/>
                  </a:lnTo>
                  <a:lnTo>
                    <a:pt x="550" y="697"/>
                  </a:lnTo>
                  <a:lnTo>
                    <a:pt x="550" y="702"/>
                  </a:lnTo>
                  <a:lnTo>
                    <a:pt x="565" y="699"/>
                  </a:lnTo>
                  <a:lnTo>
                    <a:pt x="576" y="694"/>
                  </a:lnTo>
                  <a:lnTo>
                    <a:pt x="584" y="691"/>
                  </a:lnTo>
                  <a:lnTo>
                    <a:pt x="587" y="683"/>
                  </a:lnTo>
                  <a:lnTo>
                    <a:pt x="589" y="663"/>
                  </a:lnTo>
                  <a:lnTo>
                    <a:pt x="592" y="635"/>
                  </a:lnTo>
                  <a:lnTo>
                    <a:pt x="621" y="638"/>
                  </a:lnTo>
                  <a:lnTo>
                    <a:pt x="650" y="640"/>
                  </a:lnTo>
                  <a:lnTo>
                    <a:pt x="643" y="666"/>
                  </a:lnTo>
                  <a:lnTo>
                    <a:pt x="632" y="685"/>
                  </a:lnTo>
                  <a:lnTo>
                    <a:pt x="619" y="699"/>
                  </a:lnTo>
                  <a:lnTo>
                    <a:pt x="605" y="708"/>
                  </a:lnTo>
                  <a:lnTo>
                    <a:pt x="589" y="713"/>
                  </a:lnTo>
                  <a:lnTo>
                    <a:pt x="571" y="716"/>
                  </a:lnTo>
                  <a:lnTo>
                    <a:pt x="552" y="716"/>
                  </a:lnTo>
                  <a:lnTo>
                    <a:pt x="536" y="713"/>
                  </a:lnTo>
                  <a:lnTo>
                    <a:pt x="518" y="713"/>
                  </a:lnTo>
                  <a:lnTo>
                    <a:pt x="502" y="713"/>
                  </a:lnTo>
                  <a:lnTo>
                    <a:pt x="486" y="713"/>
                  </a:lnTo>
                  <a:lnTo>
                    <a:pt x="473" y="719"/>
                  </a:lnTo>
                  <a:lnTo>
                    <a:pt x="462" y="728"/>
                  </a:lnTo>
                  <a:lnTo>
                    <a:pt x="454" y="742"/>
                  </a:lnTo>
                  <a:lnTo>
                    <a:pt x="449" y="761"/>
                  </a:lnTo>
                  <a:lnTo>
                    <a:pt x="446" y="786"/>
                  </a:lnTo>
                  <a:lnTo>
                    <a:pt x="459" y="803"/>
                  </a:lnTo>
                  <a:lnTo>
                    <a:pt x="467" y="812"/>
                  </a:lnTo>
                  <a:lnTo>
                    <a:pt x="475" y="817"/>
                  </a:lnTo>
                  <a:lnTo>
                    <a:pt x="486" y="826"/>
                  </a:lnTo>
                  <a:lnTo>
                    <a:pt x="486" y="837"/>
                  </a:lnTo>
                  <a:lnTo>
                    <a:pt x="486" y="848"/>
                  </a:lnTo>
                  <a:lnTo>
                    <a:pt x="480" y="851"/>
                  </a:lnTo>
                  <a:lnTo>
                    <a:pt x="473" y="854"/>
                  </a:lnTo>
                  <a:lnTo>
                    <a:pt x="462" y="888"/>
                  </a:lnTo>
                  <a:lnTo>
                    <a:pt x="454" y="916"/>
                  </a:lnTo>
                  <a:lnTo>
                    <a:pt x="449" y="941"/>
                  </a:lnTo>
                  <a:lnTo>
                    <a:pt x="449" y="963"/>
                  </a:lnTo>
                  <a:lnTo>
                    <a:pt x="449" y="989"/>
                  </a:lnTo>
                  <a:lnTo>
                    <a:pt x="454" y="1014"/>
                  </a:lnTo>
                  <a:lnTo>
                    <a:pt x="465" y="1045"/>
                  </a:lnTo>
                  <a:lnTo>
                    <a:pt x="475" y="1084"/>
                  </a:lnTo>
                  <a:lnTo>
                    <a:pt x="480" y="1084"/>
                  </a:lnTo>
                  <a:lnTo>
                    <a:pt x="486" y="1084"/>
                  </a:lnTo>
                  <a:lnTo>
                    <a:pt x="491" y="1095"/>
                  </a:lnTo>
                  <a:lnTo>
                    <a:pt x="496" y="1107"/>
                  </a:lnTo>
                  <a:lnTo>
                    <a:pt x="504" y="1118"/>
                  </a:lnTo>
                  <a:lnTo>
                    <a:pt x="518" y="1126"/>
                  </a:lnTo>
                  <a:lnTo>
                    <a:pt x="518" y="1140"/>
                  </a:lnTo>
                  <a:lnTo>
                    <a:pt x="515" y="1152"/>
                  </a:lnTo>
                  <a:lnTo>
                    <a:pt x="512" y="1166"/>
                  </a:lnTo>
                  <a:lnTo>
                    <a:pt x="507" y="1180"/>
                  </a:lnTo>
                  <a:lnTo>
                    <a:pt x="494" y="1211"/>
                  </a:lnTo>
                  <a:lnTo>
                    <a:pt x="478" y="1241"/>
                  </a:lnTo>
                  <a:lnTo>
                    <a:pt x="457" y="1269"/>
                  </a:lnTo>
                  <a:lnTo>
                    <a:pt x="438" y="1298"/>
                  </a:lnTo>
                  <a:lnTo>
                    <a:pt x="419" y="1320"/>
                  </a:lnTo>
                  <a:lnTo>
                    <a:pt x="401" y="133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520" y="3492360"/>
              <a:ext cx="307800" cy="454320"/>
            </a:xfrm>
            <a:custGeom>
              <a:avLst/>
              <a:gdLst/>
              <a:ahLst/>
              <a:rect l="l" t="t" r="r" b="b"/>
              <a:pathLst>
                <a:path w="194" h="286">
                  <a:moveTo>
                    <a:pt x="148" y="286"/>
                  </a:moveTo>
                  <a:lnTo>
                    <a:pt x="106" y="269"/>
                  </a:lnTo>
                  <a:lnTo>
                    <a:pt x="74" y="258"/>
                  </a:lnTo>
                  <a:lnTo>
                    <a:pt x="61" y="255"/>
                  </a:lnTo>
                  <a:lnTo>
                    <a:pt x="42" y="253"/>
                  </a:lnTo>
                  <a:lnTo>
                    <a:pt x="24" y="255"/>
                  </a:lnTo>
                  <a:lnTo>
                    <a:pt x="0" y="258"/>
                  </a:lnTo>
                  <a:lnTo>
                    <a:pt x="2" y="244"/>
                  </a:lnTo>
                  <a:lnTo>
                    <a:pt x="8" y="230"/>
                  </a:lnTo>
                  <a:lnTo>
                    <a:pt x="16" y="219"/>
                  </a:lnTo>
                  <a:lnTo>
                    <a:pt x="24" y="208"/>
                  </a:lnTo>
                  <a:lnTo>
                    <a:pt x="39" y="185"/>
                  </a:lnTo>
                  <a:lnTo>
                    <a:pt x="58" y="166"/>
                  </a:lnTo>
                  <a:lnTo>
                    <a:pt x="74" y="143"/>
                  </a:lnTo>
                  <a:lnTo>
                    <a:pt x="85" y="123"/>
                  </a:lnTo>
                  <a:lnTo>
                    <a:pt x="87" y="109"/>
                  </a:lnTo>
                  <a:lnTo>
                    <a:pt x="87" y="98"/>
                  </a:lnTo>
                  <a:lnTo>
                    <a:pt x="85" y="84"/>
                  </a:lnTo>
                  <a:lnTo>
                    <a:pt x="79" y="73"/>
                  </a:lnTo>
                  <a:lnTo>
                    <a:pt x="69" y="64"/>
                  </a:lnTo>
                  <a:lnTo>
                    <a:pt x="61" y="59"/>
                  </a:lnTo>
                  <a:lnTo>
                    <a:pt x="53" y="50"/>
                  </a:lnTo>
                  <a:lnTo>
                    <a:pt x="45" y="39"/>
                  </a:lnTo>
                  <a:lnTo>
                    <a:pt x="37" y="19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87" y="5"/>
                  </a:lnTo>
                  <a:lnTo>
                    <a:pt x="111" y="11"/>
                  </a:lnTo>
                  <a:lnTo>
                    <a:pt x="132" y="19"/>
                  </a:lnTo>
                  <a:lnTo>
                    <a:pt x="151" y="34"/>
                  </a:lnTo>
                  <a:lnTo>
                    <a:pt x="167" y="53"/>
                  </a:lnTo>
                  <a:lnTo>
                    <a:pt x="180" y="78"/>
                  </a:lnTo>
                  <a:lnTo>
                    <a:pt x="194" y="109"/>
                  </a:lnTo>
                  <a:lnTo>
                    <a:pt x="194" y="149"/>
                  </a:lnTo>
                  <a:lnTo>
                    <a:pt x="194" y="199"/>
                  </a:lnTo>
                  <a:lnTo>
                    <a:pt x="191" y="224"/>
                  </a:lnTo>
                  <a:lnTo>
                    <a:pt x="188" y="250"/>
                  </a:lnTo>
                  <a:lnTo>
                    <a:pt x="183" y="269"/>
                  </a:lnTo>
                  <a:lnTo>
                    <a:pt x="175" y="286"/>
                  </a:lnTo>
                  <a:lnTo>
                    <a:pt x="162" y="286"/>
                  </a:lnTo>
                  <a:lnTo>
                    <a:pt x="148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59360" y="3327480"/>
              <a:ext cx="195480" cy="611280"/>
            </a:xfrm>
            <a:custGeom>
              <a:avLst/>
              <a:gdLst/>
              <a:ahLst/>
              <a:rect l="l" t="t" r="r" b="b"/>
              <a:pathLst>
                <a:path w="123" h="385">
                  <a:moveTo>
                    <a:pt x="107" y="385"/>
                  </a:moveTo>
                  <a:lnTo>
                    <a:pt x="101" y="357"/>
                  </a:lnTo>
                  <a:lnTo>
                    <a:pt x="99" y="340"/>
                  </a:lnTo>
                  <a:lnTo>
                    <a:pt x="99" y="320"/>
                  </a:lnTo>
                  <a:lnTo>
                    <a:pt x="99" y="295"/>
                  </a:lnTo>
                  <a:lnTo>
                    <a:pt x="85" y="289"/>
                  </a:lnTo>
                  <a:lnTo>
                    <a:pt x="75" y="286"/>
                  </a:lnTo>
                  <a:lnTo>
                    <a:pt x="77" y="233"/>
                  </a:lnTo>
                  <a:lnTo>
                    <a:pt x="77" y="182"/>
                  </a:lnTo>
                  <a:lnTo>
                    <a:pt x="80" y="129"/>
                  </a:lnTo>
                  <a:lnTo>
                    <a:pt x="83" y="76"/>
                  </a:lnTo>
                  <a:lnTo>
                    <a:pt x="72" y="65"/>
                  </a:lnTo>
                  <a:lnTo>
                    <a:pt x="67" y="59"/>
                  </a:lnTo>
                  <a:lnTo>
                    <a:pt x="62" y="53"/>
                  </a:lnTo>
                  <a:lnTo>
                    <a:pt x="59" y="42"/>
                  </a:lnTo>
                  <a:lnTo>
                    <a:pt x="51" y="42"/>
                  </a:lnTo>
                  <a:lnTo>
                    <a:pt x="43" y="42"/>
                  </a:lnTo>
                  <a:lnTo>
                    <a:pt x="43" y="36"/>
                  </a:lnTo>
                  <a:lnTo>
                    <a:pt x="43" y="31"/>
                  </a:lnTo>
                  <a:lnTo>
                    <a:pt x="22" y="25"/>
                  </a:lnTo>
                  <a:lnTo>
                    <a:pt x="0" y="20"/>
                  </a:lnTo>
                  <a:lnTo>
                    <a:pt x="3" y="8"/>
                  </a:lnTo>
                  <a:lnTo>
                    <a:pt x="6" y="0"/>
                  </a:lnTo>
                  <a:lnTo>
                    <a:pt x="35" y="6"/>
                  </a:lnTo>
                  <a:lnTo>
                    <a:pt x="64" y="14"/>
                  </a:lnTo>
                  <a:lnTo>
                    <a:pt x="93" y="20"/>
                  </a:lnTo>
                  <a:lnTo>
                    <a:pt x="123" y="28"/>
                  </a:lnTo>
                  <a:lnTo>
                    <a:pt x="123" y="87"/>
                  </a:lnTo>
                  <a:lnTo>
                    <a:pt x="123" y="146"/>
                  </a:lnTo>
                  <a:lnTo>
                    <a:pt x="120" y="233"/>
                  </a:lnTo>
                  <a:lnTo>
                    <a:pt x="115" y="382"/>
                  </a:lnTo>
                  <a:lnTo>
                    <a:pt x="109" y="385"/>
                  </a:lnTo>
                  <a:lnTo>
                    <a:pt x="107" y="38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751200"/>
              <a:ext cx="19044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107" y="112"/>
                  </a:moveTo>
                  <a:lnTo>
                    <a:pt x="85" y="106"/>
                  </a:lnTo>
                  <a:lnTo>
                    <a:pt x="67" y="104"/>
                  </a:lnTo>
                  <a:lnTo>
                    <a:pt x="43" y="101"/>
                  </a:lnTo>
                  <a:lnTo>
                    <a:pt x="0" y="98"/>
                  </a:lnTo>
                  <a:lnTo>
                    <a:pt x="3" y="84"/>
                  </a:lnTo>
                  <a:lnTo>
                    <a:pt x="8" y="70"/>
                  </a:lnTo>
                  <a:lnTo>
                    <a:pt x="16" y="56"/>
                  </a:lnTo>
                  <a:lnTo>
                    <a:pt x="24" y="45"/>
                  </a:lnTo>
                  <a:lnTo>
                    <a:pt x="40" y="25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5" y="8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07" y="31"/>
                  </a:lnTo>
                  <a:lnTo>
                    <a:pt x="112" y="31"/>
                  </a:lnTo>
                  <a:lnTo>
                    <a:pt x="117" y="31"/>
                  </a:lnTo>
                  <a:lnTo>
                    <a:pt x="120" y="70"/>
                  </a:lnTo>
                  <a:lnTo>
                    <a:pt x="120" y="112"/>
                  </a:lnTo>
                  <a:lnTo>
                    <a:pt x="115" y="112"/>
                  </a:lnTo>
                  <a:lnTo>
                    <a:pt x="107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7560" y="3090960"/>
              <a:ext cx="338040" cy="263520"/>
            </a:xfrm>
            <a:custGeom>
              <a:avLst/>
              <a:gdLst/>
              <a:ahLst/>
              <a:rect l="l" t="t" r="r" b="b"/>
              <a:pathLst>
                <a:path w="213" h="166">
                  <a:moveTo>
                    <a:pt x="112" y="166"/>
                  </a:moveTo>
                  <a:lnTo>
                    <a:pt x="104" y="163"/>
                  </a:lnTo>
                  <a:lnTo>
                    <a:pt x="96" y="163"/>
                  </a:lnTo>
                  <a:lnTo>
                    <a:pt x="96" y="157"/>
                  </a:lnTo>
                  <a:lnTo>
                    <a:pt x="96" y="152"/>
                  </a:lnTo>
                  <a:lnTo>
                    <a:pt x="88" y="149"/>
                  </a:lnTo>
                  <a:lnTo>
                    <a:pt x="82" y="146"/>
                  </a:lnTo>
                  <a:lnTo>
                    <a:pt x="80" y="132"/>
                  </a:lnTo>
                  <a:lnTo>
                    <a:pt x="80" y="118"/>
                  </a:lnTo>
                  <a:lnTo>
                    <a:pt x="37" y="107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35" y="79"/>
                  </a:lnTo>
                  <a:lnTo>
                    <a:pt x="69" y="84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74" y="93"/>
                  </a:lnTo>
                  <a:lnTo>
                    <a:pt x="82" y="90"/>
                  </a:lnTo>
                  <a:lnTo>
                    <a:pt x="85" y="67"/>
                  </a:lnTo>
                  <a:lnTo>
                    <a:pt x="88" y="45"/>
                  </a:lnTo>
                  <a:lnTo>
                    <a:pt x="90" y="23"/>
                  </a:lnTo>
                  <a:lnTo>
                    <a:pt x="96" y="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141" y="25"/>
                  </a:lnTo>
                  <a:lnTo>
                    <a:pt x="149" y="48"/>
                  </a:lnTo>
                  <a:lnTo>
                    <a:pt x="151" y="73"/>
                  </a:lnTo>
                  <a:lnTo>
                    <a:pt x="151" y="107"/>
                  </a:lnTo>
                  <a:lnTo>
                    <a:pt x="181" y="118"/>
                  </a:lnTo>
                  <a:lnTo>
                    <a:pt x="213" y="129"/>
                  </a:lnTo>
                  <a:lnTo>
                    <a:pt x="210" y="135"/>
                  </a:lnTo>
                  <a:lnTo>
                    <a:pt x="207" y="143"/>
                  </a:lnTo>
                  <a:lnTo>
                    <a:pt x="191" y="141"/>
                  </a:lnTo>
                  <a:lnTo>
                    <a:pt x="175" y="141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65" y="129"/>
                  </a:lnTo>
                  <a:lnTo>
                    <a:pt x="154" y="129"/>
                  </a:lnTo>
                  <a:lnTo>
                    <a:pt x="143" y="143"/>
                  </a:lnTo>
                  <a:lnTo>
                    <a:pt x="135" y="152"/>
                  </a:lnTo>
                  <a:lnTo>
                    <a:pt x="125" y="160"/>
                  </a:lnTo>
                  <a:lnTo>
                    <a:pt x="112" y="16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6240" y="3081240"/>
              <a:ext cx="58680" cy="10332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11" y="65"/>
                  </a:moveTo>
                  <a:lnTo>
                    <a:pt x="6" y="62"/>
                  </a:lnTo>
                  <a:lnTo>
                    <a:pt x="0" y="62"/>
                  </a:lnTo>
                  <a:lnTo>
                    <a:pt x="3" y="34"/>
                  </a:lnTo>
                  <a:lnTo>
                    <a:pt x="6" y="15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35" y="15"/>
                  </a:lnTo>
                  <a:lnTo>
                    <a:pt x="32" y="37"/>
                  </a:lnTo>
                  <a:lnTo>
                    <a:pt x="29" y="48"/>
                  </a:lnTo>
                  <a:lnTo>
                    <a:pt x="24" y="57"/>
                  </a:lnTo>
                  <a:lnTo>
                    <a:pt x="19" y="62"/>
                  </a:lnTo>
                  <a:lnTo>
                    <a:pt x="11" y="65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4800" y="3006720"/>
              <a:ext cx="139680" cy="1332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24" y="84"/>
                  </a:moveTo>
                  <a:lnTo>
                    <a:pt x="13" y="76"/>
                  </a:lnTo>
                  <a:lnTo>
                    <a:pt x="5" y="64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3" y="0"/>
                  </a:lnTo>
                  <a:lnTo>
                    <a:pt x="27" y="5"/>
                  </a:lnTo>
                  <a:lnTo>
                    <a:pt x="45" y="8"/>
                  </a:lnTo>
                  <a:lnTo>
                    <a:pt x="61" y="11"/>
                  </a:lnTo>
                  <a:lnTo>
                    <a:pt x="88" y="14"/>
                  </a:lnTo>
                  <a:lnTo>
                    <a:pt x="66" y="50"/>
                  </a:lnTo>
                  <a:lnTo>
                    <a:pt x="48" y="81"/>
                  </a:lnTo>
                  <a:lnTo>
                    <a:pt x="34" y="81"/>
                  </a:lnTo>
                  <a:lnTo>
                    <a:pt x="24" y="8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6040" y="3063960"/>
              <a:ext cx="68400" cy="633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0" y="40"/>
                  </a:moveTo>
                  <a:lnTo>
                    <a:pt x="0" y="31"/>
                  </a:lnTo>
                  <a:lnTo>
                    <a:pt x="0" y="23"/>
                  </a:lnTo>
                  <a:lnTo>
                    <a:pt x="24" y="9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40" y="23"/>
                  </a:lnTo>
                  <a:lnTo>
                    <a:pt x="38" y="28"/>
                  </a:lnTo>
                  <a:lnTo>
                    <a:pt x="32" y="34"/>
                  </a:lnTo>
                  <a:lnTo>
                    <a:pt x="22" y="3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19960" y="2989440"/>
              <a:ext cx="81000" cy="10620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3" y="67"/>
                  </a:moveTo>
                  <a:lnTo>
                    <a:pt x="3" y="42"/>
                  </a:lnTo>
                  <a:lnTo>
                    <a:pt x="0" y="19"/>
                  </a:lnTo>
                  <a:lnTo>
                    <a:pt x="13" y="5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35" y="14"/>
                  </a:lnTo>
                  <a:lnTo>
                    <a:pt x="16" y="30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1" y="61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94560" y="2859120"/>
              <a:ext cx="156960" cy="13824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69" y="87"/>
                  </a:moveTo>
                  <a:lnTo>
                    <a:pt x="40" y="73"/>
                  </a:lnTo>
                  <a:lnTo>
                    <a:pt x="11" y="62"/>
                  </a:lnTo>
                  <a:lnTo>
                    <a:pt x="6" y="31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7" y="11"/>
                  </a:lnTo>
                  <a:lnTo>
                    <a:pt x="35" y="14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48" y="39"/>
                  </a:lnTo>
                  <a:lnTo>
                    <a:pt x="56" y="39"/>
                  </a:lnTo>
                  <a:lnTo>
                    <a:pt x="64" y="39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80" y="59"/>
                  </a:lnTo>
                  <a:lnTo>
                    <a:pt x="96" y="70"/>
                  </a:lnTo>
                  <a:lnTo>
                    <a:pt x="96" y="76"/>
                  </a:lnTo>
                  <a:lnTo>
                    <a:pt x="99" y="84"/>
                  </a:lnTo>
                  <a:lnTo>
                    <a:pt x="83" y="84"/>
                  </a:lnTo>
                  <a:lnTo>
                    <a:pt x="69" y="8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47080" y="273384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43"/>
                  </a:moveTo>
                  <a:lnTo>
                    <a:pt x="0" y="29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8" y="3"/>
                  </a:lnTo>
                  <a:lnTo>
                    <a:pt x="31" y="6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1" y="34"/>
                  </a:lnTo>
                  <a:lnTo>
                    <a:pt x="26" y="43"/>
                  </a:lnTo>
                  <a:lnTo>
                    <a:pt x="13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21640" y="2538360"/>
              <a:ext cx="261720" cy="15552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80" y="98"/>
                  </a:moveTo>
                  <a:lnTo>
                    <a:pt x="72" y="95"/>
                  </a:lnTo>
                  <a:lnTo>
                    <a:pt x="64" y="95"/>
                  </a:lnTo>
                  <a:lnTo>
                    <a:pt x="56" y="79"/>
                  </a:lnTo>
                  <a:lnTo>
                    <a:pt x="51" y="64"/>
                  </a:lnTo>
                  <a:lnTo>
                    <a:pt x="45" y="56"/>
                  </a:lnTo>
                  <a:lnTo>
                    <a:pt x="40" y="50"/>
                  </a:lnTo>
                  <a:lnTo>
                    <a:pt x="35" y="48"/>
                  </a:lnTo>
                  <a:lnTo>
                    <a:pt x="24" y="48"/>
                  </a:lnTo>
                  <a:lnTo>
                    <a:pt x="13" y="48"/>
                  </a:lnTo>
                  <a:lnTo>
                    <a:pt x="0" y="50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16" y="34"/>
                  </a:lnTo>
                  <a:lnTo>
                    <a:pt x="32" y="31"/>
                  </a:lnTo>
                  <a:lnTo>
                    <a:pt x="66" y="64"/>
                  </a:lnTo>
                  <a:lnTo>
                    <a:pt x="88" y="84"/>
                  </a:lnTo>
                  <a:lnTo>
                    <a:pt x="93" y="84"/>
                  </a:lnTo>
                  <a:lnTo>
                    <a:pt x="98" y="84"/>
                  </a:lnTo>
                  <a:lnTo>
                    <a:pt x="104" y="84"/>
                  </a:lnTo>
                  <a:lnTo>
                    <a:pt x="112" y="79"/>
                  </a:lnTo>
                  <a:lnTo>
                    <a:pt x="130" y="64"/>
                  </a:lnTo>
                  <a:lnTo>
                    <a:pt x="154" y="45"/>
                  </a:lnTo>
                  <a:lnTo>
                    <a:pt x="154" y="31"/>
                  </a:lnTo>
                  <a:lnTo>
                    <a:pt x="151" y="22"/>
                  </a:lnTo>
                  <a:lnTo>
                    <a:pt x="149" y="14"/>
                  </a:lnTo>
                  <a:lnTo>
                    <a:pt x="143" y="11"/>
                  </a:lnTo>
                  <a:lnTo>
                    <a:pt x="130" y="11"/>
                  </a:lnTo>
                  <a:lnTo>
                    <a:pt x="114" y="11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35" y="0"/>
                  </a:lnTo>
                  <a:lnTo>
                    <a:pt x="157" y="0"/>
                  </a:lnTo>
                  <a:lnTo>
                    <a:pt x="162" y="11"/>
                  </a:lnTo>
                  <a:lnTo>
                    <a:pt x="165" y="22"/>
                  </a:lnTo>
                  <a:lnTo>
                    <a:pt x="165" y="31"/>
                  </a:lnTo>
                  <a:lnTo>
                    <a:pt x="165" y="42"/>
                  </a:lnTo>
                  <a:lnTo>
                    <a:pt x="162" y="50"/>
                  </a:lnTo>
                  <a:lnTo>
                    <a:pt x="157" y="59"/>
                  </a:lnTo>
                  <a:lnTo>
                    <a:pt x="151" y="64"/>
                  </a:lnTo>
                  <a:lnTo>
                    <a:pt x="146" y="73"/>
                  </a:lnTo>
                  <a:lnTo>
                    <a:pt x="133" y="81"/>
                  </a:lnTo>
                  <a:lnTo>
                    <a:pt x="117" y="90"/>
                  </a:lnTo>
                  <a:lnTo>
                    <a:pt x="98" y="95"/>
                  </a:lnTo>
                  <a:lnTo>
                    <a:pt x="8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2413080"/>
              <a:ext cx="236520" cy="120600"/>
            </a:xfrm>
            <a:custGeom>
              <a:avLst/>
              <a:gdLst/>
              <a:ahLst/>
              <a:rect l="l" t="t" r="r" b="b"/>
              <a:pathLst>
                <a:path w="149" h="76">
                  <a:moveTo>
                    <a:pt x="48" y="76"/>
                  </a:moveTo>
                  <a:lnTo>
                    <a:pt x="30" y="68"/>
                  </a:lnTo>
                  <a:lnTo>
                    <a:pt x="11" y="62"/>
                  </a:lnTo>
                  <a:lnTo>
                    <a:pt x="6" y="4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16" y="34"/>
                  </a:lnTo>
                  <a:lnTo>
                    <a:pt x="22" y="42"/>
                  </a:lnTo>
                  <a:lnTo>
                    <a:pt x="30" y="51"/>
                  </a:lnTo>
                  <a:lnTo>
                    <a:pt x="38" y="59"/>
                  </a:lnTo>
                  <a:lnTo>
                    <a:pt x="46" y="62"/>
                  </a:lnTo>
                  <a:lnTo>
                    <a:pt x="54" y="65"/>
                  </a:lnTo>
                  <a:lnTo>
                    <a:pt x="64" y="65"/>
                  </a:lnTo>
                  <a:lnTo>
                    <a:pt x="72" y="65"/>
                  </a:lnTo>
                  <a:lnTo>
                    <a:pt x="83" y="62"/>
                  </a:lnTo>
                  <a:lnTo>
                    <a:pt x="101" y="54"/>
                  </a:lnTo>
                  <a:lnTo>
                    <a:pt x="117" y="40"/>
                  </a:lnTo>
                  <a:lnTo>
                    <a:pt x="131" y="2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44" y="20"/>
                  </a:lnTo>
                  <a:lnTo>
                    <a:pt x="136" y="40"/>
                  </a:lnTo>
                  <a:lnTo>
                    <a:pt x="128" y="51"/>
                  </a:lnTo>
                  <a:lnTo>
                    <a:pt x="117" y="62"/>
                  </a:lnTo>
                  <a:lnTo>
                    <a:pt x="104" y="68"/>
                  </a:lnTo>
                  <a:lnTo>
                    <a:pt x="88" y="73"/>
                  </a:lnTo>
                  <a:lnTo>
                    <a:pt x="70" y="73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7920" y="2092320"/>
              <a:ext cx="228600" cy="320760"/>
            </a:xfrm>
            <a:custGeom>
              <a:avLst/>
              <a:gdLst/>
              <a:ahLst/>
              <a:rect l="l" t="t" r="r" b="b"/>
              <a:pathLst>
                <a:path w="144" h="202">
                  <a:moveTo>
                    <a:pt x="96" y="202"/>
                  </a:moveTo>
                  <a:lnTo>
                    <a:pt x="75" y="197"/>
                  </a:lnTo>
                  <a:lnTo>
                    <a:pt x="59" y="191"/>
                  </a:lnTo>
                  <a:lnTo>
                    <a:pt x="40" y="180"/>
                  </a:lnTo>
                  <a:lnTo>
                    <a:pt x="11" y="163"/>
                  </a:lnTo>
                  <a:lnTo>
                    <a:pt x="11" y="157"/>
                  </a:lnTo>
                  <a:lnTo>
                    <a:pt x="11" y="152"/>
                  </a:lnTo>
                  <a:lnTo>
                    <a:pt x="5" y="152"/>
                  </a:lnTo>
                  <a:lnTo>
                    <a:pt x="0" y="152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11" y="135"/>
                  </a:lnTo>
                  <a:lnTo>
                    <a:pt x="21" y="132"/>
                  </a:lnTo>
                  <a:lnTo>
                    <a:pt x="29" y="129"/>
                  </a:lnTo>
                  <a:lnTo>
                    <a:pt x="37" y="124"/>
                  </a:lnTo>
                  <a:lnTo>
                    <a:pt x="48" y="110"/>
                  </a:lnTo>
                  <a:lnTo>
                    <a:pt x="56" y="90"/>
                  </a:lnTo>
                  <a:lnTo>
                    <a:pt x="67" y="45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75" y="53"/>
                  </a:lnTo>
                  <a:lnTo>
                    <a:pt x="67" y="87"/>
                  </a:lnTo>
                  <a:lnTo>
                    <a:pt x="59" y="118"/>
                  </a:lnTo>
                  <a:lnTo>
                    <a:pt x="43" y="163"/>
                  </a:lnTo>
                  <a:lnTo>
                    <a:pt x="69" y="174"/>
                  </a:lnTo>
                  <a:lnTo>
                    <a:pt x="90" y="180"/>
                  </a:lnTo>
                  <a:lnTo>
                    <a:pt x="114" y="185"/>
                  </a:lnTo>
                  <a:lnTo>
                    <a:pt x="144" y="191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20" y="202"/>
                  </a:lnTo>
                  <a:lnTo>
                    <a:pt x="96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6680" y="2038320"/>
              <a:ext cx="484200" cy="268200"/>
            </a:xfrm>
            <a:custGeom>
              <a:avLst/>
              <a:gdLst/>
              <a:ahLst/>
              <a:rect l="l" t="t" r="r" b="b"/>
              <a:pathLst>
                <a:path w="305" h="169">
                  <a:moveTo>
                    <a:pt x="199" y="169"/>
                  </a:moveTo>
                  <a:lnTo>
                    <a:pt x="183" y="163"/>
                  </a:lnTo>
                  <a:lnTo>
                    <a:pt x="167" y="158"/>
                  </a:lnTo>
                  <a:lnTo>
                    <a:pt x="167" y="152"/>
                  </a:lnTo>
                  <a:lnTo>
                    <a:pt x="167" y="146"/>
                  </a:lnTo>
                  <a:lnTo>
                    <a:pt x="133" y="158"/>
                  </a:lnTo>
                  <a:lnTo>
                    <a:pt x="88" y="163"/>
                  </a:lnTo>
                  <a:lnTo>
                    <a:pt x="66" y="163"/>
                  </a:lnTo>
                  <a:lnTo>
                    <a:pt x="50" y="158"/>
                  </a:lnTo>
                  <a:lnTo>
                    <a:pt x="42" y="152"/>
                  </a:lnTo>
                  <a:lnTo>
                    <a:pt x="34" y="146"/>
                  </a:lnTo>
                  <a:lnTo>
                    <a:pt x="29" y="138"/>
                  </a:lnTo>
                  <a:lnTo>
                    <a:pt x="24" y="130"/>
                  </a:lnTo>
                  <a:lnTo>
                    <a:pt x="18" y="130"/>
                  </a:lnTo>
                  <a:lnTo>
                    <a:pt x="13" y="130"/>
                  </a:lnTo>
                  <a:lnTo>
                    <a:pt x="5" y="96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6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13" y="26"/>
                  </a:lnTo>
                  <a:lnTo>
                    <a:pt x="13" y="51"/>
                  </a:lnTo>
                  <a:lnTo>
                    <a:pt x="13" y="73"/>
                  </a:lnTo>
                  <a:lnTo>
                    <a:pt x="21" y="93"/>
                  </a:lnTo>
                  <a:lnTo>
                    <a:pt x="29" y="110"/>
                  </a:lnTo>
                  <a:lnTo>
                    <a:pt x="37" y="124"/>
                  </a:lnTo>
                  <a:lnTo>
                    <a:pt x="50" y="135"/>
                  </a:lnTo>
                  <a:lnTo>
                    <a:pt x="64" y="144"/>
                  </a:lnTo>
                  <a:lnTo>
                    <a:pt x="77" y="152"/>
                  </a:lnTo>
                  <a:lnTo>
                    <a:pt x="93" y="155"/>
                  </a:lnTo>
                  <a:lnTo>
                    <a:pt x="106" y="155"/>
                  </a:lnTo>
                  <a:lnTo>
                    <a:pt x="119" y="155"/>
                  </a:lnTo>
                  <a:lnTo>
                    <a:pt x="133" y="149"/>
                  </a:lnTo>
                  <a:lnTo>
                    <a:pt x="143" y="144"/>
                  </a:lnTo>
                  <a:lnTo>
                    <a:pt x="151" y="132"/>
                  </a:lnTo>
                  <a:lnTo>
                    <a:pt x="157" y="118"/>
                  </a:lnTo>
                  <a:lnTo>
                    <a:pt x="167" y="121"/>
                  </a:lnTo>
                  <a:lnTo>
                    <a:pt x="175" y="124"/>
                  </a:lnTo>
                  <a:lnTo>
                    <a:pt x="180" y="135"/>
                  </a:lnTo>
                  <a:lnTo>
                    <a:pt x="183" y="144"/>
                  </a:lnTo>
                  <a:lnTo>
                    <a:pt x="191" y="149"/>
                  </a:lnTo>
                  <a:lnTo>
                    <a:pt x="196" y="155"/>
                  </a:lnTo>
                  <a:lnTo>
                    <a:pt x="212" y="158"/>
                  </a:lnTo>
                  <a:lnTo>
                    <a:pt x="231" y="158"/>
                  </a:lnTo>
                  <a:lnTo>
                    <a:pt x="271" y="146"/>
                  </a:lnTo>
                  <a:lnTo>
                    <a:pt x="305" y="130"/>
                  </a:lnTo>
                  <a:lnTo>
                    <a:pt x="297" y="141"/>
                  </a:lnTo>
                  <a:lnTo>
                    <a:pt x="287" y="152"/>
                  </a:lnTo>
                  <a:lnTo>
                    <a:pt x="273" y="158"/>
                  </a:lnTo>
                  <a:lnTo>
                    <a:pt x="258" y="163"/>
                  </a:lnTo>
                  <a:lnTo>
                    <a:pt x="228" y="169"/>
                  </a:lnTo>
                  <a:lnTo>
                    <a:pt x="199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80200" y="1905120"/>
              <a:ext cx="101520" cy="204840"/>
            </a:xfrm>
            <a:custGeom>
              <a:avLst/>
              <a:gdLst/>
              <a:ahLst/>
              <a:rect l="l" t="t" r="r" b="b"/>
              <a:pathLst>
                <a:path w="64" h="129">
                  <a:moveTo>
                    <a:pt x="53" y="129"/>
                  </a:moveTo>
                  <a:lnTo>
                    <a:pt x="40" y="84"/>
                  </a:lnTo>
                  <a:lnTo>
                    <a:pt x="32" y="62"/>
                  </a:lnTo>
                  <a:lnTo>
                    <a:pt x="21" y="62"/>
                  </a:lnTo>
                  <a:lnTo>
                    <a:pt x="10" y="62"/>
                  </a:lnTo>
                  <a:lnTo>
                    <a:pt x="10" y="56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5" y="25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20"/>
                  </a:lnTo>
                  <a:lnTo>
                    <a:pt x="26" y="39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5" y="62"/>
                  </a:lnTo>
                  <a:lnTo>
                    <a:pt x="50" y="84"/>
                  </a:lnTo>
                  <a:lnTo>
                    <a:pt x="58" y="107"/>
                  </a:lnTo>
                  <a:lnTo>
                    <a:pt x="64" y="129"/>
                  </a:lnTo>
                  <a:lnTo>
                    <a:pt x="58" y="129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69200" y="380880"/>
              <a:ext cx="1054080" cy="819360"/>
            </a:xfrm>
            <a:custGeom>
              <a:avLst/>
              <a:gdLst/>
              <a:ahLst/>
              <a:rect l="l" t="t" r="r" b="b"/>
              <a:pathLst>
                <a:path w="664" h="516">
                  <a:moveTo>
                    <a:pt x="407" y="516"/>
                  </a:moveTo>
                  <a:lnTo>
                    <a:pt x="401" y="483"/>
                  </a:lnTo>
                  <a:lnTo>
                    <a:pt x="391" y="460"/>
                  </a:lnTo>
                  <a:lnTo>
                    <a:pt x="385" y="452"/>
                  </a:lnTo>
                  <a:lnTo>
                    <a:pt x="380" y="443"/>
                  </a:lnTo>
                  <a:lnTo>
                    <a:pt x="372" y="438"/>
                  </a:lnTo>
                  <a:lnTo>
                    <a:pt x="367" y="432"/>
                  </a:lnTo>
                  <a:lnTo>
                    <a:pt x="351" y="429"/>
                  </a:lnTo>
                  <a:lnTo>
                    <a:pt x="335" y="429"/>
                  </a:lnTo>
                  <a:lnTo>
                    <a:pt x="316" y="432"/>
                  </a:lnTo>
                  <a:lnTo>
                    <a:pt x="298" y="441"/>
                  </a:lnTo>
                  <a:lnTo>
                    <a:pt x="261" y="460"/>
                  </a:lnTo>
                  <a:lnTo>
                    <a:pt x="221" y="483"/>
                  </a:lnTo>
                  <a:lnTo>
                    <a:pt x="200" y="491"/>
                  </a:lnTo>
                  <a:lnTo>
                    <a:pt x="181" y="497"/>
                  </a:lnTo>
                  <a:lnTo>
                    <a:pt x="165" y="502"/>
                  </a:lnTo>
                  <a:lnTo>
                    <a:pt x="146" y="502"/>
                  </a:lnTo>
                  <a:lnTo>
                    <a:pt x="125" y="488"/>
                  </a:lnTo>
                  <a:lnTo>
                    <a:pt x="104" y="477"/>
                  </a:lnTo>
                  <a:lnTo>
                    <a:pt x="83" y="466"/>
                  </a:lnTo>
                  <a:lnTo>
                    <a:pt x="61" y="455"/>
                  </a:lnTo>
                  <a:lnTo>
                    <a:pt x="45" y="390"/>
                  </a:lnTo>
                  <a:lnTo>
                    <a:pt x="24" y="325"/>
                  </a:lnTo>
                  <a:lnTo>
                    <a:pt x="8" y="272"/>
                  </a:lnTo>
                  <a:lnTo>
                    <a:pt x="0" y="241"/>
                  </a:lnTo>
                  <a:lnTo>
                    <a:pt x="27" y="213"/>
                  </a:lnTo>
                  <a:lnTo>
                    <a:pt x="48" y="182"/>
                  </a:lnTo>
                  <a:lnTo>
                    <a:pt x="69" y="154"/>
                  </a:lnTo>
                  <a:lnTo>
                    <a:pt x="91" y="123"/>
                  </a:lnTo>
                  <a:lnTo>
                    <a:pt x="125" y="62"/>
                  </a:lnTo>
                  <a:lnTo>
                    <a:pt x="160" y="0"/>
                  </a:lnTo>
                  <a:lnTo>
                    <a:pt x="173" y="0"/>
                  </a:lnTo>
                  <a:lnTo>
                    <a:pt x="186" y="3"/>
                  </a:lnTo>
                  <a:lnTo>
                    <a:pt x="205" y="11"/>
                  </a:lnTo>
                  <a:lnTo>
                    <a:pt x="223" y="19"/>
                  </a:lnTo>
                  <a:lnTo>
                    <a:pt x="266" y="45"/>
                  </a:lnTo>
                  <a:lnTo>
                    <a:pt x="311" y="76"/>
                  </a:lnTo>
                  <a:lnTo>
                    <a:pt x="399" y="140"/>
                  </a:lnTo>
                  <a:lnTo>
                    <a:pt x="460" y="185"/>
                  </a:lnTo>
                  <a:lnTo>
                    <a:pt x="529" y="219"/>
                  </a:lnTo>
                  <a:lnTo>
                    <a:pt x="593" y="250"/>
                  </a:lnTo>
                  <a:lnTo>
                    <a:pt x="643" y="272"/>
                  </a:lnTo>
                  <a:lnTo>
                    <a:pt x="664" y="286"/>
                  </a:lnTo>
                  <a:lnTo>
                    <a:pt x="659" y="306"/>
                  </a:lnTo>
                  <a:lnTo>
                    <a:pt x="651" y="328"/>
                  </a:lnTo>
                  <a:lnTo>
                    <a:pt x="640" y="354"/>
                  </a:lnTo>
                  <a:lnTo>
                    <a:pt x="625" y="379"/>
                  </a:lnTo>
                  <a:lnTo>
                    <a:pt x="598" y="429"/>
                  </a:lnTo>
                  <a:lnTo>
                    <a:pt x="574" y="477"/>
                  </a:lnTo>
                  <a:lnTo>
                    <a:pt x="513" y="488"/>
                  </a:lnTo>
                  <a:lnTo>
                    <a:pt x="476" y="497"/>
                  </a:lnTo>
                  <a:lnTo>
                    <a:pt x="447" y="502"/>
                  </a:lnTo>
                  <a:lnTo>
                    <a:pt x="407" y="5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16720" y="531720"/>
              <a:ext cx="168480" cy="384120"/>
            </a:xfrm>
            <a:custGeom>
              <a:avLst/>
              <a:gdLst/>
              <a:ahLst/>
              <a:rect l="l" t="t" r="r" b="b"/>
              <a:pathLst>
                <a:path w="106" h="242">
                  <a:moveTo>
                    <a:pt x="31" y="242"/>
                  </a:moveTo>
                  <a:lnTo>
                    <a:pt x="34" y="228"/>
                  </a:lnTo>
                  <a:lnTo>
                    <a:pt x="37" y="214"/>
                  </a:lnTo>
                  <a:lnTo>
                    <a:pt x="29" y="214"/>
                  </a:lnTo>
                  <a:lnTo>
                    <a:pt x="21" y="214"/>
                  </a:lnTo>
                  <a:lnTo>
                    <a:pt x="23" y="188"/>
                  </a:lnTo>
                  <a:lnTo>
                    <a:pt x="31" y="169"/>
                  </a:lnTo>
                  <a:lnTo>
                    <a:pt x="37" y="155"/>
                  </a:lnTo>
                  <a:lnTo>
                    <a:pt x="47" y="135"/>
                  </a:lnTo>
                  <a:lnTo>
                    <a:pt x="21" y="146"/>
                  </a:lnTo>
                  <a:lnTo>
                    <a:pt x="0" y="157"/>
                  </a:lnTo>
                  <a:lnTo>
                    <a:pt x="5" y="146"/>
                  </a:lnTo>
                  <a:lnTo>
                    <a:pt x="10" y="138"/>
                  </a:lnTo>
                  <a:lnTo>
                    <a:pt x="23" y="124"/>
                  </a:lnTo>
                  <a:lnTo>
                    <a:pt x="50" y="101"/>
                  </a:lnTo>
                  <a:lnTo>
                    <a:pt x="61" y="76"/>
                  </a:lnTo>
                  <a:lnTo>
                    <a:pt x="74" y="51"/>
                  </a:lnTo>
                  <a:lnTo>
                    <a:pt x="85" y="25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95" y="40"/>
                  </a:lnTo>
                  <a:lnTo>
                    <a:pt x="77" y="93"/>
                  </a:lnTo>
                  <a:lnTo>
                    <a:pt x="66" y="121"/>
                  </a:lnTo>
                  <a:lnTo>
                    <a:pt x="58" y="149"/>
                  </a:lnTo>
                  <a:lnTo>
                    <a:pt x="53" y="172"/>
                  </a:lnTo>
                  <a:lnTo>
                    <a:pt x="53" y="188"/>
                  </a:lnTo>
                  <a:lnTo>
                    <a:pt x="58" y="188"/>
                  </a:lnTo>
                  <a:lnTo>
                    <a:pt x="63" y="191"/>
                  </a:lnTo>
                  <a:lnTo>
                    <a:pt x="58" y="205"/>
                  </a:lnTo>
                  <a:lnTo>
                    <a:pt x="53" y="219"/>
                  </a:lnTo>
                  <a:lnTo>
                    <a:pt x="47" y="228"/>
                  </a:lnTo>
                  <a:lnTo>
                    <a:pt x="45" y="233"/>
                  </a:lnTo>
                  <a:lnTo>
                    <a:pt x="39" y="236"/>
                  </a:lnTo>
                  <a:lnTo>
                    <a:pt x="31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Comic Sans MS"/>
              </a:rPr>
              <a:t>What About the Safety Director’s Ro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hould attend every committee meeting, but should be a resource person or adviso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committee should not be controlled by the safety director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1676520"/>
            <a:ext cx="67816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clip0104" descr=""/>
          <p:cNvPicPr/>
          <p:nvPr/>
        </p:nvPicPr>
        <p:blipFill>
          <a:blip r:embed="rId1"/>
          <a:stretch/>
        </p:blipFill>
        <p:spPr>
          <a:xfrm>
            <a:off x="6099120" y="1219320"/>
            <a:ext cx="274500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How long should the members serve on the committee?</a:t>
            </a:r>
            <a:r>
              <a:rPr b="1" lang="en-US" sz="60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71440" y="2362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Benguiat Bk BT"/>
              </a:rPr>
              <a:t>A staggered rotation so that new members come in while others contin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Benguiat Bk BT"/>
              </a:rPr>
              <a:t>No more than half of the committee is “new” at any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" y="1611360"/>
            <a:ext cx="3808440" cy="4659120"/>
          </a:xfrm>
          <a:custGeom>
            <a:avLst/>
            <a:gdLst/>
            <a:ahLst/>
            <a:rect l="l" t="t" r="r" b="b"/>
            <a:pathLst>
              <a:path w="2399" h="2935">
                <a:moveTo>
                  <a:pt x="2360" y="97"/>
                </a:moveTo>
                <a:lnTo>
                  <a:pt x="2373" y="77"/>
                </a:lnTo>
                <a:lnTo>
                  <a:pt x="2386" y="57"/>
                </a:lnTo>
                <a:lnTo>
                  <a:pt x="2383" y="54"/>
                </a:lnTo>
                <a:lnTo>
                  <a:pt x="2362" y="64"/>
                </a:lnTo>
                <a:lnTo>
                  <a:pt x="2341" y="71"/>
                </a:lnTo>
                <a:lnTo>
                  <a:pt x="2339" y="60"/>
                </a:lnTo>
                <a:lnTo>
                  <a:pt x="2338" y="47"/>
                </a:lnTo>
                <a:lnTo>
                  <a:pt x="2335" y="35"/>
                </a:lnTo>
                <a:lnTo>
                  <a:pt x="2332" y="23"/>
                </a:lnTo>
                <a:lnTo>
                  <a:pt x="2326" y="23"/>
                </a:lnTo>
                <a:lnTo>
                  <a:pt x="2315" y="70"/>
                </a:lnTo>
                <a:lnTo>
                  <a:pt x="2294" y="57"/>
                </a:lnTo>
                <a:lnTo>
                  <a:pt x="2273" y="47"/>
                </a:lnTo>
                <a:lnTo>
                  <a:pt x="2274" y="58"/>
                </a:lnTo>
                <a:lnTo>
                  <a:pt x="2278" y="68"/>
                </a:lnTo>
                <a:lnTo>
                  <a:pt x="2284" y="79"/>
                </a:lnTo>
                <a:lnTo>
                  <a:pt x="2290" y="87"/>
                </a:lnTo>
                <a:lnTo>
                  <a:pt x="2235" y="89"/>
                </a:lnTo>
                <a:lnTo>
                  <a:pt x="2233" y="93"/>
                </a:lnTo>
                <a:lnTo>
                  <a:pt x="2233" y="97"/>
                </a:lnTo>
                <a:lnTo>
                  <a:pt x="2235" y="100"/>
                </a:lnTo>
                <a:lnTo>
                  <a:pt x="2239" y="102"/>
                </a:lnTo>
                <a:lnTo>
                  <a:pt x="2246" y="106"/>
                </a:lnTo>
                <a:lnTo>
                  <a:pt x="2254" y="112"/>
                </a:lnTo>
                <a:lnTo>
                  <a:pt x="2258" y="112"/>
                </a:lnTo>
                <a:lnTo>
                  <a:pt x="2262" y="113"/>
                </a:lnTo>
                <a:lnTo>
                  <a:pt x="2265" y="116"/>
                </a:lnTo>
                <a:lnTo>
                  <a:pt x="2268" y="121"/>
                </a:lnTo>
                <a:lnTo>
                  <a:pt x="2226" y="155"/>
                </a:lnTo>
                <a:lnTo>
                  <a:pt x="2183" y="190"/>
                </a:lnTo>
                <a:lnTo>
                  <a:pt x="2139" y="227"/>
                </a:lnTo>
                <a:lnTo>
                  <a:pt x="2094" y="261"/>
                </a:lnTo>
                <a:lnTo>
                  <a:pt x="2091" y="257"/>
                </a:lnTo>
                <a:lnTo>
                  <a:pt x="2087" y="253"/>
                </a:lnTo>
                <a:lnTo>
                  <a:pt x="2082" y="251"/>
                </a:lnTo>
                <a:lnTo>
                  <a:pt x="2077" y="251"/>
                </a:lnTo>
                <a:lnTo>
                  <a:pt x="2056" y="266"/>
                </a:lnTo>
                <a:lnTo>
                  <a:pt x="2036" y="280"/>
                </a:lnTo>
                <a:lnTo>
                  <a:pt x="2029" y="285"/>
                </a:lnTo>
                <a:lnTo>
                  <a:pt x="2021" y="287"/>
                </a:lnTo>
                <a:lnTo>
                  <a:pt x="2014" y="289"/>
                </a:lnTo>
                <a:lnTo>
                  <a:pt x="2007" y="290"/>
                </a:lnTo>
                <a:lnTo>
                  <a:pt x="1991" y="290"/>
                </a:lnTo>
                <a:lnTo>
                  <a:pt x="1975" y="290"/>
                </a:lnTo>
                <a:lnTo>
                  <a:pt x="1959" y="289"/>
                </a:lnTo>
                <a:lnTo>
                  <a:pt x="1943" y="289"/>
                </a:lnTo>
                <a:lnTo>
                  <a:pt x="1936" y="290"/>
                </a:lnTo>
                <a:lnTo>
                  <a:pt x="1929" y="292"/>
                </a:lnTo>
                <a:lnTo>
                  <a:pt x="1921" y="295"/>
                </a:lnTo>
                <a:lnTo>
                  <a:pt x="1916" y="298"/>
                </a:lnTo>
                <a:lnTo>
                  <a:pt x="1892" y="318"/>
                </a:lnTo>
                <a:lnTo>
                  <a:pt x="1871" y="338"/>
                </a:lnTo>
                <a:lnTo>
                  <a:pt x="1859" y="345"/>
                </a:lnTo>
                <a:lnTo>
                  <a:pt x="1846" y="351"/>
                </a:lnTo>
                <a:lnTo>
                  <a:pt x="1839" y="353"/>
                </a:lnTo>
                <a:lnTo>
                  <a:pt x="1831" y="353"/>
                </a:lnTo>
                <a:lnTo>
                  <a:pt x="1824" y="353"/>
                </a:lnTo>
                <a:lnTo>
                  <a:pt x="1815" y="351"/>
                </a:lnTo>
                <a:lnTo>
                  <a:pt x="1815" y="347"/>
                </a:lnTo>
                <a:lnTo>
                  <a:pt x="1813" y="341"/>
                </a:lnTo>
                <a:lnTo>
                  <a:pt x="1807" y="341"/>
                </a:lnTo>
                <a:lnTo>
                  <a:pt x="1799" y="343"/>
                </a:lnTo>
                <a:lnTo>
                  <a:pt x="1772" y="343"/>
                </a:lnTo>
                <a:lnTo>
                  <a:pt x="1744" y="345"/>
                </a:lnTo>
                <a:lnTo>
                  <a:pt x="1717" y="351"/>
                </a:lnTo>
                <a:lnTo>
                  <a:pt x="1691" y="357"/>
                </a:lnTo>
                <a:lnTo>
                  <a:pt x="1637" y="372"/>
                </a:lnTo>
                <a:lnTo>
                  <a:pt x="1583" y="383"/>
                </a:lnTo>
                <a:lnTo>
                  <a:pt x="1538" y="392"/>
                </a:lnTo>
                <a:lnTo>
                  <a:pt x="1495" y="402"/>
                </a:lnTo>
                <a:lnTo>
                  <a:pt x="1450" y="412"/>
                </a:lnTo>
                <a:lnTo>
                  <a:pt x="1406" y="421"/>
                </a:lnTo>
                <a:lnTo>
                  <a:pt x="1405" y="419"/>
                </a:lnTo>
                <a:lnTo>
                  <a:pt x="1416" y="404"/>
                </a:lnTo>
                <a:lnTo>
                  <a:pt x="1428" y="386"/>
                </a:lnTo>
                <a:lnTo>
                  <a:pt x="1438" y="370"/>
                </a:lnTo>
                <a:lnTo>
                  <a:pt x="1447" y="351"/>
                </a:lnTo>
                <a:lnTo>
                  <a:pt x="1454" y="334"/>
                </a:lnTo>
                <a:lnTo>
                  <a:pt x="1460" y="315"/>
                </a:lnTo>
                <a:lnTo>
                  <a:pt x="1464" y="295"/>
                </a:lnTo>
                <a:lnTo>
                  <a:pt x="1466" y="274"/>
                </a:lnTo>
                <a:lnTo>
                  <a:pt x="1463" y="258"/>
                </a:lnTo>
                <a:lnTo>
                  <a:pt x="1456" y="241"/>
                </a:lnTo>
                <a:lnTo>
                  <a:pt x="1450" y="228"/>
                </a:lnTo>
                <a:lnTo>
                  <a:pt x="1443" y="215"/>
                </a:lnTo>
                <a:lnTo>
                  <a:pt x="1434" y="202"/>
                </a:lnTo>
                <a:lnTo>
                  <a:pt x="1424" y="190"/>
                </a:lnTo>
                <a:lnTo>
                  <a:pt x="1412" y="179"/>
                </a:lnTo>
                <a:lnTo>
                  <a:pt x="1400" y="169"/>
                </a:lnTo>
                <a:lnTo>
                  <a:pt x="1387" y="158"/>
                </a:lnTo>
                <a:lnTo>
                  <a:pt x="1374" y="150"/>
                </a:lnTo>
                <a:lnTo>
                  <a:pt x="1345" y="141"/>
                </a:lnTo>
                <a:lnTo>
                  <a:pt x="1316" y="131"/>
                </a:lnTo>
                <a:lnTo>
                  <a:pt x="1287" y="121"/>
                </a:lnTo>
                <a:lnTo>
                  <a:pt x="1257" y="112"/>
                </a:lnTo>
                <a:lnTo>
                  <a:pt x="1228" y="105"/>
                </a:lnTo>
                <a:lnTo>
                  <a:pt x="1196" y="99"/>
                </a:lnTo>
                <a:lnTo>
                  <a:pt x="1180" y="97"/>
                </a:lnTo>
                <a:lnTo>
                  <a:pt x="1164" y="97"/>
                </a:lnTo>
                <a:lnTo>
                  <a:pt x="1148" y="97"/>
                </a:lnTo>
                <a:lnTo>
                  <a:pt x="1132" y="99"/>
                </a:lnTo>
                <a:lnTo>
                  <a:pt x="1103" y="99"/>
                </a:lnTo>
                <a:lnTo>
                  <a:pt x="1073" y="102"/>
                </a:lnTo>
                <a:lnTo>
                  <a:pt x="1042" y="106"/>
                </a:lnTo>
                <a:lnTo>
                  <a:pt x="1013" y="110"/>
                </a:lnTo>
                <a:lnTo>
                  <a:pt x="996" y="103"/>
                </a:lnTo>
                <a:lnTo>
                  <a:pt x="978" y="92"/>
                </a:lnTo>
                <a:lnTo>
                  <a:pt x="962" y="80"/>
                </a:lnTo>
                <a:lnTo>
                  <a:pt x="946" y="70"/>
                </a:lnTo>
                <a:lnTo>
                  <a:pt x="930" y="60"/>
                </a:lnTo>
                <a:lnTo>
                  <a:pt x="913" y="51"/>
                </a:lnTo>
                <a:lnTo>
                  <a:pt x="903" y="47"/>
                </a:lnTo>
                <a:lnTo>
                  <a:pt x="894" y="45"/>
                </a:lnTo>
                <a:lnTo>
                  <a:pt x="884" y="44"/>
                </a:lnTo>
                <a:lnTo>
                  <a:pt x="874" y="44"/>
                </a:lnTo>
                <a:lnTo>
                  <a:pt x="852" y="39"/>
                </a:lnTo>
                <a:lnTo>
                  <a:pt x="832" y="34"/>
                </a:lnTo>
                <a:lnTo>
                  <a:pt x="822" y="31"/>
                </a:lnTo>
                <a:lnTo>
                  <a:pt x="811" y="31"/>
                </a:lnTo>
                <a:lnTo>
                  <a:pt x="800" y="31"/>
                </a:lnTo>
                <a:lnTo>
                  <a:pt x="788" y="34"/>
                </a:lnTo>
                <a:lnTo>
                  <a:pt x="766" y="38"/>
                </a:lnTo>
                <a:lnTo>
                  <a:pt x="742" y="42"/>
                </a:lnTo>
                <a:lnTo>
                  <a:pt x="717" y="47"/>
                </a:lnTo>
                <a:lnTo>
                  <a:pt x="691" y="48"/>
                </a:lnTo>
                <a:lnTo>
                  <a:pt x="678" y="50"/>
                </a:lnTo>
                <a:lnTo>
                  <a:pt x="666" y="48"/>
                </a:lnTo>
                <a:lnTo>
                  <a:pt x="653" y="47"/>
                </a:lnTo>
                <a:lnTo>
                  <a:pt x="642" y="45"/>
                </a:lnTo>
                <a:lnTo>
                  <a:pt x="630" y="42"/>
                </a:lnTo>
                <a:lnTo>
                  <a:pt x="618" y="38"/>
                </a:lnTo>
                <a:lnTo>
                  <a:pt x="608" y="32"/>
                </a:lnTo>
                <a:lnTo>
                  <a:pt x="598" y="26"/>
                </a:lnTo>
                <a:lnTo>
                  <a:pt x="591" y="19"/>
                </a:lnTo>
                <a:lnTo>
                  <a:pt x="582" y="15"/>
                </a:lnTo>
                <a:lnTo>
                  <a:pt x="573" y="10"/>
                </a:lnTo>
                <a:lnTo>
                  <a:pt x="565" y="6"/>
                </a:lnTo>
                <a:lnTo>
                  <a:pt x="546" y="2"/>
                </a:lnTo>
                <a:lnTo>
                  <a:pt x="526" y="0"/>
                </a:lnTo>
                <a:lnTo>
                  <a:pt x="505" y="0"/>
                </a:lnTo>
                <a:lnTo>
                  <a:pt x="485" y="2"/>
                </a:lnTo>
                <a:lnTo>
                  <a:pt x="465" y="5"/>
                </a:lnTo>
                <a:lnTo>
                  <a:pt x="446" y="8"/>
                </a:lnTo>
                <a:lnTo>
                  <a:pt x="407" y="16"/>
                </a:lnTo>
                <a:lnTo>
                  <a:pt x="367" y="25"/>
                </a:lnTo>
                <a:lnTo>
                  <a:pt x="327" y="34"/>
                </a:lnTo>
                <a:lnTo>
                  <a:pt x="286" y="42"/>
                </a:lnTo>
                <a:lnTo>
                  <a:pt x="247" y="51"/>
                </a:lnTo>
                <a:lnTo>
                  <a:pt x="208" y="63"/>
                </a:lnTo>
                <a:lnTo>
                  <a:pt x="189" y="68"/>
                </a:lnTo>
                <a:lnTo>
                  <a:pt x="170" y="76"/>
                </a:lnTo>
                <a:lnTo>
                  <a:pt x="151" y="83"/>
                </a:lnTo>
                <a:lnTo>
                  <a:pt x="134" y="90"/>
                </a:lnTo>
                <a:lnTo>
                  <a:pt x="99" y="103"/>
                </a:lnTo>
                <a:lnTo>
                  <a:pt x="67" y="118"/>
                </a:lnTo>
                <a:lnTo>
                  <a:pt x="34" y="132"/>
                </a:lnTo>
                <a:lnTo>
                  <a:pt x="0" y="145"/>
                </a:lnTo>
                <a:lnTo>
                  <a:pt x="0" y="151"/>
                </a:lnTo>
                <a:lnTo>
                  <a:pt x="2" y="158"/>
                </a:lnTo>
                <a:lnTo>
                  <a:pt x="5" y="164"/>
                </a:lnTo>
                <a:lnTo>
                  <a:pt x="8" y="170"/>
                </a:lnTo>
                <a:lnTo>
                  <a:pt x="18" y="177"/>
                </a:lnTo>
                <a:lnTo>
                  <a:pt x="29" y="182"/>
                </a:lnTo>
                <a:lnTo>
                  <a:pt x="41" y="184"/>
                </a:lnTo>
                <a:lnTo>
                  <a:pt x="52" y="187"/>
                </a:lnTo>
                <a:lnTo>
                  <a:pt x="79" y="190"/>
                </a:lnTo>
                <a:lnTo>
                  <a:pt x="103" y="195"/>
                </a:lnTo>
                <a:lnTo>
                  <a:pt x="132" y="198"/>
                </a:lnTo>
                <a:lnTo>
                  <a:pt x="161" y="202"/>
                </a:lnTo>
                <a:lnTo>
                  <a:pt x="174" y="205"/>
                </a:lnTo>
                <a:lnTo>
                  <a:pt x="187" y="209"/>
                </a:lnTo>
                <a:lnTo>
                  <a:pt x="200" y="215"/>
                </a:lnTo>
                <a:lnTo>
                  <a:pt x="214" y="222"/>
                </a:lnTo>
                <a:lnTo>
                  <a:pt x="259" y="240"/>
                </a:lnTo>
                <a:lnTo>
                  <a:pt x="305" y="254"/>
                </a:lnTo>
                <a:lnTo>
                  <a:pt x="351" y="269"/>
                </a:lnTo>
                <a:lnTo>
                  <a:pt x="398" y="283"/>
                </a:lnTo>
                <a:lnTo>
                  <a:pt x="407" y="289"/>
                </a:lnTo>
                <a:lnTo>
                  <a:pt x="414" y="296"/>
                </a:lnTo>
                <a:lnTo>
                  <a:pt x="420" y="303"/>
                </a:lnTo>
                <a:lnTo>
                  <a:pt x="424" y="312"/>
                </a:lnTo>
                <a:lnTo>
                  <a:pt x="431" y="330"/>
                </a:lnTo>
                <a:lnTo>
                  <a:pt x="437" y="348"/>
                </a:lnTo>
                <a:lnTo>
                  <a:pt x="441" y="369"/>
                </a:lnTo>
                <a:lnTo>
                  <a:pt x="447" y="388"/>
                </a:lnTo>
                <a:lnTo>
                  <a:pt x="450" y="396"/>
                </a:lnTo>
                <a:lnTo>
                  <a:pt x="454" y="406"/>
                </a:lnTo>
                <a:lnTo>
                  <a:pt x="459" y="415"/>
                </a:lnTo>
                <a:lnTo>
                  <a:pt x="465" y="422"/>
                </a:lnTo>
                <a:lnTo>
                  <a:pt x="478" y="448"/>
                </a:lnTo>
                <a:lnTo>
                  <a:pt x="473" y="470"/>
                </a:lnTo>
                <a:lnTo>
                  <a:pt x="470" y="493"/>
                </a:lnTo>
                <a:lnTo>
                  <a:pt x="470" y="515"/>
                </a:lnTo>
                <a:lnTo>
                  <a:pt x="470" y="537"/>
                </a:lnTo>
                <a:lnTo>
                  <a:pt x="473" y="559"/>
                </a:lnTo>
                <a:lnTo>
                  <a:pt x="478" y="579"/>
                </a:lnTo>
                <a:lnTo>
                  <a:pt x="482" y="589"/>
                </a:lnTo>
                <a:lnTo>
                  <a:pt x="486" y="599"/>
                </a:lnTo>
                <a:lnTo>
                  <a:pt x="491" y="608"/>
                </a:lnTo>
                <a:lnTo>
                  <a:pt x="498" y="618"/>
                </a:lnTo>
                <a:lnTo>
                  <a:pt x="498" y="621"/>
                </a:lnTo>
                <a:lnTo>
                  <a:pt x="472" y="630"/>
                </a:lnTo>
                <a:lnTo>
                  <a:pt x="447" y="639"/>
                </a:lnTo>
                <a:lnTo>
                  <a:pt x="422" y="650"/>
                </a:lnTo>
                <a:lnTo>
                  <a:pt x="398" y="662"/>
                </a:lnTo>
                <a:lnTo>
                  <a:pt x="375" y="675"/>
                </a:lnTo>
                <a:lnTo>
                  <a:pt x="351" y="689"/>
                </a:lnTo>
                <a:lnTo>
                  <a:pt x="328" y="704"/>
                </a:lnTo>
                <a:lnTo>
                  <a:pt x="306" y="720"/>
                </a:lnTo>
                <a:lnTo>
                  <a:pt x="263" y="753"/>
                </a:lnTo>
                <a:lnTo>
                  <a:pt x="221" y="789"/>
                </a:lnTo>
                <a:lnTo>
                  <a:pt x="179" y="826"/>
                </a:lnTo>
                <a:lnTo>
                  <a:pt x="138" y="865"/>
                </a:lnTo>
                <a:lnTo>
                  <a:pt x="124" y="875"/>
                </a:lnTo>
                <a:lnTo>
                  <a:pt x="108" y="887"/>
                </a:lnTo>
                <a:lnTo>
                  <a:pt x="95" y="901"/>
                </a:lnTo>
                <a:lnTo>
                  <a:pt x="83" y="916"/>
                </a:lnTo>
                <a:lnTo>
                  <a:pt x="77" y="923"/>
                </a:lnTo>
                <a:lnTo>
                  <a:pt x="73" y="932"/>
                </a:lnTo>
                <a:lnTo>
                  <a:pt x="70" y="939"/>
                </a:lnTo>
                <a:lnTo>
                  <a:pt x="67" y="947"/>
                </a:lnTo>
                <a:lnTo>
                  <a:pt x="66" y="956"/>
                </a:lnTo>
                <a:lnTo>
                  <a:pt x="66" y="966"/>
                </a:lnTo>
                <a:lnTo>
                  <a:pt x="66" y="975"/>
                </a:lnTo>
                <a:lnTo>
                  <a:pt x="67" y="985"/>
                </a:lnTo>
                <a:lnTo>
                  <a:pt x="67" y="1026"/>
                </a:lnTo>
                <a:lnTo>
                  <a:pt x="68" y="1066"/>
                </a:lnTo>
                <a:lnTo>
                  <a:pt x="71" y="1107"/>
                </a:lnTo>
                <a:lnTo>
                  <a:pt x="76" y="1148"/>
                </a:lnTo>
                <a:lnTo>
                  <a:pt x="80" y="1190"/>
                </a:lnTo>
                <a:lnTo>
                  <a:pt x="84" y="1230"/>
                </a:lnTo>
                <a:lnTo>
                  <a:pt x="89" y="1271"/>
                </a:lnTo>
                <a:lnTo>
                  <a:pt x="93" y="1312"/>
                </a:lnTo>
                <a:lnTo>
                  <a:pt x="100" y="1362"/>
                </a:lnTo>
                <a:lnTo>
                  <a:pt x="109" y="1413"/>
                </a:lnTo>
                <a:lnTo>
                  <a:pt x="119" y="1462"/>
                </a:lnTo>
                <a:lnTo>
                  <a:pt x="131" y="1512"/>
                </a:lnTo>
                <a:lnTo>
                  <a:pt x="144" y="1561"/>
                </a:lnTo>
                <a:lnTo>
                  <a:pt x="157" y="1609"/>
                </a:lnTo>
                <a:lnTo>
                  <a:pt x="171" y="1657"/>
                </a:lnTo>
                <a:lnTo>
                  <a:pt x="186" y="1705"/>
                </a:lnTo>
                <a:lnTo>
                  <a:pt x="177" y="1770"/>
                </a:lnTo>
                <a:lnTo>
                  <a:pt x="169" y="1834"/>
                </a:lnTo>
                <a:lnTo>
                  <a:pt x="160" y="1899"/>
                </a:lnTo>
                <a:lnTo>
                  <a:pt x="151" y="1963"/>
                </a:lnTo>
                <a:lnTo>
                  <a:pt x="141" y="2027"/>
                </a:lnTo>
                <a:lnTo>
                  <a:pt x="132" y="2092"/>
                </a:lnTo>
                <a:lnTo>
                  <a:pt x="122" y="2156"/>
                </a:lnTo>
                <a:lnTo>
                  <a:pt x="112" y="2220"/>
                </a:lnTo>
                <a:lnTo>
                  <a:pt x="105" y="2252"/>
                </a:lnTo>
                <a:lnTo>
                  <a:pt x="97" y="2283"/>
                </a:lnTo>
                <a:lnTo>
                  <a:pt x="92" y="2315"/>
                </a:lnTo>
                <a:lnTo>
                  <a:pt x="86" y="2347"/>
                </a:lnTo>
                <a:lnTo>
                  <a:pt x="80" y="2379"/>
                </a:lnTo>
                <a:lnTo>
                  <a:pt x="74" y="2411"/>
                </a:lnTo>
                <a:lnTo>
                  <a:pt x="68" y="2443"/>
                </a:lnTo>
                <a:lnTo>
                  <a:pt x="60" y="2475"/>
                </a:lnTo>
                <a:lnTo>
                  <a:pt x="52" y="2516"/>
                </a:lnTo>
                <a:lnTo>
                  <a:pt x="45" y="2558"/>
                </a:lnTo>
                <a:lnTo>
                  <a:pt x="39" y="2600"/>
                </a:lnTo>
                <a:lnTo>
                  <a:pt x="32" y="2642"/>
                </a:lnTo>
                <a:lnTo>
                  <a:pt x="26" y="2684"/>
                </a:lnTo>
                <a:lnTo>
                  <a:pt x="21" y="2726"/>
                </a:lnTo>
                <a:lnTo>
                  <a:pt x="15" y="2768"/>
                </a:lnTo>
                <a:lnTo>
                  <a:pt x="8" y="2810"/>
                </a:lnTo>
                <a:lnTo>
                  <a:pt x="10" y="2825"/>
                </a:lnTo>
                <a:lnTo>
                  <a:pt x="10" y="2840"/>
                </a:lnTo>
                <a:lnTo>
                  <a:pt x="9" y="2856"/>
                </a:lnTo>
                <a:lnTo>
                  <a:pt x="8" y="2872"/>
                </a:lnTo>
                <a:lnTo>
                  <a:pt x="8" y="2881"/>
                </a:lnTo>
                <a:lnTo>
                  <a:pt x="9" y="2888"/>
                </a:lnTo>
                <a:lnTo>
                  <a:pt x="10" y="2894"/>
                </a:lnTo>
                <a:lnTo>
                  <a:pt x="13" y="2900"/>
                </a:lnTo>
                <a:lnTo>
                  <a:pt x="18" y="2906"/>
                </a:lnTo>
                <a:lnTo>
                  <a:pt x="23" y="2912"/>
                </a:lnTo>
                <a:lnTo>
                  <a:pt x="29" y="2914"/>
                </a:lnTo>
                <a:lnTo>
                  <a:pt x="38" y="2917"/>
                </a:lnTo>
                <a:lnTo>
                  <a:pt x="42" y="2922"/>
                </a:lnTo>
                <a:lnTo>
                  <a:pt x="47" y="2923"/>
                </a:lnTo>
                <a:lnTo>
                  <a:pt x="51" y="2923"/>
                </a:lnTo>
                <a:lnTo>
                  <a:pt x="55" y="2923"/>
                </a:lnTo>
                <a:lnTo>
                  <a:pt x="66" y="2922"/>
                </a:lnTo>
                <a:lnTo>
                  <a:pt x="74" y="2923"/>
                </a:lnTo>
                <a:lnTo>
                  <a:pt x="82" y="2920"/>
                </a:lnTo>
                <a:lnTo>
                  <a:pt x="89" y="2914"/>
                </a:lnTo>
                <a:lnTo>
                  <a:pt x="93" y="2909"/>
                </a:lnTo>
                <a:lnTo>
                  <a:pt x="99" y="2901"/>
                </a:lnTo>
                <a:lnTo>
                  <a:pt x="103" y="2896"/>
                </a:lnTo>
                <a:lnTo>
                  <a:pt x="111" y="2891"/>
                </a:lnTo>
                <a:lnTo>
                  <a:pt x="113" y="2891"/>
                </a:lnTo>
                <a:lnTo>
                  <a:pt x="118" y="2890"/>
                </a:lnTo>
                <a:lnTo>
                  <a:pt x="122" y="2891"/>
                </a:lnTo>
                <a:lnTo>
                  <a:pt x="126" y="2893"/>
                </a:lnTo>
                <a:lnTo>
                  <a:pt x="166" y="2904"/>
                </a:lnTo>
                <a:lnTo>
                  <a:pt x="206" y="2914"/>
                </a:lnTo>
                <a:lnTo>
                  <a:pt x="227" y="2919"/>
                </a:lnTo>
                <a:lnTo>
                  <a:pt x="248" y="2920"/>
                </a:lnTo>
                <a:lnTo>
                  <a:pt x="269" y="2920"/>
                </a:lnTo>
                <a:lnTo>
                  <a:pt x="292" y="2919"/>
                </a:lnTo>
                <a:lnTo>
                  <a:pt x="322" y="2922"/>
                </a:lnTo>
                <a:lnTo>
                  <a:pt x="353" y="2925"/>
                </a:lnTo>
                <a:lnTo>
                  <a:pt x="385" y="2926"/>
                </a:lnTo>
                <a:lnTo>
                  <a:pt x="417" y="2927"/>
                </a:lnTo>
                <a:lnTo>
                  <a:pt x="447" y="2926"/>
                </a:lnTo>
                <a:lnTo>
                  <a:pt x="479" y="2923"/>
                </a:lnTo>
                <a:lnTo>
                  <a:pt x="511" y="2919"/>
                </a:lnTo>
                <a:lnTo>
                  <a:pt x="541" y="2913"/>
                </a:lnTo>
                <a:lnTo>
                  <a:pt x="553" y="2909"/>
                </a:lnTo>
                <a:lnTo>
                  <a:pt x="565" y="2907"/>
                </a:lnTo>
                <a:lnTo>
                  <a:pt x="576" y="2906"/>
                </a:lnTo>
                <a:lnTo>
                  <a:pt x="588" y="2906"/>
                </a:lnTo>
                <a:lnTo>
                  <a:pt x="610" y="2910"/>
                </a:lnTo>
                <a:lnTo>
                  <a:pt x="631" y="2916"/>
                </a:lnTo>
                <a:lnTo>
                  <a:pt x="653" y="2925"/>
                </a:lnTo>
                <a:lnTo>
                  <a:pt x="675" y="2930"/>
                </a:lnTo>
                <a:lnTo>
                  <a:pt x="687" y="2933"/>
                </a:lnTo>
                <a:lnTo>
                  <a:pt x="698" y="2935"/>
                </a:lnTo>
                <a:lnTo>
                  <a:pt x="710" y="2935"/>
                </a:lnTo>
                <a:lnTo>
                  <a:pt x="721" y="2935"/>
                </a:lnTo>
                <a:lnTo>
                  <a:pt x="750" y="2933"/>
                </a:lnTo>
                <a:lnTo>
                  <a:pt x="779" y="2930"/>
                </a:lnTo>
                <a:lnTo>
                  <a:pt x="807" y="2927"/>
                </a:lnTo>
                <a:lnTo>
                  <a:pt x="833" y="2922"/>
                </a:lnTo>
                <a:lnTo>
                  <a:pt x="839" y="2917"/>
                </a:lnTo>
                <a:lnTo>
                  <a:pt x="842" y="2913"/>
                </a:lnTo>
                <a:lnTo>
                  <a:pt x="845" y="2906"/>
                </a:lnTo>
                <a:lnTo>
                  <a:pt x="848" y="2900"/>
                </a:lnTo>
                <a:lnTo>
                  <a:pt x="851" y="2896"/>
                </a:lnTo>
                <a:lnTo>
                  <a:pt x="855" y="2893"/>
                </a:lnTo>
                <a:lnTo>
                  <a:pt x="856" y="2893"/>
                </a:lnTo>
                <a:lnTo>
                  <a:pt x="859" y="2893"/>
                </a:lnTo>
                <a:lnTo>
                  <a:pt x="862" y="2896"/>
                </a:lnTo>
                <a:lnTo>
                  <a:pt x="865" y="2898"/>
                </a:lnTo>
                <a:lnTo>
                  <a:pt x="872" y="2910"/>
                </a:lnTo>
                <a:lnTo>
                  <a:pt x="878" y="2922"/>
                </a:lnTo>
                <a:lnTo>
                  <a:pt x="881" y="2926"/>
                </a:lnTo>
                <a:lnTo>
                  <a:pt x="887" y="2929"/>
                </a:lnTo>
                <a:lnTo>
                  <a:pt x="893" y="2929"/>
                </a:lnTo>
                <a:lnTo>
                  <a:pt x="901" y="2929"/>
                </a:lnTo>
                <a:lnTo>
                  <a:pt x="930" y="2927"/>
                </a:lnTo>
                <a:lnTo>
                  <a:pt x="961" y="2926"/>
                </a:lnTo>
                <a:lnTo>
                  <a:pt x="975" y="2926"/>
                </a:lnTo>
                <a:lnTo>
                  <a:pt x="991" y="2927"/>
                </a:lnTo>
                <a:lnTo>
                  <a:pt x="1006" y="2930"/>
                </a:lnTo>
                <a:lnTo>
                  <a:pt x="1020" y="2933"/>
                </a:lnTo>
                <a:lnTo>
                  <a:pt x="1035" y="2932"/>
                </a:lnTo>
                <a:lnTo>
                  <a:pt x="1049" y="2930"/>
                </a:lnTo>
                <a:lnTo>
                  <a:pt x="1064" y="2927"/>
                </a:lnTo>
                <a:lnTo>
                  <a:pt x="1077" y="2923"/>
                </a:lnTo>
                <a:lnTo>
                  <a:pt x="1097" y="2923"/>
                </a:lnTo>
                <a:lnTo>
                  <a:pt x="1118" y="2926"/>
                </a:lnTo>
                <a:lnTo>
                  <a:pt x="1128" y="2926"/>
                </a:lnTo>
                <a:lnTo>
                  <a:pt x="1136" y="2925"/>
                </a:lnTo>
                <a:lnTo>
                  <a:pt x="1145" y="2922"/>
                </a:lnTo>
                <a:lnTo>
                  <a:pt x="1154" y="2916"/>
                </a:lnTo>
                <a:lnTo>
                  <a:pt x="1155" y="2910"/>
                </a:lnTo>
                <a:lnTo>
                  <a:pt x="1155" y="2904"/>
                </a:lnTo>
                <a:lnTo>
                  <a:pt x="1152" y="2897"/>
                </a:lnTo>
                <a:lnTo>
                  <a:pt x="1149" y="2891"/>
                </a:lnTo>
                <a:lnTo>
                  <a:pt x="1148" y="2887"/>
                </a:lnTo>
                <a:lnTo>
                  <a:pt x="1148" y="2881"/>
                </a:lnTo>
                <a:lnTo>
                  <a:pt x="1148" y="2880"/>
                </a:lnTo>
                <a:lnTo>
                  <a:pt x="1151" y="2878"/>
                </a:lnTo>
                <a:lnTo>
                  <a:pt x="1152" y="2877"/>
                </a:lnTo>
                <a:lnTo>
                  <a:pt x="1157" y="2875"/>
                </a:lnTo>
                <a:lnTo>
                  <a:pt x="1165" y="2875"/>
                </a:lnTo>
                <a:lnTo>
                  <a:pt x="1174" y="2878"/>
                </a:lnTo>
                <a:lnTo>
                  <a:pt x="1181" y="2884"/>
                </a:lnTo>
                <a:lnTo>
                  <a:pt x="1187" y="2888"/>
                </a:lnTo>
                <a:lnTo>
                  <a:pt x="1193" y="2896"/>
                </a:lnTo>
                <a:lnTo>
                  <a:pt x="1200" y="2901"/>
                </a:lnTo>
                <a:lnTo>
                  <a:pt x="1206" y="2906"/>
                </a:lnTo>
                <a:lnTo>
                  <a:pt x="1215" y="2910"/>
                </a:lnTo>
                <a:lnTo>
                  <a:pt x="1226" y="2913"/>
                </a:lnTo>
                <a:lnTo>
                  <a:pt x="1241" y="2914"/>
                </a:lnTo>
                <a:lnTo>
                  <a:pt x="1254" y="2916"/>
                </a:lnTo>
                <a:lnTo>
                  <a:pt x="1268" y="2916"/>
                </a:lnTo>
                <a:lnTo>
                  <a:pt x="1281" y="2914"/>
                </a:lnTo>
                <a:lnTo>
                  <a:pt x="1295" y="2910"/>
                </a:lnTo>
                <a:lnTo>
                  <a:pt x="1308" y="2906"/>
                </a:lnTo>
                <a:lnTo>
                  <a:pt x="1318" y="2898"/>
                </a:lnTo>
                <a:lnTo>
                  <a:pt x="1338" y="2878"/>
                </a:lnTo>
                <a:lnTo>
                  <a:pt x="1337" y="2862"/>
                </a:lnTo>
                <a:lnTo>
                  <a:pt x="1335" y="2848"/>
                </a:lnTo>
                <a:lnTo>
                  <a:pt x="1331" y="2833"/>
                </a:lnTo>
                <a:lnTo>
                  <a:pt x="1326" y="2819"/>
                </a:lnTo>
                <a:lnTo>
                  <a:pt x="1316" y="2791"/>
                </a:lnTo>
                <a:lnTo>
                  <a:pt x="1303" y="2762"/>
                </a:lnTo>
                <a:lnTo>
                  <a:pt x="1297" y="2749"/>
                </a:lnTo>
                <a:lnTo>
                  <a:pt x="1293" y="2735"/>
                </a:lnTo>
                <a:lnTo>
                  <a:pt x="1289" y="2720"/>
                </a:lnTo>
                <a:lnTo>
                  <a:pt x="1286" y="2707"/>
                </a:lnTo>
                <a:lnTo>
                  <a:pt x="1284" y="2691"/>
                </a:lnTo>
                <a:lnTo>
                  <a:pt x="1284" y="2677"/>
                </a:lnTo>
                <a:lnTo>
                  <a:pt x="1286" y="2662"/>
                </a:lnTo>
                <a:lnTo>
                  <a:pt x="1290" y="2646"/>
                </a:lnTo>
                <a:lnTo>
                  <a:pt x="1293" y="2626"/>
                </a:lnTo>
                <a:lnTo>
                  <a:pt x="1293" y="2605"/>
                </a:lnTo>
                <a:lnTo>
                  <a:pt x="1293" y="2585"/>
                </a:lnTo>
                <a:lnTo>
                  <a:pt x="1293" y="2565"/>
                </a:lnTo>
                <a:lnTo>
                  <a:pt x="1289" y="2524"/>
                </a:lnTo>
                <a:lnTo>
                  <a:pt x="1283" y="2484"/>
                </a:lnTo>
                <a:lnTo>
                  <a:pt x="1283" y="2442"/>
                </a:lnTo>
                <a:lnTo>
                  <a:pt x="1284" y="2398"/>
                </a:lnTo>
                <a:lnTo>
                  <a:pt x="1284" y="2353"/>
                </a:lnTo>
                <a:lnTo>
                  <a:pt x="1284" y="2310"/>
                </a:lnTo>
                <a:lnTo>
                  <a:pt x="1284" y="2265"/>
                </a:lnTo>
                <a:lnTo>
                  <a:pt x="1283" y="2220"/>
                </a:lnTo>
                <a:lnTo>
                  <a:pt x="1281" y="2175"/>
                </a:lnTo>
                <a:lnTo>
                  <a:pt x="1279" y="2130"/>
                </a:lnTo>
                <a:lnTo>
                  <a:pt x="1284" y="2082"/>
                </a:lnTo>
                <a:lnTo>
                  <a:pt x="1287" y="2032"/>
                </a:lnTo>
                <a:lnTo>
                  <a:pt x="1289" y="1983"/>
                </a:lnTo>
                <a:lnTo>
                  <a:pt x="1290" y="1935"/>
                </a:lnTo>
                <a:lnTo>
                  <a:pt x="1290" y="1886"/>
                </a:lnTo>
                <a:lnTo>
                  <a:pt x="1290" y="1837"/>
                </a:lnTo>
                <a:lnTo>
                  <a:pt x="1290" y="1786"/>
                </a:lnTo>
                <a:lnTo>
                  <a:pt x="1292" y="1737"/>
                </a:lnTo>
                <a:lnTo>
                  <a:pt x="1290" y="1726"/>
                </a:lnTo>
                <a:lnTo>
                  <a:pt x="1289" y="1716"/>
                </a:lnTo>
                <a:lnTo>
                  <a:pt x="1302" y="1706"/>
                </a:lnTo>
                <a:lnTo>
                  <a:pt x="1312" y="1695"/>
                </a:lnTo>
                <a:lnTo>
                  <a:pt x="1322" y="1683"/>
                </a:lnTo>
                <a:lnTo>
                  <a:pt x="1329" y="1670"/>
                </a:lnTo>
                <a:lnTo>
                  <a:pt x="1344" y="1644"/>
                </a:lnTo>
                <a:lnTo>
                  <a:pt x="1358" y="1618"/>
                </a:lnTo>
                <a:lnTo>
                  <a:pt x="1366" y="1599"/>
                </a:lnTo>
                <a:lnTo>
                  <a:pt x="1373" y="1580"/>
                </a:lnTo>
                <a:lnTo>
                  <a:pt x="1382" y="1563"/>
                </a:lnTo>
                <a:lnTo>
                  <a:pt x="1392" y="1545"/>
                </a:lnTo>
                <a:lnTo>
                  <a:pt x="1411" y="1510"/>
                </a:lnTo>
                <a:lnTo>
                  <a:pt x="1432" y="1475"/>
                </a:lnTo>
                <a:lnTo>
                  <a:pt x="1454" y="1442"/>
                </a:lnTo>
                <a:lnTo>
                  <a:pt x="1476" y="1407"/>
                </a:lnTo>
                <a:lnTo>
                  <a:pt x="1498" y="1374"/>
                </a:lnTo>
                <a:lnTo>
                  <a:pt x="1517" y="1339"/>
                </a:lnTo>
                <a:lnTo>
                  <a:pt x="1546" y="1296"/>
                </a:lnTo>
                <a:lnTo>
                  <a:pt x="1575" y="1254"/>
                </a:lnTo>
                <a:lnTo>
                  <a:pt x="1588" y="1232"/>
                </a:lnTo>
                <a:lnTo>
                  <a:pt x="1601" y="1210"/>
                </a:lnTo>
                <a:lnTo>
                  <a:pt x="1612" y="1188"/>
                </a:lnTo>
                <a:lnTo>
                  <a:pt x="1622" y="1165"/>
                </a:lnTo>
                <a:lnTo>
                  <a:pt x="1660" y="1120"/>
                </a:lnTo>
                <a:lnTo>
                  <a:pt x="1695" y="1075"/>
                </a:lnTo>
                <a:lnTo>
                  <a:pt x="1711" y="1050"/>
                </a:lnTo>
                <a:lnTo>
                  <a:pt x="1727" y="1027"/>
                </a:lnTo>
                <a:lnTo>
                  <a:pt x="1740" y="1003"/>
                </a:lnTo>
                <a:lnTo>
                  <a:pt x="1753" y="978"/>
                </a:lnTo>
                <a:lnTo>
                  <a:pt x="1760" y="956"/>
                </a:lnTo>
                <a:lnTo>
                  <a:pt x="1766" y="933"/>
                </a:lnTo>
                <a:lnTo>
                  <a:pt x="1770" y="910"/>
                </a:lnTo>
                <a:lnTo>
                  <a:pt x="1775" y="887"/>
                </a:lnTo>
                <a:lnTo>
                  <a:pt x="1779" y="840"/>
                </a:lnTo>
                <a:lnTo>
                  <a:pt x="1782" y="792"/>
                </a:lnTo>
                <a:lnTo>
                  <a:pt x="1784" y="744"/>
                </a:lnTo>
                <a:lnTo>
                  <a:pt x="1786" y="698"/>
                </a:lnTo>
                <a:lnTo>
                  <a:pt x="1788" y="673"/>
                </a:lnTo>
                <a:lnTo>
                  <a:pt x="1791" y="650"/>
                </a:lnTo>
                <a:lnTo>
                  <a:pt x="1794" y="627"/>
                </a:lnTo>
                <a:lnTo>
                  <a:pt x="1799" y="604"/>
                </a:lnTo>
                <a:lnTo>
                  <a:pt x="1802" y="563"/>
                </a:lnTo>
                <a:lnTo>
                  <a:pt x="1804" y="524"/>
                </a:lnTo>
                <a:lnTo>
                  <a:pt x="1805" y="504"/>
                </a:lnTo>
                <a:lnTo>
                  <a:pt x="1807" y="485"/>
                </a:lnTo>
                <a:lnTo>
                  <a:pt x="1810" y="464"/>
                </a:lnTo>
                <a:lnTo>
                  <a:pt x="1814" y="446"/>
                </a:lnTo>
                <a:lnTo>
                  <a:pt x="1827" y="441"/>
                </a:lnTo>
                <a:lnTo>
                  <a:pt x="1842" y="440"/>
                </a:lnTo>
                <a:lnTo>
                  <a:pt x="1858" y="440"/>
                </a:lnTo>
                <a:lnTo>
                  <a:pt x="1872" y="441"/>
                </a:lnTo>
                <a:lnTo>
                  <a:pt x="1868" y="447"/>
                </a:lnTo>
                <a:lnTo>
                  <a:pt x="1862" y="453"/>
                </a:lnTo>
                <a:lnTo>
                  <a:pt x="1856" y="457"/>
                </a:lnTo>
                <a:lnTo>
                  <a:pt x="1849" y="462"/>
                </a:lnTo>
                <a:lnTo>
                  <a:pt x="1843" y="466"/>
                </a:lnTo>
                <a:lnTo>
                  <a:pt x="1840" y="472"/>
                </a:lnTo>
                <a:lnTo>
                  <a:pt x="1840" y="473"/>
                </a:lnTo>
                <a:lnTo>
                  <a:pt x="1840" y="477"/>
                </a:lnTo>
                <a:lnTo>
                  <a:pt x="1842" y="480"/>
                </a:lnTo>
                <a:lnTo>
                  <a:pt x="1844" y="483"/>
                </a:lnTo>
                <a:lnTo>
                  <a:pt x="1849" y="489"/>
                </a:lnTo>
                <a:lnTo>
                  <a:pt x="1855" y="495"/>
                </a:lnTo>
                <a:lnTo>
                  <a:pt x="1859" y="496"/>
                </a:lnTo>
                <a:lnTo>
                  <a:pt x="1862" y="496"/>
                </a:lnTo>
                <a:lnTo>
                  <a:pt x="1866" y="495"/>
                </a:lnTo>
                <a:lnTo>
                  <a:pt x="1869" y="493"/>
                </a:lnTo>
                <a:lnTo>
                  <a:pt x="1888" y="476"/>
                </a:lnTo>
                <a:lnTo>
                  <a:pt x="1905" y="462"/>
                </a:lnTo>
                <a:lnTo>
                  <a:pt x="1924" y="446"/>
                </a:lnTo>
                <a:lnTo>
                  <a:pt x="1943" y="433"/>
                </a:lnTo>
                <a:lnTo>
                  <a:pt x="1963" y="440"/>
                </a:lnTo>
                <a:lnTo>
                  <a:pt x="1985" y="446"/>
                </a:lnTo>
                <a:lnTo>
                  <a:pt x="1995" y="447"/>
                </a:lnTo>
                <a:lnTo>
                  <a:pt x="2007" y="448"/>
                </a:lnTo>
                <a:lnTo>
                  <a:pt x="2019" y="447"/>
                </a:lnTo>
                <a:lnTo>
                  <a:pt x="2030" y="444"/>
                </a:lnTo>
                <a:lnTo>
                  <a:pt x="2033" y="440"/>
                </a:lnTo>
                <a:lnTo>
                  <a:pt x="2037" y="438"/>
                </a:lnTo>
                <a:lnTo>
                  <a:pt x="2042" y="437"/>
                </a:lnTo>
                <a:lnTo>
                  <a:pt x="2048" y="437"/>
                </a:lnTo>
                <a:lnTo>
                  <a:pt x="2052" y="435"/>
                </a:lnTo>
                <a:lnTo>
                  <a:pt x="2056" y="435"/>
                </a:lnTo>
                <a:lnTo>
                  <a:pt x="2061" y="433"/>
                </a:lnTo>
                <a:lnTo>
                  <a:pt x="2064" y="428"/>
                </a:lnTo>
                <a:lnTo>
                  <a:pt x="2065" y="417"/>
                </a:lnTo>
                <a:lnTo>
                  <a:pt x="2065" y="405"/>
                </a:lnTo>
                <a:lnTo>
                  <a:pt x="2075" y="404"/>
                </a:lnTo>
                <a:lnTo>
                  <a:pt x="2087" y="402"/>
                </a:lnTo>
                <a:lnTo>
                  <a:pt x="2091" y="399"/>
                </a:lnTo>
                <a:lnTo>
                  <a:pt x="2097" y="398"/>
                </a:lnTo>
                <a:lnTo>
                  <a:pt x="2101" y="395"/>
                </a:lnTo>
                <a:lnTo>
                  <a:pt x="2106" y="392"/>
                </a:lnTo>
                <a:lnTo>
                  <a:pt x="2104" y="385"/>
                </a:lnTo>
                <a:lnTo>
                  <a:pt x="2101" y="379"/>
                </a:lnTo>
                <a:lnTo>
                  <a:pt x="2095" y="376"/>
                </a:lnTo>
                <a:lnTo>
                  <a:pt x="2091" y="373"/>
                </a:lnTo>
                <a:lnTo>
                  <a:pt x="2078" y="370"/>
                </a:lnTo>
                <a:lnTo>
                  <a:pt x="2066" y="366"/>
                </a:lnTo>
                <a:lnTo>
                  <a:pt x="2084" y="364"/>
                </a:lnTo>
                <a:lnTo>
                  <a:pt x="2101" y="361"/>
                </a:lnTo>
                <a:lnTo>
                  <a:pt x="2110" y="360"/>
                </a:lnTo>
                <a:lnTo>
                  <a:pt x="2117" y="357"/>
                </a:lnTo>
                <a:lnTo>
                  <a:pt x="2125" y="354"/>
                </a:lnTo>
                <a:lnTo>
                  <a:pt x="2130" y="348"/>
                </a:lnTo>
                <a:lnTo>
                  <a:pt x="2129" y="340"/>
                </a:lnTo>
                <a:lnTo>
                  <a:pt x="2126" y="332"/>
                </a:lnTo>
                <a:lnTo>
                  <a:pt x="2122" y="325"/>
                </a:lnTo>
                <a:lnTo>
                  <a:pt x="2114" y="321"/>
                </a:lnTo>
                <a:lnTo>
                  <a:pt x="2078" y="324"/>
                </a:lnTo>
                <a:lnTo>
                  <a:pt x="2129" y="277"/>
                </a:lnTo>
                <a:lnTo>
                  <a:pt x="2181" y="232"/>
                </a:lnTo>
                <a:lnTo>
                  <a:pt x="2235" y="187"/>
                </a:lnTo>
                <a:lnTo>
                  <a:pt x="2288" y="144"/>
                </a:lnTo>
                <a:lnTo>
                  <a:pt x="2294" y="155"/>
                </a:lnTo>
                <a:lnTo>
                  <a:pt x="2299" y="167"/>
                </a:lnTo>
                <a:lnTo>
                  <a:pt x="2302" y="180"/>
                </a:lnTo>
                <a:lnTo>
                  <a:pt x="2306" y="193"/>
                </a:lnTo>
                <a:lnTo>
                  <a:pt x="2309" y="193"/>
                </a:lnTo>
                <a:lnTo>
                  <a:pt x="2310" y="192"/>
                </a:lnTo>
                <a:lnTo>
                  <a:pt x="2310" y="190"/>
                </a:lnTo>
                <a:lnTo>
                  <a:pt x="2312" y="189"/>
                </a:lnTo>
                <a:lnTo>
                  <a:pt x="2322" y="134"/>
                </a:lnTo>
                <a:lnTo>
                  <a:pt x="2341" y="154"/>
                </a:lnTo>
                <a:lnTo>
                  <a:pt x="2360" y="176"/>
                </a:lnTo>
                <a:lnTo>
                  <a:pt x="2362" y="176"/>
                </a:lnTo>
                <a:lnTo>
                  <a:pt x="2362" y="169"/>
                </a:lnTo>
                <a:lnTo>
                  <a:pt x="2361" y="163"/>
                </a:lnTo>
                <a:lnTo>
                  <a:pt x="2358" y="155"/>
                </a:lnTo>
                <a:lnTo>
                  <a:pt x="2355" y="148"/>
                </a:lnTo>
                <a:lnTo>
                  <a:pt x="2349" y="134"/>
                </a:lnTo>
                <a:lnTo>
                  <a:pt x="2345" y="119"/>
                </a:lnTo>
                <a:lnTo>
                  <a:pt x="2352" y="119"/>
                </a:lnTo>
                <a:lnTo>
                  <a:pt x="2358" y="121"/>
                </a:lnTo>
                <a:lnTo>
                  <a:pt x="2364" y="124"/>
                </a:lnTo>
                <a:lnTo>
                  <a:pt x="2371" y="125"/>
                </a:lnTo>
                <a:lnTo>
                  <a:pt x="2383" y="131"/>
                </a:lnTo>
                <a:lnTo>
                  <a:pt x="2397" y="134"/>
                </a:lnTo>
                <a:lnTo>
                  <a:pt x="2399" y="128"/>
                </a:lnTo>
                <a:lnTo>
                  <a:pt x="2380" y="113"/>
                </a:lnTo>
                <a:lnTo>
                  <a:pt x="2360" y="9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79840" y="1677960"/>
            <a:ext cx="206280" cy="209520"/>
          </a:xfrm>
          <a:custGeom>
            <a:avLst/>
            <a:gdLst/>
            <a:ahLst/>
            <a:rect l="l" t="t" r="r" b="b"/>
            <a:pathLst>
              <a:path w="130" h="132">
                <a:moveTo>
                  <a:pt x="106" y="45"/>
                </a:moveTo>
                <a:lnTo>
                  <a:pt x="119" y="29"/>
                </a:lnTo>
                <a:lnTo>
                  <a:pt x="114" y="31"/>
                </a:lnTo>
                <a:lnTo>
                  <a:pt x="110" y="32"/>
                </a:lnTo>
                <a:lnTo>
                  <a:pt x="106" y="35"/>
                </a:lnTo>
                <a:lnTo>
                  <a:pt x="100" y="38"/>
                </a:lnTo>
                <a:lnTo>
                  <a:pt x="96" y="39"/>
                </a:lnTo>
                <a:lnTo>
                  <a:pt x="91" y="41"/>
                </a:lnTo>
                <a:lnTo>
                  <a:pt x="87" y="41"/>
                </a:lnTo>
                <a:lnTo>
                  <a:pt x="84" y="38"/>
                </a:lnTo>
                <a:lnTo>
                  <a:pt x="81" y="0"/>
                </a:lnTo>
                <a:lnTo>
                  <a:pt x="75" y="21"/>
                </a:lnTo>
                <a:lnTo>
                  <a:pt x="68" y="41"/>
                </a:lnTo>
                <a:lnTo>
                  <a:pt x="59" y="35"/>
                </a:lnTo>
                <a:lnTo>
                  <a:pt x="52" y="28"/>
                </a:lnTo>
                <a:lnTo>
                  <a:pt x="49" y="25"/>
                </a:lnTo>
                <a:lnTo>
                  <a:pt x="45" y="22"/>
                </a:lnTo>
                <a:lnTo>
                  <a:pt x="40" y="19"/>
                </a:lnTo>
                <a:lnTo>
                  <a:pt x="36" y="18"/>
                </a:lnTo>
                <a:lnTo>
                  <a:pt x="38" y="24"/>
                </a:lnTo>
                <a:lnTo>
                  <a:pt x="40" y="28"/>
                </a:lnTo>
                <a:lnTo>
                  <a:pt x="43" y="34"/>
                </a:lnTo>
                <a:lnTo>
                  <a:pt x="48" y="38"/>
                </a:lnTo>
                <a:lnTo>
                  <a:pt x="51" y="42"/>
                </a:lnTo>
                <a:lnTo>
                  <a:pt x="54" y="47"/>
                </a:lnTo>
                <a:lnTo>
                  <a:pt x="54" y="51"/>
                </a:lnTo>
                <a:lnTo>
                  <a:pt x="49" y="55"/>
                </a:lnTo>
                <a:lnTo>
                  <a:pt x="0" y="57"/>
                </a:lnTo>
                <a:lnTo>
                  <a:pt x="9" y="63"/>
                </a:lnTo>
                <a:lnTo>
                  <a:pt x="17" y="67"/>
                </a:lnTo>
                <a:lnTo>
                  <a:pt x="26" y="70"/>
                </a:lnTo>
                <a:lnTo>
                  <a:pt x="35" y="73"/>
                </a:lnTo>
                <a:lnTo>
                  <a:pt x="36" y="76"/>
                </a:lnTo>
                <a:lnTo>
                  <a:pt x="36" y="77"/>
                </a:lnTo>
                <a:lnTo>
                  <a:pt x="36" y="80"/>
                </a:lnTo>
                <a:lnTo>
                  <a:pt x="35" y="83"/>
                </a:lnTo>
                <a:lnTo>
                  <a:pt x="32" y="87"/>
                </a:lnTo>
                <a:lnTo>
                  <a:pt x="30" y="92"/>
                </a:lnTo>
                <a:lnTo>
                  <a:pt x="33" y="92"/>
                </a:lnTo>
                <a:lnTo>
                  <a:pt x="39" y="89"/>
                </a:lnTo>
                <a:lnTo>
                  <a:pt x="42" y="87"/>
                </a:lnTo>
                <a:lnTo>
                  <a:pt x="43" y="89"/>
                </a:lnTo>
                <a:lnTo>
                  <a:pt x="46" y="90"/>
                </a:lnTo>
                <a:lnTo>
                  <a:pt x="48" y="93"/>
                </a:lnTo>
                <a:lnTo>
                  <a:pt x="59" y="132"/>
                </a:lnTo>
                <a:lnTo>
                  <a:pt x="61" y="118"/>
                </a:lnTo>
                <a:lnTo>
                  <a:pt x="65" y="103"/>
                </a:lnTo>
                <a:lnTo>
                  <a:pt x="67" y="96"/>
                </a:lnTo>
                <a:lnTo>
                  <a:pt x="67" y="89"/>
                </a:lnTo>
                <a:lnTo>
                  <a:pt x="67" y="83"/>
                </a:lnTo>
                <a:lnTo>
                  <a:pt x="65" y="76"/>
                </a:lnTo>
                <a:lnTo>
                  <a:pt x="67" y="73"/>
                </a:lnTo>
                <a:lnTo>
                  <a:pt x="69" y="73"/>
                </a:lnTo>
                <a:lnTo>
                  <a:pt x="72" y="73"/>
                </a:lnTo>
                <a:lnTo>
                  <a:pt x="74" y="73"/>
                </a:lnTo>
                <a:lnTo>
                  <a:pt x="85" y="92"/>
                </a:lnTo>
                <a:lnTo>
                  <a:pt x="100" y="108"/>
                </a:lnTo>
                <a:lnTo>
                  <a:pt x="96" y="98"/>
                </a:lnTo>
                <a:lnTo>
                  <a:pt x="91" y="86"/>
                </a:lnTo>
                <a:lnTo>
                  <a:pt x="90" y="82"/>
                </a:lnTo>
                <a:lnTo>
                  <a:pt x="90" y="76"/>
                </a:lnTo>
                <a:lnTo>
                  <a:pt x="90" y="70"/>
                </a:lnTo>
                <a:lnTo>
                  <a:pt x="90" y="64"/>
                </a:lnTo>
                <a:lnTo>
                  <a:pt x="130" y="80"/>
                </a:lnTo>
                <a:lnTo>
                  <a:pt x="120" y="73"/>
                </a:lnTo>
                <a:lnTo>
                  <a:pt x="110" y="66"/>
                </a:lnTo>
                <a:lnTo>
                  <a:pt x="104" y="61"/>
                </a:lnTo>
                <a:lnTo>
                  <a:pt x="103" y="57"/>
                </a:lnTo>
                <a:lnTo>
                  <a:pt x="101" y="54"/>
                </a:lnTo>
                <a:lnTo>
                  <a:pt x="103" y="51"/>
                </a:lnTo>
                <a:lnTo>
                  <a:pt x="104" y="48"/>
                </a:lnTo>
                <a:lnTo>
                  <a:pt x="106" y="45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57560" y="1819440"/>
            <a:ext cx="463680" cy="369720"/>
          </a:xfrm>
          <a:custGeom>
            <a:avLst/>
            <a:gdLst/>
            <a:ahLst/>
            <a:rect l="l" t="t" r="r" b="b"/>
            <a:pathLst>
              <a:path w="292" h="233">
                <a:moveTo>
                  <a:pt x="286" y="16"/>
                </a:moveTo>
                <a:lnTo>
                  <a:pt x="283" y="13"/>
                </a:lnTo>
                <a:lnTo>
                  <a:pt x="283" y="9"/>
                </a:lnTo>
                <a:lnTo>
                  <a:pt x="285" y="4"/>
                </a:lnTo>
                <a:lnTo>
                  <a:pt x="286" y="0"/>
                </a:lnTo>
                <a:lnTo>
                  <a:pt x="244" y="36"/>
                </a:lnTo>
                <a:lnTo>
                  <a:pt x="199" y="69"/>
                </a:lnTo>
                <a:lnTo>
                  <a:pt x="176" y="87"/>
                </a:lnTo>
                <a:lnTo>
                  <a:pt x="154" y="104"/>
                </a:lnTo>
                <a:lnTo>
                  <a:pt x="132" y="123"/>
                </a:lnTo>
                <a:lnTo>
                  <a:pt x="111" y="142"/>
                </a:lnTo>
                <a:lnTo>
                  <a:pt x="106" y="154"/>
                </a:lnTo>
                <a:lnTo>
                  <a:pt x="99" y="165"/>
                </a:lnTo>
                <a:lnTo>
                  <a:pt x="90" y="174"/>
                </a:lnTo>
                <a:lnTo>
                  <a:pt x="80" y="181"/>
                </a:lnTo>
                <a:lnTo>
                  <a:pt x="69" y="188"/>
                </a:lnTo>
                <a:lnTo>
                  <a:pt x="57" y="194"/>
                </a:lnTo>
                <a:lnTo>
                  <a:pt x="44" y="199"/>
                </a:lnTo>
                <a:lnTo>
                  <a:pt x="32" y="201"/>
                </a:lnTo>
                <a:lnTo>
                  <a:pt x="25" y="206"/>
                </a:lnTo>
                <a:lnTo>
                  <a:pt x="16" y="210"/>
                </a:lnTo>
                <a:lnTo>
                  <a:pt x="13" y="213"/>
                </a:lnTo>
                <a:lnTo>
                  <a:pt x="10" y="217"/>
                </a:lnTo>
                <a:lnTo>
                  <a:pt x="9" y="220"/>
                </a:lnTo>
                <a:lnTo>
                  <a:pt x="10" y="225"/>
                </a:lnTo>
                <a:lnTo>
                  <a:pt x="0" y="233"/>
                </a:lnTo>
                <a:lnTo>
                  <a:pt x="39" y="230"/>
                </a:lnTo>
                <a:lnTo>
                  <a:pt x="35" y="228"/>
                </a:lnTo>
                <a:lnTo>
                  <a:pt x="31" y="223"/>
                </a:lnTo>
                <a:lnTo>
                  <a:pt x="29" y="217"/>
                </a:lnTo>
                <a:lnTo>
                  <a:pt x="29" y="213"/>
                </a:lnTo>
                <a:lnTo>
                  <a:pt x="37" y="206"/>
                </a:lnTo>
                <a:lnTo>
                  <a:pt x="44" y="201"/>
                </a:lnTo>
                <a:lnTo>
                  <a:pt x="53" y="200"/>
                </a:lnTo>
                <a:lnTo>
                  <a:pt x="61" y="199"/>
                </a:lnTo>
                <a:lnTo>
                  <a:pt x="70" y="196"/>
                </a:lnTo>
                <a:lnTo>
                  <a:pt x="79" y="194"/>
                </a:lnTo>
                <a:lnTo>
                  <a:pt x="82" y="191"/>
                </a:lnTo>
                <a:lnTo>
                  <a:pt x="86" y="188"/>
                </a:lnTo>
                <a:lnTo>
                  <a:pt x="89" y="185"/>
                </a:lnTo>
                <a:lnTo>
                  <a:pt x="90" y="181"/>
                </a:lnTo>
                <a:lnTo>
                  <a:pt x="292" y="16"/>
                </a:lnTo>
                <a:lnTo>
                  <a:pt x="289" y="16"/>
                </a:lnTo>
                <a:lnTo>
                  <a:pt x="28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19480" y="2131920"/>
            <a:ext cx="162000" cy="49320"/>
          </a:xfrm>
          <a:custGeom>
            <a:avLst/>
            <a:gdLst/>
            <a:ahLst/>
            <a:rect l="l" t="t" r="r" b="b"/>
            <a:pathLst>
              <a:path w="102" h="31">
                <a:moveTo>
                  <a:pt x="90" y="0"/>
                </a:moveTo>
                <a:lnTo>
                  <a:pt x="77" y="0"/>
                </a:lnTo>
                <a:lnTo>
                  <a:pt x="66" y="0"/>
                </a:lnTo>
                <a:lnTo>
                  <a:pt x="54" y="2"/>
                </a:lnTo>
                <a:lnTo>
                  <a:pt x="43" y="4"/>
                </a:lnTo>
                <a:lnTo>
                  <a:pt x="21" y="10"/>
                </a:lnTo>
                <a:lnTo>
                  <a:pt x="0" y="19"/>
                </a:lnTo>
                <a:lnTo>
                  <a:pt x="2" y="23"/>
                </a:lnTo>
                <a:lnTo>
                  <a:pt x="5" y="26"/>
                </a:lnTo>
                <a:lnTo>
                  <a:pt x="9" y="28"/>
                </a:lnTo>
                <a:lnTo>
                  <a:pt x="15" y="29"/>
                </a:lnTo>
                <a:lnTo>
                  <a:pt x="34" y="31"/>
                </a:lnTo>
                <a:lnTo>
                  <a:pt x="54" y="31"/>
                </a:lnTo>
                <a:lnTo>
                  <a:pt x="76" y="28"/>
                </a:lnTo>
                <a:lnTo>
                  <a:pt x="96" y="23"/>
                </a:lnTo>
                <a:lnTo>
                  <a:pt x="99" y="22"/>
                </a:lnTo>
                <a:lnTo>
                  <a:pt x="101" y="19"/>
                </a:lnTo>
                <a:lnTo>
                  <a:pt x="102" y="15"/>
                </a:lnTo>
                <a:lnTo>
                  <a:pt x="101" y="10"/>
                </a:lnTo>
                <a:lnTo>
                  <a:pt x="99" y="7"/>
                </a:lnTo>
                <a:lnTo>
                  <a:pt x="96" y="4"/>
                </a:lnTo>
                <a:lnTo>
                  <a:pt x="93" y="2"/>
                </a:lnTo>
                <a:lnTo>
                  <a:pt x="90" y="0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46400" y="2198520"/>
            <a:ext cx="193680" cy="46080"/>
          </a:xfrm>
          <a:custGeom>
            <a:avLst/>
            <a:gdLst/>
            <a:ahLst/>
            <a:rect l="l" t="t" r="r" b="b"/>
            <a:pathLst>
              <a:path w="122" h="29">
                <a:moveTo>
                  <a:pt x="110" y="7"/>
                </a:moveTo>
                <a:lnTo>
                  <a:pt x="90" y="4"/>
                </a:lnTo>
                <a:lnTo>
                  <a:pt x="70" y="2"/>
                </a:lnTo>
                <a:lnTo>
                  <a:pt x="49" y="0"/>
                </a:lnTo>
                <a:lnTo>
                  <a:pt x="29" y="2"/>
                </a:lnTo>
                <a:lnTo>
                  <a:pt x="13" y="4"/>
                </a:lnTo>
                <a:lnTo>
                  <a:pt x="0" y="10"/>
                </a:lnTo>
                <a:lnTo>
                  <a:pt x="0" y="13"/>
                </a:lnTo>
                <a:lnTo>
                  <a:pt x="3" y="16"/>
                </a:lnTo>
                <a:lnTo>
                  <a:pt x="6" y="18"/>
                </a:lnTo>
                <a:lnTo>
                  <a:pt x="10" y="19"/>
                </a:lnTo>
                <a:lnTo>
                  <a:pt x="15" y="19"/>
                </a:lnTo>
                <a:lnTo>
                  <a:pt x="17" y="20"/>
                </a:lnTo>
                <a:lnTo>
                  <a:pt x="20" y="22"/>
                </a:lnTo>
                <a:lnTo>
                  <a:pt x="22" y="25"/>
                </a:lnTo>
                <a:lnTo>
                  <a:pt x="35" y="26"/>
                </a:lnTo>
                <a:lnTo>
                  <a:pt x="46" y="28"/>
                </a:lnTo>
                <a:lnTo>
                  <a:pt x="60" y="29"/>
                </a:lnTo>
                <a:lnTo>
                  <a:pt x="73" y="29"/>
                </a:lnTo>
                <a:lnTo>
                  <a:pt x="84" y="28"/>
                </a:lnTo>
                <a:lnTo>
                  <a:pt x="97" y="26"/>
                </a:lnTo>
                <a:lnTo>
                  <a:pt x="109" y="23"/>
                </a:lnTo>
                <a:lnTo>
                  <a:pt x="122" y="19"/>
                </a:lnTo>
                <a:lnTo>
                  <a:pt x="120" y="15"/>
                </a:lnTo>
                <a:lnTo>
                  <a:pt x="118" y="12"/>
                </a:lnTo>
                <a:lnTo>
                  <a:pt x="113" y="9"/>
                </a:lnTo>
                <a:lnTo>
                  <a:pt x="110" y="7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023920"/>
            <a:ext cx="424080" cy="276480"/>
          </a:xfrm>
          <a:custGeom>
            <a:avLst/>
            <a:gdLst/>
            <a:ahLst/>
            <a:rect l="l" t="t" r="r" b="b"/>
            <a:pathLst>
              <a:path w="267" h="174">
                <a:moveTo>
                  <a:pt x="263" y="0"/>
                </a:moveTo>
                <a:lnTo>
                  <a:pt x="247" y="9"/>
                </a:lnTo>
                <a:lnTo>
                  <a:pt x="232" y="19"/>
                </a:lnTo>
                <a:lnTo>
                  <a:pt x="218" y="29"/>
                </a:lnTo>
                <a:lnTo>
                  <a:pt x="202" y="36"/>
                </a:lnTo>
                <a:lnTo>
                  <a:pt x="175" y="38"/>
                </a:lnTo>
                <a:lnTo>
                  <a:pt x="151" y="38"/>
                </a:lnTo>
                <a:lnTo>
                  <a:pt x="139" y="38"/>
                </a:lnTo>
                <a:lnTo>
                  <a:pt x="126" y="38"/>
                </a:lnTo>
                <a:lnTo>
                  <a:pt x="115" y="41"/>
                </a:lnTo>
                <a:lnTo>
                  <a:pt x="101" y="45"/>
                </a:lnTo>
                <a:lnTo>
                  <a:pt x="80" y="65"/>
                </a:lnTo>
                <a:lnTo>
                  <a:pt x="58" y="83"/>
                </a:lnTo>
                <a:lnTo>
                  <a:pt x="48" y="90"/>
                </a:lnTo>
                <a:lnTo>
                  <a:pt x="35" y="96"/>
                </a:lnTo>
                <a:lnTo>
                  <a:pt x="22" y="99"/>
                </a:lnTo>
                <a:lnTo>
                  <a:pt x="7" y="100"/>
                </a:lnTo>
                <a:lnTo>
                  <a:pt x="1" y="103"/>
                </a:lnTo>
                <a:lnTo>
                  <a:pt x="0" y="173"/>
                </a:lnTo>
                <a:lnTo>
                  <a:pt x="14" y="173"/>
                </a:lnTo>
                <a:lnTo>
                  <a:pt x="30" y="171"/>
                </a:lnTo>
                <a:lnTo>
                  <a:pt x="48" y="173"/>
                </a:lnTo>
                <a:lnTo>
                  <a:pt x="65" y="174"/>
                </a:lnTo>
                <a:lnTo>
                  <a:pt x="83" y="158"/>
                </a:lnTo>
                <a:lnTo>
                  <a:pt x="101" y="144"/>
                </a:lnTo>
                <a:lnTo>
                  <a:pt x="120" y="129"/>
                </a:lnTo>
                <a:lnTo>
                  <a:pt x="138" y="114"/>
                </a:lnTo>
                <a:lnTo>
                  <a:pt x="122" y="120"/>
                </a:lnTo>
                <a:lnTo>
                  <a:pt x="107" y="125"/>
                </a:lnTo>
                <a:lnTo>
                  <a:pt x="91" y="128"/>
                </a:lnTo>
                <a:lnTo>
                  <a:pt x="74" y="132"/>
                </a:lnTo>
                <a:lnTo>
                  <a:pt x="71" y="128"/>
                </a:lnTo>
                <a:lnTo>
                  <a:pt x="71" y="123"/>
                </a:lnTo>
                <a:lnTo>
                  <a:pt x="90" y="120"/>
                </a:lnTo>
                <a:lnTo>
                  <a:pt x="107" y="117"/>
                </a:lnTo>
                <a:lnTo>
                  <a:pt x="116" y="116"/>
                </a:lnTo>
                <a:lnTo>
                  <a:pt x="125" y="112"/>
                </a:lnTo>
                <a:lnTo>
                  <a:pt x="133" y="109"/>
                </a:lnTo>
                <a:lnTo>
                  <a:pt x="141" y="104"/>
                </a:lnTo>
                <a:lnTo>
                  <a:pt x="154" y="93"/>
                </a:lnTo>
                <a:lnTo>
                  <a:pt x="168" y="83"/>
                </a:lnTo>
                <a:lnTo>
                  <a:pt x="181" y="71"/>
                </a:lnTo>
                <a:lnTo>
                  <a:pt x="196" y="62"/>
                </a:lnTo>
                <a:lnTo>
                  <a:pt x="204" y="58"/>
                </a:lnTo>
                <a:lnTo>
                  <a:pt x="213" y="55"/>
                </a:lnTo>
                <a:lnTo>
                  <a:pt x="222" y="54"/>
                </a:lnTo>
                <a:lnTo>
                  <a:pt x="231" y="52"/>
                </a:lnTo>
                <a:lnTo>
                  <a:pt x="244" y="42"/>
                </a:lnTo>
                <a:lnTo>
                  <a:pt x="257" y="30"/>
                </a:lnTo>
                <a:lnTo>
                  <a:pt x="261" y="25"/>
                </a:lnTo>
                <a:lnTo>
                  <a:pt x="265" y="17"/>
                </a:lnTo>
                <a:lnTo>
                  <a:pt x="267" y="10"/>
                </a:lnTo>
                <a:lnTo>
                  <a:pt x="265" y="1"/>
                </a:lnTo>
                <a:lnTo>
                  <a:pt x="263" y="0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19400" y="2243160"/>
            <a:ext cx="158760" cy="50760"/>
          </a:xfrm>
          <a:custGeom>
            <a:avLst/>
            <a:gdLst/>
            <a:ahLst/>
            <a:rect l="l" t="t" r="r" b="b"/>
            <a:pathLst>
              <a:path w="100" h="32">
                <a:moveTo>
                  <a:pt x="56" y="7"/>
                </a:moveTo>
                <a:lnTo>
                  <a:pt x="43" y="4"/>
                </a:lnTo>
                <a:lnTo>
                  <a:pt x="29" y="0"/>
                </a:lnTo>
                <a:lnTo>
                  <a:pt x="21" y="0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10" y="11"/>
                </a:lnTo>
                <a:lnTo>
                  <a:pt x="20" y="17"/>
                </a:lnTo>
                <a:lnTo>
                  <a:pt x="32" y="21"/>
                </a:lnTo>
                <a:lnTo>
                  <a:pt x="43" y="26"/>
                </a:lnTo>
                <a:lnTo>
                  <a:pt x="69" y="29"/>
                </a:lnTo>
                <a:lnTo>
                  <a:pt x="94" y="32"/>
                </a:lnTo>
                <a:lnTo>
                  <a:pt x="97" y="29"/>
                </a:lnTo>
                <a:lnTo>
                  <a:pt x="98" y="24"/>
                </a:lnTo>
                <a:lnTo>
                  <a:pt x="100" y="20"/>
                </a:lnTo>
                <a:lnTo>
                  <a:pt x="100" y="14"/>
                </a:lnTo>
                <a:lnTo>
                  <a:pt x="95" y="10"/>
                </a:lnTo>
                <a:lnTo>
                  <a:pt x="91" y="8"/>
                </a:lnTo>
                <a:lnTo>
                  <a:pt x="85" y="7"/>
                </a:lnTo>
                <a:lnTo>
                  <a:pt x="81" y="8"/>
                </a:lnTo>
                <a:lnTo>
                  <a:pt x="69" y="8"/>
                </a:lnTo>
                <a:lnTo>
                  <a:pt x="56" y="7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94200" y="2279520"/>
            <a:ext cx="133200" cy="32040"/>
          </a:xfrm>
          <a:custGeom>
            <a:avLst/>
            <a:gdLst/>
            <a:ahLst/>
            <a:rect l="l" t="t" r="r" b="b"/>
            <a:pathLst>
              <a:path w="84" h="20">
                <a:moveTo>
                  <a:pt x="0" y="0"/>
                </a:moveTo>
                <a:lnTo>
                  <a:pt x="4" y="4"/>
                </a:lnTo>
                <a:lnTo>
                  <a:pt x="11" y="9"/>
                </a:lnTo>
                <a:lnTo>
                  <a:pt x="19" y="12"/>
                </a:lnTo>
                <a:lnTo>
                  <a:pt x="26" y="14"/>
                </a:lnTo>
                <a:lnTo>
                  <a:pt x="40" y="17"/>
                </a:lnTo>
                <a:lnTo>
                  <a:pt x="55" y="20"/>
                </a:lnTo>
                <a:lnTo>
                  <a:pt x="62" y="20"/>
                </a:lnTo>
                <a:lnTo>
                  <a:pt x="69" y="20"/>
                </a:lnTo>
                <a:lnTo>
                  <a:pt x="77" y="19"/>
                </a:lnTo>
                <a:lnTo>
                  <a:pt x="84" y="16"/>
                </a:lnTo>
                <a:lnTo>
                  <a:pt x="64" y="12"/>
                </a:lnTo>
                <a:lnTo>
                  <a:pt x="43" y="6"/>
                </a:lnTo>
                <a:lnTo>
                  <a:pt x="33" y="3"/>
                </a:lnTo>
                <a:lnTo>
                  <a:pt x="21" y="0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48040" y="2205000"/>
            <a:ext cx="191880" cy="182520"/>
          </a:xfrm>
          <a:custGeom>
            <a:avLst/>
            <a:gdLst/>
            <a:ahLst/>
            <a:rect l="l" t="t" r="r" b="b"/>
            <a:pathLst>
              <a:path w="121" h="115">
                <a:moveTo>
                  <a:pt x="0" y="98"/>
                </a:moveTo>
                <a:lnTo>
                  <a:pt x="0" y="102"/>
                </a:lnTo>
                <a:lnTo>
                  <a:pt x="2" y="106"/>
                </a:lnTo>
                <a:lnTo>
                  <a:pt x="3" y="111"/>
                </a:lnTo>
                <a:lnTo>
                  <a:pt x="8" y="115"/>
                </a:lnTo>
                <a:lnTo>
                  <a:pt x="26" y="101"/>
                </a:lnTo>
                <a:lnTo>
                  <a:pt x="45" y="85"/>
                </a:lnTo>
                <a:lnTo>
                  <a:pt x="64" y="70"/>
                </a:lnTo>
                <a:lnTo>
                  <a:pt x="82" y="54"/>
                </a:lnTo>
                <a:lnTo>
                  <a:pt x="82" y="51"/>
                </a:lnTo>
                <a:lnTo>
                  <a:pt x="79" y="48"/>
                </a:lnTo>
                <a:lnTo>
                  <a:pt x="77" y="45"/>
                </a:lnTo>
                <a:lnTo>
                  <a:pt x="79" y="43"/>
                </a:lnTo>
                <a:lnTo>
                  <a:pt x="82" y="40"/>
                </a:lnTo>
                <a:lnTo>
                  <a:pt x="83" y="38"/>
                </a:lnTo>
                <a:lnTo>
                  <a:pt x="86" y="38"/>
                </a:lnTo>
                <a:lnTo>
                  <a:pt x="89" y="38"/>
                </a:lnTo>
                <a:lnTo>
                  <a:pt x="95" y="38"/>
                </a:lnTo>
                <a:lnTo>
                  <a:pt x="100" y="37"/>
                </a:lnTo>
                <a:lnTo>
                  <a:pt x="97" y="32"/>
                </a:lnTo>
                <a:lnTo>
                  <a:pt x="97" y="28"/>
                </a:lnTo>
                <a:lnTo>
                  <a:pt x="99" y="25"/>
                </a:lnTo>
                <a:lnTo>
                  <a:pt x="102" y="22"/>
                </a:lnTo>
                <a:lnTo>
                  <a:pt x="109" y="18"/>
                </a:lnTo>
                <a:lnTo>
                  <a:pt x="118" y="16"/>
                </a:lnTo>
                <a:lnTo>
                  <a:pt x="116" y="12"/>
                </a:lnTo>
                <a:lnTo>
                  <a:pt x="115" y="8"/>
                </a:lnTo>
                <a:lnTo>
                  <a:pt x="116" y="3"/>
                </a:lnTo>
                <a:lnTo>
                  <a:pt x="121" y="0"/>
                </a:lnTo>
                <a:lnTo>
                  <a:pt x="0" y="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1360" y="2166840"/>
            <a:ext cx="1002960" cy="2143080"/>
          </a:xfrm>
          <a:custGeom>
            <a:avLst/>
            <a:gdLst/>
            <a:ahLst/>
            <a:rect l="l" t="t" r="r" b="b"/>
            <a:pathLst>
              <a:path w="632" h="1350">
                <a:moveTo>
                  <a:pt x="627" y="0"/>
                </a:moveTo>
                <a:lnTo>
                  <a:pt x="600" y="1"/>
                </a:lnTo>
                <a:lnTo>
                  <a:pt x="572" y="3"/>
                </a:lnTo>
                <a:lnTo>
                  <a:pt x="546" y="7"/>
                </a:lnTo>
                <a:lnTo>
                  <a:pt x="518" y="13"/>
                </a:lnTo>
                <a:lnTo>
                  <a:pt x="466" y="24"/>
                </a:lnTo>
                <a:lnTo>
                  <a:pt x="414" y="38"/>
                </a:lnTo>
                <a:lnTo>
                  <a:pt x="372" y="46"/>
                </a:lnTo>
                <a:lnTo>
                  <a:pt x="328" y="55"/>
                </a:lnTo>
                <a:lnTo>
                  <a:pt x="286" y="64"/>
                </a:lnTo>
                <a:lnTo>
                  <a:pt x="244" y="72"/>
                </a:lnTo>
                <a:lnTo>
                  <a:pt x="202" y="81"/>
                </a:lnTo>
                <a:lnTo>
                  <a:pt x="159" y="90"/>
                </a:lnTo>
                <a:lnTo>
                  <a:pt x="117" y="97"/>
                </a:lnTo>
                <a:lnTo>
                  <a:pt x="74" y="104"/>
                </a:lnTo>
                <a:lnTo>
                  <a:pt x="70" y="106"/>
                </a:lnTo>
                <a:lnTo>
                  <a:pt x="66" y="110"/>
                </a:lnTo>
                <a:lnTo>
                  <a:pt x="79" y="127"/>
                </a:lnTo>
                <a:lnTo>
                  <a:pt x="90" y="146"/>
                </a:lnTo>
                <a:lnTo>
                  <a:pt x="93" y="157"/>
                </a:lnTo>
                <a:lnTo>
                  <a:pt x="96" y="167"/>
                </a:lnTo>
                <a:lnTo>
                  <a:pt x="96" y="177"/>
                </a:lnTo>
                <a:lnTo>
                  <a:pt x="92" y="187"/>
                </a:lnTo>
                <a:lnTo>
                  <a:pt x="88" y="194"/>
                </a:lnTo>
                <a:lnTo>
                  <a:pt x="83" y="200"/>
                </a:lnTo>
                <a:lnTo>
                  <a:pt x="76" y="203"/>
                </a:lnTo>
                <a:lnTo>
                  <a:pt x="69" y="206"/>
                </a:lnTo>
                <a:lnTo>
                  <a:pt x="54" y="210"/>
                </a:lnTo>
                <a:lnTo>
                  <a:pt x="40" y="213"/>
                </a:lnTo>
                <a:lnTo>
                  <a:pt x="29" y="212"/>
                </a:lnTo>
                <a:lnTo>
                  <a:pt x="21" y="209"/>
                </a:lnTo>
                <a:lnTo>
                  <a:pt x="12" y="204"/>
                </a:lnTo>
                <a:lnTo>
                  <a:pt x="3" y="201"/>
                </a:lnTo>
                <a:lnTo>
                  <a:pt x="0" y="206"/>
                </a:lnTo>
                <a:lnTo>
                  <a:pt x="6" y="252"/>
                </a:lnTo>
                <a:lnTo>
                  <a:pt x="12" y="299"/>
                </a:lnTo>
                <a:lnTo>
                  <a:pt x="15" y="322"/>
                </a:lnTo>
                <a:lnTo>
                  <a:pt x="16" y="345"/>
                </a:lnTo>
                <a:lnTo>
                  <a:pt x="15" y="368"/>
                </a:lnTo>
                <a:lnTo>
                  <a:pt x="12" y="391"/>
                </a:lnTo>
                <a:lnTo>
                  <a:pt x="15" y="402"/>
                </a:lnTo>
                <a:lnTo>
                  <a:pt x="16" y="412"/>
                </a:lnTo>
                <a:lnTo>
                  <a:pt x="25" y="450"/>
                </a:lnTo>
                <a:lnTo>
                  <a:pt x="34" y="486"/>
                </a:lnTo>
                <a:lnTo>
                  <a:pt x="43" y="523"/>
                </a:lnTo>
                <a:lnTo>
                  <a:pt x="50" y="561"/>
                </a:lnTo>
                <a:lnTo>
                  <a:pt x="59" y="599"/>
                </a:lnTo>
                <a:lnTo>
                  <a:pt x="66" y="635"/>
                </a:lnTo>
                <a:lnTo>
                  <a:pt x="74" y="673"/>
                </a:lnTo>
                <a:lnTo>
                  <a:pt x="85" y="709"/>
                </a:lnTo>
                <a:lnTo>
                  <a:pt x="89" y="725"/>
                </a:lnTo>
                <a:lnTo>
                  <a:pt x="92" y="743"/>
                </a:lnTo>
                <a:lnTo>
                  <a:pt x="93" y="758"/>
                </a:lnTo>
                <a:lnTo>
                  <a:pt x="95" y="776"/>
                </a:lnTo>
                <a:lnTo>
                  <a:pt x="96" y="809"/>
                </a:lnTo>
                <a:lnTo>
                  <a:pt x="98" y="843"/>
                </a:lnTo>
                <a:lnTo>
                  <a:pt x="98" y="876"/>
                </a:lnTo>
                <a:lnTo>
                  <a:pt x="98" y="911"/>
                </a:lnTo>
                <a:lnTo>
                  <a:pt x="99" y="944"/>
                </a:lnTo>
                <a:lnTo>
                  <a:pt x="102" y="978"/>
                </a:lnTo>
                <a:lnTo>
                  <a:pt x="102" y="1024"/>
                </a:lnTo>
                <a:lnTo>
                  <a:pt x="102" y="1072"/>
                </a:lnTo>
                <a:lnTo>
                  <a:pt x="103" y="1118"/>
                </a:lnTo>
                <a:lnTo>
                  <a:pt x="105" y="1165"/>
                </a:lnTo>
                <a:lnTo>
                  <a:pt x="105" y="1211"/>
                </a:lnTo>
                <a:lnTo>
                  <a:pt x="106" y="1257"/>
                </a:lnTo>
                <a:lnTo>
                  <a:pt x="108" y="1304"/>
                </a:lnTo>
                <a:lnTo>
                  <a:pt x="109" y="1350"/>
                </a:lnTo>
                <a:lnTo>
                  <a:pt x="114" y="1350"/>
                </a:lnTo>
                <a:lnTo>
                  <a:pt x="118" y="1350"/>
                </a:lnTo>
                <a:lnTo>
                  <a:pt x="121" y="1347"/>
                </a:lnTo>
                <a:lnTo>
                  <a:pt x="125" y="1345"/>
                </a:lnTo>
                <a:lnTo>
                  <a:pt x="131" y="1337"/>
                </a:lnTo>
                <a:lnTo>
                  <a:pt x="137" y="1330"/>
                </a:lnTo>
                <a:lnTo>
                  <a:pt x="150" y="1307"/>
                </a:lnTo>
                <a:lnTo>
                  <a:pt x="164" y="1284"/>
                </a:lnTo>
                <a:lnTo>
                  <a:pt x="170" y="1272"/>
                </a:lnTo>
                <a:lnTo>
                  <a:pt x="176" y="1260"/>
                </a:lnTo>
                <a:lnTo>
                  <a:pt x="180" y="1249"/>
                </a:lnTo>
                <a:lnTo>
                  <a:pt x="183" y="1236"/>
                </a:lnTo>
                <a:lnTo>
                  <a:pt x="202" y="1195"/>
                </a:lnTo>
                <a:lnTo>
                  <a:pt x="230" y="1152"/>
                </a:lnTo>
                <a:lnTo>
                  <a:pt x="257" y="1108"/>
                </a:lnTo>
                <a:lnTo>
                  <a:pt x="285" y="1065"/>
                </a:lnTo>
                <a:lnTo>
                  <a:pt x="311" y="1021"/>
                </a:lnTo>
                <a:lnTo>
                  <a:pt x="339" y="978"/>
                </a:lnTo>
                <a:lnTo>
                  <a:pt x="365" y="934"/>
                </a:lnTo>
                <a:lnTo>
                  <a:pt x="394" y="890"/>
                </a:lnTo>
                <a:lnTo>
                  <a:pt x="421" y="848"/>
                </a:lnTo>
                <a:lnTo>
                  <a:pt x="429" y="834"/>
                </a:lnTo>
                <a:lnTo>
                  <a:pt x="437" y="819"/>
                </a:lnTo>
                <a:lnTo>
                  <a:pt x="446" y="805"/>
                </a:lnTo>
                <a:lnTo>
                  <a:pt x="455" y="792"/>
                </a:lnTo>
                <a:lnTo>
                  <a:pt x="475" y="766"/>
                </a:lnTo>
                <a:lnTo>
                  <a:pt x="495" y="740"/>
                </a:lnTo>
                <a:lnTo>
                  <a:pt x="517" y="714"/>
                </a:lnTo>
                <a:lnTo>
                  <a:pt x="536" y="687"/>
                </a:lnTo>
                <a:lnTo>
                  <a:pt x="545" y="673"/>
                </a:lnTo>
                <a:lnTo>
                  <a:pt x="553" y="660"/>
                </a:lnTo>
                <a:lnTo>
                  <a:pt x="561" y="645"/>
                </a:lnTo>
                <a:lnTo>
                  <a:pt x="566" y="629"/>
                </a:lnTo>
                <a:lnTo>
                  <a:pt x="574" y="612"/>
                </a:lnTo>
                <a:lnTo>
                  <a:pt x="581" y="592"/>
                </a:lnTo>
                <a:lnTo>
                  <a:pt x="585" y="573"/>
                </a:lnTo>
                <a:lnTo>
                  <a:pt x="588" y="553"/>
                </a:lnTo>
                <a:lnTo>
                  <a:pt x="594" y="512"/>
                </a:lnTo>
                <a:lnTo>
                  <a:pt x="595" y="470"/>
                </a:lnTo>
                <a:lnTo>
                  <a:pt x="597" y="428"/>
                </a:lnTo>
                <a:lnTo>
                  <a:pt x="598" y="386"/>
                </a:lnTo>
                <a:lnTo>
                  <a:pt x="601" y="344"/>
                </a:lnTo>
                <a:lnTo>
                  <a:pt x="606" y="302"/>
                </a:lnTo>
                <a:lnTo>
                  <a:pt x="611" y="278"/>
                </a:lnTo>
                <a:lnTo>
                  <a:pt x="614" y="252"/>
                </a:lnTo>
                <a:lnTo>
                  <a:pt x="616" y="226"/>
                </a:lnTo>
                <a:lnTo>
                  <a:pt x="617" y="199"/>
                </a:lnTo>
                <a:lnTo>
                  <a:pt x="617" y="172"/>
                </a:lnTo>
                <a:lnTo>
                  <a:pt x="620" y="145"/>
                </a:lnTo>
                <a:lnTo>
                  <a:pt x="623" y="120"/>
                </a:lnTo>
                <a:lnTo>
                  <a:pt x="629" y="96"/>
                </a:lnTo>
                <a:lnTo>
                  <a:pt x="627" y="93"/>
                </a:lnTo>
                <a:lnTo>
                  <a:pt x="627" y="90"/>
                </a:lnTo>
                <a:lnTo>
                  <a:pt x="629" y="87"/>
                </a:lnTo>
                <a:lnTo>
                  <a:pt x="632" y="84"/>
                </a:lnTo>
                <a:lnTo>
                  <a:pt x="630" y="64"/>
                </a:lnTo>
                <a:lnTo>
                  <a:pt x="630" y="42"/>
                </a:lnTo>
                <a:lnTo>
                  <a:pt x="630" y="20"/>
                </a:lnTo>
                <a:lnTo>
                  <a:pt x="627" y="0"/>
                </a:lnTo>
                <a:close/>
              </a:path>
            </a:pathLst>
          </a:custGeom>
          <a:solidFill>
            <a:srgbClr val="212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0040" y="2360520"/>
            <a:ext cx="880920" cy="1901880"/>
          </a:xfrm>
          <a:custGeom>
            <a:avLst/>
            <a:gdLst/>
            <a:ahLst/>
            <a:rect l="l" t="t" r="r" b="b"/>
            <a:pathLst>
              <a:path w="555" h="1198">
                <a:moveTo>
                  <a:pt x="554" y="0"/>
                </a:moveTo>
                <a:lnTo>
                  <a:pt x="529" y="1"/>
                </a:lnTo>
                <a:lnTo>
                  <a:pt x="505" y="3"/>
                </a:lnTo>
                <a:lnTo>
                  <a:pt x="481" y="7"/>
                </a:lnTo>
                <a:lnTo>
                  <a:pt x="458" y="11"/>
                </a:lnTo>
                <a:lnTo>
                  <a:pt x="412" y="23"/>
                </a:lnTo>
                <a:lnTo>
                  <a:pt x="365" y="35"/>
                </a:lnTo>
                <a:lnTo>
                  <a:pt x="328" y="42"/>
                </a:lnTo>
                <a:lnTo>
                  <a:pt x="291" y="49"/>
                </a:lnTo>
                <a:lnTo>
                  <a:pt x="254" y="58"/>
                </a:lnTo>
                <a:lnTo>
                  <a:pt x="216" y="65"/>
                </a:lnTo>
                <a:lnTo>
                  <a:pt x="178" y="72"/>
                </a:lnTo>
                <a:lnTo>
                  <a:pt x="140" y="79"/>
                </a:lnTo>
                <a:lnTo>
                  <a:pt x="104" y="87"/>
                </a:lnTo>
                <a:lnTo>
                  <a:pt x="66" y="93"/>
                </a:lnTo>
                <a:lnTo>
                  <a:pt x="62" y="94"/>
                </a:lnTo>
                <a:lnTo>
                  <a:pt x="58" y="97"/>
                </a:lnTo>
                <a:lnTo>
                  <a:pt x="69" y="113"/>
                </a:lnTo>
                <a:lnTo>
                  <a:pt x="80" y="130"/>
                </a:lnTo>
                <a:lnTo>
                  <a:pt x="82" y="139"/>
                </a:lnTo>
                <a:lnTo>
                  <a:pt x="84" y="148"/>
                </a:lnTo>
                <a:lnTo>
                  <a:pt x="84" y="156"/>
                </a:lnTo>
                <a:lnTo>
                  <a:pt x="81" y="167"/>
                </a:lnTo>
                <a:lnTo>
                  <a:pt x="77" y="172"/>
                </a:lnTo>
                <a:lnTo>
                  <a:pt x="71" y="177"/>
                </a:lnTo>
                <a:lnTo>
                  <a:pt x="66" y="181"/>
                </a:lnTo>
                <a:lnTo>
                  <a:pt x="59" y="184"/>
                </a:lnTo>
                <a:lnTo>
                  <a:pt x="46" y="187"/>
                </a:lnTo>
                <a:lnTo>
                  <a:pt x="33" y="190"/>
                </a:lnTo>
                <a:lnTo>
                  <a:pt x="24" y="188"/>
                </a:lnTo>
                <a:lnTo>
                  <a:pt x="17" y="185"/>
                </a:lnTo>
                <a:lnTo>
                  <a:pt x="10" y="181"/>
                </a:lnTo>
                <a:lnTo>
                  <a:pt x="3" y="178"/>
                </a:lnTo>
                <a:lnTo>
                  <a:pt x="1" y="180"/>
                </a:lnTo>
                <a:lnTo>
                  <a:pt x="0" y="184"/>
                </a:lnTo>
                <a:lnTo>
                  <a:pt x="4" y="225"/>
                </a:lnTo>
                <a:lnTo>
                  <a:pt x="8" y="265"/>
                </a:lnTo>
                <a:lnTo>
                  <a:pt x="10" y="285"/>
                </a:lnTo>
                <a:lnTo>
                  <a:pt x="10" y="307"/>
                </a:lnTo>
                <a:lnTo>
                  <a:pt x="8" y="328"/>
                </a:lnTo>
                <a:lnTo>
                  <a:pt x="6" y="346"/>
                </a:lnTo>
                <a:lnTo>
                  <a:pt x="8" y="357"/>
                </a:lnTo>
                <a:lnTo>
                  <a:pt x="8" y="365"/>
                </a:lnTo>
                <a:lnTo>
                  <a:pt x="17" y="399"/>
                </a:lnTo>
                <a:lnTo>
                  <a:pt x="23" y="431"/>
                </a:lnTo>
                <a:lnTo>
                  <a:pt x="30" y="464"/>
                </a:lnTo>
                <a:lnTo>
                  <a:pt x="36" y="497"/>
                </a:lnTo>
                <a:lnTo>
                  <a:pt x="42" y="531"/>
                </a:lnTo>
                <a:lnTo>
                  <a:pt x="48" y="564"/>
                </a:lnTo>
                <a:lnTo>
                  <a:pt x="55" y="596"/>
                </a:lnTo>
                <a:lnTo>
                  <a:pt x="62" y="629"/>
                </a:lnTo>
                <a:lnTo>
                  <a:pt x="68" y="658"/>
                </a:lnTo>
                <a:lnTo>
                  <a:pt x="71" y="687"/>
                </a:lnTo>
                <a:lnTo>
                  <a:pt x="71" y="718"/>
                </a:lnTo>
                <a:lnTo>
                  <a:pt x="71" y="748"/>
                </a:lnTo>
                <a:lnTo>
                  <a:pt x="69" y="777"/>
                </a:lnTo>
                <a:lnTo>
                  <a:pt x="69" y="808"/>
                </a:lnTo>
                <a:lnTo>
                  <a:pt x="69" y="838"/>
                </a:lnTo>
                <a:lnTo>
                  <a:pt x="72" y="867"/>
                </a:lnTo>
                <a:lnTo>
                  <a:pt x="71" y="909"/>
                </a:lnTo>
                <a:lnTo>
                  <a:pt x="71" y="950"/>
                </a:lnTo>
                <a:lnTo>
                  <a:pt x="71" y="992"/>
                </a:lnTo>
                <a:lnTo>
                  <a:pt x="71" y="1032"/>
                </a:lnTo>
                <a:lnTo>
                  <a:pt x="71" y="1075"/>
                </a:lnTo>
                <a:lnTo>
                  <a:pt x="71" y="1115"/>
                </a:lnTo>
                <a:lnTo>
                  <a:pt x="71" y="1156"/>
                </a:lnTo>
                <a:lnTo>
                  <a:pt x="71" y="1198"/>
                </a:lnTo>
                <a:lnTo>
                  <a:pt x="74" y="1198"/>
                </a:lnTo>
                <a:lnTo>
                  <a:pt x="78" y="1198"/>
                </a:lnTo>
                <a:lnTo>
                  <a:pt x="81" y="1195"/>
                </a:lnTo>
                <a:lnTo>
                  <a:pt x="84" y="1192"/>
                </a:lnTo>
                <a:lnTo>
                  <a:pt x="90" y="1186"/>
                </a:lnTo>
                <a:lnTo>
                  <a:pt x="96" y="1179"/>
                </a:lnTo>
                <a:lnTo>
                  <a:pt x="107" y="1159"/>
                </a:lnTo>
                <a:lnTo>
                  <a:pt x="120" y="1138"/>
                </a:lnTo>
                <a:lnTo>
                  <a:pt x="126" y="1128"/>
                </a:lnTo>
                <a:lnTo>
                  <a:pt x="130" y="1118"/>
                </a:lnTo>
                <a:lnTo>
                  <a:pt x="135" y="1108"/>
                </a:lnTo>
                <a:lnTo>
                  <a:pt x="138" y="1096"/>
                </a:lnTo>
                <a:lnTo>
                  <a:pt x="146" y="1077"/>
                </a:lnTo>
                <a:lnTo>
                  <a:pt x="156" y="1060"/>
                </a:lnTo>
                <a:lnTo>
                  <a:pt x="155" y="1060"/>
                </a:lnTo>
                <a:lnTo>
                  <a:pt x="156" y="1060"/>
                </a:lnTo>
                <a:lnTo>
                  <a:pt x="181" y="1022"/>
                </a:lnTo>
                <a:lnTo>
                  <a:pt x="206" y="983"/>
                </a:lnTo>
                <a:lnTo>
                  <a:pt x="230" y="944"/>
                </a:lnTo>
                <a:lnTo>
                  <a:pt x="254" y="906"/>
                </a:lnTo>
                <a:lnTo>
                  <a:pt x="278" y="867"/>
                </a:lnTo>
                <a:lnTo>
                  <a:pt x="303" y="828"/>
                </a:lnTo>
                <a:lnTo>
                  <a:pt x="329" y="790"/>
                </a:lnTo>
                <a:lnTo>
                  <a:pt x="355" y="753"/>
                </a:lnTo>
                <a:lnTo>
                  <a:pt x="368" y="726"/>
                </a:lnTo>
                <a:lnTo>
                  <a:pt x="386" y="703"/>
                </a:lnTo>
                <a:lnTo>
                  <a:pt x="403" y="679"/>
                </a:lnTo>
                <a:lnTo>
                  <a:pt x="422" y="655"/>
                </a:lnTo>
                <a:lnTo>
                  <a:pt x="441" y="634"/>
                </a:lnTo>
                <a:lnTo>
                  <a:pt x="458" y="609"/>
                </a:lnTo>
                <a:lnTo>
                  <a:pt x="467" y="597"/>
                </a:lnTo>
                <a:lnTo>
                  <a:pt x="474" y="584"/>
                </a:lnTo>
                <a:lnTo>
                  <a:pt x="481" y="571"/>
                </a:lnTo>
                <a:lnTo>
                  <a:pt x="487" y="558"/>
                </a:lnTo>
                <a:lnTo>
                  <a:pt x="493" y="542"/>
                </a:lnTo>
                <a:lnTo>
                  <a:pt x="499" y="525"/>
                </a:lnTo>
                <a:lnTo>
                  <a:pt x="503" y="507"/>
                </a:lnTo>
                <a:lnTo>
                  <a:pt x="508" y="490"/>
                </a:lnTo>
                <a:lnTo>
                  <a:pt x="512" y="454"/>
                </a:lnTo>
                <a:lnTo>
                  <a:pt x="515" y="417"/>
                </a:lnTo>
                <a:lnTo>
                  <a:pt x="518" y="380"/>
                </a:lnTo>
                <a:lnTo>
                  <a:pt x="519" y="342"/>
                </a:lnTo>
                <a:lnTo>
                  <a:pt x="522" y="304"/>
                </a:lnTo>
                <a:lnTo>
                  <a:pt x="528" y="268"/>
                </a:lnTo>
                <a:lnTo>
                  <a:pt x="534" y="246"/>
                </a:lnTo>
                <a:lnTo>
                  <a:pt x="537" y="223"/>
                </a:lnTo>
                <a:lnTo>
                  <a:pt x="538" y="200"/>
                </a:lnTo>
                <a:lnTo>
                  <a:pt x="540" y="177"/>
                </a:lnTo>
                <a:lnTo>
                  <a:pt x="541" y="152"/>
                </a:lnTo>
                <a:lnTo>
                  <a:pt x="544" y="129"/>
                </a:lnTo>
                <a:lnTo>
                  <a:pt x="547" y="107"/>
                </a:lnTo>
                <a:lnTo>
                  <a:pt x="553" y="85"/>
                </a:lnTo>
                <a:lnTo>
                  <a:pt x="551" y="82"/>
                </a:lnTo>
                <a:lnTo>
                  <a:pt x="551" y="79"/>
                </a:lnTo>
                <a:lnTo>
                  <a:pt x="553" y="77"/>
                </a:lnTo>
                <a:lnTo>
                  <a:pt x="554" y="75"/>
                </a:lnTo>
                <a:lnTo>
                  <a:pt x="554" y="56"/>
                </a:lnTo>
                <a:lnTo>
                  <a:pt x="554" y="37"/>
                </a:lnTo>
                <a:lnTo>
                  <a:pt x="555" y="19"/>
                </a:lnTo>
                <a:lnTo>
                  <a:pt x="554" y="0"/>
                </a:lnTo>
                <a:close/>
              </a:path>
            </a:pathLst>
          </a:custGeom>
          <a:solidFill>
            <a:srgbClr val="212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2554200"/>
            <a:ext cx="762120" cy="1658880"/>
          </a:xfrm>
          <a:custGeom>
            <a:avLst/>
            <a:gdLst/>
            <a:ahLst/>
            <a:rect l="l" t="t" r="r" b="b"/>
            <a:pathLst>
              <a:path w="480" h="1045">
                <a:moveTo>
                  <a:pt x="480" y="0"/>
                </a:moveTo>
                <a:lnTo>
                  <a:pt x="459" y="1"/>
                </a:lnTo>
                <a:lnTo>
                  <a:pt x="438" y="2"/>
                </a:lnTo>
                <a:lnTo>
                  <a:pt x="418" y="5"/>
                </a:lnTo>
                <a:lnTo>
                  <a:pt x="398" y="10"/>
                </a:lnTo>
                <a:lnTo>
                  <a:pt x="358" y="20"/>
                </a:lnTo>
                <a:lnTo>
                  <a:pt x="318" y="30"/>
                </a:lnTo>
                <a:lnTo>
                  <a:pt x="286" y="37"/>
                </a:lnTo>
                <a:lnTo>
                  <a:pt x="254" y="43"/>
                </a:lnTo>
                <a:lnTo>
                  <a:pt x="221" y="50"/>
                </a:lnTo>
                <a:lnTo>
                  <a:pt x="189" y="58"/>
                </a:lnTo>
                <a:lnTo>
                  <a:pt x="157" y="63"/>
                </a:lnTo>
                <a:lnTo>
                  <a:pt x="125" y="69"/>
                </a:lnTo>
                <a:lnTo>
                  <a:pt x="91" y="75"/>
                </a:lnTo>
                <a:lnTo>
                  <a:pt x="60" y="81"/>
                </a:lnTo>
                <a:lnTo>
                  <a:pt x="57" y="82"/>
                </a:lnTo>
                <a:lnTo>
                  <a:pt x="54" y="85"/>
                </a:lnTo>
                <a:lnTo>
                  <a:pt x="62" y="98"/>
                </a:lnTo>
                <a:lnTo>
                  <a:pt x="70" y="114"/>
                </a:lnTo>
                <a:lnTo>
                  <a:pt x="73" y="121"/>
                </a:lnTo>
                <a:lnTo>
                  <a:pt x="73" y="129"/>
                </a:lnTo>
                <a:lnTo>
                  <a:pt x="73" y="137"/>
                </a:lnTo>
                <a:lnTo>
                  <a:pt x="70" y="146"/>
                </a:lnTo>
                <a:lnTo>
                  <a:pt x="67" y="150"/>
                </a:lnTo>
                <a:lnTo>
                  <a:pt x="62" y="155"/>
                </a:lnTo>
                <a:lnTo>
                  <a:pt x="57" y="158"/>
                </a:lnTo>
                <a:lnTo>
                  <a:pt x="52" y="161"/>
                </a:lnTo>
                <a:lnTo>
                  <a:pt x="41" y="163"/>
                </a:lnTo>
                <a:lnTo>
                  <a:pt x="28" y="165"/>
                </a:lnTo>
                <a:lnTo>
                  <a:pt x="15" y="162"/>
                </a:lnTo>
                <a:lnTo>
                  <a:pt x="3" y="156"/>
                </a:lnTo>
                <a:lnTo>
                  <a:pt x="1" y="158"/>
                </a:lnTo>
                <a:lnTo>
                  <a:pt x="0" y="159"/>
                </a:lnTo>
                <a:lnTo>
                  <a:pt x="1" y="195"/>
                </a:lnTo>
                <a:lnTo>
                  <a:pt x="4" y="232"/>
                </a:lnTo>
                <a:lnTo>
                  <a:pt x="6" y="249"/>
                </a:lnTo>
                <a:lnTo>
                  <a:pt x="6" y="268"/>
                </a:lnTo>
                <a:lnTo>
                  <a:pt x="4" y="285"/>
                </a:lnTo>
                <a:lnTo>
                  <a:pt x="0" y="303"/>
                </a:lnTo>
                <a:lnTo>
                  <a:pt x="3" y="311"/>
                </a:lnTo>
                <a:lnTo>
                  <a:pt x="3" y="320"/>
                </a:lnTo>
                <a:lnTo>
                  <a:pt x="9" y="348"/>
                </a:lnTo>
                <a:lnTo>
                  <a:pt x="13" y="377"/>
                </a:lnTo>
                <a:lnTo>
                  <a:pt x="17" y="406"/>
                </a:lnTo>
                <a:lnTo>
                  <a:pt x="22" y="435"/>
                </a:lnTo>
                <a:lnTo>
                  <a:pt x="26" y="462"/>
                </a:lnTo>
                <a:lnTo>
                  <a:pt x="30" y="491"/>
                </a:lnTo>
                <a:lnTo>
                  <a:pt x="36" y="520"/>
                </a:lnTo>
                <a:lnTo>
                  <a:pt x="42" y="549"/>
                </a:lnTo>
                <a:lnTo>
                  <a:pt x="45" y="574"/>
                </a:lnTo>
                <a:lnTo>
                  <a:pt x="46" y="600"/>
                </a:lnTo>
                <a:lnTo>
                  <a:pt x="46" y="626"/>
                </a:lnTo>
                <a:lnTo>
                  <a:pt x="45" y="652"/>
                </a:lnTo>
                <a:lnTo>
                  <a:pt x="44" y="678"/>
                </a:lnTo>
                <a:lnTo>
                  <a:pt x="42" y="705"/>
                </a:lnTo>
                <a:lnTo>
                  <a:pt x="42" y="731"/>
                </a:lnTo>
                <a:lnTo>
                  <a:pt x="44" y="757"/>
                </a:lnTo>
                <a:lnTo>
                  <a:pt x="41" y="793"/>
                </a:lnTo>
                <a:lnTo>
                  <a:pt x="39" y="829"/>
                </a:lnTo>
                <a:lnTo>
                  <a:pt x="38" y="866"/>
                </a:lnTo>
                <a:lnTo>
                  <a:pt x="36" y="902"/>
                </a:lnTo>
                <a:lnTo>
                  <a:pt x="36" y="937"/>
                </a:lnTo>
                <a:lnTo>
                  <a:pt x="35" y="973"/>
                </a:lnTo>
                <a:lnTo>
                  <a:pt x="33" y="1009"/>
                </a:lnTo>
                <a:lnTo>
                  <a:pt x="33" y="1044"/>
                </a:lnTo>
                <a:lnTo>
                  <a:pt x="36" y="1045"/>
                </a:lnTo>
                <a:lnTo>
                  <a:pt x="39" y="1044"/>
                </a:lnTo>
                <a:lnTo>
                  <a:pt x="42" y="1042"/>
                </a:lnTo>
                <a:lnTo>
                  <a:pt x="45" y="1040"/>
                </a:lnTo>
                <a:lnTo>
                  <a:pt x="49" y="1034"/>
                </a:lnTo>
                <a:lnTo>
                  <a:pt x="54" y="1028"/>
                </a:lnTo>
                <a:lnTo>
                  <a:pt x="65" y="1011"/>
                </a:lnTo>
                <a:lnTo>
                  <a:pt x="77" y="993"/>
                </a:lnTo>
                <a:lnTo>
                  <a:pt x="86" y="974"/>
                </a:lnTo>
                <a:lnTo>
                  <a:pt x="93" y="955"/>
                </a:lnTo>
                <a:lnTo>
                  <a:pt x="102" y="940"/>
                </a:lnTo>
                <a:lnTo>
                  <a:pt x="109" y="924"/>
                </a:lnTo>
                <a:lnTo>
                  <a:pt x="132" y="892"/>
                </a:lnTo>
                <a:lnTo>
                  <a:pt x="154" y="857"/>
                </a:lnTo>
                <a:lnTo>
                  <a:pt x="177" y="823"/>
                </a:lnTo>
                <a:lnTo>
                  <a:pt x="199" y="790"/>
                </a:lnTo>
                <a:lnTo>
                  <a:pt x="221" y="757"/>
                </a:lnTo>
                <a:lnTo>
                  <a:pt x="242" y="723"/>
                </a:lnTo>
                <a:lnTo>
                  <a:pt x="266" y="690"/>
                </a:lnTo>
                <a:lnTo>
                  <a:pt x="289" y="657"/>
                </a:lnTo>
                <a:lnTo>
                  <a:pt x="302" y="635"/>
                </a:lnTo>
                <a:lnTo>
                  <a:pt x="316" y="613"/>
                </a:lnTo>
                <a:lnTo>
                  <a:pt x="332" y="593"/>
                </a:lnTo>
                <a:lnTo>
                  <a:pt x="350" y="573"/>
                </a:lnTo>
                <a:lnTo>
                  <a:pt x="366" y="552"/>
                </a:lnTo>
                <a:lnTo>
                  <a:pt x="382" y="532"/>
                </a:lnTo>
                <a:lnTo>
                  <a:pt x="396" y="510"/>
                </a:lnTo>
                <a:lnTo>
                  <a:pt x="408" y="488"/>
                </a:lnTo>
                <a:lnTo>
                  <a:pt x="414" y="474"/>
                </a:lnTo>
                <a:lnTo>
                  <a:pt x="419" y="459"/>
                </a:lnTo>
                <a:lnTo>
                  <a:pt x="424" y="443"/>
                </a:lnTo>
                <a:lnTo>
                  <a:pt x="427" y="427"/>
                </a:lnTo>
                <a:lnTo>
                  <a:pt x="432" y="396"/>
                </a:lnTo>
                <a:lnTo>
                  <a:pt x="435" y="364"/>
                </a:lnTo>
                <a:lnTo>
                  <a:pt x="438" y="330"/>
                </a:lnTo>
                <a:lnTo>
                  <a:pt x="441" y="298"/>
                </a:lnTo>
                <a:lnTo>
                  <a:pt x="445" y="265"/>
                </a:lnTo>
                <a:lnTo>
                  <a:pt x="451" y="235"/>
                </a:lnTo>
                <a:lnTo>
                  <a:pt x="456" y="214"/>
                </a:lnTo>
                <a:lnTo>
                  <a:pt x="460" y="195"/>
                </a:lnTo>
                <a:lnTo>
                  <a:pt x="461" y="175"/>
                </a:lnTo>
                <a:lnTo>
                  <a:pt x="463" y="155"/>
                </a:lnTo>
                <a:lnTo>
                  <a:pt x="466" y="133"/>
                </a:lnTo>
                <a:lnTo>
                  <a:pt x="467" y="113"/>
                </a:lnTo>
                <a:lnTo>
                  <a:pt x="472" y="94"/>
                </a:lnTo>
                <a:lnTo>
                  <a:pt x="477" y="75"/>
                </a:lnTo>
                <a:lnTo>
                  <a:pt x="476" y="72"/>
                </a:lnTo>
                <a:lnTo>
                  <a:pt x="476" y="69"/>
                </a:lnTo>
                <a:lnTo>
                  <a:pt x="477" y="68"/>
                </a:lnTo>
                <a:lnTo>
                  <a:pt x="479" y="66"/>
                </a:lnTo>
                <a:lnTo>
                  <a:pt x="479" y="49"/>
                </a:lnTo>
                <a:lnTo>
                  <a:pt x="480" y="33"/>
                </a:lnTo>
                <a:lnTo>
                  <a:pt x="480" y="15"/>
                </a:lnTo>
                <a:lnTo>
                  <a:pt x="480" y="0"/>
                </a:lnTo>
                <a:close/>
              </a:path>
            </a:pathLst>
          </a:custGeom>
          <a:solidFill>
            <a:srgbClr val="262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44800" y="2749680"/>
            <a:ext cx="655560" cy="1412640"/>
          </a:xfrm>
          <a:custGeom>
            <a:avLst/>
            <a:gdLst/>
            <a:ahLst/>
            <a:rect l="l" t="t" r="r" b="b"/>
            <a:pathLst>
              <a:path w="413" h="890">
                <a:moveTo>
                  <a:pt x="413" y="0"/>
                </a:moveTo>
                <a:lnTo>
                  <a:pt x="395" y="0"/>
                </a:lnTo>
                <a:lnTo>
                  <a:pt x="378" y="1"/>
                </a:lnTo>
                <a:lnTo>
                  <a:pt x="362" y="4"/>
                </a:lnTo>
                <a:lnTo>
                  <a:pt x="344" y="7"/>
                </a:lnTo>
                <a:lnTo>
                  <a:pt x="310" y="16"/>
                </a:lnTo>
                <a:lnTo>
                  <a:pt x="276" y="24"/>
                </a:lnTo>
                <a:lnTo>
                  <a:pt x="222" y="36"/>
                </a:lnTo>
                <a:lnTo>
                  <a:pt x="167" y="48"/>
                </a:lnTo>
                <a:lnTo>
                  <a:pt x="114" y="58"/>
                </a:lnTo>
                <a:lnTo>
                  <a:pt x="60" y="68"/>
                </a:lnTo>
                <a:lnTo>
                  <a:pt x="56" y="69"/>
                </a:lnTo>
                <a:lnTo>
                  <a:pt x="53" y="72"/>
                </a:lnTo>
                <a:lnTo>
                  <a:pt x="60" y="84"/>
                </a:lnTo>
                <a:lnTo>
                  <a:pt x="66" y="96"/>
                </a:lnTo>
                <a:lnTo>
                  <a:pt x="67" y="103"/>
                </a:lnTo>
                <a:lnTo>
                  <a:pt x="69" y="110"/>
                </a:lnTo>
                <a:lnTo>
                  <a:pt x="67" y="117"/>
                </a:lnTo>
                <a:lnTo>
                  <a:pt x="66" y="125"/>
                </a:lnTo>
                <a:lnTo>
                  <a:pt x="61" y="129"/>
                </a:lnTo>
                <a:lnTo>
                  <a:pt x="59" y="132"/>
                </a:lnTo>
                <a:lnTo>
                  <a:pt x="54" y="135"/>
                </a:lnTo>
                <a:lnTo>
                  <a:pt x="50" y="136"/>
                </a:lnTo>
                <a:lnTo>
                  <a:pt x="40" y="139"/>
                </a:lnTo>
                <a:lnTo>
                  <a:pt x="30" y="141"/>
                </a:lnTo>
                <a:lnTo>
                  <a:pt x="18" y="138"/>
                </a:lnTo>
                <a:lnTo>
                  <a:pt x="8" y="132"/>
                </a:lnTo>
                <a:lnTo>
                  <a:pt x="8" y="135"/>
                </a:lnTo>
                <a:lnTo>
                  <a:pt x="6" y="136"/>
                </a:lnTo>
                <a:lnTo>
                  <a:pt x="6" y="167"/>
                </a:lnTo>
                <a:lnTo>
                  <a:pt x="8" y="197"/>
                </a:lnTo>
                <a:lnTo>
                  <a:pt x="8" y="213"/>
                </a:lnTo>
                <a:lnTo>
                  <a:pt x="6" y="228"/>
                </a:lnTo>
                <a:lnTo>
                  <a:pt x="5" y="242"/>
                </a:lnTo>
                <a:lnTo>
                  <a:pt x="0" y="258"/>
                </a:lnTo>
                <a:lnTo>
                  <a:pt x="2" y="265"/>
                </a:lnTo>
                <a:lnTo>
                  <a:pt x="2" y="273"/>
                </a:lnTo>
                <a:lnTo>
                  <a:pt x="9" y="320"/>
                </a:lnTo>
                <a:lnTo>
                  <a:pt x="15" y="370"/>
                </a:lnTo>
                <a:lnTo>
                  <a:pt x="19" y="419"/>
                </a:lnTo>
                <a:lnTo>
                  <a:pt x="27" y="468"/>
                </a:lnTo>
                <a:lnTo>
                  <a:pt x="28" y="490"/>
                </a:lnTo>
                <a:lnTo>
                  <a:pt x="30" y="512"/>
                </a:lnTo>
                <a:lnTo>
                  <a:pt x="28" y="534"/>
                </a:lnTo>
                <a:lnTo>
                  <a:pt x="27" y="555"/>
                </a:lnTo>
                <a:lnTo>
                  <a:pt x="22" y="600"/>
                </a:lnTo>
                <a:lnTo>
                  <a:pt x="21" y="645"/>
                </a:lnTo>
                <a:lnTo>
                  <a:pt x="16" y="676"/>
                </a:lnTo>
                <a:lnTo>
                  <a:pt x="14" y="706"/>
                </a:lnTo>
                <a:lnTo>
                  <a:pt x="12" y="738"/>
                </a:lnTo>
                <a:lnTo>
                  <a:pt x="9" y="769"/>
                </a:lnTo>
                <a:lnTo>
                  <a:pt x="8" y="799"/>
                </a:lnTo>
                <a:lnTo>
                  <a:pt x="5" y="830"/>
                </a:lnTo>
                <a:lnTo>
                  <a:pt x="3" y="860"/>
                </a:lnTo>
                <a:lnTo>
                  <a:pt x="0" y="890"/>
                </a:lnTo>
                <a:lnTo>
                  <a:pt x="3" y="890"/>
                </a:lnTo>
                <a:lnTo>
                  <a:pt x="6" y="890"/>
                </a:lnTo>
                <a:lnTo>
                  <a:pt x="9" y="889"/>
                </a:lnTo>
                <a:lnTo>
                  <a:pt x="11" y="886"/>
                </a:lnTo>
                <a:lnTo>
                  <a:pt x="15" y="882"/>
                </a:lnTo>
                <a:lnTo>
                  <a:pt x="19" y="877"/>
                </a:lnTo>
                <a:lnTo>
                  <a:pt x="30" y="861"/>
                </a:lnTo>
                <a:lnTo>
                  <a:pt x="40" y="847"/>
                </a:lnTo>
                <a:lnTo>
                  <a:pt x="48" y="832"/>
                </a:lnTo>
                <a:lnTo>
                  <a:pt x="54" y="815"/>
                </a:lnTo>
                <a:lnTo>
                  <a:pt x="61" y="802"/>
                </a:lnTo>
                <a:lnTo>
                  <a:pt x="69" y="789"/>
                </a:lnTo>
                <a:lnTo>
                  <a:pt x="89" y="760"/>
                </a:lnTo>
                <a:lnTo>
                  <a:pt x="109" y="731"/>
                </a:lnTo>
                <a:lnTo>
                  <a:pt x="128" y="703"/>
                </a:lnTo>
                <a:lnTo>
                  <a:pt x="148" y="674"/>
                </a:lnTo>
                <a:lnTo>
                  <a:pt x="169" y="645"/>
                </a:lnTo>
                <a:lnTo>
                  <a:pt x="188" y="616"/>
                </a:lnTo>
                <a:lnTo>
                  <a:pt x="208" y="589"/>
                </a:lnTo>
                <a:lnTo>
                  <a:pt x="230" y="560"/>
                </a:lnTo>
                <a:lnTo>
                  <a:pt x="241" y="541"/>
                </a:lnTo>
                <a:lnTo>
                  <a:pt x="254" y="522"/>
                </a:lnTo>
                <a:lnTo>
                  <a:pt x="267" y="505"/>
                </a:lnTo>
                <a:lnTo>
                  <a:pt x="283" y="487"/>
                </a:lnTo>
                <a:lnTo>
                  <a:pt x="298" y="471"/>
                </a:lnTo>
                <a:lnTo>
                  <a:pt x="311" y="452"/>
                </a:lnTo>
                <a:lnTo>
                  <a:pt x="324" y="435"/>
                </a:lnTo>
                <a:lnTo>
                  <a:pt x="334" y="415"/>
                </a:lnTo>
                <a:lnTo>
                  <a:pt x="340" y="403"/>
                </a:lnTo>
                <a:lnTo>
                  <a:pt x="344" y="390"/>
                </a:lnTo>
                <a:lnTo>
                  <a:pt x="349" y="377"/>
                </a:lnTo>
                <a:lnTo>
                  <a:pt x="353" y="364"/>
                </a:lnTo>
                <a:lnTo>
                  <a:pt x="359" y="338"/>
                </a:lnTo>
                <a:lnTo>
                  <a:pt x="363" y="310"/>
                </a:lnTo>
                <a:lnTo>
                  <a:pt x="366" y="281"/>
                </a:lnTo>
                <a:lnTo>
                  <a:pt x="370" y="254"/>
                </a:lnTo>
                <a:lnTo>
                  <a:pt x="375" y="226"/>
                </a:lnTo>
                <a:lnTo>
                  <a:pt x="381" y="199"/>
                </a:lnTo>
                <a:lnTo>
                  <a:pt x="385" y="183"/>
                </a:lnTo>
                <a:lnTo>
                  <a:pt x="388" y="167"/>
                </a:lnTo>
                <a:lnTo>
                  <a:pt x="391" y="149"/>
                </a:lnTo>
                <a:lnTo>
                  <a:pt x="394" y="130"/>
                </a:lnTo>
                <a:lnTo>
                  <a:pt x="395" y="113"/>
                </a:lnTo>
                <a:lnTo>
                  <a:pt x="398" y="96"/>
                </a:lnTo>
                <a:lnTo>
                  <a:pt x="402" y="78"/>
                </a:lnTo>
                <a:lnTo>
                  <a:pt x="408" y="62"/>
                </a:lnTo>
                <a:lnTo>
                  <a:pt x="407" y="61"/>
                </a:lnTo>
                <a:lnTo>
                  <a:pt x="407" y="59"/>
                </a:lnTo>
                <a:lnTo>
                  <a:pt x="408" y="56"/>
                </a:lnTo>
                <a:lnTo>
                  <a:pt x="410" y="56"/>
                </a:lnTo>
                <a:lnTo>
                  <a:pt x="410" y="42"/>
                </a:lnTo>
                <a:lnTo>
                  <a:pt x="411" y="27"/>
                </a:lnTo>
                <a:lnTo>
                  <a:pt x="413" y="13"/>
                </a:lnTo>
                <a:lnTo>
                  <a:pt x="413" y="0"/>
                </a:lnTo>
                <a:close/>
              </a:path>
            </a:pathLst>
          </a:custGeom>
          <a:solidFill>
            <a:srgbClr val="282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3000" y="2943360"/>
            <a:ext cx="598680" cy="1171440"/>
          </a:xfrm>
          <a:custGeom>
            <a:avLst/>
            <a:gdLst/>
            <a:ahLst/>
            <a:rect l="l" t="t" r="r" b="b"/>
            <a:pathLst>
              <a:path w="377" h="738">
                <a:moveTo>
                  <a:pt x="377" y="0"/>
                </a:moveTo>
                <a:lnTo>
                  <a:pt x="348" y="1"/>
                </a:lnTo>
                <a:lnTo>
                  <a:pt x="321" y="7"/>
                </a:lnTo>
                <a:lnTo>
                  <a:pt x="293" y="13"/>
                </a:lnTo>
                <a:lnTo>
                  <a:pt x="266" y="20"/>
                </a:lnTo>
                <a:lnTo>
                  <a:pt x="222" y="30"/>
                </a:lnTo>
                <a:lnTo>
                  <a:pt x="177" y="40"/>
                </a:lnTo>
                <a:lnTo>
                  <a:pt x="134" y="49"/>
                </a:lnTo>
                <a:lnTo>
                  <a:pt x="89" y="56"/>
                </a:lnTo>
                <a:lnTo>
                  <a:pt x="87" y="58"/>
                </a:lnTo>
                <a:lnTo>
                  <a:pt x="84" y="59"/>
                </a:lnTo>
                <a:lnTo>
                  <a:pt x="90" y="69"/>
                </a:lnTo>
                <a:lnTo>
                  <a:pt x="93" y="79"/>
                </a:lnTo>
                <a:lnTo>
                  <a:pt x="94" y="85"/>
                </a:lnTo>
                <a:lnTo>
                  <a:pt x="94" y="91"/>
                </a:lnTo>
                <a:lnTo>
                  <a:pt x="93" y="97"/>
                </a:lnTo>
                <a:lnTo>
                  <a:pt x="91" y="103"/>
                </a:lnTo>
                <a:lnTo>
                  <a:pt x="84" y="108"/>
                </a:lnTo>
                <a:lnTo>
                  <a:pt x="78" y="113"/>
                </a:lnTo>
                <a:lnTo>
                  <a:pt x="70" y="114"/>
                </a:lnTo>
                <a:lnTo>
                  <a:pt x="62" y="117"/>
                </a:lnTo>
                <a:lnTo>
                  <a:pt x="54" y="114"/>
                </a:lnTo>
                <a:lnTo>
                  <a:pt x="45" y="110"/>
                </a:lnTo>
                <a:lnTo>
                  <a:pt x="44" y="111"/>
                </a:lnTo>
                <a:lnTo>
                  <a:pt x="44" y="113"/>
                </a:lnTo>
                <a:lnTo>
                  <a:pt x="42" y="137"/>
                </a:lnTo>
                <a:lnTo>
                  <a:pt x="41" y="164"/>
                </a:lnTo>
                <a:lnTo>
                  <a:pt x="41" y="177"/>
                </a:lnTo>
                <a:lnTo>
                  <a:pt x="39" y="188"/>
                </a:lnTo>
                <a:lnTo>
                  <a:pt x="36" y="201"/>
                </a:lnTo>
                <a:lnTo>
                  <a:pt x="33" y="214"/>
                </a:lnTo>
                <a:lnTo>
                  <a:pt x="33" y="219"/>
                </a:lnTo>
                <a:lnTo>
                  <a:pt x="33" y="225"/>
                </a:lnTo>
                <a:lnTo>
                  <a:pt x="36" y="265"/>
                </a:lnTo>
                <a:lnTo>
                  <a:pt x="38" y="307"/>
                </a:lnTo>
                <a:lnTo>
                  <a:pt x="39" y="348"/>
                </a:lnTo>
                <a:lnTo>
                  <a:pt x="42" y="387"/>
                </a:lnTo>
                <a:lnTo>
                  <a:pt x="44" y="406"/>
                </a:lnTo>
                <a:lnTo>
                  <a:pt x="42" y="425"/>
                </a:lnTo>
                <a:lnTo>
                  <a:pt x="41" y="442"/>
                </a:lnTo>
                <a:lnTo>
                  <a:pt x="38" y="461"/>
                </a:lnTo>
                <a:lnTo>
                  <a:pt x="32" y="497"/>
                </a:lnTo>
                <a:lnTo>
                  <a:pt x="28" y="535"/>
                </a:lnTo>
                <a:lnTo>
                  <a:pt x="20" y="586"/>
                </a:lnTo>
                <a:lnTo>
                  <a:pt x="13" y="636"/>
                </a:lnTo>
                <a:lnTo>
                  <a:pt x="6" y="687"/>
                </a:lnTo>
                <a:lnTo>
                  <a:pt x="0" y="738"/>
                </a:lnTo>
                <a:lnTo>
                  <a:pt x="4" y="738"/>
                </a:lnTo>
                <a:lnTo>
                  <a:pt x="9" y="735"/>
                </a:lnTo>
                <a:lnTo>
                  <a:pt x="12" y="731"/>
                </a:lnTo>
                <a:lnTo>
                  <a:pt x="16" y="726"/>
                </a:lnTo>
                <a:lnTo>
                  <a:pt x="25" y="713"/>
                </a:lnTo>
                <a:lnTo>
                  <a:pt x="33" y="702"/>
                </a:lnTo>
                <a:lnTo>
                  <a:pt x="41" y="689"/>
                </a:lnTo>
                <a:lnTo>
                  <a:pt x="46" y="676"/>
                </a:lnTo>
                <a:lnTo>
                  <a:pt x="54" y="664"/>
                </a:lnTo>
                <a:lnTo>
                  <a:pt x="61" y="652"/>
                </a:lnTo>
                <a:lnTo>
                  <a:pt x="96" y="606"/>
                </a:lnTo>
                <a:lnTo>
                  <a:pt x="129" y="558"/>
                </a:lnTo>
                <a:lnTo>
                  <a:pt x="164" y="510"/>
                </a:lnTo>
                <a:lnTo>
                  <a:pt x="200" y="464"/>
                </a:lnTo>
                <a:lnTo>
                  <a:pt x="210" y="448"/>
                </a:lnTo>
                <a:lnTo>
                  <a:pt x="222" y="433"/>
                </a:lnTo>
                <a:lnTo>
                  <a:pt x="234" y="419"/>
                </a:lnTo>
                <a:lnTo>
                  <a:pt x="247" y="404"/>
                </a:lnTo>
                <a:lnTo>
                  <a:pt x="260" y="390"/>
                </a:lnTo>
                <a:lnTo>
                  <a:pt x="271" y="375"/>
                </a:lnTo>
                <a:lnTo>
                  <a:pt x="283" y="361"/>
                </a:lnTo>
                <a:lnTo>
                  <a:pt x="292" y="345"/>
                </a:lnTo>
                <a:lnTo>
                  <a:pt x="302" y="325"/>
                </a:lnTo>
                <a:lnTo>
                  <a:pt x="309" y="301"/>
                </a:lnTo>
                <a:lnTo>
                  <a:pt x="315" y="280"/>
                </a:lnTo>
                <a:lnTo>
                  <a:pt x="321" y="256"/>
                </a:lnTo>
                <a:lnTo>
                  <a:pt x="325" y="233"/>
                </a:lnTo>
                <a:lnTo>
                  <a:pt x="328" y="210"/>
                </a:lnTo>
                <a:lnTo>
                  <a:pt x="334" y="187"/>
                </a:lnTo>
                <a:lnTo>
                  <a:pt x="340" y="165"/>
                </a:lnTo>
                <a:lnTo>
                  <a:pt x="344" y="152"/>
                </a:lnTo>
                <a:lnTo>
                  <a:pt x="348" y="137"/>
                </a:lnTo>
                <a:lnTo>
                  <a:pt x="351" y="123"/>
                </a:lnTo>
                <a:lnTo>
                  <a:pt x="354" y="108"/>
                </a:lnTo>
                <a:lnTo>
                  <a:pt x="357" y="94"/>
                </a:lnTo>
                <a:lnTo>
                  <a:pt x="360" y="79"/>
                </a:lnTo>
                <a:lnTo>
                  <a:pt x="364" y="65"/>
                </a:lnTo>
                <a:lnTo>
                  <a:pt x="369" y="52"/>
                </a:lnTo>
                <a:lnTo>
                  <a:pt x="369" y="49"/>
                </a:lnTo>
                <a:lnTo>
                  <a:pt x="371" y="46"/>
                </a:lnTo>
                <a:lnTo>
                  <a:pt x="373" y="34"/>
                </a:lnTo>
                <a:lnTo>
                  <a:pt x="374" y="23"/>
                </a:lnTo>
                <a:lnTo>
                  <a:pt x="376" y="11"/>
                </a:lnTo>
                <a:lnTo>
                  <a:pt x="377" y="0"/>
                </a:lnTo>
                <a:close/>
              </a:path>
            </a:pathLst>
          </a:custGeom>
          <a:solidFill>
            <a:srgbClr val="2c2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41560" y="3137040"/>
            <a:ext cx="541440" cy="930240"/>
          </a:xfrm>
          <a:custGeom>
            <a:avLst/>
            <a:gdLst/>
            <a:ahLst/>
            <a:rect l="l" t="t" r="r" b="b"/>
            <a:pathLst>
              <a:path w="341" h="586">
                <a:moveTo>
                  <a:pt x="341" y="0"/>
                </a:moveTo>
                <a:lnTo>
                  <a:pt x="319" y="1"/>
                </a:lnTo>
                <a:lnTo>
                  <a:pt x="298" y="5"/>
                </a:lnTo>
                <a:lnTo>
                  <a:pt x="277" y="11"/>
                </a:lnTo>
                <a:lnTo>
                  <a:pt x="255" y="17"/>
                </a:lnTo>
                <a:lnTo>
                  <a:pt x="222" y="24"/>
                </a:lnTo>
                <a:lnTo>
                  <a:pt x="187" y="31"/>
                </a:lnTo>
                <a:lnTo>
                  <a:pt x="153" y="39"/>
                </a:lnTo>
                <a:lnTo>
                  <a:pt x="120" y="44"/>
                </a:lnTo>
                <a:lnTo>
                  <a:pt x="117" y="46"/>
                </a:lnTo>
                <a:lnTo>
                  <a:pt x="116" y="47"/>
                </a:lnTo>
                <a:lnTo>
                  <a:pt x="119" y="55"/>
                </a:lnTo>
                <a:lnTo>
                  <a:pt x="121" y="63"/>
                </a:lnTo>
                <a:lnTo>
                  <a:pt x="121" y="68"/>
                </a:lnTo>
                <a:lnTo>
                  <a:pt x="121" y="72"/>
                </a:lnTo>
                <a:lnTo>
                  <a:pt x="120" y="76"/>
                </a:lnTo>
                <a:lnTo>
                  <a:pt x="117" y="81"/>
                </a:lnTo>
                <a:lnTo>
                  <a:pt x="113" y="87"/>
                </a:lnTo>
                <a:lnTo>
                  <a:pt x="107" y="89"/>
                </a:lnTo>
                <a:lnTo>
                  <a:pt x="100" y="91"/>
                </a:lnTo>
                <a:lnTo>
                  <a:pt x="94" y="92"/>
                </a:lnTo>
                <a:lnTo>
                  <a:pt x="88" y="91"/>
                </a:lnTo>
                <a:lnTo>
                  <a:pt x="82" y="87"/>
                </a:lnTo>
                <a:lnTo>
                  <a:pt x="81" y="89"/>
                </a:lnTo>
                <a:lnTo>
                  <a:pt x="78" y="110"/>
                </a:lnTo>
                <a:lnTo>
                  <a:pt x="75" y="130"/>
                </a:lnTo>
                <a:lnTo>
                  <a:pt x="71" y="150"/>
                </a:lnTo>
                <a:lnTo>
                  <a:pt x="65" y="169"/>
                </a:lnTo>
                <a:lnTo>
                  <a:pt x="65" y="174"/>
                </a:lnTo>
                <a:lnTo>
                  <a:pt x="65" y="179"/>
                </a:lnTo>
                <a:lnTo>
                  <a:pt x="63" y="211"/>
                </a:lnTo>
                <a:lnTo>
                  <a:pt x="62" y="243"/>
                </a:lnTo>
                <a:lnTo>
                  <a:pt x="59" y="275"/>
                </a:lnTo>
                <a:lnTo>
                  <a:pt x="59" y="307"/>
                </a:lnTo>
                <a:lnTo>
                  <a:pt x="58" y="322"/>
                </a:lnTo>
                <a:lnTo>
                  <a:pt x="55" y="336"/>
                </a:lnTo>
                <a:lnTo>
                  <a:pt x="52" y="351"/>
                </a:lnTo>
                <a:lnTo>
                  <a:pt x="49" y="365"/>
                </a:lnTo>
                <a:lnTo>
                  <a:pt x="42" y="396"/>
                </a:lnTo>
                <a:lnTo>
                  <a:pt x="36" y="425"/>
                </a:lnTo>
                <a:lnTo>
                  <a:pt x="26" y="465"/>
                </a:lnTo>
                <a:lnTo>
                  <a:pt x="17" y="504"/>
                </a:lnTo>
                <a:lnTo>
                  <a:pt x="8" y="545"/>
                </a:lnTo>
                <a:lnTo>
                  <a:pt x="0" y="586"/>
                </a:lnTo>
                <a:lnTo>
                  <a:pt x="2" y="586"/>
                </a:lnTo>
                <a:lnTo>
                  <a:pt x="5" y="583"/>
                </a:lnTo>
                <a:lnTo>
                  <a:pt x="8" y="580"/>
                </a:lnTo>
                <a:lnTo>
                  <a:pt x="11" y="577"/>
                </a:lnTo>
                <a:lnTo>
                  <a:pt x="27" y="557"/>
                </a:lnTo>
                <a:lnTo>
                  <a:pt x="39" y="535"/>
                </a:lnTo>
                <a:lnTo>
                  <a:pt x="50" y="517"/>
                </a:lnTo>
                <a:lnTo>
                  <a:pt x="81" y="481"/>
                </a:lnTo>
                <a:lnTo>
                  <a:pt x="111" y="443"/>
                </a:lnTo>
                <a:lnTo>
                  <a:pt x="140" y="406"/>
                </a:lnTo>
                <a:lnTo>
                  <a:pt x="171" y="368"/>
                </a:lnTo>
                <a:lnTo>
                  <a:pt x="180" y="355"/>
                </a:lnTo>
                <a:lnTo>
                  <a:pt x="190" y="343"/>
                </a:lnTo>
                <a:lnTo>
                  <a:pt x="200" y="332"/>
                </a:lnTo>
                <a:lnTo>
                  <a:pt x="211" y="320"/>
                </a:lnTo>
                <a:lnTo>
                  <a:pt x="222" y="310"/>
                </a:lnTo>
                <a:lnTo>
                  <a:pt x="232" y="298"/>
                </a:lnTo>
                <a:lnTo>
                  <a:pt x="242" y="285"/>
                </a:lnTo>
                <a:lnTo>
                  <a:pt x="249" y="274"/>
                </a:lnTo>
                <a:lnTo>
                  <a:pt x="259" y="256"/>
                </a:lnTo>
                <a:lnTo>
                  <a:pt x="267" y="239"/>
                </a:lnTo>
                <a:lnTo>
                  <a:pt x="272" y="221"/>
                </a:lnTo>
                <a:lnTo>
                  <a:pt x="278" y="204"/>
                </a:lnTo>
                <a:lnTo>
                  <a:pt x="288" y="168"/>
                </a:lnTo>
                <a:lnTo>
                  <a:pt x="300" y="132"/>
                </a:lnTo>
                <a:lnTo>
                  <a:pt x="309" y="110"/>
                </a:lnTo>
                <a:lnTo>
                  <a:pt x="316" y="87"/>
                </a:lnTo>
                <a:lnTo>
                  <a:pt x="322" y="63"/>
                </a:lnTo>
                <a:lnTo>
                  <a:pt x="330" y="42"/>
                </a:lnTo>
                <a:lnTo>
                  <a:pt x="330" y="39"/>
                </a:lnTo>
                <a:lnTo>
                  <a:pt x="333" y="37"/>
                </a:lnTo>
                <a:lnTo>
                  <a:pt x="338" y="18"/>
                </a:lnTo>
                <a:lnTo>
                  <a:pt x="341" y="0"/>
                </a:lnTo>
                <a:close/>
              </a:path>
            </a:pathLst>
          </a:custGeom>
          <a:solidFill>
            <a:srgbClr val="2e2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1778040"/>
            <a:ext cx="1552680" cy="809640"/>
          </a:xfrm>
          <a:custGeom>
            <a:avLst/>
            <a:gdLst/>
            <a:ahLst/>
            <a:rect l="l" t="t" r="r" b="b"/>
            <a:pathLst>
              <a:path w="978" h="510">
                <a:moveTo>
                  <a:pt x="904" y="59"/>
                </a:moveTo>
                <a:lnTo>
                  <a:pt x="875" y="46"/>
                </a:lnTo>
                <a:lnTo>
                  <a:pt x="845" y="35"/>
                </a:lnTo>
                <a:lnTo>
                  <a:pt x="814" y="24"/>
                </a:lnTo>
                <a:lnTo>
                  <a:pt x="784" y="14"/>
                </a:lnTo>
                <a:lnTo>
                  <a:pt x="752" y="7"/>
                </a:lnTo>
                <a:lnTo>
                  <a:pt x="720" y="1"/>
                </a:lnTo>
                <a:lnTo>
                  <a:pt x="704" y="0"/>
                </a:lnTo>
                <a:lnTo>
                  <a:pt x="686" y="0"/>
                </a:lnTo>
                <a:lnTo>
                  <a:pt x="670" y="0"/>
                </a:lnTo>
                <a:lnTo>
                  <a:pt x="653" y="0"/>
                </a:lnTo>
                <a:lnTo>
                  <a:pt x="621" y="1"/>
                </a:lnTo>
                <a:lnTo>
                  <a:pt x="589" y="4"/>
                </a:lnTo>
                <a:lnTo>
                  <a:pt x="559" y="10"/>
                </a:lnTo>
                <a:lnTo>
                  <a:pt x="528" y="16"/>
                </a:lnTo>
                <a:lnTo>
                  <a:pt x="498" y="21"/>
                </a:lnTo>
                <a:lnTo>
                  <a:pt x="467" y="29"/>
                </a:lnTo>
                <a:lnTo>
                  <a:pt x="438" y="37"/>
                </a:lnTo>
                <a:lnTo>
                  <a:pt x="408" y="45"/>
                </a:lnTo>
                <a:lnTo>
                  <a:pt x="367" y="61"/>
                </a:lnTo>
                <a:lnTo>
                  <a:pt x="327" y="77"/>
                </a:lnTo>
                <a:lnTo>
                  <a:pt x="284" y="93"/>
                </a:lnTo>
                <a:lnTo>
                  <a:pt x="244" y="110"/>
                </a:lnTo>
                <a:lnTo>
                  <a:pt x="225" y="120"/>
                </a:lnTo>
                <a:lnTo>
                  <a:pt x="205" y="130"/>
                </a:lnTo>
                <a:lnTo>
                  <a:pt x="186" y="140"/>
                </a:lnTo>
                <a:lnTo>
                  <a:pt x="167" y="152"/>
                </a:lnTo>
                <a:lnTo>
                  <a:pt x="148" y="165"/>
                </a:lnTo>
                <a:lnTo>
                  <a:pt x="131" y="180"/>
                </a:lnTo>
                <a:lnTo>
                  <a:pt x="115" y="196"/>
                </a:lnTo>
                <a:lnTo>
                  <a:pt x="99" y="211"/>
                </a:lnTo>
                <a:lnTo>
                  <a:pt x="81" y="229"/>
                </a:lnTo>
                <a:lnTo>
                  <a:pt x="65" y="245"/>
                </a:lnTo>
                <a:lnTo>
                  <a:pt x="51" y="262"/>
                </a:lnTo>
                <a:lnTo>
                  <a:pt x="38" y="281"/>
                </a:lnTo>
                <a:lnTo>
                  <a:pt x="26" y="300"/>
                </a:lnTo>
                <a:lnTo>
                  <a:pt x="16" y="319"/>
                </a:lnTo>
                <a:lnTo>
                  <a:pt x="7" y="339"/>
                </a:lnTo>
                <a:lnTo>
                  <a:pt x="2" y="361"/>
                </a:lnTo>
                <a:lnTo>
                  <a:pt x="0" y="399"/>
                </a:lnTo>
                <a:lnTo>
                  <a:pt x="0" y="438"/>
                </a:lnTo>
                <a:lnTo>
                  <a:pt x="2" y="457"/>
                </a:lnTo>
                <a:lnTo>
                  <a:pt x="6" y="474"/>
                </a:lnTo>
                <a:lnTo>
                  <a:pt x="9" y="483"/>
                </a:lnTo>
                <a:lnTo>
                  <a:pt x="13" y="491"/>
                </a:lnTo>
                <a:lnTo>
                  <a:pt x="17" y="499"/>
                </a:lnTo>
                <a:lnTo>
                  <a:pt x="23" y="507"/>
                </a:lnTo>
                <a:lnTo>
                  <a:pt x="23" y="509"/>
                </a:lnTo>
                <a:lnTo>
                  <a:pt x="25" y="510"/>
                </a:lnTo>
                <a:lnTo>
                  <a:pt x="26" y="510"/>
                </a:lnTo>
                <a:lnTo>
                  <a:pt x="28" y="510"/>
                </a:lnTo>
                <a:lnTo>
                  <a:pt x="32" y="510"/>
                </a:lnTo>
                <a:lnTo>
                  <a:pt x="35" y="509"/>
                </a:lnTo>
                <a:lnTo>
                  <a:pt x="52" y="500"/>
                </a:lnTo>
                <a:lnTo>
                  <a:pt x="71" y="493"/>
                </a:lnTo>
                <a:lnTo>
                  <a:pt x="89" y="486"/>
                </a:lnTo>
                <a:lnTo>
                  <a:pt x="106" y="480"/>
                </a:lnTo>
                <a:lnTo>
                  <a:pt x="144" y="470"/>
                </a:lnTo>
                <a:lnTo>
                  <a:pt x="181" y="461"/>
                </a:lnTo>
                <a:lnTo>
                  <a:pt x="221" y="454"/>
                </a:lnTo>
                <a:lnTo>
                  <a:pt x="260" y="449"/>
                </a:lnTo>
                <a:lnTo>
                  <a:pt x="299" y="445"/>
                </a:lnTo>
                <a:lnTo>
                  <a:pt x="340" y="442"/>
                </a:lnTo>
                <a:lnTo>
                  <a:pt x="379" y="355"/>
                </a:lnTo>
                <a:lnTo>
                  <a:pt x="373" y="342"/>
                </a:lnTo>
                <a:lnTo>
                  <a:pt x="367" y="330"/>
                </a:lnTo>
                <a:lnTo>
                  <a:pt x="364" y="325"/>
                </a:lnTo>
                <a:lnTo>
                  <a:pt x="361" y="319"/>
                </a:lnTo>
                <a:lnTo>
                  <a:pt x="361" y="312"/>
                </a:lnTo>
                <a:lnTo>
                  <a:pt x="361" y="306"/>
                </a:lnTo>
                <a:lnTo>
                  <a:pt x="376" y="297"/>
                </a:lnTo>
                <a:lnTo>
                  <a:pt x="390" y="290"/>
                </a:lnTo>
                <a:lnTo>
                  <a:pt x="398" y="287"/>
                </a:lnTo>
                <a:lnTo>
                  <a:pt x="406" y="285"/>
                </a:lnTo>
                <a:lnTo>
                  <a:pt x="415" y="284"/>
                </a:lnTo>
                <a:lnTo>
                  <a:pt x="424" y="284"/>
                </a:lnTo>
                <a:lnTo>
                  <a:pt x="437" y="261"/>
                </a:lnTo>
                <a:lnTo>
                  <a:pt x="453" y="238"/>
                </a:lnTo>
                <a:lnTo>
                  <a:pt x="461" y="227"/>
                </a:lnTo>
                <a:lnTo>
                  <a:pt x="470" y="216"/>
                </a:lnTo>
                <a:lnTo>
                  <a:pt x="480" y="206"/>
                </a:lnTo>
                <a:lnTo>
                  <a:pt x="492" y="197"/>
                </a:lnTo>
                <a:lnTo>
                  <a:pt x="506" y="190"/>
                </a:lnTo>
                <a:lnTo>
                  <a:pt x="521" y="182"/>
                </a:lnTo>
                <a:lnTo>
                  <a:pt x="535" y="175"/>
                </a:lnTo>
                <a:lnTo>
                  <a:pt x="550" y="169"/>
                </a:lnTo>
                <a:lnTo>
                  <a:pt x="566" y="167"/>
                </a:lnTo>
                <a:lnTo>
                  <a:pt x="583" y="165"/>
                </a:lnTo>
                <a:lnTo>
                  <a:pt x="599" y="165"/>
                </a:lnTo>
                <a:lnTo>
                  <a:pt x="617" y="168"/>
                </a:lnTo>
                <a:lnTo>
                  <a:pt x="637" y="177"/>
                </a:lnTo>
                <a:lnTo>
                  <a:pt x="657" y="188"/>
                </a:lnTo>
                <a:lnTo>
                  <a:pt x="668" y="194"/>
                </a:lnTo>
                <a:lnTo>
                  <a:pt x="676" y="203"/>
                </a:lnTo>
                <a:lnTo>
                  <a:pt x="685" y="211"/>
                </a:lnTo>
                <a:lnTo>
                  <a:pt x="692" y="222"/>
                </a:lnTo>
                <a:lnTo>
                  <a:pt x="691" y="227"/>
                </a:lnTo>
                <a:lnTo>
                  <a:pt x="694" y="223"/>
                </a:lnTo>
                <a:lnTo>
                  <a:pt x="698" y="222"/>
                </a:lnTo>
                <a:lnTo>
                  <a:pt x="701" y="223"/>
                </a:lnTo>
                <a:lnTo>
                  <a:pt x="704" y="225"/>
                </a:lnTo>
                <a:lnTo>
                  <a:pt x="707" y="227"/>
                </a:lnTo>
                <a:lnTo>
                  <a:pt x="711" y="229"/>
                </a:lnTo>
                <a:lnTo>
                  <a:pt x="714" y="229"/>
                </a:lnTo>
                <a:lnTo>
                  <a:pt x="718" y="226"/>
                </a:lnTo>
                <a:lnTo>
                  <a:pt x="723" y="226"/>
                </a:lnTo>
                <a:lnTo>
                  <a:pt x="727" y="227"/>
                </a:lnTo>
                <a:lnTo>
                  <a:pt x="728" y="230"/>
                </a:lnTo>
                <a:lnTo>
                  <a:pt x="730" y="235"/>
                </a:lnTo>
                <a:lnTo>
                  <a:pt x="726" y="248"/>
                </a:lnTo>
                <a:lnTo>
                  <a:pt x="724" y="261"/>
                </a:lnTo>
                <a:lnTo>
                  <a:pt x="721" y="267"/>
                </a:lnTo>
                <a:lnTo>
                  <a:pt x="720" y="272"/>
                </a:lnTo>
                <a:lnTo>
                  <a:pt x="715" y="278"/>
                </a:lnTo>
                <a:lnTo>
                  <a:pt x="710" y="283"/>
                </a:lnTo>
                <a:lnTo>
                  <a:pt x="711" y="288"/>
                </a:lnTo>
                <a:lnTo>
                  <a:pt x="713" y="294"/>
                </a:lnTo>
                <a:lnTo>
                  <a:pt x="713" y="300"/>
                </a:lnTo>
                <a:lnTo>
                  <a:pt x="711" y="306"/>
                </a:lnTo>
                <a:lnTo>
                  <a:pt x="708" y="316"/>
                </a:lnTo>
                <a:lnTo>
                  <a:pt x="702" y="326"/>
                </a:lnTo>
                <a:lnTo>
                  <a:pt x="717" y="328"/>
                </a:lnTo>
                <a:lnTo>
                  <a:pt x="730" y="332"/>
                </a:lnTo>
                <a:lnTo>
                  <a:pt x="744" y="338"/>
                </a:lnTo>
                <a:lnTo>
                  <a:pt x="756" y="346"/>
                </a:lnTo>
                <a:lnTo>
                  <a:pt x="795" y="336"/>
                </a:lnTo>
                <a:lnTo>
                  <a:pt x="834" y="329"/>
                </a:lnTo>
                <a:lnTo>
                  <a:pt x="875" y="323"/>
                </a:lnTo>
                <a:lnTo>
                  <a:pt x="914" y="316"/>
                </a:lnTo>
                <a:lnTo>
                  <a:pt x="930" y="297"/>
                </a:lnTo>
                <a:lnTo>
                  <a:pt x="945" y="275"/>
                </a:lnTo>
                <a:lnTo>
                  <a:pt x="958" y="254"/>
                </a:lnTo>
                <a:lnTo>
                  <a:pt x="968" y="232"/>
                </a:lnTo>
                <a:lnTo>
                  <a:pt x="972" y="220"/>
                </a:lnTo>
                <a:lnTo>
                  <a:pt x="975" y="209"/>
                </a:lnTo>
                <a:lnTo>
                  <a:pt x="977" y="197"/>
                </a:lnTo>
                <a:lnTo>
                  <a:pt x="978" y="184"/>
                </a:lnTo>
                <a:lnTo>
                  <a:pt x="978" y="172"/>
                </a:lnTo>
                <a:lnTo>
                  <a:pt x="977" y="159"/>
                </a:lnTo>
                <a:lnTo>
                  <a:pt x="974" y="148"/>
                </a:lnTo>
                <a:lnTo>
                  <a:pt x="968" y="135"/>
                </a:lnTo>
                <a:lnTo>
                  <a:pt x="956" y="113"/>
                </a:lnTo>
                <a:lnTo>
                  <a:pt x="942" y="93"/>
                </a:lnTo>
                <a:lnTo>
                  <a:pt x="933" y="84"/>
                </a:lnTo>
                <a:lnTo>
                  <a:pt x="924" y="75"/>
                </a:lnTo>
                <a:lnTo>
                  <a:pt x="914" y="66"/>
                </a:lnTo>
                <a:lnTo>
                  <a:pt x="904" y="59"/>
                </a:lnTo>
                <a:close/>
              </a:path>
            </a:pathLst>
          </a:custGeom>
          <a:solidFill>
            <a:srgbClr val="2e2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20" y="2494080"/>
            <a:ext cx="2089080" cy="4135320"/>
          </a:xfrm>
          <a:custGeom>
            <a:avLst/>
            <a:gdLst/>
            <a:ahLst/>
            <a:rect l="l" t="t" r="r" b="b"/>
            <a:pathLst>
              <a:path w="1316" h="2373">
                <a:moveTo>
                  <a:pt x="1262" y="2144"/>
                </a:moveTo>
                <a:lnTo>
                  <a:pt x="1259" y="2142"/>
                </a:lnTo>
                <a:lnTo>
                  <a:pt x="1259" y="2141"/>
                </a:lnTo>
                <a:lnTo>
                  <a:pt x="1259" y="2138"/>
                </a:lnTo>
                <a:lnTo>
                  <a:pt x="1261" y="2137"/>
                </a:lnTo>
                <a:lnTo>
                  <a:pt x="1264" y="2132"/>
                </a:lnTo>
                <a:lnTo>
                  <a:pt x="1264" y="2128"/>
                </a:lnTo>
                <a:lnTo>
                  <a:pt x="1268" y="2105"/>
                </a:lnTo>
                <a:lnTo>
                  <a:pt x="1271" y="2080"/>
                </a:lnTo>
                <a:lnTo>
                  <a:pt x="1272" y="2057"/>
                </a:lnTo>
                <a:lnTo>
                  <a:pt x="1272" y="2032"/>
                </a:lnTo>
                <a:lnTo>
                  <a:pt x="1271" y="2007"/>
                </a:lnTo>
                <a:lnTo>
                  <a:pt x="1269" y="1984"/>
                </a:lnTo>
                <a:lnTo>
                  <a:pt x="1266" y="1960"/>
                </a:lnTo>
                <a:lnTo>
                  <a:pt x="1262" y="1936"/>
                </a:lnTo>
                <a:lnTo>
                  <a:pt x="1264" y="1883"/>
                </a:lnTo>
                <a:lnTo>
                  <a:pt x="1264" y="1828"/>
                </a:lnTo>
                <a:lnTo>
                  <a:pt x="1264" y="1774"/>
                </a:lnTo>
                <a:lnTo>
                  <a:pt x="1262" y="1719"/>
                </a:lnTo>
                <a:lnTo>
                  <a:pt x="1261" y="1665"/>
                </a:lnTo>
                <a:lnTo>
                  <a:pt x="1259" y="1610"/>
                </a:lnTo>
                <a:lnTo>
                  <a:pt x="1261" y="1555"/>
                </a:lnTo>
                <a:lnTo>
                  <a:pt x="1262" y="1500"/>
                </a:lnTo>
                <a:lnTo>
                  <a:pt x="1264" y="1472"/>
                </a:lnTo>
                <a:lnTo>
                  <a:pt x="1265" y="1445"/>
                </a:lnTo>
                <a:lnTo>
                  <a:pt x="1266" y="1417"/>
                </a:lnTo>
                <a:lnTo>
                  <a:pt x="1268" y="1391"/>
                </a:lnTo>
                <a:lnTo>
                  <a:pt x="1268" y="1363"/>
                </a:lnTo>
                <a:lnTo>
                  <a:pt x="1268" y="1336"/>
                </a:lnTo>
                <a:lnTo>
                  <a:pt x="1268" y="1308"/>
                </a:lnTo>
                <a:lnTo>
                  <a:pt x="1268" y="1281"/>
                </a:lnTo>
                <a:lnTo>
                  <a:pt x="1271" y="1246"/>
                </a:lnTo>
                <a:lnTo>
                  <a:pt x="1271" y="1214"/>
                </a:lnTo>
                <a:lnTo>
                  <a:pt x="1268" y="1182"/>
                </a:lnTo>
                <a:lnTo>
                  <a:pt x="1266" y="1150"/>
                </a:lnTo>
                <a:lnTo>
                  <a:pt x="1264" y="1118"/>
                </a:lnTo>
                <a:lnTo>
                  <a:pt x="1262" y="1085"/>
                </a:lnTo>
                <a:lnTo>
                  <a:pt x="1261" y="1053"/>
                </a:lnTo>
                <a:lnTo>
                  <a:pt x="1261" y="1020"/>
                </a:lnTo>
                <a:lnTo>
                  <a:pt x="1259" y="964"/>
                </a:lnTo>
                <a:lnTo>
                  <a:pt x="1258" y="909"/>
                </a:lnTo>
                <a:lnTo>
                  <a:pt x="1256" y="854"/>
                </a:lnTo>
                <a:lnTo>
                  <a:pt x="1255" y="801"/>
                </a:lnTo>
                <a:lnTo>
                  <a:pt x="1253" y="745"/>
                </a:lnTo>
                <a:lnTo>
                  <a:pt x="1252" y="690"/>
                </a:lnTo>
                <a:lnTo>
                  <a:pt x="1252" y="634"/>
                </a:lnTo>
                <a:lnTo>
                  <a:pt x="1251" y="579"/>
                </a:lnTo>
                <a:lnTo>
                  <a:pt x="1242" y="531"/>
                </a:lnTo>
                <a:lnTo>
                  <a:pt x="1233" y="483"/>
                </a:lnTo>
                <a:lnTo>
                  <a:pt x="1224" y="436"/>
                </a:lnTo>
                <a:lnTo>
                  <a:pt x="1214" y="389"/>
                </a:lnTo>
                <a:lnTo>
                  <a:pt x="1206" y="342"/>
                </a:lnTo>
                <a:lnTo>
                  <a:pt x="1194" y="296"/>
                </a:lnTo>
                <a:lnTo>
                  <a:pt x="1184" y="249"/>
                </a:lnTo>
                <a:lnTo>
                  <a:pt x="1172" y="204"/>
                </a:lnTo>
                <a:lnTo>
                  <a:pt x="1168" y="209"/>
                </a:lnTo>
                <a:lnTo>
                  <a:pt x="1165" y="215"/>
                </a:lnTo>
                <a:lnTo>
                  <a:pt x="1165" y="217"/>
                </a:lnTo>
                <a:lnTo>
                  <a:pt x="1162" y="220"/>
                </a:lnTo>
                <a:lnTo>
                  <a:pt x="1161" y="222"/>
                </a:lnTo>
                <a:lnTo>
                  <a:pt x="1156" y="222"/>
                </a:lnTo>
                <a:lnTo>
                  <a:pt x="1153" y="216"/>
                </a:lnTo>
                <a:lnTo>
                  <a:pt x="1152" y="209"/>
                </a:lnTo>
                <a:lnTo>
                  <a:pt x="1150" y="203"/>
                </a:lnTo>
                <a:lnTo>
                  <a:pt x="1150" y="196"/>
                </a:lnTo>
                <a:lnTo>
                  <a:pt x="1150" y="181"/>
                </a:lnTo>
                <a:lnTo>
                  <a:pt x="1149" y="168"/>
                </a:lnTo>
                <a:lnTo>
                  <a:pt x="1139" y="200"/>
                </a:lnTo>
                <a:lnTo>
                  <a:pt x="1127" y="232"/>
                </a:lnTo>
                <a:lnTo>
                  <a:pt x="1123" y="249"/>
                </a:lnTo>
                <a:lnTo>
                  <a:pt x="1121" y="265"/>
                </a:lnTo>
                <a:lnTo>
                  <a:pt x="1123" y="274"/>
                </a:lnTo>
                <a:lnTo>
                  <a:pt x="1124" y="283"/>
                </a:lnTo>
                <a:lnTo>
                  <a:pt x="1127" y="291"/>
                </a:lnTo>
                <a:lnTo>
                  <a:pt x="1130" y="299"/>
                </a:lnTo>
                <a:lnTo>
                  <a:pt x="1136" y="333"/>
                </a:lnTo>
                <a:lnTo>
                  <a:pt x="1139" y="368"/>
                </a:lnTo>
                <a:lnTo>
                  <a:pt x="1140" y="384"/>
                </a:lnTo>
                <a:lnTo>
                  <a:pt x="1143" y="402"/>
                </a:lnTo>
                <a:lnTo>
                  <a:pt x="1146" y="419"/>
                </a:lnTo>
                <a:lnTo>
                  <a:pt x="1150" y="435"/>
                </a:lnTo>
                <a:lnTo>
                  <a:pt x="1158" y="454"/>
                </a:lnTo>
                <a:lnTo>
                  <a:pt x="1162" y="474"/>
                </a:lnTo>
                <a:lnTo>
                  <a:pt x="1165" y="494"/>
                </a:lnTo>
                <a:lnTo>
                  <a:pt x="1166" y="518"/>
                </a:lnTo>
                <a:lnTo>
                  <a:pt x="1156" y="515"/>
                </a:lnTo>
                <a:lnTo>
                  <a:pt x="1143" y="510"/>
                </a:lnTo>
                <a:lnTo>
                  <a:pt x="1140" y="521"/>
                </a:lnTo>
                <a:lnTo>
                  <a:pt x="1139" y="531"/>
                </a:lnTo>
                <a:lnTo>
                  <a:pt x="1139" y="539"/>
                </a:lnTo>
                <a:lnTo>
                  <a:pt x="1140" y="548"/>
                </a:lnTo>
                <a:lnTo>
                  <a:pt x="1146" y="566"/>
                </a:lnTo>
                <a:lnTo>
                  <a:pt x="1153" y="583"/>
                </a:lnTo>
                <a:lnTo>
                  <a:pt x="1162" y="599"/>
                </a:lnTo>
                <a:lnTo>
                  <a:pt x="1166" y="616"/>
                </a:lnTo>
                <a:lnTo>
                  <a:pt x="1168" y="625"/>
                </a:lnTo>
                <a:lnTo>
                  <a:pt x="1166" y="634"/>
                </a:lnTo>
                <a:lnTo>
                  <a:pt x="1165" y="642"/>
                </a:lnTo>
                <a:lnTo>
                  <a:pt x="1161" y="651"/>
                </a:lnTo>
                <a:lnTo>
                  <a:pt x="1156" y="651"/>
                </a:lnTo>
                <a:lnTo>
                  <a:pt x="1114" y="564"/>
                </a:lnTo>
                <a:lnTo>
                  <a:pt x="1111" y="560"/>
                </a:lnTo>
                <a:lnTo>
                  <a:pt x="1108" y="558"/>
                </a:lnTo>
                <a:lnTo>
                  <a:pt x="1104" y="557"/>
                </a:lnTo>
                <a:lnTo>
                  <a:pt x="1101" y="557"/>
                </a:lnTo>
                <a:lnTo>
                  <a:pt x="1091" y="586"/>
                </a:lnTo>
                <a:lnTo>
                  <a:pt x="1084" y="615"/>
                </a:lnTo>
                <a:lnTo>
                  <a:pt x="1075" y="644"/>
                </a:lnTo>
                <a:lnTo>
                  <a:pt x="1066" y="673"/>
                </a:lnTo>
                <a:lnTo>
                  <a:pt x="1066" y="689"/>
                </a:lnTo>
                <a:lnTo>
                  <a:pt x="1069" y="703"/>
                </a:lnTo>
                <a:lnTo>
                  <a:pt x="1071" y="719"/>
                </a:lnTo>
                <a:lnTo>
                  <a:pt x="1073" y="735"/>
                </a:lnTo>
                <a:lnTo>
                  <a:pt x="1076" y="751"/>
                </a:lnTo>
                <a:lnTo>
                  <a:pt x="1078" y="767"/>
                </a:lnTo>
                <a:lnTo>
                  <a:pt x="1078" y="783"/>
                </a:lnTo>
                <a:lnTo>
                  <a:pt x="1073" y="799"/>
                </a:lnTo>
                <a:lnTo>
                  <a:pt x="1072" y="825"/>
                </a:lnTo>
                <a:lnTo>
                  <a:pt x="1072" y="851"/>
                </a:lnTo>
                <a:lnTo>
                  <a:pt x="1075" y="876"/>
                </a:lnTo>
                <a:lnTo>
                  <a:pt x="1081" y="901"/>
                </a:lnTo>
                <a:lnTo>
                  <a:pt x="1092" y="950"/>
                </a:lnTo>
                <a:lnTo>
                  <a:pt x="1107" y="999"/>
                </a:lnTo>
                <a:lnTo>
                  <a:pt x="1110" y="1017"/>
                </a:lnTo>
                <a:lnTo>
                  <a:pt x="1111" y="1036"/>
                </a:lnTo>
                <a:lnTo>
                  <a:pt x="1111" y="1053"/>
                </a:lnTo>
                <a:lnTo>
                  <a:pt x="1110" y="1072"/>
                </a:lnTo>
                <a:lnTo>
                  <a:pt x="1105" y="1089"/>
                </a:lnTo>
                <a:lnTo>
                  <a:pt x="1101" y="1107"/>
                </a:lnTo>
                <a:lnTo>
                  <a:pt x="1095" y="1123"/>
                </a:lnTo>
                <a:lnTo>
                  <a:pt x="1089" y="1139"/>
                </a:lnTo>
                <a:lnTo>
                  <a:pt x="1087" y="1139"/>
                </a:lnTo>
                <a:lnTo>
                  <a:pt x="1085" y="1139"/>
                </a:lnTo>
                <a:lnTo>
                  <a:pt x="1084" y="1137"/>
                </a:lnTo>
                <a:lnTo>
                  <a:pt x="1082" y="1136"/>
                </a:lnTo>
                <a:lnTo>
                  <a:pt x="1082" y="1131"/>
                </a:lnTo>
                <a:lnTo>
                  <a:pt x="1082" y="1128"/>
                </a:lnTo>
                <a:lnTo>
                  <a:pt x="1084" y="1115"/>
                </a:lnTo>
                <a:lnTo>
                  <a:pt x="1082" y="1104"/>
                </a:lnTo>
                <a:lnTo>
                  <a:pt x="1079" y="1092"/>
                </a:lnTo>
                <a:lnTo>
                  <a:pt x="1076" y="1079"/>
                </a:lnTo>
                <a:lnTo>
                  <a:pt x="1075" y="1067"/>
                </a:lnTo>
                <a:lnTo>
                  <a:pt x="1075" y="1056"/>
                </a:lnTo>
                <a:lnTo>
                  <a:pt x="1076" y="1050"/>
                </a:lnTo>
                <a:lnTo>
                  <a:pt x="1078" y="1044"/>
                </a:lnTo>
                <a:lnTo>
                  <a:pt x="1081" y="1038"/>
                </a:lnTo>
                <a:lnTo>
                  <a:pt x="1084" y="1033"/>
                </a:lnTo>
                <a:lnTo>
                  <a:pt x="1082" y="1020"/>
                </a:lnTo>
                <a:lnTo>
                  <a:pt x="1078" y="1008"/>
                </a:lnTo>
                <a:lnTo>
                  <a:pt x="1073" y="995"/>
                </a:lnTo>
                <a:lnTo>
                  <a:pt x="1068" y="983"/>
                </a:lnTo>
                <a:lnTo>
                  <a:pt x="1062" y="972"/>
                </a:lnTo>
                <a:lnTo>
                  <a:pt x="1056" y="960"/>
                </a:lnTo>
                <a:lnTo>
                  <a:pt x="1052" y="947"/>
                </a:lnTo>
                <a:lnTo>
                  <a:pt x="1050" y="934"/>
                </a:lnTo>
                <a:lnTo>
                  <a:pt x="1047" y="953"/>
                </a:lnTo>
                <a:lnTo>
                  <a:pt x="1044" y="970"/>
                </a:lnTo>
                <a:lnTo>
                  <a:pt x="1040" y="989"/>
                </a:lnTo>
                <a:lnTo>
                  <a:pt x="1034" y="1007"/>
                </a:lnTo>
                <a:lnTo>
                  <a:pt x="1031" y="1024"/>
                </a:lnTo>
                <a:lnTo>
                  <a:pt x="1030" y="1043"/>
                </a:lnTo>
                <a:lnTo>
                  <a:pt x="1030" y="1051"/>
                </a:lnTo>
                <a:lnTo>
                  <a:pt x="1030" y="1060"/>
                </a:lnTo>
                <a:lnTo>
                  <a:pt x="1031" y="1070"/>
                </a:lnTo>
                <a:lnTo>
                  <a:pt x="1034" y="1080"/>
                </a:lnTo>
                <a:lnTo>
                  <a:pt x="1034" y="1091"/>
                </a:lnTo>
                <a:lnTo>
                  <a:pt x="1036" y="1102"/>
                </a:lnTo>
                <a:lnTo>
                  <a:pt x="1039" y="1114"/>
                </a:lnTo>
                <a:lnTo>
                  <a:pt x="1043" y="1125"/>
                </a:lnTo>
                <a:lnTo>
                  <a:pt x="1039" y="1134"/>
                </a:lnTo>
                <a:lnTo>
                  <a:pt x="1037" y="1144"/>
                </a:lnTo>
                <a:lnTo>
                  <a:pt x="1036" y="1153"/>
                </a:lnTo>
                <a:lnTo>
                  <a:pt x="1036" y="1163"/>
                </a:lnTo>
                <a:lnTo>
                  <a:pt x="1036" y="1173"/>
                </a:lnTo>
                <a:lnTo>
                  <a:pt x="1039" y="1183"/>
                </a:lnTo>
                <a:lnTo>
                  <a:pt x="1042" y="1192"/>
                </a:lnTo>
                <a:lnTo>
                  <a:pt x="1046" y="1201"/>
                </a:lnTo>
                <a:lnTo>
                  <a:pt x="1049" y="1237"/>
                </a:lnTo>
                <a:lnTo>
                  <a:pt x="1052" y="1273"/>
                </a:lnTo>
                <a:lnTo>
                  <a:pt x="1053" y="1310"/>
                </a:lnTo>
                <a:lnTo>
                  <a:pt x="1055" y="1346"/>
                </a:lnTo>
                <a:lnTo>
                  <a:pt x="1055" y="1382"/>
                </a:lnTo>
                <a:lnTo>
                  <a:pt x="1052" y="1417"/>
                </a:lnTo>
                <a:lnTo>
                  <a:pt x="1049" y="1436"/>
                </a:lnTo>
                <a:lnTo>
                  <a:pt x="1046" y="1453"/>
                </a:lnTo>
                <a:lnTo>
                  <a:pt x="1042" y="1471"/>
                </a:lnTo>
                <a:lnTo>
                  <a:pt x="1036" y="1488"/>
                </a:lnTo>
                <a:lnTo>
                  <a:pt x="1033" y="1490"/>
                </a:lnTo>
                <a:lnTo>
                  <a:pt x="1029" y="1488"/>
                </a:lnTo>
                <a:lnTo>
                  <a:pt x="1027" y="1485"/>
                </a:lnTo>
                <a:lnTo>
                  <a:pt x="1027" y="1481"/>
                </a:lnTo>
                <a:lnTo>
                  <a:pt x="1029" y="1478"/>
                </a:lnTo>
                <a:lnTo>
                  <a:pt x="1031" y="1471"/>
                </a:lnTo>
                <a:lnTo>
                  <a:pt x="1031" y="1463"/>
                </a:lnTo>
                <a:lnTo>
                  <a:pt x="1033" y="1450"/>
                </a:lnTo>
                <a:lnTo>
                  <a:pt x="1031" y="1439"/>
                </a:lnTo>
                <a:lnTo>
                  <a:pt x="1030" y="1427"/>
                </a:lnTo>
                <a:lnTo>
                  <a:pt x="1027" y="1417"/>
                </a:lnTo>
                <a:lnTo>
                  <a:pt x="1020" y="1395"/>
                </a:lnTo>
                <a:lnTo>
                  <a:pt x="1015" y="1374"/>
                </a:lnTo>
                <a:lnTo>
                  <a:pt x="1018" y="1360"/>
                </a:lnTo>
                <a:lnTo>
                  <a:pt x="1020" y="1347"/>
                </a:lnTo>
                <a:lnTo>
                  <a:pt x="1020" y="1333"/>
                </a:lnTo>
                <a:lnTo>
                  <a:pt x="1020" y="1318"/>
                </a:lnTo>
                <a:lnTo>
                  <a:pt x="1018" y="1291"/>
                </a:lnTo>
                <a:lnTo>
                  <a:pt x="1014" y="1265"/>
                </a:lnTo>
                <a:lnTo>
                  <a:pt x="1010" y="1288"/>
                </a:lnTo>
                <a:lnTo>
                  <a:pt x="1002" y="1313"/>
                </a:lnTo>
                <a:lnTo>
                  <a:pt x="994" y="1334"/>
                </a:lnTo>
                <a:lnTo>
                  <a:pt x="985" y="1358"/>
                </a:lnTo>
                <a:lnTo>
                  <a:pt x="978" y="1381"/>
                </a:lnTo>
                <a:lnTo>
                  <a:pt x="973" y="1405"/>
                </a:lnTo>
                <a:lnTo>
                  <a:pt x="972" y="1417"/>
                </a:lnTo>
                <a:lnTo>
                  <a:pt x="972" y="1430"/>
                </a:lnTo>
                <a:lnTo>
                  <a:pt x="972" y="1443"/>
                </a:lnTo>
                <a:lnTo>
                  <a:pt x="975" y="1456"/>
                </a:lnTo>
                <a:lnTo>
                  <a:pt x="962" y="1471"/>
                </a:lnTo>
                <a:lnTo>
                  <a:pt x="947" y="1487"/>
                </a:lnTo>
                <a:lnTo>
                  <a:pt x="941" y="1494"/>
                </a:lnTo>
                <a:lnTo>
                  <a:pt x="939" y="1503"/>
                </a:lnTo>
                <a:lnTo>
                  <a:pt x="937" y="1507"/>
                </a:lnTo>
                <a:lnTo>
                  <a:pt x="937" y="1513"/>
                </a:lnTo>
                <a:lnTo>
                  <a:pt x="939" y="1519"/>
                </a:lnTo>
                <a:lnTo>
                  <a:pt x="940" y="1523"/>
                </a:lnTo>
                <a:lnTo>
                  <a:pt x="943" y="1530"/>
                </a:lnTo>
                <a:lnTo>
                  <a:pt x="949" y="1537"/>
                </a:lnTo>
                <a:lnTo>
                  <a:pt x="950" y="1542"/>
                </a:lnTo>
                <a:lnTo>
                  <a:pt x="950" y="1545"/>
                </a:lnTo>
                <a:lnTo>
                  <a:pt x="949" y="1548"/>
                </a:lnTo>
                <a:lnTo>
                  <a:pt x="944" y="1550"/>
                </a:lnTo>
                <a:lnTo>
                  <a:pt x="936" y="1548"/>
                </a:lnTo>
                <a:lnTo>
                  <a:pt x="930" y="1543"/>
                </a:lnTo>
                <a:lnTo>
                  <a:pt x="924" y="1537"/>
                </a:lnTo>
                <a:lnTo>
                  <a:pt x="920" y="1532"/>
                </a:lnTo>
                <a:lnTo>
                  <a:pt x="912" y="1517"/>
                </a:lnTo>
                <a:lnTo>
                  <a:pt x="907" y="1504"/>
                </a:lnTo>
                <a:lnTo>
                  <a:pt x="901" y="1516"/>
                </a:lnTo>
                <a:lnTo>
                  <a:pt x="895" y="1529"/>
                </a:lnTo>
                <a:lnTo>
                  <a:pt x="891" y="1542"/>
                </a:lnTo>
                <a:lnTo>
                  <a:pt x="889" y="1555"/>
                </a:lnTo>
                <a:lnTo>
                  <a:pt x="886" y="1581"/>
                </a:lnTo>
                <a:lnTo>
                  <a:pt x="885" y="1608"/>
                </a:lnTo>
                <a:lnTo>
                  <a:pt x="885" y="1636"/>
                </a:lnTo>
                <a:lnTo>
                  <a:pt x="883" y="1664"/>
                </a:lnTo>
                <a:lnTo>
                  <a:pt x="882" y="1678"/>
                </a:lnTo>
                <a:lnTo>
                  <a:pt x="879" y="1691"/>
                </a:lnTo>
                <a:lnTo>
                  <a:pt x="876" y="1704"/>
                </a:lnTo>
                <a:lnTo>
                  <a:pt x="870" y="1716"/>
                </a:lnTo>
                <a:lnTo>
                  <a:pt x="862" y="1736"/>
                </a:lnTo>
                <a:lnTo>
                  <a:pt x="854" y="1756"/>
                </a:lnTo>
                <a:lnTo>
                  <a:pt x="849" y="1767"/>
                </a:lnTo>
                <a:lnTo>
                  <a:pt x="843" y="1775"/>
                </a:lnTo>
                <a:lnTo>
                  <a:pt x="836" y="1784"/>
                </a:lnTo>
                <a:lnTo>
                  <a:pt x="827" y="1790"/>
                </a:lnTo>
                <a:lnTo>
                  <a:pt x="822" y="1796"/>
                </a:lnTo>
                <a:lnTo>
                  <a:pt x="815" y="1799"/>
                </a:lnTo>
                <a:lnTo>
                  <a:pt x="808" y="1784"/>
                </a:lnTo>
                <a:lnTo>
                  <a:pt x="796" y="1797"/>
                </a:lnTo>
                <a:lnTo>
                  <a:pt x="786" y="1810"/>
                </a:lnTo>
                <a:lnTo>
                  <a:pt x="777" y="1823"/>
                </a:lnTo>
                <a:lnTo>
                  <a:pt x="772" y="1838"/>
                </a:lnTo>
                <a:lnTo>
                  <a:pt x="766" y="1852"/>
                </a:lnTo>
                <a:lnTo>
                  <a:pt x="760" y="1867"/>
                </a:lnTo>
                <a:lnTo>
                  <a:pt x="756" y="1883"/>
                </a:lnTo>
                <a:lnTo>
                  <a:pt x="753" y="1897"/>
                </a:lnTo>
                <a:lnTo>
                  <a:pt x="746" y="1929"/>
                </a:lnTo>
                <a:lnTo>
                  <a:pt x="738" y="1960"/>
                </a:lnTo>
                <a:lnTo>
                  <a:pt x="734" y="1975"/>
                </a:lnTo>
                <a:lnTo>
                  <a:pt x="728" y="1990"/>
                </a:lnTo>
                <a:lnTo>
                  <a:pt x="722" y="2005"/>
                </a:lnTo>
                <a:lnTo>
                  <a:pt x="715" y="2019"/>
                </a:lnTo>
                <a:lnTo>
                  <a:pt x="701" y="2047"/>
                </a:lnTo>
                <a:lnTo>
                  <a:pt x="685" y="2074"/>
                </a:lnTo>
                <a:lnTo>
                  <a:pt x="667" y="2100"/>
                </a:lnTo>
                <a:lnTo>
                  <a:pt x="648" y="2125"/>
                </a:lnTo>
                <a:lnTo>
                  <a:pt x="644" y="2125"/>
                </a:lnTo>
                <a:lnTo>
                  <a:pt x="641" y="2122"/>
                </a:lnTo>
                <a:lnTo>
                  <a:pt x="645" y="2113"/>
                </a:lnTo>
                <a:lnTo>
                  <a:pt x="650" y="2105"/>
                </a:lnTo>
                <a:lnTo>
                  <a:pt x="650" y="2093"/>
                </a:lnTo>
                <a:lnTo>
                  <a:pt x="651" y="2081"/>
                </a:lnTo>
                <a:lnTo>
                  <a:pt x="653" y="2070"/>
                </a:lnTo>
                <a:lnTo>
                  <a:pt x="657" y="2060"/>
                </a:lnTo>
                <a:lnTo>
                  <a:pt x="664" y="2039"/>
                </a:lnTo>
                <a:lnTo>
                  <a:pt x="674" y="2019"/>
                </a:lnTo>
                <a:lnTo>
                  <a:pt x="683" y="1999"/>
                </a:lnTo>
                <a:lnTo>
                  <a:pt x="690" y="1977"/>
                </a:lnTo>
                <a:lnTo>
                  <a:pt x="693" y="1967"/>
                </a:lnTo>
                <a:lnTo>
                  <a:pt x="695" y="1955"/>
                </a:lnTo>
                <a:lnTo>
                  <a:pt x="695" y="1942"/>
                </a:lnTo>
                <a:lnTo>
                  <a:pt x="693" y="1931"/>
                </a:lnTo>
                <a:lnTo>
                  <a:pt x="696" y="1920"/>
                </a:lnTo>
                <a:lnTo>
                  <a:pt x="699" y="1910"/>
                </a:lnTo>
                <a:lnTo>
                  <a:pt x="701" y="1900"/>
                </a:lnTo>
                <a:lnTo>
                  <a:pt x="701" y="1890"/>
                </a:lnTo>
                <a:lnTo>
                  <a:pt x="702" y="1870"/>
                </a:lnTo>
                <a:lnTo>
                  <a:pt x="703" y="1849"/>
                </a:lnTo>
                <a:lnTo>
                  <a:pt x="693" y="1862"/>
                </a:lnTo>
                <a:lnTo>
                  <a:pt x="685" y="1877"/>
                </a:lnTo>
                <a:lnTo>
                  <a:pt x="680" y="1886"/>
                </a:lnTo>
                <a:lnTo>
                  <a:pt x="676" y="1893"/>
                </a:lnTo>
                <a:lnTo>
                  <a:pt x="673" y="1902"/>
                </a:lnTo>
                <a:lnTo>
                  <a:pt x="672" y="1909"/>
                </a:lnTo>
                <a:lnTo>
                  <a:pt x="667" y="1909"/>
                </a:lnTo>
                <a:lnTo>
                  <a:pt x="664" y="1906"/>
                </a:lnTo>
                <a:lnTo>
                  <a:pt x="666" y="1881"/>
                </a:lnTo>
                <a:lnTo>
                  <a:pt x="669" y="1858"/>
                </a:lnTo>
                <a:lnTo>
                  <a:pt x="674" y="1835"/>
                </a:lnTo>
                <a:lnTo>
                  <a:pt x="679" y="1812"/>
                </a:lnTo>
                <a:lnTo>
                  <a:pt x="683" y="1788"/>
                </a:lnTo>
                <a:lnTo>
                  <a:pt x="688" y="1765"/>
                </a:lnTo>
                <a:lnTo>
                  <a:pt x="690" y="1740"/>
                </a:lnTo>
                <a:lnTo>
                  <a:pt x="692" y="1716"/>
                </a:lnTo>
                <a:lnTo>
                  <a:pt x="692" y="1711"/>
                </a:lnTo>
                <a:lnTo>
                  <a:pt x="685" y="1714"/>
                </a:lnTo>
                <a:lnTo>
                  <a:pt x="666" y="1735"/>
                </a:lnTo>
                <a:lnTo>
                  <a:pt x="651" y="1758"/>
                </a:lnTo>
                <a:lnTo>
                  <a:pt x="638" y="1781"/>
                </a:lnTo>
                <a:lnTo>
                  <a:pt x="628" y="1806"/>
                </a:lnTo>
                <a:lnTo>
                  <a:pt x="618" y="1830"/>
                </a:lnTo>
                <a:lnTo>
                  <a:pt x="611" y="1857"/>
                </a:lnTo>
                <a:lnTo>
                  <a:pt x="605" y="1883"/>
                </a:lnTo>
                <a:lnTo>
                  <a:pt x="600" y="1909"/>
                </a:lnTo>
                <a:lnTo>
                  <a:pt x="598" y="1939"/>
                </a:lnTo>
                <a:lnTo>
                  <a:pt x="596" y="1970"/>
                </a:lnTo>
                <a:lnTo>
                  <a:pt x="595" y="2002"/>
                </a:lnTo>
                <a:lnTo>
                  <a:pt x="590" y="2034"/>
                </a:lnTo>
                <a:lnTo>
                  <a:pt x="586" y="2065"/>
                </a:lnTo>
                <a:lnTo>
                  <a:pt x="580" y="2096"/>
                </a:lnTo>
                <a:lnTo>
                  <a:pt x="576" y="2112"/>
                </a:lnTo>
                <a:lnTo>
                  <a:pt x="570" y="2126"/>
                </a:lnTo>
                <a:lnTo>
                  <a:pt x="566" y="2141"/>
                </a:lnTo>
                <a:lnTo>
                  <a:pt x="558" y="2155"/>
                </a:lnTo>
                <a:lnTo>
                  <a:pt x="555" y="2161"/>
                </a:lnTo>
                <a:lnTo>
                  <a:pt x="554" y="2167"/>
                </a:lnTo>
                <a:lnTo>
                  <a:pt x="553" y="2170"/>
                </a:lnTo>
                <a:lnTo>
                  <a:pt x="551" y="2173"/>
                </a:lnTo>
                <a:lnTo>
                  <a:pt x="548" y="2174"/>
                </a:lnTo>
                <a:lnTo>
                  <a:pt x="545" y="2176"/>
                </a:lnTo>
                <a:lnTo>
                  <a:pt x="544" y="2171"/>
                </a:lnTo>
                <a:lnTo>
                  <a:pt x="544" y="2139"/>
                </a:lnTo>
                <a:lnTo>
                  <a:pt x="542" y="2107"/>
                </a:lnTo>
                <a:lnTo>
                  <a:pt x="542" y="2092"/>
                </a:lnTo>
                <a:lnTo>
                  <a:pt x="542" y="2076"/>
                </a:lnTo>
                <a:lnTo>
                  <a:pt x="545" y="2061"/>
                </a:lnTo>
                <a:lnTo>
                  <a:pt x="550" y="2045"/>
                </a:lnTo>
                <a:lnTo>
                  <a:pt x="551" y="2028"/>
                </a:lnTo>
                <a:lnTo>
                  <a:pt x="550" y="2012"/>
                </a:lnTo>
                <a:lnTo>
                  <a:pt x="545" y="1996"/>
                </a:lnTo>
                <a:lnTo>
                  <a:pt x="541" y="1981"/>
                </a:lnTo>
                <a:lnTo>
                  <a:pt x="528" y="1952"/>
                </a:lnTo>
                <a:lnTo>
                  <a:pt x="513" y="1925"/>
                </a:lnTo>
                <a:lnTo>
                  <a:pt x="511" y="1933"/>
                </a:lnTo>
                <a:lnTo>
                  <a:pt x="509" y="1944"/>
                </a:lnTo>
                <a:lnTo>
                  <a:pt x="511" y="1952"/>
                </a:lnTo>
                <a:lnTo>
                  <a:pt x="512" y="1962"/>
                </a:lnTo>
                <a:lnTo>
                  <a:pt x="515" y="1973"/>
                </a:lnTo>
                <a:lnTo>
                  <a:pt x="518" y="1983"/>
                </a:lnTo>
                <a:lnTo>
                  <a:pt x="519" y="1991"/>
                </a:lnTo>
                <a:lnTo>
                  <a:pt x="519" y="2002"/>
                </a:lnTo>
                <a:lnTo>
                  <a:pt x="518" y="2025"/>
                </a:lnTo>
                <a:lnTo>
                  <a:pt x="515" y="2047"/>
                </a:lnTo>
                <a:lnTo>
                  <a:pt x="513" y="2057"/>
                </a:lnTo>
                <a:lnTo>
                  <a:pt x="509" y="2067"/>
                </a:lnTo>
                <a:lnTo>
                  <a:pt x="505" y="2076"/>
                </a:lnTo>
                <a:lnTo>
                  <a:pt x="497" y="2084"/>
                </a:lnTo>
                <a:lnTo>
                  <a:pt x="496" y="2081"/>
                </a:lnTo>
                <a:lnTo>
                  <a:pt x="495" y="2077"/>
                </a:lnTo>
                <a:lnTo>
                  <a:pt x="495" y="2074"/>
                </a:lnTo>
                <a:lnTo>
                  <a:pt x="496" y="2070"/>
                </a:lnTo>
                <a:lnTo>
                  <a:pt x="499" y="2061"/>
                </a:lnTo>
                <a:lnTo>
                  <a:pt x="499" y="2052"/>
                </a:lnTo>
                <a:lnTo>
                  <a:pt x="499" y="2044"/>
                </a:lnTo>
                <a:lnTo>
                  <a:pt x="497" y="2035"/>
                </a:lnTo>
                <a:lnTo>
                  <a:pt x="496" y="2026"/>
                </a:lnTo>
                <a:lnTo>
                  <a:pt x="493" y="2019"/>
                </a:lnTo>
                <a:lnTo>
                  <a:pt x="487" y="2005"/>
                </a:lnTo>
                <a:lnTo>
                  <a:pt x="480" y="1990"/>
                </a:lnTo>
                <a:lnTo>
                  <a:pt x="471" y="1975"/>
                </a:lnTo>
                <a:lnTo>
                  <a:pt x="464" y="1960"/>
                </a:lnTo>
                <a:lnTo>
                  <a:pt x="460" y="1945"/>
                </a:lnTo>
                <a:lnTo>
                  <a:pt x="457" y="1929"/>
                </a:lnTo>
                <a:lnTo>
                  <a:pt x="457" y="1903"/>
                </a:lnTo>
                <a:lnTo>
                  <a:pt x="460" y="1878"/>
                </a:lnTo>
                <a:lnTo>
                  <a:pt x="464" y="1855"/>
                </a:lnTo>
                <a:lnTo>
                  <a:pt x="471" y="1832"/>
                </a:lnTo>
                <a:lnTo>
                  <a:pt x="487" y="1785"/>
                </a:lnTo>
                <a:lnTo>
                  <a:pt x="505" y="1740"/>
                </a:lnTo>
                <a:lnTo>
                  <a:pt x="511" y="1735"/>
                </a:lnTo>
                <a:lnTo>
                  <a:pt x="518" y="1727"/>
                </a:lnTo>
                <a:lnTo>
                  <a:pt x="508" y="1730"/>
                </a:lnTo>
                <a:lnTo>
                  <a:pt x="495" y="1732"/>
                </a:lnTo>
                <a:lnTo>
                  <a:pt x="481" y="1733"/>
                </a:lnTo>
                <a:lnTo>
                  <a:pt x="468" y="1733"/>
                </a:lnTo>
                <a:lnTo>
                  <a:pt x="464" y="1726"/>
                </a:lnTo>
                <a:lnTo>
                  <a:pt x="461" y="1719"/>
                </a:lnTo>
                <a:lnTo>
                  <a:pt x="458" y="1717"/>
                </a:lnTo>
                <a:lnTo>
                  <a:pt x="455" y="1714"/>
                </a:lnTo>
                <a:lnTo>
                  <a:pt x="452" y="1714"/>
                </a:lnTo>
                <a:lnTo>
                  <a:pt x="448" y="1714"/>
                </a:lnTo>
                <a:lnTo>
                  <a:pt x="441" y="1714"/>
                </a:lnTo>
                <a:lnTo>
                  <a:pt x="435" y="1716"/>
                </a:lnTo>
                <a:lnTo>
                  <a:pt x="434" y="1716"/>
                </a:lnTo>
                <a:lnTo>
                  <a:pt x="431" y="1716"/>
                </a:lnTo>
                <a:lnTo>
                  <a:pt x="428" y="1714"/>
                </a:lnTo>
                <a:lnTo>
                  <a:pt x="426" y="1711"/>
                </a:lnTo>
                <a:lnTo>
                  <a:pt x="428" y="1704"/>
                </a:lnTo>
                <a:lnTo>
                  <a:pt x="431" y="1697"/>
                </a:lnTo>
                <a:lnTo>
                  <a:pt x="434" y="1691"/>
                </a:lnTo>
                <a:lnTo>
                  <a:pt x="439" y="1684"/>
                </a:lnTo>
                <a:lnTo>
                  <a:pt x="452" y="1685"/>
                </a:lnTo>
                <a:lnTo>
                  <a:pt x="466" y="1691"/>
                </a:lnTo>
                <a:lnTo>
                  <a:pt x="471" y="1693"/>
                </a:lnTo>
                <a:lnTo>
                  <a:pt x="477" y="1693"/>
                </a:lnTo>
                <a:lnTo>
                  <a:pt x="484" y="1693"/>
                </a:lnTo>
                <a:lnTo>
                  <a:pt x="490" y="1688"/>
                </a:lnTo>
                <a:lnTo>
                  <a:pt x="509" y="1680"/>
                </a:lnTo>
                <a:lnTo>
                  <a:pt x="528" y="1668"/>
                </a:lnTo>
                <a:lnTo>
                  <a:pt x="545" y="1655"/>
                </a:lnTo>
                <a:lnTo>
                  <a:pt x="564" y="1645"/>
                </a:lnTo>
                <a:lnTo>
                  <a:pt x="569" y="1642"/>
                </a:lnTo>
                <a:lnTo>
                  <a:pt x="573" y="1639"/>
                </a:lnTo>
                <a:lnTo>
                  <a:pt x="574" y="1636"/>
                </a:lnTo>
                <a:lnTo>
                  <a:pt x="576" y="1630"/>
                </a:lnTo>
                <a:lnTo>
                  <a:pt x="579" y="1622"/>
                </a:lnTo>
                <a:lnTo>
                  <a:pt x="583" y="1613"/>
                </a:lnTo>
                <a:lnTo>
                  <a:pt x="587" y="1603"/>
                </a:lnTo>
                <a:lnTo>
                  <a:pt x="593" y="1594"/>
                </a:lnTo>
                <a:lnTo>
                  <a:pt x="599" y="1587"/>
                </a:lnTo>
                <a:lnTo>
                  <a:pt x="605" y="1579"/>
                </a:lnTo>
                <a:lnTo>
                  <a:pt x="621" y="1566"/>
                </a:lnTo>
                <a:lnTo>
                  <a:pt x="638" y="1553"/>
                </a:lnTo>
                <a:lnTo>
                  <a:pt x="656" y="1542"/>
                </a:lnTo>
                <a:lnTo>
                  <a:pt x="672" y="1530"/>
                </a:lnTo>
                <a:lnTo>
                  <a:pt x="680" y="1524"/>
                </a:lnTo>
                <a:lnTo>
                  <a:pt x="688" y="1517"/>
                </a:lnTo>
                <a:lnTo>
                  <a:pt x="695" y="1510"/>
                </a:lnTo>
                <a:lnTo>
                  <a:pt x="701" y="1501"/>
                </a:lnTo>
                <a:lnTo>
                  <a:pt x="685" y="1506"/>
                </a:lnTo>
                <a:lnTo>
                  <a:pt x="664" y="1508"/>
                </a:lnTo>
                <a:lnTo>
                  <a:pt x="663" y="1506"/>
                </a:lnTo>
                <a:lnTo>
                  <a:pt x="661" y="1503"/>
                </a:lnTo>
                <a:lnTo>
                  <a:pt x="661" y="1500"/>
                </a:lnTo>
                <a:lnTo>
                  <a:pt x="663" y="1497"/>
                </a:lnTo>
                <a:lnTo>
                  <a:pt x="664" y="1492"/>
                </a:lnTo>
                <a:lnTo>
                  <a:pt x="666" y="1487"/>
                </a:lnTo>
                <a:lnTo>
                  <a:pt x="664" y="1471"/>
                </a:lnTo>
                <a:lnTo>
                  <a:pt x="664" y="1455"/>
                </a:lnTo>
                <a:lnTo>
                  <a:pt x="666" y="1447"/>
                </a:lnTo>
                <a:lnTo>
                  <a:pt x="667" y="1440"/>
                </a:lnTo>
                <a:lnTo>
                  <a:pt x="670" y="1433"/>
                </a:lnTo>
                <a:lnTo>
                  <a:pt x="673" y="1426"/>
                </a:lnTo>
                <a:lnTo>
                  <a:pt x="696" y="1395"/>
                </a:lnTo>
                <a:lnTo>
                  <a:pt x="718" y="1363"/>
                </a:lnTo>
                <a:lnTo>
                  <a:pt x="728" y="1347"/>
                </a:lnTo>
                <a:lnTo>
                  <a:pt x="737" y="1330"/>
                </a:lnTo>
                <a:lnTo>
                  <a:pt x="746" y="1313"/>
                </a:lnTo>
                <a:lnTo>
                  <a:pt x="751" y="1295"/>
                </a:lnTo>
                <a:lnTo>
                  <a:pt x="754" y="1268"/>
                </a:lnTo>
                <a:lnTo>
                  <a:pt x="756" y="1242"/>
                </a:lnTo>
                <a:lnTo>
                  <a:pt x="754" y="1215"/>
                </a:lnTo>
                <a:lnTo>
                  <a:pt x="751" y="1189"/>
                </a:lnTo>
                <a:lnTo>
                  <a:pt x="757" y="1170"/>
                </a:lnTo>
                <a:lnTo>
                  <a:pt x="760" y="1150"/>
                </a:lnTo>
                <a:lnTo>
                  <a:pt x="764" y="1131"/>
                </a:lnTo>
                <a:lnTo>
                  <a:pt x="767" y="1111"/>
                </a:lnTo>
                <a:lnTo>
                  <a:pt x="773" y="1072"/>
                </a:lnTo>
                <a:lnTo>
                  <a:pt x="782" y="1034"/>
                </a:lnTo>
                <a:lnTo>
                  <a:pt x="782" y="1025"/>
                </a:lnTo>
                <a:lnTo>
                  <a:pt x="775" y="1036"/>
                </a:lnTo>
                <a:lnTo>
                  <a:pt x="767" y="1044"/>
                </a:lnTo>
                <a:lnTo>
                  <a:pt x="763" y="1054"/>
                </a:lnTo>
                <a:lnTo>
                  <a:pt x="757" y="1065"/>
                </a:lnTo>
                <a:lnTo>
                  <a:pt x="750" y="1085"/>
                </a:lnTo>
                <a:lnTo>
                  <a:pt x="746" y="1107"/>
                </a:lnTo>
                <a:lnTo>
                  <a:pt x="738" y="1152"/>
                </a:lnTo>
                <a:lnTo>
                  <a:pt x="734" y="1197"/>
                </a:lnTo>
                <a:lnTo>
                  <a:pt x="719" y="1217"/>
                </a:lnTo>
                <a:lnTo>
                  <a:pt x="706" y="1240"/>
                </a:lnTo>
                <a:lnTo>
                  <a:pt x="705" y="1246"/>
                </a:lnTo>
                <a:lnTo>
                  <a:pt x="702" y="1252"/>
                </a:lnTo>
                <a:lnTo>
                  <a:pt x="702" y="1257"/>
                </a:lnTo>
                <a:lnTo>
                  <a:pt x="702" y="1263"/>
                </a:lnTo>
                <a:lnTo>
                  <a:pt x="702" y="1269"/>
                </a:lnTo>
                <a:lnTo>
                  <a:pt x="703" y="1275"/>
                </a:lnTo>
                <a:lnTo>
                  <a:pt x="708" y="1281"/>
                </a:lnTo>
                <a:lnTo>
                  <a:pt x="712" y="1286"/>
                </a:lnTo>
                <a:lnTo>
                  <a:pt x="709" y="1301"/>
                </a:lnTo>
                <a:lnTo>
                  <a:pt x="706" y="1313"/>
                </a:lnTo>
                <a:lnTo>
                  <a:pt x="701" y="1324"/>
                </a:lnTo>
                <a:lnTo>
                  <a:pt x="695" y="1336"/>
                </a:lnTo>
                <a:lnTo>
                  <a:pt x="679" y="1358"/>
                </a:lnTo>
                <a:lnTo>
                  <a:pt x="661" y="1378"/>
                </a:lnTo>
                <a:lnTo>
                  <a:pt x="657" y="1378"/>
                </a:lnTo>
                <a:lnTo>
                  <a:pt x="656" y="1376"/>
                </a:lnTo>
                <a:lnTo>
                  <a:pt x="654" y="1375"/>
                </a:lnTo>
                <a:lnTo>
                  <a:pt x="654" y="1374"/>
                </a:lnTo>
                <a:lnTo>
                  <a:pt x="660" y="1355"/>
                </a:lnTo>
                <a:lnTo>
                  <a:pt x="666" y="1334"/>
                </a:lnTo>
                <a:lnTo>
                  <a:pt x="670" y="1315"/>
                </a:lnTo>
                <a:lnTo>
                  <a:pt x="673" y="1297"/>
                </a:lnTo>
                <a:lnTo>
                  <a:pt x="677" y="1257"/>
                </a:lnTo>
                <a:lnTo>
                  <a:pt x="679" y="1218"/>
                </a:lnTo>
                <a:lnTo>
                  <a:pt x="685" y="1208"/>
                </a:lnTo>
                <a:lnTo>
                  <a:pt x="688" y="1195"/>
                </a:lnTo>
                <a:lnTo>
                  <a:pt x="690" y="1183"/>
                </a:lnTo>
                <a:lnTo>
                  <a:pt x="692" y="1170"/>
                </a:lnTo>
                <a:lnTo>
                  <a:pt x="695" y="1159"/>
                </a:lnTo>
                <a:lnTo>
                  <a:pt x="698" y="1147"/>
                </a:lnTo>
                <a:lnTo>
                  <a:pt x="701" y="1141"/>
                </a:lnTo>
                <a:lnTo>
                  <a:pt x="703" y="1137"/>
                </a:lnTo>
                <a:lnTo>
                  <a:pt x="706" y="1131"/>
                </a:lnTo>
                <a:lnTo>
                  <a:pt x="711" y="1127"/>
                </a:lnTo>
                <a:lnTo>
                  <a:pt x="718" y="1096"/>
                </a:lnTo>
                <a:lnTo>
                  <a:pt x="705" y="1111"/>
                </a:lnTo>
                <a:lnTo>
                  <a:pt x="688" y="1127"/>
                </a:lnTo>
                <a:lnTo>
                  <a:pt x="679" y="1134"/>
                </a:lnTo>
                <a:lnTo>
                  <a:pt x="669" y="1139"/>
                </a:lnTo>
                <a:lnTo>
                  <a:pt x="663" y="1140"/>
                </a:lnTo>
                <a:lnTo>
                  <a:pt x="659" y="1141"/>
                </a:lnTo>
                <a:lnTo>
                  <a:pt x="653" y="1141"/>
                </a:lnTo>
                <a:lnTo>
                  <a:pt x="647" y="1141"/>
                </a:lnTo>
                <a:lnTo>
                  <a:pt x="641" y="1137"/>
                </a:lnTo>
                <a:lnTo>
                  <a:pt x="638" y="1133"/>
                </a:lnTo>
                <a:lnTo>
                  <a:pt x="643" y="1125"/>
                </a:lnTo>
                <a:lnTo>
                  <a:pt x="650" y="1120"/>
                </a:lnTo>
                <a:lnTo>
                  <a:pt x="659" y="1112"/>
                </a:lnTo>
                <a:lnTo>
                  <a:pt x="666" y="1105"/>
                </a:lnTo>
                <a:lnTo>
                  <a:pt x="680" y="1080"/>
                </a:lnTo>
                <a:lnTo>
                  <a:pt x="693" y="1056"/>
                </a:lnTo>
                <a:lnTo>
                  <a:pt x="705" y="1030"/>
                </a:lnTo>
                <a:lnTo>
                  <a:pt x="717" y="1004"/>
                </a:lnTo>
                <a:lnTo>
                  <a:pt x="719" y="995"/>
                </a:lnTo>
                <a:lnTo>
                  <a:pt x="721" y="986"/>
                </a:lnTo>
                <a:lnTo>
                  <a:pt x="722" y="979"/>
                </a:lnTo>
                <a:lnTo>
                  <a:pt x="721" y="969"/>
                </a:lnTo>
                <a:lnTo>
                  <a:pt x="711" y="973"/>
                </a:lnTo>
                <a:lnTo>
                  <a:pt x="699" y="976"/>
                </a:lnTo>
                <a:lnTo>
                  <a:pt x="693" y="978"/>
                </a:lnTo>
                <a:lnTo>
                  <a:pt x="686" y="979"/>
                </a:lnTo>
                <a:lnTo>
                  <a:pt x="680" y="978"/>
                </a:lnTo>
                <a:lnTo>
                  <a:pt x="676" y="975"/>
                </a:lnTo>
                <a:lnTo>
                  <a:pt x="676" y="970"/>
                </a:lnTo>
                <a:lnTo>
                  <a:pt x="679" y="967"/>
                </a:lnTo>
                <a:lnTo>
                  <a:pt x="682" y="966"/>
                </a:lnTo>
                <a:lnTo>
                  <a:pt x="686" y="964"/>
                </a:lnTo>
                <a:lnTo>
                  <a:pt x="688" y="956"/>
                </a:lnTo>
                <a:lnTo>
                  <a:pt x="692" y="948"/>
                </a:lnTo>
                <a:lnTo>
                  <a:pt x="696" y="943"/>
                </a:lnTo>
                <a:lnTo>
                  <a:pt x="703" y="937"/>
                </a:lnTo>
                <a:lnTo>
                  <a:pt x="718" y="928"/>
                </a:lnTo>
                <a:lnTo>
                  <a:pt x="730" y="917"/>
                </a:lnTo>
                <a:lnTo>
                  <a:pt x="730" y="905"/>
                </a:lnTo>
                <a:lnTo>
                  <a:pt x="731" y="892"/>
                </a:lnTo>
                <a:lnTo>
                  <a:pt x="734" y="880"/>
                </a:lnTo>
                <a:lnTo>
                  <a:pt x="737" y="869"/>
                </a:lnTo>
                <a:lnTo>
                  <a:pt x="740" y="856"/>
                </a:lnTo>
                <a:lnTo>
                  <a:pt x="741" y="844"/>
                </a:lnTo>
                <a:lnTo>
                  <a:pt x="741" y="831"/>
                </a:lnTo>
                <a:lnTo>
                  <a:pt x="738" y="818"/>
                </a:lnTo>
                <a:lnTo>
                  <a:pt x="746" y="808"/>
                </a:lnTo>
                <a:lnTo>
                  <a:pt x="751" y="796"/>
                </a:lnTo>
                <a:lnTo>
                  <a:pt x="757" y="783"/>
                </a:lnTo>
                <a:lnTo>
                  <a:pt x="760" y="772"/>
                </a:lnTo>
                <a:lnTo>
                  <a:pt x="763" y="758"/>
                </a:lnTo>
                <a:lnTo>
                  <a:pt x="766" y="745"/>
                </a:lnTo>
                <a:lnTo>
                  <a:pt x="766" y="731"/>
                </a:lnTo>
                <a:lnTo>
                  <a:pt x="764" y="716"/>
                </a:lnTo>
                <a:lnTo>
                  <a:pt x="763" y="674"/>
                </a:lnTo>
                <a:lnTo>
                  <a:pt x="760" y="683"/>
                </a:lnTo>
                <a:lnTo>
                  <a:pt x="759" y="693"/>
                </a:lnTo>
                <a:lnTo>
                  <a:pt x="757" y="703"/>
                </a:lnTo>
                <a:lnTo>
                  <a:pt x="757" y="713"/>
                </a:lnTo>
                <a:lnTo>
                  <a:pt x="756" y="724"/>
                </a:lnTo>
                <a:lnTo>
                  <a:pt x="753" y="734"/>
                </a:lnTo>
                <a:lnTo>
                  <a:pt x="750" y="738"/>
                </a:lnTo>
                <a:lnTo>
                  <a:pt x="747" y="741"/>
                </a:lnTo>
                <a:lnTo>
                  <a:pt x="744" y="745"/>
                </a:lnTo>
                <a:lnTo>
                  <a:pt x="740" y="748"/>
                </a:lnTo>
                <a:lnTo>
                  <a:pt x="735" y="744"/>
                </a:lnTo>
                <a:lnTo>
                  <a:pt x="738" y="713"/>
                </a:lnTo>
                <a:lnTo>
                  <a:pt x="738" y="684"/>
                </a:lnTo>
                <a:lnTo>
                  <a:pt x="740" y="654"/>
                </a:lnTo>
                <a:lnTo>
                  <a:pt x="741" y="626"/>
                </a:lnTo>
                <a:lnTo>
                  <a:pt x="743" y="612"/>
                </a:lnTo>
                <a:lnTo>
                  <a:pt x="746" y="597"/>
                </a:lnTo>
                <a:lnTo>
                  <a:pt x="748" y="584"/>
                </a:lnTo>
                <a:lnTo>
                  <a:pt x="753" y="571"/>
                </a:lnTo>
                <a:lnTo>
                  <a:pt x="757" y="558"/>
                </a:lnTo>
                <a:lnTo>
                  <a:pt x="764" y="545"/>
                </a:lnTo>
                <a:lnTo>
                  <a:pt x="773" y="534"/>
                </a:lnTo>
                <a:lnTo>
                  <a:pt x="783" y="522"/>
                </a:lnTo>
                <a:lnTo>
                  <a:pt x="786" y="515"/>
                </a:lnTo>
                <a:lnTo>
                  <a:pt x="788" y="508"/>
                </a:lnTo>
                <a:lnTo>
                  <a:pt x="788" y="499"/>
                </a:lnTo>
                <a:lnTo>
                  <a:pt x="788" y="490"/>
                </a:lnTo>
                <a:lnTo>
                  <a:pt x="783" y="490"/>
                </a:lnTo>
                <a:lnTo>
                  <a:pt x="779" y="490"/>
                </a:lnTo>
                <a:lnTo>
                  <a:pt x="776" y="490"/>
                </a:lnTo>
                <a:lnTo>
                  <a:pt x="775" y="489"/>
                </a:lnTo>
                <a:lnTo>
                  <a:pt x="773" y="487"/>
                </a:lnTo>
                <a:lnTo>
                  <a:pt x="772" y="484"/>
                </a:lnTo>
                <a:lnTo>
                  <a:pt x="779" y="465"/>
                </a:lnTo>
                <a:lnTo>
                  <a:pt x="772" y="457"/>
                </a:lnTo>
                <a:lnTo>
                  <a:pt x="764" y="448"/>
                </a:lnTo>
                <a:lnTo>
                  <a:pt x="760" y="438"/>
                </a:lnTo>
                <a:lnTo>
                  <a:pt x="759" y="426"/>
                </a:lnTo>
                <a:lnTo>
                  <a:pt x="760" y="425"/>
                </a:lnTo>
                <a:lnTo>
                  <a:pt x="763" y="425"/>
                </a:lnTo>
                <a:lnTo>
                  <a:pt x="764" y="426"/>
                </a:lnTo>
                <a:lnTo>
                  <a:pt x="766" y="428"/>
                </a:lnTo>
                <a:lnTo>
                  <a:pt x="770" y="431"/>
                </a:lnTo>
                <a:lnTo>
                  <a:pt x="773" y="435"/>
                </a:lnTo>
                <a:lnTo>
                  <a:pt x="777" y="418"/>
                </a:lnTo>
                <a:lnTo>
                  <a:pt x="779" y="402"/>
                </a:lnTo>
                <a:lnTo>
                  <a:pt x="777" y="384"/>
                </a:lnTo>
                <a:lnTo>
                  <a:pt x="775" y="368"/>
                </a:lnTo>
                <a:lnTo>
                  <a:pt x="770" y="354"/>
                </a:lnTo>
                <a:lnTo>
                  <a:pt x="763" y="338"/>
                </a:lnTo>
                <a:lnTo>
                  <a:pt x="756" y="323"/>
                </a:lnTo>
                <a:lnTo>
                  <a:pt x="748" y="309"/>
                </a:lnTo>
                <a:lnTo>
                  <a:pt x="747" y="293"/>
                </a:lnTo>
                <a:lnTo>
                  <a:pt x="747" y="275"/>
                </a:lnTo>
                <a:lnTo>
                  <a:pt x="747" y="268"/>
                </a:lnTo>
                <a:lnTo>
                  <a:pt x="748" y="259"/>
                </a:lnTo>
                <a:lnTo>
                  <a:pt x="751" y="252"/>
                </a:lnTo>
                <a:lnTo>
                  <a:pt x="754" y="245"/>
                </a:lnTo>
                <a:lnTo>
                  <a:pt x="750" y="246"/>
                </a:lnTo>
                <a:lnTo>
                  <a:pt x="746" y="249"/>
                </a:lnTo>
                <a:lnTo>
                  <a:pt x="743" y="249"/>
                </a:lnTo>
                <a:lnTo>
                  <a:pt x="741" y="249"/>
                </a:lnTo>
                <a:lnTo>
                  <a:pt x="740" y="248"/>
                </a:lnTo>
                <a:lnTo>
                  <a:pt x="738" y="245"/>
                </a:lnTo>
                <a:lnTo>
                  <a:pt x="740" y="229"/>
                </a:lnTo>
                <a:lnTo>
                  <a:pt x="743" y="215"/>
                </a:lnTo>
                <a:lnTo>
                  <a:pt x="747" y="201"/>
                </a:lnTo>
                <a:lnTo>
                  <a:pt x="751" y="187"/>
                </a:lnTo>
                <a:lnTo>
                  <a:pt x="763" y="161"/>
                </a:lnTo>
                <a:lnTo>
                  <a:pt x="776" y="135"/>
                </a:lnTo>
                <a:lnTo>
                  <a:pt x="805" y="84"/>
                </a:lnTo>
                <a:lnTo>
                  <a:pt x="833" y="33"/>
                </a:lnTo>
                <a:lnTo>
                  <a:pt x="828" y="26"/>
                </a:lnTo>
                <a:lnTo>
                  <a:pt x="822" y="19"/>
                </a:lnTo>
                <a:lnTo>
                  <a:pt x="821" y="16"/>
                </a:lnTo>
                <a:lnTo>
                  <a:pt x="820" y="11"/>
                </a:lnTo>
                <a:lnTo>
                  <a:pt x="821" y="7"/>
                </a:lnTo>
                <a:lnTo>
                  <a:pt x="824" y="4"/>
                </a:lnTo>
                <a:lnTo>
                  <a:pt x="818" y="0"/>
                </a:lnTo>
                <a:lnTo>
                  <a:pt x="773" y="3"/>
                </a:lnTo>
                <a:lnTo>
                  <a:pt x="730" y="6"/>
                </a:lnTo>
                <a:lnTo>
                  <a:pt x="688" y="11"/>
                </a:lnTo>
                <a:lnTo>
                  <a:pt x="645" y="17"/>
                </a:lnTo>
                <a:lnTo>
                  <a:pt x="605" y="26"/>
                </a:lnTo>
                <a:lnTo>
                  <a:pt x="564" y="38"/>
                </a:lnTo>
                <a:lnTo>
                  <a:pt x="545" y="45"/>
                </a:lnTo>
                <a:lnTo>
                  <a:pt x="525" y="53"/>
                </a:lnTo>
                <a:lnTo>
                  <a:pt x="506" y="62"/>
                </a:lnTo>
                <a:lnTo>
                  <a:pt x="487" y="72"/>
                </a:lnTo>
                <a:lnTo>
                  <a:pt x="468" y="77"/>
                </a:lnTo>
                <a:lnTo>
                  <a:pt x="451" y="83"/>
                </a:lnTo>
                <a:lnTo>
                  <a:pt x="432" y="90"/>
                </a:lnTo>
                <a:lnTo>
                  <a:pt x="415" y="98"/>
                </a:lnTo>
                <a:lnTo>
                  <a:pt x="380" y="116"/>
                </a:lnTo>
                <a:lnTo>
                  <a:pt x="345" y="135"/>
                </a:lnTo>
                <a:lnTo>
                  <a:pt x="290" y="175"/>
                </a:lnTo>
                <a:lnTo>
                  <a:pt x="235" y="217"/>
                </a:lnTo>
                <a:lnTo>
                  <a:pt x="209" y="239"/>
                </a:lnTo>
                <a:lnTo>
                  <a:pt x="183" y="262"/>
                </a:lnTo>
                <a:lnTo>
                  <a:pt x="156" y="287"/>
                </a:lnTo>
                <a:lnTo>
                  <a:pt x="132" y="312"/>
                </a:lnTo>
                <a:lnTo>
                  <a:pt x="119" y="320"/>
                </a:lnTo>
                <a:lnTo>
                  <a:pt x="106" y="329"/>
                </a:lnTo>
                <a:lnTo>
                  <a:pt x="94" y="339"/>
                </a:lnTo>
                <a:lnTo>
                  <a:pt x="82" y="351"/>
                </a:lnTo>
                <a:lnTo>
                  <a:pt x="74" y="364"/>
                </a:lnTo>
                <a:lnTo>
                  <a:pt x="65" y="378"/>
                </a:lnTo>
                <a:lnTo>
                  <a:pt x="61" y="391"/>
                </a:lnTo>
                <a:lnTo>
                  <a:pt x="58" y="407"/>
                </a:lnTo>
                <a:lnTo>
                  <a:pt x="58" y="460"/>
                </a:lnTo>
                <a:lnTo>
                  <a:pt x="61" y="513"/>
                </a:lnTo>
                <a:lnTo>
                  <a:pt x="64" y="566"/>
                </a:lnTo>
                <a:lnTo>
                  <a:pt x="69" y="618"/>
                </a:lnTo>
                <a:lnTo>
                  <a:pt x="75" y="670"/>
                </a:lnTo>
                <a:lnTo>
                  <a:pt x="82" y="721"/>
                </a:lnTo>
                <a:lnTo>
                  <a:pt x="88" y="772"/>
                </a:lnTo>
                <a:lnTo>
                  <a:pt x="96" y="822"/>
                </a:lnTo>
                <a:lnTo>
                  <a:pt x="104" y="875"/>
                </a:lnTo>
                <a:lnTo>
                  <a:pt x="116" y="927"/>
                </a:lnTo>
                <a:lnTo>
                  <a:pt x="127" y="978"/>
                </a:lnTo>
                <a:lnTo>
                  <a:pt x="142" y="1028"/>
                </a:lnTo>
                <a:lnTo>
                  <a:pt x="156" y="1079"/>
                </a:lnTo>
                <a:lnTo>
                  <a:pt x="172" y="1130"/>
                </a:lnTo>
                <a:lnTo>
                  <a:pt x="188" y="1179"/>
                </a:lnTo>
                <a:lnTo>
                  <a:pt x="203" y="1230"/>
                </a:lnTo>
                <a:lnTo>
                  <a:pt x="213" y="1257"/>
                </a:lnTo>
                <a:lnTo>
                  <a:pt x="226" y="1284"/>
                </a:lnTo>
                <a:lnTo>
                  <a:pt x="239" y="1310"/>
                </a:lnTo>
                <a:lnTo>
                  <a:pt x="254" y="1336"/>
                </a:lnTo>
                <a:lnTo>
                  <a:pt x="267" y="1362"/>
                </a:lnTo>
                <a:lnTo>
                  <a:pt x="280" y="1388"/>
                </a:lnTo>
                <a:lnTo>
                  <a:pt x="293" y="1414"/>
                </a:lnTo>
                <a:lnTo>
                  <a:pt x="302" y="1442"/>
                </a:lnTo>
                <a:lnTo>
                  <a:pt x="304" y="1446"/>
                </a:lnTo>
                <a:lnTo>
                  <a:pt x="307" y="1449"/>
                </a:lnTo>
                <a:lnTo>
                  <a:pt x="312" y="1452"/>
                </a:lnTo>
                <a:lnTo>
                  <a:pt x="316" y="1453"/>
                </a:lnTo>
                <a:lnTo>
                  <a:pt x="320" y="1426"/>
                </a:lnTo>
                <a:lnTo>
                  <a:pt x="323" y="1398"/>
                </a:lnTo>
                <a:lnTo>
                  <a:pt x="325" y="1369"/>
                </a:lnTo>
                <a:lnTo>
                  <a:pt x="326" y="1342"/>
                </a:lnTo>
                <a:lnTo>
                  <a:pt x="326" y="1313"/>
                </a:lnTo>
                <a:lnTo>
                  <a:pt x="326" y="1285"/>
                </a:lnTo>
                <a:lnTo>
                  <a:pt x="326" y="1256"/>
                </a:lnTo>
                <a:lnTo>
                  <a:pt x="329" y="1228"/>
                </a:lnTo>
                <a:lnTo>
                  <a:pt x="336" y="1191"/>
                </a:lnTo>
                <a:lnTo>
                  <a:pt x="342" y="1152"/>
                </a:lnTo>
                <a:lnTo>
                  <a:pt x="348" y="1114"/>
                </a:lnTo>
                <a:lnTo>
                  <a:pt x="354" y="1075"/>
                </a:lnTo>
                <a:lnTo>
                  <a:pt x="358" y="1037"/>
                </a:lnTo>
                <a:lnTo>
                  <a:pt x="365" y="998"/>
                </a:lnTo>
                <a:lnTo>
                  <a:pt x="373" y="960"/>
                </a:lnTo>
                <a:lnTo>
                  <a:pt x="381" y="924"/>
                </a:lnTo>
                <a:lnTo>
                  <a:pt x="394" y="869"/>
                </a:lnTo>
                <a:lnTo>
                  <a:pt x="406" y="815"/>
                </a:lnTo>
                <a:lnTo>
                  <a:pt x="419" y="761"/>
                </a:lnTo>
                <a:lnTo>
                  <a:pt x="434" y="708"/>
                </a:lnTo>
                <a:lnTo>
                  <a:pt x="441" y="689"/>
                </a:lnTo>
                <a:lnTo>
                  <a:pt x="450" y="669"/>
                </a:lnTo>
                <a:lnTo>
                  <a:pt x="460" y="650"/>
                </a:lnTo>
                <a:lnTo>
                  <a:pt x="470" y="631"/>
                </a:lnTo>
                <a:lnTo>
                  <a:pt x="490" y="593"/>
                </a:lnTo>
                <a:lnTo>
                  <a:pt x="508" y="555"/>
                </a:lnTo>
                <a:lnTo>
                  <a:pt x="509" y="548"/>
                </a:lnTo>
                <a:lnTo>
                  <a:pt x="511" y="541"/>
                </a:lnTo>
                <a:lnTo>
                  <a:pt x="511" y="537"/>
                </a:lnTo>
                <a:lnTo>
                  <a:pt x="511" y="534"/>
                </a:lnTo>
                <a:lnTo>
                  <a:pt x="509" y="529"/>
                </a:lnTo>
                <a:lnTo>
                  <a:pt x="508" y="526"/>
                </a:lnTo>
                <a:lnTo>
                  <a:pt x="490" y="510"/>
                </a:lnTo>
                <a:lnTo>
                  <a:pt x="473" y="496"/>
                </a:lnTo>
                <a:lnTo>
                  <a:pt x="454" y="484"/>
                </a:lnTo>
                <a:lnTo>
                  <a:pt x="434" y="473"/>
                </a:lnTo>
                <a:lnTo>
                  <a:pt x="413" y="461"/>
                </a:lnTo>
                <a:lnTo>
                  <a:pt x="393" y="451"/>
                </a:lnTo>
                <a:lnTo>
                  <a:pt x="374" y="439"/>
                </a:lnTo>
                <a:lnTo>
                  <a:pt x="355" y="426"/>
                </a:lnTo>
                <a:lnTo>
                  <a:pt x="323" y="407"/>
                </a:lnTo>
                <a:lnTo>
                  <a:pt x="290" y="391"/>
                </a:lnTo>
                <a:lnTo>
                  <a:pt x="274" y="383"/>
                </a:lnTo>
                <a:lnTo>
                  <a:pt x="257" y="377"/>
                </a:lnTo>
                <a:lnTo>
                  <a:pt x="239" y="371"/>
                </a:lnTo>
                <a:lnTo>
                  <a:pt x="222" y="367"/>
                </a:lnTo>
                <a:lnTo>
                  <a:pt x="220" y="364"/>
                </a:lnTo>
                <a:lnTo>
                  <a:pt x="219" y="361"/>
                </a:lnTo>
                <a:lnTo>
                  <a:pt x="219" y="358"/>
                </a:lnTo>
                <a:lnTo>
                  <a:pt x="220" y="357"/>
                </a:lnTo>
                <a:lnTo>
                  <a:pt x="246" y="364"/>
                </a:lnTo>
                <a:lnTo>
                  <a:pt x="271" y="374"/>
                </a:lnTo>
                <a:lnTo>
                  <a:pt x="296" y="386"/>
                </a:lnTo>
                <a:lnTo>
                  <a:pt x="320" y="397"/>
                </a:lnTo>
                <a:lnTo>
                  <a:pt x="367" y="425"/>
                </a:lnTo>
                <a:lnTo>
                  <a:pt x="413" y="451"/>
                </a:lnTo>
                <a:lnTo>
                  <a:pt x="438" y="449"/>
                </a:lnTo>
                <a:lnTo>
                  <a:pt x="460" y="444"/>
                </a:lnTo>
                <a:lnTo>
                  <a:pt x="481" y="438"/>
                </a:lnTo>
                <a:lnTo>
                  <a:pt x="502" y="429"/>
                </a:lnTo>
                <a:lnTo>
                  <a:pt x="542" y="410"/>
                </a:lnTo>
                <a:lnTo>
                  <a:pt x="583" y="391"/>
                </a:lnTo>
                <a:lnTo>
                  <a:pt x="602" y="377"/>
                </a:lnTo>
                <a:lnTo>
                  <a:pt x="621" y="361"/>
                </a:lnTo>
                <a:lnTo>
                  <a:pt x="638" y="344"/>
                </a:lnTo>
                <a:lnTo>
                  <a:pt x="653" y="326"/>
                </a:lnTo>
                <a:lnTo>
                  <a:pt x="657" y="328"/>
                </a:lnTo>
                <a:lnTo>
                  <a:pt x="659" y="329"/>
                </a:lnTo>
                <a:lnTo>
                  <a:pt x="660" y="332"/>
                </a:lnTo>
                <a:lnTo>
                  <a:pt x="659" y="335"/>
                </a:lnTo>
                <a:lnTo>
                  <a:pt x="644" y="351"/>
                </a:lnTo>
                <a:lnTo>
                  <a:pt x="629" y="365"/>
                </a:lnTo>
                <a:lnTo>
                  <a:pt x="614" y="378"/>
                </a:lnTo>
                <a:lnTo>
                  <a:pt x="598" y="391"/>
                </a:lnTo>
                <a:lnTo>
                  <a:pt x="611" y="386"/>
                </a:lnTo>
                <a:lnTo>
                  <a:pt x="622" y="378"/>
                </a:lnTo>
                <a:lnTo>
                  <a:pt x="635" y="370"/>
                </a:lnTo>
                <a:lnTo>
                  <a:pt x="645" y="360"/>
                </a:lnTo>
                <a:lnTo>
                  <a:pt x="667" y="339"/>
                </a:lnTo>
                <a:lnTo>
                  <a:pt x="686" y="320"/>
                </a:lnTo>
                <a:lnTo>
                  <a:pt x="689" y="322"/>
                </a:lnTo>
                <a:lnTo>
                  <a:pt x="677" y="339"/>
                </a:lnTo>
                <a:lnTo>
                  <a:pt x="664" y="355"/>
                </a:lnTo>
                <a:lnTo>
                  <a:pt x="648" y="370"/>
                </a:lnTo>
                <a:lnTo>
                  <a:pt x="632" y="383"/>
                </a:lnTo>
                <a:lnTo>
                  <a:pt x="615" y="393"/>
                </a:lnTo>
                <a:lnTo>
                  <a:pt x="598" y="403"/>
                </a:lnTo>
                <a:lnTo>
                  <a:pt x="579" y="413"/>
                </a:lnTo>
                <a:lnTo>
                  <a:pt x="561" y="420"/>
                </a:lnTo>
                <a:lnTo>
                  <a:pt x="550" y="418"/>
                </a:lnTo>
                <a:lnTo>
                  <a:pt x="519" y="431"/>
                </a:lnTo>
                <a:lnTo>
                  <a:pt x="490" y="442"/>
                </a:lnTo>
                <a:lnTo>
                  <a:pt x="474" y="448"/>
                </a:lnTo>
                <a:lnTo>
                  <a:pt x="458" y="452"/>
                </a:lnTo>
                <a:lnTo>
                  <a:pt x="444" y="455"/>
                </a:lnTo>
                <a:lnTo>
                  <a:pt x="426" y="458"/>
                </a:lnTo>
                <a:lnTo>
                  <a:pt x="452" y="473"/>
                </a:lnTo>
                <a:lnTo>
                  <a:pt x="479" y="489"/>
                </a:lnTo>
                <a:lnTo>
                  <a:pt x="490" y="497"/>
                </a:lnTo>
                <a:lnTo>
                  <a:pt x="502" y="508"/>
                </a:lnTo>
                <a:lnTo>
                  <a:pt x="512" y="518"/>
                </a:lnTo>
                <a:lnTo>
                  <a:pt x="521" y="529"/>
                </a:lnTo>
                <a:lnTo>
                  <a:pt x="525" y="532"/>
                </a:lnTo>
                <a:lnTo>
                  <a:pt x="529" y="537"/>
                </a:lnTo>
                <a:lnTo>
                  <a:pt x="531" y="541"/>
                </a:lnTo>
                <a:lnTo>
                  <a:pt x="532" y="545"/>
                </a:lnTo>
                <a:lnTo>
                  <a:pt x="534" y="555"/>
                </a:lnTo>
                <a:lnTo>
                  <a:pt x="532" y="567"/>
                </a:lnTo>
                <a:lnTo>
                  <a:pt x="529" y="570"/>
                </a:lnTo>
                <a:lnTo>
                  <a:pt x="529" y="574"/>
                </a:lnTo>
                <a:lnTo>
                  <a:pt x="529" y="580"/>
                </a:lnTo>
                <a:lnTo>
                  <a:pt x="529" y="584"/>
                </a:lnTo>
                <a:lnTo>
                  <a:pt x="553" y="596"/>
                </a:lnTo>
                <a:lnTo>
                  <a:pt x="576" y="608"/>
                </a:lnTo>
                <a:lnTo>
                  <a:pt x="587" y="615"/>
                </a:lnTo>
                <a:lnTo>
                  <a:pt x="598" y="621"/>
                </a:lnTo>
                <a:lnTo>
                  <a:pt x="609" y="628"/>
                </a:lnTo>
                <a:lnTo>
                  <a:pt x="619" y="637"/>
                </a:lnTo>
                <a:lnTo>
                  <a:pt x="638" y="732"/>
                </a:lnTo>
                <a:lnTo>
                  <a:pt x="637" y="741"/>
                </a:lnTo>
                <a:lnTo>
                  <a:pt x="634" y="747"/>
                </a:lnTo>
                <a:lnTo>
                  <a:pt x="629" y="753"/>
                </a:lnTo>
                <a:lnTo>
                  <a:pt x="624" y="757"/>
                </a:lnTo>
                <a:lnTo>
                  <a:pt x="618" y="761"/>
                </a:lnTo>
                <a:lnTo>
                  <a:pt x="612" y="766"/>
                </a:lnTo>
                <a:lnTo>
                  <a:pt x="608" y="772"/>
                </a:lnTo>
                <a:lnTo>
                  <a:pt x="603" y="777"/>
                </a:lnTo>
                <a:lnTo>
                  <a:pt x="603" y="782"/>
                </a:lnTo>
                <a:lnTo>
                  <a:pt x="600" y="786"/>
                </a:lnTo>
                <a:lnTo>
                  <a:pt x="599" y="790"/>
                </a:lnTo>
                <a:lnTo>
                  <a:pt x="596" y="792"/>
                </a:lnTo>
                <a:lnTo>
                  <a:pt x="590" y="796"/>
                </a:lnTo>
                <a:lnTo>
                  <a:pt x="582" y="799"/>
                </a:lnTo>
                <a:lnTo>
                  <a:pt x="574" y="801"/>
                </a:lnTo>
                <a:lnTo>
                  <a:pt x="566" y="802"/>
                </a:lnTo>
                <a:lnTo>
                  <a:pt x="558" y="805"/>
                </a:lnTo>
                <a:lnTo>
                  <a:pt x="551" y="808"/>
                </a:lnTo>
                <a:lnTo>
                  <a:pt x="545" y="811"/>
                </a:lnTo>
                <a:lnTo>
                  <a:pt x="540" y="812"/>
                </a:lnTo>
                <a:lnTo>
                  <a:pt x="535" y="812"/>
                </a:lnTo>
                <a:lnTo>
                  <a:pt x="529" y="812"/>
                </a:lnTo>
                <a:lnTo>
                  <a:pt x="519" y="812"/>
                </a:lnTo>
                <a:lnTo>
                  <a:pt x="508" y="815"/>
                </a:lnTo>
                <a:lnTo>
                  <a:pt x="499" y="812"/>
                </a:lnTo>
                <a:lnTo>
                  <a:pt x="489" y="812"/>
                </a:lnTo>
                <a:lnTo>
                  <a:pt x="484" y="811"/>
                </a:lnTo>
                <a:lnTo>
                  <a:pt x="481" y="811"/>
                </a:lnTo>
                <a:lnTo>
                  <a:pt x="477" y="808"/>
                </a:lnTo>
                <a:lnTo>
                  <a:pt x="474" y="803"/>
                </a:lnTo>
                <a:lnTo>
                  <a:pt x="463" y="869"/>
                </a:lnTo>
                <a:lnTo>
                  <a:pt x="451" y="934"/>
                </a:lnTo>
                <a:lnTo>
                  <a:pt x="439" y="999"/>
                </a:lnTo>
                <a:lnTo>
                  <a:pt x="426" y="1063"/>
                </a:lnTo>
                <a:lnTo>
                  <a:pt x="413" y="1127"/>
                </a:lnTo>
                <a:lnTo>
                  <a:pt x="399" y="1191"/>
                </a:lnTo>
                <a:lnTo>
                  <a:pt x="383" y="1255"/>
                </a:lnTo>
                <a:lnTo>
                  <a:pt x="364" y="1317"/>
                </a:lnTo>
                <a:lnTo>
                  <a:pt x="355" y="1356"/>
                </a:lnTo>
                <a:lnTo>
                  <a:pt x="345" y="1394"/>
                </a:lnTo>
                <a:lnTo>
                  <a:pt x="341" y="1413"/>
                </a:lnTo>
                <a:lnTo>
                  <a:pt x="333" y="1432"/>
                </a:lnTo>
                <a:lnTo>
                  <a:pt x="326" y="1449"/>
                </a:lnTo>
                <a:lnTo>
                  <a:pt x="319" y="1466"/>
                </a:lnTo>
                <a:lnTo>
                  <a:pt x="312" y="1463"/>
                </a:lnTo>
                <a:lnTo>
                  <a:pt x="306" y="1459"/>
                </a:lnTo>
                <a:lnTo>
                  <a:pt x="302" y="1455"/>
                </a:lnTo>
                <a:lnTo>
                  <a:pt x="297" y="1449"/>
                </a:lnTo>
                <a:lnTo>
                  <a:pt x="290" y="1437"/>
                </a:lnTo>
                <a:lnTo>
                  <a:pt x="284" y="1426"/>
                </a:lnTo>
                <a:lnTo>
                  <a:pt x="274" y="1398"/>
                </a:lnTo>
                <a:lnTo>
                  <a:pt x="264" y="1374"/>
                </a:lnTo>
                <a:lnTo>
                  <a:pt x="236" y="1323"/>
                </a:lnTo>
                <a:lnTo>
                  <a:pt x="212" y="1272"/>
                </a:lnTo>
                <a:lnTo>
                  <a:pt x="200" y="1246"/>
                </a:lnTo>
                <a:lnTo>
                  <a:pt x="190" y="1220"/>
                </a:lnTo>
                <a:lnTo>
                  <a:pt x="183" y="1192"/>
                </a:lnTo>
                <a:lnTo>
                  <a:pt x="175" y="1165"/>
                </a:lnTo>
                <a:lnTo>
                  <a:pt x="167" y="1228"/>
                </a:lnTo>
                <a:lnTo>
                  <a:pt x="158" y="1291"/>
                </a:lnTo>
                <a:lnTo>
                  <a:pt x="149" y="1355"/>
                </a:lnTo>
                <a:lnTo>
                  <a:pt x="141" y="1418"/>
                </a:lnTo>
                <a:lnTo>
                  <a:pt x="132" y="1481"/>
                </a:lnTo>
                <a:lnTo>
                  <a:pt x="123" y="1545"/>
                </a:lnTo>
                <a:lnTo>
                  <a:pt x="114" y="1607"/>
                </a:lnTo>
                <a:lnTo>
                  <a:pt x="104" y="1671"/>
                </a:lnTo>
                <a:lnTo>
                  <a:pt x="96" y="1703"/>
                </a:lnTo>
                <a:lnTo>
                  <a:pt x="88" y="1735"/>
                </a:lnTo>
                <a:lnTo>
                  <a:pt x="82" y="1768"/>
                </a:lnTo>
                <a:lnTo>
                  <a:pt x="77" y="1800"/>
                </a:lnTo>
                <a:lnTo>
                  <a:pt x="64" y="1855"/>
                </a:lnTo>
                <a:lnTo>
                  <a:pt x="52" y="1912"/>
                </a:lnTo>
                <a:lnTo>
                  <a:pt x="42" y="1968"/>
                </a:lnTo>
                <a:lnTo>
                  <a:pt x="33" y="2025"/>
                </a:lnTo>
                <a:lnTo>
                  <a:pt x="24" y="2081"/>
                </a:lnTo>
                <a:lnTo>
                  <a:pt x="16" y="2138"/>
                </a:lnTo>
                <a:lnTo>
                  <a:pt x="8" y="2196"/>
                </a:lnTo>
                <a:lnTo>
                  <a:pt x="0" y="2253"/>
                </a:lnTo>
                <a:lnTo>
                  <a:pt x="3" y="2267"/>
                </a:lnTo>
                <a:lnTo>
                  <a:pt x="1" y="2284"/>
                </a:lnTo>
                <a:lnTo>
                  <a:pt x="0" y="2302"/>
                </a:lnTo>
                <a:lnTo>
                  <a:pt x="0" y="2318"/>
                </a:lnTo>
                <a:lnTo>
                  <a:pt x="0" y="2325"/>
                </a:lnTo>
                <a:lnTo>
                  <a:pt x="1" y="2334"/>
                </a:lnTo>
                <a:lnTo>
                  <a:pt x="4" y="2340"/>
                </a:lnTo>
                <a:lnTo>
                  <a:pt x="7" y="2345"/>
                </a:lnTo>
                <a:lnTo>
                  <a:pt x="11" y="2351"/>
                </a:lnTo>
                <a:lnTo>
                  <a:pt x="19" y="2356"/>
                </a:lnTo>
                <a:lnTo>
                  <a:pt x="27" y="2358"/>
                </a:lnTo>
                <a:lnTo>
                  <a:pt x="37" y="2361"/>
                </a:lnTo>
                <a:lnTo>
                  <a:pt x="49" y="2358"/>
                </a:lnTo>
                <a:lnTo>
                  <a:pt x="59" y="2357"/>
                </a:lnTo>
                <a:lnTo>
                  <a:pt x="64" y="2357"/>
                </a:lnTo>
                <a:lnTo>
                  <a:pt x="68" y="2354"/>
                </a:lnTo>
                <a:lnTo>
                  <a:pt x="72" y="2351"/>
                </a:lnTo>
                <a:lnTo>
                  <a:pt x="77" y="2347"/>
                </a:lnTo>
                <a:lnTo>
                  <a:pt x="81" y="2338"/>
                </a:lnTo>
                <a:lnTo>
                  <a:pt x="87" y="2331"/>
                </a:lnTo>
                <a:lnTo>
                  <a:pt x="91" y="2329"/>
                </a:lnTo>
                <a:lnTo>
                  <a:pt x="96" y="2328"/>
                </a:lnTo>
                <a:lnTo>
                  <a:pt x="100" y="2327"/>
                </a:lnTo>
                <a:lnTo>
                  <a:pt x="104" y="2328"/>
                </a:lnTo>
                <a:lnTo>
                  <a:pt x="129" y="2337"/>
                </a:lnTo>
                <a:lnTo>
                  <a:pt x="152" y="2342"/>
                </a:lnTo>
                <a:lnTo>
                  <a:pt x="177" y="2348"/>
                </a:lnTo>
                <a:lnTo>
                  <a:pt x="201" y="2353"/>
                </a:lnTo>
                <a:lnTo>
                  <a:pt x="226" y="2356"/>
                </a:lnTo>
                <a:lnTo>
                  <a:pt x="252" y="2358"/>
                </a:lnTo>
                <a:lnTo>
                  <a:pt x="277" y="2358"/>
                </a:lnTo>
                <a:lnTo>
                  <a:pt x="303" y="2358"/>
                </a:lnTo>
                <a:lnTo>
                  <a:pt x="335" y="2361"/>
                </a:lnTo>
                <a:lnTo>
                  <a:pt x="367" y="2363"/>
                </a:lnTo>
                <a:lnTo>
                  <a:pt x="399" y="2363"/>
                </a:lnTo>
                <a:lnTo>
                  <a:pt x="432" y="2363"/>
                </a:lnTo>
                <a:lnTo>
                  <a:pt x="464" y="2361"/>
                </a:lnTo>
                <a:lnTo>
                  <a:pt x="496" y="2357"/>
                </a:lnTo>
                <a:lnTo>
                  <a:pt x="528" y="2351"/>
                </a:lnTo>
                <a:lnTo>
                  <a:pt x="557" y="2342"/>
                </a:lnTo>
                <a:lnTo>
                  <a:pt x="576" y="2344"/>
                </a:lnTo>
                <a:lnTo>
                  <a:pt x="596" y="2348"/>
                </a:lnTo>
                <a:lnTo>
                  <a:pt x="614" y="2353"/>
                </a:lnTo>
                <a:lnTo>
                  <a:pt x="632" y="2358"/>
                </a:lnTo>
                <a:lnTo>
                  <a:pt x="651" y="2363"/>
                </a:lnTo>
                <a:lnTo>
                  <a:pt x="670" y="2367"/>
                </a:lnTo>
                <a:lnTo>
                  <a:pt x="689" y="2371"/>
                </a:lnTo>
                <a:lnTo>
                  <a:pt x="708" y="2373"/>
                </a:lnTo>
                <a:lnTo>
                  <a:pt x="734" y="2370"/>
                </a:lnTo>
                <a:lnTo>
                  <a:pt x="762" y="2369"/>
                </a:lnTo>
                <a:lnTo>
                  <a:pt x="788" y="2364"/>
                </a:lnTo>
                <a:lnTo>
                  <a:pt x="815" y="2358"/>
                </a:lnTo>
                <a:lnTo>
                  <a:pt x="821" y="2351"/>
                </a:lnTo>
                <a:lnTo>
                  <a:pt x="824" y="2342"/>
                </a:lnTo>
                <a:lnTo>
                  <a:pt x="825" y="2338"/>
                </a:lnTo>
                <a:lnTo>
                  <a:pt x="828" y="2334"/>
                </a:lnTo>
                <a:lnTo>
                  <a:pt x="833" y="2331"/>
                </a:lnTo>
                <a:lnTo>
                  <a:pt x="838" y="2328"/>
                </a:lnTo>
                <a:lnTo>
                  <a:pt x="844" y="2329"/>
                </a:lnTo>
                <a:lnTo>
                  <a:pt x="849" y="2332"/>
                </a:lnTo>
                <a:lnTo>
                  <a:pt x="853" y="2337"/>
                </a:lnTo>
                <a:lnTo>
                  <a:pt x="857" y="2341"/>
                </a:lnTo>
                <a:lnTo>
                  <a:pt x="863" y="2351"/>
                </a:lnTo>
                <a:lnTo>
                  <a:pt x="867" y="2363"/>
                </a:lnTo>
                <a:lnTo>
                  <a:pt x="885" y="2366"/>
                </a:lnTo>
                <a:lnTo>
                  <a:pt x="902" y="2367"/>
                </a:lnTo>
                <a:lnTo>
                  <a:pt x="920" y="2366"/>
                </a:lnTo>
                <a:lnTo>
                  <a:pt x="939" y="2364"/>
                </a:lnTo>
                <a:lnTo>
                  <a:pt x="956" y="2363"/>
                </a:lnTo>
                <a:lnTo>
                  <a:pt x="975" y="2363"/>
                </a:lnTo>
                <a:lnTo>
                  <a:pt x="984" y="2363"/>
                </a:lnTo>
                <a:lnTo>
                  <a:pt x="992" y="2364"/>
                </a:lnTo>
                <a:lnTo>
                  <a:pt x="1001" y="2367"/>
                </a:lnTo>
                <a:lnTo>
                  <a:pt x="1010" y="2370"/>
                </a:lnTo>
                <a:lnTo>
                  <a:pt x="1024" y="2370"/>
                </a:lnTo>
                <a:lnTo>
                  <a:pt x="1039" y="2367"/>
                </a:lnTo>
                <a:lnTo>
                  <a:pt x="1053" y="2363"/>
                </a:lnTo>
                <a:lnTo>
                  <a:pt x="1066" y="2360"/>
                </a:lnTo>
                <a:lnTo>
                  <a:pt x="1084" y="2360"/>
                </a:lnTo>
                <a:lnTo>
                  <a:pt x="1103" y="2363"/>
                </a:lnTo>
                <a:lnTo>
                  <a:pt x="1111" y="2363"/>
                </a:lnTo>
                <a:lnTo>
                  <a:pt x="1120" y="2361"/>
                </a:lnTo>
                <a:lnTo>
                  <a:pt x="1127" y="2358"/>
                </a:lnTo>
                <a:lnTo>
                  <a:pt x="1134" y="2354"/>
                </a:lnTo>
                <a:lnTo>
                  <a:pt x="1130" y="2341"/>
                </a:lnTo>
                <a:lnTo>
                  <a:pt x="1124" y="2328"/>
                </a:lnTo>
                <a:lnTo>
                  <a:pt x="1124" y="2322"/>
                </a:lnTo>
                <a:lnTo>
                  <a:pt x="1126" y="2318"/>
                </a:lnTo>
                <a:lnTo>
                  <a:pt x="1127" y="2315"/>
                </a:lnTo>
                <a:lnTo>
                  <a:pt x="1130" y="2313"/>
                </a:lnTo>
                <a:lnTo>
                  <a:pt x="1134" y="2312"/>
                </a:lnTo>
                <a:lnTo>
                  <a:pt x="1140" y="2312"/>
                </a:lnTo>
                <a:lnTo>
                  <a:pt x="1146" y="2312"/>
                </a:lnTo>
                <a:lnTo>
                  <a:pt x="1152" y="2312"/>
                </a:lnTo>
                <a:lnTo>
                  <a:pt x="1156" y="2313"/>
                </a:lnTo>
                <a:lnTo>
                  <a:pt x="1161" y="2316"/>
                </a:lnTo>
                <a:lnTo>
                  <a:pt x="1169" y="2322"/>
                </a:lnTo>
                <a:lnTo>
                  <a:pt x="1178" y="2331"/>
                </a:lnTo>
                <a:lnTo>
                  <a:pt x="1185" y="2338"/>
                </a:lnTo>
                <a:lnTo>
                  <a:pt x="1194" y="2345"/>
                </a:lnTo>
                <a:lnTo>
                  <a:pt x="1198" y="2348"/>
                </a:lnTo>
                <a:lnTo>
                  <a:pt x="1204" y="2350"/>
                </a:lnTo>
                <a:lnTo>
                  <a:pt x="1208" y="2351"/>
                </a:lnTo>
                <a:lnTo>
                  <a:pt x="1216" y="2351"/>
                </a:lnTo>
                <a:lnTo>
                  <a:pt x="1229" y="2353"/>
                </a:lnTo>
                <a:lnTo>
                  <a:pt x="1240" y="2353"/>
                </a:lnTo>
                <a:lnTo>
                  <a:pt x="1253" y="2353"/>
                </a:lnTo>
                <a:lnTo>
                  <a:pt x="1265" y="2350"/>
                </a:lnTo>
                <a:lnTo>
                  <a:pt x="1277" y="2347"/>
                </a:lnTo>
                <a:lnTo>
                  <a:pt x="1287" y="2342"/>
                </a:lnTo>
                <a:lnTo>
                  <a:pt x="1297" y="2337"/>
                </a:lnTo>
                <a:lnTo>
                  <a:pt x="1307" y="2328"/>
                </a:lnTo>
                <a:lnTo>
                  <a:pt x="1313" y="2322"/>
                </a:lnTo>
                <a:lnTo>
                  <a:pt x="1314" y="2315"/>
                </a:lnTo>
                <a:lnTo>
                  <a:pt x="1316" y="2306"/>
                </a:lnTo>
                <a:lnTo>
                  <a:pt x="1316" y="2299"/>
                </a:lnTo>
                <a:lnTo>
                  <a:pt x="1311" y="2283"/>
                </a:lnTo>
                <a:lnTo>
                  <a:pt x="1307" y="2267"/>
                </a:lnTo>
                <a:lnTo>
                  <a:pt x="1296" y="2237"/>
                </a:lnTo>
                <a:lnTo>
                  <a:pt x="1281" y="2206"/>
                </a:lnTo>
                <a:lnTo>
                  <a:pt x="1275" y="2192"/>
                </a:lnTo>
                <a:lnTo>
                  <a:pt x="1269" y="2176"/>
                </a:lnTo>
                <a:lnTo>
                  <a:pt x="1265" y="2161"/>
                </a:lnTo>
                <a:lnTo>
                  <a:pt x="1262" y="2144"/>
                </a:lnTo>
                <a:close/>
              </a:path>
            </a:pathLst>
          </a:custGeom>
          <a:solidFill>
            <a:srgbClr val="303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8280" y="2070000"/>
            <a:ext cx="482760" cy="420840"/>
          </a:xfrm>
          <a:custGeom>
            <a:avLst/>
            <a:gdLst/>
            <a:ahLst/>
            <a:rect l="l" t="t" r="r" b="b"/>
            <a:pathLst>
              <a:path w="304" h="265">
                <a:moveTo>
                  <a:pt x="244" y="154"/>
                </a:moveTo>
                <a:lnTo>
                  <a:pt x="227" y="152"/>
                </a:lnTo>
                <a:lnTo>
                  <a:pt x="208" y="152"/>
                </a:lnTo>
                <a:lnTo>
                  <a:pt x="200" y="151"/>
                </a:lnTo>
                <a:lnTo>
                  <a:pt x="193" y="146"/>
                </a:lnTo>
                <a:lnTo>
                  <a:pt x="190" y="145"/>
                </a:lnTo>
                <a:lnTo>
                  <a:pt x="187" y="142"/>
                </a:lnTo>
                <a:lnTo>
                  <a:pt x="186" y="138"/>
                </a:lnTo>
                <a:lnTo>
                  <a:pt x="185" y="133"/>
                </a:lnTo>
                <a:lnTo>
                  <a:pt x="186" y="112"/>
                </a:lnTo>
                <a:lnTo>
                  <a:pt x="185" y="91"/>
                </a:lnTo>
                <a:lnTo>
                  <a:pt x="185" y="81"/>
                </a:lnTo>
                <a:lnTo>
                  <a:pt x="187" y="72"/>
                </a:lnTo>
                <a:lnTo>
                  <a:pt x="192" y="64"/>
                </a:lnTo>
                <a:lnTo>
                  <a:pt x="199" y="56"/>
                </a:lnTo>
                <a:lnTo>
                  <a:pt x="196" y="48"/>
                </a:lnTo>
                <a:lnTo>
                  <a:pt x="190" y="39"/>
                </a:lnTo>
                <a:lnTo>
                  <a:pt x="185" y="33"/>
                </a:lnTo>
                <a:lnTo>
                  <a:pt x="176" y="26"/>
                </a:lnTo>
                <a:lnTo>
                  <a:pt x="160" y="14"/>
                </a:lnTo>
                <a:lnTo>
                  <a:pt x="145" y="3"/>
                </a:lnTo>
                <a:lnTo>
                  <a:pt x="122" y="0"/>
                </a:lnTo>
                <a:lnTo>
                  <a:pt x="100" y="0"/>
                </a:lnTo>
                <a:lnTo>
                  <a:pt x="90" y="0"/>
                </a:lnTo>
                <a:lnTo>
                  <a:pt x="80" y="1"/>
                </a:lnTo>
                <a:lnTo>
                  <a:pt x="70" y="4"/>
                </a:lnTo>
                <a:lnTo>
                  <a:pt x="60" y="7"/>
                </a:lnTo>
                <a:lnTo>
                  <a:pt x="39" y="16"/>
                </a:lnTo>
                <a:lnTo>
                  <a:pt x="21" y="26"/>
                </a:lnTo>
                <a:lnTo>
                  <a:pt x="13" y="33"/>
                </a:lnTo>
                <a:lnTo>
                  <a:pt x="8" y="42"/>
                </a:lnTo>
                <a:lnTo>
                  <a:pt x="5" y="46"/>
                </a:lnTo>
                <a:lnTo>
                  <a:pt x="3" y="51"/>
                </a:lnTo>
                <a:lnTo>
                  <a:pt x="2" y="56"/>
                </a:lnTo>
                <a:lnTo>
                  <a:pt x="2" y="62"/>
                </a:lnTo>
                <a:lnTo>
                  <a:pt x="0" y="70"/>
                </a:lnTo>
                <a:lnTo>
                  <a:pt x="0" y="78"/>
                </a:lnTo>
                <a:lnTo>
                  <a:pt x="0" y="85"/>
                </a:lnTo>
                <a:lnTo>
                  <a:pt x="2" y="93"/>
                </a:lnTo>
                <a:lnTo>
                  <a:pt x="5" y="107"/>
                </a:lnTo>
                <a:lnTo>
                  <a:pt x="10" y="122"/>
                </a:lnTo>
                <a:lnTo>
                  <a:pt x="15" y="136"/>
                </a:lnTo>
                <a:lnTo>
                  <a:pt x="21" y="151"/>
                </a:lnTo>
                <a:lnTo>
                  <a:pt x="23" y="165"/>
                </a:lnTo>
                <a:lnTo>
                  <a:pt x="25" y="180"/>
                </a:lnTo>
                <a:lnTo>
                  <a:pt x="29" y="190"/>
                </a:lnTo>
                <a:lnTo>
                  <a:pt x="35" y="197"/>
                </a:lnTo>
                <a:lnTo>
                  <a:pt x="42" y="204"/>
                </a:lnTo>
                <a:lnTo>
                  <a:pt x="51" y="212"/>
                </a:lnTo>
                <a:lnTo>
                  <a:pt x="67" y="213"/>
                </a:lnTo>
                <a:lnTo>
                  <a:pt x="84" y="215"/>
                </a:lnTo>
                <a:lnTo>
                  <a:pt x="93" y="215"/>
                </a:lnTo>
                <a:lnTo>
                  <a:pt x="102" y="213"/>
                </a:lnTo>
                <a:lnTo>
                  <a:pt x="109" y="212"/>
                </a:lnTo>
                <a:lnTo>
                  <a:pt x="116" y="209"/>
                </a:lnTo>
                <a:lnTo>
                  <a:pt x="115" y="202"/>
                </a:lnTo>
                <a:lnTo>
                  <a:pt x="115" y="193"/>
                </a:lnTo>
                <a:lnTo>
                  <a:pt x="118" y="184"/>
                </a:lnTo>
                <a:lnTo>
                  <a:pt x="121" y="175"/>
                </a:lnTo>
                <a:lnTo>
                  <a:pt x="115" y="168"/>
                </a:lnTo>
                <a:lnTo>
                  <a:pt x="111" y="161"/>
                </a:lnTo>
                <a:lnTo>
                  <a:pt x="108" y="152"/>
                </a:lnTo>
                <a:lnTo>
                  <a:pt x="106" y="144"/>
                </a:lnTo>
                <a:lnTo>
                  <a:pt x="106" y="135"/>
                </a:lnTo>
                <a:lnTo>
                  <a:pt x="108" y="126"/>
                </a:lnTo>
                <a:lnTo>
                  <a:pt x="109" y="116"/>
                </a:lnTo>
                <a:lnTo>
                  <a:pt x="112" y="107"/>
                </a:lnTo>
                <a:lnTo>
                  <a:pt x="95" y="104"/>
                </a:lnTo>
                <a:lnTo>
                  <a:pt x="77" y="99"/>
                </a:lnTo>
                <a:lnTo>
                  <a:pt x="68" y="96"/>
                </a:lnTo>
                <a:lnTo>
                  <a:pt x="60" y="91"/>
                </a:lnTo>
                <a:lnTo>
                  <a:pt x="52" y="85"/>
                </a:lnTo>
                <a:lnTo>
                  <a:pt x="45" y="80"/>
                </a:lnTo>
                <a:lnTo>
                  <a:pt x="41" y="75"/>
                </a:lnTo>
                <a:lnTo>
                  <a:pt x="38" y="70"/>
                </a:lnTo>
                <a:lnTo>
                  <a:pt x="37" y="65"/>
                </a:lnTo>
                <a:lnTo>
                  <a:pt x="35" y="59"/>
                </a:lnTo>
                <a:lnTo>
                  <a:pt x="39" y="55"/>
                </a:lnTo>
                <a:lnTo>
                  <a:pt x="45" y="52"/>
                </a:lnTo>
                <a:lnTo>
                  <a:pt x="50" y="51"/>
                </a:lnTo>
                <a:lnTo>
                  <a:pt x="55" y="49"/>
                </a:lnTo>
                <a:lnTo>
                  <a:pt x="68" y="48"/>
                </a:lnTo>
                <a:lnTo>
                  <a:pt x="80" y="48"/>
                </a:lnTo>
                <a:lnTo>
                  <a:pt x="84" y="45"/>
                </a:lnTo>
                <a:lnTo>
                  <a:pt x="89" y="43"/>
                </a:lnTo>
                <a:lnTo>
                  <a:pt x="92" y="43"/>
                </a:lnTo>
                <a:lnTo>
                  <a:pt x="96" y="45"/>
                </a:lnTo>
                <a:lnTo>
                  <a:pt x="103" y="46"/>
                </a:lnTo>
                <a:lnTo>
                  <a:pt x="109" y="51"/>
                </a:lnTo>
                <a:lnTo>
                  <a:pt x="116" y="55"/>
                </a:lnTo>
                <a:lnTo>
                  <a:pt x="124" y="59"/>
                </a:lnTo>
                <a:lnTo>
                  <a:pt x="126" y="59"/>
                </a:lnTo>
                <a:lnTo>
                  <a:pt x="131" y="61"/>
                </a:lnTo>
                <a:lnTo>
                  <a:pt x="135" y="59"/>
                </a:lnTo>
                <a:lnTo>
                  <a:pt x="138" y="58"/>
                </a:lnTo>
                <a:lnTo>
                  <a:pt x="145" y="59"/>
                </a:lnTo>
                <a:lnTo>
                  <a:pt x="151" y="64"/>
                </a:lnTo>
                <a:lnTo>
                  <a:pt x="156" y="68"/>
                </a:lnTo>
                <a:lnTo>
                  <a:pt x="160" y="74"/>
                </a:lnTo>
                <a:lnTo>
                  <a:pt x="166" y="85"/>
                </a:lnTo>
                <a:lnTo>
                  <a:pt x="170" y="99"/>
                </a:lnTo>
                <a:lnTo>
                  <a:pt x="166" y="122"/>
                </a:lnTo>
                <a:lnTo>
                  <a:pt x="161" y="145"/>
                </a:lnTo>
                <a:lnTo>
                  <a:pt x="157" y="157"/>
                </a:lnTo>
                <a:lnTo>
                  <a:pt x="151" y="165"/>
                </a:lnTo>
                <a:lnTo>
                  <a:pt x="147" y="170"/>
                </a:lnTo>
                <a:lnTo>
                  <a:pt x="142" y="173"/>
                </a:lnTo>
                <a:lnTo>
                  <a:pt x="137" y="175"/>
                </a:lnTo>
                <a:lnTo>
                  <a:pt x="131" y="178"/>
                </a:lnTo>
                <a:lnTo>
                  <a:pt x="128" y="184"/>
                </a:lnTo>
                <a:lnTo>
                  <a:pt x="125" y="191"/>
                </a:lnTo>
                <a:lnTo>
                  <a:pt x="124" y="196"/>
                </a:lnTo>
                <a:lnTo>
                  <a:pt x="124" y="199"/>
                </a:lnTo>
                <a:lnTo>
                  <a:pt x="125" y="203"/>
                </a:lnTo>
                <a:lnTo>
                  <a:pt x="128" y="206"/>
                </a:lnTo>
                <a:lnTo>
                  <a:pt x="134" y="209"/>
                </a:lnTo>
                <a:lnTo>
                  <a:pt x="141" y="210"/>
                </a:lnTo>
                <a:lnTo>
                  <a:pt x="150" y="210"/>
                </a:lnTo>
                <a:lnTo>
                  <a:pt x="158" y="210"/>
                </a:lnTo>
                <a:lnTo>
                  <a:pt x="166" y="210"/>
                </a:lnTo>
                <a:lnTo>
                  <a:pt x="173" y="212"/>
                </a:lnTo>
                <a:lnTo>
                  <a:pt x="176" y="215"/>
                </a:lnTo>
                <a:lnTo>
                  <a:pt x="177" y="218"/>
                </a:lnTo>
                <a:lnTo>
                  <a:pt x="179" y="222"/>
                </a:lnTo>
                <a:lnTo>
                  <a:pt x="180" y="226"/>
                </a:lnTo>
                <a:lnTo>
                  <a:pt x="205" y="244"/>
                </a:lnTo>
                <a:lnTo>
                  <a:pt x="231" y="258"/>
                </a:lnTo>
                <a:lnTo>
                  <a:pt x="238" y="261"/>
                </a:lnTo>
                <a:lnTo>
                  <a:pt x="245" y="264"/>
                </a:lnTo>
                <a:lnTo>
                  <a:pt x="251" y="265"/>
                </a:lnTo>
                <a:lnTo>
                  <a:pt x="259" y="265"/>
                </a:lnTo>
                <a:lnTo>
                  <a:pt x="266" y="265"/>
                </a:lnTo>
                <a:lnTo>
                  <a:pt x="273" y="264"/>
                </a:lnTo>
                <a:lnTo>
                  <a:pt x="280" y="261"/>
                </a:lnTo>
                <a:lnTo>
                  <a:pt x="288" y="257"/>
                </a:lnTo>
                <a:lnTo>
                  <a:pt x="292" y="252"/>
                </a:lnTo>
                <a:lnTo>
                  <a:pt x="296" y="249"/>
                </a:lnTo>
                <a:lnTo>
                  <a:pt x="299" y="244"/>
                </a:lnTo>
                <a:lnTo>
                  <a:pt x="302" y="239"/>
                </a:lnTo>
                <a:lnTo>
                  <a:pt x="302" y="233"/>
                </a:lnTo>
                <a:lnTo>
                  <a:pt x="304" y="228"/>
                </a:lnTo>
                <a:lnTo>
                  <a:pt x="304" y="223"/>
                </a:lnTo>
                <a:lnTo>
                  <a:pt x="302" y="218"/>
                </a:lnTo>
                <a:lnTo>
                  <a:pt x="296" y="207"/>
                </a:lnTo>
                <a:lnTo>
                  <a:pt x="292" y="199"/>
                </a:lnTo>
                <a:lnTo>
                  <a:pt x="285" y="188"/>
                </a:lnTo>
                <a:lnTo>
                  <a:pt x="279" y="180"/>
                </a:lnTo>
                <a:lnTo>
                  <a:pt x="270" y="173"/>
                </a:lnTo>
                <a:lnTo>
                  <a:pt x="261" y="165"/>
                </a:lnTo>
                <a:lnTo>
                  <a:pt x="253" y="159"/>
                </a:lnTo>
                <a:lnTo>
                  <a:pt x="244" y="154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44640" y="2147760"/>
            <a:ext cx="71640" cy="79560"/>
          </a:xfrm>
          <a:custGeom>
            <a:avLst/>
            <a:gdLst/>
            <a:ahLst/>
            <a:rect l="l" t="t" r="r" b="b"/>
            <a:pathLst>
              <a:path w="45" h="50">
                <a:moveTo>
                  <a:pt x="45" y="2"/>
                </a:moveTo>
                <a:lnTo>
                  <a:pt x="42" y="0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1" y="6"/>
                </a:lnTo>
                <a:lnTo>
                  <a:pt x="28" y="6"/>
                </a:lnTo>
                <a:lnTo>
                  <a:pt x="26" y="5"/>
                </a:lnTo>
                <a:lnTo>
                  <a:pt x="23" y="2"/>
                </a:lnTo>
                <a:lnTo>
                  <a:pt x="15" y="9"/>
                </a:lnTo>
                <a:lnTo>
                  <a:pt x="7" y="18"/>
                </a:lnTo>
                <a:lnTo>
                  <a:pt x="5" y="23"/>
                </a:lnTo>
                <a:lnTo>
                  <a:pt x="2" y="29"/>
                </a:lnTo>
                <a:lnTo>
                  <a:pt x="0" y="35"/>
                </a:lnTo>
                <a:lnTo>
                  <a:pt x="0" y="41"/>
                </a:lnTo>
                <a:lnTo>
                  <a:pt x="3" y="47"/>
                </a:lnTo>
                <a:lnTo>
                  <a:pt x="6" y="50"/>
                </a:lnTo>
                <a:lnTo>
                  <a:pt x="9" y="50"/>
                </a:lnTo>
                <a:lnTo>
                  <a:pt x="12" y="48"/>
                </a:lnTo>
                <a:lnTo>
                  <a:pt x="16" y="45"/>
                </a:lnTo>
                <a:lnTo>
                  <a:pt x="21" y="42"/>
                </a:lnTo>
                <a:lnTo>
                  <a:pt x="25" y="41"/>
                </a:lnTo>
                <a:lnTo>
                  <a:pt x="29" y="41"/>
                </a:lnTo>
                <a:lnTo>
                  <a:pt x="34" y="38"/>
                </a:lnTo>
                <a:lnTo>
                  <a:pt x="37" y="34"/>
                </a:lnTo>
                <a:lnTo>
                  <a:pt x="38" y="28"/>
                </a:lnTo>
                <a:lnTo>
                  <a:pt x="39" y="23"/>
                </a:lnTo>
                <a:lnTo>
                  <a:pt x="42" y="12"/>
                </a:lnTo>
                <a:lnTo>
                  <a:pt x="4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0080" y="2158920"/>
            <a:ext cx="1163880" cy="3738600"/>
          </a:xfrm>
          <a:custGeom>
            <a:avLst/>
            <a:gdLst/>
            <a:ahLst/>
            <a:rect l="l" t="t" r="r" b="b"/>
            <a:pathLst>
              <a:path w="733" h="2355">
                <a:moveTo>
                  <a:pt x="717" y="198"/>
                </a:moveTo>
                <a:lnTo>
                  <a:pt x="705" y="191"/>
                </a:lnTo>
                <a:lnTo>
                  <a:pt x="694" y="183"/>
                </a:lnTo>
                <a:lnTo>
                  <a:pt x="682" y="173"/>
                </a:lnTo>
                <a:lnTo>
                  <a:pt x="672" y="163"/>
                </a:lnTo>
                <a:lnTo>
                  <a:pt x="654" y="164"/>
                </a:lnTo>
                <a:lnTo>
                  <a:pt x="637" y="163"/>
                </a:lnTo>
                <a:lnTo>
                  <a:pt x="630" y="163"/>
                </a:lnTo>
                <a:lnTo>
                  <a:pt x="621" y="163"/>
                </a:lnTo>
                <a:lnTo>
                  <a:pt x="614" y="164"/>
                </a:lnTo>
                <a:lnTo>
                  <a:pt x="605" y="167"/>
                </a:lnTo>
                <a:lnTo>
                  <a:pt x="583" y="167"/>
                </a:lnTo>
                <a:lnTo>
                  <a:pt x="563" y="164"/>
                </a:lnTo>
                <a:lnTo>
                  <a:pt x="553" y="162"/>
                </a:lnTo>
                <a:lnTo>
                  <a:pt x="546" y="156"/>
                </a:lnTo>
                <a:lnTo>
                  <a:pt x="538" y="148"/>
                </a:lnTo>
                <a:lnTo>
                  <a:pt x="532" y="140"/>
                </a:lnTo>
                <a:lnTo>
                  <a:pt x="522" y="115"/>
                </a:lnTo>
                <a:lnTo>
                  <a:pt x="517" y="88"/>
                </a:lnTo>
                <a:lnTo>
                  <a:pt x="511" y="60"/>
                </a:lnTo>
                <a:lnTo>
                  <a:pt x="501" y="34"/>
                </a:lnTo>
                <a:lnTo>
                  <a:pt x="501" y="0"/>
                </a:lnTo>
                <a:lnTo>
                  <a:pt x="493" y="12"/>
                </a:lnTo>
                <a:lnTo>
                  <a:pt x="485" y="25"/>
                </a:lnTo>
                <a:lnTo>
                  <a:pt x="476" y="37"/>
                </a:lnTo>
                <a:lnTo>
                  <a:pt x="467" y="50"/>
                </a:lnTo>
                <a:lnTo>
                  <a:pt x="473" y="51"/>
                </a:lnTo>
                <a:lnTo>
                  <a:pt x="479" y="54"/>
                </a:lnTo>
                <a:lnTo>
                  <a:pt x="485" y="57"/>
                </a:lnTo>
                <a:lnTo>
                  <a:pt x="490" y="61"/>
                </a:lnTo>
                <a:lnTo>
                  <a:pt x="499" y="70"/>
                </a:lnTo>
                <a:lnTo>
                  <a:pt x="506" y="80"/>
                </a:lnTo>
                <a:lnTo>
                  <a:pt x="512" y="92"/>
                </a:lnTo>
                <a:lnTo>
                  <a:pt x="517" y="103"/>
                </a:lnTo>
                <a:lnTo>
                  <a:pt x="519" y="115"/>
                </a:lnTo>
                <a:lnTo>
                  <a:pt x="522" y="128"/>
                </a:lnTo>
                <a:lnTo>
                  <a:pt x="522" y="140"/>
                </a:lnTo>
                <a:lnTo>
                  <a:pt x="519" y="151"/>
                </a:lnTo>
                <a:lnTo>
                  <a:pt x="517" y="163"/>
                </a:lnTo>
                <a:lnTo>
                  <a:pt x="511" y="172"/>
                </a:lnTo>
                <a:lnTo>
                  <a:pt x="502" y="180"/>
                </a:lnTo>
                <a:lnTo>
                  <a:pt x="492" y="186"/>
                </a:lnTo>
                <a:lnTo>
                  <a:pt x="487" y="188"/>
                </a:lnTo>
                <a:lnTo>
                  <a:pt x="482" y="188"/>
                </a:lnTo>
                <a:lnTo>
                  <a:pt x="476" y="188"/>
                </a:lnTo>
                <a:lnTo>
                  <a:pt x="470" y="186"/>
                </a:lnTo>
                <a:lnTo>
                  <a:pt x="458" y="172"/>
                </a:lnTo>
                <a:lnTo>
                  <a:pt x="447" y="157"/>
                </a:lnTo>
                <a:lnTo>
                  <a:pt x="432" y="143"/>
                </a:lnTo>
                <a:lnTo>
                  <a:pt x="416" y="130"/>
                </a:lnTo>
                <a:lnTo>
                  <a:pt x="408" y="146"/>
                </a:lnTo>
                <a:lnTo>
                  <a:pt x="399" y="162"/>
                </a:lnTo>
                <a:lnTo>
                  <a:pt x="392" y="179"/>
                </a:lnTo>
                <a:lnTo>
                  <a:pt x="387" y="196"/>
                </a:lnTo>
                <a:lnTo>
                  <a:pt x="383" y="198"/>
                </a:lnTo>
                <a:lnTo>
                  <a:pt x="380" y="199"/>
                </a:lnTo>
                <a:lnTo>
                  <a:pt x="386" y="204"/>
                </a:lnTo>
                <a:lnTo>
                  <a:pt x="393" y="208"/>
                </a:lnTo>
                <a:lnTo>
                  <a:pt x="396" y="209"/>
                </a:lnTo>
                <a:lnTo>
                  <a:pt x="398" y="212"/>
                </a:lnTo>
                <a:lnTo>
                  <a:pt x="398" y="217"/>
                </a:lnTo>
                <a:lnTo>
                  <a:pt x="395" y="221"/>
                </a:lnTo>
                <a:lnTo>
                  <a:pt x="392" y="224"/>
                </a:lnTo>
                <a:lnTo>
                  <a:pt x="398" y="225"/>
                </a:lnTo>
                <a:lnTo>
                  <a:pt x="400" y="228"/>
                </a:lnTo>
                <a:lnTo>
                  <a:pt x="403" y="233"/>
                </a:lnTo>
                <a:lnTo>
                  <a:pt x="405" y="237"/>
                </a:lnTo>
                <a:lnTo>
                  <a:pt x="405" y="247"/>
                </a:lnTo>
                <a:lnTo>
                  <a:pt x="402" y="257"/>
                </a:lnTo>
                <a:lnTo>
                  <a:pt x="392" y="269"/>
                </a:lnTo>
                <a:lnTo>
                  <a:pt x="383" y="282"/>
                </a:lnTo>
                <a:lnTo>
                  <a:pt x="376" y="296"/>
                </a:lnTo>
                <a:lnTo>
                  <a:pt x="369" y="309"/>
                </a:lnTo>
                <a:lnTo>
                  <a:pt x="354" y="337"/>
                </a:lnTo>
                <a:lnTo>
                  <a:pt x="338" y="365"/>
                </a:lnTo>
                <a:lnTo>
                  <a:pt x="329" y="385"/>
                </a:lnTo>
                <a:lnTo>
                  <a:pt x="321" y="405"/>
                </a:lnTo>
                <a:lnTo>
                  <a:pt x="318" y="415"/>
                </a:lnTo>
                <a:lnTo>
                  <a:pt x="313" y="426"/>
                </a:lnTo>
                <a:lnTo>
                  <a:pt x="312" y="436"/>
                </a:lnTo>
                <a:lnTo>
                  <a:pt x="310" y="447"/>
                </a:lnTo>
                <a:lnTo>
                  <a:pt x="316" y="446"/>
                </a:lnTo>
                <a:lnTo>
                  <a:pt x="322" y="441"/>
                </a:lnTo>
                <a:lnTo>
                  <a:pt x="325" y="439"/>
                </a:lnTo>
                <a:lnTo>
                  <a:pt x="326" y="439"/>
                </a:lnTo>
                <a:lnTo>
                  <a:pt x="329" y="439"/>
                </a:lnTo>
                <a:lnTo>
                  <a:pt x="332" y="441"/>
                </a:lnTo>
                <a:lnTo>
                  <a:pt x="328" y="450"/>
                </a:lnTo>
                <a:lnTo>
                  <a:pt x="324" y="462"/>
                </a:lnTo>
                <a:lnTo>
                  <a:pt x="321" y="472"/>
                </a:lnTo>
                <a:lnTo>
                  <a:pt x="319" y="484"/>
                </a:lnTo>
                <a:lnTo>
                  <a:pt x="318" y="505"/>
                </a:lnTo>
                <a:lnTo>
                  <a:pt x="321" y="528"/>
                </a:lnTo>
                <a:lnTo>
                  <a:pt x="331" y="543"/>
                </a:lnTo>
                <a:lnTo>
                  <a:pt x="338" y="558"/>
                </a:lnTo>
                <a:lnTo>
                  <a:pt x="344" y="575"/>
                </a:lnTo>
                <a:lnTo>
                  <a:pt x="348" y="592"/>
                </a:lnTo>
                <a:lnTo>
                  <a:pt x="350" y="610"/>
                </a:lnTo>
                <a:lnTo>
                  <a:pt x="348" y="627"/>
                </a:lnTo>
                <a:lnTo>
                  <a:pt x="345" y="643"/>
                </a:lnTo>
                <a:lnTo>
                  <a:pt x="338" y="660"/>
                </a:lnTo>
                <a:lnTo>
                  <a:pt x="344" y="663"/>
                </a:lnTo>
                <a:lnTo>
                  <a:pt x="348" y="669"/>
                </a:lnTo>
                <a:lnTo>
                  <a:pt x="350" y="675"/>
                </a:lnTo>
                <a:lnTo>
                  <a:pt x="350" y="682"/>
                </a:lnTo>
                <a:lnTo>
                  <a:pt x="347" y="685"/>
                </a:lnTo>
                <a:lnTo>
                  <a:pt x="345" y="691"/>
                </a:lnTo>
                <a:lnTo>
                  <a:pt x="350" y="690"/>
                </a:lnTo>
                <a:lnTo>
                  <a:pt x="355" y="691"/>
                </a:lnTo>
                <a:lnTo>
                  <a:pt x="357" y="692"/>
                </a:lnTo>
                <a:lnTo>
                  <a:pt x="358" y="695"/>
                </a:lnTo>
                <a:lnTo>
                  <a:pt x="358" y="697"/>
                </a:lnTo>
                <a:lnTo>
                  <a:pt x="358" y="700"/>
                </a:lnTo>
                <a:lnTo>
                  <a:pt x="360" y="708"/>
                </a:lnTo>
                <a:lnTo>
                  <a:pt x="360" y="717"/>
                </a:lnTo>
                <a:lnTo>
                  <a:pt x="358" y="726"/>
                </a:lnTo>
                <a:lnTo>
                  <a:pt x="355" y="733"/>
                </a:lnTo>
                <a:lnTo>
                  <a:pt x="348" y="748"/>
                </a:lnTo>
                <a:lnTo>
                  <a:pt x="338" y="761"/>
                </a:lnTo>
                <a:lnTo>
                  <a:pt x="328" y="775"/>
                </a:lnTo>
                <a:lnTo>
                  <a:pt x="319" y="790"/>
                </a:lnTo>
                <a:lnTo>
                  <a:pt x="316" y="797"/>
                </a:lnTo>
                <a:lnTo>
                  <a:pt x="313" y="806"/>
                </a:lnTo>
                <a:lnTo>
                  <a:pt x="312" y="814"/>
                </a:lnTo>
                <a:lnTo>
                  <a:pt x="313" y="823"/>
                </a:lnTo>
                <a:lnTo>
                  <a:pt x="310" y="849"/>
                </a:lnTo>
                <a:lnTo>
                  <a:pt x="310" y="878"/>
                </a:lnTo>
                <a:lnTo>
                  <a:pt x="309" y="906"/>
                </a:lnTo>
                <a:lnTo>
                  <a:pt x="308" y="933"/>
                </a:lnTo>
                <a:lnTo>
                  <a:pt x="312" y="916"/>
                </a:lnTo>
                <a:lnTo>
                  <a:pt x="313" y="897"/>
                </a:lnTo>
                <a:lnTo>
                  <a:pt x="316" y="888"/>
                </a:lnTo>
                <a:lnTo>
                  <a:pt x="318" y="880"/>
                </a:lnTo>
                <a:lnTo>
                  <a:pt x="322" y="871"/>
                </a:lnTo>
                <a:lnTo>
                  <a:pt x="326" y="862"/>
                </a:lnTo>
                <a:lnTo>
                  <a:pt x="332" y="871"/>
                </a:lnTo>
                <a:lnTo>
                  <a:pt x="335" y="900"/>
                </a:lnTo>
                <a:lnTo>
                  <a:pt x="335" y="929"/>
                </a:lnTo>
                <a:lnTo>
                  <a:pt x="335" y="958"/>
                </a:lnTo>
                <a:lnTo>
                  <a:pt x="332" y="985"/>
                </a:lnTo>
                <a:lnTo>
                  <a:pt x="322" y="1004"/>
                </a:lnTo>
                <a:lnTo>
                  <a:pt x="312" y="1023"/>
                </a:lnTo>
                <a:lnTo>
                  <a:pt x="308" y="1032"/>
                </a:lnTo>
                <a:lnTo>
                  <a:pt x="306" y="1042"/>
                </a:lnTo>
                <a:lnTo>
                  <a:pt x="308" y="1052"/>
                </a:lnTo>
                <a:lnTo>
                  <a:pt x="310" y="1064"/>
                </a:lnTo>
                <a:lnTo>
                  <a:pt x="306" y="1074"/>
                </a:lnTo>
                <a:lnTo>
                  <a:pt x="305" y="1084"/>
                </a:lnTo>
                <a:lnTo>
                  <a:pt x="303" y="1096"/>
                </a:lnTo>
                <a:lnTo>
                  <a:pt x="303" y="1107"/>
                </a:lnTo>
                <a:lnTo>
                  <a:pt x="302" y="1119"/>
                </a:lnTo>
                <a:lnTo>
                  <a:pt x="299" y="1129"/>
                </a:lnTo>
                <a:lnTo>
                  <a:pt x="297" y="1135"/>
                </a:lnTo>
                <a:lnTo>
                  <a:pt x="293" y="1139"/>
                </a:lnTo>
                <a:lnTo>
                  <a:pt x="290" y="1144"/>
                </a:lnTo>
                <a:lnTo>
                  <a:pt x="284" y="1146"/>
                </a:lnTo>
                <a:lnTo>
                  <a:pt x="279" y="1148"/>
                </a:lnTo>
                <a:lnTo>
                  <a:pt x="273" y="1151"/>
                </a:lnTo>
                <a:lnTo>
                  <a:pt x="268" y="1154"/>
                </a:lnTo>
                <a:lnTo>
                  <a:pt x="265" y="1159"/>
                </a:lnTo>
                <a:lnTo>
                  <a:pt x="260" y="1170"/>
                </a:lnTo>
                <a:lnTo>
                  <a:pt x="254" y="1180"/>
                </a:lnTo>
                <a:lnTo>
                  <a:pt x="270" y="1174"/>
                </a:lnTo>
                <a:lnTo>
                  <a:pt x="286" y="1170"/>
                </a:lnTo>
                <a:lnTo>
                  <a:pt x="289" y="1178"/>
                </a:lnTo>
                <a:lnTo>
                  <a:pt x="290" y="1187"/>
                </a:lnTo>
                <a:lnTo>
                  <a:pt x="290" y="1196"/>
                </a:lnTo>
                <a:lnTo>
                  <a:pt x="290" y="1204"/>
                </a:lnTo>
                <a:lnTo>
                  <a:pt x="286" y="1220"/>
                </a:lnTo>
                <a:lnTo>
                  <a:pt x="279" y="1236"/>
                </a:lnTo>
                <a:lnTo>
                  <a:pt x="270" y="1254"/>
                </a:lnTo>
                <a:lnTo>
                  <a:pt x="261" y="1270"/>
                </a:lnTo>
                <a:lnTo>
                  <a:pt x="252" y="1286"/>
                </a:lnTo>
                <a:lnTo>
                  <a:pt x="248" y="1302"/>
                </a:lnTo>
                <a:lnTo>
                  <a:pt x="241" y="1313"/>
                </a:lnTo>
                <a:lnTo>
                  <a:pt x="232" y="1323"/>
                </a:lnTo>
                <a:lnTo>
                  <a:pt x="222" y="1332"/>
                </a:lnTo>
                <a:lnTo>
                  <a:pt x="212" y="1341"/>
                </a:lnTo>
                <a:lnTo>
                  <a:pt x="218" y="1344"/>
                </a:lnTo>
                <a:lnTo>
                  <a:pt x="223" y="1344"/>
                </a:lnTo>
                <a:lnTo>
                  <a:pt x="231" y="1341"/>
                </a:lnTo>
                <a:lnTo>
                  <a:pt x="236" y="1338"/>
                </a:lnTo>
                <a:lnTo>
                  <a:pt x="247" y="1329"/>
                </a:lnTo>
                <a:lnTo>
                  <a:pt x="258" y="1321"/>
                </a:lnTo>
                <a:lnTo>
                  <a:pt x="270" y="1305"/>
                </a:lnTo>
                <a:lnTo>
                  <a:pt x="284" y="1290"/>
                </a:lnTo>
                <a:lnTo>
                  <a:pt x="289" y="1291"/>
                </a:lnTo>
                <a:lnTo>
                  <a:pt x="292" y="1296"/>
                </a:lnTo>
                <a:lnTo>
                  <a:pt x="290" y="1305"/>
                </a:lnTo>
                <a:lnTo>
                  <a:pt x="289" y="1315"/>
                </a:lnTo>
                <a:lnTo>
                  <a:pt x="287" y="1323"/>
                </a:lnTo>
                <a:lnTo>
                  <a:pt x="284" y="1332"/>
                </a:lnTo>
                <a:lnTo>
                  <a:pt x="281" y="1341"/>
                </a:lnTo>
                <a:lnTo>
                  <a:pt x="277" y="1348"/>
                </a:lnTo>
                <a:lnTo>
                  <a:pt x="271" y="1357"/>
                </a:lnTo>
                <a:lnTo>
                  <a:pt x="265" y="1364"/>
                </a:lnTo>
                <a:lnTo>
                  <a:pt x="263" y="1383"/>
                </a:lnTo>
                <a:lnTo>
                  <a:pt x="260" y="1402"/>
                </a:lnTo>
                <a:lnTo>
                  <a:pt x="255" y="1419"/>
                </a:lnTo>
                <a:lnTo>
                  <a:pt x="250" y="1437"/>
                </a:lnTo>
                <a:lnTo>
                  <a:pt x="250" y="1454"/>
                </a:lnTo>
                <a:lnTo>
                  <a:pt x="250" y="1471"/>
                </a:lnTo>
                <a:lnTo>
                  <a:pt x="248" y="1489"/>
                </a:lnTo>
                <a:lnTo>
                  <a:pt x="245" y="1506"/>
                </a:lnTo>
                <a:lnTo>
                  <a:pt x="238" y="1540"/>
                </a:lnTo>
                <a:lnTo>
                  <a:pt x="229" y="1571"/>
                </a:lnTo>
                <a:lnTo>
                  <a:pt x="238" y="1560"/>
                </a:lnTo>
                <a:lnTo>
                  <a:pt x="248" y="1548"/>
                </a:lnTo>
                <a:lnTo>
                  <a:pt x="255" y="1535"/>
                </a:lnTo>
                <a:lnTo>
                  <a:pt x="261" y="1521"/>
                </a:lnTo>
                <a:lnTo>
                  <a:pt x="264" y="1506"/>
                </a:lnTo>
                <a:lnTo>
                  <a:pt x="265" y="1492"/>
                </a:lnTo>
                <a:lnTo>
                  <a:pt x="264" y="1484"/>
                </a:lnTo>
                <a:lnTo>
                  <a:pt x="263" y="1476"/>
                </a:lnTo>
                <a:lnTo>
                  <a:pt x="260" y="1468"/>
                </a:lnTo>
                <a:lnTo>
                  <a:pt x="257" y="1461"/>
                </a:lnTo>
                <a:lnTo>
                  <a:pt x="258" y="1453"/>
                </a:lnTo>
                <a:lnTo>
                  <a:pt x="261" y="1445"/>
                </a:lnTo>
                <a:lnTo>
                  <a:pt x="265" y="1438"/>
                </a:lnTo>
                <a:lnTo>
                  <a:pt x="270" y="1431"/>
                </a:lnTo>
                <a:lnTo>
                  <a:pt x="281" y="1416"/>
                </a:lnTo>
                <a:lnTo>
                  <a:pt x="289" y="1400"/>
                </a:lnTo>
                <a:lnTo>
                  <a:pt x="290" y="1379"/>
                </a:lnTo>
                <a:lnTo>
                  <a:pt x="292" y="1358"/>
                </a:lnTo>
                <a:lnTo>
                  <a:pt x="295" y="1336"/>
                </a:lnTo>
                <a:lnTo>
                  <a:pt x="297" y="1316"/>
                </a:lnTo>
                <a:lnTo>
                  <a:pt x="303" y="1296"/>
                </a:lnTo>
                <a:lnTo>
                  <a:pt x="310" y="1277"/>
                </a:lnTo>
                <a:lnTo>
                  <a:pt x="319" y="1258"/>
                </a:lnTo>
                <a:lnTo>
                  <a:pt x="331" y="1241"/>
                </a:lnTo>
                <a:lnTo>
                  <a:pt x="334" y="1236"/>
                </a:lnTo>
                <a:lnTo>
                  <a:pt x="335" y="1232"/>
                </a:lnTo>
                <a:lnTo>
                  <a:pt x="339" y="1228"/>
                </a:lnTo>
                <a:lnTo>
                  <a:pt x="344" y="1223"/>
                </a:lnTo>
                <a:lnTo>
                  <a:pt x="347" y="1223"/>
                </a:lnTo>
                <a:lnTo>
                  <a:pt x="348" y="1223"/>
                </a:lnTo>
                <a:lnTo>
                  <a:pt x="351" y="1225"/>
                </a:lnTo>
                <a:lnTo>
                  <a:pt x="353" y="1228"/>
                </a:lnTo>
                <a:lnTo>
                  <a:pt x="353" y="1239"/>
                </a:lnTo>
                <a:lnTo>
                  <a:pt x="351" y="1252"/>
                </a:lnTo>
                <a:lnTo>
                  <a:pt x="350" y="1264"/>
                </a:lnTo>
                <a:lnTo>
                  <a:pt x="347" y="1276"/>
                </a:lnTo>
                <a:lnTo>
                  <a:pt x="341" y="1299"/>
                </a:lnTo>
                <a:lnTo>
                  <a:pt x="338" y="1323"/>
                </a:lnTo>
                <a:lnTo>
                  <a:pt x="332" y="1357"/>
                </a:lnTo>
                <a:lnTo>
                  <a:pt x="325" y="1390"/>
                </a:lnTo>
                <a:lnTo>
                  <a:pt x="322" y="1406"/>
                </a:lnTo>
                <a:lnTo>
                  <a:pt x="322" y="1423"/>
                </a:lnTo>
                <a:lnTo>
                  <a:pt x="324" y="1441"/>
                </a:lnTo>
                <a:lnTo>
                  <a:pt x="328" y="1458"/>
                </a:lnTo>
                <a:lnTo>
                  <a:pt x="324" y="1486"/>
                </a:lnTo>
                <a:lnTo>
                  <a:pt x="319" y="1512"/>
                </a:lnTo>
                <a:lnTo>
                  <a:pt x="316" y="1525"/>
                </a:lnTo>
                <a:lnTo>
                  <a:pt x="312" y="1538"/>
                </a:lnTo>
                <a:lnTo>
                  <a:pt x="306" y="1550"/>
                </a:lnTo>
                <a:lnTo>
                  <a:pt x="297" y="1561"/>
                </a:lnTo>
                <a:lnTo>
                  <a:pt x="276" y="1596"/>
                </a:lnTo>
                <a:lnTo>
                  <a:pt x="251" y="1629"/>
                </a:lnTo>
                <a:lnTo>
                  <a:pt x="245" y="1638"/>
                </a:lnTo>
                <a:lnTo>
                  <a:pt x="241" y="1647"/>
                </a:lnTo>
                <a:lnTo>
                  <a:pt x="236" y="1657"/>
                </a:lnTo>
                <a:lnTo>
                  <a:pt x="234" y="1667"/>
                </a:lnTo>
                <a:lnTo>
                  <a:pt x="232" y="1677"/>
                </a:lnTo>
                <a:lnTo>
                  <a:pt x="231" y="1687"/>
                </a:lnTo>
                <a:lnTo>
                  <a:pt x="232" y="1698"/>
                </a:lnTo>
                <a:lnTo>
                  <a:pt x="235" y="1709"/>
                </a:lnTo>
                <a:lnTo>
                  <a:pt x="245" y="1708"/>
                </a:lnTo>
                <a:lnTo>
                  <a:pt x="255" y="1705"/>
                </a:lnTo>
                <a:lnTo>
                  <a:pt x="260" y="1703"/>
                </a:lnTo>
                <a:lnTo>
                  <a:pt x="265" y="1701"/>
                </a:lnTo>
                <a:lnTo>
                  <a:pt x="270" y="1698"/>
                </a:lnTo>
                <a:lnTo>
                  <a:pt x="274" y="1695"/>
                </a:lnTo>
                <a:lnTo>
                  <a:pt x="276" y="1696"/>
                </a:lnTo>
                <a:lnTo>
                  <a:pt x="277" y="1698"/>
                </a:lnTo>
                <a:lnTo>
                  <a:pt x="279" y="1699"/>
                </a:lnTo>
                <a:lnTo>
                  <a:pt x="279" y="1702"/>
                </a:lnTo>
                <a:lnTo>
                  <a:pt x="277" y="1706"/>
                </a:lnTo>
                <a:lnTo>
                  <a:pt x="276" y="1711"/>
                </a:lnTo>
                <a:lnTo>
                  <a:pt x="268" y="1721"/>
                </a:lnTo>
                <a:lnTo>
                  <a:pt x="260" y="1730"/>
                </a:lnTo>
                <a:lnTo>
                  <a:pt x="251" y="1738"/>
                </a:lnTo>
                <a:lnTo>
                  <a:pt x="241" y="1747"/>
                </a:lnTo>
                <a:lnTo>
                  <a:pt x="219" y="1761"/>
                </a:lnTo>
                <a:lnTo>
                  <a:pt x="199" y="1777"/>
                </a:lnTo>
                <a:lnTo>
                  <a:pt x="189" y="1785"/>
                </a:lnTo>
                <a:lnTo>
                  <a:pt x="178" y="1793"/>
                </a:lnTo>
                <a:lnTo>
                  <a:pt x="170" y="1802"/>
                </a:lnTo>
                <a:lnTo>
                  <a:pt x="161" y="1811"/>
                </a:lnTo>
                <a:lnTo>
                  <a:pt x="155" y="1821"/>
                </a:lnTo>
                <a:lnTo>
                  <a:pt x="149" y="1831"/>
                </a:lnTo>
                <a:lnTo>
                  <a:pt x="145" y="1844"/>
                </a:lnTo>
                <a:lnTo>
                  <a:pt x="144" y="1857"/>
                </a:lnTo>
                <a:lnTo>
                  <a:pt x="126" y="1864"/>
                </a:lnTo>
                <a:lnTo>
                  <a:pt x="110" y="1875"/>
                </a:lnTo>
                <a:lnTo>
                  <a:pt x="94" y="1885"/>
                </a:lnTo>
                <a:lnTo>
                  <a:pt x="78" y="1896"/>
                </a:lnTo>
                <a:lnTo>
                  <a:pt x="70" y="1901"/>
                </a:lnTo>
                <a:lnTo>
                  <a:pt x="61" y="1905"/>
                </a:lnTo>
                <a:lnTo>
                  <a:pt x="52" y="1908"/>
                </a:lnTo>
                <a:lnTo>
                  <a:pt x="43" y="1909"/>
                </a:lnTo>
                <a:lnTo>
                  <a:pt x="36" y="1911"/>
                </a:lnTo>
                <a:lnTo>
                  <a:pt x="26" y="1909"/>
                </a:lnTo>
                <a:lnTo>
                  <a:pt x="17" y="1907"/>
                </a:lnTo>
                <a:lnTo>
                  <a:pt x="9" y="1902"/>
                </a:lnTo>
                <a:lnTo>
                  <a:pt x="4" y="1905"/>
                </a:lnTo>
                <a:lnTo>
                  <a:pt x="1" y="1908"/>
                </a:lnTo>
                <a:lnTo>
                  <a:pt x="0" y="1912"/>
                </a:lnTo>
                <a:lnTo>
                  <a:pt x="1" y="1917"/>
                </a:lnTo>
                <a:lnTo>
                  <a:pt x="9" y="1917"/>
                </a:lnTo>
                <a:lnTo>
                  <a:pt x="16" y="1917"/>
                </a:lnTo>
                <a:lnTo>
                  <a:pt x="22" y="1918"/>
                </a:lnTo>
                <a:lnTo>
                  <a:pt x="28" y="1921"/>
                </a:lnTo>
                <a:lnTo>
                  <a:pt x="30" y="1928"/>
                </a:lnTo>
                <a:lnTo>
                  <a:pt x="33" y="1933"/>
                </a:lnTo>
                <a:lnTo>
                  <a:pt x="36" y="1936"/>
                </a:lnTo>
                <a:lnTo>
                  <a:pt x="42" y="1936"/>
                </a:lnTo>
                <a:lnTo>
                  <a:pt x="52" y="1936"/>
                </a:lnTo>
                <a:lnTo>
                  <a:pt x="64" y="1936"/>
                </a:lnTo>
                <a:lnTo>
                  <a:pt x="78" y="1928"/>
                </a:lnTo>
                <a:lnTo>
                  <a:pt x="93" y="1918"/>
                </a:lnTo>
                <a:lnTo>
                  <a:pt x="106" y="1908"/>
                </a:lnTo>
                <a:lnTo>
                  <a:pt x="122" y="1901"/>
                </a:lnTo>
                <a:lnTo>
                  <a:pt x="123" y="1904"/>
                </a:lnTo>
                <a:lnTo>
                  <a:pt x="125" y="1907"/>
                </a:lnTo>
                <a:lnTo>
                  <a:pt x="110" y="1917"/>
                </a:lnTo>
                <a:lnTo>
                  <a:pt x="99" y="1928"/>
                </a:lnTo>
                <a:lnTo>
                  <a:pt x="88" y="1940"/>
                </a:lnTo>
                <a:lnTo>
                  <a:pt x="78" y="1951"/>
                </a:lnTo>
                <a:lnTo>
                  <a:pt x="71" y="1965"/>
                </a:lnTo>
                <a:lnTo>
                  <a:pt x="64" y="1978"/>
                </a:lnTo>
                <a:lnTo>
                  <a:pt x="57" y="1991"/>
                </a:lnTo>
                <a:lnTo>
                  <a:pt x="52" y="2005"/>
                </a:lnTo>
                <a:lnTo>
                  <a:pt x="42" y="2034"/>
                </a:lnTo>
                <a:lnTo>
                  <a:pt x="36" y="2063"/>
                </a:lnTo>
                <a:lnTo>
                  <a:pt x="30" y="2094"/>
                </a:lnTo>
                <a:lnTo>
                  <a:pt x="25" y="2123"/>
                </a:lnTo>
                <a:lnTo>
                  <a:pt x="25" y="2131"/>
                </a:lnTo>
                <a:lnTo>
                  <a:pt x="26" y="2142"/>
                </a:lnTo>
                <a:lnTo>
                  <a:pt x="28" y="2150"/>
                </a:lnTo>
                <a:lnTo>
                  <a:pt x="30" y="2159"/>
                </a:lnTo>
                <a:lnTo>
                  <a:pt x="36" y="2175"/>
                </a:lnTo>
                <a:lnTo>
                  <a:pt x="45" y="2191"/>
                </a:lnTo>
                <a:lnTo>
                  <a:pt x="52" y="2207"/>
                </a:lnTo>
                <a:lnTo>
                  <a:pt x="59" y="2221"/>
                </a:lnTo>
                <a:lnTo>
                  <a:pt x="67" y="2237"/>
                </a:lnTo>
                <a:lnTo>
                  <a:pt x="70" y="2255"/>
                </a:lnTo>
                <a:lnTo>
                  <a:pt x="71" y="2230"/>
                </a:lnTo>
                <a:lnTo>
                  <a:pt x="71" y="2204"/>
                </a:lnTo>
                <a:lnTo>
                  <a:pt x="68" y="2179"/>
                </a:lnTo>
                <a:lnTo>
                  <a:pt x="64" y="2153"/>
                </a:lnTo>
                <a:lnTo>
                  <a:pt x="64" y="2144"/>
                </a:lnTo>
                <a:lnTo>
                  <a:pt x="65" y="2136"/>
                </a:lnTo>
                <a:lnTo>
                  <a:pt x="68" y="2127"/>
                </a:lnTo>
                <a:lnTo>
                  <a:pt x="73" y="2120"/>
                </a:lnTo>
                <a:lnTo>
                  <a:pt x="77" y="2120"/>
                </a:lnTo>
                <a:lnTo>
                  <a:pt x="86" y="2139"/>
                </a:lnTo>
                <a:lnTo>
                  <a:pt x="96" y="2156"/>
                </a:lnTo>
                <a:lnTo>
                  <a:pt x="104" y="2175"/>
                </a:lnTo>
                <a:lnTo>
                  <a:pt x="112" y="2194"/>
                </a:lnTo>
                <a:lnTo>
                  <a:pt x="116" y="2213"/>
                </a:lnTo>
                <a:lnTo>
                  <a:pt x="119" y="2233"/>
                </a:lnTo>
                <a:lnTo>
                  <a:pt x="119" y="2243"/>
                </a:lnTo>
                <a:lnTo>
                  <a:pt x="119" y="2253"/>
                </a:lnTo>
                <a:lnTo>
                  <a:pt x="117" y="2265"/>
                </a:lnTo>
                <a:lnTo>
                  <a:pt x="116" y="2275"/>
                </a:lnTo>
                <a:lnTo>
                  <a:pt x="113" y="2295"/>
                </a:lnTo>
                <a:lnTo>
                  <a:pt x="112" y="2316"/>
                </a:lnTo>
                <a:lnTo>
                  <a:pt x="113" y="2336"/>
                </a:lnTo>
                <a:lnTo>
                  <a:pt x="115" y="2355"/>
                </a:lnTo>
                <a:lnTo>
                  <a:pt x="123" y="2339"/>
                </a:lnTo>
                <a:lnTo>
                  <a:pt x="129" y="2323"/>
                </a:lnTo>
                <a:lnTo>
                  <a:pt x="133" y="2305"/>
                </a:lnTo>
                <a:lnTo>
                  <a:pt x="138" y="2289"/>
                </a:lnTo>
                <a:lnTo>
                  <a:pt x="144" y="2255"/>
                </a:lnTo>
                <a:lnTo>
                  <a:pt x="147" y="2218"/>
                </a:lnTo>
                <a:lnTo>
                  <a:pt x="149" y="2184"/>
                </a:lnTo>
                <a:lnTo>
                  <a:pt x="151" y="2147"/>
                </a:lnTo>
                <a:lnTo>
                  <a:pt x="155" y="2111"/>
                </a:lnTo>
                <a:lnTo>
                  <a:pt x="162" y="2076"/>
                </a:lnTo>
                <a:lnTo>
                  <a:pt x="168" y="2053"/>
                </a:lnTo>
                <a:lnTo>
                  <a:pt x="176" y="2031"/>
                </a:lnTo>
                <a:lnTo>
                  <a:pt x="186" y="2010"/>
                </a:lnTo>
                <a:lnTo>
                  <a:pt x="196" y="1988"/>
                </a:lnTo>
                <a:lnTo>
                  <a:pt x="207" y="1966"/>
                </a:lnTo>
                <a:lnTo>
                  <a:pt x="221" y="1947"/>
                </a:lnTo>
                <a:lnTo>
                  <a:pt x="235" y="1927"/>
                </a:lnTo>
                <a:lnTo>
                  <a:pt x="251" y="1909"/>
                </a:lnTo>
                <a:lnTo>
                  <a:pt x="252" y="1909"/>
                </a:lnTo>
                <a:lnTo>
                  <a:pt x="255" y="1909"/>
                </a:lnTo>
                <a:lnTo>
                  <a:pt x="257" y="1911"/>
                </a:lnTo>
                <a:lnTo>
                  <a:pt x="258" y="1912"/>
                </a:lnTo>
                <a:lnTo>
                  <a:pt x="260" y="1917"/>
                </a:lnTo>
                <a:lnTo>
                  <a:pt x="261" y="1920"/>
                </a:lnTo>
                <a:lnTo>
                  <a:pt x="263" y="1941"/>
                </a:lnTo>
                <a:lnTo>
                  <a:pt x="261" y="1963"/>
                </a:lnTo>
                <a:lnTo>
                  <a:pt x="257" y="1982"/>
                </a:lnTo>
                <a:lnTo>
                  <a:pt x="252" y="2002"/>
                </a:lnTo>
                <a:lnTo>
                  <a:pt x="248" y="2021"/>
                </a:lnTo>
                <a:lnTo>
                  <a:pt x="244" y="2041"/>
                </a:lnTo>
                <a:lnTo>
                  <a:pt x="241" y="2062"/>
                </a:lnTo>
                <a:lnTo>
                  <a:pt x="239" y="2082"/>
                </a:lnTo>
                <a:lnTo>
                  <a:pt x="248" y="2072"/>
                </a:lnTo>
                <a:lnTo>
                  <a:pt x="255" y="2062"/>
                </a:lnTo>
                <a:lnTo>
                  <a:pt x="260" y="2050"/>
                </a:lnTo>
                <a:lnTo>
                  <a:pt x="264" y="2039"/>
                </a:lnTo>
                <a:lnTo>
                  <a:pt x="268" y="2027"/>
                </a:lnTo>
                <a:lnTo>
                  <a:pt x="276" y="2017"/>
                </a:lnTo>
                <a:lnTo>
                  <a:pt x="279" y="2012"/>
                </a:lnTo>
                <a:lnTo>
                  <a:pt x="283" y="2007"/>
                </a:lnTo>
                <a:lnTo>
                  <a:pt x="289" y="2004"/>
                </a:lnTo>
                <a:lnTo>
                  <a:pt x="295" y="1999"/>
                </a:lnTo>
                <a:lnTo>
                  <a:pt x="299" y="2007"/>
                </a:lnTo>
                <a:lnTo>
                  <a:pt x="299" y="2012"/>
                </a:lnTo>
                <a:lnTo>
                  <a:pt x="296" y="2017"/>
                </a:lnTo>
                <a:lnTo>
                  <a:pt x="293" y="2023"/>
                </a:lnTo>
                <a:lnTo>
                  <a:pt x="284" y="2031"/>
                </a:lnTo>
                <a:lnTo>
                  <a:pt x="279" y="2043"/>
                </a:lnTo>
                <a:lnTo>
                  <a:pt x="274" y="2081"/>
                </a:lnTo>
                <a:lnTo>
                  <a:pt x="268" y="2117"/>
                </a:lnTo>
                <a:lnTo>
                  <a:pt x="263" y="2155"/>
                </a:lnTo>
                <a:lnTo>
                  <a:pt x="260" y="2192"/>
                </a:lnTo>
                <a:lnTo>
                  <a:pt x="255" y="2207"/>
                </a:lnTo>
                <a:lnTo>
                  <a:pt x="250" y="2220"/>
                </a:lnTo>
                <a:lnTo>
                  <a:pt x="244" y="2234"/>
                </a:lnTo>
                <a:lnTo>
                  <a:pt x="238" y="2247"/>
                </a:lnTo>
                <a:lnTo>
                  <a:pt x="231" y="2260"/>
                </a:lnTo>
                <a:lnTo>
                  <a:pt x="226" y="2275"/>
                </a:lnTo>
                <a:lnTo>
                  <a:pt x="223" y="2289"/>
                </a:lnTo>
                <a:lnTo>
                  <a:pt x="222" y="2305"/>
                </a:lnTo>
                <a:lnTo>
                  <a:pt x="232" y="2291"/>
                </a:lnTo>
                <a:lnTo>
                  <a:pt x="242" y="2276"/>
                </a:lnTo>
                <a:lnTo>
                  <a:pt x="251" y="2262"/>
                </a:lnTo>
                <a:lnTo>
                  <a:pt x="260" y="2247"/>
                </a:lnTo>
                <a:lnTo>
                  <a:pt x="274" y="2217"/>
                </a:lnTo>
                <a:lnTo>
                  <a:pt x="286" y="2186"/>
                </a:lnTo>
                <a:lnTo>
                  <a:pt x="296" y="2153"/>
                </a:lnTo>
                <a:lnTo>
                  <a:pt x="305" y="2121"/>
                </a:lnTo>
                <a:lnTo>
                  <a:pt x="313" y="2088"/>
                </a:lnTo>
                <a:lnTo>
                  <a:pt x="322" y="2054"/>
                </a:lnTo>
                <a:lnTo>
                  <a:pt x="325" y="2044"/>
                </a:lnTo>
                <a:lnTo>
                  <a:pt x="329" y="2034"/>
                </a:lnTo>
                <a:lnTo>
                  <a:pt x="337" y="2024"/>
                </a:lnTo>
                <a:lnTo>
                  <a:pt x="344" y="2015"/>
                </a:lnTo>
                <a:lnTo>
                  <a:pt x="351" y="2007"/>
                </a:lnTo>
                <a:lnTo>
                  <a:pt x="358" y="1996"/>
                </a:lnTo>
                <a:lnTo>
                  <a:pt x="364" y="1986"/>
                </a:lnTo>
                <a:lnTo>
                  <a:pt x="367" y="1975"/>
                </a:lnTo>
                <a:lnTo>
                  <a:pt x="371" y="1976"/>
                </a:lnTo>
                <a:lnTo>
                  <a:pt x="373" y="1979"/>
                </a:lnTo>
                <a:lnTo>
                  <a:pt x="374" y="1982"/>
                </a:lnTo>
                <a:lnTo>
                  <a:pt x="376" y="1985"/>
                </a:lnTo>
                <a:lnTo>
                  <a:pt x="379" y="1991"/>
                </a:lnTo>
                <a:lnTo>
                  <a:pt x="382" y="1995"/>
                </a:lnTo>
                <a:lnTo>
                  <a:pt x="393" y="1988"/>
                </a:lnTo>
                <a:lnTo>
                  <a:pt x="400" y="1978"/>
                </a:lnTo>
                <a:lnTo>
                  <a:pt x="406" y="1967"/>
                </a:lnTo>
                <a:lnTo>
                  <a:pt x="412" y="1957"/>
                </a:lnTo>
                <a:lnTo>
                  <a:pt x="419" y="1934"/>
                </a:lnTo>
                <a:lnTo>
                  <a:pt x="428" y="1912"/>
                </a:lnTo>
                <a:lnTo>
                  <a:pt x="432" y="1899"/>
                </a:lnTo>
                <a:lnTo>
                  <a:pt x="435" y="1885"/>
                </a:lnTo>
                <a:lnTo>
                  <a:pt x="437" y="1870"/>
                </a:lnTo>
                <a:lnTo>
                  <a:pt x="438" y="1856"/>
                </a:lnTo>
                <a:lnTo>
                  <a:pt x="440" y="1828"/>
                </a:lnTo>
                <a:lnTo>
                  <a:pt x="440" y="1799"/>
                </a:lnTo>
                <a:lnTo>
                  <a:pt x="443" y="1772"/>
                </a:lnTo>
                <a:lnTo>
                  <a:pt x="447" y="1744"/>
                </a:lnTo>
                <a:lnTo>
                  <a:pt x="451" y="1731"/>
                </a:lnTo>
                <a:lnTo>
                  <a:pt x="456" y="1718"/>
                </a:lnTo>
                <a:lnTo>
                  <a:pt x="463" y="1706"/>
                </a:lnTo>
                <a:lnTo>
                  <a:pt x="470" y="1693"/>
                </a:lnTo>
                <a:lnTo>
                  <a:pt x="476" y="1693"/>
                </a:lnTo>
                <a:lnTo>
                  <a:pt x="476" y="1702"/>
                </a:lnTo>
                <a:lnTo>
                  <a:pt x="476" y="1709"/>
                </a:lnTo>
                <a:lnTo>
                  <a:pt x="479" y="1717"/>
                </a:lnTo>
                <a:lnTo>
                  <a:pt x="482" y="1724"/>
                </a:lnTo>
                <a:lnTo>
                  <a:pt x="490" y="1738"/>
                </a:lnTo>
                <a:lnTo>
                  <a:pt x="499" y="1751"/>
                </a:lnTo>
                <a:lnTo>
                  <a:pt x="496" y="1744"/>
                </a:lnTo>
                <a:lnTo>
                  <a:pt x="493" y="1738"/>
                </a:lnTo>
                <a:lnTo>
                  <a:pt x="493" y="1731"/>
                </a:lnTo>
                <a:lnTo>
                  <a:pt x="492" y="1724"/>
                </a:lnTo>
                <a:lnTo>
                  <a:pt x="493" y="1711"/>
                </a:lnTo>
                <a:lnTo>
                  <a:pt x="496" y="1696"/>
                </a:lnTo>
                <a:lnTo>
                  <a:pt x="506" y="1686"/>
                </a:lnTo>
                <a:lnTo>
                  <a:pt x="518" y="1677"/>
                </a:lnTo>
                <a:lnTo>
                  <a:pt x="522" y="1673"/>
                </a:lnTo>
                <a:lnTo>
                  <a:pt x="527" y="1667"/>
                </a:lnTo>
                <a:lnTo>
                  <a:pt x="530" y="1661"/>
                </a:lnTo>
                <a:lnTo>
                  <a:pt x="530" y="1654"/>
                </a:lnTo>
                <a:lnTo>
                  <a:pt x="528" y="1641"/>
                </a:lnTo>
                <a:lnTo>
                  <a:pt x="528" y="1629"/>
                </a:lnTo>
                <a:lnTo>
                  <a:pt x="528" y="1616"/>
                </a:lnTo>
                <a:lnTo>
                  <a:pt x="530" y="1605"/>
                </a:lnTo>
                <a:lnTo>
                  <a:pt x="535" y="1582"/>
                </a:lnTo>
                <a:lnTo>
                  <a:pt x="541" y="1560"/>
                </a:lnTo>
                <a:lnTo>
                  <a:pt x="550" y="1537"/>
                </a:lnTo>
                <a:lnTo>
                  <a:pt x="557" y="1515"/>
                </a:lnTo>
                <a:lnTo>
                  <a:pt x="563" y="1492"/>
                </a:lnTo>
                <a:lnTo>
                  <a:pt x="566" y="1468"/>
                </a:lnTo>
                <a:lnTo>
                  <a:pt x="569" y="1466"/>
                </a:lnTo>
                <a:lnTo>
                  <a:pt x="570" y="1461"/>
                </a:lnTo>
                <a:lnTo>
                  <a:pt x="572" y="1460"/>
                </a:lnTo>
                <a:lnTo>
                  <a:pt x="573" y="1458"/>
                </a:lnTo>
                <a:lnTo>
                  <a:pt x="575" y="1458"/>
                </a:lnTo>
                <a:lnTo>
                  <a:pt x="576" y="1460"/>
                </a:lnTo>
                <a:lnTo>
                  <a:pt x="582" y="1468"/>
                </a:lnTo>
                <a:lnTo>
                  <a:pt x="585" y="1479"/>
                </a:lnTo>
                <a:lnTo>
                  <a:pt x="588" y="1487"/>
                </a:lnTo>
                <a:lnTo>
                  <a:pt x="589" y="1497"/>
                </a:lnTo>
                <a:lnTo>
                  <a:pt x="589" y="1519"/>
                </a:lnTo>
                <a:lnTo>
                  <a:pt x="591" y="1541"/>
                </a:lnTo>
                <a:lnTo>
                  <a:pt x="588" y="1555"/>
                </a:lnTo>
                <a:lnTo>
                  <a:pt x="586" y="1570"/>
                </a:lnTo>
                <a:lnTo>
                  <a:pt x="586" y="1585"/>
                </a:lnTo>
                <a:lnTo>
                  <a:pt x="589" y="1599"/>
                </a:lnTo>
                <a:lnTo>
                  <a:pt x="595" y="1627"/>
                </a:lnTo>
                <a:lnTo>
                  <a:pt x="602" y="1653"/>
                </a:lnTo>
                <a:lnTo>
                  <a:pt x="608" y="1625"/>
                </a:lnTo>
                <a:lnTo>
                  <a:pt x="609" y="1595"/>
                </a:lnTo>
                <a:lnTo>
                  <a:pt x="611" y="1564"/>
                </a:lnTo>
                <a:lnTo>
                  <a:pt x="608" y="1534"/>
                </a:lnTo>
                <a:lnTo>
                  <a:pt x="606" y="1503"/>
                </a:lnTo>
                <a:lnTo>
                  <a:pt x="604" y="1473"/>
                </a:lnTo>
                <a:lnTo>
                  <a:pt x="601" y="1441"/>
                </a:lnTo>
                <a:lnTo>
                  <a:pt x="599" y="1412"/>
                </a:lnTo>
                <a:lnTo>
                  <a:pt x="593" y="1405"/>
                </a:lnTo>
                <a:lnTo>
                  <a:pt x="591" y="1397"/>
                </a:lnTo>
                <a:lnTo>
                  <a:pt x="588" y="1390"/>
                </a:lnTo>
                <a:lnTo>
                  <a:pt x="588" y="1384"/>
                </a:lnTo>
                <a:lnTo>
                  <a:pt x="588" y="1370"/>
                </a:lnTo>
                <a:lnTo>
                  <a:pt x="591" y="1355"/>
                </a:lnTo>
                <a:lnTo>
                  <a:pt x="593" y="1341"/>
                </a:lnTo>
                <a:lnTo>
                  <a:pt x="595" y="1326"/>
                </a:lnTo>
                <a:lnTo>
                  <a:pt x="595" y="1319"/>
                </a:lnTo>
                <a:lnTo>
                  <a:pt x="593" y="1312"/>
                </a:lnTo>
                <a:lnTo>
                  <a:pt x="591" y="1305"/>
                </a:lnTo>
                <a:lnTo>
                  <a:pt x="586" y="1299"/>
                </a:lnTo>
                <a:lnTo>
                  <a:pt x="585" y="1281"/>
                </a:lnTo>
                <a:lnTo>
                  <a:pt x="585" y="1264"/>
                </a:lnTo>
                <a:lnTo>
                  <a:pt x="586" y="1245"/>
                </a:lnTo>
                <a:lnTo>
                  <a:pt x="588" y="1228"/>
                </a:lnTo>
                <a:lnTo>
                  <a:pt x="593" y="1193"/>
                </a:lnTo>
                <a:lnTo>
                  <a:pt x="602" y="1159"/>
                </a:lnTo>
                <a:lnTo>
                  <a:pt x="602" y="1149"/>
                </a:lnTo>
                <a:lnTo>
                  <a:pt x="602" y="1141"/>
                </a:lnTo>
                <a:lnTo>
                  <a:pt x="604" y="1136"/>
                </a:lnTo>
                <a:lnTo>
                  <a:pt x="605" y="1132"/>
                </a:lnTo>
                <a:lnTo>
                  <a:pt x="606" y="1129"/>
                </a:lnTo>
                <a:lnTo>
                  <a:pt x="611" y="1128"/>
                </a:lnTo>
                <a:lnTo>
                  <a:pt x="622" y="1154"/>
                </a:lnTo>
                <a:lnTo>
                  <a:pt x="633" y="1181"/>
                </a:lnTo>
                <a:lnTo>
                  <a:pt x="637" y="1194"/>
                </a:lnTo>
                <a:lnTo>
                  <a:pt x="643" y="1207"/>
                </a:lnTo>
                <a:lnTo>
                  <a:pt x="649" y="1220"/>
                </a:lnTo>
                <a:lnTo>
                  <a:pt x="656" y="1233"/>
                </a:lnTo>
                <a:lnTo>
                  <a:pt x="650" y="1254"/>
                </a:lnTo>
                <a:lnTo>
                  <a:pt x="647" y="1276"/>
                </a:lnTo>
                <a:lnTo>
                  <a:pt x="647" y="1286"/>
                </a:lnTo>
                <a:lnTo>
                  <a:pt x="647" y="1296"/>
                </a:lnTo>
                <a:lnTo>
                  <a:pt x="650" y="1306"/>
                </a:lnTo>
                <a:lnTo>
                  <a:pt x="653" y="1316"/>
                </a:lnTo>
                <a:lnTo>
                  <a:pt x="657" y="1306"/>
                </a:lnTo>
                <a:lnTo>
                  <a:pt x="660" y="1294"/>
                </a:lnTo>
                <a:lnTo>
                  <a:pt x="663" y="1284"/>
                </a:lnTo>
                <a:lnTo>
                  <a:pt x="665" y="1273"/>
                </a:lnTo>
                <a:lnTo>
                  <a:pt x="665" y="1251"/>
                </a:lnTo>
                <a:lnTo>
                  <a:pt x="663" y="1229"/>
                </a:lnTo>
                <a:lnTo>
                  <a:pt x="660" y="1207"/>
                </a:lnTo>
                <a:lnTo>
                  <a:pt x="654" y="1186"/>
                </a:lnTo>
                <a:lnTo>
                  <a:pt x="649" y="1164"/>
                </a:lnTo>
                <a:lnTo>
                  <a:pt x="643" y="1145"/>
                </a:lnTo>
                <a:lnTo>
                  <a:pt x="638" y="1122"/>
                </a:lnTo>
                <a:lnTo>
                  <a:pt x="634" y="1100"/>
                </a:lnTo>
                <a:lnTo>
                  <a:pt x="628" y="1078"/>
                </a:lnTo>
                <a:lnTo>
                  <a:pt x="624" y="1055"/>
                </a:lnTo>
                <a:lnTo>
                  <a:pt x="628" y="1017"/>
                </a:lnTo>
                <a:lnTo>
                  <a:pt x="630" y="980"/>
                </a:lnTo>
                <a:lnTo>
                  <a:pt x="630" y="962"/>
                </a:lnTo>
                <a:lnTo>
                  <a:pt x="628" y="943"/>
                </a:lnTo>
                <a:lnTo>
                  <a:pt x="625" y="924"/>
                </a:lnTo>
                <a:lnTo>
                  <a:pt x="621" y="907"/>
                </a:lnTo>
                <a:lnTo>
                  <a:pt x="622" y="887"/>
                </a:lnTo>
                <a:lnTo>
                  <a:pt x="625" y="868"/>
                </a:lnTo>
                <a:lnTo>
                  <a:pt x="628" y="849"/>
                </a:lnTo>
                <a:lnTo>
                  <a:pt x="634" y="830"/>
                </a:lnTo>
                <a:lnTo>
                  <a:pt x="646" y="794"/>
                </a:lnTo>
                <a:lnTo>
                  <a:pt x="657" y="758"/>
                </a:lnTo>
                <a:lnTo>
                  <a:pt x="660" y="756"/>
                </a:lnTo>
                <a:lnTo>
                  <a:pt x="662" y="756"/>
                </a:lnTo>
                <a:lnTo>
                  <a:pt x="665" y="756"/>
                </a:lnTo>
                <a:lnTo>
                  <a:pt x="667" y="758"/>
                </a:lnTo>
                <a:lnTo>
                  <a:pt x="672" y="762"/>
                </a:lnTo>
                <a:lnTo>
                  <a:pt x="678" y="763"/>
                </a:lnTo>
                <a:lnTo>
                  <a:pt x="689" y="782"/>
                </a:lnTo>
                <a:lnTo>
                  <a:pt x="699" y="803"/>
                </a:lnTo>
                <a:lnTo>
                  <a:pt x="709" y="823"/>
                </a:lnTo>
                <a:lnTo>
                  <a:pt x="720" y="843"/>
                </a:lnTo>
                <a:lnTo>
                  <a:pt x="721" y="835"/>
                </a:lnTo>
                <a:lnTo>
                  <a:pt x="720" y="824"/>
                </a:lnTo>
                <a:lnTo>
                  <a:pt x="717" y="816"/>
                </a:lnTo>
                <a:lnTo>
                  <a:pt x="714" y="807"/>
                </a:lnTo>
                <a:lnTo>
                  <a:pt x="708" y="798"/>
                </a:lnTo>
                <a:lnTo>
                  <a:pt x="704" y="790"/>
                </a:lnTo>
                <a:lnTo>
                  <a:pt x="699" y="781"/>
                </a:lnTo>
                <a:lnTo>
                  <a:pt x="698" y="772"/>
                </a:lnTo>
                <a:lnTo>
                  <a:pt x="695" y="756"/>
                </a:lnTo>
                <a:lnTo>
                  <a:pt x="694" y="739"/>
                </a:lnTo>
                <a:lnTo>
                  <a:pt x="694" y="732"/>
                </a:lnTo>
                <a:lnTo>
                  <a:pt x="695" y="724"/>
                </a:lnTo>
                <a:lnTo>
                  <a:pt x="698" y="717"/>
                </a:lnTo>
                <a:lnTo>
                  <a:pt x="704" y="711"/>
                </a:lnTo>
                <a:lnTo>
                  <a:pt x="720" y="716"/>
                </a:lnTo>
                <a:lnTo>
                  <a:pt x="718" y="703"/>
                </a:lnTo>
                <a:lnTo>
                  <a:pt x="717" y="690"/>
                </a:lnTo>
                <a:lnTo>
                  <a:pt x="714" y="676"/>
                </a:lnTo>
                <a:lnTo>
                  <a:pt x="711" y="665"/>
                </a:lnTo>
                <a:lnTo>
                  <a:pt x="702" y="640"/>
                </a:lnTo>
                <a:lnTo>
                  <a:pt x="696" y="616"/>
                </a:lnTo>
                <a:lnTo>
                  <a:pt x="692" y="578"/>
                </a:lnTo>
                <a:lnTo>
                  <a:pt x="689" y="540"/>
                </a:lnTo>
                <a:lnTo>
                  <a:pt x="688" y="521"/>
                </a:lnTo>
                <a:lnTo>
                  <a:pt x="685" y="502"/>
                </a:lnTo>
                <a:lnTo>
                  <a:pt x="680" y="485"/>
                </a:lnTo>
                <a:lnTo>
                  <a:pt x="675" y="468"/>
                </a:lnTo>
                <a:lnTo>
                  <a:pt x="682" y="437"/>
                </a:lnTo>
                <a:lnTo>
                  <a:pt x="691" y="410"/>
                </a:lnTo>
                <a:lnTo>
                  <a:pt x="701" y="382"/>
                </a:lnTo>
                <a:lnTo>
                  <a:pt x="712" y="354"/>
                </a:lnTo>
                <a:lnTo>
                  <a:pt x="720" y="362"/>
                </a:lnTo>
                <a:lnTo>
                  <a:pt x="718" y="375"/>
                </a:lnTo>
                <a:lnTo>
                  <a:pt x="720" y="388"/>
                </a:lnTo>
                <a:lnTo>
                  <a:pt x="723" y="402"/>
                </a:lnTo>
                <a:lnTo>
                  <a:pt x="723" y="415"/>
                </a:lnTo>
                <a:lnTo>
                  <a:pt x="727" y="402"/>
                </a:lnTo>
                <a:lnTo>
                  <a:pt x="730" y="388"/>
                </a:lnTo>
                <a:lnTo>
                  <a:pt x="733" y="375"/>
                </a:lnTo>
                <a:lnTo>
                  <a:pt x="733" y="362"/>
                </a:lnTo>
                <a:lnTo>
                  <a:pt x="733" y="334"/>
                </a:lnTo>
                <a:lnTo>
                  <a:pt x="731" y="307"/>
                </a:lnTo>
                <a:lnTo>
                  <a:pt x="723" y="251"/>
                </a:lnTo>
                <a:lnTo>
                  <a:pt x="717" y="198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47880" y="2247840"/>
            <a:ext cx="30240" cy="47520"/>
          </a:xfrm>
          <a:custGeom>
            <a:avLst/>
            <a:gdLst/>
            <a:ahLst/>
            <a:rect l="l" t="t" r="r" b="b"/>
            <a:pathLst>
              <a:path w="19" h="30">
                <a:moveTo>
                  <a:pt x="3" y="0"/>
                </a:moveTo>
                <a:lnTo>
                  <a:pt x="0" y="0"/>
                </a:lnTo>
                <a:lnTo>
                  <a:pt x="0" y="8"/>
                </a:ln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4" y="27"/>
                </a:lnTo>
                <a:lnTo>
                  <a:pt x="8" y="30"/>
                </a:lnTo>
                <a:lnTo>
                  <a:pt x="19" y="20"/>
                </a:lnTo>
                <a:lnTo>
                  <a:pt x="13" y="17"/>
                </a:lnTo>
                <a:lnTo>
                  <a:pt x="8" y="13"/>
                </a:lnTo>
                <a:lnTo>
                  <a:pt x="4" y="7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2436840"/>
            <a:ext cx="117360" cy="100080"/>
          </a:xfrm>
          <a:custGeom>
            <a:avLst/>
            <a:gdLst/>
            <a:ahLst/>
            <a:rect l="l" t="t" r="r" b="b"/>
            <a:pathLst>
              <a:path w="74" h="63">
                <a:moveTo>
                  <a:pt x="51" y="4"/>
                </a:moveTo>
                <a:lnTo>
                  <a:pt x="35" y="16"/>
                </a:lnTo>
                <a:lnTo>
                  <a:pt x="16" y="27"/>
                </a:lnTo>
                <a:lnTo>
                  <a:pt x="9" y="33"/>
                </a:lnTo>
                <a:lnTo>
                  <a:pt x="3" y="42"/>
                </a:lnTo>
                <a:lnTo>
                  <a:pt x="0" y="45"/>
                </a:lnTo>
                <a:lnTo>
                  <a:pt x="0" y="50"/>
                </a:lnTo>
                <a:lnTo>
                  <a:pt x="0" y="55"/>
                </a:lnTo>
                <a:lnTo>
                  <a:pt x="0" y="60"/>
                </a:lnTo>
                <a:lnTo>
                  <a:pt x="5" y="62"/>
                </a:lnTo>
                <a:lnTo>
                  <a:pt x="9" y="63"/>
                </a:lnTo>
                <a:lnTo>
                  <a:pt x="13" y="62"/>
                </a:lnTo>
                <a:lnTo>
                  <a:pt x="18" y="60"/>
                </a:lnTo>
                <a:lnTo>
                  <a:pt x="24" y="53"/>
                </a:lnTo>
                <a:lnTo>
                  <a:pt x="29" y="45"/>
                </a:lnTo>
                <a:lnTo>
                  <a:pt x="35" y="34"/>
                </a:lnTo>
                <a:lnTo>
                  <a:pt x="39" y="26"/>
                </a:lnTo>
                <a:lnTo>
                  <a:pt x="45" y="18"/>
                </a:lnTo>
                <a:lnTo>
                  <a:pt x="53" y="11"/>
                </a:lnTo>
                <a:lnTo>
                  <a:pt x="57" y="10"/>
                </a:lnTo>
                <a:lnTo>
                  <a:pt x="61" y="7"/>
                </a:lnTo>
                <a:lnTo>
                  <a:pt x="67" y="7"/>
                </a:lnTo>
                <a:lnTo>
                  <a:pt x="73" y="7"/>
                </a:lnTo>
                <a:lnTo>
                  <a:pt x="74" y="2"/>
                </a:lnTo>
                <a:lnTo>
                  <a:pt x="73" y="1"/>
                </a:lnTo>
                <a:lnTo>
                  <a:pt x="70" y="0"/>
                </a:lnTo>
                <a:lnTo>
                  <a:pt x="67" y="0"/>
                </a:lnTo>
                <a:lnTo>
                  <a:pt x="58" y="2"/>
                </a:lnTo>
                <a:lnTo>
                  <a:pt x="51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12800" y="2155680"/>
            <a:ext cx="179640" cy="79560"/>
          </a:xfrm>
          <a:custGeom>
            <a:avLst/>
            <a:gdLst/>
            <a:ahLst/>
            <a:rect l="l" t="t" r="r" b="b"/>
            <a:pathLst>
              <a:path w="113" h="50">
                <a:moveTo>
                  <a:pt x="93" y="13"/>
                </a:moveTo>
                <a:lnTo>
                  <a:pt x="88" y="16"/>
                </a:lnTo>
                <a:lnTo>
                  <a:pt x="85" y="17"/>
                </a:lnTo>
                <a:lnTo>
                  <a:pt x="81" y="17"/>
                </a:lnTo>
                <a:lnTo>
                  <a:pt x="77" y="16"/>
                </a:lnTo>
                <a:lnTo>
                  <a:pt x="71" y="13"/>
                </a:lnTo>
                <a:lnTo>
                  <a:pt x="64" y="8"/>
                </a:lnTo>
                <a:lnTo>
                  <a:pt x="56" y="2"/>
                </a:lnTo>
                <a:lnTo>
                  <a:pt x="49" y="0"/>
                </a:lnTo>
                <a:lnTo>
                  <a:pt x="46" y="0"/>
                </a:lnTo>
                <a:lnTo>
                  <a:pt x="42" y="0"/>
                </a:lnTo>
                <a:lnTo>
                  <a:pt x="39" y="1"/>
                </a:lnTo>
                <a:lnTo>
                  <a:pt x="35" y="4"/>
                </a:lnTo>
                <a:lnTo>
                  <a:pt x="26" y="4"/>
                </a:lnTo>
                <a:lnTo>
                  <a:pt x="16" y="4"/>
                </a:lnTo>
                <a:lnTo>
                  <a:pt x="11" y="4"/>
                </a:lnTo>
                <a:lnTo>
                  <a:pt x="7" y="4"/>
                </a:lnTo>
                <a:lnTo>
                  <a:pt x="3" y="7"/>
                </a:lnTo>
                <a:lnTo>
                  <a:pt x="0" y="10"/>
                </a:lnTo>
                <a:lnTo>
                  <a:pt x="5" y="20"/>
                </a:lnTo>
                <a:lnTo>
                  <a:pt x="13" y="27"/>
                </a:lnTo>
                <a:lnTo>
                  <a:pt x="21" y="31"/>
                </a:lnTo>
                <a:lnTo>
                  <a:pt x="32" y="36"/>
                </a:lnTo>
                <a:lnTo>
                  <a:pt x="52" y="42"/>
                </a:lnTo>
                <a:lnTo>
                  <a:pt x="74" y="45"/>
                </a:lnTo>
                <a:lnTo>
                  <a:pt x="78" y="47"/>
                </a:lnTo>
                <a:lnTo>
                  <a:pt x="82" y="49"/>
                </a:lnTo>
                <a:lnTo>
                  <a:pt x="87" y="50"/>
                </a:lnTo>
                <a:lnTo>
                  <a:pt x="93" y="50"/>
                </a:lnTo>
                <a:lnTo>
                  <a:pt x="103" y="47"/>
                </a:lnTo>
                <a:lnTo>
                  <a:pt x="113" y="43"/>
                </a:lnTo>
                <a:lnTo>
                  <a:pt x="111" y="34"/>
                </a:lnTo>
                <a:lnTo>
                  <a:pt x="107" y="26"/>
                </a:lnTo>
                <a:lnTo>
                  <a:pt x="100" y="18"/>
                </a:lnTo>
                <a:lnTo>
                  <a:pt x="93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0800" y="2247840"/>
            <a:ext cx="57240" cy="84240"/>
          </a:xfrm>
          <a:custGeom>
            <a:avLst/>
            <a:gdLst/>
            <a:ahLst/>
            <a:rect l="l" t="t" r="r" b="b"/>
            <a:pathLst>
              <a:path w="36" h="53">
                <a:moveTo>
                  <a:pt x="36" y="24"/>
                </a:moveTo>
                <a:lnTo>
                  <a:pt x="33" y="26"/>
                </a:lnTo>
                <a:lnTo>
                  <a:pt x="30" y="26"/>
                </a:lnTo>
                <a:lnTo>
                  <a:pt x="27" y="26"/>
                </a:lnTo>
                <a:lnTo>
                  <a:pt x="25" y="24"/>
                </a:lnTo>
                <a:lnTo>
                  <a:pt x="20" y="20"/>
                </a:lnTo>
                <a:lnTo>
                  <a:pt x="17" y="14"/>
                </a:lnTo>
                <a:lnTo>
                  <a:pt x="19" y="1"/>
                </a:lnTo>
                <a:lnTo>
                  <a:pt x="14" y="0"/>
                </a:lnTo>
                <a:lnTo>
                  <a:pt x="9" y="0"/>
                </a:lnTo>
                <a:lnTo>
                  <a:pt x="3" y="11"/>
                </a:lnTo>
                <a:lnTo>
                  <a:pt x="0" y="24"/>
                </a:lnTo>
                <a:lnTo>
                  <a:pt x="0" y="32"/>
                </a:lnTo>
                <a:lnTo>
                  <a:pt x="1" y="37"/>
                </a:lnTo>
                <a:lnTo>
                  <a:pt x="3" y="43"/>
                </a:lnTo>
                <a:lnTo>
                  <a:pt x="7" y="49"/>
                </a:lnTo>
                <a:lnTo>
                  <a:pt x="10" y="52"/>
                </a:lnTo>
                <a:lnTo>
                  <a:pt x="11" y="53"/>
                </a:lnTo>
                <a:lnTo>
                  <a:pt x="14" y="53"/>
                </a:lnTo>
                <a:lnTo>
                  <a:pt x="17" y="53"/>
                </a:lnTo>
                <a:lnTo>
                  <a:pt x="22" y="50"/>
                </a:lnTo>
                <a:lnTo>
                  <a:pt x="27" y="49"/>
                </a:lnTo>
                <a:lnTo>
                  <a:pt x="32" y="45"/>
                </a:lnTo>
                <a:lnTo>
                  <a:pt x="35" y="39"/>
                </a:lnTo>
                <a:lnTo>
                  <a:pt x="36" y="32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247824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0"/>
                </a:moveTo>
                <a:lnTo>
                  <a:pt x="16" y="5"/>
                </a:lnTo>
                <a:lnTo>
                  <a:pt x="8" y="11"/>
                </a:lnTo>
                <a:lnTo>
                  <a:pt x="2" y="19"/>
                </a:lnTo>
                <a:lnTo>
                  <a:pt x="0" y="27"/>
                </a:lnTo>
                <a:lnTo>
                  <a:pt x="4" y="26"/>
                </a:lnTo>
                <a:lnTo>
                  <a:pt x="7" y="24"/>
                </a:lnTo>
                <a:lnTo>
                  <a:pt x="11" y="21"/>
                </a:lnTo>
                <a:lnTo>
                  <a:pt x="14" y="17"/>
                </a:lnTo>
                <a:lnTo>
                  <a:pt x="18" y="8"/>
                </a:lnTo>
                <a:lnTo>
                  <a:pt x="24" y="0"/>
                </a:lnTo>
                <a:close/>
              </a:path>
            </a:pathLst>
          </a:custGeom>
          <a:solidFill>
            <a:srgbClr val="e77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" y="1620720"/>
            <a:ext cx="1566720" cy="677880"/>
          </a:xfrm>
          <a:custGeom>
            <a:avLst/>
            <a:gdLst/>
            <a:ahLst/>
            <a:rect l="l" t="t" r="r" b="b"/>
            <a:pathLst>
              <a:path w="987" h="427">
                <a:moveTo>
                  <a:pt x="802" y="32"/>
                </a:moveTo>
                <a:lnTo>
                  <a:pt x="754" y="41"/>
                </a:lnTo>
                <a:lnTo>
                  <a:pt x="704" y="48"/>
                </a:lnTo>
                <a:lnTo>
                  <a:pt x="678" y="51"/>
                </a:lnTo>
                <a:lnTo>
                  <a:pt x="653" y="49"/>
                </a:lnTo>
                <a:lnTo>
                  <a:pt x="640" y="48"/>
                </a:lnTo>
                <a:lnTo>
                  <a:pt x="628" y="45"/>
                </a:lnTo>
                <a:lnTo>
                  <a:pt x="617" y="41"/>
                </a:lnTo>
                <a:lnTo>
                  <a:pt x="605" y="36"/>
                </a:lnTo>
                <a:lnTo>
                  <a:pt x="595" y="26"/>
                </a:lnTo>
                <a:lnTo>
                  <a:pt x="583" y="19"/>
                </a:lnTo>
                <a:lnTo>
                  <a:pt x="570" y="13"/>
                </a:lnTo>
                <a:lnTo>
                  <a:pt x="557" y="9"/>
                </a:lnTo>
                <a:lnTo>
                  <a:pt x="544" y="4"/>
                </a:lnTo>
                <a:lnTo>
                  <a:pt x="530" y="3"/>
                </a:lnTo>
                <a:lnTo>
                  <a:pt x="515" y="2"/>
                </a:lnTo>
                <a:lnTo>
                  <a:pt x="499" y="0"/>
                </a:lnTo>
                <a:lnTo>
                  <a:pt x="485" y="2"/>
                </a:lnTo>
                <a:lnTo>
                  <a:pt x="470" y="3"/>
                </a:lnTo>
                <a:lnTo>
                  <a:pt x="456" y="4"/>
                </a:lnTo>
                <a:lnTo>
                  <a:pt x="440" y="7"/>
                </a:lnTo>
                <a:lnTo>
                  <a:pt x="412" y="15"/>
                </a:lnTo>
                <a:lnTo>
                  <a:pt x="387" y="23"/>
                </a:lnTo>
                <a:lnTo>
                  <a:pt x="335" y="32"/>
                </a:lnTo>
                <a:lnTo>
                  <a:pt x="286" y="42"/>
                </a:lnTo>
                <a:lnTo>
                  <a:pt x="236" y="55"/>
                </a:lnTo>
                <a:lnTo>
                  <a:pt x="187" y="70"/>
                </a:lnTo>
                <a:lnTo>
                  <a:pt x="139" y="87"/>
                </a:lnTo>
                <a:lnTo>
                  <a:pt x="93" y="104"/>
                </a:lnTo>
                <a:lnTo>
                  <a:pt x="46" y="125"/>
                </a:lnTo>
                <a:lnTo>
                  <a:pt x="0" y="145"/>
                </a:lnTo>
                <a:lnTo>
                  <a:pt x="0" y="151"/>
                </a:lnTo>
                <a:lnTo>
                  <a:pt x="3" y="157"/>
                </a:lnTo>
                <a:lnTo>
                  <a:pt x="7" y="163"/>
                </a:lnTo>
                <a:lnTo>
                  <a:pt x="12" y="165"/>
                </a:lnTo>
                <a:lnTo>
                  <a:pt x="36" y="173"/>
                </a:lnTo>
                <a:lnTo>
                  <a:pt x="62" y="177"/>
                </a:lnTo>
                <a:lnTo>
                  <a:pt x="90" y="180"/>
                </a:lnTo>
                <a:lnTo>
                  <a:pt x="116" y="183"/>
                </a:lnTo>
                <a:lnTo>
                  <a:pt x="142" y="187"/>
                </a:lnTo>
                <a:lnTo>
                  <a:pt x="167" y="193"/>
                </a:lnTo>
                <a:lnTo>
                  <a:pt x="180" y="196"/>
                </a:lnTo>
                <a:lnTo>
                  <a:pt x="191" y="200"/>
                </a:lnTo>
                <a:lnTo>
                  <a:pt x="203" y="206"/>
                </a:lnTo>
                <a:lnTo>
                  <a:pt x="215" y="212"/>
                </a:lnTo>
                <a:lnTo>
                  <a:pt x="258" y="229"/>
                </a:lnTo>
                <a:lnTo>
                  <a:pt x="302" y="244"/>
                </a:lnTo>
                <a:lnTo>
                  <a:pt x="345" y="258"/>
                </a:lnTo>
                <a:lnTo>
                  <a:pt x="390" y="270"/>
                </a:lnTo>
                <a:lnTo>
                  <a:pt x="400" y="277"/>
                </a:lnTo>
                <a:lnTo>
                  <a:pt x="408" y="286"/>
                </a:lnTo>
                <a:lnTo>
                  <a:pt x="415" y="295"/>
                </a:lnTo>
                <a:lnTo>
                  <a:pt x="421" y="303"/>
                </a:lnTo>
                <a:lnTo>
                  <a:pt x="429" y="324"/>
                </a:lnTo>
                <a:lnTo>
                  <a:pt x="437" y="345"/>
                </a:lnTo>
                <a:lnTo>
                  <a:pt x="443" y="367"/>
                </a:lnTo>
                <a:lnTo>
                  <a:pt x="448" y="387"/>
                </a:lnTo>
                <a:lnTo>
                  <a:pt x="453" y="399"/>
                </a:lnTo>
                <a:lnTo>
                  <a:pt x="457" y="408"/>
                </a:lnTo>
                <a:lnTo>
                  <a:pt x="463" y="418"/>
                </a:lnTo>
                <a:lnTo>
                  <a:pt x="470" y="427"/>
                </a:lnTo>
                <a:lnTo>
                  <a:pt x="485" y="402"/>
                </a:lnTo>
                <a:lnTo>
                  <a:pt x="501" y="376"/>
                </a:lnTo>
                <a:lnTo>
                  <a:pt x="518" y="353"/>
                </a:lnTo>
                <a:lnTo>
                  <a:pt x="538" y="329"/>
                </a:lnTo>
                <a:lnTo>
                  <a:pt x="560" y="308"/>
                </a:lnTo>
                <a:lnTo>
                  <a:pt x="582" y="287"/>
                </a:lnTo>
                <a:lnTo>
                  <a:pt x="605" y="268"/>
                </a:lnTo>
                <a:lnTo>
                  <a:pt x="631" y="250"/>
                </a:lnTo>
                <a:lnTo>
                  <a:pt x="656" y="232"/>
                </a:lnTo>
                <a:lnTo>
                  <a:pt x="682" y="216"/>
                </a:lnTo>
                <a:lnTo>
                  <a:pt x="709" y="202"/>
                </a:lnTo>
                <a:lnTo>
                  <a:pt x="737" y="187"/>
                </a:lnTo>
                <a:lnTo>
                  <a:pt x="765" y="176"/>
                </a:lnTo>
                <a:lnTo>
                  <a:pt x="794" y="164"/>
                </a:lnTo>
                <a:lnTo>
                  <a:pt x="821" y="154"/>
                </a:lnTo>
                <a:lnTo>
                  <a:pt x="849" y="145"/>
                </a:lnTo>
                <a:lnTo>
                  <a:pt x="862" y="139"/>
                </a:lnTo>
                <a:lnTo>
                  <a:pt x="875" y="134"/>
                </a:lnTo>
                <a:lnTo>
                  <a:pt x="889" y="131"/>
                </a:lnTo>
                <a:lnTo>
                  <a:pt x="904" y="128"/>
                </a:lnTo>
                <a:lnTo>
                  <a:pt x="918" y="125"/>
                </a:lnTo>
                <a:lnTo>
                  <a:pt x="931" y="122"/>
                </a:lnTo>
                <a:lnTo>
                  <a:pt x="945" y="118"/>
                </a:lnTo>
                <a:lnTo>
                  <a:pt x="958" y="112"/>
                </a:lnTo>
                <a:lnTo>
                  <a:pt x="972" y="110"/>
                </a:lnTo>
                <a:lnTo>
                  <a:pt x="987" y="106"/>
                </a:lnTo>
                <a:lnTo>
                  <a:pt x="978" y="97"/>
                </a:lnTo>
                <a:lnTo>
                  <a:pt x="968" y="90"/>
                </a:lnTo>
                <a:lnTo>
                  <a:pt x="958" y="83"/>
                </a:lnTo>
                <a:lnTo>
                  <a:pt x="947" y="75"/>
                </a:lnTo>
                <a:lnTo>
                  <a:pt x="924" y="64"/>
                </a:lnTo>
                <a:lnTo>
                  <a:pt x="901" y="55"/>
                </a:lnTo>
                <a:lnTo>
                  <a:pt x="853" y="42"/>
                </a:lnTo>
                <a:lnTo>
                  <a:pt x="802" y="32"/>
                </a:lnTo>
                <a:close/>
              </a:path>
            </a:pathLst>
          </a:custGeom>
          <a:solidFill>
            <a:srgbClr val="303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3320" y="1641600"/>
            <a:ext cx="1400040" cy="606240"/>
          </a:xfrm>
          <a:custGeom>
            <a:avLst/>
            <a:gdLst/>
            <a:ahLst/>
            <a:rect l="l" t="t" r="r" b="b"/>
            <a:pathLst>
              <a:path w="882" h="382">
                <a:moveTo>
                  <a:pt x="719" y="28"/>
                </a:moveTo>
                <a:lnTo>
                  <a:pt x="675" y="35"/>
                </a:lnTo>
                <a:lnTo>
                  <a:pt x="629" y="42"/>
                </a:lnTo>
                <a:lnTo>
                  <a:pt x="607" y="44"/>
                </a:lnTo>
                <a:lnTo>
                  <a:pt x="584" y="44"/>
                </a:lnTo>
                <a:lnTo>
                  <a:pt x="573" y="42"/>
                </a:lnTo>
                <a:lnTo>
                  <a:pt x="562" y="39"/>
                </a:lnTo>
                <a:lnTo>
                  <a:pt x="552" y="36"/>
                </a:lnTo>
                <a:lnTo>
                  <a:pt x="542" y="32"/>
                </a:lnTo>
                <a:lnTo>
                  <a:pt x="531" y="23"/>
                </a:lnTo>
                <a:lnTo>
                  <a:pt x="521" y="18"/>
                </a:lnTo>
                <a:lnTo>
                  <a:pt x="510" y="12"/>
                </a:lnTo>
                <a:lnTo>
                  <a:pt x="498" y="7"/>
                </a:lnTo>
                <a:lnTo>
                  <a:pt x="486" y="3"/>
                </a:lnTo>
                <a:lnTo>
                  <a:pt x="473" y="2"/>
                </a:lnTo>
                <a:lnTo>
                  <a:pt x="460" y="0"/>
                </a:lnTo>
                <a:lnTo>
                  <a:pt x="447" y="0"/>
                </a:lnTo>
                <a:lnTo>
                  <a:pt x="420" y="2"/>
                </a:lnTo>
                <a:lnTo>
                  <a:pt x="394" y="4"/>
                </a:lnTo>
                <a:lnTo>
                  <a:pt x="369" y="10"/>
                </a:lnTo>
                <a:lnTo>
                  <a:pt x="346" y="19"/>
                </a:lnTo>
                <a:lnTo>
                  <a:pt x="301" y="26"/>
                </a:lnTo>
                <a:lnTo>
                  <a:pt x="256" y="36"/>
                </a:lnTo>
                <a:lnTo>
                  <a:pt x="211" y="48"/>
                </a:lnTo>
                <a:lnTo>
                  <a:pt x="167" y="61"/>
                </a:lnTo>
                <a:lnTo>
                  <a:pt x="125" y="77"/>
                </a:lnTo>
                <a:lnTo>
                  <a:pt x="83" y="93"/>
                </a:lnTo>
                <a:lnTo>
                  <a:pt x="41" y="110"/>
                </a:lnTo>
                <a:lnTo>
                  <a:pt x="0" y="129"/>
                </a:lnTo>
                <a:lnTo>
                  <a:pt x="0" y="135"/>
                </a:lnTo>
                <a:lnTo>
                  <a:pt x="3" y="139"/>
                </a:lnTo>
                <a:lnTo>
                  <a:pt x="6" y="144"/>
                </a:lnTo>
                <a:lnTo>
                  <a:pt x="10" y="148"/>
                </a:lnTo>
                <a:lnTo>
                  <a:pt x="32" y="154"/>
                </a:lnTo>
                <a:lnTo>
                  <a:pt x="55" y="157"/>
                </a:lnTo>
                <a:lnTo>
                  <a:pt x="80" y="160"/>
                </a:lnTo>
                <a:lnTo>
                  <a:pt x="103" y="163"/>
                </a:lnTo>
                <a:lnTo>
                  <a:pt x="127" y="167"/>
                </a:lnTo>
                <a:lnTo>
                  <a:pt x="150" y="171"/>
                </a:lnTo>
                <a:lnTo>
                  <a:pt x="160" y="174"/>
                </a:lnTo>
                <a:lnTo>
                  <a:pt x="172" y="179"/>
                </a:lnTo>
                <a:lnTo>
                  <a:pt x="182" y="183"/>
                </a:lnTo>
                <a:lnTo>
                  <a:pt x="192" y="189"/>
                </a:lnTo>
                <a:lnTo>
                  <a:pt x="231" y="203"/>
                </a:lnTo>
                <a:lnTo>
                  <a:pt x="270" y="216"/>
                </a:lnTo>
                <a:lnTo>
                  <a:pt x="309" y="229"/>
                </a:lnTo>
                <a:lnTo>
                  <a:pt x="350" y="241"/>
                </a:lnTo>
                <a:lnTo>
                  <a:pt x="359" y="247"/>
                </a:lnTo>
                <a:lnTo>
                  <a:pt x="366" y="254"/>
                </a:lnTo>
                <a:lnTo>
                  <a:pt x="372" y="263"/>
                </a:lnTo>
                <a:lnTo>
                  <a:pt x="378" y="270"/>
                </a:lnTo>
                <a:lnTo>
                  <a:pt x="385" y="289"/>
                </a:lnTo>
                <a:lnTo>
                  <a:pt x="391" y="308"/>
                </a:lnTo>
                <a:lnTo>
                  <a:pt x="396" y="326"/>
                </a:lnTo>
                <a:lnTo>
                  <a:pt x="401" y="345"/>
                </a:lnTo>
                <a:lnTo>
                  <a:pt x="405" y="355"/>
                </a:lnTo>
                <a:lnTo>
                  <a:pt x="409" y="364"/>
                </a:lnTo>
                <a:lnTo>
                  <a:pt x="414" y="373"/>
                </a:lnTo>
                <a:lnTo>
                  <a:pt x="420" y="382"/>
                </a:lnTo>
                <a:lnTo>
                  <a:pt x="433" y="358"/>
                </a:lnTo>
                <a:lnTo>
                  <a:pt x="447" y="337"/>
                </a:lnTo>
                <a:lnTo>
                  <a:pt x="465" y="315"/>
                </a:lnTo>
                <a:lnTo>
                  <a:pt x="482" y="295"/>
                </a:lnTo>
                <a:lnTo>
                  <a:pt x="501" y="274"/>
                </a:lnTo>
                <a:lnTo>
                  <a:pt x="521" y="255"/>
                </a:lnTo>
                <a:lnTo>
                  <a:pt x="542" y="238"/>
                </a:lnTo>
                <a:lnTo>
                  <a:pt x="565" y="222"/>
                </a:lnTo>
                <a:lnTo>
                  <a:pt x="586" y="206"/>
                </a:lnTo>
                <a:lnTo>
                  <a:pt x="611" y="193"/>
                </a:lnTo>
                <a:lnTo>
                  <a:pt x="634" y="179"/>
                </a:lnTo>
                <a:lnTo>
                  <a:pt x="659" y="167"/>
                </a:lnTo>
                <a:lnTo>
                  <a:pt x="685" y="155"/>
                </a:lnTo>
                <a:lnTo>
                  <a:pt x="710" y="147"/>
                </a:lnTo>
                <a:lnTo>
                  <a:pt x="734" y="136"/>
                </a:lnTo>
                <a:lnTo>
                  <a:pt x="759" y="129"/>
                </a:lnTo>
                <a:lnTo>
                  <a:pt x="771" y="123"/>
                </a:lnTo>
                <a:lnTo>
                  <a:pt x="784" y="119"/>
                </a:lnTo>
                <a:lnTo>
                  <a:pt x="795" y="116"/>
                </a:lnTo>
                <a:lnTo>
                  <a:pt x="808" y="113"/>
                </a:lnTo>
                <a:lnTo>
                  <a:pt x="822" y="110"/>
                </a:lnTo>
                <a:lnTo>
                  <a:pt x="833" y="107"/>
                </a:lnTo>
                <a:lnTo>
                  <a:pt x="845" y="103"/>
                </a:lnTo>
                <a:lnTo>
                  <a:pt x="856" y="99"/>
                </a:lnTo>
                <a:lnTo>
                  <a:pt x="864" y="99"/>
                </a:lnTo>
                <a:lnTo>
                  <a:pt x="869" y="97"/>
                </a:lnTo>
                <a:lnTo>
                  <a:pt x="877" y="96"/>
                </a:lnTo>
                <a:lnTo>
                  <a:pt x="882" y="94"/>
                </a:lnTo>
                <a:lnTo>
                  <a:pt x="875" y="86"/>
                </a:lnTo>
                <a:lnTo>
                  <a:pt x="867" y="78"/>
                </a:lnTo>
                <a:lnTo>
                  <a:pt x="856" y="73"/>
                </a:lnTo>
                <a:lnTo>
                  <a:pt x="848" y="67"/>
                </a:lnTo>
                <a:lnTo>
                  <a:pt x="827" y="57"/>
                </a:lnTo>
                <a:lnTo>
                  <a:pt x="807" y="48"/>
                </a:lnTo>
                <a:lnTo>
                  <a:pt x="764" y="36"/>
                </a:lnTo>
                <a:lnTo>
                  <a:pt x="719" y="28"/>
                </a:lnTo>
                <a:close/>
              </a:path>
            </a:pathLst>
          </a:custGeom>
          <a:solidFill>
            <a:srgbClr val="174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660680"/>
            <a:ext cx="1239840" cy="533160"/>
          </a:xfrm>
          <a:custGeom>
            <a:avLst/>
            <a:gdLst/>
            <a:ahLst/>
            <a:rect l="l" t="t" r="r" b="b"/>
            <a:pathLst>
              <a:path w="781" h="336">
                <a:moveTo>
                  <a:pt x="636" y="24"/>
                </a:moveTo>
                <a:lnTo>
                  <a:pt x="597" y="30"/>
                </a:lnTo>
                <a:lnTo>
                  <a:pt x="556" y="36"/>
                </a:lnTo>
                <a:lnTo>
                  <a:pt x="536" y="37"/>
                </a:lnTo>
                <a:lnTo>
                  <a:pt x="517" y="37"/>
                </a:lnTo>
                <a:lnTo>
                  <a:pt x="507" y="36"/>
                </a:lnTo>
                <a:lnTo>
                  <a:pt x="496" y="33"/>
                </a:lnTo>
                <a:lnTo>
                  <a:pt x="488" y="30"/>
                </a:lnTo>
                <a:lnTo>
                  <a:pt x="478" y="27"/>
                </a:lnTo>
                <a:lnTo>
                  <a:pt x="470" y="20"/>
                </a:lnTo>
                <a:lnTo>
                  <a:pt x="460" y="14"/>
                </a:lnTo>
                <a:lnTo>
                  <a:pt x="451" y="8"/>
                </a:lnTo>
                <a:lnTo>
                  <a:pt x="441" y="6"/>
                </a:lnTo>
                <a:lnTo>
                  <a:pt x="430" y="3"/>
                </a:lnTo>
                <a:lnTo>
                  <a:pt x="418" y="1"/>
                </a:lnTo>
                <a:lnTo>
                  <a:pt x="406" y="0"/>
                </a:lnTo>
                <a:lnTo>
                  <a:pt x="395" y="0"/>
                </a:lnTo>
                <a:lnTo>
                  <a:pt x="372" y="1"/>
                </a:lnTo>
                <a:lnTo>
                  <a:pt x="348" y="4"/>
                </a:lnTo>
                <a:lnTo>
                  <a:pt x="327" y="10"/>
                </a:lnTo>
                <a:lnTo>
                  <a:pt x="306" y="16"/>
                </a:lnTo>
                <a:lnTo>
                  <a:pt x="266" y="23"/>
                </a:lnTo>
                <a:lnTo>
                  <a:pt x="227" y="32"/>
                </a:lnTo>
                <a:lnTo>
                  <a:pt x="187" y="42"/>
                </a:lnTo>
                <a:lnTo>
                  <a:pt x="150" y="53"/>
                </a:lnTo>
                <a:lnTo>
                  <a:pt x="112" y="66"/>
                </a:lnTo>
                <a:lnTo>
                  <a:pt x="74" y="81"/>
                </a:lnTo>
                <a:lnTo>
                  <a:pt x="36" y="97"/>
                </a:lnTo>
                <a:lnTo>
                  <a:pt x="0" y="113"/>
                </a:lnTo>
                <a:lnTo>
                  <a:pt x="2" y="119"/>
                </a:lnTo>
                <a:lnTo>
                  <a:pt x="3" y="123"/>
                </a:lnTo>
                <a:lnTo>
                  <a:pt x="6" y="126"/>
                </a:lnTo>
                <a:lnTo>
                  <a:pt x="10" y="129"/>
                </a:lnTo>
                <a:lnTo>
                  <a:pt x="31" y="135"/>
                </a:lnTo>
                <a:lnTo>
                  <a:pt x="51" y="138"/>
                </a:lnTo>
                <a:lnTo>
                  <a:pt x="71" y="140"/>
                </a:lnTo>
                <a:lnTo>
                  <a:pt x="92" y="143"/>
                </a:lnTo>
                <a:lnTo>
                  <a:pt x="113" y="146"/>
                </a:lnTo>
                <a:lnTo>
                  <a:pt x="132" y="151"/>
                </a:lnTo>
                <a:lnTo>
                  <a:pt x="153" y="158"/>
                </a:lnTo>
                <a:lnTo>
                  <a:pt x="170" y="167"/>
                </a:lnTo>
                <a:lnTo>
                  <a:pt x="205" y="180"/>
                </a:lnTo>
                <a:lnTo>
                  <a:pt x="240" y="191"/>
                </a:lnTo>
                <a:lnTo>
                  <a:pt x="274" y="201"/>
                </a:lnTo>
                <a:lnTo>
                  <a:pt x="309" y="211"/>
                </a:lnTo>
                <a:lnTo>
                  <a:pt x="316" y="217"/>
                </a:lnTo>
                <a:lnTo>
                  <a:pt x="324" y="223"/>
                </a:lnTo>
                <a:lnTo>
                  <a:pt x="330" y="230"/>
                </a:lnTo>
                <a:lnTo>
                  <a:pt x="334" y="238"/>
                </a:lnTo>
                <a:lnTo>
                  <a:pt x="341" y="254"/>
                </a:lnTo>
                <a:lnTo>
                  <a:pt x="346" y="271"/>
                </a:lnTo>
                <a:lnTo>
                  <a:pt x="350" y="288"/>
                </a:lnTo>
                <a:lnTo>
                  <a:pt x="356" y="306"/>
                </a:lnTo>
                <a:lnTo>
                  <a:pt x="359" y="313"/>
                </a:lnTo>
                <a:lnTo>
                  <a:pt x="363" y="322"/>
                </a:lnTo>
                <a:lnTo>
                  <a:pt x="367" y="329"/>
                </a:lnTo>
                <a:lnTo>
                  <a:pt x="372" y="336"/>
                </a:lnTo>
                <a:lnTo>
                  <a:pt x="383" y="316"/>
                </a:lnTo>
                <a:lnTo>
                  <a:pt x="396" y="297"/>
                </a:lnTo>
                <a:lnTo>
                  <a:pt x="411" y="278"/>
                </a:lnTo>
                <a:lnTo>
                  <a:pt x="427" y="259"/>
                </a:lnTo>
                <a:lnTo>
                  <a:pt x="443" y="242"/>
                </a:lnTo>
                <a:lnTo>
                  <a:pt x="460" y="226"/>
                </a:lnTo>
                <a:lnTo>
                  <a:pt x="479" y="210"/>
                </a:lnTo>
                <a:lnTo>
                  <a:pt x="499" y="196"/>
                </a:lnTo>
                <a:lnTo>
                  <a:pt x="520" y="182"/>
                </a:lnTo>
                <a:lnTo>
                  <a:pt x="540" y="169"/>
                </a:lnTo>
                <a:lnTo>
                  <a:pt x="562" y="158"/>
                </a:lnTo>
                <a:lnTo>
                  <a:pt x="583" y="146"/>
                </a:lnTo>
                <a:lnTo>
                  <a:pt x="605" y="138"/>
                </a:lnTo>
                <a:lnTo>
                  <a:pt x="627" y="127"/>
                </a:lnTo>
                <a:lnTo>
                  <a:pt x="649" y="120"/>
                </a:lnTo>
                <a:lnTo>
                  <a:pt x="672" y="113"/>
                </a:lnTo>
                <a:lnTo>
                  <a:pt x="681" y="109"/>
                </a:lnTo>
                <a:lnTo>
                  <a:pt x="692" y="104"/>
                </a:lnTo>
                <a:lnTo>
                  <a:pt x="702" y="101"/>
                </a:lnTo>
                <a:lnTo>
                  <a:pt x="714" y="100"/>
                </a:lnTo>
                <a:lnTo>
                  <a:pt x="726" y="97"/>
                </a:lnTo>
                <a:lnTo>
                  <a:pt x="736" y="95"/>
                </a:lnTo>
                <a:lnTo>
                  <a:pt x="747" y="91"/>
                </a:lnTo>
                <a:lnTo>
                  <a:pt x="756" y="87"/>
                </a:lnTo>
                <a:lnTo>
                  <a:pt x="769" y="85"/>
                </a:lnTo>
                <a:lnTo>
                  <a:pt x="781" y="82"/>
                </a:lnTo>
                <a:lnTo>
                  <a:pt x="765" y="69"/>
                </a:lnTo>
                <a:lnTo>
                  <a:pt x="749" y="59"/>
                </a:lnTo>
                <a:lnTo>
                  <a:pt x="731" y="50"/>
                </a:lnTo>
                <a:lnTo>
                  <a:pt x="713" y="43"/>
                </a:lnTo>
                <a:lnTo>
                  <a:pt x="673" y="32"/>
                </a:lnTo>
                <a:lnTo>
                  <a:pt x="636" y="24"/>
                </a:lnTo>
                <a:close/>
              </a:path>
            </a:pathLst>
          </a:custGeom>
          <a:solidFill>
            <a:srgbClr val="00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8840" y="1677960"/>
            <a:ext cx="1073160" cy="463680"/>
          </a:xfrm>
          <a:custGeom>
            <a:avLst/>
            <a:gdLst/>
            <a:ahLst/>
            <a:rect l="l" t="t" r="r" b="b"/>
            <a:pathLst>
              <a:path w="676" h="292">
                <a:moveTo>
                  <a:pt x="549" y="21"/>
                </a:moveTo>
                <a:lnTo>
                  <a:pt x="516" y="28"/>
                </a:lnTo>
                <a:lnTo>
                  <a:pt x="481" y="32"/>
                </a:lnTo>
                <a:lnTo>
                  <a:pt x="464" y="34"/>
                </a:lnTo>
                <a:lnTo>
                  <a:pt x="446" y="32"/>
                </a:lnTo>
                <a:lnTo>
                  <a:pt x="430" y="29"/>
                </a:lnTo>
                <a:lnTo>
                  <a:pt x="414" y="24"/>
                </a:lnTo>
                <a:lnTo>
                  <a:pt x="407" y="18"/>
                </a:lnTo>
                <a:lnTo>
                  <a:pt x="399" y="13"/>
                </a:lnTo>
                <a:lnTo>
                  <a:pt x="390" y="9"/>
                </a:lnTo>
                <a:lnTo>
                  <a:pt x="381" y="6"/>
                </a:lnTo>
                <a:lnTo>
                  <a:pt x="372" y="3"/>
                </a:lnTo>
                <a:lnTo>
                  <a:pt x="362" y="2"/>
                </a:lnTo>
                <a:lnTo>
                  <a:pt x="352" y="0"/>
                </a:lnTo>
                <a:lnTo>
                  <a:pt x="342" y="0"/>
                </a:lnTo>
                <a:lnTo>
                  <a:pt x="322" y="2"/>
                </a:lnTo>
                <a:lnTo>
                  <a:pt x="301" y="5"/>
                </a:lnTo>
                <a:lnTo>
                  <a:pt x="282" y="9"/>
                </a:lnTo>
                <a:lnTo>
                  <a:pt x="265" y="15"/>
                </a:lnTo>
                <a:lnTo>
                  <a:pt x="230" y="21"/>
                </a:lnTo>
                <a:lnTo>
                  <a:pt x="195" y="28"/>
                </a:lnTo>
                <a:lnTo>
                  <a:pt x="162" y="38"/>
                </a:lnTo>
                <a:lnTo>
                  <a:pt x="129" y="48"/>
                </a:lnTo>
                <a:lnTo>
                  <a:pt x="95" y="60"/>
                </a:lnTo>
                <a:lnTo>
                  <a:pt x="63" y="71"/>
                </a:lnTo>
                <a:lnTo>
                  <a:pt x="31" y="84"/>
                </a:lnTo>
                <a:lnTo>
                  <a:pt x="0" y="99"/>
                </a:lnTo>
                <a:lnTo>
                  <a:pt x="0" y="103"/>
                </a:lnTo>
                <a:lnTo>
                  <a:pt x="2" y="108"/>
                </a:lnTo>
                <a:lnTo>
                  <a:pt x="5" y="111"/>
                </a:lnTo>
                <a:lnTo>
                  <a:pt x="8" y="113"/>
                </a:lnTo>
                <a:lnTo>
                  <a:pt x="26" y="118"/>
                </a:lnTo>
                <a:lnTo>
                  <a:pt x="43" y="121"/>
                </a:lnTo>
                <a:lnTo>
                  <a:pt x="60" y="122"/>
                </a:lnTo>
                <a:lnTo>
                  <a:pt x="79" y="125"/>
                </a:lnTo>
                <a:lnTo>
                  <a:pt x="97" y="128"/>
                </a:lnTo>
                <a:lnTo>
                  <a:pt x="114" y="132"/>
                </a:lnTo>
                <a:lnTo>
                  <a:pt x="130" y="137"/>
                </a:lnTo>
                <a:lnTo>
                  <a:pt x="146" y="145"/>
                </a:lnTo>
                <a:lnTo>
                  <a:pt x="177" y="157"/>
                </a:lnTo>
                <a:lnTo>
                  <a:pt x="206" y="167"/>
                </a:lnTo>
                <a:lnTo>
                  <a:pt x="236" y="176"/>
                </a:lnTo>
                <a:lnTo>
                  <a:pt x="266" y="185"/>
                </a:lnTo>
                <a:lnTo>
                  <a:pt x="274" y="189"/>
                </a:lnTo>
                <a:lnTo>
                  <a:pt x="280" y="195"/>
                </a:lnTo>
                <a:lnTo>
                  <a:pt x="284" y="200"/>
                </a:lnTo>
                <a:lnTo>
                  <a:pt x="288" y="206"/>
                </a:lnTo>
                <a:lnTo>
                  <a:pt x="294" y="221"/>
                </a:lnTo>
                <a:lnTo>
                  <a:pt x="298" y="235"/>
                </a:lnTo>
                <a:lnTo>
                  <a:pt x="303" y="250"/>
                </a:lnTo>
                <a:lnTo>
                  <a:pt x="307" y="264"/>
                </a:lnTo>
                <a:lnTo>
                  <a:pt x="313" y="279"/>
                </a:lnTo>
                <a:lnTo>
                  <a:pt x="322" y="292"/>
                </a:lnTo>
                <a:lnTo>
                  <a:pt x="332" y="274"/>
                </a:lnTo>
                <a:lnTo>
                  <a:pt x="342" y="257"/>
                </a:lnTo>
                <a:lnTo>
                  <a:pt x="355" y="241"/>
                </a:lnTo>
                <a:lnTo>
                  <a:pt x="368" y="225"/>
                </a:lnTo>
                <a:lnTo>
                  <a:pt x="383" y="211"/>
                </a:lnTo>
                <a:lnTo>
                  <a:pt x="399" y="196"/>
                </a:lnTo>
                <a:lnTo>
                  <a:pt x="414" y="183"/>
                </a:lnTo>
                <a:lnTo>
                  <a:pt x="432" y="170"/>
                </a:lnTo>
                <a:lnTo>
                  <a:pt x="449" y="158"/>
                </a:lnTo>
                <a:lnTo>
                  <a:pt x="467" y="148"/>
                </a:lnTo>
                <a:lnTo>
                  <a:pt x="486" y="138"/>
                </a:lnTo>
                <a:lnTo>
                  <a:pt x="504" y="128"/>
                </a:lnTo>
                <a:lnTo>
                  <a:pt x="523" y="119"/>
                </a:lnTo>
                <a:lnTo>
                  <a:pt x="542" y="112"/>
                </a:lnTo>
                <a:lnTo>
                  <a:pt x="562" y="105"/>
                </a:lnTo>
                <a:lnTo>
                  <a:pt x="581" y="99"/>
                </a:lnTo>
                <a:lnTo>
                  <a:pt x="590" y="95"/>
                </a:lnTo>
                <a:lnTo>
                  <a:pt x="599" y="92"/>
                </a:lnTo>
                <a:lnTo>
                  <a:pt x="609" y="89"/>
                </a:lnTo>
                <a:lnTo>
                  <a:pt x="618" y="87"/>
                </a:lnTo>
                <a:lnTo>
                  <a:pt x="628" y="86"/>
                </a:lnTo>
                <a:lnTo>
                  <a:pt x="638" y="83"/>
                </a:lnTo>
                <a:lnTo>
                  <a:pt x="647" y="80"/>
                </a:lnTo>
                <a:lnTo>
                  <a:pt x="655" y="76"/>
                </a:lnTo>
                <a:lnTo>
                  <a:pt x="666" y="76"/>
                </a:lnTo>
                <a:lnTo>
                  <a:pt x="676" y="73"/>
                </a:lnTo>
                <a:lnTo>
                  <a:pt x="663" y="61"/>
                </a:lnTo>
                <a:lnTo>
                  <a:pt x="648" y="51"/>
                </a:lnTo>
                <a:lnTo>
                  <a:pt x="632" y="44"/>
                </a:lnTo>
                <a:lnTo>
                  <a:pt x="618" y="38"/>
                </a:lnTo>
                <a:lnTo>
                  <a:pt x="583" y="28"/>
                </a:lnTo>
                <a:lnTo>
                  <a:pt x="549" y="21"/>
                </a:lnTo>
                <a:close/>
              </a:path>
            </a:pathLst>
          </a:custGeom>
          <a:solidFill>
            <a:srgbClr val="006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6600" y="1697040"/>
            <a:ext cx="907920" cy="392040"/>
          </a:xfrm>
          <a:custGeom>
            <a:avLst/>
            <a:gdLst/>
            <a:ahLst/>
            <a:rect l="l" t="t" r="r" b="b"/>
            <a:pathLst>
              <a:path w="572" h="247">
                <a:moveTo>
                  <a:pt x="464" y="17"/>
                </a:moveTo>
                <a:lnTo>
                  <a:pt x="437" y="23"/>
                </a:lnTo>
                <a:lnTo>
                  <a:pt x="408" y="27"/>
                </a:lnTo>
                <a:lnTo>
                  <a:pt x="392" y="29"/>
                </a:lnTo>
                <a:lnTo>
                  <a:pt x="377" y="27"/>
                </a:lnTo>
                <a:lnTo>
                  <a:pt x="364" y="26"/>
                </a:lnTo>
                <a:lnTo>
                  <a:pt x="350" y="20"/>
                </a:lnTo>
                <a:lnTo>
                  <a:pt x="344" y="16"/>
                </a:lnTo>
                <a:lnTo>
                  <a:pt x="336" y="12"/>
                </a:lnTo>
                <a:lnTo>
                  <a:pt x="329" y="7"/>
                </a:lnTo>
                <a:lnTo>
                  <a:pt x="322" y="4"/>
                </a:lnTo>
                <a:lnTo>
                  <a:pt x="306" y="1"/>
                </a:lnTo>
                <a:lnTo>
                  <a:pt x="289" y="0"/>
                </a:lnTo>
                <a:lnTo>
                  <a:pt x="271" y="1"/>
                </a:lnTo>
                <a:lnTo>
                  <a:pt x="255" y="3"/>
                </a:lnTo>
                <a:lnTo>
                  <a:pt x="239" y="7"/>
                </a:lnTo>
                <a:lnTo>
                  <a:pt x="223" y="12"/>
                </a:lnTo>
                <a:lnTo>
                  <a:pt x="194" y="17"/>
                </a:lnTo>
                <a:lnTo>
                  <a:pt x="165" y="23"/>
                </a:lnTo>
                <a:lnTo>
                  <a:pt x="136" y="32"/>
                </a:lnTo>
                <a:lnTo>
                  <a:pt x="109" y="41"/>
                </a:lnTo>
                <a:lnTo>
                  <a:pt x="81" y="49"/>
                </a:lnTo>
                <a:lnTo>
                  <a:pt x="54" y="59"/>
                </a:lnTo>
                <a:lnTo>
                  <a:pt x="26" y="71"/>
                </a:lnTo>
                <a:lnTo>
                  <a:pt x="0" y="84"/>
                </a:lnTo>
                <a:lnTo>
                  <a:pt x="0" y="87"/>
                </a:lnTo>
                <a:lnTo>
                  <a:pt x="1" y="90"/>
                </a:lnTo>
                <a:lnTo>
                  <a:pt x="4" y="93"/>
                </a:lnTo>
                <a:lnTo>
                  <a:pt x="7" y="96"/>
                </a:lnTo>
                <a:lnTo>
                  <a:pt x="36" y="101"/>
                </a:lnTo>
                <a:lnTo>
                  <a:pt x="67" y="106"/>
                </a:lnTo>
                <a:lnTo>
                  <a:pt x="81" y="107"/>
                </a:lnTo>
                <a:lnTo>
                  <a:pt x="97" y="110"/>
                </a:lnTo>
                <a:lnTo>
                  <a:pt x="110" y="116"/>
                </a:lnTo>
                <a:lnTo>
                  <a:pt x="125" y="122"/>
                </a:lnTo>
                <a:lnTo>
                  <a:pt x="149" y="132"/>
                </a:lnTo>
                <a:lnTo>
                  <a:pt x="174" y="141"/>
                </a:lnTo>
                <a:lnTo>
                  <a:pt x="200" y="149"/>
                </a:lnTo>
                <a:lnTo>
                  <a:pt x="226" y="157"/>
                </a:lnTo>
                <a:lnTo>
                  <a:pt x="232" y="161"/>
                </a:lnTo>
                <a:lnTo>
                  <a:pt x="236" y="165"/>
                </a:lnTo>
                <a:lnTo>
                  <a:pt x="241" y="170"/>
                </a:lnTo>
                <a:lnTo>
                  <a:pt x="244" y="175"/>
                </a:lnTo>
                <a:lnTo>
                  <a:pt x="249" y="187"/>
                </a:lnTo>
                <a:lnTo>
                  <a:pt x="252" y="199"/>
                </a:lnTo>
                <a:lnTo>
                  <a:pt x="257" y="212"/>
                </a:lnTo>
                <a:lnTo>
                  <a:pt x="260" y="225"/>
                </a:lnTo>
                <a:lnTo>
                  <a:pt x="265" y="236"/>
                </a:lnTo>
                <a:lnTo>
                  <a:pt x="273" y="247"/>
                </a:lnTo>
                <a:lnTo>
                  <a:pt x="280" y="232"/>
                </a:lnTo>
                <a:lnTo>
                  <a:pt x="290" y="218"/>
                </a:lnTo>
                <a:lnTo>
                  <a:pt x="300" y="203"/>
                </a:lnTo>
                <a:lnTo>
                  <a:pt x="312" y="190"/>
                </a:lnTo>
                <a:lnTo>
                  <a:pt x="323" y="178"/>
                </a:lnTo>
                <a:lnTo>
                  <a:pt x="336" y="165"/>
                </a:lnTo>
                <a:lnTo>
                  <a:pt x="351" y="154"/>
                </a:lnTo>
                <a:lnTo>
                  <a:pt x="365" y="144"/>
                </a:lnTo>
                <a:lnTo>
                  <a:pt x="380" y="133"/>
                </a:lnTo>
                <a:lnTo>
                  <a:pt x="395" y="125"/>
                </a:lnTo>
                <a:lnTo>
                  <a:pt x="410" y="116"/>
                </a:lnTo>
                <a:lnTo>
                  <a:pt x="426" y="107"/>
                </a:lnTo>
                <a:lnTo>
                  <a:pt x="460" y="94"/>
                </a:lnTo>
                <a:lnTo>
                  <a:pt x="492" y="84"/>
                </a:lnTo>
                <a:lnTo>
                  <a:pt x="506" y="77"/>
                </a:lnTo>
                <a:lnTo>
                  <a:pt x="524" y="74"/>
                </a:lnTo>
                <a:lnTo>
                  <a:pt x="540" y="70"/>
                </a:lnTo>
                <a:lnTo>
                  <a:pt x="554" y="64"/>
                </a:lnTo>
                <a:lnTo>
                  <a:pt x="563" y="64"/>
                </a:lnTo>
                <a:lnTo>
                  <a:pt x="572" y="61"/>
                </a:lnTo>
                <a:lnTo>
                  <a:pt x="560" y="51"/>
                </a:lnTo>
                <a:lnTo>
                  <a:pt x="548" y="43"/>
                </a:lnTo>
                <a:lnTo>
                  <a:pt x="535" y="36"/>
                </a:lnTo>
                <a:lnTo>
                  <a:pt x="522" y="32"/>
                </a:lnTo>
                <a:lnTo>
                  <a:pt x="493" y="25"/>
                </a:lnTo>
                <a:lnTo>
                  <a:pt x="464" y="17"/>
                </a:lnTo>
                <a:close/>
              </a:path>
            </a:pathLst>
          </a:custGeom>
          <a:solidFill>
            <a:srgbClr val="007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360" y="1716120"/>
            <a:ext cx="741240" cy="318960"/>
          </a:xfrm>
          <a:custGeom>
            <a:avLst/>
            <a:gdLst/>
            <a:ahLst/>
            <a:rect l="l" t="t" r="r" b="b"/>
            <a:pathLst>
              <a:path w="467" h="201">
                <a:moveTo>
                  <a:pt x="380" y="15"/>
                </a:moveTo>
                <a:lnTo>
                  <a:pt x="357" y="18"/>
                </a:lnTo>
                <a:lnTo>
                  <a:pt x="332" y="23"/>
                </a:lnTo>
                <a:lnTo>
                  <a:pt x="321" y="23"/>
                </a:lnTo>
                <a:lnTo>
                  <a:pt x="309" y="23"/>
                </a:lnTo>
                <a:lnTo>
                  <a:pt x="298" y="20"/>
                </a:lnTo>
                <a:lnTo>
                  <a:pt x="286" y="15"/>
                </a:lnTo>
                <a:lnTo>
                  <a:pt x="282" y="11"/>
                </a:lnTo>
                <a:lnTo>
                  <a:pt x="276" y="8"/>
                </a:lnTo>
                <a:lnTo>
                  <a:pt x="270" y="5"/>
                </a:lnTo>
                <a:lnTo>
                  <a:pt x="264" y="2"/>
                </a:lnTo>
                <a:lnTo>
                  <a:pt x="251" y="0"/>
                </a:lnTo>
                <a:lnTo>
                  <a:pt x="237" y="0"/>
                </a:lnTo>
                <a:lnTo>
                  <a:pt x="222" y="0"/>
                </a:lnTo>
                <a:lnTo>
                  <a:pt x="209" y="2"/>
                </a:lnTo>
                <a:lnTo>
                  <a:pt x="195" y="5"/>
                </a:lnTo>
                <a:lnTo>
                  <a:pt x="183" y="10"/>
                </a:lnTo>
                <a:lnTo>
                  <a:pt x="160" y="14"/>
                </a:lnTo>
                <a:lnTo>
                  <a:pt x="135" y="18"/>
                </a:lnTo>
                <a:lnTo>
                  <a:pt x="112" y="26"/>
                </a:lnTo>
                <a:lnTo>
                  <a:pt x="89" y="33"/>
                </a:lnTo>
                <a:lnTo>
                  <a:pt x="65" y="40"/>
                </a:lnTo>
                <a:lnTo>
                  <a:pt x="44" y="49"/>
                </a:lnTo>
                <a:lnTo>
                  <a:pt x="22" y="58"/>
                </a:lnTo>
                <a:lnTo>
                  <a:pt x="0" y="68"/>
                </a:lnTo>
                <a:lnTo>
                  <a:pt x="2" y="74"/>
                </a:lnTo>
                <a:lnTo>
                  <a:pt x="6" y="78"/>
                </a:lnTo>
                <a:lnTo>
                  <a:pt x="29" y="84"/>
                </a:lnTo>
                <a:lnTo>
                  <a:pt x="55" y="87"/>
                </a:lnTo>
                <a:lnTo>
                  <a:pt x="67" y="88"/>
                </a:lnTo>
                <a:lnTo>
                  <a:pt x="79" y="91"/>
                </a:lnTo>
                <a:lnTo>
                  <a:pt x="90" y="94"/>
                </a:lnTo>
                <a:lnTo>
                  <a:pt x="102" y="100"/>
                </a:lnTo>
                <a:lnTo>
                  <a:pt x="122" y="108"/>
                </a:lnTo>
                <a:lnTo>
                  <a:pt x="142" y="114"/>
                </a:lnTo>
                <a:lnTo>
                  <a:pt x="164" y="121"/>
                </a:lnTo>
                <a:lnTo>
                  <a:pt x="184" y="127"/>
                </a:lnTo>
                <a:lnTo>
                  <a:pt x="193" y="134"/>
                </a:lnTo>
                <a:lnTo>
                  <a:pt x="199" y="143"/>
                </a:lnTo>
                <a:lnTo>
                  <a:pt x="203" y="153"/>
                </a:lnTo>
                <a:lnTo>
                  <a:pt x="206" y="163"/>
                </a:lnTo>
                <a:lnTo>
                  <a:pt x="209" y="174"/>
                </a:lnTo>
                <a:lnTo>
                  <a:pt x="212" y="184"/>
                </a:lnTo>
                <a:lnTo>
                  <a:pt x="216" y="192"/>
                </a:lnTo>
                <a:lnTo>
                  <a:pt x="222" y="201"/>
                </a:lnTo>
                <a:lnTo>
                  <a:pt x="229" y="190"/>
                </a:lnTo>
                <a:lnTo>
                  <a:pt x="237" y="178"/>
                </a:lnTo>
                <a:lnTo>
                  <a:pt x="245" y="166"/>
                </a:lnTo>
                <a:lnTo>
                  <a:pt x="254" y="155"/>
                </a:lnTo>
                <a:lnTo>
                  <a:pt x="264" y="145"/>
                </a:lnTo>
                <a:lnTo>
                  <a:pt x="276" y="136"/>
                </a:lnTo>
                <a:lnTo>
                  <a:pt x="287" y="126"/>
                </a:lnTo>
                <a:lnTo>
                  <a:pt x="299" y="117"/>
                </a:lnTo>
                <a:lnTo>
                  <a:pt x="324" y="101"/>
                </a:lnTo>
                <a:lnTo>
                  <a:pt x="350" y="88"/>
                </a:lnTo>
                <a:lnTo>
                  <a:pt x="376" y="76"/>
                </a:lnTo>
                <a:lnTo>
                  <a:pt x="402" y="68"/>
                </a:lnTo>
                <a:lnTo>
                  <a:pt x="415" y="63"/>
                </a:lnTo>
                <a:lnTo>
                  <a:pt x="428" y="60"/>
                </a:lnTo>
                <a:lnTo>
                  <a:pt x="441" y="58"/>
                </a:lnTo>
                <a:lnTo>
                  <a:pt x="453" y="52"/>
                </a:lnTo>
                <a:lnTo>
                  <a:pt x="460" y="52"/>
                </a:lnTo>
                <a:lnTo>
                  <a:pt x="467" y="50"/>
                </a:lnTo>
                <a:lnTo>
                  <a:pt x="459" y="42"/>
                </a:lnTo>
                <a:lnTo>
                  <a:pt x="449" y="36"/>
                </a:lnTo>
                <a:lnTo>
                  <a:pt x="438" y="30"/>
                </a:lnTo>
                <a:lnTo>
                  <a:pt x="427" y="26"/>
                </a:lnTo>
                <a:lnTo>
                  <a:pt x="404" y="20"/>
                </a:lnTo>
                <a:lnTo>
                  <a:pt x="380" y="15"/>
                </a:lnTo>
                <a:close/>
              </a:path>
            </a:pathLst>
          </a:custGeom>
          <a:solidFill>
            <a:srgbClr val="008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62240" y="2244600"/>
            <a:ext cx="183960" cy="195480"/>
          </a:xfrm>
          <a:custGeom>
            <a:avLst/>
            <a:gdLst/>
            <a:ahLst/>
            <a:rect l="l" t="t" r="r" b="b"/>
            <a:pathLst>
              <a:path w="116" h="123">
                <a:moveTo>
                  <a:pt x="107" y="38"/>
                </a:moveTo>
                <a:lnTo>
                  <a:pt x="101" y="31"/>
                </a:lnTo>
                <a:lnTo>
                  <a:pt x="95" y="23"/>
                </a:lnTo>
                <a:lnTo>
                  <a:pt x="88" y="16"/>
                </a:lnTo>
                <a:lnTo>
                  <a:pt x="81" y="10"/>
                </a:lnTo>
                <a:lnTo>
                  <a:pt x="72" y="5"/>
                </a:lnTo>
                <a:lnTo>
                  <a:pt x="63" y="2"/>
                </a:lnTo>
                <a:lnTo>
                  <a:pt x="53" y="0"/>
                </a:lnTo>
                <a:lnTo>
                  <a:pt x="43" y="0"/>
                </a:lnTo>
                <a:lnTo>
                  <a:pt x="31" y="0"/>
                </a:lnTo>
                <a:lnTo>
                  <a:pt x="20" y="5"/>
                </a:lnTo>
                <a:lnTo>
                  <a:pt x="10" y="10"/>
                </a:lnTo>
                <a:lnTo>
                  <a:pt x="0" y="16"/>
                </a:lnTo>
                <a:lnTo>
                  <a:pt x="0" y="22"/>
                </a:lnTo>
                <a:lnTo>
                  <a:pt x="1" y="29"/>
                </a:lnTo>
                <a:lnTo>
                  <a:pt x="4" y="35"/>
                </a:lnTo>
                <a:lnTo>
                  <a:pt x="7" y="42"/>
                </a:lnTo>
                <a:lnTo>
                  <a:pt x="15" y="55"/>
                </a:lnTo>
                <a:lnTo>
                  <a:pt x="24" y="70"/>
                </a:lnTo>
                <a:lnTo>
                  <a:pt x="69" y="116"/>
                </a:lnTo>
                <a:lnTo>
                  <a:pt x="74" y="121"/>
                </a:lnTo>
                <a:lnTo>
                  <a:pt x="79" y="123"/>
                </a:lnTo>
                <a:lnTo>
                  <a:pt x="87" y="123"/>
                </a:lnTo>
                <a:lnTo>
                  <a:pt x="94" y="122"/>
                </a:lnTo>
                <a:lnTo>
                  <a:pt x="98" y="119"/>
                </a:lnTo>
                <a:lnTo>
                  <a:pt x="103" y="115"/>
                </a:lnTo>
                <a:lnTo>
                  <a:pt x="107" y="109"/>
                </a:lnTo>
                <a:lnTo>
                  <a:pt x="110" y="105"/>
                </a:lnTo>
                <a:lnTo>
                  <a:pt x="113" y="93"/>
                </a:lnTo>
                <a:lnTo>
                  <a:pt x="116" y="81"/>
                </a:lnTo>
                <a:lnTo>
                  <a:pt x="110" y="60"/>
                </a:lnTo>
                <a:lnTo>
                  <a:pt x="107" y="38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0040" y="2265480"/>
            <a:ext cx="11772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71" y="35"/>
                </a:moveTo>
                <a:lnTo>
                  <a:pt x="71" y="29"/>
                </a:lnTo>
                <a:lnTo>
                  <a:pt x="70" y="25"/>
                </a:lnTo>
                <a:lnTo>
                  <a:pt x="67" y="21"/>
                </a:lnTo>
                <a:lnTo>
                  <a:pt x="64" y="18"/>
                </a:lnTo>
                <a:lnTo>
                  <a:pt x="55" y="10"/>
                </a:lnTo>
                <a:lnTo>
                  <a:pt x="47" y="5"/>
                </a:lnTo>
                <a:lnTo>
                  <a:pt x="35" y="2"/>
                </a:lnTo>
                <a:lnTo>
                  <a:pt x="22" y="0"/>
                </a:lnTo>
                <a:lnTo>
                  <a:pt x="16" y="0"/>
                </a:lnTo>
                <a:lnTo>
                  <a:pt x="10" y="2"/>
                </a:lnTo>
                <a:lnTo>
                  <a:pt x="5" y="5"/>
                </a:lnTo>
                <a:lnTo>
                  <a:pt x="0" y="9"/>
                </a:lnTo>
                <a:lnTo>
                  <a:pt x="2" y="12"/>
                </a:lnTo>
                <a:lnTo>
                  <a:pt x="3" y="13"/>
                </a:lnTo>
                <a:lnTo>
                  <a:pt x="5" y="13"/>
                </a:lnTo>
                <a:lnTo>
                  <a:pt x="7" y="12"/>
                </a:lnTo>
                <a:lnTo>
                  <a:pt x="9" y="9"/>
                </a:lnTo>
                <a:lnTo>
                  <a:pt x="12" y="7"/>
                </a:lnTo>
                <a:lnTo>
                  <a:pt x="15" y="6"/>
                </a:lnTo>
                <a:lnTo>
                  <a:pt x="18" y="6"/>
                </a:lnTo>
                <a:lnTo>
                  <a:pt x="25" y="5"/>
                </a:lnTo>
                <a:lnTo>
                  <a:pt x="32" y="6"/>
                </a:lnTo>
                <a:lnTo>
                  <a:pt x="39" y="7"/>
                </a:lnTo>
                <a:lnTo>
                  <a:pt x="45" y="10"/>
                </a:lnTo>
                <a:lnTo>
                  <a:pt x="55" y="19"/>
                </a:lnTo>
                <a:lnTo>
                  <a:pt x="65" y="29"/>
                </a:lnTo>
                <a:lnTo>
                  <a:pt x="67" y="34"/>
                </a:lnTo>
                <a:lnTo>
                  <a:pt x="65" y="36"/>
                </a:lnTo>
                <a:lnTo>
                  <a:pt x="63" y="39"/>
                </a:lnTo>
                <a:lnTo>
                  <a:pt x="60" y="44"/>
                </a:lnTo>
                <a:lnTo>
                  <a:pt x="58" y="47"/>
                </a:lnTo>
                <a:lnTo>
                  <a:pt x="57" y="50"/>
                </a:lnTo>
                <a:lnTo>
                  <a:pt x="57" y="54"/>
                </a:lnTo>
                <a:lnTo>
                  <a:pt x="58" y="58"/>
                </a:lnTo>
                <a:lnTo>
                  <a:pt x="61" y="63"/>
                </a:lnTo>
                <a:lnTo>
                  <a:pt x="65" y="67"/>
                </a:lnTo>
                <a:lnTo>
                  <a:pt x="67" y="68"/>
                </a:lnTo>
                <a:lnTo>
                  <a:pt x="67" y="71"/>
                </a:lnTo>
                <a:lnTo>
                  <a:pt x="67" y="74"/>
                </a:lnTo>
                <a:lnTo>
                  <a:pt x="65" y="77"/>
                </a:lnTo>
                <a:lnTo>
                  <a:pt x="63" y="80"/>
                </a:lnTo>
                <a:lnTo>
                  <a:pt x="60" y="81"/>
                </a:lnTo>
                <a:lnTo>
                  <a:pt x="58" y="83"/>
                </a:lnTo>
                <a:lnTo>
                  <a:pt x="57" y="83"/>
                </a:lnTo>
                <a:lnTo>
                  <a:pt x="55" y="83"/>
                </a:lnTo>
                <a:lnTo>
                  <a:pt x="54" y="81"/>
                </a:lnTo>
                <a:lnTo>
                  <a:pt x="51" y="81"/>
                </a:lnTo>
                <a:lnTo>
                  <a:pt x="51" y="86"/>
                </a:lnTo>
                <a:lnTo>
                  <a:pt x="52" y="87"/>
                </a:lnTo>
                <a:lnTo>
                  <a:pt x="55" y="89"/>
                </a:lnTo>
                <a:lnTo>
                  <a:pt x="58" y="90"/>
                </a:lnTo>
                <a:lnTo>
                  <a:pt x="64" y="89"/>
                </a:lnTo>
                <a:lnTo>
                  <a:pt x="68" y="86"/>
                </a:lnTo>
                <a:lnTo>
                  <a:pt x="71" y="81"/>
                </a:lnTo>
                <a:lnTo>
                  <a:pt x="74" y="76"/>
                </a:lnTo>
                <a:lnTo>
                  <a:pt x="71" y="64"/>
                </a:lnTo>
                <a:lnTo>
                  <a:pt x="67" y="54"/>
                </a:lnTo>
                <a:lnTo>
                  <a:pt x="65" y="50"/>
                </a:lnTo>
                <a:lnTo>
                  <a:pt x="64" y="44"/>
                </a:lnTo>
                <a:lnTo>
                  <a:pt x="67" y="39"/>
                </a:lnTo>
                <a:lnTo>
                  <a:pt x="71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28840" y="2290680"/>
            <a:ext cx="36360" cy="76320"/>
          </a:xfrm>
          <a:custGeom>
            <a:avLst/>
            <a:gdLst/>
            <a:ahLst/>
            <a:rect l="l" t="t" r="r" b="b"/>
            <a:pathLst>
              <a:path w="23" h="48">
                <a:moveTo>
                  <a:pt x="5" y="29"/>
                </a:moveTo>
                <a:lnTo>
                  <a:pt x="5" y="2"/>
                </a:lnTo>
                <a:lnTo>
                  <a:pt x="0" y="0"/>
                </a:lnTo>
                <a:lnTo>
                  <a:pt x="0" y="13"/>
                </a:lnTo>
                <a:lnTo>
                  <a:pt x="1" y="28"/>
                </a:lnTo>
                <a:lnTo>
                  <a:pt x="3" y="35"/>
                </a:lnTo>
                <a:lnTo>
                  <a:pt x="5" y="41"/>
                </a:lnTo>
                <a:lnTo>
                  <a:pt x="10" y="45"/>
                </a:lnTo>
                <a:lnTo>
                  <a:pt x="17" y="48"/>
                </a:lnTo>
                <a:lnTo>
                  <a:pt x="23" y="48"/>
                </a:lnTo>
                <a:lnTo>
                  <a:pt x="18" y="44"/>
                </a:lnTo>
                <a:lnTo>
                  <a:pt x="14" y="41"/>
                </a:lnTo>
                <a:lnTo>
                  <a:pt x="11" y="38"/>
                </a:lnTo>
                <a:lnTo>
                  <a:pt x="8" y="35"/>
                </a:lnTo>
                <a:lnTo>
                  <a:pt x="7" y="32"/>
                </a:lnTo>
                <a:lnTo>
                  <a:pt x="5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3240" y="536112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lnTo>
                  <a:pt x="8" y="0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4480" y="3416400"/>
            <a:ext cx="287280" cy="357120"/>
          </a:xfrm>
          <a:custGeom>
            <a:avLst/>
            <a:gdLst/>
            <a:ahLst/>
            <a:rect l="l" t="t" r="r" b="b"/>
            <a:pathLst>
              <a:path w="181" h="225">
                <a:moveTo>
                  <a:pt x="162" y="56"/>
                </a:moveTo>
                <a:lnTo>
                  <a:pt x="136" y="41"/>
                </a:lnTo>
                <a:lnTo>
                  <a:pt x="110" y="27"/>
                </a:lnTo>
                <a:lnTo>
                  <a:pt x="84" y="14"/>
                </a:lnTo>
                <a:lnTo>
                  <a:pt x="58" y="0"/>
                </a:lnTo>
                <a:lnTo>
                  <a:pt x="52" y="16"/>
                </a:lnTo>
                <a:lnTo>
                  <a:pt x="45" y="31"/>
                </a:lnTo>
                <a:lnTo>
                  <a:pt x="36" y="45"/>
                </a:lnTo>
                <a:lnTo>
                  <a:pt x="27" y="59"/>
                </a:lnTo>
                <a:lnTo>
                  <a:pt x="19" y="73"/>
                </a:lnTo>
                <a:lnTo>
                  <a:pt x="11" y="88"/>
                </a:lnTo>
                <a:lnTo>
                  <a:pt x="4" y="103"/>
                </a:lnTo>
                <a:lnTo>
                  <a:pt x="0" y="119"/>
                </a:lnTo>
                <a:lnTo>
                  <a:pt x="0" y="124"/>
                </a:lnTo>
                <a:lnTo>
                  <a:pt x="1" y="128"/>
                </a:lnTo>
                <a:lnTo>
                  <a:pt x="3" y="132"/>
                </a:lnTo>
                <a:lnTo>
                  <a:pt x="5" y="137"/>
                </a:lnTo>
                <a:lnTo>
                  <a:pt x="11" y="144"/>
                </a:lnTo>
                <a:lnTo>
                  <a:pt x="20" y="148"/>
                </a:lnTo>
                <a:lnTo>
                  <a:pt x="39" y="157"/>
                </a:lnTo>
                <a:lnTo>
                  <a:pt x="56" y="166"/>
                </a:lnTo>
                <a:lnTo>
                  <a:pt x="59" y="164"/>
                </a:lnTo>
                <a:lnTo>
                  <a:pt x="62" y="164"/>
                </a:lnTo>
                <a:lnTo>
                  <a:pt x="68" y="170"/>
                </a:lnTo>
                <a:lnTo>
                  <a:pt x="65" y="182"/>
                </a:lnTo>
                <a:lnTo>
                  <a:pt x="61" y="192"/>
                </a:lnTo>
                <a:lnTo>
                  <a:pt x="59" y="198"/>
                </a:lnTo>
                <a:lnTo>
                  <a:pt x="55" y="202"/>
                </a:lnTo>
                <a:lnTo>
                  <a:pt x="52" y="206"/>
                </a:lnTo>
                <a:lnTo>
                  <a:pt x="46" y="208"/>
                </a:lnTo>
                <a:lnTo>
                  <a:pt x="42" y="202"/>
                </a:lnTo>
                <a:lnTo>
                  <a:pt x="39" y="196"/>
                </a:lnTo>
                <a:lnTo>
                  <a:pt x="40" y="193"/>
                </a:lnTo>
                <a:lnTo>
                  <a:pt x="43" y="193"/>
                </a:lnTo>
                <a:lnTo>
                  <a:pt x="45" y="193"/>
                </a:lnTo>
                <a:lnTo>
                  <a:pt x="46" y="195"/>
                </a:lnTo>
                <a:lnTo>
                  <a:pt x="48" y="196"/>
                </a:lnTo>
                <a:lnTo>
                  <a:pt x="48" y="192"/>
                </a:lnTo>
                <a:lnTo>
                  <a:pt x="46" y="188"/>
                </a:lnTo>
                <a:lnTo>
                  <a:pt x="43" y="182"/>
                </a:lnTo>
                <a:lnTo>
                  <a:pt x="40" y="177"/>
                </a:lnTo>
                <a:lnTo>
                  <a:pt x="36" y="175"/>
                </a:lnTo>
                <a:lnTo>
                  <a:pt x="30" y="173"/>
                </a:lnTo>
                <a:lnTo>
                  <a:pt x="26" y="173"/>
                </a:lnTo>
                <a:lnTo>
                  <a:pt x="21" y="175"/>
                </a:lnTo>
                <a:lnTo>
                  <a:pt x="20" y="183"/>
                </a:lnTo>
                <a:lnTo>
                  <a:pt x="21" y="189"/>
                </a:lnTo>
                <a:lnTo>
                  <a:pt x="23" y="196"/>
                </a:lnTo>
                <a:lnTo>
                  <a:pt x="24" y="202"/>
                </a:lnTo>
                <a:lnTo>
                  <a:pt x="32" y="212"/>
                </a:lnTo>
                <a:lnTo>
                  <a:pt x="42" y="222"/>
                </a:lnTo>
                <a:lnTo>
                  <a:pt x="49" y="222"/>
                </a:lnTo>
                <a:lnTo>
                  <a:pt x="56" y="224"/>
                </a:lnTo>
                <a:lnTo>
                  <a:pt x="61" y="225"/>
                </a:lnTo>
                <a:lnTo>
                  <a:pt x="64" y="225"/>
                </a:lnTo>
                <a:lnTo>
                  <a:pt x="66" y="224"/>
                </a:lnTo>
                <a:lnTo>
                  <a:pt x="71" y="222"/>
                </a:lnTo>
                <a:lnTo>
                  <a:pt x="78" y="206"/>
                </a:lnTo>
                <a:lnTo>
                  <a:pt x="85" y="192"/>
                </a:lnTo>
                <a:lnTo>
                  <a:pt x="91" y="176"/>
                </a:lnTo>
                <a:lnTo>
                  <a:pt x="98" y="162"/>
                </a:lnTo>
                <a:lnTo>
                  <a:pt x="100" y="160"/>
                </a:lnTo>
                <a:lnTo>
                  <a:pt x="101" y="162"/>
                </a:lnTo>
                <a:lnTo>
                  <a:pt x="103" y="163"/>
                </a:lnTo>
                <a:lnTo>
                  <a:pt x="104" y="164"/>
                </a:lnTo>
                <a:lnTo>
                  <a:pt x="100" y="179"/>
                </a:lnTo>
                <a:lnTo>
                  <a:pt x="95" y="192"/>
                </a:lnTo>
                <a:lnTo>
                  <a:pt x="90" y="205"/>
                </a:lnTo>
                <a:lnTo>
                  <a:pt x="85" y="220"/>
                </a:lnTo>
                <a:lnTo>
                  <a:pt x="100" y="220"/>
                </a:lnTo>
                <a:lnTo>
                  <a:pt x="104" y="198"/>
                </a:lnTo>
                <a:lnTo>
                  <a:pt x="110" y="175"/>
                </a:lnTo>
                <a:lnTo>
                  <a:pt x="116" y="153"/>
                </a:lnTo>
                <a:lnTo>
                  <a:pt x="124" y="131"/>
                </a:lnTo>
                <a:lnTo>
                  <a:pt x="126" y="130"/>
                </a:lnTo>
                <a:lnTo>
                  <a:pt x="127" y="131"/>
                </a:lnTo>
                <a:lnTo>
                  <a:pt x="129" y="132"/>
                </a:lnTo>
                <a:lnTo>
                  <a:pt x="130" y="134"/>
                </a:lnTo>
                <a:lnTo>
                  <a:pt x="111" y="209"/>
                </a:lnTo>
                <a:lnTo>
                  <a:pt x="123" y="209"/>
                </a:lnTo>
                <a:lnTo>
                  <a:pt x="136" y="208"/>
                </a:lnTo>
                <a:lnTo>
                  <a:pt x="142" y="202"/>
                </a:lnTo>
                <a:lnTo>
                  <a:pt x="145" y="198"/>
                </a:lnTo>
                <a:lnTo>
                  <a:pt x="146" y="192"/>
                </a:lnTo>
                <a:lnTo>
                  <a:pt x="148" y="186"/>
                </a:lnTo>
                <a:lnTo>
                  <a:pt x="149" y="175"/>
                </a:lnTo>
                <a:lnTo>
                  <a:pt x="148" y="162"/>
                </a:lnTo>
                <a:lnTo>
                  <a:pt x="146" y="148"/>
                </a:lnTo>
                <a:lnTo>
                  <a:pt x="145" y="135"/>
                </a:lnTo>
                <a:lnTo>
                  <a:pt x="145" y="130"/>
                </a:lnTo>
                <a:lnTo>
                  <a:pt x="145" y="124"/>
                </a:lnTo>
                <a:lnTo>
                  <a:pt x="146" y="117"/>
                </a:lnTo>
                <a:lnTo>
                  <a:pt x="148" y="111"/>
                </a:lnTo>
                <a:lnTo>
                  <a:pt x="152" y="105"/>
                </a:lnTo>
                <a:lnTo>
                  <a:pt x="153" y="98"/>
                </a:lnTo>
                <a:lnTo>
                  <a:pt x="155" y="95"/>
                </a:lnTo>
                <a:lnTo>
                  <a:pt x="156" y="92"/>
                </a:lnTo>
                <a:lnTo>
                  <a:pt x="159" y="90"/>
                </a:lnTo>
                <a:lnTo>
                  <a:pt x="164" y="90"/>
                </a:lnTo>
                <a:lnTo>
                  <a:pt x="159" y="108"/>
                </a:lnTo>
                <a:lnTo>
                  <a:pt x="155" y="128"/>
                </a:lnTo>
                <a:lnTo>
                  <a:pt x="156" y="175"/>
                </a:lnTo>
                <a:lnTo>
                  <a:pt x="161" y="175"/>
                </a:lnTo>
                <a:lnTo>
                  <a:pt x="164" y="175"/>
                </a:lnTo>
                <a:lnTo>
                  <a:pt x="167" y="173"/>
                </a:lnTo>
                <a:lnTo>
                  <a:pt x="169" y="170"/>
                </a:lnTo>
                <a:lnTo>
                  <a:pt x="175" y="164"/>
                </a:lnTo>
                <a:lnTo>
                  <a:pt x="180" y="160"/>
                </a:lnTo>
                <a:lnTo>
                  <a:pt x="181" y="146"/>
                </a:lnTo>
                <a:lnTo>
                  <a:pt x="180" y="132"/>
                </a:lnTo>
                <a:lnTo>
                  <a:pt x="177" y="121"/>
                </a:lnTo>
                <a:lnTo>
                  <a:pt x="174" y="108"/>
                </a:lnTo>
                <a:lnTo>
                  <a:pt x="169" y="95"/>
                </a:lnTo>
                <a:lnTo>
                  <a:pt x="167" y="82"/>
                </a:lnTo>
                <a:lnTo>
                  <a:pt x="164" y="69"/>
                </a:lnTo>
                <a:lnTo>
                  <a:pt x="162" y="56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3513240"/>
            <a:ext cx="131760" cy="147600"/>
          </a:xfrm>
          <a:custGeom>
            <a:avLst/>
            <a:gdLst/>
            <a:ahLst/>
            <a:rect l="l" t="t" r="r" b="b"/>
            <a:pathLst>
              <a:path w="83" h="93">
                <a:moveTo>
                  <a:pt x="83" y="0"/>
                </a:moveTo>
                <a:lnTo>
                  <a:pt x="78" y="2"/>
                </a:lnTo>
                <a:lnTo>
                  <a:pt x="76" y="5"/>
                </a:lnTo>
                <a:lnTo>
                  <a:pt x="73" y="9"/>
                </a:lnTo>
                <a:lnTo>
                  <a:pt x="70" y="13"/>
                </a:lnTo>
                <a:lnTo>
                  <a:pt x="67" y="18"/>
                </a:lnTo>
                <a:lnTo>
                  <a:pt x="63" y="21"/>
                </a:lnTo>
                <a:lnTo>
                  <a:pt x="58" y="24"/>
                </a:lnTo>
                <a:lnTo>
                  <a:pt x="52" y="22"/>
                </a:lnTo>
                <a:lnTo>
                  <a:pt x="49" y="32"/>
                </a:lnTo>
                <a:lnTo>
                  <a:pt x="47" y="42"/>
                </a:lnTo>
                <a:lnTo>
                  <a:pt x="36" y="47"/>
                </a:lnTo>
                <a:lnTo>
                  <a:pt x="29" y="51"/>
                </a:lnTo>
                <a:lnTo>
                  <a:pt x="25" y="54"/>
                </a:lnTo>
                <a:lnTo>
                  <a:pt x="23" y="58"/>
                </a:lnTo>
                <a:lnTo>
                  <a:pt x="22" y="63"/>
                </a:lnTo>
                <a:lnTo>
                  <a:pt x="22" y="69"/>
                </a:lnTo>
                <a:lnTo>
                  <a:pt x="10" y="79"/>
                </a:lnTo>
                <a:lnTo>
                  <a:pt x="0" y="89"/>
                </a:lnTo>
                <a:lnTo>
                  <a:pt x="2" y="92"/>
                </a:lnTo>
                <a:lnTo>
                  <a:pt x="4" y="93"/>
                </a:lnTo>
                <a:lnTo>
                  <a:pt x="9" y="92"/>
                </a:lnTo>
                <a:lnTo>
                  <a:pt x="12" y="90"/>
                </a:lnTo>
                <a:lnTo>
                  <a:pt x="18" y="83"/>
                </a:lnTo>
                <a:lnTo>
                  <a:pt x="25" y="74"/>
                </a:lnTo>
                <a:lnTo>
                  <a:pt x="28" y="70"/>
                </a:lnTo>
                <a:lnTo>
                  <a:pt x="31" y="66"/>
                </a:lnTo>
                <a:lnTo>
                  <a:pt x="32" y="61"/>
                </a:lnTo>
                <a:lnTo>
                  <a:pt x="32" y="57"/>
                </a:lnTo>
                <a:lnTo>
                  <a:pt x="36" y="57"/>
                </a:lnTo>
                <a:lnTo>
                  <a:pt x="41" y="56"/>
                </a:lnTo>
                <a:lnTo>
                  <a:pt x="44" y="54"/>
                </a:lnTo>
                <a:lnTo>
                  <a:pt x="47" y="53"/>
                </a:lnTo>
                <a:lnTo>
                  <a:pt x="49" y="47"/>
                </a:lnTo>
                <a:lnTo>
                  <a:pt x="52" y="41"/>
                </a:lnTo>
                <a:lnTo>
                  <a:pt x="55" y="35"/>
                </a:lnTo>
                <a:lnTo>
                  <a:pt x="60" y="31"/>
                </a:lnTo>
                <a:lnTo>
                  <a:pt x="61" y="29"/>
                </a:lnTo>
                <a:lnTo>
                  <a:pt x="64" y="28"/>
                </a:lnTo>
                <a:lnTo>
                  <a:pt x="67" y="27"/>
                </a:lnTo>
                <a:lnTo>
                  <a:pt x="71" y="27"/>
                </a:lnTo>
                <a:lnTo>
                  <a:pt x="76" y="21"/>
                </a:lnTo>
                <a:lnTo>
                  <a:pt x="78" y="13"/>
                </a:lnTo>
                <a:lnTo>
                  <a:pt x="81" y="8"/>
                </a:lnTo>
                <a:lnTo>
                  <a:pt x="8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6000" y="337824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8" y="0"/>
                </a:moveTo>
                <a:lnTo>
                  <a:pt x="5" y="3"/>
                </a:lnTo>
                <a:lnTo>
                  <a:pt x="2" y="7"/>
                </a:lnTo>
                <a:lnTo>
                  <a:pt x="0" y="11"/>
                </a:lnTo>
                <a:lnTo>
                  <a:pt x="0" y="16"/>
                </a:lnTo>
                <a:lnTo>
                  <a:pt x="8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040" y="3693960"/>
            <a:ext cx="93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0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20" y="3630600"/>
            <a:ext cx="222120" cy="1108080"/>
          </a:xfrm>
          <a:custGeom>
            <a:avLst/>
            <a:gdLst/>
            <a:ahLst/>
            <a:rect l="l" t="t" r="r" b="b"/>
            <a:pathLst>
              <a:path w="140" h="698">
                <a:moveTo>
                  <a:pt x="110" y="0"/>
                </a:moveTo>
                <a:lnTo>
                  <a:pt x="97" y="47"/>
                </a:lnTo>
                <a:lnTo>
                  <a:pt x="85" y="93"/>
                </a:lnTo>
                <a:lnTo>
                  <a:pt x="74" y="141"/>
                </a:lnTo>
                <a:lnTo>
                  <a:pt x="63" y="188"/>
                </a:lnTo>
                <a:lnTo>
                  <a:pt x="53" y="235"/>
                </a:lnTo>
                <a:lnTo>
                  <a:pt x="45" y="283"/>
                </a:lnTo>
                <a:lnTo>
                  <a:pt x="36" y="331"/>
                </a:lnTo>
                <a:lnTo>
                  <a:pt x="27" y="380"/>
                </a:lnTo>
                <a:lnTo>
                  <a:pt x="21" y="425"/>
                </a:lnTo>
                <a:lnTo>
                  <a:pt x="14" y="470"/>
                </a:lnTo>
                <a:lnTo>
                  <a:pt x="8" y="515"/>
                </a:lnTo>
                <a:lnTo>
                  <a:pt x="4" y="562"/>
                </a:lnTo>
                <a:lnTo>
                  <a:pt x="2" y="597"/>
                </a:lnTo>
                <a:lnTo>
                  <a:pt x="2" y="631"/>
                </a:lnTo>
                <a:lnTo>
                  <a:pt x="2" y="665"/>
                </a:lnTo>
                <a:lnTo>
                  <a:pt x="0" y="698"/>
                </a:lnTo>
                <a:lnTo>
                  <a:pt x="16" y="631"/>
                </a:lnTo>
                <a:lnTo>
                  <a:pt x="33" y="566"/>
                </a:lnTo>
                <a:lnTo>
                  <a:pt x="50" y="501"/>
                </a:lnTo>
                <a:lnTo>
                  <a:pt x="68" y="436"/>
                </a:lnTo>
                <a:lnTo>
                  <a:pt x="84" y="369"/>
                </a:lnTo>
                <a:lnTo>
                  <a:pt x="98" y="302"/>
                </a:lnTo>
                <a:lnTo>
                  <a:pt x="104" y="269"/>
                </a:lnTo>
                <a:lnTo>
                  <a:pt x="108" y="234"/>
                </a:lnTo>
                <a:lnTo>
                  <a:pt x="113" y="201"/>
                </a:lnTo>
                <a:lnTo>
                  <a:pt x="117" y="166"/>
                </a:lnTo>
                <a:lnTo>
                  <a:pt x="121" y="145"/>
                </a:lnTo>
                <a:lnTo>
                  <a:pt x="126" y="125"/>
                </a:lnTo>
                <a:lnTo>
                  <a:pt x="129" y="106"/>
                </a:lnTo>
                <a:lnTo>
                  <a:pt x="130" y="87"/>
                </a:lnTo>
                <a:lnTo>
                  <a:pt x="133" y="85"/>
                </a:lnTo>
                <a:lnTo>
                  <a:pt x="135" y="82"/>
                </a:lnTo>
                <a:lnTo>
                  <a:pt x="135" y="77"/>
                </a:lnTo>
                <a:lnTo>
                  <a:pt x="133" y="74"/>
                </a:lnTo>
                <a:lnTo>
                  <a:pt x="129" y="69"/>
                </a:lnTo>
                <a:lnTo>
                  <a:pt x="126" y="63"/>
                </a:lnTo>
                <a:lnTo>
                  <a:pt x="126" y="53"/>
                </a:lnTo>
                <a:lnTo>
                  <a:pt x="126" y="44"/>
                </a:lnTo>
                <a:lnTo>
                  <a:pt x="126" y="38"/>
                </a:lnTo>
                <a:lnTo>
                  <a:pt x="129" y="35"/>
                </a:lnTo>
                <a:lnTo>
                  <a:pt x="132" y="31"/>
                </a:lnTo>
                <a:lnTo>
                  <a:pt x="137" y="29"/>
                </a:lnTo>
                <a:lnTo>
                  <a:pt x="140" y="29"/>
                </a:lnTo>
                <a:lnTo>
                  <a:pt x="132" y="24"/>
                </a:lnTo>
                <a:lnTo>
                  <a:pt x="123" y="16"/>
                </a:lnTo>
                <a:lnTo>
                  <a:pt x="116" y="9"/>
                </a:lnTo>
                <a:lnTo>
                  <a:pt x="110" y="0"/>
                </a:lnTo>
                <a:close/>
              </a:path>
            </a:pathLst>
          </a:custGeom>
          <a:solidFill>
            <a:srgbClr val="2e2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916280"/>
            <a:ext cx="1136880" cy="554040"/>
          </a:xfrm>
          <a:custGeom>
            <a:avLst/>
            <a:gdLst/>
            <a:ahLst/>
            <a:rect l="l" t="t" r="r" b="b"/>
            <a:pathLst>
              <a:path w="716" h="349">
                <a:moveTo>
                  <a:pt x="698" y="164"/>
                </a:moveTo>
                <a:lnTo>
                  <a:pt x="703" y="152"/>
                </a:lnTo>
                <a:lnTo>
                  <a:pt x="711" y="123"/>
                </a:lnTo>
                <a:lnTo>
                  <a:pt x="714" y="106"/>
                </a:lnTo>
                <a:lnTo>
                  <a:pt x="716" y="85"/>
                </a:lnTo>
                <a:lnTo>
                  <a:pt x="714" y="77"/>
                </a:lnTo>
                <a:lnTo>
                  <a:pt x="713" y="66"/>
                </a:lnTo>
                <a:lnTo>
                  <a:pt x="708" y="58"/>
                </a:lnTo>
                <a:lnTo>
                  <a:pt x="704" y="49"/>
                </a:lnTo>
                <a:lnTo>
                  <a:pt x="698" y="40"/>
                </a:lnTo>
                <a:lnTo>
                  <a:pt x="688" y="33"/>
                </a:lnTo>
                <a:lnTo>
                  <a:pt x="676" y="26"/>
                </a:lnTo>
                <a:lnTo>
                  <a:pt x="662" y="20"/>
                </a:lnTo>
                <a:lnTo>
                  <a:pt x="646" y="14"/>
                </a:lnTo>
                <a:lnTo>
                  <a:pt x="629" y="10"/>
                </a:lnTo>
                <a:lnTo>
                  <a:pt x="610" y="7"/>
                </a:lnTo>
                <a:lnTo>
                  <a:pt x="589" y="4"/>
                </a:lnTo>
                <a:lnTo>
                  <a:pt x="569" y="1"/>
                </a:lnTo>
                <a:lnTo>
                  <a:pt x="547" y="0"/>
                </a:lnTo>
                <a:lnTo>
                  <a:pt x="526" y="0"/>
                </a:lnTo>
                <a:lnTo>
                  <a:pt x="505" y="0"/>
                </a:lnTo>
                <a:lnTo>
                  <a:pt x="485" y="0"/>
                </a:lnTo>
                <a:lnTo>
                  <a:pt x="465" y="3"/>
                </a:lnTo>
                <a:lnTo>
                  <a:pt x="446" y="4"/>
                </a:lnTo>
                <a:lnTo>
                  <a:pt x="428" y="8"/>
                </a:lnTo>
                <a:lnTo>
                  <a:pt x="411" y="13"/>
                </a:lnTo>
                <a:lnTo>
                  <a:pt x="389" y="20"/>
                </a:lnTo>
                <a:lnTo>
                  <a:pt x="364" y="30"/>
                </a:lnTo>
                <a:lnTo>
                  <a:pt x="338" y="42"/>
                </a:lnTo>
                <a:lnTo>
                  <a:pt x="280" y="69"/>
                </a:lnTo>
                <a:lnTo>
                  <a:pt x="219" y="101"/>
                </a:lnTo>
                <a:lnTo>
                  <a:pt x="190" y="117"/>
                </a:lnTo>
                <a:lnTo>
                  <a:pt x="161" y="135"/>
                </a:lnTo>
                <a:lnTo>
                  <a:pt x="134" y="152"/>
                </a:lnTo>
                <a:lnTo>
                  <a:pt x="109" y="169"/>
                </a:lnTo>
                <a:lnTo>
                  <a:pt x="87" y="187"/>
                </a:lnTo>
                <a:lnTo>
                  <a:pt x="68" y="203"/>
                </a:lnTo>
                <a:lnTo>
                  <a:pt x="54" y="219"/>
                </a:lnTo>
                <a:lnTo>
                  <a:pt x="42" y="232"/>
                </a:lnTo>
                <a:lnTo>
                  <a:pt x="28" y="258"/>
                </a:lnTo>
                <a:lnTo>
                  <a:pt x="15" y="281"/>
                </a:lnTo>
                <a:lnTo>
                  <a:pt x="6" y="300"/>
                </a:lnTo>
                <a:lnTo>
                  <a:pt x="0" y="316"/>
                </a:lnTo>
                <a:lnTo>
                  <a:pt x="0" y="322"/>
                </a:lnTo>
                <a:lnTo>
                  <a:pt x="0" y="328"/>
                </a:lnTo>
                <a:lnTo>
                  <a:pt x="3" y="333"/>
                </a:lnTo>
                <a:lnTo>
                  <a:pt x="6" y="338"/>
                </a:lnTo>
                <a:lnTo>
                  <a:pt x="10" y="342"/>
                </a:lnTo>
                <a:lnTo>
                  <a:pt x="18" y="345"/>
                </a:lnTo>
                <a:lnTo>
                  <a:pt x="26" y="346"/>
                </a:lnTo>
                <a:lnTo>
                  <a:pt x="37" y="348"/>
                </a:lnTo>
                <a:lnTo>
                  <a:pt x="57" y="349"/>
                </a:lnTo>
                <a:lnTo>
                  <a:pt x="76" y="349"/>
                </a:lnTo>
                <a:lnTo>
                  <a:pt x="92" y="348"/>
                </a:lnTo>
                <a:lnTo>
                  <a:pt x="108" y="345"/>
                </a:lnTo>
                <a:lnTo>
                  <a:pt x="121" y="342"/>
                </a:lnTo>
                <a:lnTo>
                  <a:pt x="134" y="338"/>
                </a:lnTo>
                <a:lnTo>
                  <a:pt x="147" y="332"/>
                </a:lnTo>
                <a:lnTo>
                  <a:pt x="160" y="326"/>
                </a:lnTo>
                <a:lnTo>
                  <a:pt x="171" y="319"/>
                </a:lnTo>
                <a:lnTo>
                  <a:pt x="182" y="309"/>
                </a:lnTo>
                <a:lnTo>
                  <a:pt x="189" y="299"/>
                </a:lnTo>
                <a:lnTo>
                  <a:pt x="196" y="285"/>
                </a:lnTo>
                <a:lnTo>
                  <a:pt x="202" y="274"/>
                </a:lnTo>
                <a:lnTo>
                  <a:pt x="206" y="261"/>
                </a:lnTo>
                <a:lnTo>
                  <a:pt x="208" y="248"/>
                </a:lnTo>
                <a:lnTo>
                  <a:pt x="209" y="236"/>
                </a:lnTo>
                <a:lnTo>
                  <a:pt x="211" y="229"/>
                </a:lnTo>
                <a:lnTo>
                  <a:pt x="214" y="222"/>
                </a:lnTo>
                <a:lnTo>
                  <a:pt x="216" y="213"/>
                </a:lnTo>
                <a:lnTo>
                  <a:pt x="222" y="203"/>
                </a:lnTo>
                <a:lnTo>
                  <a:pt x="230" y="193"/>
                </a:lnTo>
                <a:lnTo>
                  <a:pt x="237" y="182"/>
                </a:lnTo>
                <a:lnTo>
                  <a:pt x="247" y="171"/>
                </a:lnTo>
                <a:lnTo>
                  <a:pt x="257" y="161"/>
                </a:lnTo>
                <a:lnTo>
                  <a:pt x="267" y="149"/>
                </a:lnTo>
                <a:lnTo>
                  <a:pt x="280" y="138"/>
                </a:lnTo>
                <a:lnTo>
                  <a:pt x="293" y="127"/>
                </a:lnTo>
                <a:lnTo>
                  <a:pt x="306" y="119"/>
                </a:lnTo>
                <a:lnTo>
                  <a:pt x="321" y="110"/>
                </a:lnTo>
                <a:lnTo>
                  <a:pt x="337" y="101"/>
                </a:lnTo>
                <a:lnTo>
                  <a:pt x="353" y="95"/>
                </a:lnTo>
                <a:lnTo>
                  <a:pt x="369" y="90"/>
                </a:lnTo>
                <a:lnTo>
                  <a:pt x="401" y="82"/>
                </a:lnTo>
                <a:lnTo>
                  <a:pt x="431" y="77"/>
                </a:lnTo>
                <a:lnTo>
                  <a:pt x="459" y="72"/>
                </a:lnTo>
                <a:lnTo>
                  <a:pt x="485" y="71"/>
                </a:lnTo>
                <a:lnTo>
                  <a:pt x="508" y="71"/>
                </a:lnTo>
                <a:lnTo>
                  <a:pt x="530" y="72"/>
                </a:lnTo>
                <a:lnTo>
                  <a:pt x="550" y="77"/>
                </a:lnTo>
                <a:lnTo>
                  <a:pt x="568" y="82"/>
                </a:lnTo>
                <a:lnTo>
                  <a:pt x="584" y="90"/>
                </a:lnTo>
                <a:lnTo>
                  <a:pt x="597" y="97"/>
                </a:lnTo>
                <a:lnTo>
                  <a:pt x="601" y="101"/>
                </a:lnTo>
                <a:lnTo>
                  <a:pt x="605" y="106"/>
                </a:lnTo>
                <a:lnTo>
                  <a:pt x="608" y="110"/>
                </a:lnTo>
                <a:lnTo>
                  <a:pt x="610" y="114"/>
                </a:lnTo>
                <a:lnTo>
                  <a:pt x="613" y="126"/>
                </a:lnTo>
                <a:lnTo>
                  <a:pt x="614" y="140"/>
                </a:lnTo>
                <a:lnTo>
                  <a:pt x="611" y="158"/>
                </a:lnTo>
                <a:lnTo>
                  <a:pt x="608" y="180"/>
                </a:lnTo>
                <a:lnTo>
                  <a:pt x="605" y="191"/>
                </a:lnTo>
                <a:lnTo>
                  <a:pt x="605" y="200"/>
                </a:lnTo>
                <a:lnTo>
                  <a:pt x="607" y="203"/>
                </a:lnTo>
                <a:lnTo>
                  <a:pt x="608" y="204"/>
                </a:lnTo>
                <a:lnTo>
                  <a:pt x="610" y="206"/>
                </a:lnTo>
                <a:lnTo>
                  <a:pt x="613" y="207"/>
                </a:lnTo>
                <a:lnTo>
                  <a:pt x="620" y="207"/>
                </a:lnTo>
                <a:lnTo>
                  <a:pt x="627" y="206"/>
                </a:lnTo>
                <a:lnTo>
                  <a:pt x="636" y="203"/>
                </a:lnTo>
                <a:lnTo>
                  <a:pt x="645" y="198"/>
                </a:lnTo>
                <a:lnTo>
                  <a:pt x="681" y="175"/>
                </a:lnTo>
                <a:lnTo>
                  <a:pt x="698" y="164"/>
                </a:lnTo>
                <a:close/>
              </a:path>
            </a:pathLst>
          </a:custGeom>
          <a:solidFill>
            <a:srgbClr val="0c4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360" y="3044880"/>
            <a:ext cx="577800" cy="549360"/>
          </a:xfrm>
          <a:custGeom>
            <a:avLst/>
            <a:gdLst/>
            <a:ahLst/>
            <a:rect l="l" t="t" r="r" b="b"/>
            <a:pathLst>
              <a:path w="364" h="346">
                <a:moveTo>
                  <a:pt x="77" y="14"/>
                </a:moveTo>
                <a:lnTo>
                  <a:pt x="90" y="18"/>
                </a:lnTo>
                <a:lnTo>
                  <a:pt x="123" y="31"/>
                </a:lnTo>
                <a:lnTo>
                  <a:pt x="171" y="50"/>
                </a:lnTo>
                <a:lnTo>
                  <a:pt x="226" y="73"/>
                </a:lnTo>
                <a:lnTo>
                  <a:pt x="252" y="87"/>
                </a:lnTo>
                <a:lnTo>
                  <a:pt x="280" y="100"/>
                </a:lnTo>
                <a:lnTo>
                  <a:pt x="303" y="113"/>
                </a:lnTo>
                <a:lnTo>
                  <a:pt x="325" y="127"/>
                </a:lnTo>
                <a:lnTo>
                  <a:pt x="335" y="134"/>
                </a:lnTo>
                <a:lnTo>
                  <a:pt x="342" y="142"/>
                </a:lnTo>
                <a:lnTo>
                  <a:pt x="349" y="147"/>
                </a:lnTo>
                <a:lnTo>
                  <a:pt x="355" y="155"/>
                </a:lnTo>
                <a:lnTo>
                  <a:pt x="360" y="162"/>
                </a:lnTo>
                <a:lnTo>
                  <a:pt x="363" y="168"/>
                </a:lnTo>
                <a:lnTo>
                  <a:pt x="364" y="174"/>
                </a:lnTo>
                <a:lnTo>
                  <a:pt x="364" y="181"/>
                </a:lnTo>
                <a:lnTo>
                  <a:pt x="360" y="208"/>
                </a:lnTo>
                <a:lnTo>
                  <a:pt x="358" y="240"/>
                </a:lnTo>
                <a:lnTo>
                  <a:pt x="358" y="256"/>
                </a:lnTo>
                <a:lnTo>
                  <a:pt x="357" y="272"/>
                </a:lnTo>
                <a:lnTo>
                  <a:pt x="355" y="288"/>
                </a:lnTo>
                <a:lnTo>
                  <a:pt x="351" y="303"/>
                </a:lnTo>
                <a:lnTo>
                  <a:pt x="347" y="316"/>
                </a:lnTo>
                <a:lnTo>
                  <a:pt x="341" y="327"/>
                </a:lnTo>
                <a:lnTo>
                  <a:pt x="336" y="332"/>
                </a:lnTo>
                <a:lnTo>
                  <a:pt x="331" y="336"/>
                </a:lnTo>
                <a:lnTo>
                  <a:pt x="326" y="339"/>
                </a:lnTo>
                <a:lnTo>
                  <a:pt x="320" y="342"/>
                </a:lnTo>
                <a:lnTo>
                  <a:pt x="313" y="343"/>
                </a:lnTo>
                <a:lnTo>
                  <a:pt x="306" y="345"/>
                </a:lnTo>
                <a:lnTo>
                  <a:pt x="297" y="346"/>
                </a:lnTo>
                <a:lnTo>
                  <a:pt x="289" y="345"/>
                </a:lnTo>
                <a:lnTo>
                  <a:pt x="278" y="343"/>
                </a:lnTo>
                <a:lnTo>
                  <a:pt x="268" y="340"/>
                </a:lnTo>
                <a:lnTo>
                  <a:pt x="255" y="337"/>
                </a:lnTo>
                <a:lnTo>
                  <a:pt x="242" y="332"/>
                </a:lnTo>
                <a:lnTo>
                  <a:pt x="217" y="322"/>
                </a:lnTo>
                <a:lnTo>
                  <a:pt x="194" y="308"/>
                </a:lnTo>
                <a:lnTo>
                  <a:pt x="174" y="295"/>
                </a:lnTo>
                <a:lnTo>
                  <a:pt x="155" y="281"/>
                </a:lnTo>
                <a:lnTo>
                  <a:pt x="139" y="266"/>
                </a:lnTo>
                <a:lnTo>
                  <a:pt x="125" y="252"/>
                </a:lnTo>
                <a:lnTo>
                  <a:pt x="110" y="236"/>
                </a:lnTo>
                <a:lnTo>
                  <a:pt x="98" y="220"/>
                </a:lnTo>
                <a:lnTo>
                  <a:pt x="78" y="185"/>
                </a:lnTo>
                <a:lnTo>
                  <a:pt x="59" y="150"/>
                </a:lnTo>
                <a:lnTo>
                  <a:pt x="42" y="114"/>
                </a:lnTo>
                <a:lnTo>
                  <a:pt x="23" y="79"/>
                </a:lnTo>
                <a:lnTo>
                  <a:pt x="14" y="63"/>
                </a:lnTo>
                <a:lnTo>
                  <a:pt x="8" y="49"/>
                </a:lnTo>
                <a:lnTo>
                  <a:pt x="4" y="37"/>
                </a:lnTo>
                <a:lnTo>
                  <a:pt x="1" y="27"/>
                </a:lnTo>
                <a:lnTo>
                  <a:pt x="0" y="20"/>
                </a:lnTo>
                <a:lnTo>
                  <a:pt x="0" y="13"/>
                </a:lnTo>
                <a:lnTo>
                  <a:pt x="1" y="8"/>
                </a:lnTo>
                <a:lnTo>
                  <a:pt x="3" y="4"/>
                </a:lnTo>
                <a:lnTo>
                  <a:pt x="6" y="2"/>
                </a:lnTo>
                <a:lnTo>
                  <a:pt x="8" y="1"/>
                </a:lnTo>
                <a:lnTo>
                  <a:pt x="13" y="0"/>
                </a:lnTo>
                <a:lnTo>
                  <a:pt x="16" y="0"/>
                </a:lnTo>
                <a:lnTo>
                  <a:pt x="22" y="0"/>
                </a:lnTo>
                <a:lnTo>
                  <a:pt x="23" y="0"/>
                </a:lnTo>
                <a:lnTo>
                  <a:pt x="77" y="14"/>
                </a:lnTo>
                <a:close/>
              </a:path>
            </a:pathLst>
          </a:custGeom>
          <a:solidFill>
            <a:srgbClr val="303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3920" y="3056040"/>
            <a:ext cx="546120" cy="503280"/>
          </a:xfrm>
          <a:custGeom>
            <a:avLst/>
            <a:gdLst/>
            <a:ahLst/>
            <a:rect l="l" t="t" r="r" b="b"/>
            <a:pathLst>
              <a:path w="344" h="317">
                <a:moveTo>
                  <a:pt x="72" y="17"/>
                </a:moveTo>
                <a:lnTo>
                  <a:pt x="84" y="22"/>
                </a:lnTo>
                <a:lnTo>
                  <a:pt x="117" y="35"/>
                </a:lnTo>
                <a:lnTo>
                  <a:pt x="162" y="53"/>
                </a:lnTo>
                <a:lnTo>
                  <a:pt x="213" y="77"/>
                </a:lnTo>
                <a:lnTo>
                  <a:pt x="239" y="88"/>
                </a:lnTo>
                <a:lnTo>
                  <a:pt x="264" y="101"/>
                </a:lnTo>
                <a:lnTo>
                  <a:pt x="287" y="116"/>
                </a:lnTo>
                <a:lnTo>
                  <a:pt x="307" y="129"/>
                </a:lnTo>
                <a:lnTo>
                  <a:pt x="323" y="142"/>
                </a:lnTo>
                <a:lnTo>
                  <a:pt x="336" y="155"/>
                </a:lnTo>
                <a:lnTo>
                  <a:pt x="341" y="161"/>
                </a:lnTo>
                <a:lnTo>
                  <a:pt x="344" y="167"/>
                </a:lnTo>
                <a:lnTo>
                  <a:pt x="344" y="172"/>
                </a:lnTo>
                <a:lnTo>
                  <a:pt x="344" y="177"/>
                </a:lnTo>
                <a:lnTo>
                  <a:pt x="341" y="201"/>
                </a:lnTo>
                <a:lnTo>
                  <a:pt x="339" y="229"/>
                </a:lnTo>
                <a:lnTo>
                  <a:pt x="338" y="243"/>
                </a:lnTo>
                <a:lnTo>
                  <a:pt x="336" y="257"/>
                </a:lnTo>
                <a:lnTo>
                  <a:pt x="335" y="271"/>
                </a:lnTo>
                <a:lnTo>
                  <a:pt x="332" y="283"/>
                </a:lnTo>
                <a:lnTo>
                  <a:pt x="328" y="294"/>
                </a:lnTo>
                <a:lnTo>
                  <a:pt x="322" y="304"/>
                </a:lnTo>
                <a:lnTo>
                  <a:pt x="318" y="307"/>
                </a:lnTo>
                <a:lnTo>
                  <a:pt x="313" y="312"/>
                </a:lnTo>
                <a:lnTo>
                  <a:pt x="307" y="315"/>
                </a:lnTo>
                <a:lnTo>
                  <a:pt x="302" y="316"/>
                </a:lnTo>
                <a:lnTo>
                  <a:pt x="296" y="317"/>
                </a:lnTo>
                <a:lnTo>
                  <a:pt x="288" y="317"/>
                </a:lnTo>
                <a:lnTo>
                  <a:pt x="281" y="317"/>
                </a:lnTo>
                <a:lnTo>
                  <a:pt x="273" y="317"/>
                </a:lnTo>
                <a:lnTo>
                  <a:pt x="252" y="312"/>
                </a:lnTo>
                <a:lnTo>
                  <a:pt x="229" y="303"/>
                </a:lnTo>
                <a:lnTo>
                  <a:pt x="204" y="291"/>
                </a:lnTo>
                <a:lnTo>
                  <a:pt x="183" y="280"/>
                </a:lnTo>
                <a:lnTo>
                  <a:pt x="164" y="267"/>
                </a:lnTo>
                <a:lnTo>
                  <a:pt x="146" y="254"/>
                </a:lnTo>
                <a:lnTo>
                  <a:pt x="132" y="241"/>
                </a:lnTo>
                <a:lnTo>
                  <a:pt x="117" y="226"/>
                </a:lnTo>
                <a:lnTo>
                  <a:pt x="104" y="212"/>
                </a:lnTo>
                <a:lnTo>
                  <a:pt x="94" y="197"/>
                </a:lnTo>
                <a:lnTo>
                  <a:pt x="74" y="167"/>
                </a:lnTo>
                <a:lnTo>
                  <a:pt x="56" y="135"/>
                </a:lnTo>
                <a:lnTo>
                  <a:pt x="40" y="103"/>
                </a:lnTo>
                <a:lnTo>
                  <a:pt x="22" y="69"/>
                </a:lnTo>
                <a:lnTo>
                  <a:pt x="14" y="55"/>
                </a:lnTo>
                <a:lnTo>
                  <a:pt x="7" y="43"/>
                </a:lnTo>
                <a:lnTo>
                  <a:pt x="4" y="32"/>
                </a:lnTo>
                <a:lnTo>
                  <a:pt x="1" y="23"/>
                </a:lnTo>
                <a:lnTo>
                  <a:pt x="0" y="17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8" y="0"/>
                </a:lnTo>
                <a:lnTo>
                  <a:pt x="16" y="0"/>
                </a:lnTo>
                <a:lnTo>
                  <a:pt x="20" y="0"/>
                </a:lnTo>
                <a:lnTo>
                  <a:pt x="22" y="1"/>
                </a:lnTo>
                <a:lnTo>
                  <a:pt x="35" y="6"/>
                </a:lnTo>
                <a:lnTo>
                  <a:pt x="48" y="8"/>
                </a:lnTo>
                <a:lnTo>
                  <a:pt x="59" y="13"/>
                </a:lnTo>
                <a:lnTo>
                  <a:pt x="72" y="17"/>
                </a:lnTo>
                <a:close/>
              </a:path>
            </a:pathLst>
          </a:custGeom>
          <a:solidFill>
            <a:srgbClr val="3344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9120" y="3067200"/>
            <a:ext cx="513000" cy="460080"/>
          </a:xfrm>
          <a:custGeom>
            <a:avLst/>
            <a:gdLst/>
            <a:ahLst/>
            <a:rect l="l" t="t" r="r" b="b"/>
            <a:pathLst>
              <a:path w="323" h="290">
                <a:moveTo>
                  <a:pt x="68" y="19"/>
                </a:moveTo>
                <a:lnTo>
                  <a:pt x="80" y="23"/>
                </a:lnTo>
                <a:lnTo>
                  <a:pt x="110" y="36"/>
                </a:lnTo>
                <a:lnTo>
                  <a:pt x="152" y="55"/>
                </a:lnTo>
                <a:lnTo>
                  <a:pt x="201" y="78"/>
                </a:lnTo>
                <a:lnTo>
                  <a:pt x="225" y="91"/>
                </a:lnTo>
                <a:lnTo>
                  <a:pt x="248" y="104"/>
                </a:lnTo>
                <a:lnTo>
                  <a:pt x="270" y="118"/>
                </a:lnTo>
                <a:lnTo>
                  <a:pt x="288" y="131"/>
                </a:lnTo>
                <a:lnTo>
                  <a:pt x="304" y="142"/>
                </a:lnTo>
                <a:lnTo>
                  <a:pt x="316" y="154"/>
                </a:lnTo>
                <a:lnTo>
                  <a:pt x="320" y="160"/>
                </a:lnTo>
                <a:lnTo>
                  <a:pt x="322" y="165"/>
                </a:lnTo>
                <a:lnTo>
                  <a:pt x="323" y="170"/>
                </a:lnTo>
                <a:lnTo>
                  <a:pt x="323" y="174"/>
                </a:lnTo>
                <a:lnTo>
                  <a:pt x="319" y="218"/>
                </a:lnTo>
                <a:lnTo>
                  <a:pt x="312" y="264"/>
                </a:lnTo>
                <a:lnTo>
                  <a:pt x="309" y="273"/>
                </a:lnTo>
                <a:lnTo>
                  <a:pt x="303" y="280"/>
                </a:lnTo>
                <a:lnTo>
                  <a:pt x="299" y="283"/>
                </a:lnTo>
                <a:lnTo>
                  <a:pt x="294" y="286"/>
                </a:lnTo>
                <a:lnTo>
                  <a:pt x="290" y="289"/>
                </a:lnTo>
                <a:lnTo>
                  <a:pt x="284" y="290"/>
                </a:lnTo>
                <a:lnTo>
                  <a:pt x="272" y="290"/>
                </a:lnTo>
                <a:lnTo>
                  <a:pt x="257" y="289"/>
                </a:lnTo>
                <a:lnTo>
                  <a:pt x="238" y="283"/>
                </a:lnTo>
                <a:lnTo>
                  <a:pt x="216" y="274"/>
                </a:lnTo>
                <a:lnTo>
                  <a:pt x="193" y="263"/>
                </a:lnTo>
                <a:lnTo>
                  <a:pt x="172" y="251"/>
                </a:lnTo>
                <a:lnTo>
                  <a:pt x="155" y="239"/>
                </a:lnTo>
                <a:lnTo>
                  <a:pt x="139" y="226"/>
                </a:lnTo>
                <a:lnTo>
                  <a:pt x="124" y="213"/>
                </a:lnTo>
                <a:lnTo>
                  <a:pt x="111" y="200"/>
                </a:lnTo>
                <a:lnTo>
                  <a:pt x="98" y="187"/>
                </a:lnTo>
                <a:lnTo>
                  <a:pt x="88" y="174"/>
                </a:lnTo>
                <a:lnTo>
                  <a:pt x="53" y="119"/>
                </a:lnTo>
                <a:lnTo>
                  <a:pt x="21" y="62"/>
                </a:lnTo>
                <a:lnTo>
                  <a:pt x="13" y="49"/>
                </a:lnTo>
                <a:lnTo>
                  <a:pt x="7" y="38"/>
                </a:lnTo>
                <a:lnTo>
                  <a:pt x="4" y="28"/>
                </a:lnTo>
                <a:lnTo>
                  <a:pt x="1" y="20"/>
                </a:lnTo>
                <a:lnTo>
                  <a:pt x="0" y="15"/>
                </a:lnTo>
                <a:lnTo>
                  <a:pt x="0" y="10"/>
                </a:lnTo>
                <a:lnTo>
                  <a:pt x="1" y="6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19" y="1"/>
                </a:lnTo>
                <a:lnTo>
                  <a:pt x="21" y="1"/>
                </a:lnTo>
                <a:lnTo>
                  <a:pt x="33" y="6"/>
                </a:lnTo>
                <a:lnTo>
                  <a:pt x="45" y="10"/>
                </a:lnTo>
                <a:lnTo>
                  <a:pt x="56" y="15"/>
                </a:lnTo>
                <a:lnTo>
                  <a:pt x="68" y="19"/>
                </a:lnTo>
                <a:close/>
              </a:path>
            </a:pathLst>
          </a:custGeom>
          <a:solidFill>
            <a:srgbClr val="374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6120" y="3081240"/>
            <a:ext cx="479520" cy="414360"/>
          </a:xfrm>
          <a:custGeom>
            <a:avLst/>
            <a:gdLst/>
            <a:ahLst/>
            <a:rect l="l" t="t" r="r" b="b"/>
            <a:pathLst>
              <a:path w="302" h="261">
                <a:moveTo>
                  <a:pt x="63" y="20"/>
                </a:moveTo>
                <a:lnTo>
                  <a:pt x="74" y="24"/>
                </a:lnTo>
                <a:lnTo>
                  <a:pt x="102" y="37"/>
                </a:lnTo>
                <a:lnTo>
                  <a:pt x="142" y="56"/>
                </a:lnTo>
                <a:lnTo>
                  <a:pt x="187" y="79"/>
                </a:lnTo>
                <a:lnTo>
                  <a:pt x="211" y="93"/>
                </a:lnTo>
                <a:lnTo>
                  <a:pt x="232" y="106"/>
                </a:lnTo>
                <a:lnTo>
                  <a:pt x="253" y="117"/>
                </a:lnTo>
                <a:lnTo>
                  <a:pt x="270" y="130"/>
                </a:lnTo>
                <a:lnTo>
                  <a:pt x="285" y="142"/>
                </a:lnTo>
                <a:lnTo>
                  <a:pt x="295" y="152"/>
                </a:lnTo>
                <a:lnTo>
                  <a:pt x="299" y="156"/>
                </a:lnTo>
                <a:lnTo>
                  <a:pt x="302" y="161"/>
                </a:lnTo>
                <a:lnTo>
                  <a:pt x="302" y="165"/>
                </a:lnTo>
                <a:lnTo>
                  <a:pt x="302" y="169"/>
                </a:lnTo>
                <a:lnTo>
                  <a:pt x="298" y="204"/>
                </a:lnTo>
                <a:lnTo>
                  <a:pt x="292" y="242"/>
                </a:lnTo>
                <a:lnTo>
                  <a:pt x="287" y="249"/>
                </a:lnTo>
                <a:lnTo>
                  <a:pt x="283" y="255"/>
                </a:lnTo>
                <a:lnTo>
                  <a:pt x="276" y="259"/>
                </a:lnTo>
                <a:lnTo>
                  <a:pt x="266" y="261"/>
                </a:lnTo>
                <a:lnTo>
                  <a:pt x="254" y="261"/>
                </a:lnTo>
                <a:lnTo>
                  <a:pt x="240" y="258"/>
                </a:lnTo>
                <a:lnTo>
                  <a:pt x="222" y="252"/>
                </a:lnTo>
                <a:lnTo>
                  <a:pt x="202" y="242"/>
                </a:lnTo>
                <a:lnTo>
                  <a:pt x="180" y="232"/>
                </a:lnTo>
                <a:lnTo>
                  <a:pt x="161" y="220"/>
                </a:lnTo>
                <a:lnTo>
                  <a:pt x="144" y="209"/>
                </a:lnTo>
                <a:lnTo>
                  <a:pt x="129" y="197"/>
                </a:lnTo>
                <a:lnTo>
                  <a:pt x="115" y="185"/>
                </a:lnTo>
                <a:lnTo>
                  <a:pt x="103" y="174"/>
                </a:lnTo>
                <a:lnTo>
                  <a:pt x="92" y="161"/>
                </a:lnTo>
                <a:lnTo>
                  <a:pt x="81" y="149"/>
                </a:lnTo>
                <a:lnTo>
                  <a:pt x="49" y="100"/>
                </a:lnTo>
                <a:lnTo>
                  <a:pt x="19" y="50"/>
                </a:lnTo>
                <a:lnTo>
                  <a:pt x="6" y="29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7" y="0"/>
                </a:lnTo>
                <a:lnTo>
                  <a:pt x="13" y="0"/>
                </a:lnTo>
                <a:lnTo>
                  <a:pt x="18" y="1"/>
                </a:lnTo>
                <a:lnTo>
                  <a:pt x="19" y="1"/>
                </a:lnTo>
                <a:lnTo>
                  <a:pt x="31" y="6"/>
                </a:lnTo>
                <a:lnTo>
                  <a:pt x="41" y="10"/>
                </a:lnTo>
                <a:lnTo>
                  <a:pt x="52" y="14"/>
                </a:lnTo>
                <a:lnTo>
                  <a:pt x="63" y="20"/>
                </a:lnTo>
                <a:close/>
              </a:path>
            </a:pathLst>
          </a:custGeom>
          <a:solidFill>
            <a:srgbClr val="3b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1680" y="3092400"/>
            <a:ext cx="449280" cy="372960"/>
          </a:xfrm>
          <a:custGeom>
            <a:avLst/>
            <a:gdLst/>
            <a:ahLst/>
            <a:rect l="l" t="t" r="r" b="b"/>
            <a:pathLst>
              <a:path w="283" h="235">
                <a:moveTo>
                  <a:pt x="60" y="20"/>
                </a:moveTo>
                <a:lnTo>
                  <a:pt x="70" y="26"/>
                </a:lnTo>
                <a:lnTo>
                  <a:pt x="96" y="39"/>
                </a:lnTo>
                <a:lnTo>
                  <a:pt x="132" y="59"/>
                </a:lnTo>
                <a:lnTo>
                  <a:pt x="174" y="83"/>
                </a:lnTo>
                <a:lnTo>
                  <a:pt x="216" y="107"/>
                </a:lnTo>
                <a:lnTo>
                  <a:pt x="253" y="132"/>
                </a:lnTo>
                <a:lnTo>
                  <a:pt x="266" y="142"/>
                </a:lnTo>
                <a:lnTo>
                  <a:pt x="276" y="151"/>
                </a:lnTo>
                <a:lnTo>
                  <a:pt x="279" y="155"/>
                </a:lnTo>
                <a:lnTo>
                  <a:pt x="282" y="160"/>
                </a:lnTo>
                <a:lnTo>
                  <a:pt x="283" y="162"/>
                </a:lnTo>
                <a:lnTo>
                  <a:pt x="282" y="165"/>
                </a:lnTo>
                <a:lnTo>
                  <a:pt x="277" y="194"/>
                </a:lnTo>
                <a:lnTo>
                  <a:pt x="273" y="223"/>
                </a:lnTo>
                <a:lnTo>
                  <a:pt x="269" y="228"/>
                </a:lnTo>
                <a:lnTo>
                  <a:pt x="264" y="232"/>
                </a:lnTo>
                <a:lnTo>
                  <a:pt x="257" y="235"/>
                </a:lnTo>
                <a:lnTo>
                  <a:pt x="248" y="235"/>
                </a:lnTo>
                <a:lnTo>
                  <a:pt x="237" y="234"/>
                </a:lnTo>
                <a:lnTo>
                  <a:pt x="224" y="229"/>
                </a:lnTo>
                <a:lnTo>
                  <a:pt x="208" y="223"/>
                </a:lnTo>
                <a:lnTo>
                  <a:pt x="189" y="213"/>
                </a:lnTo>
                <a:lnTo>
                  <a:pt x="168" y="202"/>
                </a:lnTo>
                <a:lnTo>
                  <a:pt x="151" y="191"/>
                </a:lnTo>
                <a:lnTo>
                  <a:pt x="135" y="180"/>
                </a:lnTo>
                <a:lnTo>
                  <a:pt x="121" y="170"/>
                </a:lnTo>
                <a:lnTo>
                  <a:pt x="107" y="158"/>
                </a:lnTo>
                <a:lnTo>
                  <a:pt x="96" y="148"/>
                </a:lnTo>
                <a:lnTo>
                  <a:pt x="86" y="136"/>
                </a:lnTo>
                <a:lnTo>
                  <a:pt x="77" y="126"/>
                </a:lnTo>
                <a:lnTo>
                  <a:pt x="47" y="84"/>
                </a:lnTo>
                <a:lnTo>
                  <a:pt x="17" y="41"/>
                </a:lnTo>
                <a:lnTo>
                  <a:pt x="6" y="23"/>
                </a:lnTo>
                <a:lnTo>
                  <a:pt x="0" y="10"/>
                </a:lnTo>
                <a:lnTo>
                  <a:pt x="0" y="6"/>
                </a:lnTo>
                <a:lnTo>
                  <a:pt x="0" y="3"/>
                </a:lnTo>
                <a:lnTo>
                  <a:pt x="2" y="1"/>
                </a:lnTo>
                <a:lnTo>
                  <a:pt x="3" y="0"/>
                </a:lnTo>
                <a:lnTo>
                  <a:pt x="12" y="0"/>
                </a:lnTo>
                <a:lnTo>
                  <a:pt x="17" y="1"/>
                </a:lnTo>
                <a:lnTo>
                  <a:pt x="39" y="12"/>
                </a:lnTo>
                <a:lnTo>
                  <a:pt x="60" y="20"/>
                </a:lnTo>
                <a:close/>
              </a:path>
            </a:pathLst>
          </a:custGeom>
          <a:solidFill>
            <a:srgbClr val="415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" y="3103560"/>
            <a:ext cx="414360" cy="334800"/>
          </a:xfrm>
          <a:custGeom>
            <a:avLst/>
            <a:gdLst/>
            <a:ahLst/>
            <a:rect l="l" t="t" r="r" b="b"/>
            <a:pathLst>
              <a:path w="261" h="211">
                <a:moveTo>
                  <a:pt x="55" y="23"/>
                </a:moveTo>
                <a:lnTo>
                  <a:pt x="64" y="28"/>
                </a:lnTo>
                <a:lnTo>
                  <a:pt x="89" y="42"/>
                </a:lnTo>
                <a:lnTo>
                  <a:pt x="123" y="63"/>
                </a:lnTo>
                <a:lnTo>
                  <a:pt x="163" y="86"/>
                </a:lnTo>
                <a:lnTo>
                  <a:pt x="200" y="110"/>
                </a:lnTo>
                <a:lnTo>
                  <a:pt x="234" y="132"/>
                </a:lnTo>
                <a:lnTo>
                  <a:pt x="247" y="142"/>
                </a:lnTo>
                <a:lnTo>
                  <a:pt x="255" y="151"/>
                </a:lnTo>
                <a:lnTo>
                  <a:pt x="258" y="154"/>
                </a:lnTo>
                <a:lnTo>
                  <a:pt x="261" y="158"/>
                </a:lnTo>
                <a:lnTo>
                  <a:pt x="261" y="161"/>
                </a:lnTo>
                <a:lnTo>
                  <a:pt x="261" y="163"/>
                </a:lnTo>
                <a:lnTo>
                  <a:pt x="258" y="183"/>
                </a:lnTo>
                <a:lnTo>
                  <a:pt x="253" y="203"/>
                </a:lnTo>
                <a:lnTo>
                  <a:pt x="250" y="208"/>
                </a:lnTo>
                <a:lnTo>
                  <a:pt x="245" y="209"/>
                </a:lnTo>
                <a:lnTo>
                  <a:pt x="238" y="211"/>
                </a:lnTo>
                <a:lnTo>
                  <a:pt x="231" y="209"/>
                </a:lnTo>
                <a:lnTo>
                  <a:pt x="221" y="206"/>
                </a:lnTo>
                <a:lnTo>
                  <a:pt x="208" y="202"/>
                </a:lnTo>
                <a:lnTo>
                  <a:pt x="193" y="195"/>
                </a:lnTo>
                <a:lnTo>
                  <a:pt x="176" y="184"/>
                </a:lnTo>
                <a:lnTo>
                  <a:pt x="139" y="163"/>
                </a:lnTo>
                <a:lnTo>
                  <a:pt x="112" y="142"/>
                </a:lnTo>
                <a:lnTo>
                  <a:pt x="90" y="122"/>
                </a:lnTo>
                <a:lnTo>
                  <a:pt x="71" y="103"/>
                </a:lnTo>
                <a:lnTo>
                  <a:pt x="44" y="68"/>
                </a:lnTo>
                <a:lnTo>
                  <a:pt x="17" y="32"/>
                </a:lnTo>
                <a:lnTo>
                  <a:pt x="6" y="16"/>
                </a:lnTo>
                <a:lnTo>
                  <a:pt x="1" y="7"/>
                </a:lnTo>
                <a:lnTo>
                  <a:pt x="0" y="5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12" y="2"/>
                </a:lnTo>
                <a:lnTo>
                  <a:pt x="17" y="3"/>
                </a:lnTo>
                <a:lnTo>
                  <a:pt x="55" y="23"/>
                </a:lnTo>
                <a:close/>
              </a:path>
            </a:pathLst>
          </a:custGeom>
          <a:solidFill>
            <a:srgbClr val="446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lip0046" descr=""/>
          <p:cNvPicPr/>
          <p:nvPr/>
        </p:nvPicPr>
        <p:blipFill>
          <a:blip r:embed="rId1"/>
          <a:stretch/>
        </p:blipFill>
        <p:spPr>
          <a:xfrm>
            <a:off x="0" y="1752480"/>
            <a:ext cx="3809880" cy="472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7760" y="243792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serve as an advisory boa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participate in the development of health &amp; safety procedu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measure effectiveness of safety progra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get employees involved in saf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04920"/>
            <a:ext cx="5333760" cy="1752480"/>
          </a:xfrm>
          <a:prstGeom prst="wedgeRoundRectCallout">
            <a:avLst>
              <a:gd name="adj1" fmla="val -63333"/>
              <a:gd name="adj2" fmla="val 73009"/>
              <a:gd name="adj3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at is the purpose of a Safety Committe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3848040" cy="5478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0" y="0"/>
            <a:ext cx="5943600" cy="2133720"/>
          </a:xfrm>
          <a:prstGeom prst="wedgeRoundRectCallout">
            <a:avLst>
              <a:gd name="adj1" fmla="val -47861"/>
              <a:gd name="adj2" fmla="val 61384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How do I know who’s on the Safety Committe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209680"/>
            <a:ext cx="4724280" cy="434340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1640" y="2971800"/>
            <a:ext cx="3505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ost the names of the members on the Safety Committee so that all employees will know who to contact in their departme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4756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Safety Committee Responsibi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0" y="190476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fety committees are established to promote safe workplaces.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 serve as an advisory role, bu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re not responsible for the enforcement of disciplinary actions, personnel concerns, or individual unsafe acts or condition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clip0058" descr=""/>
          <p:cNvPicPr/>
          <p:nvPr/>
        </p:nvPicPr>
        <p:blipFill>
          <a:blip r:embed="rId1"/>
          <a:stretch/>
        </p:blipFill>
        <p:spPr>
          <a:xfrm>
            <a:off x="0" y="762120"/>
            <a:ext cx="2846520" cy="579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bmit written recommendations for improvements or changes to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aluate safety and health policies and procedures annual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spond in writing to recommendations from other employe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view all corrective a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0" name="clip0045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809880" cy="6629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038400">
            <a:off x="5896080" y="342720"/>
            <a:ext cx="961920" cy="836280"/>
          </a:xfrm>
          <a:custGeom>
            <a:avLst/>
            <a:gdLst>
              <a:gd name="textAreaLeft" fmla="*/ 0 w 961920"/>
              <a:gd name="textAreaRight" fmla="*/ 962280 w 961920"/>
              <a:gd name="textAreaTop" fmla="*/ 108360 h 836280"/>
              <a:gd name="textAreaBottom" fmla="*/ 727920 h 836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79960" y="533520"/>
            <a:ext cx="7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 rot="150600">
            <a:off x="5938920" y="495000"/>
            <a:ext cx="8827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afety First</a:t>
            </a:r>
            <a:endParaRPr b="0" lang="en-US" sz="1400" spc="1" strike="noStrike">
              <a:ln w="12600">
                <a:solidFill>
                  <a:srgbClr val="333333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914400"/>
            <a:ext cx="457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Safety Committee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123720" y="3733560"/>
            <a:ext cx="5791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 employees’ suggestions on itineraries for safety committee meeting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676520"/>
            <a:ext cx="3726000" cy="4930560"/>
            <a:chOff x="228600" y="1676520"/>
            <a:chExt cx="3726000" cy="4930560"/>
          </a:xfrm>
        </p:grpSpPr>
        <p:sp>
          <p:nvSpPr>
            <p:cNvPr id="228" name=""/>
            <p:cNvSpPr/>
            <p:nvPr/>
          </p:nvSpPr>
          <p:spPr>
            <a:xfrm>
              <a:off x="228600" y="1676520"/>
              <a:ext cx="3641760" cy="4930560"/>
            </a:xfrm>
            <a:custGeom>
              <a:avLst/>
              <a:gdLst/>
              <a:ahLst/>
              <a:rect l="l" t="t" r="r" b="b"/>
              <a:pathLst>
                <a:path w="2294" h="3106">
                  <a:moveTo>
                    <a:pt x="560" y="3106"/>
                  </a:moveTo>
                  <a:lnTo>
                    <a:pt x="545" y="3102"/>
                  </a:lnTo>
                  <a:lnTo>
                    <a:pt x="530" y="3097"/>
                  </a:lnTo>
                  <a:lnTo>
                    <a:pt x="518" y="3089"/>
                  </a:lnTo>
                  <a:lnTo>
                    <a:pt x="506" y="3081"/>
                  </a:lnTo>
                  <a:lnTo>
                    <a:pt x="495" y="3071"/>
                  </a:lnTo>
                  <a:lnTo>
                    <a:pt x="486" y="3059"/>
                  </a:lnTo>
                  <a:lnTo>
                    <a:pt x="478" y="3044"/>
                  </a:lnTo>
                  <a:lnTo>
                    <a:pt x="470" y="3028"/>
                  </a:lnTo>
                  <a:lnTo>
                    <a:pt x="468" y="3028"/>
                  </a:lnTo>
                  <a:lnTo>
                    <a:pt x="465" y="3027"/>
                  </a:lnTo>
                  <a:lnTo>
                    <a:pt x="458" y="3034"/>
                  </a:lnTo>
                  <a:lnTo>
                    <a:pt x="450" y="3039"/>
                  </a:lnTo>
                  <a:lnTo>
                    <a:pt x="442" y="3042"/>
                  </a:lnTo>
                  <a:lnTo>
                    <a:pt x="434" y="3043"/>
                  </a:lnTo>
                  <a:lnTo>
                    <a:pt x="424" y="3043"/>
                  </a:lnTo>
                  <a:lnTo>
                    <a:pt x="416" y="3042"/>
                  </a:lnTo>
                  <a:lnTo>
                    <a:pt x="407" y="3039"/>
                  </a:lnTo>
                  <a:lnTo>
                    <a:pt x="398" y="3035"/>
                  </a:lnTo>
                  <a:lnTo>
                    <a:pt x="389" y="3030"/>
                  </a:lnTo>
                  <a:lnTo>
                    <a:pt x="381" y="3025"/>
                  </a:lnTo>
                  <a:lnTo>
                    <a:pt x="373" y="3019"/>
                  </a:lnTo>
                  <a:lnTo>
                    <a:pt x="365" y="3013"/>
                  </a:lnTo>
                  <a:lnTo>
                    <a:pt x="351" y="2999"/>
                  </a:lnTo>
                  <a:lnTo>
                    <a:pt x="340" y="2986"/>
                  </a:lnTo>
                  <a:lnTo>
                    <a:pt x="312" y="2988"/>
                  </a:lnTo>
                  <a:lnTo>
                    <a:pt x="288" y="2986"/>
                  </a:lnTo>
                  <a:lnTo>
                    <a:pt x="277" y="2986"/>
                  </a:lnTo>
                  <a:lnTo>
                    <a:pt x="267" y="2984"/>
                  </a:lnTo>
                  <a:lnTo>
                    <a:pt x="258" y="2981"/>
                  </a:lnTo>
                  <a:lnTo>
                    <a:pt x="249" y="2976"/>
                  </a:lnTo>
                  <a:lnTo>
                    <a:pt x="240" y="2970"/>
                  </a:lnTo>
                  <a:lnTo>
                    <a:pt x="233" y="2964"/>
                  </a:lnTo>
                  <a:lnTo>
                    <a:pt x="226" y="2956"/>
                  </a:lnTo>
                  <a:lnTo>
                    <a:pt x="220" y="2945"/>
                  </a:lnTo>
                  <a:lnTo>
                    <a:pt x="213" y="2935"/>
                  </a:lnTo>
                  <a:lnTo>
                    <a:pt x="208" y="2922"/>
                  </a:lnTo>
                  <a:lnTo>
                    <a:pt x="201" y="2906"/>
                  </a:lnTo>
                  <a:lnTo>
                    <a:pt x="196" y="2889"/>
                  </a:lnTo>
                  <a:lnTo>
                    <a:pt x="195" y="2862"/>
                  </a:lnTo>
                  <a:lnTo>
                    <a:pt x="196" y="2840"/>
                  </a:lnTo>
                  <a:lnTo>
                    <a:pt x="199" y="2819"/>
                  </a:lnTo>
                  <a:lnTo>
                    <a:pt x="204" y="2800"/>
                  </a:lnTo>
                  <a:lnTo>
                    <a:pt x="207" y="2791"/>
                  </a:lnTo>
                  <a:lnTo>
                    <a:pt x="210" y="2784"/>
                  </a:lnTo>
                  <a:lnTo>
                    <a:pt x="213" y="2776"/>
                  </a:lnTo>
                  <a:lnTo>
                    <a:pt x="217" y="2770"/>
                  </a:lnTo>
                  <a:lnTo>
                    <a:pt x="226" y="2758"/>
                  </a:lnTo>
                  <a:lnTo>
                    <a:pt x="236" y="2749"/>
                  </a:lnTo>
                  <a:lnTo>
                    <a:pt x="248" y="2741"/>
                  </a:lnTo>
                  <a:lnTo>
                    <a:pt x="260" y="2735"/>
                  </a:lnTo>
                  <a:lnTo>
                    <a:pt x="273" y="2730"/>
                  </a:lnTo>
                  <a:lnTo>
                    <a:pt x="289" y="2727"/>
                  </a:lnTo>
                  <a:lnTo>
                    <a:pt x="304" y="2726"/>
                  </a:lnTo>
                  <a:lnTo>
                    <a:pt x="321" y="2726"/>
                  </a:lnTo>
                  <a:lnTo>
                    <a:pt x="338" y="2727"/>
                  </a:lnTo>
                  <a:lnTo>
                    <a:pt x="357" y="2729"/>
                  </a:lnTo>
                  <a:lnTo>
                    <a:pt x="364" y="2721"/>
                  </a:lnTo>
                  <a:lnTo>
                    <a:pt x="372" y="2714"/>
                  </a:lnTo>
                  <a:lnTo>
                    <a:pt x="379" y="2709"/>
                  </a:lnTo>
                  <a:lnTo>
                    <a:pt x="386" y="2704"/>
                  </a:lnTo>
                  <a:lnTo>
                    <a:pt x="395" y="2700"/>
                  </a:lnTo>
                  <a:lnTo>
                    <a:pt x="402" y="2697"/>
                  </a:lnTo>
                  <a:lnTo>
                    <a:pt x="409" y="2694"/>
                  </a:lnTo>
                  <a:lnTo>
                    <a:pt x="417" y="2692"/>
                  </a:lnTo>
                  <a:lnTo>
                    <a:pt x="433" y="2690"/>
                  </a:lnTo>
                  <a:lnTo>
                    <a:pt x="449" y="2692"/>
                  </a:lnTo>
                  <a:lnTo>
                    <a:pt x="468" y="2693"/>
                  </a:lnTo>
                  <a:lnTo>
                    <a:pt x="487" y="2697"/>
                  </a:lnTo>
                  <a:lnTo>
                    <a:pt x="487" y="2697"/>
                  </a:lnTo>
                  <a:lnTo>
                    <a:pt x="488" y="2696"/>
                  </a:lnTo>
                  <a:lnTo>
                    <a:pt x="474" y="2668"/>
                  </a:lnTo>
                  <a:lnTo>
                    <a:pt x="459" y="2642"/>
                  </a:lnTo>
                  <a:lnTo>
                    <a:pt x="445" y="2614"/>
                  </a:lnTo>
                  <a:lnTo>
                    <a:pt x="430" y="2587"/>
                  </a:lnTo>
                  <a:lnTo>
                    <a:pt x="415" y="2561"/>
                  </a:lnTo>
                  <a:lnTo>
                    <a:pt x="402" y="2535"/>
                  </a:lnTo>
                  <a:lnTo>
                    <a:pt x="388" y="2507"/>
                  </a:lnTo>
                  <a:lnTo>
                    <a:pt x="376" y="2481"/>
                  </a:lnTo>
                  <a:lnTo>
                    <a:pt x="367" y="2448"/>
                  </a:lnTo>
                  <a:lnTo>
                    <a:pt x="358" y="2416"/>
                  </a:lnTo>
                  <a:lnTo>
                    <a:pt x="350" y="2385"/>
                  </a:lnTo>
                  <a:lnTo>
                    <a:pt x="344" y="2355"/>
                  </a:lnTo>
                  <a:lnTo>
                    <a:pt x="340" y="2325"/>
                  </a:lnTo>
                  <a:lnTo>
                    <a:pt x="337" y="2296"/>
                  </a:lnTo>
                  <a:lnTo>
                    <a:pt x="336" y="2268"/>
                  </a:lnTo>
                  <a:lnTo>
                    <a:pt x="336" y="2239"/>
                  </a:lnTo>
                  <a:lnTo>
                    <a:pt x="339" y="2213"/>
                  </a:lnTo>
                  <a:lnTo>
                    <a:pt x="343" y="2185"/>
                  </a:lnTo>
                  <a:lnTo>
                    <a:pt x="346" y="2170"/>
                  </a:lnTo>
                  <a:lnTo>
                    <a:pt x="349" y="2157"/>
                  </a:lnTo>
                  <a:lnTo>
                    <a:pt x="353" y="2144"/>
                  </a:lnTo>
                  <a:lnTo>
                    <a:pt x="359" y="2131"/>
                  </a:lnTo>
                  <a:lnTo>
                    <a:pt x="364" y="2117"/>
                  </a:lnTo>
                  <a:lnTo>
                    <a:pt x="370" y="2104"/>
                  </a:lnTo>
                  <a:lnTo>
                    <a:pt x="376" y="2090"/>
                  </a:lnTo>
                  <a:lnTo>
                    <a:pt x="383" y="2077"/>
                  </a:lnTo>
                  <a:lnTo>
                    <a:pt x="399" y="2050"/>
                  </a:lnTo>
                  <a:lnTo>
                    <a:pt x="417" y="2024"/>
                  </a:lnTo>
                  <a:lnTo>
                    <a:pt x="414" y="2009"/>
                  </a:lnTo>
                  <a:lnTo>
                    <a:pt x="412" y="1995"/>
                  </a:lnTo>
                  <a:lnTo>
                    <a:pt x="411" y="1981"/>
                  </a:lnTo>
                  <a:lnTo>
                    <a:pt x="411" y="1970"/>
                  </a:lnTo>
                  <a:lnTo>
                    <a:pt x="411" y="1958"/>
                  </a:lnTo>
                  <a:lnTo>
                    <a:pt x="412" y="1946"/>
                  </a:lnTo>
                  <a:lnTo>
                    <a:pt x="414" y="1934"/>
                  </a:lnTo>
                  <a:lnTo>
                    <a:pt x="416" y="1922"/>
                  </a:lnTo>
                  <a:lnTo>
                    <a:pt x="422" y="1900"/>
                  </a:lnTo>
                  <a:lnTo>
                    <a:pt x="431" y="1878"/>
                  </a:lnTo>
                  <a:lnTo>
                    <a:pt x="441" y="1855"/>
                  </a:lnTo>
                  <a:lnTo>
                    <a:pt x="451" y="1831"/>
                  </a:lnTo>
                  <a:lnTo>
                    <a:pt x="450" y="1830"/>
                  </a:lnTo>
                  <a:lnTo>
                    <a:pt x="450" y="1827"/>
                  </a:lnTo>
                  <a:lnTo>
                    <a:pt x="439" y="1824"/>
                  </a:lnTo>
                  <a:lnTo>
                    <a:pt x="427" y="1819"/>
                  </a:lnTo>
                  <a:lnTo>
                    <a:pt x="418" y="1816"/>
                  </a:lnTo>
                  <a:lnTo>
                    <a:pt x="410" y="1815"/>
                  </a:lnTo>
                  <a:lnTo>
                    <a:pt x="389" y="1828"/>
                  </a:lnTo>
                  <a:lnTo>
                    <a:pt x="367" y="1841"/>
                  </a:lnTo>
                  <a:lnTo>
                    <a:pt x="342" y="1853"/>
                  </a:lnTo>
                  <a:lnTo>
                    <a:pt x="317" y="1867"/>
                  </a:lnTo>
                  <a:lnTo>
                    <a:pt x="290" y="1877"/>
                  </a:lnTo>
                  <a:lnTo>
                    <a:pt x="262" y="1888"/>
                  </a:lnTo>
                  <a:lnTo>
                    <a:pt x="234" y="1897"/>
                  </a:lnTo>
                  <a:lnTo>
                    <a:pt x="206" y="1904"/>
                  </a:lnTo>
                  <a:lnTo>
                    <a:pt x="178" y="1909"/>
                  </a:lnTo>
                  <a:lnTo>
                    <a:pt x="149" y="1910"/>
                  </a:lnTo>
                  <a:lnTo>
                    <a:pt x="136" y="1910"/>
                  </a:lnTo>
                  <a:lnTo>
                    <a:pt x="122" y="1910"/>
                  </a:lnTo>
                  <a:lnTo>
                    <a:pt x="109" y="1908"/>
                  </a:lnTo>
                  <a:lnTo>
                    <a:pt x="96" y="1906"/>
                  </a:lnTo>
                  <a:lnTo>
                    <a:pt x="83" y="1902"/>
                  </a:lnTo>
                  <a:lnTo>
                    <a:pt x="71" y="1898"/>
                  </a:lnTo>
                  <a:lnTo>
                    <a:pt x="60" y="1893"/>
                  </a:lnTo>
                  <a:lnTo>
                    <a:pt x="48" y="1886"/>
                  </a:lnTo>
                  <a:lnTo>
                    <a:pt x="37" y="1880"/>
                  </a:lnTo>
                  <a:lnTo>
                    <a:pt x="27" y="1871"/>
                  </a:lnTo>
                  <a:lnTo>
                    <a:pt x="17" y="1861"/>
                  </a:lnTo>
                  <a:lnTo>
                    <a:pt x="8" y="1851"/>
                  </a:lnTo>
                  <a:lnTo>
                    <a:pt x="5" y="1843"/>
                  </a:lnTo>
                  <a:lnTo>
                    <a:pt x="2" y="1836"/>
                  </a:lnTo>
                  <a:lnTo>
                    <a:pt x="1" y="1828"/>
                  </a:lnTo>
                  <a:lnTo>
                    <a:pt x="0" y="1822"/>
                  </a:lnTo>
                  <a:lnTo>
                    <a:pt x="0" y="1815"/>
                  </a:lnTo>
                  <a:lnTo>
                    <a:pt x="0" y="1807"/>
                  </a:lnTo>
                  <a:lnTo>
                    <a:pt x="0" y="1801"/>
                  </a:lnTo>
                  <a:lnTo>
                    <a:pt x="2" y="1794"/>
                  </a:lnTo>
                  <a:lnTo>
                    <a:pt x="5" y="1782"/>
                  </a:lnTo>
                  <a:lnTo>
                    <a:pt x="10" y="1769"/>
                  </a:lnTo>
                  <a:lnTo>
                    <a:pt x="18" y="1758"/>
                  </a:lnTo>
                  <a:lnTo>
                    <a:pt x="25" y="1748"/>
                  </a:lnTo>
                  <a:lnTo>
                    <a:pt x="58" y="1682"/>
                  </a:lnTo>
                  <a:lnTo>
                    <a:pt x="92" y="1617"/>
                  </a:lnTo>
                  <a:lnTo>
                    <a:pt x="108" y="1585"/>
                  </a:lnTo>
                  <a:lnTo>
                    <a:pt x="126" y="1554"/>
                  </a:lnTo>
                  <a:lnTo>
                    <a:pt x="144" y="1522"/>
                  </a:lnTo>
                  <a:lnTo>
                    <a:pt x="162" y="1492"/>
                  </a:lnTo>
                  <a:lnTo>
                    <a:pt x="182" y="1461"/>
                  </a:lnTo>
                  <a:lnTo>
                    <a:pt x="201" y="1432"/>
                  </a:lnTo>
                  <a:lnTo>
                    <a:pt x="222" y="1403"/>
                  </a:lnTo>
                  <a:lnTo>
                    <a:pt x="244" y="1375"/>
                  </a:lnTo>
                  <a:lnTo>
                    <a:pt x="265" y="1349"/>
                  </a:lnTo>
                  <a:lnTo>
                    <a:pt x="289" y="1325"/>
                  </a:lnTo>
                  <a:lnTo>
                    <a:pt x="312" y="1301"/>
                  </a:lnTo>
                  <a:lnTo>
                    <a:pt x="338" y="1279"/>
                  </a:lnTo>
                  <a:lnTo>
                    <a:pt x="346" y="1275"/>
                  </a:lnTo>
                  <a:lnTo>
                    <a:pt x="361" y="1268"/>
                  </a:lnTo>
                  <a:lnTo>
                    <a:pt x="375" y="1263"/>
                  </a:lnTo>
                  <a:lnTo>
                    <a:pt x="382" y="1259"/>
                  </a:lnTo>
                  <a:lnTo>
                    <a:pt x="365" y="1258"/>
                  </a:lnTo>
                  <a:lnTo>
                    <a:pt x="344" y="1257"/>
                  </a:lnTo>
                  <a:lnTo>
                    <a:pt x="322" y="1253"/>
                  </a:lnTo>
                  <a:lnTo>
                    <a:pt x="300" y="1247"/>
                  </a:lnTo>
                  <a:lnTo>
                    <a:pt x="290" y="1243"/>
                  </a:lnTo>
                  <a:lnTo>
                    <a:pt x="280" y="1239"/>
                  </a:lnTo>
                  <a:lnTo>
                    <a:pt x="271" y="1234"/>
                  </a:lnTo>
                  <a:lnTo>
                    <a:pt x="263" y="1228"/>
                  </a:lnTo>
                  <a:lnTo>
                    <a:pt x="256" y="1220"/>
                  </a:lnTo>
                  <a:lnTo>
                    <a:pt x="250" y="1212"/>
                  </a:lnTo>
                  <a:lnTo>
                    <a:pt x="246" y="1201"/>
                  </a:lnTo>
                  <a:lnTo>
                    <a:pt x="244" y="1191"/>
                  </a:lnTo>
                  <a:lnTo>
                    <a:pt x="246" y="1167"/>
                  </a:lnTo>
                  <a:lnTo>
                    <a:pt x="249" y="1148"/>
                  </a:lnTo>
                  <a:lnTo>
                    <a:pt x="250" y="1142"/>
                  </a:lnTo>
                  <a:lnTo>
                    <a:pt x="253" y="1135"/>
                  </a:lnTo>
                  <a:lnTo>
                    <a:pt x="256" y="1130"/>
                  </a:lnTo>
                  <a:lnTo>
                    <a:pt x="259" y="1125"/>
                  </a:lnTo>
                  <a:lnTo>
                    <a:pt x="263" y="1121"/>
                  </a:lnTo>
                  <a:lnTo>
                    <a:pt x="267" y="1117"/>
                  </a:lnTo>
                  <a:lnTo>
                    <a:pt x="272" y="1114"/>
                  </a:lnTo>
                  <a:lnTo>
                    <a:pt x="279" y="1110"/>
                  </a:lnTo>
                  <a:lnTo>
                    <a:pt x="292" y="1105"/>
                  </a:lnTo>
                  <a:lnTo>
                    <a:pt x="309" y="1099"/>
                  </a:lnTo>
                  <a:lnTo>
                    <a:pt x="339" y="1097"/>
                  </a:lnTo>
                  <a:lnTo>
                    <a:pt x="372" y="1095"/>
                  </a:lnTo>
                  <a:lnTo>
                    <a:pt x="387" y="1094"/>
                  </a:lnTo>
                  <a:lnTo>
                    <a:pt x="404" y="1093"/>
                  </a:lnTo>
                  <a:lnTo>
                    <a:pt x="419" y="1090"/>
                  </a:lnTo>
                  <a:lnTo>
                    <a:pt x="435" y="1086"/>
                  </a:lnTo>
                  <a:lnTo>
                    <a:pt x="433" y="1080"/>
                  </a:lnTo>
                  <a:lnTo>
                    <a:pt x="425" y="1072"/>
                  </a:lnTo>
                  <a:lnTo>
                    <a:pt x="417" y="1061"/>
                  </a:lnTo>
                  <a:lnTo>
                    <a:pt x="407" y="1051"/>
                  </a:lnTo>
                  <a:lnTo>
                    <a:pt x="386" y="1032"/>
                  </a:lnTo>
                  <a:lnTo>
                    <a:pt x="376" y="1023"/>
                  </a:lnTo>
                  <a:lnTo>
                    <a:pt x="368" y="1011"/>
                  </a:lnTo>
                  <a:lnTo>
                    <a:pt x="362" y="999"/>
                  </a:lnTo>
                  <a:lnTo>
                    <a:pt x="356" y="987"/>
                  </a:lnTo>
                  <a:lnTo>
                    <a:pt x="349" y="975"/>
                  </a:lnTo>
                  <a:lnTo>
                    <a:pt x="344" y="962"/>
                  </a:lnTo>
                  <a:lnTo>
                    <a:pt x="340" y="949"/>
                  </a:lnTo>
                  <a:lnTo>
                    <a:pt x="336" y="936"/>
                  </a:lnTo>
                  <a:lnTo>
                    <a:pt x="334" y="921"/>
                  </a:lnTo>
                  <a:lnTo>
                    <a:pt x="332" y="908"/>
                  </a:lnTo>
                  <a:lnTo>
                    <a:pt x="331" y="895"/>
                  </a:lnTo>
                  <a:lnTo>
                    <a:pt x="331" y="880"/>
                  </a:lnTo>
                  <a:lnTo>
                    <a:pt x="332" y="867"/>
                  </a:lnTo>
                  <a:lnTo>
                    <a:pt x="334" y="854"/>
                  </a:lnTo>
                  <a:lnTo>
                    <a:pt x="337" y="841"/>
                  </a:lnTo>
                  <a:lnTo>
                    <a:pt x="342" y="827"/>
                  </a:lnTo>
                  <a:lnTo>
                    <a:pt x="348" y="814"/>
                  </a:lnTo>
                  <a:lnTo>
                    <a:pt x="353" y="813"/>
                  </a:lnTo>
                  <a:lnTo>
                    <a:pt x="359" y="812"/>
                  </a:lnTo>
                  <a:lnTo>
                    <a:pt x="364" y="812"/>
                  </a:lnTo>
                  <a:lnTo>
                    <a:pt x="369" y="813"/>
                  </a:lnTo>
                  <a:lnTo>
                    <a:pt x="380" y="816"/>
                  </a:lnTo>
                  <a:lnTo>
                    <a:pt x="390" y="822"/>
                  </a:lnTo>
                  <a:lnTo>
                    <a:pt x="402" y="830"/>
                  </a:lnTo>
                  <a:lnTo>
                    <a:pt x="412" y="839"/>
                  </a:lnTo>
                  <a:lnTo>
                    <a:pt x="423" y="851"/>
                  </a:lnTo>
                  <a:lnTo>
                    <a:pt x="434" y="864"/>
                  </a:lnTo>
                  <a:lnTo>
                    <a:pt x="453" y="891"/>
                  </a:lnTo>
                  <a:lnTo>
                    <a:pt x="472" y="919"/>
                  </a:lnTo>
                  <a:lnTo>
                    <a:pt x="489" y="945"/>
                  </a:lnTo>
                  <a:lnTo>
                    <a:pt x="503" y="965"/>
                  </a:lnTo>
                  <a:lnTo>
                    <a:pt x="517" y="979"/>
                  </a:lnTo>
                  <a:lnTo>
                    <a:pt x="527" y="990"/>
                  </a:lnTo>
                  <a:lnTo>
                    <a:pt x="535" y="998"/>
                  </a:lnTo>
                  <a:lnTo>
                    <a:pt x="541" y="1002"/>
                  </a:lnTo>
                  <a:lnTo>
                    <a:pt x="545" y="1002"/>
                  </a:lnTo>
                  <a:lnTo>
                    <a:pt x="547" y="1000"/>
                  </a:lnTo>
                  <a:lnTo>
                    <a:pt x="549" y="998"/>
                  </a:lnTo>
                  <a:lnTo>
                    <a:pt x="551" y="994"/>
                  </a:lnTo>
                  <a:lnTo>
                    <a:pt x="555" y="981"/>
                  </a:lnTo>
                  <a:lnTo>
                    <a:pt x="560" y="960"/>
                  </a:lnTo>
                  <a:lnTo>
                    <a:pt x="565" y="949"/>
                  </a:lnTo>
                  <a:lnTo>
                    <a:pt x="570" y="938"/>
                  </a:lnTo>
                  <a:lnTo>
                    <a:pt x="575" y="926"/>
                  </a:lnTo>
                  <a:lnTo>
                    <a:pt x="579" y="915"/>
                  </a:lnTo>
                  <a:lnTo>
                    <a:pt x="588" y="891"/>
                  </a:lnTo>
                  <a:lnTo>
                    <a:pt x="596" y="867"/>
                  </a:lnTo>
                  <a:lnTo>
                    <a:pt x="601" y="857"/>
                  </a:lnTo>
                  <a:lnTo>
                    <a:pt x="607" y="846"/>
                  </a:lnTo>
                  <a:lnTo>
                    <a:pt x="613" y="837"/>
                  </a:lnTo>
                  <a:lnTo>
                    <a:pt x="621" y="829"/>
                  </a:lnTo>
                  <a:lnTo>
                    <a:pt x="629" y="822"/>
                  </a:lnTo>
                  <a:lnTo>
                    <a:pt x="638" y="817"/>
                  </a:lnTo>
                  <a:lnTo>
                    <a:pt x="648" y="814"/>
                  </a:lnTo>
                  <a:lnTo>
                    <a:pt x="661" y="813"/>
                  </a:lnTo>
                  <a:lnTo>
                    <a:pt x="669" y="817"/>
                  </a:lnTo>
                  <a:lnTo>
                    <a:pt x="675" y="821"/>
                  </a:lnTo>
                  <a:lnTo>
                    <a:pt x="681" y="826"/>
                  </a:lnTo>
                  <a:lnTo>
                    <a:pt x="686" y="830"/>
                  </a:lnTo>
                  <a:lnTo>
                    <a:pt x="690" y="835"/>
                  </a:lnTo>
                  <a:lnTo>
                    <a:pt x="695" y="841"/>
                  </a:lnTo>
                  <a:lnTo>
                    <a:pt x="698" y="846"/>
                  </a:lnTo>
                  <a:lnTo>
                    <a:pt x="700" y="853"/>
                  </a:lnTo>
                  <a:lnTo>
                    <a:pt x="702" y="858"/>
                  </a:lnTo>
                  <a:lnTo>
                    <a:pt x="703" y="864"/>
                  </a:lnTo>
                  <a:lnTo>
                    <a:pt x="703" y="870"/>
                  </a:lnTo>
                  <a:lnTo>
                    <a:pt x="703" y="876"/>
                  </a:lnTo>
                  <a:lnTo>
                    <a:pt x="702" y="890"/>
                  </a:lnTo>
                  <a:lnTo>
                    <a:pt x="700" y="904"/>
                  </a:lnTo>
                  <a:lnTo>
                    <a:pt x="691" y="933"/>
                  </a:lnTo>
                  <a:lnTo>
                    <a:pt x="683" y="962"/>
                  </a:lnTo>
                  <a:lnTo>
                    <a:pt x="679" y="978"/>
                  </a:lnTo>
                  <a:lnTo>
                    <a:pt x="675" y="993"/>
                  </a:lnTo>
                  <a:lnTo>
                    <a:pt x="673" y="1008"/>
                  </a:lnTo>
                  <a:lnTo>
                    <a:pt x="672" y="1023"/>
                  </a:lnTo>
                  <a:lnTo>
                    <a:pt x="679" y="1028"/>
                  </a:lnTo>
                  <a:lnTo>
                    <a:pt x="686" y="1032"/>
                  </a:lnTo>
                  <a:lnTo>
                    <a:pt x="695" y="1037"/>
                  </a:lnTo>
                  <a:lnTo>
                    <a:pt x="703" y="1040"/>
                  </a:lnTo>
                  <a:lnTo>
                    <a:pt x="719" y="1047"/>
                  </a:lnTo>
                  <a:lnTo>
                    <a:pt x="736" y="1052"/>
                  </a:lnTo>
                  <a:lnTo>
                    <a:pt x="753" y="1056"/>
                  </a:lnTo>
                  <a:lnTo>
                    <a:pt x="771" y="1062"/>
                  </a:lnTo>
                  <a:lnTo>
                    <a:pt x="787" y="1069"/>
                  </a:lnTo>
                  <a:lnTo>
                    <a:pt x="802" y="1078"/>
                  </a:lnTo>
                  <a:lnTo>
                    <a:pt x="832" y="1089"/>
                  </a:lnTo>
                  <a:lnTo>
                    <a:pt x="863" y="1101"/>
                  </a:lnTo>
                  <a:lnTo>
                    <a:pt x="878" y="1107"/>
                  </a:lnTo>
                  <a:lnTo>
                    <a:pt x="894" y="1114"/>
                  </a:lnTo>
                  <a:lnTo>
                    <a:pt x="908" y="1122"/>
                  </a:lnTo>
                  <a:lnTo>
                    <a:pt x="924" y="1131"/>
                  </a:lnTo>
                  <a:lnTo>
                    <a:pt x="927" y="1132"/>
                  </a:lnTo>
                  <a:lnTo>
                    <a:pt x="930" y="1132"/>
                  </a:lnTo>
                  <a:lnTo>
                    <a:pt x="930" y="1127"/>
                  </a:lnTo>
                  <a:lnTo>
                    <a:pt x="929" y="1121"/>
                  </a:lnTo>
                  <a:lnTo>
                    <a:pt x="928" y="1115"/>
                  </a:lnTo>
                  <a:lnTo>
                    <a:pt x="926" y="1110"/>
                  </a:lnTo>
                  <a:lnTo>
                    <a:pt x="921" y="1101"/>
                  </a:lnTo>
                  <a:lnTo>
                    <a:pt x="914" y="1092"/>
                  </a:lnTo>
                  <a:lnTo>
                    <a:pt x="907" y="1082"/>
                  </a:lnTo>
                  <a:lnTo>
                    <a:pt x="900" y="1076"/>
                  </a:lnTo>
                  <a:lnTo>
                    <a:pt x="893" y="1069"/>
                  </a:lnTo>
                  <a:lnTo>
                    <a:pt x="887" y="1064"/>
                  </a:lnTo>
                  <a:lnTo>
                    <a:pt x="882" y="1057"/>
                  </a:lnTo>
                  <a:lnTo>
                    <a:pt x="879" y="1051"/>
                  </a:lnTo>
                  <a:lnTo>
                    <a:pt x="878" y="1044"/>
                  </a:lnTo>
                  <a:lnTo>
                    <a:pt x="877" y="1039"/>
                  </a:lnTo>
                  <a:lnTo>
                    <a:pt x="877" y="1033"/>
                  </a:lnTo>
                  <a:lnTo>
                    <a:pt x="877" y="1027"/>
                  </a:lnTo>
                  <a:lnTo>
                    <a:pt x="878" y="1022"/>
                  </a:lnTo>
                  <a:lnTo>
                    <a:pt x="880" y="1018"/>
                  </a:lnTo>
                  <a:lnTo>
                    <a:pt x="892" y="998"/>
                  </a:lnTo>
                  <a:lnTo>
                    <a:pt x="903" y="978"/>
                  </a:lnTo>
                  <a:lnTo>
                    <a:pt x="897" y="966"/>
                  </a:lnTo>
                  <a:lnTo>
                    <a:pt x="893" y="957"/>
                  </a:lnTo>
                  <a:lnTo>
                    <a:pt x="890" y="948"/>
                  </a:lnTo>
                  <a:lnTo>
                    <a:pt x="889" y="937"/>
                  </a:lnTo>
                  <a:lnTo>
                    <a:pt x="874" y="923"/>
                  </a:lnTo>
                  <a:lnTo>
                    <a:pt x="859" y="909"/>
                  </a:lnTo>
                  <a:lnTo>
                    <a:pt x="844" y="896"/>
                  </a:lnTo>
                  <a:lnTo>
                    <a:pt x="828" y="884"/>
                  </a:lnTo>
                  <a:lnTo>
                    <a:pt x="797" y="863"/>
                  </a:lnTo>
                  <a:lnTo>
                    <a:pt x="765" y="842"/>
                  </a:lnTo>
                  <a:lnTo>
                    <a:pt x="734" y="820"/>
                  </a:lnTo>
                  <a:lnTo>
                    <a:pt x="703" y="797"/>
                  </a:lnTo>
                  <a:lnTo>
                    <a:pt x="687" y="785"/>
                  </a:lnTo>
                  <a:lnTo>
                    <a:pt x="672" y="772"/>
                  </a:lnTo>
                  <a:lnTo>
                    <a:pt x="658" y="757"/>
                  </a:lnTo>
                  <a:lnTo>
                    <a:pt x="643" y="743"/>
                  </a:lnTo>
                  <a:lnTo>
                    <a:pt x="632" y="728"/>
                  </a:lnTo>
                  <a:lnTo>
                    <a:pt x="621" y="714"/>
                  </a:lnTo>
                  <a:lnTo>
                    <a:pt x="612" y="697"/>
                  </a:lnTo>
                  <a:lnTo>
                    <a:pt x="604" y="677"/>
                  </a:lnTo>
                  <a:lnTo>
                    <a:pt x="597" y="656"/>
                  </a:lnTo>
                  <a:lnTo>
                    <a:pt x="590" y="633"/>
                  </a:lnTo>
                  <a:lnTo>
                    <a:pt x="583" y="610"/>
                  </a:lnTo>
                  <a:lnTo>
                    <a:pt x="577" y="586"/>
                  </a:lnTo>
                  <a:lnTo>
                    <a:pt x="573" y="562"/>
                  </a:lnTo>
                  <a:lnTo>
                    <a:pt x="570" y="538"/>
                  </a:lnTo>
                  <a:lnTo>
                    <a:pt x="569" y="513"/>
                  </a:lnTo>
                  <a:lnTo>
                    <a:pt x="569" y="491"/>
                  </a:lnTo>
                  <a:lnTo>
                    <a:pt x="570" y="480"/>
                  </a:lnTo>
                  <a:lnTo>
                    <a:pt x="572" y="468"/>
                  </a:lnTo>
                  <a:lnTo>
                    <a:pt x="574" y="458"/>
                  </a:lnTo>
                  <a:lnTo>
                    <a:pt x="577" y="449"/>
                  </a:lnTo>
                  <a:lnTo>
                    <a:pt x="581" y="438"/>
                  </a:lnTo>
                  <a:lnTo>
                    <a:pt x="585" y="429"/>
                  </a:lnTo>
                  <a:lnTo>
                    <a:pt x="590" y="421"/>
                  </a:lnTo>
                  <a:lnTo>
                    <a:pt x="595" y="413"/>
                  </a:lnTo>
                  <a:lnTo>
                    <a:pt x="602" y="405"/>
                  </a:lnTo>
                  <a:lnTo>
                    <a:pt x="609" y="398"/>
                  </a:lnTo>
                  <a:lnTo>
                    <a:pt x="616" y="392"/>
                  </a:lnTo>
                  <a:lnTo>
                    <a:pt x="626" y="386"/>
                  </a:lnTo>
                  <a:lnTo>
                    <a:pt x="629" y="373"/>
                  </a:lnTo>
                  <a:lnTo>
                    <a:pt x="633" y="361"/>
                  </a:lnTo>
                  <a:lnTo>
                    <a:pt x="637" y="351"/>
                  </a:lnTo>
                  <a:lnTo>
                    <a:pt x="642" y="339"/>
                  </a:lnTo>
                  <a:lnTo>
                    <a:pt x="629" y="342"/>
                  </a:lnTo>
                  <a:lnTo>
                    <a:pt x="616" y="344"/>
                  </a:lnTo>
                  <a:lnTo>
                    <a:pt x="604" y="348"/>
                  </a:lnTo>
                  <a:lnTo>
                    <a:pt x="592" y="353"/>
                  </a:lnTo>
                  <a:lnTo>
                    <a:pt x="569" y="361"/>
                  </a:lnTo>
                  <a:lnTo>
                    <a:pt x="550" y="368"/>
                  </a:lnTo>
                  <a:lnTo>
                    <a:pt x="540" y="369"/>
                  </a:lnTo>
                  <a:lnTo>
                    <a:pt x="533" y="369"/>
                  </a:lnTo>
                  <a:lnTo>
                    <a:pt x="529" y="368"/>
                  </a:lnTo>
                  <a:lnTo>
                    <a:pt x="526" y="365"/>
                  </a:lnTo>
                  <a:lnTo>
                    <a:pt x="523" y="363"/>
                  </a:lnTo>
                  <a:lnTo>
                    <a:pt x="520" y="360"/>
                  </a:lnTo>
                  <a:lnTo>
                    <a:pt x="518" y="356"/>
                  </a:lnTo>
                  <a:lnTo>
                    <a:pt x="516" y="351"/>
                  </a:lnTo>
                  <a:lnTo>
                    <a:pt x="514" y="346"/>
                  </a:lnTo>
                  <a:lnTo>
                    <a:pt x="512" y="339"/>
                  </a:lnTo>
                  <a:lnTo>
                    <a:pt x="510" y="322"/>
                  </a:lnTo>
                  <a:lnTo>
                    <a:pt x="509" y="301"/>
                  </a:lnTo>
                  <a:lnTo>
                    <a:pt x="517" y="290"/>
                  </a:lnTo>
                  <a:lnTo>
                    <a:pt x="525" y="281"/>
                  </a:lnTo>
                  <a:lnTo>
                    <a:pt x="533" y="274"/>
                  </a:lnTo>
                  <a:lnTo>
                    <a:pt x="542" y="269"/>
                  </a:lnTo>
                  <a:lnTo>
                    <a:pt x="553" y="264"/>
                  </a:lnTo>
                  <a:lnTo>
                    <a:pt x="563" y="261"/>
                  </a:lnTo>
                  <a:lnTo>
                    <a:pt x="574" y="258"/>
                  </a:lnTo>
                  <a:lnTo>
                    <a:pt x="585" y="258"/>
                  </a:lnTo>
                  <a:lnTo>
                    <a:pt x="608" y="257"/>
                  </a:lnTo>
                  <a:lnTo>
                    <a:pt x="631" y="257"/>
                  </a:lnTo>
                  <a:lnTo>
                    <a:pt x="654" y="258"/>
                  </a:lnTo>
                  <a:lnTo>
                    <a:pt x="677" y="257"/>
                  </a:lnTo>
                  <a:lnTo>
                    <a:pt x="692" y="236"/>
                  </a:lnTo>
                  <a:lnTo>
                    <a:pt x="709" y="216"/>
                  </a:lnTo>
                  <a:lnTo>
                    <a:pt x="726" y="198"/>
                  </a:lnTo>
                  <a:lnTo>
                    <a:pt x="744" y="182"/>
                  </a:lnTo>
                  <a:lnTo>
                    <a:pt x="753" y="175"/>
                  </a:lnTo>
                  <a:lnTo>
                    <a:pt x="762" y="169"/>
                  </a:lnTo>
                  <a:lnTo>
                    <a:pt x="773" y="162"/>
                  </a:lnTo>
                  <a:lnTo>
                    <a:pt x="782" y="158"/>
                  </a:lnTo>
                  <a:lnTo>
                    <a:pt x="793" y="154"/>
                  </a:lnTo>
                  <a:lnTo>
                    <a:pt x="803" y="151"/>
                  </a:lnTo>
                  <a:lnTo>
                    <a:pt x="816" y="149"/>
                  </a:lnTo>
                  <a:lnTo>
                    <a:pt x="827" y="149"/>
                  </a:lnTo>
                  <a:lnTo>
                    <a:pt x="831" y="132"/>
                  </a:lnTo>
                  <a:lnTo>
                    <a:pt x="836" y="116"/>
                  </a:lnTo>
                  <a:lnTo>
                    <a:pt x="841" y="99"/>
                  </a:lnTo>
                  <a:lnTo>
                    <a:pt x="848" y="84"/>
                  </a:lnTo>
                  <a:lnTo>
                    <a:pt x="851" y="79"/>
                  </a:lnTo>
                  <a:lnTo>
                    <a:pt x="855" y="74"/>
                  </a:lnTo>
                  <a:lnTo>
                    <a:pt x="860" y="70"/>
                  </a:lnTo>
                  <a:lnTo>
                    <a:pt x="865" y="67"/>
                  </a:lnTo>
                  <a:lnTo>
                    <a:pt x="871" y="64"/>
                  </a:lnTo>
                  <a:lnTo>
                    <a:pt x="878" y="66"/>
                  </a:lnTo>
                  <a:lnTo>
                    <a:pt x="886" y="67"/>
                  </a:lnTo>
                  <a:lnTo>
                    <a:pt x="894" y="71"/>
                  </a:lnTo>
                  <a:lnTo>
                    <a:pt x="898" y="80"/>
                  </a:lnTo>
                  <a:lnTo>
                    <a:pt x="902" y="91"/>
                  </a:lnTo>
                  <a:lnTo>
                    <a:pt x="906" y="101"/>
                  </a:lnTo>
                  <a:lnTo>
                    <a:pt x="911" y="112"/>
                  </a:lnTo>
                  <a:lnTo>
                    <a:pt x="932" y="111"/>
                  </a:lnTo>
                  <a:lnTo>
                    <a:pt x="952" y="108"/>
                  </a:lnTo>
                  <a:lnTo>
                    <a:pt x="973" y="104"/>
                  </a:lnTo>
                  <a:lnTo>
                    <a:pt x="993" y="101"/>
                  </a:lnTo>
                  <a:lnTo>
                    <a:pt x="1005" y="100"/>
                  </a:lnTo>
                  <a:lnTo>
                    <a:pt x="1015" y="100"/>
                  </a:lnTo>
                  <a:lnTo>
                    <a:pt x="1024" y="101"/>
                  </a:lnTo>
                  <a:lnTo>
                    <a:pt x="1035" y="104"/>
                  </a:lnTo>
                  <a:lnTo>
                    <a:pt x="1045" y="107"/>
                  </a:lnTo>
                  <a:lnTo>
                    <a:pt x="1054" y="112"/>
                  </a:lnTo>
                  <a:lnTo>
                    <a:pt x="1063" y="118"/>
                  </a:lnTo>
                  <a:lnTo>
                    <a:pt x="1072" y="126"/>
                  </a:lnTo>
                  <a:lnTo>
                    <a:pt x="1076" y="128"/>
                  </a:lnTo>
                  <a:lnTo>
                    <a:pt x="1080" y="130"/>
                  </a:lnTo>
                  <a:lnTo>
                    <a:pt x="1087" y="116"/>
                  </a:lnTo>
                  <a:lnTo>
                    <a:pt x="1093" y="101"/>
                  </a:lnTo>
                  <a:lnTo>
                    <a:pt x="1098" y="85"/>
                  </a:lnTo>
                  <a:lnTo>
                    <a:pt x="1103" y="70"/>
                  </a:lnTo>
                  <a:lnTo>
                    <a:pt x="1113" y="38"/>
                  </a:lnTo>
                  <a:lnTo>
                    <a:pt x="1121" y="8"/>
                  </a:lnTo>
                  <a:lnTo>
                    <a:pt x="1124" y="5"/>
                  </a:lnTo>
                  <a:lnTo>
                    <a:pt x="1127" y="2"/>
                  </a:lnTo>
                  <a:lnTo>
                    <a:pt x="1130" y="0"/>
                  </a:lnTo>
                  <a:lnTo>
                    <a:pt x="1133" y="0"/>
                  </a:lnTo>
                  <a:lnTo>
                    <a:pt x="1140" y="0"/>
                  </a:lnTo>
                  <a:lnTo>
                    <a:pt x="1146" y="2"/>
                  </a:lnTo>
                  <a:lnTo>
                    <a:pt x="1154" y="8"/>
                  </a:lnTo>
                  <a:lnTo>
                    <a:pt x="1161" y="14"/>
                  </a:lnTo>
                  <a:lnTo>
                    <a:pt x="1168" y="22"/>
                  </a:lnTo>
                  <a:lnTo>
                    <a:pt x="1175" y="33"/>
                  </a:lnTo>
                  <a:lnTo>
                    <a:pt x="1181" y="43"/>
                  </a:lnTo>
                  <a:lnTo>
                    <a:pt x="1188" y="54"/>
                  </a:lnTo>
                  <a:lnTo>
                    <a:pt x="1193" y="66"/>
                  </a:lnTo>
                  <a:lnTo>
                    <a:pt x="1198" y="78"/>
                  </a:lnTo>
                  <a:lnTo>
                    <a:pt x="1206" y="99"/>
                  </a:lnTo>
                  <a:lnTo>
                    <a:pt x="1210" y="114"/>
                  </a:lnTo>
                  <a:lnTo>
                    <a:pt x="1238" y="100"/>
                  </a:lnTo>
                  <a:lnTo>
                    <a:pt x="1272" y="84"/>
                  </a:lnTo>
                  <a:lnTo>
                    <a:pt x="1281" y="81"/>
                  </a:lnTo>
                  <a:lnTo>
                    <a:pt x="1288" y="80"/>
                  </a:lnTo>
                  <a:lnTo>
                    <a:pt x="1296" y="81"/>
                  </a:lnTo>
                  <a:lnTo>
                    <a:pt x="1304" y="83"/>
                  </a:lnTo>
                  <a:lnTo>
                    <a:pt x="1310" y="88"/>
                  </a:lnTo>
                  <a:lnTo>
                    <a:pt x="1316" y="95"/>
                  </a:lnTo>
                  <a:lnTo>
                    <a:pt x="1320" y="105"/>
                  </a:lnTo>
                  <a:lnTo>
                    <a:pt x="1324" y="117"/>
                  </a:lnTo>
                  <a:lnTo>
                    <a:pt x="1324" y="130"/>
                  </a:lnTo>
                  <a:lnTo>
                    <a:pt x="1322" y="144"/>
                  </a:lnTo>
                  <a:lnTo>
                    <a:pt x="1321" y="157"/>
                  </a:lnTo>
                  <a:lnTo>
                    <a:pt x="1318" y="171"/>
                  </a:lnTo>
                  <a:lnTo>
                    <a:pt x="1314" y="199"/>
                  </a:lnTo>
                  <a:lnTo>
                    <a:pt x="1311" y="227"/>
                  </a:lnTo>
                  <a:lnTo>
                    <a:pt x="1322" y="231"/>
                  </a:lnTo>
                  <a:lnTo>
                    <a:pt x="1330" y="235"/>
                  </a:lnTo>
                  <a:lnTo>
                    <a:pt x="1338" y="241"/>
                  </a:lnTo>
                  <a:lnTo>
                    <a:pt x="1349" y="250"/>
                  </a:lnTo>
                  <a:lnTo>
                    <a:pt x="1359" y="249"/>
                  </a:lnTo>
                  <a:lnTo>
                    <a:pt x="1369" y="248"/>
                  </a:lnTo>
                  <a:lnTo>
                    <a:pt x="1378" y="248"/>
                  </a:lnTo>
                  <a:lnTo>
                    <a:pt x="1386" y="249"/>
                  </a:lnTo>
                  <a:lnTo>
                    <a:pt x="1389" y="252"/>
                  </a:lnTo>
                  <a:lnTo>
                    <a:pt x="1392" y="254"/>
                  </a:lnTo>
                  <a:lnTo>
                    <a:pt x="1395" y="257"/>
                  </a:lnTo>
                  <a:lnTo>
                    <a:pt x="1398" y="262"/>
                  </a:lnTo>
                  <a:lnTo>
                    <a:pt x="1404" y="273"/>
                  </a:lnTo>
                  <a:lnTo>
                    <a:pt x="1409" y="289"/>
                  </a:lnTo>
                  <a:lnTo>
                    <a:pt x="1409" y="306"/>
                  </a:lnTo>
                  <a:lnTo>
                    <a:pt x="1410" y="322"/>
                  </a:lnTo>
                  <a:lnTo>
                    <a:pt x="1412" y="338"/>
                  </a:lnTo>
                  <a:lnTo>
                    <a:pt x="1414" y="353"/>
                  </a:lnTo>
                  <a:lnTo>
                    <a:pt x="1416" y="369"/>
                  </a:lnTo>
                  <a:lnTo>
                    <a:pt x="1419" y="386"/>
                  </a:lnTo>
                  <a:lnTo>
                    <a:pt x="1424" y="402"/>
                  </a:lnTo>
                  <a:lnTo>
                    <a:pt x="1429" y="419"/>
                  </a:lnTo>
                  <a:lnTo>
                    <a:pt x="1435" y="427"/>
                  </a:lnTo>
                  <a:lnTo>
                    <a:pt x="1439" y="435"/>
                  </a:lnTo>
                  <a:lnTo>
                    <a:pt x="1441" y="441"/>
                  </a:lnTo>
                  <a:lnTo>
                    <a:pt x="1442" y="446"/>
                  </a:lnTo>
                  <a:lnTo>
                    <a:pt x="1443" y="452"/>
                  </a:lnTo>
                  <a:lnTo>
                    <a:pt x="1443" y="460"/>
                  </a:lnTo>
                  <a:lnTo>
                    <a:pt x="1430" y="475"/>
                  </a:lnTo>
                  <a:lnTo>
                    <a:pt x="1420" y="488"/>
                  </a:lnTo>
                  <a:lnTo>
                    <a:pt x="1416" y="495"/>
                  </a:lnTo>
                  <a:lnTo>
                    <a:pt x="1413" y="504"/>
                  </a:lnTo>
                  <a:lnTo>
                    <a:pt x="1412" y="513"/>
                  </a:lnTo>
                  <a:lnTo>
                    <a:pt x="1413" y="524"/>
                  </a:lnTo>
                  <a:lnTo>
                    <a:pt x="1399" y="537"/>
                  </a:lnTo>
                  <a:lnTo>
                    <a:pt x="1385" y="548"/>
                  </a:lnTo>
                  <a:lnTo>
                    <a:pt x="1381" y="558"/>
                  </a:lnTo>
                  <a:lnTo>
                    <a:pt x="1376" y="570"/>
                  </a:lnTo>
                  <a:lnTo>
                    <a:pt x="1369" y="582"/>
                  </a:lnTo>
                  <a:lnTo>
                    <a:pt x="1361" y="594"/>
                  </a:lnTo>
                  <a:lnTo>
                    <a:pt x="1352" y="606"/>
                  </a:lnTo>
                  <a:lnTo>
                    <a:pt x="1343" y="618"/>
                  </a:lnTo>
                  <a:lnTo>
                    <a:pt x="1331" y="628"/>
                  </a:lnTo>
                  <a:lnTo>
                    <a:pt x="1321" y="639"/>
                  </a:lnTo>
                  <a:lnTo>
                    <a:pt x="1297" y="658"/>
                  </a:lnTo>
                  <a:lnTo>
                    <a:pt x="1275" y="676"/>
                  </a:lnTo>
                  <a:lnTo>
                    <a:pt x="1253" y="689"/>
                  </a:lnTo>
                  <a:lnTo>
                    <a:pt x="1234" y="699"/>
                  </a:lnTo>
                  <a:lnTo>
                    <a:pt x="1222" y="702"/>
                  </a:lnTo>
                  <a:lnTo>
                    <a:pt x="1204" y="706"/>
                  </a:lnTo>
                  <a:lnTo>
                    <a:pt x="1182" y="713"/>
                  </a:lnTo>
                  <a:lnTo>
                    <a:pt x="1160" y="721"/>
                  </a:lnTo>
                  <a:lnTo>
                    <a:pt x="1149" y="724"/>
                  </a:lnTo>
                  <a:lnTo>
                    <a:pt x="1138" y="730"/>
                  </a:lnTo>
                  <a:lnTo>
                    <a:pt x="1129" y="736"/>
                  </a:lnTo>
                  <a:lnTo>
                    <a:pt x="1121" y="743"/>
                  </a:lnTo>
                  <a:lnTo>
                    <a:pt x="1115" y="751"/>
                  </a:lnTo>
                  <a:lnTo>
                    <a:pt x="1110" y="759"/>
                  </a:lnTo>
                  <a:lnTo>
                    <a:pt x="1108" y="763"/>
                  </a:lnTo>
                  <a:lnTo>
                    <a:pt x="1107" y="768"/>
                  </a:lnTo>
                  <a:lnTo>
                    <a:pt x="1107" y="773"/>
                  </a:lnTo>
                  <a:lnTo>
                    <a:pt x="1108" y="779"/>
                  </a:lnTo>
                  <a:lnTo>
                    <a:pt x="1105" y="788"/>
                  </a:lnTo>
                  <a:lnTo>
                    <a:pt x="1103" y="798"/>
                  </a:lnTo>
                  <a:lnTo>
                    <a:pt x="1102" y="809"/>
                  </a:lnTo>
                  <a:lnTo>
                    <a:pt x="1101" y="821"/>
                  </a:lnTo>
                  <a:lnTo>
                    <a:pt x="1102" y="833"/>
                  </a:lnTo>
                  <a:lnTo>
                    <a:pt x="1103" y="843"/>
                  </a:lnTo>
                  <a:lnTo>
                    <a:pt x="1106" y="855"/>
                  </a:lnTo>
                  <a:lnTo>
                    <a:pt x="1108" y="866"/>
                  </a:lnTo>
                  <a:lnTo>
                    <a:pt x="1115" y="863"/>
                  </a:lnTo>
                  <a:lnTo>
                    <a:pt x="1121" y="859"/>
                  </a:lnTo>
                  <a:lnTo>
                    <a:pt x="1128" y="853"/>
                  </a:lnTo>
                  <a:lnTo>
                    <a:pt x="1135" y="845"/>
                  </a:lnTo>
                  <a:lnTo>
                    <a:pt x="1149" y="829"/>
                  </a:lnTo>
                  <a:lnTo>
                    <a:pt x="1156" y="821"/>
                  </a:lnTo>
                  <a:lnTo>
                    <a:pt x="1165" y="816"/>
                  </a:lnTo>
                  <a:lnTo>
                    <a:pt x="1178" y="809"/>
                  </a:lnTo>
                  <a:lnTo>
                    <a:pt x="1195" y="801"/>
                  </a:lnTo>
                  <a:lnTo>
                    <a:pt x="1211" y="797"/>
                  </a:lnTo>
                  <a:lnTo>
                    <a:pt x="1219" y="796"/>
                  </a:lnTo>
                  <a:lnTo>
                    <a:pt x="1227" y="796"/>
                  </a:lnTo>
                  <a:lnTo>
                    <a:pt x="1233" y="797"/>
                  </a:lnTo>
                  <a:lnTo>
                    <a:pt x="1237" y="800"/>
                  </a:lnTo>
                  <a:lnTo>
                    <a:pt x="1239" y="802"/>
                  </a:lnTo>
                  <a:lnTo>
                    <a:pt x="1241" y="805"/>
                  </a:lnTo>
                  <a:lnTo>
                    <a:pt x="1242" y="808"/>
                  </a:lnTo>
                  <a:lnTo>
                    <a:pt x="1242" y="812"/>
                  </a:lnTo>
                  <a:lnTo>
                    <a:pt x="1242" y="820"/>
                  </a:lnTo>
                  <a:lnTo>
                    <a:pt x="1239" y="831"/>
                  </a:lnTo>
                  <a:lnTo>
                    <a:pt x="1233" y="842"/>
                  </a:lnTo>
                  <a:lnTo>
                    <a:pt x="1227" y="855"/>
                  </a:lnTo>
                  <a:lnTo>
                    <a:pt x="1221" y="870"/>
                  </a:lnTo>
                  <a:lnTo>
                    <a:pt x="1216" y="884"/>
                  </a:lnTo>
                  <a:lnTo>
                    <a:pt x="1213" y="900"/>
                  </a:lnTo>
                  <a:lnTo>
                    <a:pt x="1212" y="916"/>
                  </a:lnTo>
                  <a:lnTo>
                    <a:pt x="1212" y="924"/>
                  </a:lnTo>
                  <a:lnTo>
                    <a:pt x="1213" y="930"/>
                  </a:lnTo>
                  <a:lnTo>
                    <a:pt x="1214" y="938"/>
                  </a:lnTo>
                  <a:lnTo>
                    <a:pt x="1216" y="945"/>
                  </a:lnTo>
                  <a:lnTo>
                    <a:pt x="1227" y="960"/>
                  </a:lnTo>
                  <a:lnTo>
                    <a:pt x="1234" y="971"/>
                  </a:lnTo>
                  <a:lnTo>
                    <a:pt x="1236" y="978"/>
                  </a:lnTo>
                  <a:lnTo>
                    <a:pt x="1238" y="986"/>
                  </a:lnTo>
                  <a:lnTo>
                    <a:pt x="1240" y="995"/>
                  </a:lnTo>
                  <a:lnTo>
                    <a:pt x="1242" y="1007"/>
                  </a:lnTo>
                  <a:lnTo>
                    <a:pt x="1248" y="1003"/>
                  </a:lnTo>
                  <a:lnTo>
                    <a:pt x="1254" y="999"/>
                  </a:lnTo>
                  <a:lnTo>
                    <a:pt x="1259" y="995"/>
                  </a:lnTo>
                  <a:lnTo>
                    <a:pt x="1265" y="989"/>
                  </a:lnTo>
                  <a:lnTo>
                    <a:pt x="1275" y="977"/>
                  </a:lnTo>
                  <a:lnTo>
                    <a:pt x="1284" y="962"/>
                  </a:lnTo>
                  <a:lnTo>
                    <a:pt x="1300" y="929"/>
                  </a:lnTo>
                  <a:lnTo>
                    <a:pt x="1315" y="899"/>
                  </a:lnTo>
                  <a:lnTo>
                    <a:pt x="1323" y="884"/>
                  </a:lnTo>
                  <a:lnTo>
                    <a:pt x="1332" y="872"/>
                  </a:lnTo>
                  <a:lnTo>
                    <a:pt x="1337" y="867"/>
                  </a:lnTo>
                  <a:lnTo>
                    <a:pt x="1342" y="863"/>
                  </a:lnTo>
                  <a:lnTo>
                    <a:pt x="1347" y="860"/>
                  </a:lnTo>
                  <a:lnTo>
                    <a:pt x="1353" y="858"/>
                  </a:lnTo>
                  <a:lnTo>
                    <a:pt x="1359" y="857"/>
                  </a:lnTo>
                  <a:lnTo>
                    <a:pt x="1365" y="855"/>
                  </a:lnTo>
                  <a:lnTo>
                    <a:pt x="1372" y="857"/>
                  </a:lnTo>
                  <a:lnTo>
                    <a:pt x="1380" y="858"/>
                  </a:lnTo>
                  <a:lnTo>
                    <a:pt x="1388" y="862"/>
                  </a:lnTo>
                  <a:lnTo>
                    <a:pt x="1396" y="866"/>
                  </a:lnTo>
                  <a:lnTo>
                    <a:pt x="1405" y="872"/>
                  </a:lnTo>
                  <a:lnTo>
                    <a:pt x="1416" y="880"/>
                  </a:lnTo>
                  <a:lnTo>
                    <a:pt x="1419" y="888"/>
                  </a:lnTo>
                  <a:lnTo>
                    <a:pt x="1421" y="895"/>
                  </a:lnTo>
                  <a:lnTo>
                    <a:pt x="1422" y="903"/>
                  </a:lnTo>
                  <a:lnTo>
                    <a:pt x="1423" y="911"/>
                  </a:lnTo>
                  <a:lnTo>
                    <a:pt x="1424" y="925"/>
                  </a:lnTo>
                  <a:lnTo>
                    <a:pt x="1423" y="940"/>
                  </a:lnTo>
                  <a:lnTo>
                    <a:pt x="1422" y="954"/>
                  </a:lnTo>
                  <a:lnTo>
                    <a:pt x="1421" y="969"/>
                  </a:lnTo>
                  <a:lnTo>
                    <a:pt x="1420" y="985"/>
                  </a:lnTo>
                  <a:lnTo>
                    <a:pt x="1421" y="1002"/>
                  </a:lnTo>
                  <a:lnTo>
                    <a:pt x="1440" y="990"/>
                  </a:lnTo>
                  <a:lnTo>
                    <a:pt x="1461" y="979"/>
                  </a:lnTo>
                  <a:lnTo>
                    <a:pt x="1482" y="970"/>
                  </a:lnTo>
                  <a:lnTo>
                    <a:pt x="1504" y="962"/>
                  </a:lnTo>
                  <a:lnTo>
                    <a:pt x="1526" y="956"/>
                  </a:lnTo>
                  <a:lnTo>
                    <a:pt x="1547" y="949"/>
                  </a:lnTo>
                  <a:lnTo>
                    <a:pt x="1570" y="942"/>
                  </a:lnTo>
                  <a:lnTo>
                    <a:pt x="1591" y="936"/>
                  </a:lnTo>
                  <a:lnTo>
                    <a:pt x="1593" y="933"/>
                  </a:lnTo>
                  <a:lnTo>
                    <a:pt x="1594" y="928"/>
                  </a:lnTo>
                  <a:lnTo>
                    <a:pt x="1595" y="923"/>
                  </a:lnTo>
                  <a:lnTo>
                    <a:pt x="1595" y="917"/>
                  </a:lnTo>
                  <a:lnTo>
                    <a:pt x="1595" y="903"/>
                  </a:lnTo>
                  <a:lnTo>
                    <a:pt x="1595" y="888"/>
                  </a:lnTo>
                  <a:lnTo>
                    <a:pt x="1595" y="880"/>
                  </a:lnTo>
                  <a:lnTo>
                    <a:pt x="1596" y="872"/>
                  </a:lnTo>
                  <a:lnTo>
                    <a:pt x="1598" y="864"/>
                  </a:lnTo>
                  <a:lnTo>
                    <a:pt x="1601" y="857"/>
                  </a:lnTo>
                  <a:lnTo>
                    <a:pt x="1603" y="850"/>
                  </a:lnTo>
                  <a:lnTo>
                    <a:pt x="1607" y="842"/>
                  </a:lnTo>
                  <a:lnTo>
                    <a:pt x="1612" y="837"/>
                  </a:lnTo>
                  <a:lnTo>
                    <a:pt x="1618" y="830"/>
                  </a:lnTo>
                  <a:lnTo>
                    <a:pt x="1636" y="825"/>
                  </a:lnTo>
                  <a:lnTo>
                    <a:pt x="1651" y="822"/>
                  </a:lnTo>
                  <a:lnTo>
                    <a:pt x="1661" y="820"/>
                  </a:lnTo>
                  <a:lnTo>
                    <a:pt x="1668" y="816"/>
                  </a:lnTo>
                  <a:lnTo>
                    <a:pt x="1671" y="813"/>
                  </a:lnTo>
                  <a:lnTo>
                    <a:pt x="1674" y="809"/>
                  </a:lnTo>
                  <a:lnTo>
                    <a:pt x="1677" y="805"/>
                  </a:lnTo>
                  <a:lnTo>
                    <a:pt x="1679" y="798"/>
                  </a:lnTo>
                  <a:lnTo>
                    <a:pt x="1682" y="783"/>
                  </a:lnTo>
                  <a:lnTo>
                    <a:pt x="1684" y="761"/>
                  </a:lnTo>
                  <a:lnTo>
                    <a:pt x="1684" y="732"/>
                  </a:lnTo>
                  <a:lnTo>
                    <a:pt x="1683" y="698"/>
                  </a:lnTo>
                  <a:lnTo>
                    <a:pt x="1683" y="660"/>
                  </a:lnTo>
                  <a:lnTo>
                    <a:pt x="1683" y="620"/>
                  </a:lnTo>
                  <a:lnTo>
                    <a:pt x="1684" y="602"/>
                  </a:lnTo>
                  <a:lnTo>
                    <a:pt x="1685" y="582"/>
                  </a:lnTo>
                  <a:lnTo>
                    <a:pt x="1686" y="565"/>
                  </a:lnTo>
                  <a:lnTo>
                    <a:pt x="1688" y="548"/>
                  </a:lnTo>
                  <a:lnTo>
                    <a:pt x="1691" y="532"/>
                  </a:lnTo>
                  <a:lnTo>
                    <a:pt x="1695" y="517"/>
                  </a:lnTo>
                  <a:lnTo>
                    <a:pt x="1699" y="505"/>
                  </a:lnTo>
                  <a:lnTo>
                    <a:pt x="1705" y="496"/>
                  </a:lnTo>
                  <a:lnTo>
                    <a:pt x="1723" y="484"/>
                  </a:lnTo>
                  <a:lnTo>
                    <a:pt x="1741" y="474"/>
                  </a:lnTo>
                  <a:lnTo>
                    <a:pt x="1760" y="464"/>
                  </a:lnTo>
                  <a:lnTo>
                    <a:pt x="1779" y="456"/>
                  </a:lnTo>
                  <a:lnTo>
                    <a:pt x="1800" y="449"/>
                  </a:lnTo>
                  <a:lnTo>
                    <a:pt x="1819" y="442"/>
                  </a:lnTo>
                  <a:lnTo>
                    <a:pt x="1840" y="437"/>
                  </a:lnTo>
                  <a:lnTo>
                    <a:pt x="1861" y="431"/>
                  </a:lnTo>
                  <a:lnTo>
                    <a:pt x="1904" y="423"/>
                  </a:lnTo>
                  <a:lnTo>
                    <a:pt x="1946" y="416"/>
                  </a:lnTo>
                  <a:lnTo>
                    <a:pt x="1988" y="408"/>
                  </a:lnTo>
                  <a:lnTo>
                    <a:pt x="2028" y="398"/>
                  </a:lnTo>
                  <a:lnTo>
                    <a:pt x="2048" y="394"/>
                  </a:lnTo>
                  <a:lnTo>
                    <a:pt x="2069" y="390"/>
                  </a:lnTo>
                  <a:lnTo>
                    <a:pt x="2090" y="386"/>
                  </a:lnTo>
                  <a:lnTo>
                    <a:pt x="2111" y="383"/>
                  </a:lnTo>
                  <a:lnTo>
                    <a:pt x="2132" y="380"/>
                  </a:lnTo>
                  <a:lnTo>
                    <a:pt x="2153" y="377"/>
                  </a:lnTo>
                  <a:lnTo>
                    <a:pt x="2174" y="375"/>
                  </a:lnTo>
                  <a:lnTo>
                    <a:pt x="2195" y="375"/>
                  </a:lnTo>
                  <a:lnTo>
                    <a:pt x="2230" y="381"/>
                  </a:lnTo>
                  <a:lnTo>
                    <a:pt x="2256" y="385"/>
                  </a:lnTo>
                  <a:lnTo>
                    <a:pt x="2261" y="388"/>
                  </a:lnTo>
                  <a:lnTo>
                    <a:pt x="2265" y="390"/>
                  </a:lnTo>
                  <a:lnTo>
                    <a:pt x="2270" y="396"/>
                  </a:lnTo>
                  <a:lnTo>
                    <a:pt x="2273" y="402"/>
                  </a:lnTo>
                  <a:lnTo>
                    <a:pt x="2277" y="410"/>
                  </a:lnTo>
                  <a:lnTo>
                    <a:pt x="2281" y="419"/>
                  </a:lnTo>
                  <a:lnTo>
                    <a:pt x="2283" y="433"/>
                  </a:lnTo>
                  <a:lnTo>
                    <a:pt x="2286" y="449"/>
                  </a:lnTo>
                  <a:lnTo>
                    <a:pt x="2289" y="487"/>
                  </a:lnTo>
                  <a:lnTo>
                    <a:pt x="2292" y="525"/>
                  </a:lnTo>
                  <a:lnTo>
                    <a:pt x="2293" y="565"/>
                  </a:lnTo>
                  <a:lnTo>
                    <a:pt x="2294" y="603"/>
                  </a:lnTo>
                  <a:lnTo>
                    <a:pt x="2294" y="681"/>
                  </a:lnTo>
                  <a:lnTo>
                    <a:pt x="2293" y="760"/>
                  </a:lnTo>
                  <a:lnTo>
                    <a:pt x="2290" y="838"/>
                  </a:lnTo>
                  <a:lnTo>
                    <a:pt x="2286" y="917"/>
                  </a:lnTo>
                  <a:lnTo>
                    <a:pt x="2284" y="995"/>
                  </a:lnTo>
                  <a:lnTo>
                    <a:pt x="2282" y="1074"/>
                  </a:lnTo>
                  <a:lnTo>
                    <a:pt x="2279" y="1105"/>
                  </a:lnTo>
                  <a:lnTo>
                    <a:pt x="2279" y="1139"/>
                  </a:lnTo>
                  <a:lnTo>
                    <a:pt x="2278" y="1175"/>
                  </a:lnTo>
                  <a:lnTo>
                    <a:pt x="2276" y="1213"/>
                  </a:lnTo>
                  <a:lnTo>
                    <a:pt x="2274" y="1250"/>
                  </a:lnTo>
                  <a:lnTo>
                    <a:pt x="2270" y="1287"/>
                  </a:lnTo>
                  <a:lnTo>
                    <a:pt x="2267" y="1304"/>
                  </a:lnTo>
                  <a:lnTo>
                    <a:pt x="2264" y="1321"/>
                  </a:lnTo>
                  <a:lnTo>
                    <a:pt x="2261" y="1337"/>
                  </a:lnTo>
                  <a:lnTo>
                    <a:pt x="2257" y="1353"/>
                  </a:lnTo>
                  <a:lnTo>
                    <a:pt x="2257" y="1370"/>
                  </a:lnTo>
                  <a:lnTo>
                    <a:pt x="2255" y="1383"/>
                  </a:lnTo>
                  <a:lnTo>
                    <a:pt x="2254" y="1390"/>
                  </a:lnTo>
                  <a:lnTo>
                    <a:pt x="2252" y="1395"/>
                  </a:lnTo>
                  <a:lnTo>
                    <a:pt x="2250" y="1400"/>
                  </a:lnTo>
                  <a:lnTo>
                    <a:pt x="2247" y="1404"/>
                  </a:lnTo>
                  <a:lnTo>
                    <a:pt x="2241" y="1411"/>
                  </a:lnTo>
                  <a:lnTo>
                    <a:pt x="2234" y="1416"/>
                  </a:lnTo>
                  <a:lnTo>
                    <a:pt x="2226" y="1420"/>
                  </a:lnTo>
                  <a:lnTo>
                    <a:pt x="2217" y="1422"/>
                  </a:lnTo>
                  <a:lnTo>
                    <a:pt x="2176" y="1423"/>
                  </a:lnTo>
                  <a:lnTo>
                    <a:pt x="2136" y="1423"/>
                  </a:lnTo>
                  <a:lnTo>
                    <a:pt x="2103" y="1422"/>
                  </a:lnTo>
                  <a:lnTo>
                    <a:pt x="2071" y="1418"/>
                  </a:lnTo>
                  <a:lnTo>
                    <a:pt x="2055" y="1415"/>
                  </a:lnTo>
                  <a:lnTo>
                    <a:pt x="2039" y="1411"/>
                  </a:lnTo>
                  <a:lnTo>
                    <a:pt x="2024" y="1406"/>
                  </a:lnTo>
                  <a:lnTo>
                    <a:pt x="2009" y="1400"/>
                  </a:lnTo>
                  <a:lnTo>
                    <a:pt x="2001" y="1400"/>
                  </a:lnTo>
                  <a:lnTo>
                    <a:pt x="1995" y="1400"/>
                  </a:lnTo>
                  <a:lnTo>
                    <a:pt x="1991" y="1400"/>
                  </a:lnTo>
                  <a:lnTo>
                    <a:pt x="1988" y="1402"/>
                  </a:lnTo>
                  <a:lnTo>
                    <a:pt x="1987" y="1404"/>
                  </a:lnTo>
                  <a:lnTo>
                    <a:pt x="1986" y="1410"/>
                  </a:lnTo>
                  <a:lnTo>
                    <a:pt x="1986" y="1418"/>
                  </a:lnTo>
                  <a:lnTo>
                    <a:pt x="1986" y="1428"/>
                  </a:lnTo>
                  <a:lnTo>
                    <a:pt x="1984" y="1431"/>
                  </a:lnTo>
                  <a:lnTo>
                    <a:pt x="1981" y="1432"/>
                  </a:lnTo>
                  <a:lnTo>
                    <a:pt x="1976" y="1434"/>
                  </a:lnTo>
                  <a:lnTo>
                    <a:pt x="1972" y="1435"/>
                  </a:lnTo>
                  <a:lnTo>
                    <a:pt x="1962" y="1435"/>
                  </a:lnTo>
                  <a:lnTo>
                    <a:pt x="1952" y="1434"/>
                  </a:lnTo>
                  <a:lnTo>
                    <a:pt x="1932" y="1430"/>
                  </a:lnTo>
                  <a:lnTo>
                    <a:pt x="1920" y="1427"/>
                  </a:lnTo>
                  <a:lnTo>
                    <a:pt x="1896" y="1427"/>
                  </a:lnTo>
                  <a:lnTo>
                    <a:pt x="1862" y="1426"/>
                  </a:lnTo>
                  <a:lnTo>
                    <a:pt x="1821" y="1424"/>
                  </a:lnTo>
                  <a:lnTo>
                    <a:pt x="1776" y="1420"/>
                  </a:lnTo>
                  <a:lnTo>
                    <a:pt x="1755" y="1418"/>
                  </a:lnTo>
                  <a:lnTo>
                    <a:pt x="1733" y="1415"/>
                  </a:lnTo>
                  <a:lnTo>
                    <a:pt x="1713" y="1411"/>
                  </a:lnTo>
                  <a:lnTo>
                    <a:pt x="1695" y="1407"/>
                  </a:lnTo>
                  <a:lnTo>
                    <a:pt x="1679" y="1402"/>
                  </a:lnTo>
                  <a:lnTo>
                    <a:pt x="1665" y="1397"/>
                  </a:lnTo>
                  <a:lnTo>
                    <a:pt x="1660" y="1393"/>
                  </a:lnTo>
                  <a:lnTo>
                    <a:pt x="1655" y="1389"/>
                  </a:lnTo>
                  <a:lnTo>
                    <a:pt x="1651" y="1386"/>
                  </a:lnTo>
                  <a:lnTo>
                    <a:pt x="1649" y="1382"/>
                  </a:lnTo>
                  <a:lnTo>
                    <a:pt x="1649" y="1352"/>
                  </a:lnTo>
                  <a:lnTo>
                    <a:pt x="1650" y="1323"/>
                  </a:lnTo>
                  <a:lnTo>
                    <a:pt x="1652" y="1294"/>
                  </a:lnTo>
                  <a:lnTo>
                    <a:pt x="1654" y="1265"/>
                  </a:lnTo>
                  <a:lnTo>
                    <a:pt x="1656" y="1237"/>
                  </a:lnTo>
                  <a:lnTo>
                    <a:pt x="1659" y="1209"/>
                  </a:lnTo>
                  <a:lnTo>
                    <a:pt x="1661" y="1180"/>
                  </a:lnTo>
                  <a:lnTo>
                    <a:pt x="1664" y="1151"/>
                  </a:lnTo>
                  <a:lnTo>
                    <a:pt x="1649" y="1151"/>
                  </a:lnTo>
                  <a:lnTo>
                    <a:pt x="1634" y="1151"/>
                  </a:lnTo>
                  <a:lnTo>
                    <a:pt x="1609" y="1146"/>
                  </a:lnTo>
                  <a:lnTo>
                    <a:pt x="1584" y="1143"/>
                  </a:lnTo>
                  <a:lnTo>
                    <a:pt x="1558" y="1142"/>
                  </a:lnTo>
                  <a:lnTo>
                    <a:pt x="1534" y="1143"/>
                  </a:lnTo>
                  <a:lnTo>
                    <a:pt x="1508" y="1146"/>
                  </a:lnTo>
                  <a:lnTo>
                    <a:pt x="1483" y="1152"/>
                  </a:lnTo>
                  <a:lnTo>
                    <a:pt x="1460" y="1159"/>
                  </a:lnTo>
                  <a:lnTo>
                    <a:pt x="1436" y="1169"/>
                  </a:lnTo>
                  <a:lnTo>
                    <a:pt x="1437" y="1176"/>
                  </a:lnTo>
                  <a:lnTo>
                    <a:pt x="1439" y="1184"/>
                  </a:lnTo>
                  <a:lnTo>
                    <a:pt x="1443" y="1193"/>
                  </a:lnTo>
                  <a:lnTo>
                    <a:pt x="1448" y="1205"/>
                  </a:lnTo>
                  <a:lnTo>
                    <a:pt x="1459" y="1229"/>
                  </a:lnTo>
                  <a:lnTo>
                    <a:pt x="1467" y="1250"/>
                  </a:lnTo>
                  <a:lnTo>
                    <a:pt x="1469" y="1263"/>
                  </a:lnTo>
                  <a:lnTo>
                    <a:pt x="1469" y="1278"/>
                  </a:lnTo>
                  <a:lnTo>
                    <a:pt x="1470" y="1292"/>
                  </a:lnTo>
                  <a:lnTo>
                    <a:pt x="1470" y="1307"/>
                  </a:lnTo>
                  <a:lnTo>
                    <a:pt x="1468" y="1316"/>
                  </a:lnTo>
                  <a:lnTo>
                    <a:pt x="1465" y="1325"/>
                  </a:lnTo>
                  <a:lnTo>
                    <a:pt x="1461" y="1332"/>
                  </a:lnTo>
                  <a:lnTo>
                    <a:pt x="1456" y="1337"/>
                  </a:lnTo>
                  <a:lnTo>
                    <a:pt x="1451" y="1341"/>
                  </a:lnTo>
                  <a:lnTo>
                    <a:pt x="1445" y="1345"/>
                  </a:lnTo>
                  <a:lnTo>
                    <a:pt x="1439" y="1346"/>
                  </a:lnTo>
                  <a:lnTo>
                    <a:pt x="1433" y="1348"/>
                  </a:lnTo>
                  <a:lnTo>
                    <a:pt x="1426" y="1348"/>
                  </a:lnTo>
                  <a:lnTo>
                    <a:pt x="1420" y="1348"/>
                  </a:lnTo>
                  <a:lnTo>
                    <a:pt x="1413" y="1346"/>
                  </a:lnTo>
                  <a:lnTo>
                    <a:pt x="1404" y="1344"/>
                  </a:lnTo>
                  <a:lnTo>
                    <a:pt x="1389" y="1337"/>
                  </a:lnTo>
                  <a:lnTo>
                    <a:pt x="1373" y="1329"/>
                  </a:lnTo>
                  <a:lnTo>
                    <a:pt x="1357" y="1319"/>
                  </a:lnTo>
                  <a:lnTo>
                    <a:pt x="1342" y="1307"/>
                  </a:lnTo>
                  <a:lnTo>
                    <a:pt x="1326" y="1295"/>
                  </a:lnTo>
                  <a:lnTo>
                    <a:pt x="1313" y="1283"/>
                  </a:lnTo>
                  <a:lnTo>
                    <a:pt x="1289" y="1261"/>
                  </a:lnTo>
                  <a:lnTo>
                    <a:pt x="1275" y="1243"/>
                  </a:lnTo>
                  <a:lnTo>
                    <a:pt x="1273" y="1243"/>
                  </a:lnTo>
                  <a:lnTo>
                    <a:pt x="1272" y="1243"/>
                  </a:lnTo>
                  <a:lnTo>
                    <a:pt x="1281" y="1283"/>
                  </a:lnTo>
                  <a:lnTo>
                    <a:pt x="1293" y="1323"/>
                  </a:lnTo>
                  <a:lnTo>
                    <a:pt x="1306" y="1361"/>
                  </a:lnTo>
                  <a:lnTo>
                    <a:pt x="1320" y="1398"/>
                  </a:lnTo>
                  <a:lnTo>
                    <a:pt x="1334" y="1436"/>
                  </a:lnTo>
                  <a:lnTo>
                    <a:pt x="1350" y="1473"/>
                  </a:lnTo>
                  <a:lnTo>
                    <a:pt x="1365" y="1511"/>
                  </a:lnTo>
                  <a:lnTo>
                    <a:pt x="1380" y="1551"/>
                  </a:lnTo>
                  <a:lnTo>
                    <a:pt x="1395" y="1608"/>
                  </a:lnTo>
                  <a:lnTo>
                    <a:pt x="1409" y="1666"/>
                  </a:lnTo>
                  <a:lnTo>
                    <a:pt x="1416" y="1695"/>
                  </a:lnTo>
                  <a:lnTo>
                    <a:pt x="1422" y="1724"/>
                  </a:lnTo>
                  <a:lnTo>
                    <a:pt x="1427" y="1753"/>
                  </a:lnTo>
                  <a:lnTo>
                    <a:pt x="1432" y="1783"/>
                  </a:lnTo>
                  <a:lnTo>
                    <a:pt x="1436" y="1812"/>
                  </a:lnTo>
                  <a:lnTo>
                    <a:pt x="1440" y="1843"/>
                  </a:lnTo>
                  <a:lnTo>
                    <a:pt x="1442" y="1873"/>
                  </a:lnTo>
                  <a:lnTo>
                    <a:pt x="1445" y="1904"/>
                  </a:lnTo>
                  <a:lnTo>
                    <a:pt x="1446" y="1934"/>
                  </a:lnTo>
                  <a:lnTo>
                    <a:pt x="1447" y="1964"/>
                  </a:lnTo>
                  <a:lnTo>
                    <a:pt x="1447" y="1996"/>
                  </a:lnTo>
                  <a:lnTo>
                    <a:pt x="1447" y="2028"/>
                  </a:lnTo>
                  <a:lnTo>
                    <a:pt x="1481" y="2028"/>
                  </a:lnTo>
                  <a:lnTo>
                    <a:pt x="1513" y="2030"/>
                  </a:lnTo>
                  <a:lnTo>
                    <a:pt x="1528" y="2032"/>
                  </a:lnTo>
                  <a:lnTo>
                    <a:pt x="1541" y="2036"/>
                  </a:lnTo>
                  <a:lnTo>
                    <a:pt x="1554" y="2040"/>
                  </a:lnTo>
                  <a:lnTo>
                    <a:pt x="1567" y="2045"/>
                  </a:lnTo>
                  <a:lnTo>
                    <a:pt x="1578" y="2053"/>
                  </a:lnTo>
                  <a:lnTo>
                    <a:pt x="1589" y="2062"/>
                  </a:lnTo>
                  <a:lnTo>
                    <a:pt x="1601" y="2073"/>
                  </a:lnTo>
                  <a:lnTo>
                    <a:pt x="1611" y="2084"/>
                  </a:lnTo>
                  <a:lnTo>
                    <a:pt x="1620" y="2100"/>
                  </a:lnTo>
                  <a:lnTo>
                    <a:pt x="1629" y="2117"/>
                  </a:lnTo>
                  <a:lnTo>
                    <a:pt x="1639" y="2137"/>
                  </a:lnTo>
                  <a:lnTo>
                    <a:pt x="1647" y="2161"/>
                  </a:lnTo>
                  <a:lnTo>
                    <a:pt x="1652" y="2178"/>
                  </a:lnTo>
                  <a:lnTo>
                    <a:pt x="1655" y="2197"/>
                  </a:lnTo>
                  <a:lnTo>
                    <a:pt x="1657" y="2215"/>
                  </a:lnTo>
                  <a:lnTo>
                    <a:pt x="1659" y="2232"/>
                  </a:lnTo>
                  <a:lnTo>
                    <a:pt x="1660" y="2249"/>
                  </a:lnTo>
                  <a:lnTo>
                    <a:pt x="1660" y="2267"/>
                  </a:lnTo>
                  <a:lnTo>
                    <a:pt x="1659" y="2284"/>
                  </a:lnTo>
                  <a:lnTo>
                    <a:pt x="1657" y="2301"/>
                  </a:lnTo>
                  <a:lnTo>
                    <a:pt x="1655" y="2318"/>
                  </a:lnTo>
                  <a:lnTo>
                    <a:pt x="1652" y="2334"/>
                  </a:lnTo>
                  <a:lnTo>
                    <a:pt x="1648" y="2350"/>
                  </a:lnTo>
                  <a:lnTo>
                    <a:pt x="1644" y="2366"/>
                  </a:lnTo>
                  <a:lnTo>
                    <a:pt x="1639" y="2382"/>
                  </a:lnTo>
                  <a:lnTo>
                    <a:pt x="1632" y="2397"/>
                  </a:lnTo>
                  <a:lnTo>
                    <a:pt x="1626" y="2412"/>
                  </a:lnTo>
                  <a:lnTo>
                    <a:pt x="1620" y="2428"/>
                  </a:lnTo>
                  <a:lnTo>
                    <a:pt x="1612" y="2441"/>
                  </a:lnTo>
                  <a:lnTo>
                    <a:pt x="1605" y="2455"/>
                  </a:lnTo>
                  <a:lnTo>
                    <a:pt x="1595" y="2470"/>
                  </a:lnTo>
                  <a:lnTo>
                    <a:pt x="1587" y="2483"/>
                  </a:lnTo>
                  <a:lnTo>
                    <a:pt x="1569" y="2508"/>
                  </a:lnTo>
                  <a:lnTo>
                    <a:pt x="1548" y="2533"/>
                  </a:lnTo>
                  <a:lnTo>
                    <a:pt x="1527" y="2556"/>
                  </a:lnTo>
                  <a:lnTo>
                    <a:pt x="1504" y="2577"/>
                  </a:lnTo>
                  <a:lnTo>
                    <a:pt x="1481" y="2597"/>
                  </a:lnTo>
                  <a:lnTo>
                    <a:pt x="1458" y="2614"/>
                  </a:lnTo>
                  <a:lnTo>
                    <a:pt x="1457" y="2617"/>
                  </a:lnTo>
                  <a:lnTo>
                    <a:pt x="1457" y="2619"/>
                  </a:lnTo>
                  <a:lnTo>
                    <a:pt x="1461" y="2624"/>
                  </a:lnTo>
                  <a:lnTo>
                    <a:pt x="1466" y="2628"/>
                  </a:lnTo>
                  <a:lnTo>
                    <a:pt x="1471" y="2634"/>
                  </a:lnTo>
                  <a:lnTo>
                    <a:pt x="1476" y="2636"/>
                  </a:lnTo>
                  <a:lnTo>
                    <a:pt x="1490" y="2642"/>
                  </a:lnTo>
                  <a:lnTo>
                    <a:pt x="1503" y="2646"/>
                  </a:lnTo>
                  <a:lnTo>
                    <a:pt x="1517" y="2650"/>
                  </a:lnTo>
                  <a:lnTo>
                    <a:pt x="1531" y="2652"/>
                  </a:lnTo>
                  <a:lnTo>
                    <a:pt x="1544" y="2656"/>
                  </a:lnTo>
                  <a:lnTo>
                    <a:pt x="1556" y="2660"/>
                  </a:lnTo>
                  <a:lnTo>
                    <a:pt x="1572" y="2657"/>
                  </a:lnTo>
                  <a:lnTo>
                    <a:pt x="1587" y="2657"/>
                  </a:lnTo>
                  <a:lnTo>
                    <a:pt x="1602" y="2657"/>
                  </a:lnTo>
                  <a:lnTo>
                    <a:pt x="1616" y="2659"/>
                  </a:lnTo>
                  <a:lnTo>
                    <a:pt x="1630" y="2663"/>
                  </a:lnTo>
                  <a:lnTo>
                    <a:pt x="1643" y="2667"/>
                  </a:lnTo>
                  <a:lnTo>
                    <a:pt x="1655" y="2673"/>
                  </a:lnTo>
                  <a:lnTo>
                    <a:pt x="1666" y="2681"/>
                  </a:lnTo>
                  <a:lnTo>
                    <a:pt x="1678" y="2690"/>
                  </a:lnTo>
                  <a:lnTo>
                    <a:pt x="1687" y="2701"/>
                  </a:lnTo>
                  <a:lnTo>
                    <a:pt x="1696" y="2714"/>
                  </a:lnTo>
                  <a:lnTo>
                    <a:pt x="1704" y="2729"/>
                  </a:lnTo>
                  <a:lnTo>
                    <a:pt x="1711" y="2743"/>
                  </a:lnTo>
                  <a:lnTo>
                    <a:pt x="1718" y="2760"/>
                  </a:lnTo>
                  <a:lnTo>
                    <a:pt x="1723" y="2780"/>
                  </a:lnTo>
                  <a:lnTo>
                    <a:pt x="1727" y="2800"/>
                  </a:lnTo>
                  <a:lnTo>
                    <a:pt x="1726" y="2821"/>
                  </a:lnTo>
                  <a:lnTo>
                    <a:pt x="1723" y="2841"/>
                  </a:lnTo>
                  <a:lnTo>
                    <a:pt x="1721" y="2850"/>
                  </a:lnTo>
                  <a:lnTo>
                    <a:pt x="1718" y="2859"/>
                  </a:lnTo>
                  <a:lnTo>
                    <a:pt x="1715" y="2869"/>
                  </a:lnTo>
                  <a:lnTo>
                    <a:pt x="1710" y="2878"/>
                  </a:lnTo>
                  <a:lnTo>
                    <a:pt x="1706" y="2886"/>
                  </a:lnTo>
                  <a:lnTo>
                    <a:pt x="1701" y="2893"/>
                  </a:lnTo>
                  <a:lnTo>
                    <a:pt x="1696" y="2899"/>
                  </a:lnTo>
                  <a:lnTo>
                    <a:pt x="1690" y="2904"/>
                  </a:lnTo>
                  <a:lnTo>
                    <a:pt x="1684" y="2910"/>
                  </a:lnTo>
                  <a:lnTo>
                    <a:pt x="1677" y="2912"/>
                  </a:lnTo>
                  <a:lnTo>
                    <a:pt x="1668" y="2915"/>
                  </a:lnTo>
                  <a:lnTo>
                    <a:pt x="1660" y="2916"/>
                  </a:lnTo>
                  <a:lnTo>
                    <a:pt x="1650" y="2937"/>
                  </a:lnTo>
                  <a:lnTo>
                    <a:pt x="1639" y="2956"/>
                  </a:lnTo>
                  <a:lnTo>
                    <a:pt x="1633" y="2962"/>
                  </a:lnTo>
                  <a:lnTo>
                    <a:pt x="1628" y="2970"/>
                  </a:lnTo>
                  <a:lnTo>
                    <a:pt x="1623" y="2976"/>
                  </a:lnTo>
                  <a:lnTo>
                    <a:pt x="1617" y="2981"/>
                  </a:lnTo>
                  <a:lnTo>
                    <a:pt x="1611" y="2986"/>
                  </a:lnTo>
                  <a:lnTo>
                    <a:pt x="1605" y="2989"/>
                  </a:lnTo>
                  <a:lnTo>
                    <a:pt x="1597" y="2993"/>
                  </a:lnTo>
                  <a:lnTo>
                    <a:pt x="1590" y="2994"/>
                  </a:lnTo>
                  <a:lnTo>
                    <a:pt x="1582" y="2995"/>
                  </a:lnTo>
                  <a:lnTo>
                    <a:pt x="1573" y="2997"/>
                  </a:lnTo>
                  <a:lnTo>
                    <a:pt x="1564" y="2995"/>
                  </a:lnTo>
                  <a:lnTo>
                    <a:pt x="1553" y="2995"/>
                  </a:lnTo>
                  <a:lnTo>
                    <a:pt x="1537" y="2989"/>
                  </a:lnTo>
                  <a:lnTo>
                    <a:pt x="1528" y="2986"/>
                  </a:lnTo>
                  <a:lnTo>
                    <a:pt x="1521" y="2993"/>
                  </a:lnTo>
                  <a:lnTo>
                    <a:pt x="1515" y="2999"/>
                  </a:lnTo>
                  <a:lnTo>
                    <a:pt x="1509" y="3006"/>
                  </a:lnTo>
                  <a:lnTo>
                    <a:pt x="1502" y="3010"/>
                  </a:lnTo>
                  <a:lnTo>
                    <a:pt x="1496" y="3015"/>
                  </a:lnTo>
                  <a:lnTo>
                    <a:pt x="1489" y="3018"/>
                  </a:lnTo>
                  <a:lnTo>
                    <a:pt x="1482" y="3021"/>
                  </a:lnTo>
                  <a:lnTo>
                    <a:pt x="1475" y="3023"/>
                  </a:lnTo>
                  <a:lnTo>
                    <a:pt x="1462" y="3026"/>
                  </a:lnTo>
                  <a:lnTo>
                    <a:pt x="1448" y="3026"/>
                  </a:lnTo>
                  <a:lnTo>
                    <a:pt x="1434" y="3023"/>
                  </a:lnTo>
                  <a:lnTo>
                    <a:pt x="1422" y="3018"/>
                  </a:lnTo>
                  <a:lnTo>
                    <a:pt x="1408" y="3011"/>
                  </a:lnTo>
                  <a:lnTo>
                    <a:pt x="1396" y="3002"/>
                  </a:lnTo>
                  <a:lnTo>
                    <a:pt x="1385" y="2992"/>
                  </a:lnTo>
                  <a:lnTo>
                    <a:pt x="1375" y="2980"/>
                  </a:lnTo>
                  <a:lnTo>
                    <a:pt x="1365" y="2965"/>
                  </a:lnTo>
                  <a:lnTo>
                    <a:pt x="1357" y="2951"/>
                  </a:lnTo>
                  <a:lnTo>
                    <a:pt x="1350" y="2933"/>
                  </a:lnTo>
                  <a:lnTo>
                    <a:pt x="1344" y="2916"/>
                  </a:lnTo>
                  <a:lnTo>
                    <a:pt x="1338" y="2910"/>
                  </a:lnTo>
                  <a:lnTo>
                    <a:pt x="1331" y="2904"/>
                  </a:lnTo>
                  <a:lnTo>
                    <a:pt x="1324" y="2900"/>
                  </a:lnTo>
                  <a:lnTo>
                    <a:pt x="1318" y="2898"/>
                  </a:lnTo>
                  <a:lnTo>
                    <a:pt x="1305" y="2893"/>
                  </a:lnTo>
                  <a:lnTo>
                    <a:pt x="1293" y="2885"/>
                  </a:lnTo>
                  <a:lnTo>
                    <a:pt x="1276" y="2879"/>
                  </a:lnTo>
                  <a:lnTo>
                    <a:pt x="1256" y="2874"/>
                  </a:lnTo>
                  <a:lnTo>
                    <a:pt x="1235" y="2870"/>
                  </a:lnTo>
                  <a:lnTo>
                    <a:pt x="1212" y="2865"/>
                  </a:lnTo>
                  <a:lnTo>
                    <a:pt x="1164" y="2856"/>
                  </a:lnTo>
                  <a:lnTo>
                    <a:pt x="1115" y="2844"/>
                  </a:lnTo>
                  <a:lnTo>
                    <a:pt x="1091" y="2836"/>
                  </a:lnTo>
                  <a:lnTo>
                    <a:pt x="1068" y="2828"/>
                  </a:lnTo>
                  <a:lnTo>
                    <a:pt x="1058" y="2823"/>
                  </a:lnTo>
                  <a:lnTo>
                    <a:pt x="1048" y="2816"/>
                  </a:lnTo>
                  <a:lnTo>
                    <a:pt x="1038" y="2811"/>
                  </a:lnTo>
                  <a:lnTo>
                    <a:pt x="1028" y="2804"/>
                  </a:lnTo>
                  <a:lnTo>
                    <a:pt x="1020" y="2796"/>
                  </a:lnTo>
                  <a:lnTo>
                    <a:pt x="1012" y="2790"/>
                  </a:lnTo>
                  <a:lnTo>
                    <a:pt x="1005" y="2780"/>
                  </a:lnTo>
                  <a:lnTo>
                    <a:pt x="999" y="2771"/>
                  </a:lnTo>
                  <a:lnTo>
                    <a:pt x="992" y="2762"/>
                  </a:lnTo>
                  <a:lnTo>
                    <a:pt x="988" y="2751"/>
                  </a:lnTo>
                  <a:lnTo>
                    <a:pt x="984" y="2741"/>
                  </a:lnTo>
                  <a:lnTo>
                    <a:pt x="981" y="2729"/>
                  </a:lnTo>
                  <a:lnTo>
                    <a:pt x="965" y="2725"/>
                  </a:lnTo>
                  <a:lnTo>
                    <a:pt x="948" y="2722"/>
                  </a:lnTo>
                  <a:lnTo>
                    <a:pt x="932" y="2720"/>
                  </a:lnTo>
                  <a:lnTo>
                    <a:pt x="916" y="2717"/>
                  </a:lnTo>
                  <a:lnTo>
                    <a:pt x="909" y="2712"/>
                  </a:lnTo>
                  <a:lnTo>
                    <a:pt x="905" y="2710"/>
                  </a:lnTo>
                  <a:lnTo>
                    <a:pt x="906" y="2731"/>
                  </a:lnTo>
                  <a:lnTo>
                    <a:pt x="905" y="2751"/>
                  </a:lnTo>
                  <a:lnTo>
                    <a:pt x="902" y="2771"/>
                  </a:lnTo>
                  <a:lnTo>
                    <a:pt x="898" y="2790"/>
                  </a:lnTo>
                  <a:lnTo>
                    <a:pt x="896" y="2799"/>
                  </a:lnTo>
                  <a:lnTo>
                    <a:pt x="892" y="2807"/>
                  </a:lnTo>
                  <a:lnTo>
                    <a:pt x="889" y="2815"/>
                  </a:lnTo>
                  <a:lnTo>
                    <a:pt x="884" y="2824"/>
                  </a:lnTo>
                  <a:lnTo>
                    <a:pt x="879" y="2832"/>
                  </a:lnTo>
                  <a:lnTo>
                    <a:pt x="873" y="2840"/>
                  </a:lnTo>
                  <a:lnTo>
                    <a:pt x="867" y="2846"/>
                  </a:lnTo>
                  <a:lnTo>
                    <a:pt x="861" y="2854"/>
                  </a:lnTo>
                  <a:lnTo>
                    <a:pt x="861" y="2874"/>
                  </a:lnTo>
                  <a:lnTo>
                    <a:pt x="859" y="2885"/>
                  </a:lnTo>
                  <a:lnTo>
                    <a:pt x="854" y="2896"/>
                  </a:lnTo>
                  <a:lnTo>
                    <a:pt x="842" y="2915"/>
                  </a:lnTo>
                  <a:lnTo>
                    <a:pt x="836" y="2927"/>
                  </a:lnTo>
                  <a:lnTo>
                    <a:pt x="830" y="2937"/>
                  </a:lnTo>
                  <a:lnTo>
                    <a:pt x="823" y="2948"/>
                  </a:lnTo>
                  <a:lnTo>
                    <a:pt x="815" y="2957"/>
                  </a:lnTo>
                  <a:lnTo>
                    <a:pt x="805" y="2966"/>
                  </a:lnTo>
                  <a:lnTo>
                    <a:pt x="796" y="2974"/>
                  </a:lnTo>
                  <a:lnTo>
                    <a:pt x="787" y="2982"/>
                  </a:lnTo>
                  <a:lnTo>
                    <a:pt x="777" y="2989"/>
                  </a:lnTo>
                  <a:lnTo>
                    <a:pt x="765" y="2994"/>
                  </a:lnTo>
                  <a:lnTo>
                    <a:pt x="755" y="3001"/>
                  </a:lnTo>
                  <a:lnTo>
                    <a:pt x="744" y="3005"/>
                  </a:lnTo>
                  <a:lnTo>
                    <a:pt x="733" y="3009"/>
                  </a:lnTo>
                  <a:lnTo>
                    <a:pt x="722" y="3011"/>
                  </a:lnTo>
                  <a:lnTo>
                    <a:pt x="711" y="3014"/>
                  </a:lnTo>
                  <a:lnTo>
                    <a:pt x="701" y="3015"/>
                  </a:lnTo>
                  <a:lnTo>
                    <a:pt x="690" y="3015"/>
                  </a:lnTo>
                  <a:lnTo>
                    <a:pt x="677" y="3038"/>
                  </a:lnTo>
                  <a:lnTo>
                    <a:pt x="664" y="3056"/>
                  </a:lnTo>
                  <a:lnTo>
                    <a:pt x="657" y="3064"/>
                  </a:lnTo>
                  <a:lnTo>
                    <a:pt x="649" y="3072"/>
                  </a:lnTo>
                  <a:lnTo>
                    <a:pt x="642" y="3079"/>
                  </a:lnTo>
                  <a:lnTo>
                    <a:pt x="634" y="3084"/>
                  </a:lnTo>
                  <a:lnTo>
                    <a:pt x="626" y="3089"/>
                  </a:lnTo>
                  <a:lnTo>
                    <a:pt x="617" y="3095"/>
                  </a:lnTo>
                  <a:lnTo>
                    <a:pt x="608" y="3098"/>
                  </a:lnTo>
                  <a:lnTo>
                    <a:pt x="600" y="3101"/>
                  </a:lnTo>
                  <a:lnTo>
                    <a:pt x="591" y="3104"/>
                  </a:lnTo>
                  <a:lnTo>
                    <a:pt x="581" y="3105"/>
                  </a:lnTo>
                  <a:lnTo>
                    <a:pt x="570" y="3106"/>
                  </a:lnTo>
                  <a:lnTo>
                    <a:pt x="560" y="3106"/>
                  </a:lnTo>
                  <a:close/>
                  <a:moveTo>
                    <a:pt x="1249" y="228"/>
                  </a:moveTo>
                  <a:lnTo>
                    <a:pt x="1253" y="227"/>
                  </a:lnTo>
                  <a:lnTo>
                    <a:pt x="1257" y="224"/>
                  </a:lnTo>
                  <a:lnTo>
                    <a:pt x="1261" y="221"/>
                  </a:lnTo>
                  <a:lnTo>
                    <a:pt x="1264" y="219"/>
                  </a:lnTo>
                  <a:lnTo>
                    <a:pt x="1268" y="211"/>
                  </a:lnTo>
                  <a:lnTo>
                    <a:pt x="1271" y="202"/>
                  </a:lnTo>
                  <a:lnTo>
                    <a:pt x="1272" y="180"/>
                  </a:lnTo>
                  <a:lnTo>
                    <a:pt x="1272" y="161"/>
                  </a:lnTo>
                  <a:lnTo>
                    <a:pt x="1270" y="159"/>
                  </a:lnTo>
                  <a:lnTo>
                    <a:pt x="1269" y="158"/>
                  </a:lnTo>
                  <a:lnTo>
                    <a:pt x="1257" y="161"/>
                  </a:lnTo>
                  <a:lnTo>
                    <a:pt x="1247" y="165"/>
                  </a:lnTo>
                  <a:lnTo>
                    <a:pt x="1237" y="169"/>
                  </a:lnTo>
                  <a:lnTo>
                    <a:pt x="1228" y="173"/>
                  </a:lnTo>
                  <a:lnTo>
                    <a:pt x="1230" y="182"/>
                  </a:lnTo>
                  <a:lnTo>
                    <a:pt x="1236" y="200"/>
                  </a:lnTo>
                  <a:lnTo>
                    <a:pt x="1243" y="219"/>
                  </a:lnTo>
                  <a:lnTo>
                    <a:pt x="1249" y="228"/>
                  </a:lnTo>
                  <a:close/>
                  <a:moveTo>
                    <a:pt x="847" y="1803"/>
                  </a:moveTo>
                  <a:lnTo>
                    <a:pt x="851" y="1802"/>
                  </a:lnTo>
                  <a:lnTo>
                    <a:pt x="856" y="1798"/>
                  </a:lnTo>
                  <a:lnTo>
                    <a:pt x="863" y="1791"/>
                  </a:lnTo>
                  <a:lnTo>
                    <a:pt x="870" y="1785"/>
                  </a:lnTo>
                  <a:lnTo>
                    <a:pt x="888" y="1765"/>
                  </a:lnTo>
                  <a:lnTo>
                    <a:pt x="906" y="1741"/>
                  </a:lnTo>
                  <a:lnTo>
                    <a:pt x="925" y="1716"/>
                  </a:lnTo>
                  <a:lnTo>
                    <a:pt x="939" y="1692"/>
                  </a:lnTo>
                  <a:lnTo>
                    <a:pt x="945" y="1682"/>
                  </a:lnTo>
                  <a:lnTo>
                    <a:pt x="950" y="1671"/>
                  </a:lnTo>
                  <a:lnTo>
                    <a:pt x="952" y="1662"/>
                  </a:lnTo>
                  <a:lnTo>
                    <a:pt x="953" y="1655"/>
                  </a:lnTo>
                  <a:lnTo>
                    <a:pt x="960" y="1647"/>
                  </a:lnTo>
                  <a:lnTo>
                    <a:pt x="966" y="1638"/>
                  </a:lnTo>
                  <a:lnTo>
                    <a:pt x="970" y="1628"/>
                  </a:lnTo>
                  <a:lnTo>
                    <a:pt x="974" y="1617"/>
                  </a:lnTo>
                  <a:lnTo>
                    <a:pt x="978" y="1604"/>
                  </a:lnTo>
                  <a:lnTo>
                    <a:pt x="980" y="1591"/>
                  </a:lnTo>
                  <a:lnTo>
                    <a:pt x="983" y="1576"/>
                  </a:lnTo>
                  <a:lnTo>
                    <a:pt x="985" y="1562"/>
                  </a:lnTo>
                  <a:lnTo>
                    <a:pt x="987" y="1533"/>
                  </a:lnTo>
                  <a:lnTo>
                    <a:pt x="988" y="1505"/>
                  </a:lnTo>
                  <a:lnTo>
                    <a:pt x="987" y="1481"/>
                  </a:lnTo>
                  <a:lnTo>
                    <a:pt x="985" y="1461"/>
                  </a:lnTo>
                  <a:lnTo>
                    <a:pt x="977" y="1455"/>
                  </a:lnTo>
                  <a:lnTo>
                    <a:pt x="969" y="1449"/>
                  </a:lnTo>
                  <a:lnTo>
                    <a:pt x="963" y="1444"/>
                  </a:lnTo>
                  <a:lnTo>
                    <a:pt x="957" y="1437"/>
                  </a:lnTo>
                  <a:lnTo>
                    <a:pt x="952" y="1432"/>
                  </a:lnTo>
                  <a:lnTo>
                    <a:pt x="949" y="1426"/>
                  </a:lnTo>
                  <a:lnTo>
                    <a:pt x="946" y="1419"/>
                  </a:lnTo>
                  <a:lnTo>
                    <a:pt x="943" y="1412"/>
                  </a:lnTo>
                  <a:lnTo>
                    <a:pt x="940" y="1399"/>
                  </a:lnTo>
                  <a:lnTo>
                    <a:pt x="939" y="1383"/>
                  </a:lnTo>
                  <a:lnTo>
                    <a:pt x="938" y="1365"/>
                  </a:lnTo>
                  <a:lnTo>
                    <a:pt x="938" y="1344"/>
                  </a:lnTo>
                  <a:lnTo>
                    <a:pt x="926" y="1340"/>
                  </a:lnTo>
                  <a:lnTo>
                    <a:pt x="912" y="1337"/>
                  </a:lnTo>
                  <a:lnTo>
                    <a:pt x="900" y="1336"/>
                  </a:lnTo>
                  <a:lnTo>
                    <a:pt x="887" y="1336"/>
                  </a:lnTo>
                  <a:lnTo>
                    <a:pt x="862" y="1338"/>
                  </a:lnTo>
                  <a:lnTo>
                    <a:pt x="836" y="1342"/>
                  </a:lnTo>
                  <a:lnTo>
                    <a:pt x="811" y="1349"/>
                  </a:lnTo>
                  <a:lnTo>
                    <a:pt x="786" y="1354"/>
                  </a:lnTo>
                  <a:lnTo>
                    <a:pt x="760" y="1361"/>
                  </a:lnTo>
                  <a:lnTo>
                    <a:pt x="736" y="1365"/>
                  </a:lnTo>
                  <a:lnTo>
                    <a:pt x="742" y="1370"/>
                  </a:lnTo>
                  <a:lnTo>
                    <a:pt x="757" y="1385"/>
                  </a:lnTo>
                  <a:lnTo>
                    <a:pt x="774" y="1404"/>
                  </a:lnTo>
                  <a:lnTo>
                    <a:pt x="787" y="1426"/>
                  </a:lnTo>
                  <a:lnTo>
                    <a:pt x="798" y="1447"/>
                  </a:lnTo>
                  <a:lnTo>
                    <a:pt x="808" y="1470"/>
                  </a:lnTo>
                  <a:lnTo>
                    <a:pt x="816" y="1494"/>
                  </a:lnTo>
                  <a:lnTo>
                    <a:pt x="823" y="1521"/>
                  </a:lnTo>
                  <a:lnTo>
                    <a:pt x="828" y="1547"/>
                  </a:lnTo>
                  <a:lnTo>
                    <a:pt x="831" y="1577"/>
                  </a:lnTo>
                  <a:lnTo>
                    <a:pt x="831" y="1606"/>
                  </a:lnTo>
                  <a:lnTo>
                    <a:pt x="831" y="1634"/>
                  </a:lnTo>
                  <a:lnTo>
                    <a:pt x="830" y="1662"/>
                  </a:lnTo>
                  <a:lnTo>
                    <a:pt x="831" y="1690"/>
                  </a:lnTo>
                  <a:lnTo>
                    <a:pt x="832" y="1717"/>
                  </a:lnTo>
                  <a:lnTo>
                    <a:pt x="835" y="1745"/>
                  </a:lnTo>
                  <a:lnTo>
                    <a:pt x="840" y="1774"/>
                  </a:lnTo>
                  <a:lnTo>
                    <a:pt x="847" y="1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9120" y="4771800"/>
              <a:ext cx="850680" cy="1805040"/>
            </a:xfrm>
            <a:custGeom>
              <a:avLst/>
              <a:gdLst/>
              <a:ahLst/>
              <a:rect l="l" t="t" r="r" b="b"/>
              <a:pathLst>
                <a:path w="536" h="1137">
                  <a:moveTo>
                    <a:pt x="207" y="1137"/>
                  </a:moveTo>
                  <a:lnTo>
                    <a:pt x="194" y="1134"/>
                  </a:lnTo>
                  <a:lnTo>
                    <a:pt x="181" y="1129"/>
                  </a:lnTo>
                  <a:lnTo>
                    <a:pt x="171" y="1123"/>
                  </a:lnTo>
                  <a:lnTo>
                    <a:pt x="161" y="1115"/>
                  </a:lnTo>
                  <a:lnTo>
                    <a:pt x="153" y="1108"/>
                  </a:lnTo>
                  <a:lnTo>
                    <a:pt x="145" y="1100"/>
                  </a:lnTo>
                  <a:lnTo>
                    <a:pt x="140" y="1090"/>
                  </a:lnTo>
                  <a:lnTo>
                    <a:pt x="135" y="1080"/>
                  </a:lnTo>
                  <a:lnTo>
                    <a:pt x="131" y="1069"/>
                  </a:lnTo>
                  <a:lnTo>
                    <a:pt x="129" y="1059"/>
                  </a:lnTo>
                  <a:lnTo>
                    <a:pt x="127" y="1047"/>
                  </a:lnTo>
                  <a:lnTo>
                    <a:pt x="127" y="1035"/>
                  </a:lnTo>
                  <a:lnTo>
                    <a:pt x="127" y="1023"/>
                  </a:lnTo>
                  <a:lnTo>
                    <a:pt x="128" y="1011"/>
                  </a:lnTo>
                  <a:lnTo>
                    <a:pt x="130" y="999"/>
                  </a:lnTo>
                  <a:lnTo>
                    <a:pt x="133" y="987"/>
                  </a:lnTo>
                  <a:lnTo>
                    <a:pt x="137" y="976"/>
                  </a:lnTo>
                  <a:lnTo>
                    <a:pt x="142" y="964"/>
                  </a:lnTo>
                  <a:lnTo>
                    <a:pt x="147" y="953"/>
                  </a:lnTo>
                  <a:lnTo>
                    <a:pt x="154" y="943"/>
                  </a:lnTo>
                  <a:lnTo>
                    <a:pt x="161" y="932"/>
                  </a:lnTo>
                  <a:lnTo>
                    <a:pt x="168" y="923"/>
                  </a:lnTo>
                  <a:lnTo>
                    <a:pt x="176" y="913"/>
                  </a:lnTo>
                  <a:lnTo>
                    <a:pt x="185" y="906"/>
                  </a:lnTo>
                  <a:lnTo>
                    <a:pt x="195" y="898"/>
                  </a:lnTo>
                  <a:lnTo>
                    <a:pt x="205" y="892"/>
                  </a:lnTo>
                  <a:lnTo>
                    <a:pt x="216" y="887"/>
                  </a:lnTo>
                  <a:lnTo>
                    <a:pt x="226" y="883"/>
                  </a:lnTo>
                  <a:lnTo>
                    <a:pt x="239" y="880"/>
                  </a:lnTo>
                  <a:lnTo>
                    <a:pt x="250" y="879"/>
                  </a:lnTo>
                  <a:lnTo>
                    <a:pt x="262" y="879"/>
                  </a:lnTo>
                  <a:lnTo>
                    <a:pt x="276" y="882"/>
                  </a:lnTo>
                  <a:lnTo>
                    <a:pt x="278" y="878"/>
                  </a:lnTo>
                  <a:lnTo>
                    <a:pt x="279" y="875"/>
                  </a:lnTo>
                  <a:lnTo>
                    <a:pt x="280" y="873"/>
                  </a:lnTo>
                  <a:lnTo>
                    <a:pt x="280" y="869"/>
                  </a:lnTo>
                  <a:lnTo>
                    <a:pt x="275" y="865"/>
                  </a:lnTo>
                  <a:lnTo>
                    <a:pt x="270" y="861"/>
                  </a:lnTo>
                  <a:lnTo>
                    <a:pt x="264" y="859"/>
                  </a:lnTo>
                  <a:lnTo>
                    <a:pt x="259" y="858"/>
                  </a:lnTo>
                  <a:lnTo>
                    <a:pt x="248" y="858"/>
                  </a:lnTo>
                  <a:lnTo>
                    <a:pt x="237" y="861"/>
                  </a:lnTo>
                  <a:lnTo>
                    <a:pt x="214" y="869"/>
                  </a:lnTo>
                  <a:lnTo>
                    <a:pt x="196" y="874"/>
                  </a:lnTo>
                  <a:lnTo>
                    <a:pt x="188" y="865"/>
                  </a:lnTo>
                  <a:lnTo>
                    <a:pt x="181" y="857"/>
                  </a:lnTo>
                  <a:lnTo>
                    <a:pt x="174" y="850"/>
                  </a:lnTo>
                  <a:lnTo>
                    <a:pt x="166" y="845"/>
                  </a:lnTo>
                  <a:lnTo>
                    <a:pt x="159" y="840"/>
                  </a:lnTo>
                  <a:lnTo>
                    <a:pt x="150" y="836"/>
                  </a:lnTo>
                  <a:lnTo>
                    <a:pt x="143" y="832"/>
                  </a:lnTo>
                  <a:lnTo>
                    <a:pt x="135" y="829"/>
                  </a:lnTo>
                  <a:lnTo>
                    <a:pt x="119" y="826"/>
                  </a:lnTo>
                  <a:lnTo>
                    <a:pt x="102" y="825"/>
                  </a:lnTo>
                  <a:lnTo>
                    <a:pt x="86" y="826"/>
                  </a:lnTo>
                  <a:lnTo>
                    <a:pt x="69" y="830"/>
                  </a:lnTo>
                  <a:lnTo>
                    <a:pt x="65" y="828"/>
                  </a:lnTo>
                  <a:lnTo>
                    <a:pt x="60" y="825"/>
                  </a:lnTo>
                  <a:lnTo>
                    <a:pt x="54" y="820"/>
                  </a:lnTo>
                  <a:lnTo>
                    <a:pt x="47" y="813"/>
                  </a:lnTo>
                  <a:lnTo>
                    <a:pt x="33" y="801"/>
                  </a:lnTo>
                  <a:lnTo>
                    <a:pt x="23" y="793"/>
                  </a:lnTo>
                  <a:lnTo>
                    <a:pt x="24" y="788"/>
                  </a:lnTo>
                  <a:lnTo>
                    <a:pt x="26" y="783"/>
                  </a:lnTo>
                  <a:lnTo>
                    <a:pt x="28" y="779"/>
                  </a:lnTo>
                  <a:lnTo>
                    <a:pt x="32" y="775"/>
                  </a:lnTo>
                  <a:lnTo>
                    <a:pt x="41" y="770"/>
                  </a:lnTo>
                  <a:lnTo>
                    <a:pt x="51" y="766"/>
                  </a:lnTo>
                  <a:lnTo>
                    <a:pt x="72" y="762"/>
                  </a:lnTo>
                  <a:lnTo>
                    <a:pt x="91" y="759"/>
                  </a:lnTo>
                  <a:lnTo>
                    <a:pt x="105" y="762"/>
                  </a:lnTo>
                  <a:lnTo>
                    <a:pt x="120" y="766"/>
                  </a:lnTo>
                  <a:lnTo>
                    <a:pt x="133" y="771"/>
                  </a:lnTo>
                  <a:lnTo>
                    <a:pt x="146" y="776"/>
                  </a:lnTo>
                  <a:lnTo>
                    <a:pt x="173" y="791"/>
                  </a:lnTo>
                  <a:lnTo>
                    <a:pt x="202" y="804"/>
                  </a:lnTo>
                  <a:lnTo>
                    <a:pt x="214" y="804"/>
                  </a:lnTo>
                  <a:lnTo>
                    <a:pt x="223" y="804"/>
                  </a:lnTo>
                  <a:lnTo>
                    <a:pt x="230" y="803"/>
                  </a:lnTo>
                  <a:lnTo>
                    <a:pt x="233" y="801"/>
                  </a:lnTo>
                  <a:lnTo>
                    <a:pt x="234" y="800"/>
                  </a:lnTo>
                  <a:lnTo>
                    <a:pt x="234" y="800"/>
                  </a:lnTo>
                  <a:lnTo>
                    <a:pt x="234" y="799"/>
                  </a:lnTo>
                  <a:lnTo>
                    <a:pt x="233" y="797"/>
                  </a:lnTo>
                  <a:lnTo>
                    <a:pt x="230" y="795"/>
                  </a:lnTo>
                  <a:lnTo>
                    <a:pt x="225" y="793"/>
                  </a:lnTo>
                  <a:lnTo>
                    <a:pt x="214" y="788"/>
                  </a:lnTo>
                  <a:lnTo>
                    <a:pt x="200" y="781"/>
                  </a:lnTo>
                  <a:lnTo>
                    <a:pt x="187" y="776"/>
                  </a:lnTo>
                  <a:lnTo>
                    <a:pt x="177" y="771"/>
                  </a:lnTo>
                  <a:lnTo>
                    <a:pt x="164" y="756"/>
                  </a:lnTo>
                  <a:lnTo>
                    <a:pt x="151" y="740"/>
                  </a:lnTo>
                  <a:lnTo>
                    <a:pt x="141" y="723"/>
                  </a:lnTo>
                  <a:lnTo>
                    <a:pt x="133" y="706"/>
                  </a:lnTo>
                  <a:lnTo>
                    <a:pt x="116" y="669"/>
                  </a:lnTo>
                  <a:lnTo>
                    <a:pt x="98" y="635"/>
                  </a:lnTo>
                  <a:lnTo>
                    <a:pt x="82" y="611"/>
                  </a:lnTo>
                  <a:lnTo>
                    <a:pt x="67" y="586"/>
                  </a:lnTo>
                  <a:lnTo>
                    <a:pt x="53" y="558"/>
                  </a:lnTo>
                  <a:lnTo>
                    <a:pt x="42" y="531"/>
                  </a:lnTo>
                  <a:lnTo>
                    <a:pt x="30" y="502"/>
                  </a:lnTo>
                  <a:lnTo>
                    <a:pt x="21" y="472"/>
                  </a:lnTo>
                  <a:lnTo>
                    <a:pt x="14" y="441"/>
                  </a:lnTo>
                  <a:lnTo>
                    <a:pt x="8" y="410"/>
                  </a:lnTo>
                  <a:lnTo>
                    <a:pt x="4" y="379"/>
                  </a:lnTo>
                  <a:lnTo>
                    <a:pt x="0" y="347"/>
                  </a:lnTo>
                  <a:lnTo>
                    <a:pt x="0" y="315"/>
                  </a:lnTo>
                  <a:lnTo>
                    <a:pt x="2" y="284"/>
                  </a:lnTo>
                  <a:lnTo>
                    <a:pt x="5" y="253"/>
                  </a:lnTo>
                  <a:lnTo>
                    <a:pt x="10" y="222"/>
                  </a:lnTo>
                  <a:lnTo>
                    <a:pt x="13" y="207"/>
                  </a:lnTo>
                  <a:lnTo>
                    <a:pt x="16" y="193"/>
                  </a:lnTo>
                  <a:lnTo>
                    <a:pt x="20" y="178"/>
                  </a:lnTo>
                  <a:lnTo>
                    <a:pt x="25" y="163"/>
                  </a:lnTo>
                  <a:lnTo>
                    <a:pt x="33" y="149"/>
                  </a:lnTo>
                  <a:lnTo>
                    <a:pt x="42" y="134"/>
                  </a:lnTo>
                  <a:lnTo>
                    <a:pt x="52" y="120"/>
                  </a:lnTo>
                  <a:lnTo>
                    <a:pt x="62" y="105"/>
                  </a:lnTo>
                  <a:lnTo>
                    <a:pt x="73" y="91"/>
                  </a:lnTo>
                  <a:lnTo>
                    <a:pt x="85" y="78"/>
                  </a:lnTo>
                  <a:lnTo>
                    <a:pt x="97" y="63"/>
                  </a:lnTo>
                  <a:lnTo>
                    <a:pt x="110" y="51"/>
                  </a:lnTo>
                  <a:lnTo>
                    <a:pt x="124" y="39"/>
                  </a:lnTo>
                  <a:lnTo>
                    <a:pt x="137" y="29"/>
                  </a:lnTo>
                  <a:lnTo>
                    <a:pt x="150" y="20"/>
                  </a:lnTo>
                  <a:lnTo>
                    <a:pt x="165" y="12"/>
                  </a:lnTo>
                  <a:lnTo>
                    <a:pt x="179" y="6"/>
                  </a:lnTo>
                  <a:lnTo>
                    <a:pt x="194" y="2"/>
                  </a:lnTo>
                  <a:lnTo>
                    <a:pt x="209" y="0"/>
                  </a:lnTo>
                  <a:lnTo>
                    <a:pt x="223" y="1"/>
                  </a:lnTo>
                  <a:lnTo>
                    <a:pt x="220" y="6"/>
                  </a:lnTo>
                  <a:lnTo>
                    <a:pt x="218" y="13"/>
                  </a:lnTo>
                  <a:lnTo>
                    <a:pt x="217" y="20"/>
                  </a:lnTo>
                  <a:lnTo>
                    <a:pt x="216" y="25"/>
                  </a:lnTo>
                  <a:lnTo>
                    <a:pt x="217" y="30"/>
                  </a:lnTo>
                  <a:lnTo>
                    <a:pt x="218" y="37"/>
                  </a:lnTo>
                  <a:lnTo>
                    <a:pt x="219" y="41"/>
                  </a:lnTo>
                  <a:lnTo>
                    <a:pt x="221" y="46"/>
                  </a:lnTo>
                  <a:lnTo>
                    <a:pt x="229" y="57"/>
                  </a:lnTo>
                  <a:lnTo>
                    <a:pt x="237" y="64"/>
                  </a:lnTo>
                  <a:lnTo>
                    <a:pt x="246" y="72"/>
                  </a:lnTo>
                  <a:lnTo>
                    <a:pt x="257" y="80"/>
                  </a:lnTo>
                  <a:lnTo>
                    <a:pt x="282" y="94"/>
                  </a:lnTo>
                  <a:lnTo>
                    <a:pt x="307" y="105"/>
                  </a:lnTo>
                  <a:lnTo>
                    <a:pt x="329" y="115"/>
                  </a:lnTo>
                  <a:lnTo>
                    <a:pt x="347" y="123"/>
                  </a:lnTo>
                  <a:lnTo>
                    <a:pt x="357" y="130"/>
                  </a:lnTo>
                  <a:lnTo>
                    <a:pt x="368" y="138"/>
                  </a:lnTo>
                  <a:lnTo>
                    <a:pt x="380" y="145"/>
                  </a:lnTo>
                  <a:lnTo>
                    <a:pt x="392" y="150"/>
                  </a:lnTo>
                  <a:lnTo>
                    <a:pt x="403" y="156"/>
                  </a:lnTo>
                  <a:lnTo>
                    <a:pt x="417" y="158"/>
                  </a:lnTo>
                  <a:lnTo>
                    <a:pt x="423" y="158"/>
                  </a:lnTo>
                  <a:lnTo>
                    <a:pt x="430" y="158"/>
                  </a:lnTo>
                  <a:lnTo>
                    <a:pt x="436" y="157"/>
                  </a:lnTo>
                  <a:lnTo>
                    <a:pt x="443" y="156"/>
                  </a:lnTo>
                  <a:lnTo>
                    <a:pt x="447" y="153"/>
                  </a:lnTo>
                  <a:lnTo>
                    <a:pt x="450" y="149"/>
                  </a:lnTo>
                  <a:lnTo>
                    <a:pt x="455" y="146"/>
                  </a:lnTo>
                  <a:lnTo>
                    <a:pt x="460" y="145"/>
                  </a:lnTo>
                  <a:lnTo>
                    <a:pt x="473" y="167"/>
                  </a:lnTo>
                  <a:lnTo>
                    <a:pt x="483" y="189"/>
                  </a:lnTo>
                  <a:lnTo>
                    <a:pt x="491" y="210"/>
                  </a:lnTo>
                  <a:lnTo>
                    <a:pt x="498" y="230"/>
                  </a:lnTo>
                  <a:lnTo>
                    <a:pt x="501" y="248"/>
                  </a:lnTo>
                  <a:lnTo>
                    <a:pt x="503" y="266"/>
                  </a:lnTo>
                  <a:lnTo>
                    <a:pt x="504" y="285"/>
                  </a:lnTo>
                  <a:lnTo>
                    <a:pt x="503" y="303"/>
                  </a:lnTo>
                  <a:lnTo>
                    <a:pt x="499" y="343"/>
                  </a:lnTo>
                  <a:lnTo>
                    <a:pt x="493" y="385"/>
                  </a:lnTo>
                  <a:lnTo>
                    <a:pt x="488" y="408"/>
                  </a:lnTo>
                  <a:lnTo>
                    <a:pt x="485" y="433"/>
                  </a:lnTo>
                  <a:lnTo>
                    <a:pt x="482" y="459"/>
                  </a:lnTo>
                  <a:lnTo>
                    <a:pt x="480" y="487"/>
                  </a:lnTo>
                  <a:lnTo>
                    <a:pt x="482" y="519"/>
                  </a:lnTo>
                  <a:lnTo>
                    <a:pt x="484" y="554"/>
                  </a:lnTo>
                  <a:lnTo>
                    <a:pt x="485" y="586"/>
                  </a:lnTo>
                  <a:lnTo>
                    <a:pt x="486" y="604"/>
                  </a:lnTo>
                  <a:lnTo>
                    <a:pt x="485" y="604"/>
                  </a:lnTo>
                  <a:lnTo>
                    <a:pt x="484" y="606"/>
                  </a:lnTo>
                  <a:lnTo>
                    <a:pt x="476" y="578"/>
                  </a:lnTo>
                  <a:lnTo>
                    <a:pt x="469" y="550"/>
                  </a:lnTo>
                  <a:lnTo>
                    <a:pt x="462" y="523"/>
                  </a:lnTo>
                  <a:lnTo>
                    <a:pt x="456" y="494"/>
                  </a:lnTo>
                  <a:lnTo>
                    <a:pt x="450" y="465"/>
                  </a:lnTo>
                  <a:lnTo>
                    <a:pt x="445" y="435"/>
                  </a:lnTo>
                  <a:lnTo>
                    <a:pt x="442" y="408"/>
                  </a:lnTo>
                  <a:lnTo>
                    <a:pt x="439" y="381"/>
                  </a:lnTo>
                  <a:lnTo>
                    <a:pt x="444" y="372"/>
                  </a:lnTo>
                  <a:lnTo>
                    <a:pt x="448" y="363"/>
                  </a:lnTo>
                  <a:lnTo>
                    <a:pt x="451" y="351"/>
                  </a:lnTo>
                  <a:lnTo>
                    <a:pt x="455" y="340"/>
                  </a:lnTo>
                  <a:lnTo>
                    <a:pt x="457" y="329"/>
                  </a:lnTo>
                  <a:lnTo>
                    <a:pt x="457" y="318"/>
                  </a:lnTo>
                  <a:lnTo>
                    <a:pt x="457" y="313"/>
                  </a:lnTo>
                  <a:lnTo>
                    <a:pt x="456" y="307"/>
                  </a:lnTo>
                  <a:lnTo>
                    <a:pt x="455" y="302"/>
                  </a:lnTo>
                  <a:lnTo>
                    <a:pt x="452" y="298"/>
                  </a:lnTo>
                  <a:lnTo>
                    <a:pt x="450" y="299"/>
                  </a:lnTo>
                  <a:lnTo>
                    <a:pt x="449" y="301"/>
                  </a:lnTo>
                  <a:lnTo>
                    <a:pt x="447" y="303"/>
                  </a:lnTo>
                  <a:lnTo>
                    <a:pt x="446" y="306"/>
                  </a:lnTo>
                  <a:lnTo>
                    <a:pt x="444" y="314"/>
                  </a:lnTo>
                  <a:lnTo>
                    <a:pt x="443" y="323"/>
                  </a:lnTo>
                  <a:lnTo>
                    <a:pt x="440" y="344"/>
                  </a:lnTo>
                  <a:lnTo>
                    <a:pt x="437" y="363"/>
                  </a:lnTo>
                  <a:lnTo>
                    <a:pt x="436" y="363"/>
                  </a:lnTo>
                  <a:lnTo>
                    <a:pt x="434" y="364"/>
                  </a:lnTo>
                  <a:lnTo>
                    <a:pt x="432" y="352"/>
                  </a:lnTo>
                  <a:lnTo>
                    <a:pt x="429" y="334"/>
                  </a:lnTo>
                  <a:lnTo>
                    <a:pt x="425" y="313"/>
                  </a:lnTo>
                  <a:lnTo>
                    <a:pt x="419" y="290"/>
                  </a:lnTo>
                  <a:lnTo>
                    <a:pt x="414" y="280"/>
                  </a:lnTo>
                  <a:lnTo>
                    <a:pt x="410" y="270"/>
                  </a:lnTo>
                  <a:lnTo>
                    <a:pt x="406" y="263"/>
                  </a:lnTo>
                  <a:lnTo>
                    <a:pt x="401" y="256"/>
                  </a:lnTo>
                  <a:lnTo>
                    <a:pt x="396" y="251"/>
                  </a:lnTo>
                  <a:lnTo>
                    <a:pt x="391" y="248"/>
                  </a:lnTo>
                  <a:lnTo>
                    <a:pt x="388" y="248"/>
                  </a:lnTo>
                  <a:lnTo>
                    <a:pt x="385" y="248"/>
                  </a:lnTo>
                  <a:lnTo>
                    <a:pt x="382" y="248"/>
                  </a:lnTo>
                  <a:lnTo>
                    <a:pt x="378" y="251"/>
                  </a:lnTo>
                  <a:lnTo>
                    <a:pt x="387" y="264"/>
                  </a:lnTo>
                  <a:lnTo>
                    <a:pt x="399" y="284"/>
                  </a:lnTo>
                  <a:lnTo>
                    <a:pt x="412" y="342"/>
                  </a:lnTo>
                  <a:lnTo>
                    <a:pt x="424" y="402"/>
                  </a:lnTo>
                  <a:lnTo>
                    <a:pt x="435" y="463"/>
                  </a:lnTo>
                  <a:lnTo>
                    <a:pt x="448" y="524"/>
                  </a:lnTo>
                  <a:lnTo>
                    <a:pt x="455" y="554"/>
                  </a:lnTo>
                  <a:lnTo>
                    <a:pt x="463" y="583"/>
                  </a:lnTo>
                  <a:lnTo>
                    <a:pt x="471" y="612"/>
                  </a:lnTo>
                  <a:lnTo>
                    <a:pt x="480" y="641"/>
                  </a:lnTo>
                  <a:lnTo>
                    <a:pt x="491" y="669"/>
                  </a:lnTo>
                  <a:lnTo>
                    <a:pt x="503" y="697"/>
                  </a:lnTo>
                  <a:lnTo>
                    <a:pt x="516" y="723"/>
                  </a:lnTo>
                  <a:lnTo>
                    <a:pt x="532" y="748"/>
                  </a:lnTo>
                  <a:lnTo>
                    <a:pt x="534" y="763"/>
                  </a:lnTo>
                  <a:lnTo>
                    <a:pt x="536" y="776"/>
                  </a:lnTo>
                  <a:lnTo>
                    <a:pt x="536" y="788"/>
                  </a:lnTo>
                  <a:lnTo>
                    <a:pt x="536" y="800"/>
                  </a:lnTo>
                  <a:lnTo>
                    <a:pt x="535" y="812"/>
                  </a:lnTo>
                  <a:lnTo>
                    <a:pt x="533" y="822"/>
                  </a:lnTo>
                  <a:lnTo>
                    <a:pt x="531" y="832"/>
                  </a:lnTo>
                  <a:lnTo>
                    <a:pt x="527" y="841"/>
                  </a:lnTo>
                  <a:lnTo>
                    <a:pt x="523" y="850"/>
                  </a:lnTo>
                  <a:lnTo>
                    <a:pt x="518" y="859"/>
                  </a:lnTo>
                  <a:lnTo>
                    <a:pt x="513" y="869"/>
                  </a:lnTo>
                  <a:lnTo>
                    <a:pt x="508" y="878"/>
                  </a:lnTo>
                  <a:lnTo>
                    <a:pt x="494" y="896"/>
                  </a:lnTo>
                  <a:lnTo>
                    <a:pt x="478" y="915"/>
                  </a:lnTo>
                  <a:lnTo>
                    <a:pt x="478" y="919"/>
                  </a:lnTo>
                  <a:lnTo>
                    <a:pt x="477" y="921"/>
                  </a:lnTo>
                  <a:lnTo>
                    <a:pt x="485" y="920"/>
                  </a:lnTo>
                  <a:lnTo>
                    <a:pt x="493" y="919"/>
                  </a:lnTo>
                  <a:lnTo>
                    <a:pt x="488" y="932"/>
                  </a:lnTo>
                  <a:lnTo>
                    <a:pt x="482" y="944"/>
                  </a:lnTo>
                  <a:lnTo>
                    <a:pt x="476" y="956"/>
                  </a:lnTo>
                  <a:lnTo>
                    <a:pt x="469" y="968"/>
                  </a:lnTo>
                  <a:lnTo>
                    <a:pt x="461" y="978"/>
                  </a:lnTo>
                  <a:lnTo>
                    <a:pt x="451" y="989"/>
                  </a:lnTo>
                  <a:lnTo>
                    <a:pt x="442" y="998"/>
                  </a:lnTo>
                  <a:lnTo>
                    <a:pt x="433" y="1007"/>
                  </a:lnTo>
                  <a:lnTo>
                    <a:pt x="423" y="1015"/>
                  </a:lnTo>
                  <a:lnTo>
                    <a:pt x="412" y="1022"/>
                  </a:lnTo>
                  <a:lnTo>
                    <a:pt x="401" y="1028"/>
                  </a:lnTo>
                  <a:lnTo>
                    <a:pt x="391" y="1034"/>
                  </a:lnTo>
                  <a:lnTo>
                    <a:pt x="380" y="1039"/>
                  </a:lnTo>
                  <a:lnTo>
                    <a:pt x="369" y="1042"/>
                  </a:lnTo>
                  <a:lnTo>
                    <a:pt x="358" y="1044"/>
                  </a:lnTo>
                  <a:lnTo>
                    <a:pt x="348" y="1045"/>
                  </a:lnTo>
                  <a:lnTo>
                    <a:pt x="353" y="1023"/>
                  </a:lnTo>
                  <a:lnTo>
                    <a:pt x="357" y="1006"/>
                  </a:lnTo>
                  <a:lnTo>
                    <a:pt x="361" y="993"/>
                  </a:lnTo>
                  <a:lnTo>
                    <a:pt x="362" y="983"/>
                  </a:lnTo>
                  <a:lnTo>
                    <a:pt x="358" y="979"/>
                  </a:lnTo>
                  <a:lnTo>
                    <a:pt x="355" y="978"/>
                  </a:lnTo>
                  <a:lnTo>
                    <a:pt x="353" y="978"/>
                  </a:lnTo>
                  <a:lnTo>
                    <a:pt x="350" y="978"/>
                  </a:lnTo>
                  <a:lnTo>
                    <a:pt x="338" y="1011"/>
                  </a:lnTo>
                  <a:lnTo>
                    <a:pt x="327" y="1042"/>
                  </a:lnTo>
                  <a:lnTo>
                    <a:pt x="321" y="1056"/>
                  </a:lnTo>
                  <a:lnTo>
                    <a:pt x="315" y="1069"/>
                  </a:lnTo>
                  <a:lnTo>
                    <a:pt x="308" y="1081"/>
                  </a:lnTo>
                  <a:lnTo>
                    <a:pt x="299" y="1092"/>
                  </a:lnTo>
                  <a:lnTo>
                    <a:pt x="291" y="1102"/>
                  </a:lnTo>
                  <a:lnTo>
                    <a:pt x="282" y="1112"/>
                  </a:lnTo>
                  <a:lnTo>
                    <a:pt x="273" y="1119"/>
                  </a:lnTo>
                  <a:lnTo>
                    <a:pt x="261" y="1126"/>
                  </a:lnTo>
                  <a:lnTo>
                    <a:pt x="249" y="1130"/>
                  </a:lnTo>
                  <a:lnTo>
                    <a:pt x="237" y="1134"/>
                  </a:lnTo>
                  <a:lnTo>
                    <a:pt x="222" y="1137"/>
                  </a:lnTo>
                  <a:lnTo>
                    <a:pt x="207" y="113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6160" y="6107040"/>
              <a:ext cx="297000" cy="366840"/>
            </a:xfrm>
            <a:custGeom>
              <a:avLst/>
              <a:gdLst/>
              <a:ahLst/>
              <a:rect l="l" t="t" r="r" b="b"/>
              <a:pathLst>
                <a:path w="187" h="231">
                  <a:moveTo>
                    <a:pt x="75" y="231"/>
                  </a:moveTo>
                  <a:lnTo>
                    <a:pt x="60" y="226"/>
                  </a:lnTo>
                  <a:lnTo>
                    <a:pt x="45" y="219"/>
                  </a:lnTo>
                  <a:lnTo>
                    <a:pt x="34" y="211"/>
                  </a:lnTo>
                  <a:lnTo>
                    <a:pt x="24" y="203"/>
                  </a:lnTo>
                  <a:lnTo>
                    <a:pt x="16" y="193"/>
                  </a:lnTo>
                  <a:lnTo>
                    <a:pt x="10" y="182"/>
                  </a:lnTo>
                  <a:lnTo>
                    <a:pt x="4" y="170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4" y="100"/>
                  </a:lnTo>
                  <a:lnTo>
                    <a:pt x="8" y="84"/>
                  </a:lnTo>
                  <a:lnTo>
                    <a:pt x="14" y="68"/>
                  </a:lnTo>
                  <a:lnTo>
                    <a:pt x="21" y="53"/>
                  </a:lnTo>
                  <a:lnTo>
                    <a:pt x="28" y="37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56" y="12"/>
                  </a:lnTo>
                  <a:lnTo>
                    <a:pt x="65" y="6"/>
                  </a:lnTo>
                  <a:lnTo>
                    <a:pt x="75" y="4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37" y="9"/>
                  </a:lnTo>
                  <a:lnTo>
                    <a:pt x="147" y="13"/>
                  </a:lnTo>
                  <a:lnTo>
                    <a:pt x="157" y="18"/>
                  </a:lnTo>
                  <a:lnTo>
                    <a:pt x="168" y="25"/>
                  </a:lnTo>
                  <a:lnTo>
                    <a:pt x="178" y="32"/>
                  </a:lnTo>
                  <a:lnTo>
                    <a:pt x="187" y="39"/>
                  </a:lnTo>
                  <a:lnTo>
                    <a:pt x="187" y="41"/>
                  </a:lnTo>
                  <a:lnTo>
                    <a:pt x="187" y="43"/>
                  </a:lnTo>
                  <a:lnTo>
                    <a:pt x="171" y="61"/>
                  </a:lnTo>
                  <a:lnTo>
                    <a:pt x="156" y="78"/>
                  </a:lnTo>
                  <a:lnTo>
                    <a:pt x="150" y="86"/>
                  </a:lnTo>
                  <a:lnTo>
                    <a:pt x="145" y="95"/>
                  </a:lnTo>
                  <a:lnTo>
                    <a:pt x="139" y="104"/>
                  </a:lnTo>
                  <a:lnTo>
                    <a:pt x="135" y="115"/>
                  </a:lnTo>
                  <a:lnTo>
                    <a:pt x="131" y="125"/>
                  </a:lnTo>
                  <a:lnTo>
                    <a:pt x="127" y="136"/>
                  </a:lnTo>
                  <a:lnTo>
                    <a:pt x="124" y="146"/>
                  </a:lnTo>
                  <a:lnTo>
                    <a:pt x="121" y="158"/>
                  </a:lnTo>
                  <a:lnTo>
                    <a:pt x="119" y="170"/>
                  </a:lnTo>
                  <a:lnTo>
                    <a:pt x="117" y="183"/>
                  </a:lnTo>
                  <a:lnTo>
                    <a:pt x="116" y="198"/>
                  </a:lnTo>
                  <a:lnTo>
                    <a:pt x="116" y="212"/>
                  </a:lnTo>
                  <a:lnTo>
                    <a:pt x="111" y="219"/>
                  </a:lnTo>
                  <a:lnTo>
                    <a:pt x="107" y="223"/>
                  </a:lnTo>
                  <a:lnTo>
                    <a:pt x="102" y="226"/>
                  </a:lnTo>
                  <a:lnTo>
                    <a:pt x="97" y="228"/>
                  </a:lnTo>
                  <a:lnTo>
                    <a:pt x="87" y="230"/>
                  </a:lnTo>
                  <a:lnTo>
                    <a:pt x="75" y="231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17640" y="4997520"/>
              <a:ext cx="1123920" cy="1457280"/>
            </a:xfrm>
            <a:custGeom>
              <a:avLst/>
              <a:gdLst/>
              <a:ahLst/>
              <a:rect l="l" t="t" r="r" b="b"/>
              <a:pathLst>
                <a:path w="708" h="918">
                  <a:moveTo>
                    <a:pt x="452" y="918"/>
                  </a:moveTo>
                  <a:lnTo>
                    <a:pt x="440" y="914"/>
                  </a:lnTo>
                  <a:lnTo>
                    <a:pt x="428" y="907"/>
                  </a:lnTo>
                  <a:lnTo>
                    <a:pt x="415" y="901"/>
                  </a:lnTo>
                  <a:lnTo>
                    <a:pt x="402" y="890"/>
                  </a:lnTo>
                  <a:lnTo>
                    <a:pt x="391" y="880"/>
                  </a:lnTo>
                  <a:lnTo>
                    <a:pt x="382" y="868"/>
                  </a:lnTo>
                  <a:lnTo>
                    <a:pt x="378" y="863"/>
                  </a:lnTo>
                  <a:lnTo>
                    <a:pt x="375" y="856"/>
                  </a:lnTo>
                  <a:lnTo>
                    <a:pt x="372" y="849"/>
                  </a:lnTo>
                  <a:lnTo>
                    <a:pt x="371" y="843"/>
                  </a:lnTo>
                  <a:lnTo>
                    <a:pt x="375" y="832"/>
                  </a:lnTo>
                  <a:lnTo>
                    <a:pt x="377" y="822"/>
                  </a:lnTo>
                  <a:lnTo>
                    <a:pt x="377" y="811"/>
                  </a:lnTo>
                  <a:lnTo>
                    <a:pt x="376" y="803"/>
                  </a:lnTo>
                  <a:lnTo>
                    <a:pt x="374" y="799"/>
                  </a:lnTo>
                  <a:lnTo>
                    <a:pt x="372" y="798"/>
                  </a:lnTo>
                  <a:lnTo>
                    <a:pt x="370" y="797"/>
                  </a:lnTo>
                  <a:lnTo>
                    <a:pt x="368" y="797"/>
                  </a:lnTo>
                  <a:lnTo>
                    <a:pt x="366" y="798"/>
                  </a:lnTo>
                  <a:lnTo>
                    <a:pt x="363" y="801"/>
                  </a:lnTo>
                  <a:lnTo>
                    <a:pt x="360" y="804"/>
                  </a:lnTo>
                  <a:lnTo>
                    <a:pt x="357" y="811"/>
                  </a:lnTo>
                  <a:lnTo>
                    <a:pt x="354" y="811"/>
                  </a:lnTo>
                  <a:lnTo>
                    <a:pt x="352" y="811"/>
                  </a:lnTo>
                  <a:lnTo>
                    <a:pt x="345" y="803"/>
                  </a:lnTo>
                  <a:lnTo>
                    <a:pt x="336" y="795"/>
                  </a:lnTo>
                  <a:lnTo>
                    <a:pt x="326" y="789"/>
                  </a:lnTo>
                  <a:lnTo>
                    <a:pt x="316" y="783"/>
                  </a:lnTo>
                  <a:lnTo>
                    <a:pt x="305" y="778"/>
                  </a:lnTo>
                  <a:lnTo>
                    <a:pt x="292" y="773"/>
                  </a:lnTo>
                  <a:lnTo>
                    <a:pt x="280" y="769"/>
                  </a:lnTo>
                  <a:lnTo>
                    <a:pt x="267" y="765"/>
                  </a:lnTo>
                  <a:lnTo>
                    <a:pt x="241" y="758"/>
                  </a:lnTo>
                  <a:lnTo>
                    <a:pt x="216" y="754"/>
                  </a:lnTo>
                  <a:lnTo>
                    <a:pt x="194" y="750"/>
                  </a:lnTo>
                  <a:lnTo>
                    <a:pt x="175" y="748"/>
                  </a:lnTo>
                  <a:lnTo>
                    <a:pt x="155" y="742"/>
                  </a:lnTo>
                  <a:lnTo>
                    <a:pt x="128" y="736"/>
                  </a:lnTo>
                  <a:lnTo>
                    <a:pt x="98" y="728"/>
                  </a:lnTo>
                  <a:lnTo>
                    <a:pt x="67" y="716"/>
                  </a:lnTo>
                  <a:lnTo>
                    <a:pt x="53" y="709"/>
                  </a:lnTo>
                  <a:lnTo>
                    <a:pt x="40" y="701"/>
                  </a:lnTo>
                  <a:lnTo>
                    <a:pt x="27" y="694"/>
                  </a:lnTo>
                  <a:lnTo>
                    <a:pt x="17" y="683"/>
                  </a:lnTo>
                  <a:lnTo>
                    <a:pt x="12" y="678"/>
                  </a:lnTo>
                  <a:lnTo>
                    <a:pt x="9" y="672"/>
                  </a:lnTo>
                  <a:lnTo>
                    <a:pt x="6" y="667"/>
                  </a:lnTo>
                  <a:lnTo>
                    <a:pt x="3" y="661"/>
                  </a:lnTo>
                  <a:lnTo>
                    <a:pt x="1" y="654"/>
                  </a:lnTo>
                  <a:lnTo>
                    <a:pt x="0" y="647"/>
                  </a:lnTo>
                  <a:lnTo>
                    <a:pt x="0" y="641"/>
                  </a:lnTo>
                  <a:lnTo>
                    <a:pt x="1" y="633"/>
                  </a:lnTo>
                  <a:lnTo>
                    <a:pt x="16" y="631"/>
                  </a:lnTo>
                  <a:lnTo>
                    <a:pt x="31" y="628"/>
                  </a:lnTo>
                  <a:lnTo>
                    <a:pt x="47" y="624"/>
                  </a:lnTo>
                  <a:lnTo>
                    <a:pt x="62" y="620"/>
                  </a:lnTo>
                  <a:lnTo>
                    <a:pt x="92" y="609"/>
                  </a:lnTo>
                  <a:lnTo>
                    <a:pt x="122" y="595"/>
                  </a:lnTo>
                  <a:lnTo>
                    <a:pt x="151" y="580"/>
                  </a:lnTo>
                  <a:lnTo>
                    <a:pt x="179" y="563"/>
                  </a:lnTo>
                  <a:lnTo>
                    <a:pt x="208" y="544"/>
                  </a:lnTo>
                  <a:lnTo>
                    <a:pt x="236" y="525"/>
                  </a:lnTo>
                  <a:lnTo>
                    <a:pt x="243" y="515"/>
                  </a:lnTo>
                  <a:lnTo>
                    <a:pt x="248" y="505"/>
                  </a:lnTo>
                  <a:lnTo>
                    <a:pt x="260" y="495"/>
                  </a:lnTo>
                  <a:lnTo>
                    <a:pt x="270" y="486"/>
                  </a:lnTo>
                  <a:lnTo>
                    <a:pt x="281" y="476"/>
                  </a:lnTo>
                  <a:lnTo>
                    <a:pt x="290" y="465"/>
                  </a:lnTo>
                  <a:lnTo>
                    <a:pt x="301" y="453"/>
                  </a:lnTo>
                  <a:lnTo>
                    <a:pt x="310" y="441"/>
                  </a:lnTo>
                  <a:lnTo>
                    <a:pt x="318" y="429"/>
                  </a:lnTo>
                  <a:lnTo>
                    <a:pt x="327" y="416"/>
                  </a:lnTo>
                  <a:lnTo>
                    <a:pt x="343" y="390"/>
                  </a:lnTo>
                  <a:lnTo>
                    <a:pt x="358" y="362"/>
                  </a:lnTo>
                  <a:lnTo>
                    <a:pt x="371" y="332"/>
                  </a:lnTo>
                  <a:lnTo>
                    <a:pt x="383" y="301"/>
                  </a:lnTo>
                  <a:lnTo>
                    <a:pt x="394" y="270"/>
                  </a:lnTo>
                  <a:lnTo>
                    <a:pt x="403" y="237"/>
                  </a:lnTo>
                  <a:lnTo>
                    <a:pt x="412" y="204"/>
                  </a:lnTo>
                  <a:lnTo>
                    <a:pt x="420" y="171"/>
                  </a:lnTo>
                  <a:lnTo>
                    <a:pt x="426" y="138"/>
                  </a:lnTo>
                  <a:lnTo>
                    <a:pt x="431" y="105"/>
                  </a:lnTo>
                  <a:lnTo>
                    <a:pt x="435" y="72"/>
                  </a:lnTo>
                  <a:lnTo>
                    <a:pt x="438" y="40"/>
                  </a:lnTo>
                  <a:lnTo>
                    <a:pt x="440" y="39"/>
                  </a:lnTo>
                  <a:lnTo>
                    <a:pt x="442" y="39"/>
                  </a:lnTo>
                  <a:lnTo>
                    <a:pt x="445" y="44"/>
                  </a:lnTo>
                  <a:lnTo>
                    <a:pt x="450" y="49"/>
                  </a:lnTo>
                  <a:lnTo>
                    <a:pt x="455" y="53"/>
                  </a:lnTo>
                  <a:lnTo>
                    <a:pt x="461" y="57"/>
                  </a:lnTo>
                  <a:lnTo>
                    <a:pt x="474" y="65"/>
                  </a:lnTo>
                  <a:lnTo>
                    <a:pt x="488" y="70"/>
                  </a:lnTo>
                  <a:lnTo>
                    <a:pt x="506" y="73"/>
                  </a:lnTo>
                  <a:lnTo>
                    <a:pt x="523" y="74"/>
                  </a:lnTo>
                  <a:lnTo>
                    <a:pt x="531" y="73"/>
                  </a:lnTo>
                  <a:lnTo>
                    <a:pt x="538" y="72"/>
                  </a:lnTo>
                  <a:lnTo>
                    <a:pt x="545" y="69"/>
                  </a:lnTo>
                  <a:lnTo>
                    <a:pt x="551" y="65"/>
                  </a:lnTo>
                  <a:lnTo>
                    <a:pt x="557" y="61"/>
                  </a:lnTo>
                  <a:lnTo>
                    <a:pt x="563" y="56"/>
                  </a:lnTo>
                  <a:lnTo>
                    <a:pt x="569" y="49"/>
                  </a:lnTo>
                  <a:lnTo>
                    <a:pt x="574" y="43"/>
                  </a:lnTo>
                  <a:lnTo>
                    <a:pt x="579" y="33"/>
                  </a:lnTo>
                  <a:lnTo>
                    <a:pt x="584" y="24"/>
                  </a:lnTo>
                  <a:lnTo>
                    <a:pt x="588" y="14"/>
                  </a:lnTo>
                  <a:lnTo>
                    <a:pt x="593" y="2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604" y="10"/>
                  </a:lnTo>
                  <a:lnTo>
                    <a:pt x="610" y="19"/>
                  </a:lnTo>
                  <a:lnTo>
                    <a:pt x="616" y="29"/>
                  </a:lnTo>
                  <a:lnTo>
                    <a:pt x="621" y="39"/>
                  </a:lnTo>
                  <a:lnTo>
                    <a:pt x="625" y="49"/>
                  </a:lnTo>
                  <a:lnTo>
                    <a:pt x="629" y="60"/>
                  </a:lnTo>
                  <a:lnTo>
                    <a:pt x="632" y="70"/>
                  </a:lnTo>
                  <a:lnTo>
                    <a:pt x="635" y="81"/>
                  </a:lnTo>
                  <a:lnTo>
                    <a:pt x="641" y="102"/>
                  </a:lnTo>
                  <a:lnTo>
                    <a:pt x="643" y="124"/>
                  </a:lnTo>
                  <a:lnTo>
                    <a:pt x="644" y="147"/>
                  </a:lnTo>
                  <a:lnTo>
                    <a:pt x="644" y="171"/>
                  </a:lnTo>
                  <a:lnTo>
                    <a:pt x="641" y="193"/>
                  </a:lnTo>
                  <a:lnTo>
                    <a:pt x="638" y="217"/>
                  </a:lnTo>
                  <a:lnTo>
                    <a:pt x="632" y="239"/>
                  </a:lnTo>
                  <a:lnTo>
                    <a:pt x="627" y="262"/>
                  </a:lnTo>
                  <a:lnTo>
                    <a:pt x="620" y="284"/>
                  </a:lnTo>
                  <a:lnTo>
                    <a:pt x="613" y="307"/>
                  </a:lnTo>
                  <a:lnTo>
                    <a:pt x="604" y="328"/>
                  </a:lnTo>
                  <a:lnTo>
                    <a:pt x="594" y="348"/>
                  </a:lnTo>
                  <a:lnTo>
                    <a:pt x="580" y="371"/>
                  </a:lnTo>
                  <a:lnTo>
                    <a:pt x="565" y="393"/>
                  </a:lnTo>
                  <a:lnTo>
                    <a:pt x="549" y="412"/>
                  </a:lnTo>
                  <a:lnTo>
                    <a:pt x="534" y="431"/>
                  </a:lnTo>
                  <a:lnTo>
                    <a:pt x="517" y="448"/>
                  </a:lnTo>
                  <a:lnTo>
                    <a:pt x="501" y="462"/>
                  </a:lnTo>
                  <a:lnTo>
                    <a:pt x="483" y="477"/>
                  </a:lnTo>
                  <a:lnTo>
                    <a:pt x="466" y="490"/>
                  </a:lnTo>
                  <a:lnTo>
                    <a:pt x="447" y="502"/>
                  </a:lnTo>
                  <a:lnTo>
                    <a:pt x="429" y="513"/>
                  </a:lnTo>
                  <a:lnTo>
                    <a:pt x="409" y="525"/>
                  </a:lnTo>
                  <a:lnTo>
                    <a:pt x="390" y="534"/>
                  </a:lnTo>
                  <a:lnTo>
                    <a:pt x="350" y="554"/>
                  </a:lnTo>
                  <a:lnTo>
                    <a:pt x="307" y="572"/>
                  </a:lnTo>
                  <a:lnTo>
                    <a:pt x="298" y="573"/>
                  </a:lnTo>
                  <a:lnTo>
                    <a:pt x="294" y="576"/>
                  </a:lnTo>
                  <a:lnTo>
                    <a:pt x="295" y="580"/>
                  </a:lnTo>
                  <a:lnTo>
                    <a:pt x="296" y="583"/>
                  </a:lnTo>
                  <a:lnTo>
                    <a:pt x="299" y="584"/>
                  </a:lnTo>
                  <a:lnTo>
                    <a:pt x="302" y="587"/>
                  </a:lnTo>
                  <a:lnTo>
                    <a:pt x="308" y="588"/>
                  </a:lnTo>
                  <a:lnTo>
                    <a:pt x="316" y="588"/>
                  </a:lnTo>
                  <a:lnTo>
                    <a:pt x="325" y="585"/>
                  </a:lnTo>
                  <a:lnTo>
                    <a:pt x="336" y="583"/>
                  </a:lnTo>
                  <a:lnTo>
                    <a:pt x="347" y="577"/>
                  </a:lnTo>
                  <a:lnTo>
                    <a:pt x="358" y="572"/>
                  </a:lnTo>
                  <a:lnTo>
                    <a:pt x="382" y="560"/>
                  </a:lnTo>
                  <a:lnTo>
                    <a:pt x="404" y="548"/>
                  </a:lnTo>
                  <a:lnTo>
                    <a:pt x="423" y="539"/>
                  </a:lnTo>
                  <a:lnTo>
                    <a:pt x="437" y="534"/>
                  </a:lnTo>
                  <a:lnTo>
                    <a:pt x="449" y="544"/>
                  </a:lnTo>
                  <a:lnTo>
                    <a:pt x="461" y="551"/>
                  </a:lnTo>
                  <a:lnTo>
                    <a:pt x="472" y="556"/>
                  </a:lnTo>
                  <a:lnTo>
                    <a:pt x="484" y="562"/>
                  </a:lnTo>
                  <a:lnTo>
                    <a:pt x="496" y="565"/>
                  </a:lnTo>
                  <a:lnTo>
                    <a:pt x="506" y="572"/>
                  </a:lnTo>
                  <a:lnTo>
                    <a:pt x="517" y="579"/>
                  </a:lnTo>
                  <a:lnTo>
                    <a:pt x="528" y="588"/>
                  </a:lnTo>
                  <a:lnTo>
                    <a:pt x="558" y="589"/>
                  </a:lnTo>
                  <a:lnTo>
                    <a:pt x="589" y="589"/>
                  </a:lnTo>
                  <a:lnTo>
                    <a:pt x="604" y="589"/>
                  </a:lnTo>
                  <a:lnTo>
                    <a:pt x="617" y="591"/>
                  </a:lnTo>
                  <a:lnTo>
                    <a:pt x="630" y="593"/>
                  </a:lnTo>
                  <a:lnTo>
                    <a:pt x="644" y="597"/>
                  </a:lnTo>
                  <a:lnTo>
                    <a:pt x="655" y="602"/>
                  </a:lnTo>
                  <a:lnTo>
                    <a:pt x="666" y="610"/>
                  </a:lnTo>
                  <a:lnTo>
                    <a:pt x="671" y="616"/>
                  </a:lnTo>
                  <a:lnTo>
                    <a:pt x="677" y="621"/>
                  </a:lnTo>
                  <a:lnTo>
                    <a:pt x="681" y="626"/>
                  </a:lnTo>
                  <a:lnTo>
                    <a:pt x="685" y="634"/>
                  </a:lnTo>
                  <a:lnTo>
                    <a:pt x="689" y="641"/>
                  </a:lnTo>
                  <a:lnTo>
                    <a:pt x="693" y="649"/>
                  </a:lnTo>
                  <a:lnTo>
                    <a:pt x="696" y="658"/>
                  </a:lnTo>
                  <a:lnTo>
                    <a:pt x="699" y="668"/>
                  </a:lnTo>
                  <a:lnTo>
                    <a:pt x="702" y="679"/>
                  </a:lnTo>
                  <a:lnTo>
                    <a:pt x="704" y="690"/>
                  </a:lnTo>
                  <a:lnTo>
                    <a:pt x="707" y="703"/>
                  </a:lnTo>
                  <a:lnTo>
                    <a:pt x="708" y="716"/>
                  </a:lnTo>
                  <a:lnTo>
                    <a:pt x="706" y="731"/>
                  </a:lnTo>
                  <a:lnTo>
                    <a:pt x="704" y="744"/>
                  </a:lnTo>
                  <a:lnTo>
                    <a:pt x="701" y="756"/>
                  </a:lnTo>
                  <a:lnTo>
                    <a:pt x="697" y="767"/>
                  </a:lnTo>
                  <a:lnTo>
                    <a:pt x="693" y="778"/>
                  </a:lnTo>
                  <a:lnTo>
                    <a:pt x="686" y="787"/>
                  </a:lnTo>
                  <a:lnTo>
                    <a:pt x="682" y="791"/>
                  </a:lnTo>
                  <a:lnTo>
                    <a:pt x="678" y="795"/>
                  </a:lnTo>
                  <a:lnTo>
                    <a:pt x="672" y="799"/>
                  </a:lnTo>
                  <a:lnTo>
                    <a:pt x="667" y="802"/>
                  </a:lnTo>
                  <a:lnTo>
                    <a:pt x="668" y="790"/>
                  </a:lnTo>
                  <a:lnTo>
                    <a:pt x="668" y="778"/>
                  </a:lnTo>
                  <a:lnTo>
                    <a:pt x="668" y="767"/>
                  </a:lnTo>
                  <a:lnTo>
                    <a:pt x="667" y="757"/>
                  </a:lnTo>
                  <a:lnTo>
                    <a:pt x="665" y="746"/>
                  </a:lnTo>
                  <a:lnTo>
                    <a:pt x="663" y="737"/>
                  </a:lnTo>
                  <a:lnTo>
                    <a:pt x="661" y="728"/>
                  </a:lnTo>
                  <a:lnTo>
                    <a:pt x="658" y="719"/>
                  </a:lnTo>
                  <a:lnTo>
                    <a:pt x="652" y="703"/>
                  </a:lnTo>
                  <a:lnTo>
                    <a:pt x="643" y="687"/>
                  </a:lnTo>
                  <a:lnTo>
                    <a:pt x="633" y="675"/>
                  </a:lnTo>
                  <a:lnTo>
                    <a:pt x="622" y="663"/>
                  </a:lnTo>
                  <a:lnTo>
                    <a:pt x="610" y="654"/>
                  </a:lnTo>
                  <a:lnTo>
                    <a:pt x="596" y="646"/>
                  </a:lnTo>
                  <a:lnTo>
                    <a:pt x="583" y="639"/>
                  </a:lnTo>
                  <a:lnTo>
                    <a:pt x="569" y="635"/>
                  </a:lnTo>
                  <a:lnTo>
                    <a:pt x="553" y="633"/>
                  </a:lnTo>
                  <a:lnTo>
                    <a:pt x="538" y="633"/>
                  </a:lnTo>
                  <a:lnTo>
                    <a:pt x="522" y="634"/>
                  </a:lnTo>
                  <a:lnTo>
                    <a:pt x="507" y="637"/>
                  </a:lnTo>
                  <a:lnTo>
                    <a:pt x="503" y="642"/>
                  </a:lnTo>
                  <a:lnTo>
                    <a:pt x="501" y="646"/>
                  </a:lnTo>
                  <a:lnTo>
                    <a:pt x="500" y="649"/>
                  </a:lnTo>
                  <a:lnTo>
                    <a:pt x="502" y="651"/>
                  </a:lnTo>
                  <a:lnTo>
                    <a:pt x="510" y="653"/>
                  </a:lnTo>
                  <a:lnTo>
                    <a:pt x="521" y="654"/>
                  </a:lnTo>
                  <a:lnTo>
                    <a:pt x="548" y="651"/>
                  </a:lnTo>
                  <a:lnTo>
                    <a:pt x="565" y="649"/>
                  </a:lnTo>
                  <a:lnTo>
                    <a:pt x="570" y="653"/>
                  </a:lnTo>
                  <a:lnTo>
                    <a:pt x="581" y="658"/>
                  </a:lnTo>
                  <a:lnTo>
                    <a:pt x="594" y="665"/>
                  </a:lnTo>
                  <a:lnTo>
                    <a:pt x="609" y="672"/>
                  </a:lnTo>
                  <a:lnTo>
                    <a:pt x="618" y="686"/>
                  </a:lnTo>
                  <a:lnTo>
                    <a:pt x="627" y="699"/>
                  </a:lnTo>
                  <a:lnTo>
                    <a:pt x="634" y="712"/>
                  </a:lnTo>
                  <a:lnTo>
                    <a:pt x="640" y="725"/>
                  </a:lnTo>
                  <a:lnTo>
                    <a:pt x="645" y="738"/>
                  </a:lnTo>
                  <a:lnTo>
                    <a:pt x="648" y="752"/>
                  </a:lnTo>
                  <a:lnTo>
                    <a:pt x="650" y="764"/>
                  </a:lnTo>
                  <a:lnTo>
                    <a:pt x="651" y="777"/>
                  </a:lnTo>
                  <a:lnTo>
                    <a:pt x="650" y="790"/>
                  </a:lnTo>
                  <a:lnTo>
                    <a:pt x="648" y="802"/>
                  </a:lnTo>
                  <a:lnTo>
                    <a:pt x="645" y="815"/>
                  </a:lnTo>
                  <a:lnTo>
                    <a:pt x="640" y="827"/>
                  </a:lnTo>
                  <a:lnTo>
                    <a:pt x="633" y="840"/>
                  </a:lnTo>
                  <a:lnTo>
                    <a:pt x="626" y="852"/>
                  </a:lnTo>
                  <a:lnTo>
                    <a:pt x="616" y="864"/>
                  </a:lnTo>
                  <a:lnTo>
                    <a:pt x="606" y="876"/>
                  </a:lnTo>
                  <a:lnTo>
                    <a:pt x="596" y="880"/>
                  </a:lnTo>
                  <a:lnTo>
                    <a:pt x="587" y="882"/>
                  </a:lnTo>
                  <a:lnTo>
                    <a:pt x="579" y="885"/>
                  </a:lnTo>
                  <a:lnTo>
                    <a:pt x="570" y="885"/>
                  </a:lnTo>
                  <a:lnTo>
                    <a:pt x="560" y="885"/>
                  </a:lnTo>
                  <a:lnTo>
                    <a:pt x="552" y="884"/>
                  </a:lnTo>
                  <a:lnTo>
                    <a:pt x="544" y="880"/>
                  </a:lnTo>
                  <a:lnTo>
                    <a:pt x="536" y="874"/>
                  </a:lnTo>
                  <a:lnTo>
                    <a:pt x="537" y="856"/>
                  </a:lnTo>
                  <a:lnTo>
                    <a:pt x="539" y="841"/>
                  </a:lnTo>
                  <a:lnTo>
                    <a:pt x="541" y="828"/>
                  </a:lnTo>
                  <a:lnTo>
                    <a:pt x="542" y="816"/>
                  </a:lnTo>
                  <a:lnTo>
                    <a:pt x="543" y="806"/>
                  </a:lnTo>
                  <a:lnTo>
                    <a:pt x="541" y="794"/>
                  </a:lnTo>
                  <a:lnTo>
                    <a:pt x="540" y="787"/>
                  </a:lnTo>
                  <a:lnTo>
                    <a:pt x="537" y="779"/>
                  </a:lnTo>
                  <a:lnTo>
                    <a:pt x="534" y="773"/>
                  </a:lnTo>
                  <a:lnTo>
                    <a:pt x="530" y="764"/>
                  </a:lnTo>
                  <a:lnTo>
                    <a:pt x="519" y="749"/>
                  </a:lnTo>
                  <a:lnTo>
                    <a:pt x="509" y="737"/>
                  </a:lnTo>
                  <a:lnTo>
                    <a:pt x="499" y="728"/>
                  </a:lnTo>
                  <a:lnTo>
                    <a:pt x="489" y="720"/>
                  </a:lnTo>
                  <a:lnTo>
                    <a:pt x="477" y="713"/>
                  </a:lnTo>
                  <a:lnTo>
                    <a:pt x="465" y="709"/>
                  </a:lnTo>
                  <a:lnTo>
                    <a:pt x="453" y="705"/>
                  </a:lnTo>
                  <a:lnTo>
                    <a:pt x="439" y="704"/>
                  </a:lnTo>
                  <a:lnTo>
                    <a:pt x="436" y="709"/>
                  </a:lnTo>
                  <a:lnTo>
                    <a:pt x="435" y="712"/>
                  </a:lnTo>
                  <a:lnTo>
                    <a:pt x="435" y="716"/>
                  </a:lnTo>
                  <a:lnTo>
                    <a:pt x="436" y="719"/>
                  </a:lnTo>
                  <a:lnTo>
                    <a:pt x="440" y="723"/>
                  </a:lnTo>
                  <a:lnTo>
                    <a:pt x="449" y="727"/>
                  </a:lnTo>
                  <a:lnTo>
                    <a:pt x="466" y="731"/>
                  </a:lnTo>
                  <a:lnTo>
                    <a:pt x="481" y="736"/>
                  </a:lnTo>
                  <a:lnTo>
                    <a:pt x="492" y="745"/>
                  </a:lnTo>
                  <a:lnTo>
                    <a:pt x="500" y="754"/>
                  </a:lnTo>
                  <a:lnTo>
                    <a:pt x="508" y="764"/>
                  </a:lnTo>
                  <a:lnTo>
                    <a:pt x="514" y="774"/>
                  </a:lnTo>
                  <a:lnTo>
                    <a:pt x="519" y="783"/>
                  </a:lnTo>
                  <a:lnTo>
                    <a:pt x="523" y="794"/>
                  </a:lnTo>
                  <a:lnTo>
                    <a:pt x="526" y="803"/>
                  </a:lnTo>
                  <a:lnTo>
                    <a:pt x="528" y="814"/>
                  </a:lnTo>
                  <a:lnTo>
                    <a:pt x="528" y="824"/>
                  </a:lnTo>
                  <a:lnTo>
                    <a:pt x="527" y="836"/>
                  </a:lnTo>
                  <a:lnTo>
                    <a:pt x="525" y="847"/>
                  </a:lnTo>
                  <a:lnTo>
                    <a:pt x="520" y="859"/>
                  </a:lnTo>
                  <a:lnTo>
                    <a:pt x="515" y="869"/>
                  </a:lnTo>
                  <a:lnTo>
                    <a:pt x="510" y="881"/>
                  </a:lnTo>
                  <a:lnTo>
                    <a:pt x="503" y="893"/>
                  </a:lnTo>
                  <a:lnTo>
                    <a:pt x="495" y="905"/>
                  </a:lnTo>
                  <a:lnTo>
                    <a:pt x="484" y="910"/>
                  </a:lnTo>
                  <a:lnTo>
                    <a:pt x="473" y="914"/>
                  </a:lnTo>
                  <a:lnTo>
                    <a:pt x="462" y="917"/>
                  </a:lnTo>
                  <a:lnTo>
                    <a:pt x="452" y="918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8440" y="6027840"/>
              <a:ext cx="296640" cy="366480"/>
            </a:xfrm>
            <a:custGeom>
              <a:avLst/>
              <a:gdLst/>
              <a:ahLst/>
              <a:rect l="l" t="t" r="r" b="b"/>
              <a:pathLst>
                <a:path w="187" h="231">
                  <a:moveTo>
                    <a:pt x="73" y="231"/>
                  </a:moveTo>
                  <a:lnTo>
                    <a:pt x="65" y="228"/>
                  </a:lnTo>
                  <a:lnTo>
                    <a:pt x="57" y="227"/>
                  </a:lnTo>
                  <a:lnTo>
                    <a:pt x="51" y="224"/>
                  </a:lnTo>
                  <a:lnTo>
                    <a:pt x="45" y="220"/>
                  </a:lnTo>
                  <a:lnTo>
                    <a:pt x="39" y="216"/>
                  </a:lnTo>
                  <a:lnTo>
                    <a:pt x="34" y="212"/>
                  </a:lnTo>
                  <a:lnTo>
                    <a:pt x="29" y="207"/>
                  </a:lnTo>
                  <a:lnTo>
                    <a:pt x="23" y="202"/>
                  </a:lnTo>
                  <a:lnTo>
                    <a:pt x="16" y="190"/>
                  </a:lnTo>
                  <a:lnTo>
                    <a:pt x="10" y="177"/>
                  </a:lnTo>
                  <a:lnTo>
                    <a:pt x="5" y="162"/>
                  </a:lnTo>
                  <a:lnTo>
                    <a:pt x="2" y="148"/>
                  </a:lnTo>
                  <a:lnTo>
                    <a:pt x="0" y="132"/>
                  </a:lnTo>
                  <a:lnTo>
                    <a:pt x="0" y="116"/>
                  </a:lnTo>
                  <a:lnTo>
                    <a:pt x="1" y="99"/>
                  </a:lnTo>
                  <a:lnTo>
                    <a:pt x="4" y="83"/>
                  </a:lnTo>
                  <a:lnTo>
                    <a:pt x="8" y="67"/>
                  </a:lnTo>
                  <a:lnTo>
                    <a:pt x="13" y="52"/>
                  </a:lnTo>
                  <a:lnTo>
                    <a:pt x="20" y="38"/>
                  </a:lnTo>
                  <a:lnTo>
                    <a:pt x="29" y="25"/>
                  </a:lnTo>
                  <a:lnTo>
                    <a:pt x="38" y="17"/>
                  </a:lnTo>
                  <a:lnTo>
                    <a:pt x="48" y="12"/>
                  </a:lnTo>
                  <a:lnTo>
                    <a:pt x="57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8" y="6"/>
                  </a:lnTo>
                  <a:lnTo>
                    <a:pt x="138" y="10"/>
                  </a:lnTo>
                  <a:lnTo>
                    <a:pt x="148" y="16"/>
                  </a:lnTo>
                  <a:lnTo>
                    <a:pt x="158" y="21"/>
                  </a:lnTo>
                  <a:lnTo>
                    <a:pt x="167" y="27"/>
                  </a:lnTo>
                  <a:lnTo>
                    <a:pt x="177" y="35"/>
                  </a:lnTo>
                  <a:lnTo>
                    <a:pt x="187" y="43"/>
                  </a:lnTo>
                  <a:lnTo>
                    <a:pt x="184" y="46"/>
                  </a:lnTo>
                  <a:lnTo>
                    <a:pt x="168" y="52"/>
                  </a:lnTo>
                  <a:lnTo>
                    <a:pt x="159" y="62"/>
                  </a:lnTo>
                  <a:lnTo>
                    <a:pt x="152" y="71"/>
                  </a:lnTo>
                  <a:lnTo>
                    <a:pt x="145" y="80"/>
                  </a:lnTo>
                  <a:lnTo>
                    <a:pt x="138" y="89"/>
                  </a:lnTo>
                  <a:lnTo>
                    <a:pt x="132" y="99"/>
                  </a:lnTo>
                  <a:lnTo>
                    <a:pt x="128" y="108"/>
                  </a:lnTo>
                  <a:lnTo>
                    <a:pt x="124" y="117"/>
                  </a:lnTo>
                  <a:lnTo>
                    <a:pt x="120" y="126"/>
                  </a:lnTo>
                  <a:lnTo>
                    <a:pt x="118" y="137"/>
                  </a:lnTo>
                  <a:lnTo>
                    <a:pt x="116" y="148"/>
                  </a:lnTo>
                  <a:lnTo>
                    <a:pt x="115" y="159"/>
                  </a:lnTo>
                  <a:lnTo>
                    <a:pt x="114" y="170"/>
                  </a:lnTo>
                  <a:lnTo>
                    <a:pt x="114" y="183"/>
                  </a:lnTo>
                  <a:lnTo>
                    <a:pt x="114" y="196"/>
                  </a:lnTo>
                  <a:lnTo>
                    <a:pt x="115" y="210"/>
                  </a:lnTo>
                  <a:lnTo>
                    <a:pt x="117" y="224"/>
                  </a:lnTo>
                  <a:lnTo>
                    <a:pt x="109" y="227"/>
                  </a:lnTo>
                  <a:lnTo>
                    <a:pt x="95" y="229"/>
                  </a:lnTo>
                  <a:lnTo>
                    <a:pt x="81" y="229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82920" y="3575160"/>
              <a:ext cx="917280" cy="2396880"/>
            </a:xfrm>
            <a:custGeom>
              <a:avLst/>
              <a:gdLst/>
              <a:ahLst/>
              <a:rect l="l" t="t" r="r" b="b"/>
              <a:pathLst>
                <a:path w="578" h="1510">
                  <a:moveTo>
                    <a:pt x="113" y="1510"/>
                  </a:moveTo>
                  <a:lnTo>
                    <a:pt x="94" y="1506"/>
                  </a:lnTo>
                  <a:lnTo>
                    <a:pt x="77" y="1501"/>
                  </a:lnTo>
                  <a:lnTo>
                    <a:pt x="60" y="1494"/>
                  </a:lnTo>
                  <a:lnTo>
                    <a:pt x="44" y="1489"/>
                  </a:lnTo>
                  <a:lnTo>
                    <a:pt x="33" y="1456"/>
                  </a:lnTo>
                  <a:lnTo>
                    <a:pt x="22" y="1425"/>
                  </a:lnTo>
                  <a:lnTo>
                    <a:pt x="17" y="1409"/>
                  </a:lnTo>
                  <a:lnTo>
                    <a:pt x="13" y="1393"/>
                  </a:lnTo>
                  <a:lnTo>
                    <a:pt x="9" y="1377"/>
                  </a:lnTo>
                  <a:lnTo>
                    <a:pt x="5" y="1360"/>
                  </a:lnTo>
                  <a:lnTo>
                    <a:pt x="2" y="1310"/>
                  </a:lnTo>
                  <a:lnTo>
                    <a:pt x="0" y="1256"/>
                  </a:lnTo>
                  <a:lnTo>
                    <a:pt x="0" y="1226"/>
                  </a:lnTo>
                  <a:lnTo>
                    <a:pt x="0" y="1199"/>
                  </a:lnTo>
                  <a:lnTo>
                    <a:pt x="1" y="1170"/>
                  </a:lnTo>
                  <a:lnTo>
                    <a:pt x="3" y="1141"/>
                  </a:lnTo>
                  <a:lnTo>
                    <a:pt x="6" y="1112"/>
                  </a:lnTo>
                  <a:lnTo>
                    <a:pt x="10" y="1084"/>
                  </a:lnTo>
                  <a:lnTo>
                    <a:pt x="15" y="1057"/>
                  </a:lnTo>
                  <a:lnTo>
                    <a:pt x="22" y="1032"/>
                  </a:lnTo>
                  <a:lnTo>
                    <a:pt x="31" y="1007"/>
                  </a:lnTo>
                  <a:lnTo>
                    <a:pt x="40" y="985"/>
                  </a:lnTo>
                  <a:lnTo>
                    <a:pt x="46" y="974"/>
                  </a:lnTo>
                  <a:lnTo>
                    <a:pt x="52" y="965"/>
                  </a:lnTo>
                  <a:lnTo>
                    <a:pt x="58" y="956"/>
                  </a:lnTo>
                  <a:lnTo>
                    <a:pt x="64" y="947"/>
                  </a:lnTo>
                  <a:lnTo>
                    <a:pt x="88" y="903"/>
                  </a:lnTo>
                  <a:lnTo>
                    <a:pt x="111" y="858"/>
                  </a:lnTo>
                  <a:lnTo>
                    <a:pt x="121" y="836"/>
                  </a:lnTo>
                  <a:lnTo>
                    <a:pt x="132" y="813"/>
                  </a:lnTo>
                  <a:lnTo>
                    <a:pt x="141" y="791"/>
                  </a:lnTo>
                  <a:lnTo>
                    <a:pt x="151" y="768"/>
                  </a:lnTo>
                  <a:lnTo>
                    <a:pt x="158" y="743"/>
                  </a:lnTo>
                  <a:lnTo>
                    <a:pt x="164" y="719"/>
                  </a:lnTo>
                  <a:lnTo>
                    <a:pt x="169" y="694"/>
                  </a:lnTo>
                  <a:lnTo>
                    <a:pt x="173" y="671"/>
                  </a:lnTo>
                  <a:lnTo>
                    <a:pt x="177" y="645"/>
                  </a:lnTo>
                  <a:lnTo>
                    <a:pt x="180" y="622"/>
                  </a:lnTo>
                  <a:lnTo>
                    <a:pt x="183" y="598"/>
                  </a:lnTo>
                  <a:lnTo>
                    <a:pt x="185" y="573"/>
                  </a:lnTo>
                  <a:lnTo>
                    <a:pt x="188" y="524"/>
                  </a:lnTo>
                  <a:lnTo>
                    <a:pt x="190" y="475"/>
                  </a:lnTo>
                  <a:lnTo>
                    <a:pt x="190" y="425"/>
                  </a:lnTo>
                  <a:lnTo>
                    <a:pt x="191" y="375"/>
                  </a:lnTo>
                  <a:lnTo>
                    <a:pt x="189" y="348"/>
                  </a:lnTo>
                  <a:lnTo>
                    <a:pt x="186" y="313"/>
                  </a:lnTo>
                  <a:lnTo>
                    <a:pt x="185" y="296"/>
                  </a:lnTo>
                  <a:lnTo>
                    <a:pt x="185" y="278"/>
                  </a:lnTo>
                  <a:lnTo>
                    <a:pt x="185" y="264"/>
                  </a:lnTo>
                  <a:lnTo>
                    <a:pt x="187" y="253"/>
                  </a:lnTo>
                  <a:lnTo>
                    <a:pt x="200" y="241"/>
                  </a:lnTo>
                  <a:lnTo>
                    <a:pt x="213" y="230"/>
                  </a:lnTo>
                  <a:lnTo>
                    <a:pt x="224" y="216"/>
                  </a:lnTo>
                  <a:lnTo>
                    <a:pt x="234" y="202"/>
                  </a:lnTo>
                  <a:lnTo>
                    <a:pt x="242" y="189"/>
                  </a:lnTo>
                  <a:lnTo>
                    <a:pt x="249" y="173"/>
                  </a:lnTo>
                  <a:lnTo>
                    <a:pt x="257" y="158"/>
                  </a:lnTo>
                  <a:lnTo>
                    <a:pt x="263" y="142"/>
                  </a:lnTo>
                  <a:lnTo>
                    <a:pt x="274" y="109"/>
                  </a:lnTo>
                  <a:lnTo>
                    <a:pt x="285" y="78"/>
                  </a:lnTo>
                  <a:lnTo>
                    <a:pt x="291" y="62"/>
                  </a:lnTo>
                  <a:lnTo>
                    <a:pt x="299" y="46"/>
                  </a:lnTo>
                  <a:lnTo>
                    <a:pt x="306" y="32"/>
                  </a:lnTo>
                  <a:lnTo>
                    <a:pt x="315" y="16"/>
                  </a:lnTo>
                  <a:lnTo>
                    <a:pt x="333" y="13"/>
                  </a:lnTo>
                  <a:lnTo>
                    <a:pt x="353" y="8"/>
                  </a:lnTo>
                  <a:lnTo>
                    <a:pt x="373" y="2"/>
                  </a:lnTo>
                  <a:lnTo>
                    <a:pt x="392" y="0"/>
                  </a:lnTo>
                  <a:lnTo>
                    <a:pt x="394" y="5"/>
                  </a:lnTo>
                  <a:lnTo>
                    <a:pt x="394" y="9"/>
                  </a:lnTo>
                  <a:lnTo>
                    <a:pt x="394" y="14"/>
                  </a:lnTo>
                  <a:lnTo>
                    <a:pt x="394" y="22"/>
                  </a:lnTo>
                  <a:lnTo>
                    <a:pt x="412" y="79"/>
                  </a:lnTo>
                  <a:lnTo>
                    <a:pt x="431" y="135"/>
                  </a:lnTo>
                  <a:lnTo>
                    <a:pt x="451" y="190"/>
                  </a:lnTo>
                  <a:lnTo>
                    <a:pt x="470" y="245"/>
                  </a:lnTo>
                  <a:lnTo>
                    <a:pt x="491" y="301"/>
                  </a:lnTo>
                  <a:lnTo>
                    <a:pt x="509" y="358"/>
                  </a:lnTo>
                  <a:lnTo>
                    <a:pt x="527" y="414"/>
                  </a:lnTo>
                  <a:lnTo>
                    <a:pt x="542" y="473"/>
                  </a:lnTo>
                  <a:lnTo>
                    <a:pt x="548" y="502"/>
                  </a:lnTo>
                  <a:lnTo>
                    <a:pt x="553" y="532"/>
                  </a:lnTo>
                  <a:lnTo>
                    <a:pt x="559" y="562"/>
                  </a:lnTo>
                  <a:lnTo>
                    <a:pt x="563" y="594"/>
                  </a:lnTo>
                  <a:lnTo>
                    <a:pt x="567" y="626"/>
                  </a:lnTo>
                  <a:lnTo>
                    <a:pt x="570" y="657"/>
                  </a:lnTo>
                  <a:lnTo>
                    <a:pt x="573" y="690"/>
                  </a:lnTo>
                  <a:lnTo>
                    <a:pt x="575" y="723"/>
                  </a:lnTo>
                  <a:lnTo>
                    <a:pt x="577" y="756"/>
                  </a:lnTo>
                  <a:lnTo>
                    <a:pt x="577" y="791"/>
                  </a:lnTo>
                  <a:lnTo>
                    <a:pt x="578" y="824"/>
                  </a:lnTo>
                  <a:lnTo>
                    <a:pt x="577" y="858"/>
                  </a:lnTo>
                  <a:lnTo>
                    <a:pt x="576" y="891"/>
                  </a:lnTo>
                  <a:lnTo>
                    <a:pt x="574" y="924"/>
                  </a:lnTo>
                  <a:lnTo>
                    <a:pt x="571" y="958"/>
                  </a:lnTo>
                  <a:lnTo>
                    <a:pt x="567" y="990"/>
                  </a:lnTo>
                  <a:lnTo>
                    <a:pt x="563" y="1023"/>
                  </a:lnTo>
                  <a:lnTo>
                    <a:pt x="556" y="1055"/>
                  </a:lnTo>
                  <a:lnTo>
                    <a:pt x="549" y="1086"/>
                  </a:lnTo>
                  <a:lnTo>
                    <a:pt x="542" y="1118"/>
                  </a:lnTo>
                  <a:lnTo>
                    <a:pt x="533" y="1149"/>
                  </a:lnTo>
                  <a:lnTo>
                    <a:pt x="524" y="1178"/>
                  </a:lnTo>
                  <a:lnTo>
                    <a:pt x="512" y="1207"/>
                  </a:lnTo>
                  <a:lnTo>
                    <a:pt x="500" y="1234"/>
                  </a:lnTo>
                  <a:lnTo>
                    <a:pt x="487" y="1261"/>
                  </a:lnTo>
                  <a:lnTo>
                    <a:pt x="472" y="1286"/>
                  </a:lnTo>
                  <a:lnTo>
                    <a:pt x="457" y="1311"/>
                  </a:lnTo>
                  <a:lnTo>
                    <a:pt x="439" y="1333"/>
                  </a:lnTo>
                  <a:lnTo>
                    <a:pt x="421" y="1355"/>
                  </a:lnTo>
                  <a:lnTo>
                    <a:pt x="400" y="1376"/>
                  </a:lnTo>
                  <a:lnTo>
                    <a:pt x="380" y="1394"/>
                  </a:lnTo>
                  <a:lnTo>
                    <a:pt x="357" y="1411"/>
                  </a:lnTo>
                  <a:lnTo>
                    <a:pt x="356" y="1414"/>
                  </a:lnTo>
                  <a:lnTo>
                    <a:pt x="354" y="1418"/>
                  </a:lnTo>
                  <a:lnTo>
                    <a:pt x="352" y="1421"/>
                  </a:lnTo>
                  <a:lnTo>
                    <a:pt x="349" y="1423"/>
                  </a:lnTo>
                  <a:lnTo>
                    <a:pt x="341" y="1431"/>
                  </a:lnTo>
                  <a:lnTo>
                    <a:pt x="330" y="1438"/>
                  </a:lnTo>
                  <a:lnTo>
                    <a:pt x="306" y="1452"/>
                  </a:lnTo>
                  <a:lnTo>
                    <a:pt x="276" y="1467"/>
                  </a:lnTo>
                  <a:lnTo>
                    <a:pt x="246" y="1481"/>
                  </a:lnTo>
                  <a:lnTo>
                    <a:pt x="219" y="1492"/>
                  </a:lnTo>
                  <a:lnTo>
                    <a:pt x="196" y="1501"/>
                  </a:lnTo>
                  <a:lnTo>
                    <a:pt x="183" y="1505"/>
                  </a:lnTo>
                  <a:lnTo>
                    <a:pt x="164" y="1508"/>
                  </a:lnTo>
                  <a:lnTo>
                    <a:pt x="147" y="1509"/>
                  </a:lnTo>
                  <a:lnTo>
                    <a:pt x="129" y="1510"/>
                  </a:lnTo>
                  <a:lnTo>
                    <a:pt x="113" y="151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60600" y="57355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51040" y="5183280"/>
              <a:ext cx="182520" cy="304560"/>
            </a:xfrm>
            <a:custGeom>
              <a:avLst/>
              <a:gdLst/>
              <a:ahLst/>
              <a:rect l="l" t="t" r="r" b="b"/>
              <a:pathLst>
                <a:path w="115" h="192">
                  <a:moveTo>
                    <a:pt x="34" y="192"/>
                  </a:moveTo>
                  <a:lnTo>
                    <a:pt x="27" y="188"/>
                  </a:lnTo>
                  <a:lnTo>
                    <a:pt x="21" y="184"/>
                  </a:lnTo>
                  <a:lnTo>
                    <a:pt x="16" y="180"/>
                  </a:lnTo>
                  <a:lnTo>
                    <a:pt x="12" y="175"/>
                  </a:lnTo>
                  <a:lnTo>
                    <a:pt x="8" y="170"/>
                  </a:lnTo>
                  <a:lnTo>
                    <a:pt x="5" y="163"/>
                  </a:lnTo>
                  <a:lnTo>
                    <a:pt x="3" y="158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30"/>
                  </a:lnTo>
                  <a:lnTo>
                    <a:pt x="0" y="124"/>
                  </a:lnTo>
                  <a:lnTo>
                    <a:pt x="3" y="109"/>
                  </a:lnTo>
                  <a:lnTo>
                    <a:pt x="7" y="93"/>
                  </a:lnTo>
                  <a:lnTo>
                    <a:pt x="12" y="79"/>
                  </a:lnTo>
                  <a:lnTo>
                    <a:pt x="19" y="64"/>
                  </a:lnTo>
                  <a:lnTo>
                    <a:pt x="26" y="50"/>
                  </a:lnTo>
                  <a:lnTo>
                    <a:pt x="35" y="38"/>
                  </a:lnTo>
                  <a:lnTo>
                    <a:pt x="45" y="26"/>
                  </a:lnTo>
                  <a:lnTo>
                    <a:pt x="53" y="15"/>
                  </a:lnTo>
                  <a:lnTo>
                    <a:pt x="62" y="6"/>
                  </a:lnTo>
                  <a:lnTo>
                    <a:pt x="71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3" y="4"/>
                  </a:lnTo>
                  <a:lnTo>
                    <a:pt x="99" y="7"/>
                  </a:lnTo>
                  <a:lnTo>
                    <a:pt x="105" y="13"/>
                  </a:lnTo>
                  <a:lnTo>
                    <a:pt x="109" y="19"/>
                  </a:lnTo>
                  <a:lnTo>
                    <a:pt x="111" y="23"/>
                  </a:lnTo>
                  <a:lnTo>
                    <a:pt x="114" y="29"/>
                  </a:lnTo>
                  <a:lnTo>
                    <a:pt x="115" y="34"/>
                  </a:lnTo>
                  <a:lnTo>
                    <a:pt x="115" y="40"/>
                  </a:lnTo>
                  <a:lnTo>
                    <a:pt x="113" y="63"/>
                  </a:lnTo>
                  <a:lnTo>
                    <a:pt x="107" y="88"/>
                  </a:lnTo>
                  <a:lnTo>
                    <a:pt x="105" y="101"/>
                  </a:lnTo>
                  <a:lnTo>
                    <a:pt x="102" y="113"/>
                  </a:lnTo>
                  <a:lnTo>
                    <a:pt x="98" y="126"/>
                  </a:lnTo>
                  <a:lnTo>
                    <a:pt x="94" y="138"/>
                  </a:lnTo>
                  <a:lnTo>
                    <a:pt x="89" y="149"/>
                  </a:lnTo>
                  <a:lnTo>
                    <a:pt x="84" y="159"/>
                  </a:lnTo>
                  <a:lnTo>
                    <a:pt x="78" y="169"/>
                  </a:lnTo>
                  <a:lnTo>
                    <a:pt x="70" y="176"/>
                  </a:lnTo>
                  <a:lnTo>
                    <a:pt x="62" y="183"/>
                  </a:lnTo>
                  <a:lnTo>
                    <a:pt x="54" y="188"/>
                  </a:lnTo>
                  <a:lnTo>
                    <a:pt x="45" y="191"/>
                  </a:lnTo>
                  <a:lnTo>
                    <a:pt x="34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6600" y="5219640"/>
              <a:ext cx="129960" cy="23976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18" y="151"/>
                  </a:moveTo>
                  <a:lnTo>
                    <a:pt x="14" y="148"/>
                  </a:lnTo>
                  <a:lnTo>
                    <a:pt x="11" y="144"/>
                  </a:lnTo>
                  <a:lnTo>
                    <a:pt x="8" y="140"/>
                  </a:lnTo>
                  <a:lnTo>
                    <a:pt x="5" y="136"/>
                  </a:lnTo>
                  <a:lnTo>
                    <a:pt x="2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91"/>
                  </a:lnTo>
                  <a:lnTo>
                    <a:pt x="4" y="80"/>
                  </a:lnTo>
                  <a:lnTo>
                    <a:pt x="7" y="68"/>
                  </a:lnTo>
                  <a:lnTo>
                    <a:pt x="12" y="57"/>
                  </a:lnTo>
                  <a:lnTo>
                    <a:pt x="17" y="47"/>
                  </a:lnTo>
                  <a:lnTo>
                    <a:pt x="24" y="36"/>
                  </a:lnTo>
                  <a:lnTo>
                    <a:pt x="31" y="27"/>
                  </a:lnTo>
                  <a:lnTo>
                    <a:pt x="38" y="20"/>
                  </a:lnTo>
                  <a:lnTo>
                    <a:pt x="45" y="15"/>
                  </a:lnTo>
                  <a:lnTo>
                    <a:pt x="53" y="11"/>
                  </a:lnTo>
                  <a:lnTo>
                    <a:pt x="61" y="10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79" y="7"/>
                  </a:lnTo>
                  <a:lnTo>
                    <a:pt x="81" y="15"/>
                  </a:lnTo>
                  <a:lnTo>
                    <a:pt x="82" y="25"/>
                  </a:lnTo>
                  <a:lnTo>
                    <a:pt x="82" y="36"/>
                  </a:lnTo>
                  <a:lnTo>
                    <a:pt x="80" y="48"/>
                  </a:lnTo>
                  <a:lnTo>
                    <a:pt x="78" y="61"/>
                  </a:lnTo>
                  <a:lnTo>
                    <a:pt x="74" y="74"/>
                  </a:lnTo>
                  <a:lnTo>
                    <a:pt x="70" y="86"/>
                  </a:lnTo>
                  <a:lnTo>
                    <a:pt x="65" y="99"/>
                  </a:lnTo>
                  <a:lnTo>
                    <a:pt x="60" y="111"/>
                  </a:lnTo>
                  <a:lnTo>
                    <a:pt x="53" y="122"/>
                  </a:lnTo>
                  <a:lnTo>
                    <a:pt x="47" y="132"/>
                  </a:lnTo>
                  <a:lnTo>
                    <a:pt x="40" y="140"/>
                  </a:lnTo>
                  <a:lnTo>
                    <a:pt x="33" y="146"/>
                  </a:lnTo>
                  <a:lnTo>
                    <a:pt x="26" y="150"/>
                  </a:lnTo>
                  <a:lnTo>
                    <a:pt x="18" y="15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7240" y="5172120"/>
              <a:ext cx="129960" cy="214200"/>
            </a:xfrm>
            <a:custGeom>
              <a:avLst/>
              <a:gdLst/>
              <a:ahLst/>
              <a:rect l="l" t="t" r="r" b="b"/>
              <a:pathLst>
                <a:path w="82" h="135">
                  <a:moveTo>
                    <a:pt x="32" y="135"/>
                  </a:moveTo>
                  <a:lnTo>
                    <a:pt x="26" y="132"/>
                  </a:lnTo>
                  <a:lnTo>
                    <a:pt x="22" y="129"/>
                  </a:lnTo>
                  <a:lnTo>
                    <a:pt x="18" y="127"/>
                  </a:lnTo>
                  <a:lnTo>
                    <a:pt x="14" y="123"/>
                  </a:lnTo>
                  <a:lnTo>
                    <a:pt x="8" y="114"/>
                  </a:lnTo>
                  <a:lnTo>
                    <a:pt x="4" y="103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1" y="67"/>
                  </a:lnTo>
                  <a:lnTo>
                    <a:pt x="2" y="55"/>
                  </a:lnTo>
                  <a:lnTo>
                    <a:pt x="5" y="44"/>
                  </a:lnTo>
                  <a:lnTo>
                    <a:pt x="9" y="32"/>
                  </a:lnTo>
                  <a:lnTo>
                    <a:pt x="15" y="22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2" y="12"/>
                  </a:lnTo>
                  <a:lnTo>
                    <a:pt x="76" y="21"/>
                  </a:lnTo>
                  <a:lnTo>
                    <a:pt x="80" y="30"/>
                  </a:lnTo>
                  <a:lnTo>
                    <a:pt x="82" y="41"/>
                  </a:lnTo>
                  <a:lnTo>
                    <a:pt x="82" y="51"/>
                  </a:lnTo>
                  <a:lnTo>
                    <a:pt x="82" y="63"/>
                  </a:lnTo>
                  <a:lnTo>
                    <a:pt x="80" y="75"/>
                  </a:lnTo>
                  <a:lnTo>
                    <a:pt x="77" y="86"/>
                  </a:lnTo>
                  <a:lnTo>
                    <a:pt x="73" y="96"/>
                  </a:lnTo>
                  <a:lnTo>
                    <a:pt x="69" y="107"/>
                  </a:lnTo>
                  <a:lnTo>
                    <a:pt x="62" y="115"/>
                  </a:lnTo>
                  <a:lnTo>
                    <a:pt x="55" y="123"/>
                  </a:lnTo>
                  <a:lnTo>
                    <a:pt x="48" y="129"/>
                  </a:lnTo>
                  <a:lnTo>
                    <a:pt x="40" y="133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52440" y="5197320"/>
              <a:ext cx="76320" cy="160560"/>
            </a:xfrm>
            <a:custGeom>
              <a:avLst/>
              <a:gdLst/>
              <a:ahLst/>
              <a:rect l="l" t="t" r="r" b="b"/>
              <a:pathLst>
                <a:path w="48" h="101">
                  <a:moveTo>
                    <a:pt x="16" y="101"/>
                  </a:moveTo>
                  <a:lnTo>
                    <a:pt x="10" y="98"/>
                  </a:lnTo>
                  <a:lnTo>
                    <a:pt x="6" y="92"/>
                  </a:lnTo>
                  <a:lnTo>
                    <a:pt x="4" y="86"/>
                  </a:lnTo>
                  <a:lnTo>
                    <a:pt x="2" y="80"/>
                  </a:lnTo>
                  <a:lnTo>
                    <a:pt x="1" y="74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4" y="13"/>
                  </a:lnTo>
                  <a:lnTo>
                    <a:pt x="18" y="2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3" y="6"/>
                  </a:lnTo>
                  <a:lnTo>
                    <a:pt x="45" y="13"/>
                  </a:lnTo>
                  <a:lnTo>
                    <a:pt x="47" y="20"/>
                  </a:lnTo>
                  <a:lnTo>
                    <a:pt x="48" y="28"/>
                  </a:lnTo>
                  <a:lnTo>
                    <a:pt x="48" y="35"/>
                  </a:lnTo>
                  <a:lnTo>
                    <a:pt x="48" y="45"/>
                  </a:lnTo>
                  <a:lnTo>
                    <a:pt x="47" y="53"/>
                  </a:lnTo>
                  <a:lnTo>
                    <a:pt x="46" y="61"/>
                  </a:lnTo>
                  <a:lnTo>
                    <a:pt x="44" y="68"/>
                  </a:lnTo>
                  <a:lnTo>
                    <a:pt x="41" y="76"/>
                  </a:lnTo>
                  <a:lnTo>
                    <a:pt x="38" y="83"/>
                  </a:lnTo>
                  <a:lnTo>
                    <a:pt x="35" y="90"/>
                  </a:lnTo>
                  <a:lnTo>
                    <a:pt x="31" y="95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320" y="4960800"/>
              <a:ext cx="258840" cy="314280"/>
            </a:xfrm>
            <a:custGeom>
              <a:avLst/>
              <a:gdLst/>
              <a:ahLst/>
              <a:rect l="l" t="t" r="r" b="b"/>
              <a:pathLst>
                <a:path w="163" h="198">
                  <a:moveTo>
                    <a:pt x="33" y="198"/>
                  </a:moveTo>
                  <a:lnTo>
                    <a:pt x="27" y="196"/>
                  </a:lnTo>
                  <a:lnTo>
                    <a:pt x="20" y="194"/>
                  </a:lnTo>
                  <a:lnTo>
                    <a:pt x="16" y="190"/>
                  </a:lnTo>
                  <a:lnTo>
                    <a:pt x="12" y="187"/>
                  </a:lnTo>
                  <a:lnTo>
                    <a:pt x="8" y="183"/>
                  </a:lnTo>
                  <a:lnTo>
                    <a:pt x="5" y="178"/>
                  </a:lnTo>
                  <a:lnTo>
                    <a:pt x="3" y="174"/>
                  </a:lnTo>
                  <a:lnTo>
                    <a:pt x="2" y="169"/>
                  </a:lnTo>
                  <a:lnTo>
                    <a:pt x="0" y="158"/>
                  </a:lnTo>
                  <a:lnTo>
                    <a:pt x="0" y="146"/>
                  </a:lnTo>
                  <a:lnTo>
                    <a:pt x="2" y="133"/>
                  </a:lnTo>
                  <a:lnTo>
                    <a:pt x="5" y="120"/>
                  </a:lnTo>
                  <a:lnTo>
                    <a:pt x="9" y="107"/>
                  </a:lnTo>
                  <a:lnTo>
                    <a:pt x="14" y="93"/>
                  </a:lnTo>
                  <a:lnTo>
                    <a:pt x="20" y="80"/>
                  </a:lnTo>
                  <a:lnTo>
                    <a:pt x="27" y="67"/>
                  </a:lnTo>
                  <a:lnTo>
                    <a:pt x="38" y="44"/>
                  </a:lnTo>
                  <a:lnTo>
                    <a:pt x="48" y="27"/>
                  </a:lnTo>
                  <a:lnTo>
                    <a:pt x="50" y="22"/>
                  </a:lnTo>
                  <a:lnTo>
                    <a:pt x="53" y="18"/>
                  </a:lnTo>
                  <a:lnTo>
                    <a:pt x="55" y="15"/>
                  </a:lnTo>
                  <a:lnTo>
                    <a:pt x="59" y="11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7" y="1"/>
                  </a:lnTo>
                  <a:lnTo>
                    <a:pt x="117" y="2"/>
                  </a:lnTo>
                  <a:lnTo>
                    <a:pt x="127" y="6"/>
                  </a:lnTo>
                  <a:lnTo>
                    <a:pt x="137" y="13"/>
                  </a:lnTo>
                  <a:lnTo>
                    <a:pt x="146" y="19"/>
                  </a:lnTo>
                  <a:lnTo>
                    <a:pt x="153" y="29"/>
                  </a:lnTo>
                  <a:lnTo>
                    <a:pt x="155" y="33"/>
                  </a:lnTo>
                  <a:lnTo>
                    <a:pt x="158" y="38"/>
                  </a:lnTo>
                  <a:lnTo>
                    <a:pt x="160" y="44"/>
                  </a:lnTo>
                  <a:lnTo>
                    <a:pt x="161" y="50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2" y="71"/>
                  </a:lnTo>
                  <a:lnTo>
                    <a:pt x="161" y="79"/>
                  </a:lnTo>
                  <a:lnTo>
                    <a:pt x="151" y="100"/>
                  </a:lnTo>
                  <a:lnTo>
                    <a:pt x="138" y="121"/>
                  </a:lnTo>
                  <a:lnTo>
                    <a:pt x="131" y="132"/>
                  </a:lnTo>
                  <a:lnTo>
                    <a:pt x="123" y="141"/>
                  </a:lnTo>
                  <a:lnTo>
                    <a:pt x="116" y="150"/>
                  </a:lnTo>
                  <a:lnTo>
                    <a:pt x="108" y="159"/>
                  </a:lnTo>
                  <a:lnTo>
                    <a:pt x="99" y="167"/>
                  </a:lnTo>
                  <a:lnTo>
                    <a:pt x="90" y="174"/>
                  </a:lnTo>
                  <a:lnTo>
                    <a:pt x="81" y="180"/>
                  </a:lnTo>
                  <a:lnTo>
                    <a:pt x="72" y="186"/>
                  </a:lnTo>
                  <a:lnTo>
                    <a:pt x="63" y="191"/>
                  </a:lnTo>
                  <a:lnTo>
                    <a:pt x="52" y="194"/>
                  </a:lnTo>
                  <a:lnTo>
                    <a:pt x="43" y="196"/>
                  </a:lnTo>
                  <a:lnTo>
                    <a:pt x="33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9880" y="4995720"/>
              <a:ext cx="204840" cy="24948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16" y="157"/>
                  </a:moveTo>
                  <a:lnTo>
                    <a:pt x="12" y="156"/>
                  </a:lnTo>
                  <a:lnTo>
                    <a:pt x="9" y="153"/>
                  </a:lnTo>
                  <a:lnTo>
                    <a:pt x="5" y="151"/>
                  </a:lnTo>
                  <a:lnTo>
                    <a:pt x="3" y="148"/>
                  </a:lnTo>
                  <a:lnTo>
                    <a:pt x="2" y="144"/>
                  </a:lnTo>
                  <a:lnTo>
                    <a:pt x="1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19"/>
                  </a:lnTo>
                  <a:lnTo>
                    <a:pt x="2" y="108"/>
                  </a:lnTo>
                  <a:lnTo>
                    <a:pt x="5" y="96"/>
                  </a:lnTo>
                  <a:lnTo>
                    <a:pt x="11" y="83"/>
                  </a:lnTo>
                  <a:lnTo>
                    <a:pt x="21" y="59"/>
                  </a:lnTo>
                  <a:lnTo>
                    <a:pt x="32" y="37"/>
                  </a:lnTo>
                  <a:lnTo>
                    <a:pt x="43" y="19"/>
                  </a:lnTo>
                  <a:lnTo>
                    <a:pt x="53" y="8"/>
                  </a:lnTo>
                  <a:lnTo>
                    <a:pt x="66" y="4"/>
                  </a:lnTo>
                  <a:lnTo>
                    <a:pt x="80" y="1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9" y="12"/>
                  </a:lnTo>
                  <a:lnTo>
                    <a:pt x="124" y="17"/>
                  </a:lnTo>
                  <a:lnTo>
                    <a:pt x="127" y="24"/>
                  </a:lnTo>
                  <a:lnTo>
                    <a:pt x="129" y="32"/>
                  </a:lnTo>
                  <a:lnTo>
                    <a:pt x="129" y="41"/>
                  </a:lnTo>
                  <a:lnTo>
                    <a:pt x="128" y="52"/>
                  </a:lnTo>
                  <a:lnTo>
                    <a:pt x="124" y="65"/>
                  </a:lnTo>
                  <a:lnTo>
                    <a:pt x="113" y="81"/>
                  </a:lnTo>
                  <a:lnTo>
                    <a:pt x="102" y="98"/>
                  </a:lnTo>
                  <a:lnTo>
                    <a:pt x="90" y="114"/>
                  </a:lnTo>
                  <a:lnTo>
                    <a:pt x="76" y="128"/>
                  </a:lnTo>
                  <a:lnTo>
                    <a:pt x="70" y="133"/>
                  </a:lnTo>
                  <a:lnTo>
                    <a:pt x="63" y="140"/>
                  </a:lnTo>
                  <a:lnTo>
                    <a:pt x="56" y="145"/>
                  </a:lnTo>
                  <a:lnTo>
                    <a:pt x="49" y="149"/>
                  </a:lnTo>
                  <a:lnTo>
                    <a:pt x="40" y="153"/>
                  </a:lnTo>
                  <a:lnTo>
                    <a:pt x="32" y="156"/>
                  </a:lnTo>
                  <a:lnTo>
                    <a:pt x="24" y="157"/>
                  </a:lnTo>
                  <a:lnTo>
                    <a:pt x="16" y="1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8840" y="3706920"/>
              <a:ext cx="1600200" cy="1439640"/>
            </a:xfrm>
            <a:custGeom>
              <a:avLst/>
              <a:gdLst/>
              <a:ahLst/>
              <a:rect l="l" t="t" r="r" b="b"/>
              <a:pathLst>
                <a:path w="1008" h="907">
                  <a:moveTo>
                    <a:pt x="849" y="907"/>
                  </a:moveTo>
                  <a:lnTo>
                    <a:pt x="841" y="885"/>
                  </a:lnTo>
                  <a:lnTo>
                    <a:pt x="833" y="864"/>
                  </a:lnTo>
                  <a:lnTo>
                    <a:pt x="824" y="844"/>
                  </a:lnTo>
                  <a:lnTo>
                    <a:pt x="815" y="824"/>
                  </a:lnTo>
                  <a:lnTo>
                    <a:pt x="805" y="805"/>
                  </a:lnTo>
                  <a:lnTo>
                    <a:pt x="795" y="787"/>
                  </a:lnTo>
                  <a:lnTo>
                    <a:pt x="783" y="771"/>
                  </a:lnTo>
                  <a:lnTo>
                    <a:pt x="772" y="755"/>
                  </a:lnTo>
                  <a:lnTo>
                    <a:pt x="761" y="741"/>
                  </a:lnTo>
                  <a:lnTo>
                    <a:pt x="748" y="726"/>
                  </a:lnTo>
                  <a:lnTo>
                    <a:pt x="735" y="714"/>
                  </a:lnTo>
                  <a:lnTo>
                    <a:pt x="723" y="702"/>
                  </a:lnTo>
                  <a:lnTo>
                    <a:pt x="709" y="692"/>
                  </a:lnTo>
                  <a:lnTo>
                    <a:pt x="696" y="683"/>
                  </a:lnTo>
                  <a:lnTo>
                    <a:pt x="682" y="675"/>
                  </a:lnTo>
                  <a:lnTo>
                    <a:pt x="667" y="668"/>
                  </a:lnTo>
                  <a:lnTo>
                    <a:pt x="653" y="663"/>
                  </a:lnTo>
                  <a:lnTo>
                    <a:pt x="638" y="658"/>
                  </a:lnTo>
                  <a:lnTo>
                    <a:pt x="623" y="655"/>
                  </a:lnTo>
                  <a:lnTo>
                    <a:pt x="608" y="652"/>
                  </a:lnTo>
                  <a:lnTo>
                    <a:pt x="592" y="651"/>
                  </a:lnTo>
                  <a:lnTo>
                    <a:pt x="576" y="651"/>
                  </a:lnTo>
                  <a:lnTo>
                    <a:pt x="560" y="654"/>
                  </a:lnTo>
                  <a:lnTo>
                    <a:pt x="544" y="656"/>
                  </a:lnTo>
                  <a:lnTo>
                    <a:pt x="529" y="660"/>
                  </a:lnTo>
                  <a:lnTo>
                    <a:pt x="512" y="665"/>
                  </a:lnTo>
                  <a:lnTo>
                    <a:pt x="496" y="672"/>
                  </a:lnTo>
                  <a:lnTo>
                    <a:pt x="479" y="680"/>
                  </a:lnTo>
                  <a:lnTo>
                    <a:pt x="463" y="691"/>
                  </a:lnTo>
                  <a:lnTo>
                    <a:pt x="447" y="701"/>
                  </a:lnTo>
                  <a:lnTo>
                    <a:pt x="431" y="713"/>
                  </a:lnTo>
                  <a:lnTo>
                    <a:pt x="415" y="728"/>
                  </a:lnTo>
                  <a:lnTo>
                    <a:pt x="411" y="713"/>
                  </a:lnTo>
                  <a:lnTo>
                    <a:pt x="409" y="698"/>
                  </a:lnTo>
                  <a:lnTo>
                    <a:pt x="408" y="687"/>
                  </a:lnTo>
                  <a:lnTo>
                    <a:pt x="409" y="673"/>
                  </a:lnTo>
                  <a:lnTo>
                    <a:pt x="412" y="663"/>
                  </a:lnTo>
                  <a:lnTo>
                    <a:pt x="415" y="651"/>
                  </a:lnTo>
                  <a:lnTo>
                    <a:pt x="418" y="640"/>
                  </a:lnTo>
                  <a:lnTo>
                    <a:pt x="422" y="630"/>
                  </a:lnTo>
                  <a:lnTo>
                    <a:pt x="431" y="610"/>
                  </a:lnTo>
                  <a:lnTo>
                    <a:pt x="440" y="589"/>
                  </a:lnTo>
                  <a:lnTo>
                    <a:pt x="444" y="578"/>
                  </a:lnTo>
                  <a:lnTo>
                    <a:pt x="447" y="568"/>
                  </a:lnTo>
                  <a:lnTo>
                    <a:pt x="450" y="556"/>
                  </a:lnTo>
                  <a:lnTo>
                    <a:pt x="452" y="544"/>
                  </a:lnTo>
                  <a:lnTo>
                    <a:pt x="459" y="539"/>
                  </a:lnTo>
                  <a:lnTo>
                    <a:pt x="468" y="533"/>
                  </a:lnTo>
                  <a:lnTo>
                    <a:pt x="478" y="528"/>
                  </a:lnTo>
                  <a:lnTo>
                    <a:pt x="488" y="523"/>
                  </a:lnTo>
                  <a:lnTo>
                    <a:pt x="497" y="516"/>
                  </a:lnTo>
                  <a:lnTo>
                    <a:pt x="504" y="510"/>
                  </a:lnTo>
                  <a:lnTo>
                    <a:pt x="507" y="504"/>
                  </a:lnTo>
                  <a:lnTo>
                    <a:pt x="509" y="499"/>
                  </a:lnTo>
                  <a:lnTo>
                    <a:pt x="511" y="493"/>
                  </a:lnTo>
                  <a:lnTo>
                    <a:pt x="512" y="485"/>
                  </a:lnTo>
                  <a:lnTo>
                    <a:pt x="511" y="485"/>
                  </a:lnTo>
                  <a:lnTo>
                    <a:pt x="511" y="485"/>
                  </a:lnTo>
                  <a:lnTo>
                    <a:pt x="500" y="493"/>
                  </a:lnTo>
                  <a:lnTo>
                    <a:pt x="490" y="502"/>
                  </a:lnTo>
                  <a:lnTo>
                    <a:pt x="478" y="511"/>
                  </a:lnTo>
                  <a:lnTo>
                    <a:pt x="466" y="518"/>
                  </a:lnTo>
                  <a:lnTo>
                    <a:pt x="454" y="524"/>
                  </a:lnTo>
                  <a:lnTo>
                    <a:pt x="442" y="527"/>
                  </a:lnTo>
                  <a:lnTo>
                    <a:pt x="436" y="528"/>
                  </a:lnTo>
                  <a:lnTo>
                    <a:pt x="430" y="528"/>
                  </a:lnTo>
                  <a:lnTo>
                    <a:pt x="424" y="527"/>
                  </a:lnTo>
                  <a:lnTo>
                    <a:pt x="418" y="526"/>
                  </a:lnTo>
                  <a:lnTo>
                    <a:pt x="417" y="523"/>
                  </a:lnTo>
                  <a:lnTo>
                    <a:pt x="417" y="520"/>
                  </a:lnTo>
                  <a:lnTo>
                    <a:pt x="433" y="506"/>
                  </a:lnTo>
                  <a:lnTo>
                    <a:pt x="453" y="489"/>
                  </a:lnTo>
                  <a:lnTo>
                    <a:pt x="461" y="478"/>
                  </a:lnTo>
                  <a:lnTo>
                    <a:pt x="469" y="469"/>
                  </a:lnTo>
                  <a:lnTo>
                    <a:pt x="472" y="463"/>
                  </a:lnTo>
                  <a:lnTo>
                    <a:pt x="474" y="458"/>
                  </a:lnTo>
                  <a:lnTo>
                    <a:pt x="476" y="453"/>
                  </a:lnTo>
                  <a:lnTo>
                    <a:pt x="477" y="449"/>
                  </a:lnTo>
                  <a:lnTo>
                    <a:pt x="475" y="446"/>
                  </a:lnTo>
                  <a:lnTo>
                    <a:pt x="474" y="445"/>
                  </a:lnTo>
                  <a:lnTo>
                    <a:pt x="447" y="469"/>
                  </a:lnTo>
                  <a:lnTo>
                    <a:pt x="420" y="493"/>
                  </a:lnTo>
                  <a:lnTo>
                    <a:pt x="393" y="514"/>
                  </a:lnTo>
                  <a:lnTo>
                    <a:pt x="364" y="533"/>
                  </a:lnTo>
                  <a:lnTo>
                    <a:pt x="336" y="551"/>
                  </a:lnTo>
                  <a:lnTo>
                    <a:pt x="306" y="566"/>
                  </a:lnTo>
                  <a:lnTo>
                    <a:pt x="276" y="580"/>
                  </a:lnTo>
                  <a:lnTo>
                    <a:pt x="244" y="592"/>
                  </a:lnTo>
                  <a:lnTo>
                    <a:pt x="216" y="597"/>
                  </a:lnTo>
                  <a:lnTo>
                    <a:pt x="180" y="603"/>
                  </a:lnTo>
                  <a:lnTo>
                    <a:pt x="160" y="606"/>
                  </a:lnTo>
                  <a:lnTo>
                    <a:pt x="139" y="609"/>
                  </a:lnTo>
                  <a:lnTo>
                    <a:pt x="118" y="610"/>
                  </a:lnTo>
                  <a:lnTo>
                    <a:pt x="97" y="609"/>
                  </a:lnTo>
                  <a:lnTo>
                    <a:pt x="77" y="607"/>
                  </a:lnTo>
                  <a:lnTo>
                    <a:pt x="58" y="603"/>
                  </a:lnTo>
                  <a:lnTo>
                    <a:pt x="49" y="599"/>
                  </a:lnTo>
                  <a:lnTo>
                    <a:pt x="41" y="597"/>
                  </a:lnTo>
                  <a:lnTo>
                    <a:pt x="34" y="592"/>
                  </a:lnTo>
                  <a:lnTo>
                    <a:pt x="26" y="588"/>
                  </a:lnTo>
                  <a:lnTo>
                    <a:pt x="20" y="581"/>
                  </a:lnTo>
                  <a:lnTo>
                    <a:pt x="14" y="574"/>
                  </a:lnTo>
                  <a:lnTo>
                    <a:pt x="9" y="568"/>
                  </a:lnTo>
                  <a:lnTo>
                    <a:pt x="6" y="560"/>
                  </a:lnTo>
                  <a:lnTo>
                    <a:pt x="3" y="551"/>
                  </a:lnTo>
                  <a:lnTo>
                    <a:pt x="1" y="540"/>
                  </a:lnTo>
                  <a:lnTo>
                    <a:pt x="0" y="529"/>
                  </a:lnTo>
                  <a:lnTo>
                    <a:pt x="0" y="516"/>
                  </a:lnTo>
                  <a:lnTo>
                    <a:pt x="18" y="479"/>
                  </a:lnTo>
                  <a:lnTo>
                    <a:pt x="38" y="442"/>
                  </a:lnTo>
                  <a:lnTo>
                    <a:pt x="56" y="405"/>
                  </a:lnTo>
                  <a:lnTo>
                    <a:pt x="76" y="368"/>
                  </a:lnTo>
                  <a:lnTo>
                    <a:pt x="95" y="331"/>
                  </a:lnTo>
                  <a:lnTo>
                    <a:pt x="115" y="294"/>
                  </a:lnTo>
                  <a:lnTo>
                    <a:pt x="135" y="259"/>
                  </a:lnTo>
                  <a:lnTo>
                    <a:pt x="156" y="222"/>
                  </a:lnTo>
                  <a:lnTo>
                    <a:pt x="177" y="193"/>
                  </a:lnTo>
                  <a:lnTo>
                    <a:pt x="201" y="158"/>
                  </a:lnTo>
                  <a:lnTo>
                    <a:pt x="227" y="123"/>
                  </a:lnTo>
                  <a:lnTo>
                    <a:pt x="253" y="87"/>
                  </a:lnTo>
                  <a:lnTo>
                    <a:pt x="268" y="70"/>
                  </a:lnTo>
                  <a:lnTo>
                    <a:pt x="282" y="54"/>
                  </a:lnTo>
                  <a:lnTo>
                    <a:pt x="296" y="40"/>
                  </a:lnTo>
                  <a:lnTo>
                    <a:pt x="311" y="28"/>
                  </a:lnTo>
                  <a:lnTo>
                    <a:pt x="326" y="17"/>
                  </a:lnTo>
                  <a:lnTo>
                    <a:pt x="342" y="8"/>
                  </a:lnTo>
                  <a:lnTo>
                    <a:pt x="350" y="5"/>
                  </a:lnTo>
                  <a:lnTo>
                    <a:pt x="357" y="3"/>
                  </a:lnTo>
                  <a:lnTo>
                    <a:pt x="365" y="1"/>
                  </a:lnTo>
                  <a:lnTo>
                    <a:pt x="374" y="0"/>
                  </a:lnTo>
                  <a:lnTo>
                    <a:pt x="361" y="17"/>
                  </a:lnTo>
                  <a:lnTo>
                    <a:pt x="348" y="36"/>
                  </a:lnTo>
                  <a:lnTo>
                    <a:pt x="336" y="55"/>
                  </a:lnTo>
                  <a:lnTo>
                    <a:pt x="324" y="77"/>
                  </a:lnTo>
                  <a:lnTo>
                    <a:pt x="320" y="87"/>
                  </a:lnTo>
                  <a:lnTo>
                    <a:pt x="316" y="98"/>
                  </a:lnTo>
                  <a:lnTo>
                    <a:pt x="314" y="110"/>
                  </a:lnTo>
                  <a:lnTo>
                    <a:pt x="312" y="121"/>
                  </a:lnTo>
                  <a:lnTo>
                    <a:pt x="312" y="133"/>
                  </a:lnTo>
                  <a:lnTo>
                    <a:pt x="313" y="145"/>
                  </a:lnTo>
                  <a:lnTo>
                    <a:pt x="316" y="157"/>
                  </a:lnTo>
                  <a:lnTo>
                    <a:pt x="320" y="170"/>
                  </a:lnTo>
                  <a:lnTo>
                    <a:pt x="326" y="178"/>
                  </a:lnTo>
                  <a:lnTo>
                    <a:pt x="333" y="185"/>
                  </a:lnTo>
                  <a:lnTo>
                    <a:pt x="341" y="188"/>
                  </a:lnTo>
                  <a:lnTo>
                    <a:pt x="349" y="190"/>
                  </a:lnTo>
                  <a:lnTo>
                    <a:pt x="356" y="189"/>
                  </a:lnTo>
                  <a:lnTo>
                    <a:pt x="364" y="188"/>
                  </a:lnTo>
                  <a:lnTo>
                    <a:pt x="372" y="185"/>
                  </a:lnTo>
                  <a:lnTo>
                    <a:pt x="380" y="181"/>
                  </a:lnTo>
                  <a:lnTo>
                    <a:pt x="396" y="169"/>
                  </a:lnTo>
                  <a:lnTo>
                    <a:pt x="412" y="156"/>
                  </a:lnTo>
                  <a:lnTo>
                    <a:pt x="427" y="143"/>
                  </a:lnTo>
                  <a:lnTo>
                    <a:pt x="440" y="131"/>
                  </a:lnTo>
                  <a:lnTo>
                    <a:pt x="442" y="131"/>
                  </a:lnTo>
                  <a:lnTo>
                    <a:pt x="444" y="129"/>
                  </a:lnTo>
                  <a:lnTo>
                    <a:pt x="452" y="144"/>
                  </a:lnTo>
                  <a:lnTo>
                    <a:pt x="461" y="155"/>
                  </a:lnTo>
                  <a:lnTo>
                    <a:pt x="469" y="162"/>
                  </a:lnTo>
                  <a:lnTo>
                    <a:pt x="479" y="170"/>
                  </a:lnTo>
                  <a:lnTo>
                    <a:pt x="490" y="174"/>
                  </a:lnTo>
                  <a:lnTo>
                    <a:pt x="500" y="177"/>
                  </a:lnTo>
                  <a:lnTo>
                    <a:pt x="510" y="178"/>
                  </a:lnTo>
                  <a:lnTo>
                    <a:pt x="521" y="177"/>
                  </a:lnTo>
                  <a:lnTo>
                    <a:pt x="532" y="174"/>
                  </a:lnTo>
                  <a:lnTo>
                    <a:pt x="542" y="170"/>
                  </a:lnTo>
                  <a:lnTo>
                    <a:pt x="553" y="165"/>
                  </a:lnTo>
                  <a:lnTo>
                    <a:pt x="564" y="157"/>
                  </a:lnTo>
                  <a:lnTo>
                    <a:pt x="573" y="149"/>
                  </a:lnTo>
                  <a:lnTo>
                    <a:pt x="583" y="139"/>
                  </a:lnTo>
                  <a:lnTo>
                    <a:pt x="591" y="128"/>
                  </a:lnTo>
                  <a:lnTo>
                    <a:pt x="600" y="116"/>
                  </a:lnTo>
                  <a:lnTo>
                    <a:pt x="604" y="103"/>
                  </a:lnTo>
                  <a:lnTo>
                    <a:pt x="606" y="90"/>
                  </a:lnTo>
                  <a:lnTo>
                    <a:pt x="609" y="86"/>
                  </a:lnTo>
                  <a:lnTo>
                    <a:pt x="611" y="82"/>
                  </a:lnTo>
                  <a:lnTo>
                    <a:pt x="612" y="77"/>
                  </a:lnTo>
                  <a:lnTo>
                    <a:pt x="613" y="73"/>
                  </a:lnTo>
                  <a:lnTo>
                    <a:pt x="620" y="74"/>
                  </a:lnTo>
                  <a:lnTo>
                    <a:pt x="629" y="75"/>
                  </a:lnTo>
                  <a:lnTo>
                    <a:pt x="644" y="79"/>
                  </a:lnTo>
                  <a:lnTo>
                    <a:pt x="668" y="83"/>
                  </a:lnTo>
                  <a:lnTo>
                    <a:pt x="668" y="85"/>
                  </a:lnTo>
                  <a:lnTo>
                    <a:pt x="669" y="86"/>
                  </a:lnTo>
                  <a:lnTo>
                    <a:pt x="663" y="96"/>
                  </a:lnTo>
                  <a:lnTo>
                    <a:pt x="658" y="108"/>
                  </a:lnTo>
                  <a:lnTo>
                    <a:pt x="653" y="123"/>
                  </a:lnTo>
                  <a:lnTo>
                    <a:pt x="648" y="137"/>
                  </a:lnTo>
                  <a:lnTo>
                    <a:pt x="644" y="152"/>
                  </a:lnTo>
                  <a:lnTo>
                    <a:pt x="640" y="168"/>
                  </a:lnTo>
                  <a:lnTo>
                    <a:pt x="636" y="184"/>
                  </a:lnTo>
                  <a:lnTo>
                    <a:pt x="634" y="199"/>
                  </a:lnTo>
                  <a:lnTo>
                    <a:pt x="634" y="217"/>
                  </a:lnTo>
                  <a:lnTo>
                    <a:pt x="634" y="231"/>
                  </a:lnTo>
                  <a:lnTo>
                    <a:pt x="636" y="247"/>
                  </a:lnTo>
                  <a:lnTo>
                    <a:pt x="640" y="261"/>
                  </a:lnTo>
                  <a:lnTo>
                    <a:pt x="645" y="275"/>
                  </a:lnTo>
                  <a:lnTo>
                    <a:pt x="651" y="287"/>
                  </a:lnTo>
                  <a:lnTo>
                    <a:pt x="655" y="292"/>
                  </a:lnTo>
                  <a:lnTo>
                    <a:pt x="660" y="297"/>
                  </a:lnTo>
                  <a:lnTo>
                    <a:pt x="665" y="302"/>
                  </a:lnTo>
                  <a:lnTo>
                    <a:pt x="670" y="306"/>
                  </a:lnTo>
                  <a:lnTo>
                    <a:pt x="685" y="313"/>
                  </a:lnTo>
                  <a:lnTo>
                    <a:pt x="699" y="321"/>
                  </a:lnTo>
                  <a:lnTo>
                    <a:pt x="706" y="330"/>
                  </a:lnTo>
                  <a:lnTo>
                    <a:pt x="711" y="341"/>
                  </a:lnTo>
                  <a:lnTo>
                    <a:pt x="717" y="353"/>
                  </a:lnTo>
                  <a:lnTo>
                    <a:pt x="721" y="364"/>
                  </a:lnTo>
                  <a:lnTo>
                    <a:pt x="727" y="387"/>
                  </a:lnTo>
                  <a:lnTo>
                    <a:pt x="733" y="409"/>
                  </a:lnTo>
                  <a:lnTo>
                    <a:pt x="736" y="419"/>
                  </a:lnTo>
                  <a:lnTo>
                    <a:pt x="740" y="427"/>
                  </a:lnTo>
                  <a:lnTo>
                    <a:pt x="746" y="434"/>
                  </a:lnTo>
                  <a:lnTo>
                    <a:pt x="753" y="438"/>
                  </a:lnTo>
                  <a:lnTo>
                    <a:pt x="761" y="442"/>
                  </a:lnTo>
                  <a:lnTo>
                    <a:pt x="770" y="444"/>
                  </a:lnTo>
                  <a:lnTo>
                    <a:pt x="782" y="442"/>
                  </a:lnTo>
                  <a:lnTo>
                    <a:pt x="796" y="437"/>
                  </a:lnTo>
                  <a:lnTo>
                    <a:pt x="797" y="454"/>
                  </a:lnTo>
                  <a:lnTo>
                    <a:pt x="798" y="470"/>
                  </a:lnTo>
                  <a:lnTo>
                    <a:pt x="800" y="487"/>
                  </a:lnTo>
                  <a:lnTo>
                    <a:pt x="803" y="504"/>
                  </a:lnTo>
                  <a:lnTo>
                    <a:pt x="806" y="512"/>
                  </a:lnTo>
                  <a:lnTo>
                    <a:pt x="808" y="520"/>
                  </a:lnTo>
                  <a:lnTo>
                    <a:pt x="811" y="529"/>
                  </a:lnTo>
                  <a:lnTo>
                    <a:pt x="812" y="539"/>
                  </a:lnTo>
                  <a:lnTo>
                    <a:pt x="802" y="547"/>
                  </a:lnTo>
                  <a:lnTo>
                    <a:pt x="792" y="556"/>
                  </a:lnTo>
                  <a:lnTo>
                    <a:pt x="781" y="566"/>
                  </a:lnTo>
                  <a:lnTo>
                    <a:pt x="773" y="577"/>
                  </a:lnTo>
                  <a:lnTo>
                    <a:pt x="756" y="589"/>
                  </a:lnTo>
                  <a:lnTo>
                    <a:pt x="734" y="605"/>
                  </a:lnTo>
                  <a:lnTo>
                    <a:pt x="725" y="614"/>
                  </a:lnTo>
                  <a:lnTo>
                    <a:pt x="717" y="623"/>
                  </a:lnTo>
                  <a:lnTo>
                    <a:pt x="715" y="629"/>
                  </a:lnTo>
                  <a:lnTo>
                    <a:pt x="711" y="634"/>
                  </a:lnTo>
                  <a:lnTo>
                    <a:pt x="710" y="639"/>
                  </a:lnTo>
                  <a:lnTo>
                    <a:pt x="710" y="646"/>
                  </a:lnTo>
                  <a:lnTo>
                    <a:pt x="714" y="646"/>
                  </a:lnTo>
                  <a:lnTo>
                    <a:pt x="718" y="644"/>
                  </a:lnTo>
                  <a:lnTo>
                    <a:pt x="723" y="642"/>
                  </a:lnTo>
                  <a:lnTo>
                    <a:pt x="729" y="636"/>
                  </a:lnTo>
                  <a:lnTo>
                    <a:pt x="743" y="625"/>
                  </a:lnTo>
                  <a:lnTo>
                    <a:pt x="760" y="609"/>
                  </a:lnTo>
                  <a:lnTo>
                    <a:pt x="775" y="594"/>
                  </a:lnTo>
                  <a:lnTo>
                    <a:pt x="790" y="580"/>
                  </a:lnTo>
                  <a:lnTo>
                    <a:pt x="797" y="574"/>
                  </a:lnTo>
                  <a:lnTo>
                    <a:pt x="802" y="570"/>
                  </a:lnTo>
                  <a:lnTo>
                    <a:pt x="807" y="569"/>
                  </a:lnTo>
                  <a:lnTo>
                    <a:pt x="810" y="568"/>
                  </a:lnTo>
                  <a:lnTo>
                    <a:pt x="807" y="573"/>
                  </a:lnTo>
                  <a:lnTo>
                    <a:pt x="805" y="578"/>
                  </a:lnTo>
                  <a:lnTo>
                    <a:pt x="803" y="584"/>
                  </a:lnTo>
                  <a:lnTo>
                    <a:pt x="802" y="590"/>
                  </a:lnTo>
                  <a:lnTo>
                    <a:pt x="802" y="603"/>
                  </a:lnTo>
                  <a:lnTo>
                    <a:pt x="802" y="618"/>
                  </a:lnTo>
                  <a:lnTo>
                    <a:pt x="806" y="627"/>
                  </a:lnTo>
                  <a:lnTo>
                    <a:pt x="811" y="634"/>
                  </a:lnTo>
                  <a:lnTo>
                    <a:pt x="816" y="639"/>
                  </a:lnTo>
                  <a:lnTo>
                    <a:pt x="822" y="643"/>
                  </a:lnTo>
                  <a:lnTo>
                    <a:pt x="829" y="646"/>
                  </a:lnTo>
                  <a:lnTo>
                    <a:pt x="836" y="646"/>
                  </a:lnTo>
                  <a:lnTo>
                    <a:pt x="843" y="646"/>
                  </a:lnTo>
                  <a:lnTo>
                    <a:pt x="850" y="643"/>
                  </a:lnTo>
                  <a:lnTo>
                    <a:pt x="858" y="639"/>
                  </a:lnTo>
                  <a:lnTo>
                    <a:pt x="867" y="635"/>
                  </a:lnTo>
                  <a:lnTo>
                    <a:pt x="875" y="629"/>
                  </a:lnTo>
                  <a:lnTo>
                    <a:pt x="883" y="622"/>
                  </a:lnTo>
                  <a:lnTo>
                    <a:pt x="891" y="614"/>
                  </a:lnTo>
                  <a:lnTo>
                    <a:pt x="900" y="606"/>
                  </a:lnTo>
                  <a:lnTo>
                    <a:pt x="909" y="597"/>
                  </a:lnTo>
                  <a:lnTo>
                    <a:pt x="917" y="586"/>
                  </a:lnTo>
                  <a:lnTo>
                    <a:pt x="932" y="564"/>
                  </a:lnTo>
                  <a:lnTo>
                    <a:pt x="948" y="540"/>
                  </a:lnTo>
                  <a:lnTo>
                    <a:pt x="954" y="527"/>
                  </a:lnTo>
                  <a:lnTo>
                    <a:pt x="960" y="514"/>
                  </a:lnTo>
                  <a:lnTo>
                    <a:pt x="966" y="500"/>
                  </a:lnTo>
                  <a:lnTo>
                    <a:pt x="971" y="487"/>
                  </a:lnTo>
                  <a:lnTo>
                    <a:pt x="975" y="474"/>
                  </a:lnTo>
                  <a:lnTo>
                    <a:pt x="979" y="461"/>
                  </a:lnTo>
                  <a:lnTo>
                    <a:pt x="982" y="448"/>
                  </a:lnTo>
                  <a:lnTo>
                    <a:pt x="984" y="434"/>
                  </a:lnTo>
                  <a:lnTo>
                    <a:pt x="985" y="421"/>
                  </a:lnTo>
                  <a:lnTo>
                    <a:pt x="985" y="409"/>
                  </a:lnTo>
                  <a:lnTo>
                    <a:pt x="984" y="397"/>
                  </a:lnTo>
                  <a:lnTo>
                    <a:pt x="982" y="386"/>
                  </a:lnTo>
                  <a:lnTo>
                    <a:pt x="975" y="380"/>
                  </a:lnTo>
                  <a:lnTo>
                    <a:pt x="971" y="378"/>
                  </a:lnTo>
                  <a:lnTo>
                    <a:pt x="966" y="374"/>
                  </a:lnTo>
                  <a:lnTo>
                    <a:pt x="962" y="372"/>
                  </a:lnTo>
                  <a:lnTo>
                    <a:pt x="962" y="363"/>
                  </a:lnTo>
                  <a:lnTo>
                    <a:pt x="964" y="354"/>
                  </a:lnTo>
                  <a:lnTo>
                    <a:pt x="966" y="346"/>
                  </a:lnTo>
                  <a:lnTo>
                    <a:pt x="969" y="337"/>
                  </a:lnTo>
                  <a:lnTo>
                    <a:pt x="975" y="318"/>
                  </a:lnTo>
                  <a:lnTo>
                    <a:pt x="982" y="304"/>
                  </a:lnTo>
                  <a:lnTo>
                    <a:pt x="984" y="272"/>
                  </a:lnTo>
                  <a:lnTo>
                    <a:pt x="985" y="242"/>
                  </a:lnTo>
                  <a:lnTo>
                    <a:pt x="985" y="213"/>
                  </a:lnTo>
                  <a:lnTo>
                    <a:pt x="984" y="182"/>
                  </a:lnTo>
                  <a:lnTo>
                    <a:pt x="992" y="180"/>
                  </a:lnTo>
                  <a:lnTo>
                    <a:pt x="1001" y="177"/>
                  </a:lnTo>
                  <a:lnTo>
                    <a:pt x="1004" y="247"/>
                  </a:lnTo>
                  <a:lnTo>
                    <a:pt x="1007" y="317"/>
                  </a:lnTo>
                  <a:lnTo>
                    <a:pt x="1008" y="353"/>
                  </a:lnTo>
                  <a:lnTo>
                    <a:pt x="1008" y="388"/>
                  </a:lnTo>
                  <a:lnTo>
                    <a:pt x="1007" y="424"/>
                  </a:lnTo>
                  <a:lnTo>
                    <a:pt x="1006" y="458"/>
                  </a:lnTo>
                  <a:lnTo>
                    <a:pt x="1004" y="494"/>
                  </a:lnTo>
                  <a:lnTo>
                    <a:pt x="1000" y="528"/>
                  </a:lnTo>
                  <a:lnTo>
                    <a:pt x="996" y="564"/>
                  </a:lnTo>
                  <a:lnTo>
                    <a:pt x="990" y="598"/>
                  </a:lnTo>
                  <a:lnTo>
                    <a:pt x="982" y="631"/>
                  </a:lnTo>
                  <a:lnTo>
                    <a:pt x="973" y="664"/>
                  </a:lnTo>
                  <a:lnTo>
                    <a:pt x="962" y="697"/>
                  </a:lnTo>
                  <a:lnTo>
                    <a:pt x="950" y="730"/>
                  </a:lnTo>
                  <a:lnTo>
                    <a:pt x="933" y="759"/>
                  </a:lnTo>
                  <a:lnTo>
                    <a:pt x="899" y="821"/>
                  </a:lnTo>
                  <a:lnTo>
                    <a:pt x="866" y="881"/>
                  </a:lnTo>
                  <a:lnTo>
                    <a:pt x="849" y="90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22520" y="4921200"/>
              <a:ext cx="201600" cy="165240"/>
            </a:xfrm>
            <a:custGeom>
              <a:avLst/>
              <a:gdLst/>
              <a:ahLst/>
              <a:rect l="l" t="t" r="r" b="b"/>
              <a:pathLst>
                <a:path w="127" h="104">
                  <a:moveTo>
                    <a:pt x="63" y="104"/>
                  </a:moveTo>
                  <a:lnTo>
                    <a:pt x="53" y="102"/>
                  </a:lnTo>
                  <a:lnTo>
                    <a:pt x="44" y="100"/>
                  </a:lnTo>
                  <a:lnTo>
                    <a:pt x="36" y="97"/>
                  </a:lnTo>
                  <a:lnTo>
                    <a:pt x="29" y="93"/>
                  </a:lnTo>
                  <a:lnTo>
                    <a:pt x="23" y="89"/>
                  </a:lnTo>
                  <a:lnTo>
                    <a:pt x="18" y="85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7" y="68"/>
                  </a:lnTo>
                  <a:lnTo>
                    <a:pt x="5" y="60"/>
                  </a:lnTo>
                  <a:lnTo>
                    <a:pt x="2" y="54"/>
                  </a:lnTo>
                  <a:lnTo>
                    <a:pt x="1" y="46"/>
                  </a:lnTo>
                  <a:lnTo>
                    <a:pt x="0" y="27"/>
                  </a:lnTo>
                  <a:lnTo>
                    <a:pt x="1" y="6"/>
                  </a:lnTo>
                  <a:lnTo>
                    <a:pt x="11" y="2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1" y="1"/>
                  </a:lnTo>
                  <a:lnTo>
                    <a:pt x="83" y="2"/>
                  </a:lnTo>
                  <a:lnTo>
                    <a:pt x="93" y="5"/>
                  </a:lnTo>
                  <a:lnTo>
                    <a:pt x="102" y="7"/>
                  </a:lnTo>
                  <a:lnTo>
                    <a:pt x="110" y="11"/>
                  </a:lnTo>
                  <a:lnTo>
                    <a:pt x="116" y="15"/>
                  </a:lnTo>
                  <a:lnTo>
                    <a:pt x="122" y="22"/>
                  </a:lnTo>
                  <a:lnTo>
                    <a:pt x="123" y="25"/>
                  </a:lnTo>
                  <a:lnTo>
                    <a:pt x="124" y="27"/>
                  </a:lnTo>
                  <a:lnTo>
                    <a:pt x="124" y="31"/>
                  </a:lnTo>
                  <a:lnTo>
                    <a:pt x="123" y="35"/>
                  </a:lnTo>
                  <a:lnTo>
                    <a:pt x="126" y="39"/>
                  </a:lnTo>
                  <a:lnTo>
                    <a:pt x="127" y="44"/>
                  </a:lnTo>
                  <a:lnTo>
                    <a:pt x="127" y="50"/>
                  </a:lnTo>
                  <a:lnTo>
                    <a:pt x="127" y="54"/>
                  </a:lnTo>
                  <a:lnTo>
                    <a:pt x="126" y="59"/>
                  </a:lnTo>
                  <a:lnTo>
                    <a:pt x="124" y="64"/>
                  </a:lnTo>
                  <a:lnTo>
                    <a:pt x="122" y="69"/>
                  </a:lnTo>
                  <a:lnTo>
                    <a:pt x="119" y="73"/>
                  </a:lnTo>
                  <a:lnTo>
                    <a:pt x="112" y="83"/>
                  </a:lnTo>
                  <a:lnTo>
                    <a:pt x="104" y="91"/>
                  </a:lnTo>
                  <a:lnTo>
                    <a:pt x="97" y="97"/>
                  </a:lnTo>
                  <a:lnTo>
                    <a:pt x="90" y="102"/>
                  </a:lnTo>
                  <a:lnTo>
                    <a:pt x="76" y="104"/>
                  </a:lnTo>
                  <a:lnTo>
                    <a:pt x="63" y="10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55600" y="4765680"/>
              <a:ext cx="336600" cy="23004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190" y="145"/>
                  </a:moveTo>
                  <a:lnTo>
                    <a:pt x="169" y="140"/>
                  </a:lnTo>
                  <a:lnTo>
                    <a:pt x="142" y="128"/>
                  </a:lnTo>
                  <a:lnTo>
                    <a:pt x="113" y="115"/>
                  </a:lnTo>
                  <a:lnTo>
                    <a:pt x="82" y="98"/>
                  </a:lnTo>
                  <a:lnTo>
                    <a:pt x="52" y="80"/>
                  </a:lnTo>
                  <a:lnTo>
                    <a:pt x="27" y="63"/>
                  </a:lnTo>
                  <a:lnTo>
                    <a:pt x="17" y="55"/>
                  </a:lnTo>
                  <a:lnTo>
                    <a:pt x="9" y="49"/>
                  </a:lnTo>
                  <a:lnTo>
                    <a:pt x="3" y="42"/>
                  </a:lnTo>
                  <a:lnTo>
                    <a:pt x="0" y="37"/>
                  </a:lnTo>
                  <a:lnTo>
                    <a:pt x="2" y="25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20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50" y="6"/>
                  </a:lnTo>
                  <a:lnTo>
                    <a:pt x="76" y="13"/>
                  </a:lnTo>
                  <a:lnTo>
                    <a:pt x="87" y="17"/>
                  </a:lnTo>
                  <a:lnTo>
                    <a:pt x="98" y="21"/>
                  </a:lnTo>
                  <a:lnTo>
                    <a:pt x="109" y="26"/>
                  </a:lnTo>
                  <a:lnTo>
                    <a:pt x="120" y="31"/>
                  </a:lnTo>
                  <a:lnTo>
                    <a:pt x="131" y="38"/>
                  </a:lnTo>
                  <a:lnTo>
                    <a:pt x="141" y="45"/>
                  </a:lnTo>
                  <a:lnTo>
                    <a:pt x="151" y="54"/>
                  </a:lnTo>
                  <a:lnTo>
                    <a:pt x="161" y="63"/>
                  </a:lnTo>
                  <a:lnTo>
                    <a:pt x="171" y="74"/>
                  </a:lnTo>
                  <a:lnTo>
                    <a:pt x="180" y="86"/>
                  </a:lnTo>
                  <a:lnTo>
                    <a:pt x="191" y="100"/>
                  </a:lnTo>
                  <a:lnTo>
                    <a:pt x="201" y="116"/>
                  </a:lnTo>
                  <a:lnTo>
                    <a:pt x="207" y="120"/>
                  </a:lnTo>
                  <a:lnTo>
                    <a:pt x="211" y="125"/>
                  </a:lnTo>
                  <a:lnTo>
                    <a:pt x="212" y="128"/>
                  </a:lnTo>
                  <a:lnTo>
                    <a:pt x="212" y="131"/>
                  </a:lnTo>
                  <a:lnTo>
                    <a:pt x="212" y="133"/>
                  </a:lnTo>
                  <a:lnTo>
                    <a:pt x="211" y="136"/>
                  </a:lnTo>
                  <a:lnTo>
                    <a:pt x="208" y="140"/>
                  </a:lnTo>
                  <a:lnTo>
                    <a:pt x="204" y="142"/>
                  </a:lnTo>
                  <a:lnTo>
                    <a:pt x="198" y="145"/>
                  </a:lnTo>
                  <a:lnTo>
                    <a:pt x="190" y="14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77880" y="4754520"/>
              <a:ext cx="174600" cy="23652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24" y="149"/>
                  </a:moveTo>
                  <a:lnTo>
                    <a:pt x="19" y="148"/>
                  </a:lnTo>
                  <a:lnTo>
                    <a:pt x="15" y="145"/>
                  </a:lnTo>
                  <a:lnTo>
                    <a:pt x="11" y="143"/>
                  </a:lnTo>
                  <a:lnTo>
                    <a:pt x="8" y="139"/>
                  </a:lnTo>
                  <a:lnTo>
                    <a:pt x="6" y="135"/>
                  </a:lnTo>
                  <a:lnTo>
                    <a:pt x="4" y="131"/>
                  </a:lnTo>
                  <a:lnTo>
                    <a:pt x="2" y="12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1" y="99"/>
                  </a:lnTo>
                  <a:lnTo>
                    <a:pt x="4" y="87"/>
                  </a:lnTo>
                  <a:lnTo>
                    <a:pt x="7" y="75"/>
                  </a:lnTo>
                  <a:lnTo>
                    <a:pt x="12" y="62"/>
                  </a:lnTo>
                  <a:lnTo>
                    <a:pt x="17" y="50"/>
                  </a:lnTo>
                  <a:lnTo>
                    <a:pt x="24" y="38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6" y="11"/>
                  </a:lnTo>
                  <a:lnTo>
                    <a:pt x="54" y="4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8" y="3"/>
                  </a:lnTo>
                  <a:lnTo>
                    <a:pt x="85" y="4"/>
                  </a:lnTo>
                  <a:lnTo>
                    <a:pt x="91" y="7"/>
                  </a:lnTo>
                  <a:lnTo>
                    <a:pt x="96" y="9"/>
                  </a:lnTo>
                  <a:lnTo>
                    <a:pt x="100" y="13"/>
                  </a:lnTo>
                  <a:lnTo>
                    <a:pt x="103" y="17"/>
                  </a:lnTo>
                  <a:lnTo>
                    <a:pt x="106" y="21"/>
                  </a:lnTo>
                  <a:lnTo>
                    <a:pt x="107" y="27"/>
                  </a:lnTo>
                  <a:lnTo>
                    <a:pt x="109" y="31"/>
                  </a:lnTo>
                  <a:lnTo>
                    <a:pt x="110" y="36"/>
                  </a:lnTo>
                  <a:lnTo>
                    <a:pt x="110" y="42"/>
                  </a:lnTo>
                  <a:lnTo>
                    <a:pt x="107" y="53"/>
                  </a:lnTo>
                  <a:lnTo>
                    <a:pt x="103" y="65"/>
                  </a:lnTo>
                  <a:lnTo>
                    <a:pt x="97" y="78"/>
                  </a:lnTo>
                  <a:lnTo>
                    <a:pt x="90" y="90"/>
                  </a:lnTo>
                  <a:lnTo>
                    <a:pt x="82" y="103"/>
                  </a:lnTo>
                  <a:lnTo>
                    <a:pt x="72" y="114"/>
                  </a:lnTo>
                  <a:lnTo>
                    <a:pt x="62" y="124"/>
                  </a:lnTo>
                  <a:lnTo>
                    <a:pt x="52" y="135"/>
                  </a:lnTo>
                  <a:lnTo>
                    <a:pt x="42" y="143"/>
                  </a:lnTo>
                  <a:lnTo>
                    <a:pt x="32" y="149"/>
                  </a:lnTo>
                  <a:lnTo>
                    <a:pt x="28" y="149"/>
                  </a:lnTo>
                  <a:lnTo>
                    <a:pt x="24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4880" y="4786200"/>
              <a:ext cx="119160" cy="176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5" y="111"/>
                  </a:moveTo>
                  <a:lnTo>
                    <a:pt x="2" y="107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1" y="86"/>
                  </a:lnTo>
                  <a:lnTo>
                    <a:pt x="4" y="70"/>
                  </a:lnTo>
                  <a:lnTo>
                    <a:pt x="9" y="53"/>
                  </a:lnTo>
                  <a:lnTo>
                    <a:pt x="17" y="36"/>
                  </a:lnTo>
                  <a:lnTo>
                    <a:pt x="24" y="21"/>
                  </a:ln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4" y="8"/>
                  </a:lnTo>
                  <a:lnTo>
                    <a:pt x="75" y="16"/>
                  </a:lnTo>
                  <a:lnTo>
                    <a:pt x="75" y="25"/>
                  </a:lnTo>
                  <a:lnTo>
                    <a:pt x="73" y="33"/>
                  </a:lnTo>
                  <a:lnTo>
                    <a:pt x="70" y="42"/>
                  </a:lnTo>
                  <a:lnTo>
                    <a:pt x="66" y="52"/>
                  </a:lnTo>
                  <a:lnTo>
                    <a:pt x="62" y="61"/>
                  </a:lnTo>
                  <a:lnTo>
                    <a:pt x="56" y="70"/>
                  </a:lnTo>
                  <a:lnTo>
                    <a:pt x="49" y="78"/>
                  </a:lnTo>
                  <a:lnTo>
                    <a:pt x="43" y="86"/>
                  </a:lnTo>
                  <a:lnTo>
                    <a:pt x="37" y="94"/>
                  </a:lnTo>
                  <a:lnTo>
                    <a:pt x="30" y="99"/>
                  </a:lnTo>
                  <a:lnTo>
                    <a:pt x="24" y="104"/>
                  </a:lnTo>
                  <a:lnTo>
                    <a:pt x="17" y="108"/>
                  </a:lnTo>
                  <a:lnTo>
                    <a:pt x="10" y="111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60600" y="4325760"/>
              <a:ext cx="239760" cy="37944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9" y="239"/>
                  </a:moveTo>
                  <a:lnTo>
                    <a:pt x="5" y="236"/>
                  </a:lnTo>
                  <a:lnTo>
                    <a:pt x="2" y="232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0" y="211"/>
                  </a:lnTo>
                  <a:lnTo>
                    <a:pt x="2" y="198"/>
                  </a:lnTo>
                  <a:lnTo>
                    <a:pt x="5" y="183"/>
                  </a:lnTo>
                  <a:lnTo>
                    <a:pt x="10" y="171"/>
                  </a:lnTo>
                  <a:lnTo>
                    <a:pt x="13" y="159"/>
                  </a:lnTo>
                  <a:lnTo>
                    <a:pt x="16" y="153"/>
                  </a:lnTo>
                  <a:lnTo>
                    <a:pt x="30" y="139"/>
                  </a:lnTo>
                  <a:lnTo>
                    <a:pt x="47" y="124"/>
                  </a:lnTo>
                  <a:lnTo>
                    <a:pt x="64" y="104"/>
                  </a:lnTo>
                  <a:lnTo>
                    <a:pt x="82" y="84"/>
                  </a:lnTo>
                  <a:lnTo>
                    <a:pt x="98" y="62"/>
                  </a:lnTo>
                  <a:lnTo>
                    <a:pt x="112" y="40"/>
                  </a:lnTo>
                  <a:lnTo>
                    <a:pt x="118" y="30"/>
                  </a:lnTo>
                  <a:lnTo>
                    <a:pt x="124" y="19"/>
                  </a:lnTo>
                  <a:lnTo>
                    <a:pt x="128" y="10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2"/>
                  </a:lnTo>
                  <a:lnTo>
                    <a:pt x="145" y="6"/>
                  </a:lnTo>
                  <a:lnTo>
                    <a:pt x="147" y="10"/>
                  </a:lnTo>
                  <a:lnTo>
                    <a:pt x="149" y="15"/>
                  </a:lnTo>
                  <a:lnTo>
                    <a:pt x="151" y="22"/>
                  </a:lnTo>
                  <a:lnTo>
                    <a:pt x="151" y="30"/>
                  </a:lnTo>
                  <a:lnTo>
                    <a:pt x="150" y="38"/>
                  </a:lnTo>
                  <a:lnTo>
                    <a:pt x="149" y="46"/>
                  </a:lnTo>
                  <a:lnTo>
                    <a:pt x="147" y="55"/>
                  </a:lnTo>
                  <a:lnTo>
                    <a:pt x="145" y="66"/>
                  </a:lnTo>
                  <a:lnTo>
                    <a:pt x="142" y="76"/>
                  </a:lnTo>
                  <a:lnTo>
                    <a:pt x="134" y="97"/>
                  </a:lnTo>
                  <a:lnTo>
                    <a:pt x="124" y="120"/>
                  </a:lnTo>
                  <a:lnTo>
                    <a:pt x="111" y="142"/>
                  </a:lnTo>
                  <a:lnTo>
                    <a:pt x="98" y="163"/>
                  </a:lnTo>
                  <a:lnTo>
                    <a:pt x="84" y="183"/>
                  </a:lnTo>
                  <a:lnTo>
                    <a:pt x="69" y="202"/>
                  </a:lnTo>
                  <a:lnTo>
                    <a:pt x="61" y="209"/>
                  </a:lnTo>
                  <a:lnTo>
                    <a:pt x="54" y="216"/>
                  </a:lnTo>
                  <a:lnTo>
                    <a:pt x="46" y="223"/>
                  </a:lnTo>
                  <a:lnTo>
                    <a:pt x="38" y="228"/>
                  </a:lnTo>
                  <a:lnTo>
                    <a:pt x="30" y="233"/>
                  </a:lnTo>
                  <a:lnTo>
                    <a:pt x="23" y="236"/>
                  </a:lnTo>
                  <a:lnTo>
                    <a:pt x="16" y="239"/>
                  </a:lnTo>
                  <a:lnTo>
                    <a:pt x="9" y="23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39840" y="4297320"/>
              <a:ext cx="120600" cy="17316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31" y="109"/>
                  </a:moveTo>
                  <a:lnTo>
                    <a:pt x="24" y="105"/>
                  </a:lnTo>
                  <a:lnTo>
                    <a:pt x="18" y="99"/>
                  </a:lnTo>
                  <a:lnTo>
                    <a:pt x="13" y="94"/>
                  </a:lnTo>
                  <a:lnTo>
                    <a:pt x="9" y="89"/>
                  </a:lnTo>
                  <a:lnTo>
                    <a:pt x="6" y="84"/>
                  </a:lnTo>
                  <a:lnTo>
                    <a:pt x="4" y="77"/>
                  </a:lnTo>
                  <a:lnTo>
                    <a:pt x="2" y="70"/>
                  </a:lnTo>
                  <a:lnTo>
                    <a:pt x="1" y="62"/>
                  </a:lnTo>
                  <a:lnTo>
                    <a:pt x="0" y="48"/>
                  </a:lnTo>
                  <a:lnTo>
                    <a:pt x="2" y="33"/>
                  </a:lnTo>
                  <a:lnTo>
                    <a:pt x="4" y="19"/>
                  </a:lnTo>
                  <a:lnTo>
                    <a:pt x="7" y="4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8" y="20"/>
                  </a:lnTo>
                  <a:lnTo>
                    <a:pt x="71" y="25"/>
                  </a:lnTo>
                  <a:lnTo>
                    <a:pt x="73" y="33"/>
                  </a:lnTo>
                  <a:lnTo>
                    <a:pt x="75" y="43"/>
                  </a:lnTo>
                  <a:lnTo>
                    <a:pt x="76" y="53"/>
                  </a:lnTo>
                  <a:lnTo>
                    <a:pt x="75" y="65"/>
                  </a:lnTo>
                  <a:lnTo>
                    <a:pt x="71" y="77"/>
                  </a:lnTo>
                  <a:lnTo>
                    <a:pt x="67" y="86"/>
                  </a:lnTo>
                  <a:lnTo>
                    <a:pt x="64" y="93"/>
                  </a:lnTo>
                  <a:lnTo>
                    <a:pt x="59" y="99"/>
                  </a:lnTo>
                  <a:lnTo>
                    <a:pt x="53" y="103"/>
                  </a:lnTo>
                  <a:lnTo>
                    <a:pt x="47" y="106"/>
                  </a:lnTo>
                  <a:lnTo>
                    <a:pt x="40" y="107"/>
                  </a:lnTo>
                  <a:lnTo>
                    <a:pt x="3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5400" y="4327560"/>
              <a:ext cx="71280" cy="1141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17" y="72"/>
                  </a:moveTo>
                  <a:lnTo>
                    <a:pt x="12" y="66"/>
                  </a:lnTo>
                  <a:lnTo>
                    <a:pt x="8" y="58"/>
                  </a:lnTo>
                  <a:lnTo>
                    <a:pt x="5" y="50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3" y="18"/>
                  </a:lnTo>
                  <a:lnTo>
                    <a:pt x="44" y="26"/>
                  </a:lnTo>
                  <a:lnTo>
                    <a:pt x="45" y="33"/>
                  </a:lnTo>
                  <a:lnTo>
                    <a:pt x="44" y="41"/>
                  </a:lnTo>
                  <a:lnTo>
                    <a:pt x="42" y="49"/>
                  </a:lnTo>
                  <a:lnTo>
                    <a:pt x="39" y="55"/>
                  </a:lnTo>
                  <a:lnTo>
                    <a:pt x="35" y="62"/>
                  </a:lnTo>
                  <a:lnTo>
                    <a:pt x="30" y="67"/>
                  </a:lnTo>
                  <a:lnTo>
                    <a:pt x="24" y="71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5280" y="3862440"/>
              <a:ext cx="227160" cy="523800"/>
            </a:xfrm>
            <a:custGeom>
              <a:avLst/>
              <a:gdLst/>
              <a:ahLst/>
              <a:rect l="l" t="t" r="r" b="b"/>
              <a:pathLst>
                <a:path w="143" h="330">
                  <a:moveTo>
                    <a:pt x="114" y="330"/>
                  </a:moveTo>
                  <a:lnTo>
                    <a:pt x="109" y="325"/>
                  </a:lnTo>
                  <a:lnTo>
                    <a:pt x="105" y="319"/>
                  </a:lnTo>
                  <a:lnTo>
                    <a:pt x="102" y="314"/>
                  </a:lnTo>
                  <a:lnTo>
                    <a:pt x="99" y="307"/>
                  </a:lnTo>
                  <a:lnTo>
                    <a:pt x="93" y="294"/>
                  </a:lnTo>
                  <a:lnTo>
                    <a:pt x="89" y="280"/>
                  </a:lnTo>
                  <a:lnTo>
                    <a:pt x="85" y="265"/>
                  </a:lnTo>
                  <a:lnTo>
                    <a:pt x="81" y="251"/>
                  </a:lnTo>
                  <a:lnTo>
                    <a:pt x="76" y="236"/>
                  </a:lnTo>
                  <a:lnTo>
                    <a:pt x="69" y="224"/>
                  </a:lnTo>
                  <a:lnTo>
                    <a:pt x="55" y="211"/>
                  </a:lnTo>
                  <a:lnTo>
                    <a:pt x="44" y="202"/>
                  </a:lnTo>
                  <a:lnTo>
                    <a:pt x="32" y="195"/>
                  </a:lnTo>
                  <a:lnTo>
                    <a:pt x="18" y="187"/>
                  </a:lnTo>
                  <a:lnTo>
                    <a:pt x="13" y="179"/>
                  </a:lnTo>
                  <a:lnTo>
                    <a:pt x="8" y="169"/>
                  </a:lnTo>
                  <a:lnTo>
                    <a:pt x="5" y="157"/>
                  </a:lnTo>
                  <a:lnTo>
                    <a:pt x="2" y="144"/>
                  </a:lnTo>
                  <a:lnTo>
                    <a:pt x="1" y="129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5" y="57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18" y="22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40" y="5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70" y="16"/>
                  </a:lnTo>
                  <a:lnTo>
                    <a:pt x="77" y="22"/>
                  </a:lnTo>
                  <a:lnTo>
                    <a:pt x="84" y="31"/>
                  </a:lnTo>
                  <a:lnTo>
                    <a:pt x="90" y="42"/>
                  </a:lnTo>
                  <a:lnTo>
                    <a:pt x="96" y="53"/>
                  </a:lnTo>
                  <a:lnTo>
                    <a:pt x="108" y="74"/>
                  </a:lnTo>
                  <a:lnTo>
                    <a:pt x="118" y="96"/>
                  </a:lnTo>
                  <a:lnTo>
                    <a:pt x="126" y="117"/>
                  </a:lnTo>
                  <a:lnTo>
                    <a:pt x="132" y="134"/>
                  </a:lnTo>
                  <a:lnTo>
                    <a:pt x="137" y="153"/>
                  </a:lnTo>
                  <a:lnTo>
                    <a:pt x="139" y="171"/>
                  </a:lnTo>
                  <a:lnTo>
                    <a:pt x="141" y="190"/>
                  </a:lnTo>
                  <a:lnTo>
                    <a:pt x="142" y="207"/>
                  </a:lnTo>
                  <a:lnTo>
                    <a:pt x="143" y="244"/>
                  </a:lnTo>
                  <a:lnTo>
                    <a:pt x="142" y="284"/>
                  </a:lnTo>
                  <a:lnTo>
                    <a:pt x="140" y="286"/>
                  </a:lnTo>
                  <a:lnTo>
                    <a:pt x="137" y="288"/>
                  </a:lnTo>
                  <a:lnTo>
                    <a:pt x="137" y="295"/>
                  </a:lnTo>
                  <a:lnTo>
                    <a:pt x="136" y="302"/>
                  </a:lnTo>
                  <a:lnTo>
                    <a:pt x="134" y="309"/>
                  </a:lnTo>
                  <a:lnTo>
                    <a:pt x="131" y="315"/>
                  </a:lnTo>
                  <a:lnTo>
                    <a:pt x="128" y="321"/>
                  </a:lnTo>
                  <a:lnTo>
                    <a:pt x="124" y="325"/>
                  </a:lnTo>
                  <a:lnTo>
                    <a:pt x="120" y="327"/>
                  </a:lnTo>
                  <a:lnTo>
                    <a:pt x="114" y="33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2960" y="2998800"/>
              <a:ext cx="1117440" cy="977760"/>
            </a:xfrm>
            <a:custGeom>
              <a:avLst/>
              <a:gdLst/>
              <a:ahLst/>
              <a:rect l="l" t="t" r="r" b="b"/>
              <a:pathLst>
                <a:path w="704" h="616">
                  <a:moveTo>
                    <a:pt x="101" y="616"/>
                  </a:moveTo>
                  <a:lnTo>
                    <a:pt x="97" y="611"/>
                  </a:lnTo>
                  <a:lnTo>
                    <a:pt x="92" y="606"/>
                  </a:lnTo>
                  <a:lnTo>
                    <a:pt x="89" y="599"/>
                  </a:lnTo>
                  <a:lnTo>
                    <a:pt x="87" y="594"/>
                  </a:lnTo>
                  <a:lnTo>
                    <a:pt x="86" y="587"/>
                  </a:lnTo>
                  <a:lnTo>
                    <a:pt x="85" y="581"/>
                  </a:lnTo>
                  <a:lnTo>
                    <a:pt x="85" y="575"/>
                  </a:lnTo>
                  <a:lnTo>
                    <a:pt x="86" y="569"/>
                  </a:lnTo>
                  <a:lnTo>
                    <a:pt x="88" y="556"/>
                  </a:lnTo>
                  <a:lnTo>
                    <a:pt x="92" y="544"/>
                  </a:lnTo>
                  <a:lnTo>
                    <a:pt x="98" y="531"/>
                  </a:lnTo>
                  <a:lnTo>
                    <a:pt x="105" y="519"/>
                  </a:lnTo>
                  <a:lnTo>
                    <a:pt x="120" y="495"/>
                  </a:lnTo>
                  <a:lnTo>
                    <a:pt x="137" y="472"/>
                  </a:lnTo>
                  <a:lnTo>
                    <a:pt x="152" y="453"/>
                  </a:lnTo>
                  <a:lnTo>
                    <a:pt x="162" y="437"/>
                  </a:lnTo>
                  <a:lnTo>
                    <a:pt x="162" y="430"/>
                  </a:lnTo>
                  <a:lnTo>
                    <a:pt x="161" y="426"/>
                  </a:lnTo>
                  <a:lnTo>
                    <a:pt x="159" y="421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9" y="412"/>
                  </a:lnTo>
                  <a:lnTo>
                    <a:pt x="145" y="409"/>
                  </a:lnTo>
                  <a:lnTo>
                    <a:pt x="140" y="408"/>
                  </a:lnTo>
                  <a:lnTo>
                    <a:pt x="128" y="405"/>
                  </a:lnTo>
                  <a:lnTo>
                    <a:pt x="115" y="404"/>
                  </a:lnTo>
                  <a:lnTo>
                    <a:pt x="102" y="402"/>
                  </a:lnTo>
                  <a:lnTo>
                    <a:pt x="87" y="402"/>
                  </a:lnTo>
                  <a:lnTo>
                    <a:pt x="73" y="401"/>
                  </a:lnTo>
                  <a:lnTo>
                    <a:pt x="59" y="400"/>
                  </a:lnTo>
                  <a:lnTo>
                    <a:pt x="45" y="397"/>
                  </a:lnTo>
                  <a:lnTo>
                    <a:pt x="33" y="393"/>
                  </a:lnTo>
                  <a:lnTo>
                    <a:pt x="27" y="391"/>
                  </a:lnTo>
                  <a:lnTo>
                    <a:pt x="22" y="387"/>
                  </a:lnTo>
                  <a:lnTo>
                    <a:pt x="16" y="383"/>
                  </a:lnTo>
                  <a:lnTo>
                    <a:pt x="11" y="379"/>
                  </a:lnTo>
                  <a:lnTo>
                    <a:pt x="8" y="373"/>
                  </a:lnTo>
                  <a:lnTo>
                    <a:pt x="4" y="368"/>
                  </a:lnTo>
                  <a:lnTo>
                    <a:pt x="2" y="362"/>
                  </a:lnTo>
                  <a:lnTo>
                    <a:pt x="0" y="354"/>
                  </a:lnTo>
                  <a:lnTo>
                    <a:pt x="3" y="332"/>
                  </a:lnTo>
                  <a:lnTo>
                    <a:pt x="7" y="317"/>
                  </a:lnTo>
                  <a:lnTo>
                    <a:pt x="9" y="311"/>
                  </a:lnTo>
                  <a:lnTo>
                    <a:pt x="12" y="306"/>
                  </a:lnTo>
                  <a:lnTo>
                    <a:pt x="15" y="302"/>
                  </a:lnTo>
                  <a:lnTo>
                    <a:pt x="19" y="298"/>
                  </a:lnTo>
                  <a:lnTo>
                    <a:pt x="27" y="293"/>
                  </a:lnTo>
                  <a:lnTo>
                    <a:pt x="37" y="288"/>
                  </a:lnTo>
                  <a:lnTo>
                    <a:pt x="50" y="285"/>
                  </a:lnTo>
                  <a:lnTo>
                    <a:pt x="66" y="281"/>
                  </a:lnTo>
                  <a:lnTo>
                    <a:pt x="108" y="278"/>
                  </a:lnTo>
                  <a:lnTo>
                    <a:pt x="135" y="276"/>
                  </a:lnTo>
                  <a:lnTo>
                    <a:pt x="155" y="274"/>
                  </a:lnTo>
                  <a:lnTo>
                    <a:pt x="182" y="270"/>
                  </a:lnTo>
                  <a:lnTo>
                    <a:pt x="186" y="269"/>
                  </a:lnTo>
                  <a:lnTo>
                    <a:pt x="190" y="268"/>
                  </a:lnTo>
                  <a:lnTo>
                    <a:pt x="192" y="266"/>
                  </a:lnTo>
                  <a:lnTo>
                    <a:pt x="195" y="264"/>
                  </a:lnTo>
                  <a:lnTo>
                    <a:pt x="196" y="261"/>
                  </a:lnTo>
                  <a:lnTo>
                    <a:pt x="197" y="259"/>
                  </a:lnTo>
                  <a:lnTo>
                    <a:pt x="197" y="256"/>
                  </a:lnTo>
                  <a:lnTo>
                    <a:pt x="196" y="253"/>
                  </a:lnTo>
                  <a:lnTo>
                    <a:pt x="194" y="245"/>
                  </a:lnTo>
                  <a:lnTo>
                    <a:pt x="190" y="239"/>
                  </a:lnTo>
                  <a:lnTo>
                    <a:pt x="184" y="231"/>
                  </a:lnTo>
                  <a:lnTo>
                    <a:pt x="177" y="223"/>
                  </a:lnTo>
                  <a:lnTo>
                    <a:pt x="162" y="207"/>
                  </a:lnTo>
                  <a:lnTo>
                    <a:pt x="147" y="193"/>
                  </a:lnTo>
                  <a:lnTo>
                    <a:pt x="134" y="182"/>
                  </a:lnTo>
                  <a:lnTo>
                    <a:pt x="127" y="175"/>
                  </a:lnTo>
                  <a:lnTo>
                    <a:pt x="115" y="157"/>
                  </a:lnTo>
                  <a:lnTo>
                    <a:pt x="105" y="136"/>
                  </a:lnTo>
                  <a:lnTo>
                    <a:pt x="101" y="125"/>
                  </a:lnTo>
                  <a:lnTo>
                    <a:pt x="97" y="113"/>
                  </a:lnTo>
                  <a:lnTo>
                    <a:pt x="94" y="101"/>
                  </a:lnTo>
                  <a:lnTo>
                    <a:pt x="90" y="91"/>
                  </a:lnTo>
                  <a:lnTo>
                    <a:pt x="88" y="79"/>
                  </a:lnTo>
                  <a:lnTo>
                    <a:pt x="87" y="67"/>
                  </a:lnTo>
                  <a:lnTo>
                    <a:pt x="86" y="55"/>
                  </a:lnTo>
                  <a:lnTo>
                    <a:pt x="87" y="45"/>
                  </a:lnTo>
                  <a:lnTo>
                    <a:pt x="88" y="33"/>
                  </a:lnTo>
                  <a:lnTo>
                    <a:pt x="90" y="22"/>
                  </a:lnTo>
                  <a:lnTo>
                    <a:pt x="94" y="1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7" y="2"/>
                  </a:lnTo>
                  <a:lnTo>
                    <a:pt x="126" y="6"/>
                  </a:lnTo>
                  <a:lnTo>
                    <a:pt x="135" y="13"/>
                  </a:lnTo>
                  <a:lnTo>
                    <a:pt x="144" y="21"/>
                  </a:lnTo>
                  <a:lnTo>
                    <a:pt x="152" y="30"/>
                  </a:lnTo>
                  <a:lnTo>
                    <a:pt x="160" y="39"/>
                  </a:lnTo>
                  <a:lnTo>
                    <a:pt x="169" y="51"/>
                  </a:lnTo>
                  <a:lnTo>
                    <a:pt x="199" y="97"/>
                  </a:lnTo>
                  <a:lnTo>
                    <a:pt x="226" y="138"/>
                  </a:lnTo>
                  <a:lnTo>
                    <a:pt x="248" y="161"/>
                  </a:lnTo>
                  <a:lnTo>
                    <a:pt x="260" y="174"/>
                  </a:lnTo>
                  <a:lnTo>
                    <a:pt x="267" y="181"/>
                  </a:lnTo>
                  <a:lnTo>
                    <a:pt x="273" y="186"/>
                  </a:lnTo>
                  <a:lnTo>
                    <a:pt x="269" y="214"/>
                  </a:lnTo>
                  <a:lnTo>
                    <a:pt x="264" y="248"/>
                  </a:lnTo>
                  <a:lnTo>
                    <a:pt x="263" y="256"/>
                  </a:lnTo>
                  <a:lnTo>
                    <a:pt x="263" y="264"/>
                  </a:lnTo>
                  <a:lnTo>
                    <a:pt x="264" y="272"/>
                  </a:lnTo>
                  <a:lnTo>
                    <a:pt x="266" y="278"/>
                  </a:lnTo>
                  <a:lnTo>
                    <a:pt x="269" y="284"/>
                  </a:lnTo>
                  <a:lnTo>
                    <a:pt x="274" y="288"/>
                  </a:lnTo>
                  <a:lnTo>
                    <a:pt x="279" y="292"/>
                  </a:lnTo>
                  <a:lnTo>
                    <a:pt x="288" y="293"/>
                  </a:lnTo>
                  <a:lnTo>
                    <a:pt x="291" y="290"/>
                  </a:lnTo>
                  <a:lnTo>
                    <a:pt x="293" y="286"/>
                  </a:lnTo>
                  <a:lnTo>
                    <a:pt x="288" y="277"/>
                  </a:lnTo>
                  <a:lnTo>
                    <a:pt x="285" y="269"/>
                  </a:lnTo>
                  <a:lnTo>
                    <a:pt x="281" y="262"/>
                  </a:lnTo>
                  <a:lnTo>
                    <a:pt x="279" y="255"/>
                  </a:lnTo>
                  <a:lnTo>
                    <a:pt x="278" y="248"/>
                  </a:lnTo>
                  <a:lnTo>
                    <a:pt x="278" y="241"/>
                  </a:lnTo>
                  <a:lnTo>
                    <a:pt x="279" y="236"/>
                  </a:lnTo>
                  <a:lnTo>
                    <a:pt x="280" y="229"/>
                  </a:lnTo>
                  <a:lnTo>
                    <a:pt x="284" y="218"/>
                  </a:lnTo>
                  <a:lnTo>
                    <a:pt x="290" y="206"/>
                  </a:lnTo>
                  <a:lnTo>
                    <a:pt x="297" y="194"/>
                  </a:lnTo>
                  <a:lnTo>
                    <a:pt x="306" y="181"/>
                  </a:lnTo>
                  <a:lnTo>
                    <a:pt x="306" y="171"/>
                  </a:lnTo>
                  <a:lnTo>
                    <a:pt x="307" y="162"/>
                  </a:lnTo>
                  <a:lnTo>
                    <a:pt x="309" y="153"/>
                  </a:lnTo>
                  <a:lnTo>
                    <a:pt x="312" y="142"/>
                  </a:lnTo>
                  <a:lnTo>
                    <a:pt x="318" y="120"/>
                  </a:lnTo>
                  <a:lnTo>
                    <a:pt x="327" y="97"/>
                  </a:lnTo>
                  <a:lnTo>
                    <a:pt x="344" y="54"/>
                  </a:lnTo>
                  <a:lnTo>
                    <a:pt x="359" y="22"/>
                  </a:lnTo>
                  <a:lnTo>
                    <a:pt x="369" y="13"/>
                  </a:lnTo>
                  <a:lnTo>
                    <a:pt x="378" y="6"/>
                  </a:lnTo>
                  <a:lnTo>
                    <a:pt x="387" y="1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406" y="2"/>
                  </a:lnTo>
                  <a:lnTo>
                    <a:pt x="410" y="5"/>
                  </a:lnTo>
                  <a:lnTo>
                    <a:pt x="413" y="9"/>
                  </a:lnTo>
                  <a:lnTo>
                    <a:pt x="417" y="14"/>
                  </a:lnTo>
                  <a:lnTo>
                    <a:pt x="421" y="21"/>
                  </a:lnTo>
                  <a:lnTo>
                    <a:pt x="424" y="29"/>
                  </a:lnTo>
                  <a:lnTo>
                    <a:pt x="425" y="39"/>
                  </a:lnTo>
                  <a:lnTo>
                    <a:pt x="424" y="50"/>
                  </a:lnTo>
                  <a:lnTo>
                    <a:pt x="423" y="60"/>
                  </a:lnTo>
                  <a:lnTo>
                    <a:pt x="422" y="70"/>
                  </a:lnTo>
                  <a:lnTo>
                    <a:pt x="417" y="91"/>
                  </a:lnTo>
                  <a:lnTo>
                    <a:pt x="412" y="111"/>
                  </a:lnTo>
                  <a:lnTo>
                    <a:pt x="405" y="130"/>
                  </a:lnTo>
                  <a:lnTo>
                    <a:pt x="400" y="150"/>
                  </a:lnTo>
                  <a:lnTo>
                    <a:pt x="394" y="171"/>
                  </a:lnTo>
                  <a:lnTo>
                    <a:pt x="390" y="193"/>
                  </a:lnTo>
                  <a:lnTo>
                    <a:pt x="394" y="198"/>
                  </a:lnTo>
                  <a:lnTo>
                    <a:pt x="399" y="204"/>
                  </a:lnTo>
                  <a:lnTo>
                    <a:pt x="410" y="211"/>
                  </a:lnTo>
                  <a:lnTo>
                    <a:pt x="425" y="219"/>
                  </a:lnTo>
                  <a:lnTo>
                    <a:pt x="443" y="226"/>
                  </a:lnTo>
                  <a:lnTo>
                    <a:pt x="463" y="233"/>
                  </a:lnTo>
                  <a:lnTo>
                    <a:pt x="507" y="249"/>
                  </a:lnTo>
                  <a:lnTo>
                    <a:pt x="555" y="266"/>
                  </a:lnTo>
                  <a:lnTo>
                    <a:pt x="578" y="274"/>
                  </a:lnTo>
                  <a:lnTo>
                    <a:pt x="601" y="284"/>
                  </a:lnTo>
                  <a:lnTo>
                    <a:pt x="621" y="293"/>
                  </a:lnTo>
                  <a:lnTo>
                    <a:pt x="639" y="301"/>
                  </a:lnTo>
                  <a:lnTo>
                    <a:pt x="655" y="310"/>
                  </a:lnTo>
                  <a:lnTo>
                    <a:pt x="668" y="319"/>
                  </a:lnTo>
                  <a:lnTo>
                    <a:pt x="672" y="323"/>
                  </a:lnTo>
                  <a:lnTo>
                    <a:pt x="676" y="329"/>
                  </a:lnTo>
                  <a:lnTo>
                    <a:pt x="678" y="332"/>
                  </a:lnTo>
                  <a:lnTo>
                    <a:pt x="680" y="338"/>
                  </a:lnTo>
                  <a:lnTo>
                    <a:pt x="683" y="347"/>
                  </a:lnTo>
                  <a:lnTo>
                    <a:pt x="687" y="354"/>
                  </a:lnTo>
                  <a:lnTo>
                    <a:pt x="690" y="356"/>
                  </a:lnTo>
                  <a:lnTo>
                    <a:pt x="693" y="359"/>
                  </a:lnTo>
                  <a:lnTo>
                    <a:pt x="699" y="359"/>
                  </a:lnTo>
                  <a:lnTo>
                    <a:pt x="704" y="359"/>
                  </a:lnTo>
                  <a:lnTo>
                    <a:pt x="701" y="389"/>
                  </a:lnTo>
                  <a:lnTo>
                    <a:pt x="695" y="430"/>
                  </a:lnTo>
                  <a:lnTo>
                    <a:pt x="692" y="451"/>
                  </a:lnTo>
                  <a:lnTo>
                    <a:pt x="688" y="468"/>
                  </a:lnTo>
                  <a:lnTo>
                    <a:pt x="685" y="483"/>
                  </a:lnTo>
                  <a:lnTo>
                    <a:pt x="681" y="490"/>
                  </a:lnTo>
                  <a:lnTo>
                    <a:pt x="667" y="487"/>
                  </a:lnTo>
                  <a:lnTo>
                    <a:pt x="653" y="484"/>
                  </a:lnTo>
                  <a:lnTo>
                    <a:pt x="639" y="484"/>
                  </a:lnTo>
                  <a:lnTo>
                    <a:pt x="625" y="484"/>
                  </a:lnTo>
                  <a:lnTo>
                    <a:pt x="597" y="486"/>
                  </a:lnTo>
                  <a:lnTo>
                    <a:pt x="569" y="491"/>
                  </a:lnTo>
                  <a:lnTo>
                    <a:pt x="541" y="496"/>
                  </a:lnTo>
                  <a:lnTo>
                    <a:pt x="514" y="503"/>
                  </a:lnTo>
                  <a:lnTo>
                    <a:pt x="486" y="508"/>
                  </a:lnTo>
                  <a:lnTo>
                    <a:pt x="458" y="512"/>
                  </a:lnTo>
                  <a:lnTo>
                    <a:pt x="435" y="511"/>
                  </a:lnTo>
                  <a:lnTo>
                    <a:pt x="412" y="507"/>
                  </a:lnTo>
                  <a:lnTo>
                    <a:pt x="390" y="501"/>
                  </a:lnTo>
                  <a:lnTo>
                    <a:pt x="369" y="498"/>
                  </a:lnTo>
                  <a:lnTo>
                    <a:pt x="348" y="494"/>
                  </a:lnTo>
                  <a:lnTo>
                    <a:pt x="327" y="492"/>
                  </a:lnTo>
                  <a:lnTo>
                    <a:pt x="316" y="492"/>
                  </a:lnTo>
                  <a:lnTo>
                    <a:pt x="305" y="492"/>
                  </a:lnTo>
                  <a:lnTo>
                    <a:pt x="294" y="495"/>
                  </a:lnTo>
                  <a:lnTo>
                    <a:pt x="283" y="496"/>
                  </a:lnTo>
                  <a:lnTo>
                    <a:pt x="272" y="498"/>
                  </a:lnTo>
                  <a:lnTo>
                    <a:pt x="261" y="500"/>
                  </a:lnTo>
                  <a:lnTo>
                    <a:pt x="251" y="505"/>
                  </a:lnTo>
                  <a:lnTo>
                    <a:pt x="239" y="513"/>
                  </a:lnTo>
                  <a:lnTo>
                    <a:pt x="217" y="533"/>
                  </a:lnTo>
                  <a:lnTo>
                    <a:pt x="194" y="554"/>
                  </a:lnTo>
                  <a:lnTo>
                    <a:pt x="172" y="578"/>
                  </a:lnTo>
                  <a:lnTo>
                    <a:pt x="148" y="598"/>
                  </a:lnTo>
                  <a:lnTo>
                    <a:pt x="137" y="606"/>
                  </a:lnTo>
                  <a:lnTo>
                    <a:pt x="124" y="611"/>
                  </a:lnTo>
                  <a:lnTo>
                    <a:pt x="112" y="615"/>
                  </a:lnTo>
                  <a:lnTo>
                    <a:pt x="101" y="616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41680" y="3328920"/>
              <a:ext cx="336240" cy="639720"/>
            </a:xfrm>
            <a:custGeom>
              <a:avLst/>
              <a:gdLst/>
              <a:ahLst/>
              <a:rect l="l" t="t" r="r" b="b"/>
              <a:pathLst>
                <a:path w="212" h="403">
                  <a:moveTo>
                    <a:pt x="38" y="403"/>
                  </a:moveTo>
                  <a:lnTo>
                    <a:pt x="30" y="400"/>
                  </a:lnTo>
                  <a:lnTo>
                    <a:pt x="23" y="396"/>
                  </a:lnTo>
                  <a:lnTo>
                    <a:pt x="17" y="391"/>
                  </a:lnTo>
                  <a:lnTo>
                    <a:pt x="12" y="386"/>
                  </a:lnTo>
                  <a:lnTo>
                    <a:pt x="8" y="378"/>
                  </a:lnTo>
                  <a:lnTo>
                    <a:pt x="4" y="371"/>
                  </a:lnTo>
                  <a:lnTo>
                    <a:pt x="2" y="362"/>
                  </a:lnTo>
                  <a:lnTo>
                    <a:pt x="1" y="353"/>
                  </a:lnTo>
                  <a:lnTo>
                    <a:pt x="0" y="344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4" y="288"/>
                  </a:lnTo>
                  <a:lnTo>
                    <a:pt x="9" y="263"/>
                  </a:lnTo>
                  <a:lnTo>
                    <a:pt x="18" y="213"/>
                  </a:lnTo>
                  <a:lnTo>
                    <a:pt x="25" y="164"/>
                  </a:lnTo>
                  <a:lnTo>
                    <a:pt x="26" y="152"/>
                  </a:lnTo>
                  <a:lnTo>
                    <a:pt x="27" y="142"/>
                  </a:lnTo>
                  <a:lnTo>
                    <a:pt x="27" y="131"/>
                  </a:lnTo>
                  <a:lnTo>
                    <a:pt x="26" y="121"/>
                  </a:lnTo>
                  <a:lnTo>
                    <a:pt x="25" y="111"/>
                  </a:lnTo>
                  <a:lnTo>
                    <a:pt x="23" y="102"/>
                  </a:lnTo>
                  <a:lnTo>
                    <a:pt x="20" y="93"/>
                  </a:lnTo>
                  <a:lnTo>
                    <a:pt x="16" y="86"/>
                  </a:lnTo>
                  <a:lnTo>
                    <a:pt x="13" y="61"/>
                  </a:lnTo>
                  <a:lnTo>
                    <a:pt x="12" y="43"/>
                  </a:lnTo>
                  <a:lnTo>
                    <a:pt x="12" y="33"/>
                  </a:lnTo>
                  <a:lnTo>
                    <a:pt x="13" y="23"/>
                  </a:lnTo>
                  <a:lnTo>
                    <a:pt x="15" y="1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4" y="6"/>
                  </a:lnTo>
                  <a:lnTo>
                    <a:pt x="60" y="20"/>
                  </a:lnTo>
                  <a:lnTo>
                    <a:pt x="76" y="35"/>
                  </a:lnTo>
                  <a:lnTo>
                    <a:pt x="92" y="47"/>
                  </a:lnTo>
                  <a:lnTo>
                    <a:pt x="108" y="57"/>
                  </a:lnTo>
                  <a:lnTo>
                    <a:pt x="116" y="61"/>
                  </a:lnTo>
                  <a:lnTo>
                    <a:pt x="125" y="64"/>
                  </a:lnTo>
                  <a:lnTo>
                    <a:pt x="134" y="65"/>
                  </a:lnTo>
                  <a:lnTo>
                    <a:pt x="143" y="65"/>
                  </a:lnTo>
                  <a:lnTo>
                    <a:pt x="152" y="65"/>
                  </a:lnTo>
                  <a:lnTo>
                    <a:pt x="162" y="62"/>
                  </a:lnTo>
                  <a:lnTo>
                    <a:pt x="173" y="58"/>
                  </a:lnTo>
                  <a:lnTo>
                    <a:pt x="183" y="52"/>
                  </a:lnTo>
                  <a:lnTo>
                    <a:pt x="190" y="52"/>
                  </a:lnTo>
                  <a:lnTo>
                    <a:pt x="197" y="54"/>
                  </a:lnTo>
                  <a:lnTo>
                    <a:pt x="203" y="58"/>
                  </a:lnTo>
                  <a:lnTo>
                    <a:pt x="208" y="62"/>
                  </a:lnTo>
                  <a:lnTo>
                    <a:pt x="209" y="66"/>
                  </a:lnTo>
                  <a:lnTo>
                    <a:pt x="211" y="70"/>
                  </a:lnTo>
                  <a:lnTo>
                    <a:pt x="212" y="74"/>
                  </a:lnTo>
                  <a:lnTo>
                    <a:pt x="212" y="78"/>
                  </a:lnTo>
                  <a:lnTo>
                    <a:pt x="212" y="82"/>
                  </a:lnTo>
                  <a:lnTo>
                    <a:pt x="211" y="88"/>
                  </a:lnTo>
                  <a:lnTo>
                    <a:pt x="210" y="93"/>
                  </a:lnTo>
                  <a:lnTo>
                    <a:pt x="208" y="99"/>
                  </a:lnTo>
                  <a:lnTo>
                    <a:pt x="199" y="97"/>
                  </a:lnTo>
                  <a:lnTo>
                    <a:pt x="190" y="97"/>
                  </a:lnTo>
                  <a:lnTo>
                    <a:pt x="183" y="97"/>
                  </a:lnTo>
                  <a:lnTo>
                    <a:pt x="177" y="98"/>
                  </a:lnTo>
                  <a:lnTo>
                    <a:pt x="172" y="101"/>
                  </a:lnTo>
                  <a:lnTo>
                    <a:pt x="168" y="103"/>
                  </a:lnTo>
                  <a:lnTo>
                    <a:pt x="165" y="107"/>
                  </a:lnTo>
                  <a:lnTo>
                    <a:pt x="163" y="110"/>
                  </a:lnTo>
                  <a:lnTo>
                    <a:pt x="162" y="114"/>
                  </a:lnTo>
                  <a:lnTo>
                    <a:pt x="162" y="117"/>
                  </a:lnTo>
                  <a:lnTo>
                    <a:pt x="163" y="119"/>
                  </a:lnTo>
                  <a:lnTo>
                    <a:pt x="166" y="121"/>
                  </a:lnTo>
                  <a:lnTo>
                    <a:pt x="170" y="122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9" y="115"/>
                  </a:lnTo>
                  <a:lnTo>
                    <a:pt x="198" y="115"/>
                  </a:lnTo>
                  <a:lnTo>
                    <a:pt x="203" y="118"/>
                  </a:lnTo>
                  <a:lnTo>
                    <a:pt x="207" y="121"/>
                  </a:lnTo>
                  <a:lnTo>
                    <a:pt x="209" y="126"/>
                  </a:lnTo>
                  <a:lnTo>
                    <a:pt x="210" y="131"/>
                  </a:lnTo>
                  <a:lnTo>
                    <a:pt x="210" y="138"/>
                  </a:lnTo>
                  <a:lnTo>
                    <a:pt x="208" y="146"/>
                  </a:lnTo>
                  <a:lnTo>
                    <a:pt x="206" y="152"/>
                  </a:lnTo>
                  <a:lnTo>
                    <a:pt x="192" y="187"/>
                  </a:lnTo>
                  <a:lnTo>
                    <a:pt x="182" y="213"/>
                  </a:lnTo>
                  <a:lnTo>
                    <a:pt x="171" y="242"/>
                  </a:lnTo>
                  <a:lnTo>
                    <a:pt x="159" y="274"/>
                  </a:lnTo>
                  <a:lnTo>
                    <a:pt x="151" y="290"/>
                  </a:lnTo>
                  <a:lnTo>
                    <a:pt x="144" y="305"/>
                  </a:lnTo>
                  <a:lnTo>
                    <a:pt x="137" y="321"/>
                  </a:lnTo>
                  <a:lnTo>
                    <a:pt x="129" y="336"/>
                  </a:lnTo>
                  <a:lnTo>
                    <a:pt x="120" y="350"/>
                  </a:lnTo>
                  <a:lnTo>
                    <a:pt x="110" y="362"/>
                  </a:lnTo>
                  <a:lnTo>
                    <a:pt x="100" y="374"/>
                  </a:lnTo>
                  <a:lnTo>
                    <a:pt x="90" y="385"/>
                  </a:lnTo>
                  <a:lnTo>
                    <a:pt x="77" y="393"/>
                  </a:lnTo>
                  <a:lnTo>
                    <a:pt x="65" y="399"/>
                  </a:lnTo>
                  <a:lnTo>
                    <a:pt x="59" y="400"/>
                  </a:lnTo>
                  <a:lnTo>
                    <a:pt x="53" y="402"/>
                  </a:lnTo>
                  <a:lnTo>
                    <a:pt x="46" y="403"/>
                  </a:lnTo>
                  <a:lnTo>
                    <a:pt x="38" y="40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5680" y="3806640"/>
              <a:ext cx="211320" cy="150840"/>
            </a:xfrm>
            <a:custGeom>
              <a:avLst/>
              <a:gdLst/>
              <a:ahLst/>
              <a:rect l="l" t="t" r="r" b="b"/>
              <a:pathLst>
                <a:path w="133" h="95">
                  <a:moveTo>
                    <a:pt x="45" y="95"/>
                  </a:moveTo>
                  <a:lnTo>
                    <a:pt x="37" y="94"/>
                  </a:lnTo>
                  <a:lnTo>
                    <a:pt x="30" y="90"/>
                  </a:lnTo>
                  <a:lnTo>
                    <a:pt x="22" y="88"/>
                  </a:lnTo>
                  <a:lnTo>
                    <a:pt x="16" y="82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2" y="62"/>
                  </a:lnTo>
                  <a:lnTo>
                    <a:pt x="0" y="52"/>
                  </a:lnTo>
                  <a:lnTo>
                    <a:pt x="15" y="39"/>
                  </a:lnTo>
                  <a:lnTo>
                    <a:pt x="31" y="27"/>
                  </a:lnTo>
                  <a:lnTo>
                    <a:pt x="45" y="16"/>
                  </a:lnTo>
                  <a:lnTo>
                    <a:pt x="60" y="10"/>
                  </a:lnTo>
                  <a:lnTo>
                    <a:pt x="77" y="4"/>
                  </a:lnTo>
                  <a:lnTo>
                    <a:pt x="94" y="2"/>
                  </a:lnTo>
                  <a:lnTo>
                    <a:pt x="113" y="0"/>
                  </a:lnTo>
                  <a:lnTo>
                    <a:pt x="133" y="2"/>
                  </a:lnTo>
                  <a:lnTo>
                    <a:pt x="130" y="14"/>
                  </a:lnTo>
                  <a:lnTo>
                    <a:pt x="128" y="24"/>
                  </a:lnTo>
                  <a:lnTo>
                    <a:pt x="125" y="33"/>
                  </a:lnTo>
                  <a:lnTo>
                    <a:pt x="122" y="43"/>
                  </a:lnTo>
                  <a:lnTo>
                    <a:pt x="118" y="52"/>
                  </a:lnTo>
                  <a:lnTo>
                    <a:pt x="114" y="58"/>
                  </a:lnTo>
                  <a:lnTo>
                    <a:pt x="109" y="66"/>
                  </a:lnTo>
                  <a:lnTo>
                    <a:pt x="104" y="72"/>
                  </a:lnTo>
                  <a:lnTo>
                    <a:pt x="98" y="78"/>
                  </a:lnTo>
                  <a:lnTo>
                    <a:pt x="92" y="82"/>
                  </a:lnTo>
                  <a:lnTo>
                    <a:pt x="86" y="86"/>
                  </a:lnTo>
                  <a:lnTo>
                    <a:pt x="79" y="90"/>
                  </a:lnTo>
                  <a:lnTo>
                    <a:pt x="71" y="93"/>
                  </a:lnTo>
                  <a:lnTo>
                    <a:pt x="62" y="94"/>
                  </a:lnTo>
                  <a:lnTo>
                    <a:pt x="54" y="95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68480" y="2298600"/>
              <a:ext cx="984240" cy="1625760"/>
            </a:xfrm>
            <a:custGeom>
              <a:avLst/>
              <a:gdLst/>
              <a:ahLst/>
              <a:rect l="l" t="t" r="r" b="b"/>
              <a:pathLst>
                <a:path w="620" h="1024">
                  <a:moveTo>
                    <a:pt x="293" y="1024"/>
                  </a:moveTo>
                  <a:lnTo>
                    <a:pt x="267" y="1023"/>
                  </a:lnTo>
                  <a:lnTo>
                    <a:pt x="242" y="1020"/>
                  </a:lnTo>
                  <a:lnTo>
                    <a:pt x="215" y="1019"/>
                  </a:lnTo>
                  <a:lnTo>
                    <a:pt x="189" y="1018"/>
                  </a:lnTo>
                  <a:lnTo>
                    <a:pt x="163" y="1015"/>
                  </a:lnTo>
                  <a:lnTo>
                    <a:pt x="138" y="1014"/>
                  </a:lnTo>
                  <a:lnTo>
                    <a:pt x="112" y="1011"/>
                  </a:lnTo>
                  <a:lnTo>
                    <a:pt x="87" y="1008"/>
                  </a:lnTo>
                  <a:lnTo>
                    <a:pt x="68" y="1005"/>
                  </a:lnTo>
                  <a:lnTo>
                    <a:pt x="43" y="999"/>
                  </a:lnTo>
                  <a:lnTo>
                    <a:pt x="31" y="995"/>
                  </a:lnTo>
                  <a:lnTo>
                    <a:pt x="20" y="991"/>
                  </a:lnTo>
                  <a:lnTo>
                    <a:pt x="10" y="987"/>
                  </a:lnTo>
                  <a:lnTo>
                    <a:pt x="4" y="983"/>
                  </a:lnTo>
                  <a:lnTo>
                    <a:pt x="2" y="970"/>
                  </a:lnTo>
                  <a:lnTo>
                    <a:pt x="1" y="956"/>
                  </a:lnTo>
                  <a:lnTo>
                    <a:pt x="0" y="941"/>
                  </a:lnTo>
                  <a:lnTo>
                    <a:pt x="0" y="925"/>
                  </a:lnTo>
                  <a:lnTo>
                    <a:pt x="2" y="894"/>
                  </a:lnTo>
                  <a:lnTo>
                    <a:pt x="4" y="862"/>
                  </a:lnTo>
                  <a:lnTo>
                    <a:pt x="8" y="829"/>
                  </a:lnTo>
                  <a:lnTo>
                    <a:pt x="12" y="797"/>
                  </a:lnTo>
                  <a:lnTo>
                    <a:pt x="16" y="768"/>
                  </a:lnTo>
                  <a:lnTo>
                    <a:pt x="19" y="742"/>
                  </a:lnTo>
                  <a:lnTo>
                    <a:pt x="21" y="723"/>
                  </a:lnTo>
                  <a:lnTo>
                    <a:pt x="23" y="701"/>
                  </a:lnTo>
                  <a:lnTo>
                    <a:pt x="26" y="678"/>
                  </a:lnTo>
                  <a:lnTo>
                    <a:pt x="26" y="664"/>
                  </a:lnTo>
                  <a:lnTo>
                    <a:pt x="32" y="663"/>
                  </a:lnTo>
                  <a:lnTo>
                    <a:pt x="38" y="661"/>
                  </a:lnTo>
                  <a:lnTo>
                    <a:pt x="43" y="659"/>
                  </a:lnTo>
                  <a:lnTo>
                    <a:pt x="47" y="657"/>
                  </a:lnTo>
                  <a:lnTo>
                    <a:pt x="52" y="653"/>
                  </a:lnTo>
                  <a:lnTo>
                    <a:pt x="56" y="651"/>
                  </a:lnTo>
                  <a:lnTo>
                    <a:pt x="59" y="647"/>
                  </a:lnTo>
                  <a:lnTo>
                    <a:pt x="61" y="643"/>
                  </a:lnTo>
                  <a:lnTo>
                    <a:pt x="65" y="632"/>
                  </a:lnTo>
                  <a:lnTo>
                    <a:pt x="67" y="620"/>
                  </a:lnTo>
                  <a:lnTo>
                    <a:pt x="68" y="607"/>
                  </a:lnTo>
                  <a:lnTo>
                    <a:pt x="68" y="593"/>
                  </a:lnTo>
                  <a:lnTo>
                    <a:pt x="64" y="582"/>
                  </a:lnTo>
                  <a:lnTo>
                    <a:pt x="60" y="573"/>
                  </a:lnTo>
                  <a:lnTo>
                    <a:pt x="57" y="564"/>
                  </a:lnTo>
                  <a:lnTo>
                    <a:pt x="55" y="556"/>
                  </a:lnTo>
                  <a:lnTo>
                    <a:pt x="72" y="553"/>
                  </a:lnTo>
                  <a:lnTo>
                    <a:pt x="92" y="548"/>
                  </a:lnTo>
                  <a:lnTo>
                    <a:pt x="102" y="545"/>
                  </a:lnTo>
                  <a:lnTo>
                    <a:pt x="111" y="541"/>
                  </a:lnTo>
                  <a:lnTo>
                    <a:pt x="119" y="537"/>
                  </a:lnTo>
                  <a:lnTo>
                    <a:pt x="127" y="532"/>
                  </a:lnTo>
                  <a:lnTo>
                    <a:pt x="133" y="525"/>
                  </a:lnTo>
                  <a:lnTo>
                    <a:pt x="137" y="520"/>
                  </a:lnTo>
                  <a:lnTo>
                    <a:pt x="138" y="516"/>
                  </a:lnTo>
                  <a:lnTo>
                    <a:pt x="139" y="512"/>
                  </a:lnTo>
                  <a:lnTo>
                    <a:pt x="140" y="508"/>
                  </a:lnTo>
                  <a:lnTo>
                    <a:pt x="139" y="504"/>
                  </a:lnTo>
                  <a:lnTo>
                    <a:pt x="139" y="500"/>
                  </a:lnTo>
                  <a:lnTo>
                    <a:pt x="137" y="496"/>
                  </a:lnTo>
                  <a:lnTo>
                    <a:pt x="135" y="491"/>
                  </a:lnTo>
                  <a:lnTo>
                    <a:pt x="132" y="487"/>
                  </a:lnTo>
                  <a:lnTo>
                    <a:pt x="123" y="476"/>
                  </a:lnTo>
                  <a:lnTo>
                    <a:pt x="111" y="466"/>
                  </a:lnTo>
                  <a:lnTo>
                    <a:pt x="101" y="454"/>
                  </a:lnTo>
                  <a:lnTo>
                    <a:pt x="92" y="446"/>
                  </a:lnTo>
                  <a:lnTo>
                    <a:pt x="83" y="439"/>
                  </a:lnTo>
                  <a:lnTo>
                    <a:pt x="75" y="435"/>
                  </a:lnTo>
                  <a:lnTo>
                    <a:pt x="57" y="430"/>
                  </a:lnTo>
                  <a:lnTo>
                    <a:pt x="33" y="428"/>
                  </a:lnTo>
                  <a:lnTo>
                    <a:pt x="34" y="389"/>
                  </a:lnTo>
                  <a:lnTo>
                    <a:pt x="34" y="351"/>
                  </a:lnTo>
                  <a:lnTo>
                    <a:pt x="35" y="311"/>
                  </a:lnTo>
                  <a:lnTo>
                    <a:pt x="35" y="272"/>
                  </a:lnTo>
                  <a:lnTo>
                    <a:pt x="36" y="233"/>
                  </a:lnTo>
                  <a:lnTo>
                    <a:pt x="38" y="195"/>
                  </a:lnTo>
                  <a:lnTo>
                    <a:pt x="40" y="175"/>
                  </a:lnTo>
                  <a:lnTo>
                    <a:pt x="42" y="158"/>
                  </a:lnTo>
                  <a:lnTo>
                    <a:pt x="45" y="140"/>
                  </a:lnTo>
                  <a:lnTo>
                    <a:pt x="48" y="123"/>
                  </a:lnTo>
                  <a:lnTo>
                    <a:pt x="57" y="113"/>
                  </a:lnTo>
                  <a:lnTo>
                    <a:pt x="66" y="105"/>
                  </a:lnTo>
                  <a:lnTo>
                    <a:pt x="76" y="99"/>
                  </a:lnTo>
                  <a:lnTo>
                    <a:pt x="85" y="93"/>
                  </a:lnTo>
                  <a:lnTo>
                    <a:pt x="97" y="88"/>
                  </a:lnTo>
                  <a:lnTo>
                    <a:pt x="108" y="84"/>
                  </a:lnTo>
                  <a:lnTo>
                    <a:pt x="119" y="80"/>
                  </a:lnTo>
                  <a:lnTo>
                    <a:pt x="131" y="76"/>
                  </a:lnTo>
                  <a:lnTo>
                    <a:pt x="154" y="71"/>
                  </a:lnTo>
                  <a:lnTo>
                    <a:pt x="178" y="66"/>
                  </a:lnTo>
                  <a:lnTo>
                    <a:pt x="200" y="62"/>
                  </a:lnTo>
                  <a:lnTo>
                    <a:pt x="222" y="57"/>
                  </a:lnTo>
                  <a:lnTo>
                    <a:pt x="245" y="53"/>
                  </a:lnTo>
                  <a:lnTo>
                    <a:pt x="267" y="47"/>
                  </a:lnTo>
                  <a:lnTo>
                    <a:pt x="290" y="42"/>
                  </a:lnTo>
                  <a:lnTo>
                    <a:pt x="313" y="35"/>
                  </a:lnTo>
                  <a:lnTo>
                    <a:pt x="362" y="24"/>
                  </a:lnTo>
                  <a:lnTo>
                    <a:pt x="410" y="12"/>
                  </a:lnTo>
                  <a:lnTo>
                    <a:pt x="435" y="6"/>
                  </a:lnTo>
                  <a:lnTo>
                    <a:pt x="459" y="2"/>
                  </a:lnTo>
                  <a:lnTo>
                    <a:pt x="483" y="0"/>
                  </a:lnTo>
                  <a:lnTo>
                    <a:pt x="508" y="0"/>
                  </a:lnTo>
                  <a:lnTo>
                    <a:pt x="531" y="0"/>
                  </a:lnTo>
                  <a:lnTo>
                    <a:pt x="554" y="4"/>
                  </a:lnTo>
                  <a:lnTo>
                    <a:pt x="566" y="5"/>
                  </a:lnTo>
                  <a:lnTo>
                    <a:pt x="577" y="9"/>
                  </a:lnTo>
                  <a:lnTo>
                    <a:pt x="588" y="13"/>
                  </a:lnTo>
                  <a:lnTo>
                    <a:pt x="599" y="17"/>
                  </a:lnTo>
                  <a:lnTo>
                    <a:pt x="604" y="37"/>
                  </a:lnTo>
                  <a:lnTo>
                    <a:pt x="608" y="58"/>
                  </a:lnTo>
                  <a:lnTo>
                    <a:pt x="612" y="82"/>
                  </a:lnTo>
                  <a:lnTo>
                    <a:pt x="614" y="105"/>
                  </a:lnTo>
                  <a:lnTo>
                    <a:pt x="616" y="130"/>
                  </a:lnTo>
                  <a:lnTo>
                    <a:pt x="619" y="156"/>
                  </a:lnTo>
                  <a:lnTo>
                    <a:pt x="620" y="182"/>
                  </a:lnTo>
                  <a:lnTo>
                    <a:pt x="620" y="208"/>
                  </a:lnTo>
                  <a:lnTo>
                    <a:pt x="620" y="260"/>
                  </a:lnTo>
                  <a:lnTo>
                    <a:pt x="619" y="311"/>
                  </a:lnTo>
                  <a:lnTo>
                    <a:pt x="618" y="359"/>
                  </a:lnTo>
                  <a:lnTo>
                    <a:pt x="616" y="402"/>
                  </a:lnTo>
                  <a:lnTo>
                    <a:pt x="612" y="465"/>
                  </a:lnTo>
                  <a:lnTo>
                    <a:pt x="608" y="527"/>
                  </a:lnTo>
                  <a:lnTo>
                    <a:pt x="606" y="590"/>
                  </a:lnTo>
                  <a:lnTo>
                    <a:pt x="603" y="652"/>
                  </a:lnTo>
                  <a:lnTo>
                    <a:pt x="601" y="715"/>
                  </a:lnTo>
                  <a:lnTo>
                    <a:pt x="598" y="779"/>
                  </a:lnTo>
                  <a:lnTo>
                    <a:pt x="595" y="842"/>
                  </a:lnTo>
                  <a:lnTo>
                    <a:pt x="592" y="906"/>
                  </a:lnTo>
                  <a:lnTo>
                    <a:pt x="588" y="931"/>
                  </a:lnTo>
                  <a:lnTo>
                    <a:pt x="582" y="960"/>
                  </a:lnTo>
                  <a:lnTo>
                    <a:pt x="578" y="973"/>
                  </a:lnTo>
                  <a:lnTo>
                    <a:pt x="574" y="987"/>
                  </a:lnTo>
                  <a:lnTo>
                    <a:pt x="569" y="999"/>
                  </a:lnTo>
                  <a:lnTo>
                    <a:pt x="564" y="1010"/>
                  </a:lnTo>
                  <a:lnTo>
                    <a:pt x="537" y="1011"/>
                  </a:lnTo>
                  <a:lnTo>
                    <a:pt x="513" y="1012"/>
                  </a:lnTo>
                  <a:lnTo>
                    <a:pt x="489" y="1012"/>
                  </a:lnTo>
                  <a:lnTo>
                    <a:pt x="465" y="1012"/>
                  </a:lnTo>
                  <a:lnTo>
                    <a:pt x="442" y="1011"/>
                  </a:lnTo>
                  <a:lnTo>
                    <a:pt x="418" y="1008"/>
                  </a:lnTo>
                  <a:lnTo>
                    <a:pt x="395" y="1006"/>
                  </a:lnTo>
                  <a:lnTo>
                    <a:pt x="369" y="1001"/>
                  </a:lnTo>
                  <a:lnTo>
                    <a:pt x="357" y="997"/>
                  </a:lnTo>
                  <a:lnTo>
                    <a:pt x="345" y="991"/>
                  </a:lnTo>
                  <a:lnTo>
                    <a:pt x="335" y="989"/>
                  </a:lnTo>
                  <a:lnTo>
                    <a:pt x="326" y="987"/>
                  </a:lnTo>
                  <a:lnTo>
                    <a:pt x="323" y="989"/>
                  </a:lnTo>
                  <a:lnTo>
                    <a:pt x="319" y="990"/>
                  </a:lnTo>
                  <a:lnTo>
                    <a:pt x="316" y="993"/>
                  </a:lnTo>
                  <a:lnTo>
                    <a:pt x="312" y="997"/>
                  </a:lnTo>
                  <a:lnTo>
                    <a:pt x="310" y="1001"/>
                  </a:lnTo>
                  <a:lnTo>
                    <a:pt x="307" y="1006"/>
                  </a:lnTo>
                  <a:lnTo>
                    <a:pt x="305" y="1014"/>
                  </a:lnTo>
                  <a:lnTo>
                    <a:pt x="304" y="1022"/>
                  </a:lnTo>
                  <a:lnTo>
                    <a:pt x="301" y="1024"/>
                  </a:lnTo>
                  <a:lnTo>
                    <a:pt x="299" y="1024"/>
                  </a:lnTo>
                  <a:lnTo>
                    <a:pt x="296" y="1024"/>
                  </a:lnTo>
                  <a:lnTo>
                    <a:pt x="293" y="10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11480" y="3060720"/>
              <a:ext cx="331560" cy="728640"/>
            </a:xfrm>
            <a:custGeom>
              <a:avLst/>
              <a:gdLst/>
              <a:ahLst/>
              <a:rect l="l" t="t" r="r" b="b"/>
              <a:pathLst>
                <a:path w="209" h="459">
                  <a:moveTo>
                    <a:pt x="175" y="459"/>
                  </a:moveTo>
                  <a:lnTo>
                    <a:pt x="146" y="448"/>
                  </a:lnTo>
                  <a:lnTo>
                    <a:pt x="121" y="436"/>
                  </a:lnTo>
                  <a:lnTo>
                    <a:pt x="110" y="428"/>
                  </a:lnTo>
                  <a:lnTo>
                    <a:pt x="99" y="422"/>
                  </a:lnTo>
                  <a:lnTo>
                    <a:pt x="89" y="414"/>
                  </a:lnTo>
                  <a:lnTo>
                    <a:pt x="78" y="406"/>
                  </a:lnTo>
                  <a:lnTo>
                    <a:pt x="69" y="396"/>
                  </a:lnTo>
                  <a:lnTo>
                    <a:pt x="60" y="386"/>
                  </a:lnTo>
                  <a:lnTo>
                    <a:pt x="51" y="375"/>
                  </a:lnTo>
                  <a:lnTo>
                    <a:pt x="41" y="363"/>
                  </a:lnTo>
                  <a:lnTo>
                    <a:pt x="24" y="338"/>
                  </a:lnTo>
                  <a:lnTo>
                    <a:pt x="6" y="308"/>
                  </a:lnTo>
                  <a:lnTo>
                    <a:pt x="7" y="300"/>
                  </a:lnTo>
                  <a:lnTo>
                    <a:pt x="8" y="292"/>
                  </a:lnTo>
                  <a:lnTo>
                    <a:pt x="12" y="283"/>
                  </a:lnTo>
                  <a:lnTo>
                    <a:pt x="14" y="274"/>
                  </a:lnTo>
                  <a:lnTo>
                    <a:pt x="20" y="255"/>
                  </a:lnTo>
                  <a:lnTo>
                    <a:pt x="24" y="238"/>
                  </a:lnTo>
                  <a:lnTo>
                    <a:pt x="33" y="237"/>
                  </a:lnTo>
                  <a:lnTo>
                    <a:pt x="42" y="237"/>
                  </a:lnTo>
                  <a:lnTo>
                    <a:pt x="52" y="237"/>
                  </a:lnTo>
                  <a:lnTo>
                    <a:pt x="63" y="239"/>
                  </a:lnTo>
                  <a:lnTo>
                    <a:pt x="65" y="237"/>
                  </a:lnTo>
                  <a:lnTo>
                    <a:pt x="66" y="233"/>
                  </a:lnTo>
                  <a:lnTo>
                    <a:pt x="67" y="230"/>
                  </a:lnTo>
                  <a:lnTo>
                    <a:pt x="67" y="227"/>
                  </a:lnTo>
                  <a:lnTo>
                    <a:pt x="63" y="222"/>
                  </a:lnTo>
                  <a:lnTo>
                    <a:pt x="57" y="220"/>
                  </a:lnTo>
                  <a:lnTo>
                    <a:pt x="52" y="217"/>
                  </a:lnTo>
                  <a:lnTo>
                    <a:pt x="45" y="216"/>
                  </a:lnTo>
                  <a:lnTo>
                    <a:pt x="40" y="214"/>
                  </a:lnTo>
                  <a:lnTo>
                    <a:pt x="34" y="214"/>
                  </a:lnTo>
                  <a:lnTo>
                    <a:pt x="29" y="216"/>
                  </a:lnTo>
                  <a:lnTo>
                    <a:pt x="24" y="218"/>
                  </a:lnTo>
                  <a:lnTo>
                    <a:pt x="22" y="209"/>
                  </a:lnTo>
                  <a:lnTo>
                    <a:pt x="19" y="200"/>
                  </a:lnTo>
                  <a:lnTo>
                    <a:pt x="15" y="190"/>
                  </a:lnTo>
                  <a:lnTo>
                    <a:pt x="12" y="181"/>
                  </a:lnTo>
                  <a:lnTo>
                    <a:pt x="4" y="165"/>
                  </a:lnTo>
                  <a:lnTo>
                    <a:pt x="0" y="154"/>
                  </a:lnTo>
                  <a:lnTo>
                    <a:pt x="9" y="146"/>
                  </a:lnTo>
                  <a:lnTo>
                    <a:pt x="19" y="135"/>
                  </a:lnTo>
                  <a:lnTo>
                    <a:pt x="28" y="123"/>
                  </a:lnTo>
                  <a:lnTo>
                    <a:pt x="36" y="109"/>
                  </a:lnTo>
                  <a:lnTo>
                    <a:pt x="54" y="76"/>
                  </a:lnTo>
                  <a:lnTo>
                    <a:pt x="72" y="44"/>
                  </a:lnTo>
                  <a:lnTo>
                    <a:pt x="81" y="31"/>
                  </a:lnTo>
                  <a:lnTo>
                    <a:pt x="92" y="18"/>
                  </a:lnTo>
                  <a:lnTo>
                    <a:pt x="96" y="14"/>
                  </a:lnTo>
                  <a:lnTo>
                    <a:pt x="101" y="8"/>
                  </a:lnTo>
                  <a:lnTo>
                    <a:pt x="106" y="6"/>
                  </a:lnTo>
                  <a:lnTo>
                    <a:pt x="111" y="3"/>
                  </a:lnTo>
                  <a:lnTo>
                    <a:pt x="117" y="2"/>
                  </a:lnTo>
                  <a:lnTo>
                    <a:pt x="122" y="0"/>
                  </a:lnTo>
                  <a:lnTo>
                    <a:pt x="128" y="2"/>
                  </a:lnTo>
                  <a:lnTo>
                    <a:pt x="134" y="3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2" y="16"/>
                  </a:lnTo>
                  <a:lnTo>
                    <a:pt x="158" y="24"/>
                  </a:lnTo>
                  <a:lnTo>
                    <a:pt x="159" y="40"/>
                  </a:lnTo>
                  <a:lnTo>
                    <a:pt x="160" y="57"/>
                  </a:lnTo>
                  <a:lnTo>
                    <a:pt x="160" y="73"/>
                  </a:lnTo>
                  <a:lnTo>
                    <a:pt x="159" y="90"/>
                  </a:lnTo>
                  <a:lnTo>
                    <a:pt x="156" y="122"/>
                  </a:lnTo>
                  <a:lnTo>
                    <a:pt x="152" y="155"/>
                  </a:lnTo>
                  <a:lnTo>
                    <a:pt x="151" y="171"/>
                  </a:lnTo>
                  <a:lnTo>
                    <a:pt x="150" y="188"/>
                  </a:lnTo>
                  <a:lnTo>
                    <a:pt x="150" y="204"/>
                  </a:lnTo>
                  <a:lnTo>
                    <a:pt x="150" y="221"/>
                  </a:lnTo>
                  <a:lnTo>
                    <a:pt x="151" y="238"/>
                  </a:lnTo>
                  <a:lnTo>
                    <a:pt x="154" y="255"/>
                  </a:lnTo>
                  <a:lnTo>
                    <a:pt x="158" y="272"/>
                  </a:lnTo>
                  <a:lnTo>
                    <a:pt x="164" y="291"/>
                  </a:lnTo>
                  <a:lnTo>
                    <a:pt x="172" y="307"/>
                  </a:lnTo>
                  <a:lnTo>
                    <a:pt x="183" y="330"/>
                  </a:lnTo>
                  <a:lnTo>
                    <a:pt x="188" y="342"/>
                  </a:lnTo>
                  <a:lnTo>
                    <a:pt x="194" y="357"/>
                  </a:lnTo>
                  <a:lnTo>
                    <a:pt x="198" y="370"/>
                  </a:lnTo>
                  <a:lnTo>
                    <a:pt x="204" y="385"/>
                  </a:lnTo>
                  <a:lnTo>
                    <a:pt x="207" y="398"/>
                  </a:lnTo>
                  <a:lnTo>
                    <a:pt x="209" y="411"/>
                  </a:lnTo>
                  <a:lnTo>
                    <a:pt x="209" y="424"/>
                  </a:lnTo>
                  <a:lnTo>
                    <a:pt x="207" y="435"/>
                  </a:lnTo>
                  <a:lnTo>
                    <a:pt x="205" y="440"/>
                  </a:lnTo>
                  <a:lnTo>
                    <a:pt x="203" y="444"/>
                  </a:lnTo>
                  <a:lnTo>
                    <a:pt x="199" y="448"/>
                  </a:lnTo>
                  <a:lnTo>
                    <a:pt x="196" y="451"/>
                  </a:lnTo>
                  <a:lnTo>
                    <a:pt x="192" y="455"/>
                  </a:lnTo>
                  <a:lnTo>
                    <a:pt x="187" y="456"/>
                  </a:lnTo>
                  <a:lnTo>
                    <a:pt x="181" y="459"/>
                  </a:lnTo>
                  <a:lnTo>
                    <a:pt x="175" y="45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65240" y="3548160"/>
              <a:ext cx="55800" cy="7272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1" y="46"/>
                  </a:moveTo>
                  <a:lnTo>
                    <a:pt x="1" y="45"/>
                  </a:lnTo>
                  <a:lnTo>
                    <a:pt x="0" y="45"/>
                  </a:lnTo>
                  <a:lnTo>
                    <a:pt x="6" y="30"/>
                  </a:lnTo>
                  <a:lnTo>
                    <a:pt x="16" y="16"/>
                  </a:lnTo>
                  <a:lnTo>
                    <a:pt x="20" y="8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28" y="12"/>
                  </a:lnTo>
                  <a:lnTo>
                    <a:pt x="21" y="22"/>
                  </a:lnTo>
                  <a:lnTo>
                    <a:pt x="13" y="34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2000" y="352404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5" y="41"/>
                  </a:moveTo>
                  <a:lnTo>
                    <a:pt x="3" y="40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23"/>
                  </a:lnTo>
                  <a:lnTo>
                    <a:pt x="10" y="17"/>
                  </a:lnTo>
                  <a:lnTo>
                    <a:pt x="17" y="13"/>
                  </a:lnTo>
                  <a:lnTo>
                    <a:pt x="25" y="9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4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92" y="20"/>
                  </a:lnTo>
                  <a:lnTo>
                    <a:pt x="96" y="28"/>
                  </a:lnTo>
                  <a:lnTo>
                    <a:pt x="98" y="38"/>
                  </a:lnTo>
                  <a:lnTo>
                    <a:pt x="90" y="37"/>
                  </a:lnTo>
                  <a:lnTo>
                    <a:pt x="85" y="33"/>
                  </a:lnTo>
                  <a:lnTo>
                    <a:pt x="81" y="29"/>
                  </a:lnTo>
                  <a:lnTo>
                    <a:pt x="77" y="25"/>
                  </a:lnTo>
                  <a:lnTo>
                    <a:pt x="68" y="21"/>
                  </a:lnTo>
                  <a:lnTo>
                    <a:pt x="59" y="20"/>
                  </a:lnTo>
                  <a:lnTo>
                    <a:pt x="50" y="19"/>
                  </a:lnTo>
                  <a:lnTo>
                    <a:pt x="42" y="20"/>
                  </a:lnTo>
                  <a:lnTo>
                    <a:pt x="35" y="23"/>
                  </a:lnTo>
                  <a:lnTo>
                    <a:pt x="28" y="27"/>
                  </a:lnTo>
                  <a:lnTo>
                    <a:pt x="21" y="33"/>
                  </a:lnTo>
                  <a:lnTo>
                    <a:pt x="14" y="41"/>
                  </a:lnTo>
                  <a:lnTo>
                    <a:pt x="9" y="41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4160" y="3298680"/>
              <a:ext cx="168480" cy="265320"/>
            </a:xfrm>
            <a:custGeom>
              <a:avLst/>
              <a:gdLst/>
              <a:ahLst/>
              <a:rect l="l" t="t" r="r" b="b"/>
              <a:pathLst>
                <a:path w="106" h="167">
                  <a:moveTo>
                    <a:pt x="37" y="167"/>
                  </a:moveTo>
                  <a:lnTo>
                    <a:pt x="31" y="159"/>
                  </a:lnTo>
                  <a:lnTo>
                    <a:pt x="29" y="151"/>
                  </a:lnTo>
                  <a:lnTo>
                    <a:pt x="27" y="143"/>
                  </a:lnTo>
                  <a:lnTo>
                    <a:pt x="26" y="136"/>
                  </a:lnTo>
                  <a:lnTo>
                    <a:pt x="26" y="121"/>
                  </a:lnTo>
                  <a:lnTo>
                    <a:pt x="26" y="107"/>
                  </a:lnTo>
                  <a:lnTo>
                    <a:pt x="26" y="99"/>
                  </a:lnTo>
                  <a:lnTo>
                    <a:pt x="26" y="92"/>
                  </a:lnTo>
                  <a:lnTo>
                    <a:pt x="24" y="84"/>
                  </a:lnTo>
                  <a:lnTo>
                    <a:pt x="22" y="77"/>
                  </a:lnTo>
                  <a:lnTo>
                    <a:pt x="19" y="71"/>
                  </a:lnTo>
                  <a:lnTo>
                    <a:pt x="14" y="63"/>
                  </a:lnTo>
                  <a:lnTo>
                    <a:pt x="8" y="56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2" y="30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3" y="10"/>
                  </a:lnTo>
                  <a:lnTo>
                    <a:pt x="18" y="6"/>
                  </a:lnTo>
                  <a:lnTo>
                    <a:pt x="24" y="4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5" y="5"/>
                  </a:lnTo>
                  <a:lnTo>
                    <a:pt x="72" y="7"/>
                  </a:lnTo>
                  <a:lnTo>
                    <a:pt x="79" y="11"/>
                  </a:lnTo>
                  <a:lnTo>
                    <a:pt x="85" y="15"/>
                  </a:lnTo>
                  <a:lnTo>
                    <a:pt x="90" y="23"/>
                  </a:lnTo>
                  <a:lnTo>
                    <a:pt x="94" y="31"/>
                  </a:lnTo>
                  <a:lnTo>
                    <a:pt x="98" y="39"/>
                  </a:lnTo>
                  <a:lnTo>
                    <a:pt x="101" y="47"/>
                  </a:lnTo>
                  <a:lnTo>
                    <a:pt x="103" y="54"/>
                  </a:lnTo>
                  <a:lnTo>
                    <a:pt x="105" y="62"/>
                  </a:lnTo>
                  <a:lnTo>
                    <a:pt x="106" y="70"/>
                  </a:lnTo>
                  <a:lnTo>
                    <a:pt x="106" y="77"/>
                  </a:lnTo>
                  <a:lnTo>
                    <a:pt x="105" y="92"/>
                  </a:lnTo>
                  <a:lnTo>
                    <a:pt x="102" y="109"/>
                  </a:lnTo>
                  <a:lnTo>
                    <a:pt x="98" y="126"/>
                  </a:lnTo>
                  <a:lnTo>
                    <a:pt x="92" y="146"/>
                  </a:lnTo>
                  <a:lnTo>
                    <a:pt x="87" y="153"/>
                  </a:lnTo>
                  <a:lnTo>
                    <a:pt x="81" y="157"/>
                  </a:lnTo>
                  <a:lnTo>
                    <a:pt x="74" y="161"/>
                  </a:lnTo>
                  <a:lnTo>
                    <a:pt x="65" y="163"/>
                  </a:lnTo>
                  <a:lnTo>
                    <a:pt x="50" y="167"/>
                  </a:lnTo>
                  <a:lnTo>
                    <a:pt x="37" y="16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1040" y="35323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10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49520" y="3171600"/>
              <a:ext cx="182520" cy="34308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64" y="216"/>
                  </a:moveTo>
                  <a:lnTo>
                    <a:pt x="54" y="204"/>
                  </a:lnTo>
                  <a:lnTo>
                    <a:pt x="50" y="200"/>
                  </a:lnTo>
                  <a:lnTo>
                    <a:pt x="49" y="193"/>
                  </a:lnTo>
                  <a:lnTo>
                    <a:pt x="49" y="175"/>
                  </a:lnTo>
                  <a:lnTo>
                    <a:pt x="46" y="167"/>
                  </a:lnTo>
                  <a:lnTo>
                    <a:pt x="43" y="160"/>
                  </a:lnTo>
                  <a:lnTo>
                    <a:pt x="39" y="153"/>
                  </a:lnTo>
                  <a:lnTo>
                    <a:pt x="35" y="147"/>
                  </a:lnTo>
                  <a:lnTo>
                    <a:pt x="26" y="136"/>
                  </a:lnTo>
                  <a:lnTo>
                    <a:pt x="17" y="126"/>
                  </a:lnTo>
                  <a:lnTo>
                    <a:pt x="10" y="115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6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14" y="98"/>
                  </a:lnTo>
                  <a:lnTo>
                    <a:pt x="21" y="102"/>
                  </a:lnTo>
                  <a:lnTo>
                    <a:pt x="28" y="102"/>
                  </a:lnTo>
                  <a:lnTo>
                    <a:pt x="33" y="101"/>
                  </a:lnTo>
                  <a:lnTo>
                    <a:pt x="38" y="97"/>
                  </a:lnTo>
                  <a:lnTo>
                    <a:pt x="43" y="90"/>
                  </a:lnTo>
                  <a:lnTo>
                    <a:pt x="47" y="84"/>
                  </a:lnTo>
                  <a:lnTo>
                    <a:pt x="51" y="76"/>
                  </a:lnTo>
                  <a:lnTo>
                    <a:pt x="54" y="66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1" y="36"/>
                  </a:lnTo>
                  <a:lnTo>
                    <a:pt x="65" y="16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7" y="14"/>
                  </a:lnTo>
                  <a:lnTo>
                    <a:pt x="85" y="25"/>
                  </a:lnTo>
                  <a:lnTo>
                    <a:pt x="92" y="40"/>
                  </a:lnTo>
                  <a:lnTo>
                    <a:pt x="100" y="56"/>
                  </a:lnTo>
                  <a:lnTo>
                    <a:pt x="107" y="70"/>
                  </a:lnTo>
                  <a:lnTo>
                    <a:pt x="112" y="82"/>
                  </a:lnTo>
                  <a:lnTo>
                    <a:pt x="115" y="93"/>
                  </a:lnTo>
                  <a:lnTo>
                    <a:pt x="110" y="91"/>
                  </a:lnTo>
                  <a:lnTo>
                    <a:pt x="99" y="87"/>
                  </a:lnTo>
                  <a:lnTo>
                    <a:pt x="89" y="84"/>
                  </a:lnTo>
                  <a:lnTo>
                    <a:pt x="83" y="81"/>
                  </a:lnTo>
                  <a:lnTo>
                    <a:pt x="74" y="84"/>
                  </a:lnTo>
                  <a:lnTo>
                    <a:pt x="67" y="86"/>
                  </a:lnTo>
                  <a:lnTo>
                    <a:pt x="60" y="91"/>
                  </a:lnTo>
                  <a:lnTo>
                    <a:pt x="56" y="98"/>
                  </a:lnTo>
                  <a:lnTo>
                    <a:pt x="54" y="106"/>
                  </a:lnTo>
                  <a:lnTo>
                    <a:pt x="53" y="115"/>
                  </a:lnTo>
                  <a:lnTo>
                    <a:pt x="52" y="124"/>
                  </a:lnTo>
                  <a:lnTo>
                    <a:pt x="53" y="134"/>
                  </a:lnTo>
                  <a:lnTo>
                    <a:pt x="60" y="177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64" y="21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59000" y="3452760"/>
              <a:ext cx="68400" cy="572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38" y="36"/>
                  </a:moveTo>
                  <a:lnTo>
                    <a:pt x="28" y="28"/>
                  </a:lnTo>
                  <a:lnTo>
                    <a:pt x="18" y="20"/>
                  </a:lnTo>
                  <a:lnTo>
                    <a:pt x="8" y="13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7" y="3"/>
                  </a:lnTo>
                  <a:lnTo>
                    <a:pt x="14" y="7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9" y="25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3" y="35"/>
                  </a:lnTo>
                  <a:lnTo>
                    <a:pt x="41" y="36"/>
                  </a:lnTo>
                  <a:lnTo>
                    <a:pt x="3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70320" y="2995560"/>
              <a:ext cx="591840" cy="507960"/>
            </a:xfrm>
            <a:custGeom>
              <a:avLst/>
              <a:gdLst/>
              <a:ahLst/>
              <a:rect l="l" t="t" r="r" b="b"/>
              <a:pathLst>
                <a:path w="373" h="320">
                  <a:moveTo>
                    <a:pt x="13" y="320"/>
                  </a:moveTo>
                  <a:lnTo>
                    <a:pt x="9" y="303"/>
                  </a:lnTo>
                  <a:lnTo>
                    <a:pt x="5" y="287"/>
                  </a:lnTo>
                  <a:lnTo>
                    <a:pt x="3" y="270"/>
                  </a:lnTo>
                  <a:lnTo>
                    <a:pt x="1" y="254"/>
                  </a:lnTo>
                  <a:lnTo>
                    <a:pt x="0" y="237"/>
                  </a:lnTo>
                  <a:lnTo>
                    <a:pt x="1" y="221"/>
                  </a:lnTo>
                  <a:lnTo>
                    <a:pt x="3" y="205"/>
                  </a:lnTo>
                  <a:lnTo>
                    <a:pt x="6" y="188"/>
                  </a:lnTo>
                  <a:lnTo>
                    <a:pt x="13" y="185"/>
                  </a:lnTo>
                  <a:lnTo>
                    <a:pt x="20" y="183"/>
                  </a:lnTo>
                  <a:lnTo>
                    <a:pt x="42" y="171"/>
                  </a:lnTo>
                  <a:lnTo>
                    <a:pt x="63" y="160"/>
                  </a:lnTo>
                  <a:lnTo>
                    <a:pt x="85" y="152"/>
                  </a:lnTo>
                  <a:lnTo>
                    <a:pt x="107" y="146"/>
                  </a:lnTo>
                  <a:lnTo>
                    <a:pt x="130" y="139"/>
                  </a:lnTo>
                  <a:lnTo>
                    <a:pt x="153" y="134"/>
                  </a:lnTo>
                  <a:lnTo>
                    <a:pt x="175" y="126"/>
                  </a:lnTo>
                  <a:lnTo>
                    <a:pt x="198" y="118"/>
                  </a:lnTo>
                  <a:lnTo>
                    <a:pt x="199" y="107"/>
                  </a:lnTo>
                  <a:lnTo>
                    <a:pt x="198" y="92"/>
                  </a:lnTo>
                  <a:lnTo>
                    <a:pt x="197" y="76"/>
                  </a:lnTo>
                  <a:lnTo>
                    <a:pt x="196" y="65"/>
                  </a:lnTo>
                  <a:lnTo>
                    <a:pt x="197" y="57"/>
                  </a:lnTo>
                  <a:lnTo>
                    <a:pt x="199" y="51"/>
                  </a:lnTo>
                  <a:lnTo>
                    <a:pt x="201" y="44"/>
                  </a:lnTo>
                  <a:lnTo>
                    <a:pt x="204" y="37"/>
                  </a:lnTo>
                  <a:lnTo>
                    <a:pt x="207" y="32"/>
                  </a:lnTo>
                  <a:lnTo>
                    <a:pt x="210" y="27"/>
                  </a:lnTo>
                  <a:lnTo>
                    <a:pt x="214" y="23"/>
                  </a:lnTo>
                  <a:lnTo>
                    <a:pt x="218" y="19"/>
                  </a:lnTo>
                  <a:lnTo>
                    <a:pt x="228" y="11"/>
                  </a:lnTo>
                  <a:lnTo>
                    <a:pt x="238" y="6"/>
                  </a:lnTo>
                  <a:lnTo>
                    <a:pt x="249" y="3"/>
                  </a:lnTo>
                  <a:lnTo>
                    <a:pt x="261" y="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98" y="4"/>
                  </a:lnTo>
                  <a:lnTo>
                    <a:pt x="311" y="8"/>
                  </a:lnTo>
                  <a:lnTo>
                    <a:pt x="322" y="14"/>
                  </a:lnTo>
                  <a:lnTo>
                    <a:pt x="332" y="19"/>
                  </a:lnTo>
                  <a:lnTo>
                    <a:pt x="342" y="27"/>
                  </a:lnTo>
                  <a:lnTo>
                    <a:pt x="350" y="36"/>
                  </a:lnTo>
                  <a:lnTo>
                    <a:pt x="357" y="41"/>
                  </a:lnTo>
                  <a:lnTo>
                    <a:pt x="364" y="49"/>
                  </a:lnTo>
                  <a:lnTo>
                    <a:pt x="368" y="53"/>
                  </a:lnTo>
                  <a:lnTo>
                    <a:pt x="371" y="59"/>
                  </a:lnTo>
                  <a:lnTo>
                    <a:pt x="373" y="65"/>
                  </a:lnTo>
                  <a:lnTo>
                    <a:pt x="373" y="72"/>
                  </a:lnTo>
                  <a:lnTo>
                    <a:pt x="368" y="78"/>
                  </a:lnTo>
                  <a:lnTo>
                    <a:pt x="361" y="84"/>
                  </a:lnTo>
                  <a:lnTo>
                    <a:pt x="355" y="88"/>
                  </a:lnTo>
                  <a:lnTo>
                    <a:pt x="348" y="90"/>
                  </a:lnTo>
                  <a:lnTo>
                    <a:pt x="332" y="93"/>
                  </a:lnTo>
                  <a:lnTo>
                    <a:pt x="316" y="95"/>
                  </a:lnTo>
                  <a:lnTo>
                    <a:pt x="301" y="95"/>
                  </a:lnTo>
                  <a:lnTo>
                    <a:pt x="287" y="97"/>
                  </a:lnTo>
                  <a:lnTo>
                    <a:pt x="281" y="98"/>
                  </a:lnTo>
                  <a:lnTo>
                    <a:pt x="275" y="101"/>
                  </a:lnTo>
                  <a:lnTo>
                    <a:pt x="270" y="103"/>
                  </a:lnTo>
                  <a:lnTo>
                    <a:pt x="266" y="107"/>
                  </a:lnTo>
                  <a:lnTo>
                    <a:pt x="267" y="110"/>
                  </a:lnTo>
                  <a:lnTo>
                    <a:pt x="267" y="114"/>
                  </a:lnTo>
                  <a:lnTo>
                    <a:pt x="270" y="115"/>
                  </a:lnTo>
                  <a:lnTo>
                    <a:pt x="273" y="118"/>
                  </a:lnTo>
                  <a:lnTo>
                    <a:pt x="277" y="118"/>
                  </a:lnTo>
                  <a:lnTo>
                    <a:pt x="282" y="118"/>
                  </a:lnTo>
                  <a:lnTo>
                    <a:pt x="285" y="127"/>
                  </a:lnTo>
                  <a:lnTo>
                    <a:pt x="289" y="136"/>
                  </a:lnTo>
                  <a:lnTo>
                    <a:pt x="295" y="144"/>
                  </a:lnTo>
                  <a:lnTo>
                    <a:pt x="299" y="152"/>
                  </a:lnTo>
                  <a:lnTo>
                    <a:pt x="301" y="158"/>
                  </a:lnTo>
                  <a:lnTo>
                    <a:pt x="303" y="163"/>
                  </a:lnTo>
                  <a:lnTo>
                    <a:pt x="304" y="168"/>
                  </a:lnTo>
                  <a:lnTo>
                    <a:pt x="304" y="173"/>
                  </a:lnTo>
                  <a:lnTo>
                    <a:pt x="303" y="180"/>
                  </a:lnTo>
                  <a:lnTo>
                    <a:pt x="300" y="187"/>
                  </a:lnTo>
                  <a:lnTo>
                    <a:pt x="297" y="195"/>
                  </a:lnTo>
                  <a:lnTo>
                    <a:pt x="292" y="202"/>
                  </a:lnTo>
                  <a:lnTo>
                    <a:pt x="278" y="210"/>
                  </a:lnTo>
                  <a:lnTo>
                    <a:pt x="267" y="217"/>
                  </a:lnTo>
                  <a:lnTo>
                    <a:pt x="262" y="220"/>
                  </a:lnTo>
                  <a:lnTo>
                    <a:pt x="259" y="224"/>
                  </a:lnTo>
                  <a:lnTo>
                    <a:pt x="257" y="226"/>
                  </a:lnTo>
                  <a:lnTo>
                    <a:pt x="255" y="231"/>
                  </a:lnTo>
                  <a:lnTo>
                    <a:pt x="254" y="241"/>
                  </a:lnTo>
                  <a:lnTo>
                    <a:pt x="253" y="254"/>
                  </a:lnTo>
                  <a:lnTo>
                    <a:pt x="253" y="270"/>
                  </a:lnTo>
                  <a:lnTo>
                    <a:pt x="253" y="292"/>
                  </a:lnTo>
                  <a:lnTo>
                    <a:pt x="252" y="295"/>
                  </a:lnTo>
                  <a:lnTo>
                    <a:pt x="250" y="298"/>
                  </a:lnTo>
                  <a:lnTo>
                    <a:pt x="246" y="299"/>
                  </a:lnTo>
                  <a:lnTo>
                    <a:pt x="242" y="300"/>
                  </a:lnTo>
                  <a:lnTo>
                    <a:pt x="232" y="300"/>
                  </a:lnTo>
                  <a:lnTo>
                    <a:pt x="220" y="300"/>
                  </a:lnTo>
                  <a:lnTo>
                    <a:pt x="198" y="296"/>
                  </a:lnTo>
                  <a:lnTo>
                    <a:pt x="184" y="294"/>
                  </a:lnTo>
                  <a:lnTo>
                    <a:pt x="162" y="294"/>
                  </a:lnTo>
                  <a:lnTo>
                    <a:pt x="140" y="294"/>
                  </a:lnTo>
                  <a:lnTo>
                    <a:pt x="120" y="295"/>
                  </a:lnTo>
                  <a:lnTo>
                    <a:pt x="99" y="296"/>
                  </a:lnTo>
                  <a:lnTo>
                    <a:pt x="79" y="300"/>
                  </a:lnTo>
                  <a:lnTo>
                    <a:pt x="59" y="305"/>
                  </a:lnTo>
                  <a:lnTo>
                    <a:pt x="39" y="312"/>
                  </a:lnTo>
                  <a:lnTo>
                    <a:pt x="18" y="320"/>
                  </a:lnTo>
                  <a:lnTo>
                    <a:pt x="15" y="320"/>
                  </a:lnTo>
                  <a:lnTo>
                    <a:pt x="13" y="32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1480" y="3459240"/>
              <a:ext cx="46080" cy="1404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17" y="9"/>
                  </a:moveTo>
                  <a:lnTo>
                    <a:pt x="11" y="9"/>
                  </a:lnTo>
                  <a:lnTo>
                    <a:pt x="7" y="8"/>
                  </a:lnTo>
                  <a:lnTo>
                    <a:pt x="3" y="7"/>
                  </a:lnTo>
                  <a:lnTo>
                    <a:pt x="0" y="4"/>
                  </a:lnTo>
                  <a:lnTo>
                    <a:pt x="5" y="2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6" y="6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5160" y="343368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1" y="10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3" y="11"/>
                  </a:lnTo>
                  <a:lnTo>
                    <a:pt x="5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5800" y="340020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" y="16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5" y="8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9" y="13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4960" y="2909880"/>
              <a:ext cx="428760" cy="496800"/>
            </a:xfrm>
            <a:custGeom>
              <a:avLst/>
              <a:gdLst/>
              <a:ahLst/>
              <a:rect l="l" t="t" r="r" b="b"/>
              <a:pathLst>
                <a:path w="270" h="313">
                  <a:moveTo>
                    <a:pt x="150" y="313"/>
                  </a:moveTo>
                  <a:lnTo>
                    <a:pt x="137" y="308"/>
                  </a:lnTo>
                  <a:lnTo>
                    <a:pt x="125" y="301"/>
                  </a:lnTo>
                  <a:lnTo>
                    <a:pt x="115" y="295"/>
                  </a:lnTo>
                  <a:lnTo>
                    <a:pt x="106" y="285"/>
                  </a:lnTo>
                  <a:lnTo>
                    <a:pt x="105" y="279"/>
                  </a:lnTo>
                  <a:lnTo>
                    <a:pt x="102" y="271"/>
                  </a:lnTo>
                  <a:lnTo>
                    <a:pt x="99" y="260"/>
                  </a:lnTo>
                  <a:lnTo>
                    <a:pt x="94" y="249"/>
                  </a:lnTo>
                  <a:lnTo>
                    <a:pt x="82" y="222"/>
                  </a:lnTo>
                  <a:lnTo>
                    <a:pt x="68" y="193"/>
                  </a:lnTo>
                  <a:lnTo>
                    <a:pt x="52" y="167"/>
                  </a:lnTo>
                  <a:lnTo>
                    <a:pt x="38" y="144"/>
                  </a:lnTo>
                  <a:lnTo>
                    <a:pt x="31" y="135"/>
                  </a:lnTo>
                  <a:lnTo>
                    <a:pt x="24" y="128"/>
                  </a:lnTo>
                  <a:lnTo>
                    <a:pt x="19" y="123"/>
                  </a:lnTo>
                  <a:lnTo>
                    <a:pt x="14" y="122"/>
                  </a:lnTo>
                  <a:lnTo>
                    <a:pt x="15" y="105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8" y="91"/>
                  </a:lnTo>
                  <a:lnTo>
                    <a:pt x="5" y="91"/>
                  </a:lnTo>
                  <a:lnTo>
                    <a:pt x="2" y="93"/>
                  </a:lnTo>
                  <a:lnTo>
                    <a:pt x="1" y="94"/>
                  </a:lnTo>
                  <a:lnTo>
                    <a:pt x="0" y="95"/>
                  </a:lnTo>
                  <a:lnTo>
                    <a:pt x="1" y="86"/>
                  </a:lnTo>
                  <a:lnTo>
                    <a:pt x="3" y="80"/>
                  </a:lnTo>
                  <a:lnTo>
                    <a:pt x="6" y="73"/>
                  </a:lnTo>
                  <a:lnTo>
                    <a:pt x="11" y="66"/>
                  </a:lnTo>
                  <a:lnTo>
                    <a:pt x="16" y="62"/>
                  </a:lnTo>
                  <a:lnTo>
                    <a:pt x="23" y="57"/>
                  </a:lnTo>
                  <a:lnTo>
                    <a:pt x="31" y="54"/>
                  </a:lnTo>
                  <a:lnTo>
                    <a:pt x="38" y="50"/>
                  </a:lnTo>
                  <a:lnTo>
                    <a:pt x="69" y="43"/>
                  </a:lnTo>
                  <a:lnTo>
                    <a:pt x="94" y="36"/>
                  </a:lnTo>
                  <a:lnTo>
                    <a:pt x="111" y="27"/>
                  </a:lnTo>
                  <a:lnTo>
                    <a:pt x="126" y="17"/>
                  </a:lnTo>
                  <a:lnTo>
                    <a:pt x="143" y="8"/>
                  </a:lnTo>
                  <a:lnTo>
                    <a:pt x="158" y="0"/>
                  </a:lnTo>
                  <a:lnTo>
                    <a:pt x="157" y="17"/>
                  </a:lnTo>
                  <a:lnTo>
                    <a:pt x="157" y="33"/>
                  </a:lnTo>
                  <a:lnTo>
                    <a:pt x="157" y="48"/>
                  </a:lnTo>
                  <a:lnTo>
                    <a:pt x="158" y="60"/>
                  </a:lnTo>
                  <a:lnTo>
                    <a:pt x="159" y="72"/>
                  </a:lnTo>
                  <a:lnTo>
                    <a:pt x="161" y="82"/>
                  </a:lnTo>
                  <a:lnTo>
                    <a:pt x="164" y="91"/>
                  </a:lnTo>
                  <a:lnTo>
                    <a:pt x="167" y="99"/>
                  </a:lnTo>
                  <a:lnTo>
                    <a:pt x="172" y="109"/>
                  </a:lnTo>
                  <a:lnTo>
                    <a:pt x="177" y="116"/>
                  </a:lnTo>
                  <a:lnTo>
                    <a:pt x="184" y="124"/>
                  </a:lnTo>
                  <a:lnTo>
                    <a:pt x="191" y="132"/>
                  </a:lnTo>
                  <a:lnTo>
                    <a:pt x="209" y="152"/>
                  </a:lnTo>
                  <a:lnTo>
                    <a:pt x="231" y="175"/>
                  </a:lnTo>
                  <a:lnTo>
                    <a:pt x="244" y="183"/>
                  </a:lnTo>
                  <a:lnTo>
                    <a:pt x="256" y="192"/>
                  </a:lnTo>
                  <a:lnTo>
                    <a:pt x="261" y="198"/>
                  </a:lnTo>
                  <a:lnTo>
                    <a:pt x="265" y="205"/>
                  </a:lnTo>
                  <a:lnTo>
                    <a:pt x="268" y="214"/>
                  </a:lnTo>
                  <a:lnTo>
                    <a:pt x="270" y="225"/>
                  </a:lnTo>
                  <a:lnTo>
                    <a:pt x="254" y="227"/>
                  </a:lnTo>
                  <a:lnTo>
                    <a:pt x="242" y="231"/>
                  </a:lnTo>
                  <a:lnTo>
                    <a:pt x="236" y="234"/>
                  </a:lnTo>
                  <a:lnTo>
                    <a:pt x="231" y="237"/>
                  </a:lnTo>
                  <a:lnTo>
                    <a:pt x="226" y="241"/>
                  </a:lnTo>
                  <a:lnTo>
                    <a:pt x="222" y="246"/>
                  </a:lnTo>
                  <a:lnTo>
                    <a:pt x="213" y="256"/>
                  </a:lnTo>
                  <a:lnTo>
                    <a:pt x="207" y="270"/>
                  </a:lnTo>
                  <a:lnTo>
                    <a:pt x="200" y="285"/>
                  </a:lnTo>
                  <a:lnTo>
                    <a:pt x="194" y="304"/>
                  </a:lnTo>
                  <a:lnTo>
                    <a:pt x="189" y="307"/>
                  </a:lnTo>
                  <a:lnTo>
                    <a:pt x="184" y="309"/>
                  </a:lnTo>
                  <a:lnTo>
                    <a:pt x="178" y="312"/>
                  </a:lnTo>
                  <a:lnTo>
                    <a:pt x="172" y="312"/>
                  </a:lnTo>
                  <a:lnTo>
                    <a:pt x="162" y="313"/>
                  </a:lnTo>
                  <a:lnTo>
                    <a:pt x="150" y="313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68720" y="33336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36" y="12"/>
                  </a:lnTo>
                  <a:lnTo>
                    <a:pt x="26" y="20"/>
                  </a:lnTo>
                  <a:lnTo>
                    <a:pt x="22" y="22"/>
                  </a:lnTo>
                  <a:lnTo>
                    <a:pt x="16" y="25"/>
                  </a:lnTo>
                  <a:lnTo>
                    <a:pt x="10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55640" y="325584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7"/>
                  </a:moveTo>
                  <a:lnTo>
                    <a:pt x="22" y="24"/>
                  </a:lnTo>
                  <a:lnTo>
                    <a:pt x="19" y="20"/>
                  </a:lnTo>
                  <a:lnTo>
                    <a:pt x="8" y="2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9" y="17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11320" y="2967120"/>
              <a:ext cx="163440" cy="301320"/>
            </a:xfrm>
            <a:custGeom>
              <a:avLst/>
              <a:gdLst/>
              <a:ahLst/>
              <a:rect l="l" t="t" r="r" b="b"/>
              <a:pathLst>
                <a:path w="103" h="190">
                  <a:moveTo>
                    <a:pt x="96" y="190"/>
                  </a:moveTo>
                  <a:lnTo>
                    <a:pt x="94" y="181"/>
                  </a:lnTo>
                  <a:lnTo>
                    <a:pt x="91" y="173"/>
                  </a:lnTo>
                  <a:lnTo>
                    <a:pt x="86" y="165"/>
                  </a:lnTo>
                  <a:lnTo>
                    <a:pt x="81" y="156"/>
                  </a:lnTo>
                  <a:lnTo>
                    <a:pt x="69" y="140"/>
                  </a:lnTo>
                  <a:lnTo>
                    <a:pt x="54" y="124"/>
                  </a:lnTo>
                  <a:lnTo>
                    <a:pt x="23" y="9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1" y="57"/>
                  </a:lnTo>
                  <a:lnTo>
                    <a:pt x="22" y="42"/>
                  </a:lnTo>
                  <a:lnTo>
                    <a:pt x="34" y="30"/>
                  </a:lnTo>
                  <a:lnTo>
                    <a:pt x="45" y="20"/>
                  </a:lnTo>
                  <a:lnTo>
                    <a:pt x="51" y="14"/>
                  </a:lnTo>
                  <a:lnTo>
                    <a:pt x="57" y="11"/>
                  </a:lnTo>
                  <a:lnTo>
                    <a:pt x="64" y="8"/>
                  </a:lnTo>
                  <a:lnTo>
                    <a:pt x="71" y="5"/>
                  </a:lnTo>
                  <a:lnTo>
                    <a:pt x="78" y="3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3" y="1"/>
                  </a:lnTo>
                  <a:lnTo>
                    <a:pt x="99" y="17"/>
                  </a:lnTo>
                  <a:lnTo>
                    <a:pt x="94" y="33"/>
                  </a:lnTo>
                  <a:lnTo>
                    <a:pt x="88" y="47"/>
                  </a:lnTo>
                  <a:lnTo>
                    <a:pt x="83" y="63"/>
                  </a:lnTo>
                  <a:lnTo>
                    <a:pt x="78" y="79"/>
                  </a:lnTo>
                  <a:lnTo>
                    <a:pt x="75" y="96"/>
                  </a:lnTo>
                  <a:lnTo>
                    <a:pt x="75" y="106"/>
                  </a:lnTo>
                  <a:lnTo>
                    <a:pt x="75" y="115"/>
                  </a:lnTo>
                  <a:lnTo>
                    <a:pt x="76" y="125"/>
                  </a:lnTo>
                  <a:lnTo>
                    <a:pt x="78" y="137"/>
                  </a:lnTo>
                  <a:lnTo>
                    <a:pt x="84" y="145"/>
                  </a:lnTo>
                  <a:lnTo>
                    <a:pt x="95" y="162"/>
                  </a:lnTo>
                  <a:lnTo>
                    <a:pt x="99" y="172"/>
                  </a:lnTo>
                  <a:lnTo>
                    <a:pt x="103" y="180"/>
                  </a:lnTo>
                  <a:lnTo>
                    <a:pt x="103" y="183"/>
                  </a:lnTo>
                  <a:lnTo>
                    <a:pt x="102" y="186"/>
                  </a:lnTo>
                  <a:lnTo>
                    <a:pt x="99" y="189"/>
                  </a:lnTo>
                  <a:lnTo>
                    <a:pt x="96" y="19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57400" y="2011320"/>
              <a:ext cx="1338120" cy="1243080"/>
            </a:xfrm>
            <a:custGeom>
              <a:avLst/>
              <a:gdLst/>
              <a:ahLst/>
              <a:rect l="l" t="t" r="r" b="b"/>
              <a:pathLst>
                <a:path w="843" h="783">
                  <a:moveTo>
                    <a:pt x="352" y="783"/>
                  </a:moveTo>
                  <a:lnTo>
                    <a:pt x="346" y="776"/>
                  </a:lnTo>
                  <a:lnTo>
                    <a:pt x="340" y="767"/>
                  </a:lnTo>
                  <a:lnTo>
                    <a:pt x="334" y="758"/>
                  </a:lnTo>
                  <a:lnTo>
                    <a:pt x="329" y="747"/>
                  </a:lnTo>
                  <a:lnTo>
                    <a:pt x="325" y="735"/>
                  </a:lnTo>
                  <a:lnTo>
                    <a:pt x="320" y="725"/>
                  </a:lnTo>
                  <a:lnTo>
                    <a:pt x="315" y="715"/>
                  </a:lnTo>
                  <a:lnTo>
                    <a:pt x="310" y="708"/>
                  </a:lnTo>
                  <a:lnTo>
                    <a:pt x="292" y="693"/>
                  </a:lnTo>
                  <a:lnTo>
                    <a:pt x="275" y="679"/>
                  </a:lnTo>
                  <a:lnTo>
                    <a:pt x="256" y="667"/>
                  </a:lnTo>
                  <a:lnTo>
                    <a:pt x="239" y="653"/>
                  </a:lnTo>
                  <a:lnTo>
                    <a:pt x="202" y="630"/>
                  </a:lnTo>
                  <a:lnTo>
                    <a:pt x="166" y="605"/>
                  </a:lnTo>
                  <a:lnTo>
                    <a:pt x="149" y="593"/>
                  </a:lnTo>
                  <a:lnTo>
                    <a:pt x="131" y="579"/>
                  </a:lnTo>
                  <a:lnTo>
                    <a:pt x="115" y="566"/>
                  </a:lnTo>
                  <a:lnTo>
                    <a:pt x="98" y="550"/>
                  </a:lnTo>
                  <a:lnTo>
                    <a:pt x="83" y="535"/>
                  </a:lnTo>
                  <a:lnTo>
                    <a:pt x="67" y="519"/>
                  </a:lnTo>
                  <a:lnTo>
                    <a:pt x="54" y="500"/>
                  </a:lnTo>
                  <a:lnTo>
                    <a:pt x="41" y="480"/>
                  </a:lnTo>
                  <a:lnTo>
                    <a:pt x="28" y="450"/>
                  </a:lnTo>
                  <a:lnTo>
                    <a:pt x="18" y="418"/>
                  </a:lnTo>
                  <a:lnTo>
                    <a:pt x="13" y="403"/>
                  </a:lnTo>
                  <a:lnTo>
                    <a:pt x="9" y="385"/>
                  </a:lnTo>
                  <a:lnTo>
                    <a:pt x="6" y="370"/>
                  </a:lnTo>
                  <a:lnTo>
                    <a:pt x="3" y="352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304"/>
                  </a:lnTo>
                  <a:lnTo>
                    <a:pt x="1" y="286"/>
                  </a:lnTo>
                  <a:lnTo>
                    <a:pt x="3" y="271"/>
                  </a:lnTo>
                  <a:lnTo>
                    <a:pt x="5" y="255"/>
                  </a:lnTo>
                  <a:lnTo>
                    <a:pt x="9" y="239"/>
                  </a:lnTo>
                  <a:lnTo>
                    <a:pt x="14" y="224"/>
                  </a:lnTo>
                  <a:lnTo>
                    <a:pt x="21" y="214"/>
                  </a:lnTo>
                  <a:lnTo>
                    <a:pt x="29" y="205"/>
                  </a:lnTo>
                  <a:lnTo>
                    <a:pt x="38" y="197"/>
                  </a:lnTo>
                  <a:lnTo>
                    <a:pt x="46" y="189"/>
                  </a:lnTo>
                  <a:lnTo>
                    <a:pt x="56" y="183"/>
                  </a:lnTo>
                  <a:lnTo>
                    <a:pt x="65" y="179"/>
                  </a:lnTo>
                  <a:lnTo>
                    <a:pt x="76" y="175"/>
                  </a:lnTo>
                  <a:lnTo>
                    <a:pt x="86" y="173"/>
                  </a:lnTo>
                  <a:lnTo>
                    <a:pt x="97" y="172"/>
                  </a:lnTo>
                  <a:lnTo>
                    <a:pt x="107" y="170"/>
                  </a:lnTo>
                  <a:lnTo>
                    <a:pt x="119" y="170"/>
                  </a:lnTo>
                  <a:lnTo>
                    <a:pt x="130" y="170"/>
                  </a:lnTo>
                  <a:lnTo>
                    <a:pt x="153" y="174"/>
                  </a:lnTo>
                  <a:lnTo>
                    <a:pt x="174" y="179"/>
                  </a:lnTo>
                  <a:lnTo>
                    <a:pt x="191" y="187"/>
                  </a:lnTo>
                  <a:lnTo>
                    <a:pt x="205" y="198"/>
                  </a:lnTo>
                  <a:lnTo>
                    <a:pt x="217" y="208"/>
                  </a:lnTo>
                  <a:lnTo>
                    <a:pt x="229" y="219"/>
                  </a:lnTo>
                  <a:lnTo>
                    <a:pt x="249" y="247"/>
                  </a:lnTo>
                  <a:lnTo>
                    <a:pt x="274" y="280"/>
                  </a:lnTo>
                  <a:lnTo>
                    <a:pt x="276" y="280"/>
                  </a:lnTo>
                  <a:lnTo>
                    <a:pt x="277" y="278"/>
                  </a:lnTo>
                  <a:lnTo>
                    <a:pt x="278" y="277"/>
                  </a:lnTo>
                  <a:lnTo>
                    <a:pt x="278" y="276"/>
                  </a:lnTo>
                  <a:lnTo>
                    <a:pt x="279" y="271"/>
                  </a:lnTo>
                  <a:lnTo>
                    <a:pt x="278" y="267"/>
                  </a:lnTo>
                  <a:lnTo>
                    <a:pt x="275" y="256"/>
                  </a:lnTo>
                  <a:lnTo>
                    <a:pt x="273" y="249"/>
                  </a:lnTo>
                  <a:lnTo>
                    <a:pt x="292" y="257"/>
                  </a:lnTo>
                  <a:lnTo>
                    <a:pt x="311" y="261"/>
                  </a:lnTo>
                  <a:lnTo>
                    <a:pt x="320" y="261"/>
                  </a:lnTo>
                  <a:lnTo>
                    <a:pt x="330" y="261"/>
                  </a:lnTo>
                  <a:lnTo>
                    <a:pt x="341" y="260"/>
                  </a:lnTo>
                  <a:lnTo>
                    <a:pt x="352" y="257"/>
                  </a:lnTo>
                  <a:lnTo>
                    <a:pt x="361" y="252"/>
                  </a:lnTo>
                  <a:lnTo>
                    <a:pt x="370" y="245"/>
                  </a:lnTo>
                  <a:lnTo>
                    <a:pt x="380" y="238"/>
                  </a:lnTo>
                  <a:lnTo>
                    <a:pt x="389" y="228"/>
                  </a:lnTo>
                  <a:lnTo>
                    <a:pt x="398" y="218"/>
                  </a:lnTo>
                  <a:lnTo>
                    <a:pt x="407" y="207"/>
                  </a:lnTo>
                  <a:lnTo>
                    <a:pt x="417" y="195"/>
                  </a:lnTo>
                  <a:lnTo>
                    <a:pt x="425" y="183"/>
                  </a:lnTo>
                  <a:lnTo>
                    <a:pt x="432" y="172"/>
                  </a:lnTo>
                  <a:lnTo>
                    <a:pt x="439" y="158"/>
                  </a:lnTo>
                  <a:lnTo>
                    <a:pt x="446" y="144"/>
                  </a:lnTo>
                  <a:lnTo>
                    <a:pt x="452" y="131"/>
                  </a:lnTo>
                  <a:lnTo>
                    <a:pt x="457" y="117"/>
                  </a:lnTo>
                  <a:lnTo>
                    <a:pt x="460" y="104"/>
                  </a:lnTo>
                  <a:lnTo>
                    <a:pt x="463" y="90"/>
                  </a:lnTo>
                  <a:lnTo>
                    <a:pt x="465" y="78"/>
                  </a:lnTo>
                  <a:lnTo>
                    <a:pt x="471" y="61"/>
                  </a:lnTo>
                  <a:lnTo>
                    <a:pt x="479" y="46"/>
                  </a:lnTo>
                  <a:lnTo>
                    <a:pt x="489" y="34"/>
                  </a:lnTo>
                  <a:lnTo>
                    <a:pt x="499" y="24"/>
                  </a:lnTo>
                  <a:lnTo>
                    <a:pt x="510" y="16"/>
                  </a:lnTo>
                  <a:lnTo>
                    <a:pt x="522" y="9"/>
                  </a:lnTo>
                  <a:lnTo>
                    <a:pt x="535" y="5"/>
                  </a:lnTo>
                  <a:lnTo>
                    <a:pt x="548" y="1"/>
                  </a:lnTo>
                  <a:lnTo>
                    <a:pt x="561" y="0"/>
                  </a:lnTo>
                  <a:lnTo>
                    <a:pt x="576" y="1"/>
                  </a:lnTo>
                  <a:lnTo>
                    <a:pt x="589" y="2"/>
                  </a:lnTo>
                  <a:lnTo>
                    <a:pt x="604" y="5"/>
                  </a:lnTo>
                  <a:lnTo>
                    <a:pt x="618" y="10"/>
                  </a:lnTo>
                  <a:lnTo>
                    <a:pt x="631" y="16"/>
                  </a:lnTo>
                  <a:lnTo>
                    <a:pt x="645" y="22"/>
                  </a:lnTo>
                  <a:lnTo>
                    <a:pt x="658" y="32"/>
                  </a:lnTo>
                  <a:lnTo>
                    <a:pt x="669" y="33"/>
                  </a:lnTo>
                  <a:lnTo>
                    <a:pt x="682" y="32"/>
                  </a:lnTo>
                  <a:lnTo>
                    <a:pt x="694" y="30"/>
                  </a:lnTo>
                  <a:lnTo>
                    <a:pt x="706" y="29"/>
                  </a:lnTo>
                  <a:lnTo>
                    <a:pt x="712" y="29"/>
                  </a:lnTo>
                  <a:lnTo>
                    <a:pt x="719" y="29"/>
                  </a:lnTo>
                  <a:lnTo>
                    <a:pt x="724" y="30"/>
                  </a:lnTo>
                  <a:lnTo>
                    <a:pt x="730" y="32"/>
                  </a:lnTo>
                  <a:lnTo>
                    <a:pt x="736" y="34"/>
                  </a:lnTo>
                  <a:lnTo>
                    <a:pt x="741" y="38"/>
                  </a:lnTo>
                  <a:lnTo>
                    <a:pt x="746" y="43"/>
                  </a:lnTo>
                  <a:lnTo>
                    <a:pt x="752" y="50"/>
                  </a:lnTo>
                  <a:lnTo>
                    <a:pt x="756" y="54"/>
                  </a:lnTo>
                  <a:lnTo>
                    <a:pt x="760" y="55"/>
                  </a:lnTo>
                  <a:lnTo>
                    <a:pt x="763" y="57"/>
                  </a:lnTo>
                  <a:lnTo>
                    <a:pt x="767" y="57"/>
                  </a:lnTo>
                  <a:lnTo>
                    <a:pt x="774" y="55"/>
                  </a:lnTo>
                  <a:lnTo>
                    <a:pt x="780" y="54"/>
                  </a:lnTo>
                  <a:lnTo>
                    <a:pt x="783" y="53"/>
                  </a:lnTo>
                  <a:lnTo>
                    <a:pt x="786" y="53"/>
                  </a:lnTo>
                  <a:lnTo>
                    <a:pt x="791" y="54"/>
                  </a:lnTo>
                  <a:lnTo>
                    <a:pt x="794" y="55"/>
                  </a:lnTo>
                  <a:lnTo>
                    <a:pt x="797" y="58"/>
                  </a:lnTo>
                  <a:lnTo>
                    <a:pt x="801" y="62"/>
                  </a:lnTo>
                  <a:lnTo>
                    <a:pt x="804" y="69"/>
                  </a:lnTo>
                  <a:lnTo>
                    <a:pt x="808" y="75"/>
                  </a:lnTo>
                  <a:lnTo>
                    <a:pt x="809" y="100"/>
                  </a:lnTo>
                  <a:lnTo>
                    <a:pt x="810" y="121"/>
                  </a:lnTo>
                  <a:lnTo>
                    <a:pt x="812" y="141"/>
                  </a:lnTo>
                  <a:lnTo>
                    <a:pt x="815" y="160"/>
                  </a:lnTo>
                  <a:lnTo>
                    <a:pt x="820" y="177"/>
                  </a:lnTo>
                  <a:lnTo>
                    <a:pt x="827" y="195"/>
                  </a:lnTo>
                  <a:lnTo>
                    <a:pt x="834" y="215"/>
                  </a:lnTo>
                  <a:lnTo>
                    <a:pt x="843" y="238"/>
                  </a:lnTo>
                  <a:lnTo>
                    <a:pt x="843" y="241"/>
                  </a:lnTo>
                  <a:lnTo>
                    <a:pt x="842" y="247"/>
                  </a:lnTo>
                  <a:lnTo>
                    <a:pt x="840" y="251"/>
                  </a:lnTo>
                  <a:lnTo>
                    <a:pt x="838" y="255"/>
                  </a:lnTo>
                  <a:lnTo>
                    <a:pt x="832" y="261"/>
                  </a:lnTo>
                  <a:lnTo>
                    <a:pt x="825" y="269"/>
                  </a:lnTo>
                  <a:lnTo>
                    <a:pt x="818" y="276"/>
                  </a:lnTo>
                  <a:lnTo>
                    <a:pt x="813" y="284"/>
                  </a:lnTo>
                  <a:lnTo>
                    <a:pt x="811" y="289"/>
                  </a:lnTo>
                  <a:lnTo>
                    <a:pt x="810" y="294"/>
                  </a:lnTo>
                  <a:lnTo>
                    <a:pt x="809" y="301"/>
                  </a:lnTo>
                  <a:lnTo>
                    <a:pt x="809" y="308"/>
                  </a:lnTo>
                  <a:lnTo>
                    <a:pt x="805" y="313"/>
                  </a:lnTo>
                  <a:lnTo>
                    <a:pt x="799" y="318"/>
                  </a:lnTo>
                  <a:lnTo>
                    <a:pt x="793" y="323"/>
                  </a:lnTo>
                  <a:lnTo>
                    <a:pt x="786" y="327"/>
                  </a:lnTo>
                  <a:lnTo>
                    <a:pt x="779" y="333"/>
                  </a:lnTo>
                  <a:lnTo>
                    <a:pt x="772" y="335"/>
                  </a:lnTo>
                  <a:lnTo>
                    <a:pt x="766" y="338"/>
                  </a:lnTo>
                  <a:lnTo>
                    <a:pt x="761" y="339"/>
                  </a:lnTo>
                  <a:lnTo>
                    <a:pt x="757" y="344"/>
                  </a:lnTo>
                  <a:lnTo>
                    <a:pt x="750" y="350"/>
                  </a:lnTo>
                  <a:lnTo>
                    <a:pt x="741" y="355"/>
                  </a:lnTo>
                  <a:lnTo>
                    <a:pt x="732" y="359"/>
                  </a:lnTo>
                  <a:lnTo>
                    <a:pt x="714" y="367"/>
                  </a:lnTo>
                  <a:lnTo>
                    <a:pt x="701" y="372"/>
                  </a:lnTo>
                  <a:lnTo>
                    <a:pt x="683" y="385"/>
                  </a:lnTo>
                  <a:lnTo>
                    <a:pt x="666" y="396"/>
                  </a:lnTo>
                  <a:lnTo>
                    <a:pt x="651" y="407"/>
                  </a:lnTo>
                  <a:lnTo>
                    <a:pt x="636" y="414"/>
                  </a:lnTo>
                  <a:lnTo>
                    <a:pt x="629" y="417"/>
                  </a:lnTo>
                  <a:lnTo>
                    <a:pt x="622" y="418"/>
                  </a:lnTo>
                  <a:lnTo>
                    <a:pt x="614" y="421"/>
                  </a:lnTo>
                  <a:lnTo>
                    <a:pt x="606" y="421"/>
                  </a:lnTo>
                  <a:lnTo>
                    <a:pt x="597" y="421"/>
                  </a:lnTo>
                  <a:lnTo>
                    <a:pt x="588" y="420"/>
                  </a:lnTo>
                  <a:lnTo>
                    <a:pt x="578" y="418"/>
                  </a:lnTo>
                  <a:lnTo>
                    <a:pt x="568" y="416"/>
                  </a:lnTo>
                  <a:lnTo>
                    <a:pt x="554" y="416"/>
                  </a:lnTo>
                  <a:lnTo>
                    <a:pt x="541" y="418"/>
                  </a:lnTo>
                  <a:lnTo>
                    <a:pt x="529" y="420"/>
                  </a:lnTo>
                  <a:lnTo>
                    <a:pt x="515" y="424"/>
                  </a:lnTo>
                  <a:lnTo>
                    <a:pt x="489" y="433"/>
                  </a:lnTo>
                  <a:lnTo>
                    <a:pt x="463" y="443"/>
                  </a:lnTo>
                  <a:lnTo>
                    <a:pt x="412" y="467"/>
                  </a:lnTo>
                  <a:lnTo>
                    <a:pt x="360" y="490"/>
                  </a:lnTo>
                  <a:lnTo>
                    <a:pt x="348" y="495"/>
                  </a:lnTo>
                  <a:lnTo>
                    <a:pt x="336" y="499"/>
                  </a:lnTo>
                  <a:lnTo>
                    <a:pt x="323" y="502"/>
                  </a:lnTo>
                  <a:lnTo>
                    <a:pt x="311" y="504"/>
                  </a:lnTo>
                  <a:lnTo>
                    <a:pt x="299" y="506"/>
                  </a:lnTo>
                  <a:lnTo>
                    <a:pt x="286" y="506"/>
                  </a:lnTo>
                  <a:lnTo>
                    <a:pt x="274" y="504"/>
                  </a:lnTo>
                  <a:lnTo>
                    <a:pt x="262" y="503"/>
                  </a:lnTo>
                  <a:lnTo>
                    <a:pt x="250" y="499"/>
                  </a:lnTo>
                  <a:lnTo>
                    <a:pt x="238" y="494"/>
                  </a:lnTo>
                  <a:lnTo>
                    <a:pt x="227" y="487"/>
                  </a:lnTo>
                  <a:lnTo>
                    <a:pt x="215" y="479"/>
                  </a:lnTo>
                  <a:lnTo>
                    <a:pt x="204" y="469"/>
                  </a:lnTo>
                  <a:lnTo>
                    <a:pt x="193" y="457"/>
                  </a:lnTo>
                  <a:lnTo>
                    <a:pt x="181" y="442"/>
                  </a:lnTo>
                  <a:lnTo>
                    <a:pt x="170" y="426"/>
                  </a:lnTo>
                  <a:lnTo>
                    <a:pt x="161" y="405"/>
                  </a:lnTo>
                  <a:lnTo>
                    <a:pt x="153" y="384"/>
                  </a:lnTo>
                  <a:lnTo>
                    <a:pt x="145" y="363"/>
                  </a:lnTo>
                  <a:lnTo>
                    <a:pt x="140" y="341"/>
                  </a:lnTo>
                  <a:lnTo>
                    <a:pt x="139" y="330"/>
                  </a:lnTo>
                  <a:lnTo>
                    <a:pt x="138" y="319"/>
                  </a:lnTo>
                  <a:lnTo>
                    <a:pt x="138" y="309"/>
                  </a:lnTo>
                  <a:lnTo>
                    <a:pt x="139" y="297"/>
                  </a:lnTo>
                  <a:lnTo>
                    <a:pt x="141" y="286"/>
                  </a:lnTo>
                  <a:lnTo>
                    <a:pt x="144" y="276"/>
                  </a:lnTo>
                  <a:lnTo>
                    <a:pt x="149" y="265"/>
                  </a:lnTo>
                  <a:lnTo>
                    <a:pt x="154" y="256"/>
                  </a:lnTo>
                  <a:lnTo>
                    <a:pt x="154" y="252"/>
                  </a:lnTo>
                  <a:lnTo>
                    <a:pt x="155" y="249"/>
                  </a:lnTo>
                  <a:lnTo>
                    <a:pt x="167" y="256"/>
                  </a:lnTo>
                  <a:lnTo>
                    <a:pt x="178" y="263"/>
                  </a:lnTo>
                  <a:lnTo>
                    <a:pt x="183" y="267"/>
                  </a:lnTo>
                  <a:lnTo>
                    <a:pt x="188" y="272"/>
                  </a:lnTo>
                  <a:lnTo>
                    <a:pt x="193" y="278"/>
                  </a:lnTo>
                  <a:lnTo>
                    <a:pt x="197" y="288"/>
                  </a:lnTo>
                  <a:lnTo>
                    <a:pt x="202" y="309"/>
                  </a:lnTo>
                  <a:lnTo>
                    <a:pt x="205" y="319"/>
                  </a:lnTo>
                  <a:lnTo>
                    <a:pt x="210" y="314"/>
                  </a:lnTo>
                  <a:lnTo>
                    <a:pt x="213" y="308"/>
                  </a:lnTo>
                  <a:lnTo>
                    <a:pt x="214" y="302"/>
                  </a:lnTo>
                  <a:lnTo>
                    <a:pt x="213" y="296"/>
                  </a:lnTo>
                  <a:lnTo>
                    <a:pt x="211" y="289"/>
                  </a:lnTo>
                  <a:lnTo>
                    <a:pt x="208" y="282"/>
                  </a:lnTo>
                  <a:lnTo>
                    <a:pt x="204" y="276"/>
                  </a:lnTo>
                  <a:lnTo>
                    <a:pt x="199" y="269"/>
                  </a:lnTo>
                  <a:lnTo>
                    <a:pt x="188" y="257"/>
                  </a:lnTo>
                  <a:lnTo>
                    <a:pt x="176" y="247"/>
                  </a:lnTo>
                  <a:lnTo>
                    <a:pt x="166" y="240"/>
                  </a:lnTo>
                  <a:lnTo>
                    <a:pt x="161" y="236"/>
                  </a:lnTo>
                  <a:lnTo>
                    <a:pt x="150" y="235"/>
                  </a:lnTo>
                  <a:lnTo>
                    <a:pt x="135" y="235"/>
                  </a:lnTo>
                  <a:lnTo>
                    <a:pt x="119" y="236"/>
                  </a:lnTo>
                  <a:lnTo>
                    <a:pt x="101" y="239"/>
                  </a:lnTo>
                  <a:lnTo>
                    <a:pt x="93" y="241"/>
                  </a:lnTo>
                  <a:lnTo>
                    <a:pt x="86" y="244"/>
                  </a:lnTo>
                  <a:lnTo>
                    <a:pt x="79" y="247"/>
                  </a:lnTo>
                  <a:lnTo>
                    <a:pt x="72" y="251"/>
                  </a:lnTo>
                  <a:lnTo>
                    <a:pt x="66" y="255"/>
                  </a:lnTo>
                  <a:lnTo>
                    <a:pt x="61" y="259"/>
                  </a:lnTo>
                  <a:lnTo>
                    <a:pt x="58" y="264"/>
                  </a:lnTo>
                  <a:lnTo>
                    <a:pt x="56" y="269"/>
                  </a:lnTo>
                  <a:lnTo>
                    <a:pt x="60" y="271"/>
                  </a:lnTo>
                  <a:lnTo>
                    <a:pt x="67" y="268"/>
                  </a:lnTo>
                  <a:lnTo>
                    <a:pt x="78" y="265"/>
                  </a:lnTo>
                  <a:lnTo>
                    <a:pt x="90" y="261"/>
                  </a:lnTo>
                  <a:lnTo>
                    <a:pt x="116" y="253"/>
                  </a:lnTo>
                  <a:lnTo>
                    <a:pt x="136" y="249"/>
                  </a:lnTo>
                  <a:lnTo>
                    <a:pt x="131" y="271"/>
                  </a:lnTo>
                  <a:lnTo>
                    <a:pt x="127" y="292"/>
                  </a:lnTo>
                  <a:lnTo>
                    <a:pt x="126" y="313"/>
                  </a:lnTo>
                  <a:lnTo>
                    <a:pt x="126" y="334"/>
                  </a:lnTo>
                  <a:lnTo>
                    <a:pt x="128" y="354"/>
                  </a:lnTo>
                  <a:lnTo>
                    <a:pt x="132" y="374"/>
                  </a:lnTo>
                  <a:lnTo>
                    <a:pt x="137" y="392"/>
                  </a:lnTo>
                  <a:lnTo>
                    <a:pt x="144" y="410"/>
                  </a:lnTo>
                  <a:lnTo>
                    <a:pt x="153" y="428"/>
                  </a:lnTo>
                  <a:lnTo>
                    <a:pt x="163" y="443"/>
                  </a:lnTo>
                  <a:lnTo>
                    <a:pt x="174" y="459"/>
                  </a:lnTo>
                  <a:lnTo>
                    <a:pt x="187" y="473"/>
                  </a:lnTo>
                  <a:lnTo>
                    <a:pt x="200" y="486"/>
                  </a:lnTo>
                  <a:lnTo>
                    <a:pt x="214" y="498"/>
                  </a:lnTo>
                  <a:lnTo>
                    <a:pt x="231" y="507"/>
                  </a:lnTo>
                  <a:lnTo>
                    <a:pt x="247" y="516"/>
                  </a:lnTo>
                  <a:lnTo>
                    <a:pt x="261" y="519"/>
                  </a:lnTo>
                  <a:lnTo>
                    <a:pt x="274" y="520"/>
                  </a:lnTo>
                  <a:lnTo>
                    <a:pt x="288" y="523"/>
                  </a:lnTo>
                  <a:lnTo>
                    <a:pt x="302" y="524"/>
                  </a:lnTo>
                  <a:lnTo>
                    <a:pt x="319" y="523"/>
                  </a:lnTo>
                  <a:lnTo>
                    <a:pt x="336" y="519"/>
                  </a:lnTo>
                  <a:lnTo>
                    <a:pt x="353" y="513"/>
                  </a:lnTo>
                  <a:lnTo>
                    <a:pt x="369" y="508"/>
                  </a:lnTo>
                  <a:lnTo>
                    <a:pt x="401" y="494"/>
                  </a:lnTo>
                  <a:lnTo>
                    <a:pt x="434" y="478"/>
                  </a:lnTo>
                  <a:lnTo>
                    <a:pt x="467" y="462"/>
                  </a:lnTo>
                  <a:lnTo>
                    <a:pt x="501" y="449"/>
                  </a:lnTo>
                  <a:lnTo>
                    <a:pt x="517" y="442"/>
                  </a:lnTo>
                  <a:lnTo>
                    <a:pt x="536" y="438"/>
                  </a:lnTo>
                  <a:lnTo>
                    <a:pt x="553" y="434"/>
                  </a:lnTo>
                  <a:lnTo>
                    <a:pt x="572" y="433"/>
                  </a:lnTo>
                  <a:lnTo>
                    <a:pt x="590" y="437"/>
                  </a:lnTo>
                  <a:lnTo>
                    <a:pt x="607" y="438"/>
                  </a:lnTo>
                  <a:lnTo>
                    <a:pt x="621" y="437"/>
                  </a:lnTo>
                  <a:lnTo>
                    <a:pt x="635" y="434"/>
                  </a:lnTo>
                  <a:lnTo>
                    <a:pt x="649" y="429"/>
                  </a:lnTo>
                  <a:lnTo>
                    <a:pt x="663" y="421"/>
                  </a:lnTo>
                  <a:lnTo>
                    <a:pt x="678" y="409"/>
                  </a:lnTo>
                  <a:lnTo>
                    <a:pt x="695" y="395"/>
                  </a:lnTo>
                  <a:lnTo>
                    <a:pt x="712" y="385"/>
                  </a:lnTo>
                  <a:lnTo>
                    <a:pt x="731" y="376"/>
                  </a:lnTo>
                  <a:lnTo>
                    <a:pt x="740" y="372"/>
                  </a:lnTo>
                  <a:lnTo>
                    <a:pt x="749" y="368"/>
                  </a:lnTo>
                  <a:lnTo>
                    <a:pt x="759" y="364"/>
                  </a:lnTo>
                  <a:lnTo>
                    <a:pt x="769" y="363"/>
                  </a:lnTo>
                  <a:lnTo>
                    <a:pt x="768" y="366"/>
                  </a:lnTo>
                  <a:lnTo>
                    <a:pt x="766" y="371"/>
                  </a:lnTo>
                  <a:lnTo>
                    <a:pt x="762" y="376"/>
                  </a:lnTo>
                  <a:lnTo>
                    <a:pt x="757" y="383"/>
                  </a:lnTo>
                  <a:lnTo>
                    <a:pt x="744" y="396"/>
                  </a:lnTo>
                  <a:lnTo>
                    <a:pt x="729" y="410"/>
                  </a:lnTo>
                  <a:lnTo>
                    <a:pt x="698" y="438"/>
                  </a:lnTo>
                  <a:lnTo>
                    <a:pt x="678" y="458"/>
                  </a:lnTo>
                  <a:lnTo>
                    <a:pt x="661" y="466"/>
                  </a:lnTo>
                  <a:lnTo>
                    <a:pt x="645" y="471"/>
                  </a:lnTo>
                  <a:lnTo>
                    <a:pt x="628" y="477"/>
                  </a:lnTo>
                  <a:lnTo>
                    <a:pt x="613" y="482"/>
                  </a:lnTo>
                  <a:lnTo>
                    <a:pt x="581" y="491"/>
                  </a:lnTo>
                  <a:lnTo>
                    <a:pt x="549" y="503"/>
                  </a:lnTo>
                  <a:lnTo>
                    <a:pt x="521" y="528"/>
                  </a:lnTo>
                  <a:lnTo>
                    <a:pt x="494" y="550"/>
                  </a:lnTo>
                  <a:lnTo>
                    <a:pt x="479" y="561"/>
                  </a:lnTo>
                  <a:lnTo>
                    <a:pt x="465" y="570"/>
                  </a:lnTo>
                  <a:lnTo>
                    <a:pt x="451" y="578"/>
                  </a:lnTo>
                  <a:lnTo>
                    <a:pt x="436" y="586"/>
                  </a:lnTo>
                  <a:lnTo>
                    <a:pt x="421" y="591"/>
                  </a:lnTo>
                  <a:lnTo>
                    <a:pt x="406" y="598"/>
                  </a:lnTo>
                  <a:lnTo>
                    <a:pt x="391" y="602"/>
                  </a:lnTo>
                  <a:lnTo>
                    <a:pt x="375" y="605"/>
                  </a:lnTo>
                  <a:lnTo>
                    <a:pt x="359" y="607"/>
                  </a:lnTo>
                  <a:lnTo>
                    <a:pt x="343" y="607"/>
                  </a:lnTo>
                  <a:lnTo>
                    <a:pt x="326" y="607"/>
                  </a:lnTo>
                  <a:lnTo>
                    <a:pt x="309" y="605"/>
                  </a:lnTo>
                  <a:lnTo>
                    <a:pt x="308" y="607"/>
                  </a:lnTo>
                  <a:lnTo>
                    <a:pt x="307" y="611"/>
                  </a:lnTo>
                  <a:lnTo>
                    <a:pt x="311" y="615"/>
                  </a:lnTo>
                  <a:lnTo>
                    <a:pt x="314" y="618"/>
                  </a:lnTo>
                  <a:lnTo>
                    <a:pt x="317" y="620"/>
                  </a:lnTo>
                  <a:lnTo>
                    <a:pt x="320" y="622"/>
                  </a:lnTo>
                  <a:lnTo>
                    <a:pt x="328" y="623"/>
                  </a:lnTo>
                  <a:lnTo>
                    <a:pt x="339" y="624"/>
                  </a:lnTo>
                  <a:lnTo>
                    <a:pt x="340" y="626"/>
                  </a:lnTo>
                  <a:lnTo>
                    <a:pt x="340" y="627"/>
                  </a:lnTo>
                  <a:lnTo>
                    <a:pt x="333" y="639"/>
                  </a:lnTo>
                  <a:lnTo>
                    <a:pt x="328" y="653"/>
                  </a:lnTo>
                  <a:lnTo>
                    <a:pt x="326" y="660"/>
                  </a:lnTo>
                  <a:lnTo>
                    <a:pt x="325" y="668"/>
                  </a:lnTo>
                  <a:lnTo>
                    <a:pt x="324" y="676"/>
                  </a:lnTo>
                  <a:lnTo>
                    <a:pt x="323" y="684"/>
                  </a:lnTo>
                  <a:lnTo>
                    <a:pt x="327" y="686"/>
                  </a:lnTo>
                  <a:lnTo>
                    <a:pt x="330" y="688"/>
                  </a:lnTo>
                  <a:lnTo>
                    <a:pt x="336" y="689"/>
                  </a:lnTo>
                  <a:lnTo>
                    <a:pt x="342" y="689"/>
                  </a:lnTo>
                  <a:lnTo>
                    <a:pt x="342" y="700"/>
                  </a:lnTo>
                  <a:lnTo>
                    <a:pt x="344" y="708"/>
                  </a:lnTo>
                  <a:lnTo>
                    <a:pt x="346" y="710"/>
                  </a:lnTo>
                  <a:lnTo>
                    <a:pt x="349" y="712"/>
                  </a:lnTo>
                  <a:lnTo>
                    <a:pt x="353" y="714"/>
                  </a:lnTo>
                  <a:lnTo>
                    <a:pt x="358" y="715"/>
                  </a:lnTo>
                  <a:lnTo>
                    <a:pt x="359" y="727"/>
                  </a:lnTo>
                  <a:lnTo>
                    <a:pt x="359" y="737"/>
                  </a:lnTo>
                  <a:lnTo>
                    <a:pt x="359" y="747"/>
                  </a:lnTo>
                  <a:lnTo>
                    <a:pt x="359" y="763"/>
                  </a:lnTo>
                  <a:lnTo>
                    <a:pt x="359" y="767"/>
                  </a:lnTo>
                  <a:lnTo>
                    <a:pt x="357" y="775"/>
                  </a:lnTo>
                  <a:lnTo>
                    <a:pt x="356" y="779"/>
                  </a:lnTo>
                  <a:lnTo>
                    <a:pt x="355" y="782"/>
                  </a:lnTo>
                  <a:lnTo>
                    <a:pt x="353" y="783"/>
                  </a:lnTo>
                  <a:lnTo>
                    <a:pt x="352" y="78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5200" y="1836720"/>
              <a:ext cx="841320" cy="566640"/>
            </a:xfrm>
            <a:custGeom>
              <a:avLst/>
              <a:gdLst/>
              <a:ahLst/>
              <a:rect l="l" t="t" r="r" b="b"/>
              <a:pathLst>
                <a:path w="530" h="357">
                  <a:moveTo>
                    <a:pt x="127" y="357"/>
                  </a:moveTo>
                  <a:lnTo>
                    <a:pt x="116" y="354"/>
                  </a:lnTo>
                  <a:lnTo>
                    <a:pt x="102" y="349"/>
                  </a:lnTo>
                  <a:lnTo>
                    <a:pt x="86" y="342"/>
                  </a:lnTo>
                  <a:lnTo>
                    <a:pt x="70" y="334"/>
                  </a:lnTo>
                  <a:lnTo>
                    <a:pt x="54" y="325"/>
                  </a:lnTo>
                  <a:lnTo>
                    <a:pt x="41" y="315"/>
                  </a:lnTo>
                  <a:lnTo>
                    <a:pt x="36" y="308"/>
                  </a:lnTo>
                  <a:lnTo>
                    <a:pt x="33" y="303"/>
                  </a:lnTo>
                  <a:lnTo>
                    <a:pt x="30" y="296"/>
                  </a:lnTo>
                  <a:lnTo>
                    <a:pt x="29" y="291"/>
                  </a:lnTo>
                  <a:lnTo>
                    <a:pt x="24" y="284"/>
                  </a:lnTo>
                  <a:lnTo>
                    <a:pt x="20" y="279"/>
                  </a:lnTo>
                  <a:lnTo>
                    <a:pt x="17" y="274"/>
                  </a:lnTo>
                  <a:lnTo>
                    <a:pt x="15" y="268"/>
                  </a:lnTo>
                  <a:lnTo>
                    <a:pt x="11" y="267"/>
                  </a:lnTo>
                  <a:lnTo>
                    <a:pt x="8" y="264"/>
                  </a:lnTo>
                  <a:lnTo>
                    <a:pt x="6" y="259"/>
                  </a:lnTo>
                  <a:lnTo>
                    <a:pt x="4" y="254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7" y="227"/>
                  </a:lnTo>
                  <a:lnTo>
                    <a:pt x="13" y="221"/>
                  </a:lnTo>
                  <a:lnTo>
                    <a:pt x="17" y="218"/>
                  </a:lnTo>
                  <a:lnTo>
                    <a:pt x="20" y="217"/>
                  </a:lnTo>
                  <a:lnTo>
                    <a:pt x="25" y="215"/>
                  </a:lnTo>
                  <a:lnTo>
                    <a:pt x="30" y="215"/>
                  </a:lnTo>
                  <a:lnTo>
                    <a:pt x="34" y="230"/>
                  </a:lnTo>
                  <a:lnTo>
                    <a:pt x="40" y="243"/>
                  </a:lnTo>
                  <a:lnTo>
                    <a:pt x="45" y="255"/>
                  </a:lnTo>
                  <a:lnTo>
                    <a:pt x="52" y="266"/>
                  </a:lnTo>
                  <a:lnTo>
                    <a:pt x="59" y="275"/>
                  </a:lnTo>
                  <a:lnTo>
                    <a:pt x="68" y="283"/>
                  </a:lnTo>
                  <a:lnTo>
                    <a:pt x="76" y="289"/>
                  </a:lnTo>
                  <a:lnTo>
                    <a:pt x="84" y="293"/>
                  </a:lnTo>
                  <a:lnTo>
                    <a:pt x="93" y="297"/>
                  </a:lnTo>
                  <a:lnTo>
                    <a:pt x="102" y="300"/>
                  </a:lnTo>
                  <a:lnTo>
                    <a:pt x="112" y="301"/>
                  </a:lnTo>
                  <a:lnTo>
                    <a:pt x="122" y="301"/>
                  </a:lnTo>
                  <a:lnTo>
                    <a:pt x="131" y="301"/>
                  </a:lnTo>
                  <a:lnTo>
                    <a:pt x="142" y="299"/>
                  </a:lnTo>
                  <a:lnTo>
                    <a:pt x="152" y="296"/>
                  </a:lnTo>
                  <a:lnTo>
                    <a:pt x="161" y="292"/>
                  </a:lnTo>
                  <a:lnTo>
                    <a:pt x="170" y="287"/>
                  </a:lnTo>
                  <a:lnTo>
                    <a:pt x="180" y="282"/>
                  </a:lnTo>
                  <a:lnTo>
                    <a:pt x="189" y="275"/>
                  </a:lnTo>
                  <a:lnTo>
                    <a:pt x="197" y="267"/>
                  </a:lnTo>
                  <a:lnTo>
                    <a:pt x="205" y="259"/>
                  </a:lnTo>
                  <a:lnTo>
                    <a:pt x="213" y="250"/>
                  </a:lnTo>
                  <a:lnTo>
                    <a:pt x="221" y="239"/>
                  </a:lnTo>
                  <a:lnTo>
                    <a:pt x="227" y="229"/>
                  </a:lnTo>
                  <a:lnTo>
                    <a:pt x="233" y="218"/>
                  </a:lnTo>
                  <a:lnTo>
                    <a:pt x="238" y="206"/>
                  </a:lnTo>
                  <a:lnTo>
                    <a:pt x="242" y="193"/>
                  </a:lnTo>
                  <a:lnTo>
                    <a:pt x="245" y="180"/>
                  </a:lnTo>
                  <a:lnTo>
                    <a:pt x="247" y="167"/>
                  </a:lnTo>
                  <a:lnTo>
                    <a:pt x="249" y="153"/>
                  </a:lnTo>
                  <a:lnTo>
                    <a:pt x="249" y="139"/>
                  </a:lnTo>
                  <a:lnTo>
                    <a:pt x="248" y="123"/>
                  </a:lnTo>
                  <a:lnTo>
                    <a:pt x="252" y="123"/>
                  </a:lnTo>
                  <a:lnTo>
                    <a:pt x="256" y="119"/>
                  </a:lnTo>
                  <a:lnTo>
                    <a:pt x="254" y="115"/>
                  </a:lnTo>
                  <a:lnTo>
                    <a:pt x="252" y="112"/>
                  </a:lnTo>
                  <a:lnTo>
                    <a:pt x="250" y="109"/>
                  </a:lnTo>
                  <a:lnTo>
                    <a:pt x="247" y="107"/>
                  </a:lnTo>
                  <a:lnTo>
                    <a:pt x="238" y="103"/>
                  </a:lnTo>
                  <a:lnTo>
                    <a:pt x="228" y="102"/>
                  </a:lnTo>
                  <a:lnTo>
                    <a:pt x="214" y="101"/>
                  </a:lnTo>
                  <a:lnTo>
                    <a:pt x="200" y="102"/>
                  </a:lnTo>
                  <a:lnTo>
                    <a:pt x="186" y="103"/>
                  </a:lnTo>
                  <a:lnTo>
                    <a:pt x="169" y="106"/>
                  </a:lnTo>
                  <a:lnTo>
                    <a:pt x="138" y="112"/>
                  </a:lnTo>
                  <a:lnTo>
                    <a:pt x="111" y="120"/>
                  </a:lnTo>
                  <a:lnTo>
                    <a:pt x="89" y="126"/>
                  </a:lnTo>
                  <a:lnTo>
                    <a:pt x="78" y="130"/>
                  </a:lnTo>
                  <a:lnTo>
                    <a:pt x="76" y="131"/>
                  </a:lnTo>
                  <a:lnTo>
                    <a:pt x="73" y="134"/>
                  </a:lnTo>
                  <a:lnTo>
                    <a:pt x="63" y="139"/>
                  </a:lnTo>
                  <a:lnTo>
                    <a:pt x="47" y="148"/>
                  </a:lnTo>
                  <a:lnTo>
                    <a:pt x="43" y="127"/>
                  </a:lnTo>
                  <a:lnTo>
                    <a:pt x="40" y="111"/>
                  </a:lnTo>
                  <a:lnTo>
                    <a:pt x="46" y="109"/>
                  </a:lnTo>
                  <a:lnTo>
                    <a:pt x="55" y="106"/>
                  </a:lnTo>
                  <a:lnTo>
                    <a:pt x="68" y="105"/>
                  </a:lnTo>
                  <a:lnTo>
                    <a:pt x="81" y="102"/>
                  </a:lnTo>
                  <a:lnTo>
                    <a:pt x="107" y="98"/>
                  </a:lnTo>
                  <a:lnTo>
                    <a:pt x="122" y="97"/>
                  </a:lnTo>
                  <a:lnTo>
                    <a:pt x="137" y="91"/>
                  </a:lnTo>
                  <a:lnTo>
                    <a:pt x="156" y="83"/>
                  </a:lnTo>
                  <a:lnTo>
                    <a:pt x="175" y="73"/>
                  </a:lnTo>
                  <a:lnTo>
                    <a:pt x="197" y="64"/>
                  </a:lnTo>
                  <a:lnTo>
                    <a:pt x="218" y="54"/>
                  </a:lnTo>
                  <a:lnTo>
                    <a:pt x="236" y="50"/>
                  </a:lnTo>
                  <a:lnTo>
                    <a:pt x="244" y="49"/>
                  </a:lnTo>
                  <a:lnTo>
                    <a:pt x="251" y="50"/>
                  </a:lnTo>
                  <a:lnTo>
                    <a:pt x="257" y="53"/>
                  </a:lnTo>
                  <a:lnTo>
                    <a:pt x="262" y="57"/>
                  </a:lnTo>
                  <a:lnTo>
                    <a:pt x="265" y="69"/>
                  </a:lnTo>
                  <a:lnTo>
                    <a:pt x="268" y="81"/>
                  </a:lnTo>
                  <a:lnTo>
                    <a:pt x="280" y="81"/>
                  </a:lnTo>
                  <a:lnTo>
                    <a:pt x="303" y="78"/>
                  </a:lnTo>
                  <a:lnTo>
                    <a:pt x="315" y="76"/>
                  </a:lnTo>
                  <a:lnTo>
                    <a:pt x="326" y="73"/>
                  </a:lnTo>
                  <a:lnTo>
                    <a:pt x="335" y="69"/>
                  </a:lnTo>
                  <a:lnTo>
                    <a:pt x="340" y="65"/>
                  </a:lnTo>
                  <a:lnTo>
                    <a:pt x="342" y="53"/>
                  </a:lnTo>
                  <a:lnTo>
                    <a:pt x="345" y="44"/>
                  </a:lnTo>
                  <a:lnTo>
                    <a:pt x="349" y="37"/>
                  </a:lnTo>
                  <a:lnTo>
                    <a:pt x="353" y="33"/>
                  </a:lnTo>
                  <a:lnTo>
                    <a:pt x="357" y="31"/>
                  </a:lnTo>
                  <a:lnTo>
                    <a:pt x="362" y="29"/>
                  </a:lnTo>
                  <a:lnTo>
                    <a:pt x="367" y="29"/>
                  </a:lnTo>
                  <a:lnTo>
                    <a:pt x="374" y="31"/>
                  </a:lnTo>
                  <a:lnTo>
                    <a:pt x="385" y="35"/>
                  </a:lnTo>
                  <a:lnTo>
                    <a:pt x="397" y="39"/>
                  </a:lnTo>
                  <a:lnTo>
                    <a:pt x="402" y="39"/>
                  </a:lnTo>
                  <a:lnTo>
                    <a:pt x="408" y="39"/>
                  </a:lnTo>
                  <a:lnTo>
                    <a:pt x="413" y="37"/>
                  </a:lnTo>
                  <a:lnTo>
                    <a:pt x="418" y="35"/>
                  </a:lnTo>
                  <a:lnTo>
                    <a:pt x="443" y="23"/>
                  </a:lnTo>
                  <a:lnTo>
                    <a:pt x="476" y="7"/>
                  </a:lnTo>
                  <a:lnTo>
                    <a:pt x="486" y="3"/>
                  </a:lnTo>
                  <a:lnTo>
                    <a:pt x="493" y="2"/>
                  </a:lnTo>
                  <a:lnTo>
                    <a:pt x="501" y="0"/>
                  </a:lnTo>
                  <a:lnTo>
                    <a:pt x="508" y="0"/>
                  </a:lnTo>
                  <a:lnTo>
                    <a:pt x="515" y="2"/>
                  </a:lnTo>
                  <a:lnTo>
                    <a:pt x="521" y="6"/>
                  </a:lnTo>
                  <a:lnTo>
                    <a:pt x="526" y="11"/>
                  </a:lnTo>
                  <a:lnTo>
                    <a:pt x="530" y="17"/>
                  </a:lnTo>
                  <a:lnTo>
                    <a:pt x="528" y="41"/>
                  </a:lnTo>
                  <a:lnTo>
                    <a:pt x="524" y="76"/>
                  </a:lnTo>
                  <a:lnTo>
                    <a:pt x="520" y="91"/>
                  </a:lnTo>
                  <a:lnTo>
                    <a:pt x="515" y="106"/>
                  </a:lnTo>
                  <a:lnTo>
                    <a:pt x="513" y="111"/>
                  </a:lnTo>
                  <a:lnTo>
                    <a:pt x="510" y="116"/>
                  </a:lnTo>
                  <a:lnTo>
                    <a:pt x="507" y="119"/>
                  </a:lnTo>
                  <a:lnTo>
                    <a:pt x="504" y="120"/>
                  </a:lnTo>
                  <a:lnTo>
                    <a:pt x="506" y="109"/>
                  </a:lnTo>
                  <a:lnTo>
                    <a:pt x="507" y="98"/>
                  </a:lnTo>
                  <a:lnTo>
                    <a:pt x="508" y="86"/>
                  </a:lnTo>
                  <a:lnTo>
                    <a:pt x="509" y="76"/>
                  </a:lnTo>
                  <a:lnTo>
                    <a:pt x="512" y="76"/>
                  </a:lnTo>
                  <a:lnTo>
                    <a:pt x="515" y="74"/>
                  </a:lnTo>
                  <a:lnTo>
                    <a:pt x="517" y="72"/>
                  </a:lnTo>
                  <a:lnTo>
                    <a:pt x="517" y="68"/>
                  </a:lnTo>
                  <a:lnTo>
                    <a:pt x="518" y="60"/>
                  </a:lnTo>
                  <a:lnTo>
                    <a:pt x="518" y="50"/>
                  </a:lnTo>
                  <a:lnTo>
                    <a:pt x="505" y="44"/>
                  </a:lnTo>
                  <a:lnTo>
                    <a:pt x="496" y="37"/>
                  </a:lnTo>
                  <a:lnTo>
                    <a:pt x="503" y="35"/>
                  </a:lnTo>
                  <a:lnTo>
                    <a:pt x="513" y="31"/>
                  </a:lnTo>
                  <a:lnTo>
                    <a:pt x="513" y="27"/>
                  </a:lnTo>
                  <a:lnTo>
                    <a:pt x="512" y="23"/>
                  </a:lnTo>
                  <a:lnTo>
                    <a:pt x="507" y="20"/>
                  </a:lnTo>
                  <a:lnTo>
                    <a:pt x="499" y="20"/>
                  </a:lnTo>
                  <a:lnTo>
                    <a:pt x="491" y="21"/>
                  </a:lnTo>
                  <a:lnTo>
                    <a:pt x="482" y="24"/>
                  </a:lnTo>
                  <a:lnTo>
                    <a:pt x="473" y="27"/>
                  </a:lnTo>
                  <a:lnTo>
                    <a:pt x="466" y="31"/>
                  </a:lnTo>
                  <a:lnTo>
                    <a:pt x="461" y="33"/>
                  </a:lnTo>
                  <a:lnTo>
                    <a:pt x="459" y="36"/>
                  </a:lnTo>
                  <a:lnTo>
                    <a:pt x="462" y="41"/>
                  </a:lnTo>
                  <a:lnTo>
                    <a:pt x="466" y="44"/>
                  </a:lnTo>
                  <a:lnTo>
                    <a:pt x="463" y="48"/>
                  </a:lnTo>
                  <a:lnTo>
                    <a:pt x="459" y="52"/>
                  </a:lnTo>
                  <a:lnTo>
                    <a:pt x="454" y="54"/>
                  </a:lnTo>
                  <a:lnTo>
                    <a:pt x="447" y="56"/>
                  </a:lnTo>
                  <a:lnTo>
                    <a:pt x="432" y="60"/>
                  </a:lnTo>
                  <a:lnTo>
                    <a:pt x="416" y="64"/>
                  </a:lnTo>
                  <a:lnTo>
                    <a:pt x="399" y="68"/>
                  </a:lnTo>
                  <a:lnTo>
                    <a:pt x="384" y="73"/>
                  </a:lnTo>
                  <a:lnTo>
                    <a:pt x="378" y="77"/>
                  </a:lnTo>
                  <a:lnTo>
                    <a:pt x="373" y="81"/>
                  </a:lnTo>
                  <a:lnTo>
                    <a:pt x="369" y="86"/>
                  </a:lnTo>
                  <a:lnTo>
                    <a:pt x="365" y="93"/>
                  </a:lnTo>
                  <a:lnTo>
                    <a:pt x="357" y="95"/>
                  </a:lnTo>
                  <a:lnTo>
                    <a:pt x="343" y="98"/>
                  </a:lnTo>
                  <a:lnTo>
                    <a:pt x="328" y="99"/>
                  </a:lnTo>
                  <a:lnTo>
                    <a:pt x="319" y="99"/>
                  </a:lnTo>
                  <a:lnTo>
                    <a:pt x="320" y="97"/>
                  </a:lnTo>
                  <a:lnTo>
                    <a:pt x="320" y="86"/>
                  </a:lnTo>
                  <a:lnTo>
                    <a:pt x="312" y="87"/>
                  </a:lnTo>
                  <a:lnTo>
                    <a:pt x="304" y="87"/>
                  </a:lnTo>
                  <a:lnTo>
                    <a:pt x="297" y="89"/>
                  </a:lnTo>
                  <a:lnTo>
                    <a:pt x="288" y="91"/>
                  </a:lnTo>
                  <a:lnTo>
                    <a:pt x="288" y="94"/>
                  </a:lnTo>
                  <a:lnTo>
                    <a:pt x="288" y="95"/>
                  </a:lnTo>
                  <a:lnTo>
                    <a:pt x="298" y="99"/>
                  </a:lnTo>
                  <a:lnTo>
                    <a:pt x="310" y="103"/>
                  </a:lnTo>
                  <a:lnTo>
                    <a:pt x="309" y="105"/>
                  </a:lnTo>
                  <a:lnTo>
                    <a:pt x="307" y="107"/>
                  </a:lnTo>
                  <a:lnTo>
                    <a:pt x="301" y="110"/>
                  </a:lnTo>
                  <a:lnTo>
                    <a:pt x="295" y="114"/>
                  </a:lnTo>
                  <a:lnTo>
                    <a:pt x="289" y="119"/>
                  </a:lnTo>
                  <a:lnTo>
                    <a:pt x="283" y="124"/>
                  </a:lnTo>
                  <a:lnTo>
                    <a:pt x="278" y="132"/>
                  </a:lnTo>
                  <a:lnTo>
                    <a:pt x="273" y="140"/>
                  </a:lnTo>
                  <a:lnTo>
                    <a:pt x="268" y="149"/>
                  </a:lnTo>
                  <a:lnTo>
                    <a:pt x="264" y="159"/>
                  </a:lnTo>
                  <a:lnTo>
                    <a:pt x="256" y="180"/>
                  </a:lnTo>
                  <a:lnTo>
                    <a:pt x="249" y="200"/>
                  </a:lnTo>
                  <a:lnTo>
                    <a:pt x="244" y="218"/>
                  </a:lnTo>
                  <a:lnTo>
                    <a:pt x="242" y="235"/>
                  </a:lnTo>
                  <a:lnTo>
                    <a:pt x="235" y="250"/>
                  </a:lnTo>
                  <a:lnTo>
                    <a:pt x="225" y="274"/>
                  </a:lnTo>
                  <a:lnTo>
                    <a:pt x="219" y="285"/>
                  </a:lnTo>
                  <a:lnTo>
                    <a:pt x="212" y="296"/>
                  </a:lnTo>
                  <a:lnTo>
                    <a:pt x="207" y="304"/>
                  </a:lnTo>
                  <a:lnTo>
                    <a:pt x="202" y="307"/>
                  </a:lnTo>
                  <a:lnTo>
                    <a:pt x="201" y="301"/>
                  </a:lnTo>
                  <a:lnTo>
                    <a:pt x="201" y="296"/>
                  </a:lnTo>
                  <a:lnTo>
                    <a:pt x="198" y="297"/>
                  </a:lnTo>
                  <a:lnTo>
                    <a:pt x="193" y="300"/>
                  </a:lnTo>
                  <a:lnTo>
                    <a:pt x="188" y="305"/>
                  </a:lnTo>
                  <a:lnTo>
                    <a:pt x="182" y="309"/>
                  </a:lnTo>
                  <a:lnTo>
                    <a:pt x="169" y="320"/>
                  </a:lnTo>
                  <a:lnTo>
                    <a:pt x="161" y="328"/>
                  </a:lnTo>
                  <a:lnTo>
                    <a:pt x="156" y="329"/>
                  </a:lnTo>
                  <a:lnTo>
                    <a:pt x="143" y="336"/>
                  </a:lnTo>
                  <a:lnTo>
                    <a:pt x="140" y="337"/>
                  </a:lnTo>
                  <a:lnTo>
                    <a:pt x="137" y="338"/>
                  </a:lnTo>
                  <a:lnTo>
                    <a:pt x="134" y="340"/>
                  </a:lnTo>
                  <a:lnTo>
                    <a:pt x="130" y="340"/>
                  </a:lnTo>
                  <a:lnTo>
                    <a:pt x="121" y="337"/>
                  </a:lnTo>
                  <a:lnTo>
                    <a:pt x="111" y="334"/>
                  </a:lnTo>
                  <a:lnTo>
                    <a:pt x="99" y="330"/>
                  </a:lnTo>
                  <a:lnTo>
                    <a:pt x="89" y="326"/>
                  </a:lnTo>
                  <a:lnTo>
                    <a:pt x="81" y="324"/>
                  </a:lnTo>
                  <a:lnTo>
                    <a:pt x="75" y="322"/>
                  </a:lnTo>
                  <a:lnTo>
                    <a:pt x="84" y="332"/>
                  </a:lnTo>
                  <a:lnTo>
                    <a:pt x="94" y="338"/>
                  </a:lnTo>
                  <a:lnTo>
                    <a:pt x="106" y="345"/>
                  </a:lnTo>
                  <a:lnTo>
                    <a:pt x="117" y="349"/>
                  </a:lnTo>
                  <a:lnTo>
                    <a:pt x="123" y="350"/>
                  </a:lnTo>
                  <a:lnTo>
                    <a:pt x="129" y="350"/>
                  </a:lnTo>
                  <a:lnTo>
                    <a:pt x="135" y="350"/>
                  </a:lnTo>
                  <a:lnTo>
                    <a:pt x="140" y="349"/>
                  </a:lnTo>
                  <a:lnTo>
                    <a:pt x="147" y="348"/>
                  </a:lnTo>
                  <a:lnTo>
                    <a:pt x="153" y="345"/>
                  </a:lnTo>
                  <a:lnTo>
                    <a:pt x="158" y="341"/>
                  </a:lnTo>
                  <a:lnTo>
                    <a:pt x="164" y="337"/>
                  </a:lnTo>
                  <a:lnTo>
                    <a:pt x="165" y="333"/>
                  </a:lnTo>
                  <a:lnTo>
                    <a:pt x="167" y="330"/>
                  </a:lnTo>
                  <a:lnTo>
                    <a:pt x="169" y="329"/>
                  </a:lnTo>
                  <a:lnTo>
                    <a:pt x="171" y="328"/>
                  </a:lnTo>
                  <a:lnTo>
                    <a:pt x="176" y="329"/>
                  </a:lnTo>
                  <a:lnTo>
                    <a:pt x="184" y="329"/>
                  </a:lnTo>
                  <a:lnTo>
                    <a:pt x="170" y="340"/>
                  </a:lnTo>
                  <a:lnTo>
                    <a:pt x="156" y="349"/>
                  </a:lnTo>
                  <a:lnTo>
                    <a:pt x="149" y="351"/>
                  </a:lnTo>
                  <a:lnTo>
                    <a:pt x="142" y="354"/>
                  </a:lnTo>
                  <a:lnTo>
                    <a:pt x="134" y="357"/>
                  </a:lnTo>
                  <a:lnTo>
                    <a:pt x="127" y="35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27120" y="22795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0" y="14"/>
                  </a:moveTo>
                  <a:lnTo>
                    <a:pt x="6" y="10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62040" y="2020680"/>
              <a:ext cx="277920" cy="26856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44" y="169"/>
                  </a:moveTo>
                  <a:lnTo>
                    <a:pt x="36" y="168"/>
                  </a:lnTo>
                  <a:lnTo>
                    <a:pt x="30" y="166"/>
                  </a:lnTo>
                  <a:lnTo>
                    <a:pt x="24" y="162"/>
                  </a:lnTo>
                  <a:lnTo>
                    <a:pt x="19" y="158"/>
                  </a:lnTo>
                  <a:lnTo>
                    <a:pt x="10" y="148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14" y="139"/>
                  </a:lnTo>
                  <a:lnTo>
                    <a:pt x="27" y="142"/>
                  </a:lnTo>
                  <a:lnTo>
                    <a:pt x="39" y="143"/>
                  </a:lnTo>
                  <a:lnTo>
                    <a:pt x="54" y="142"/>
                  </a:lnTo>
                  <a:lnTo>
                    <a:pt x="67" y="140"/>
                  </a:lnTo>
                  <a:lnTo>
                    <a:pt x="81" y="139"/>
                  </a:lnTo>
                  <a:lnTo>
                    <a:pt x="94" y="136"/>
                  </a:lnTo>
                  <a:lnTo>
                    <a:pt x="108" y="132"/>
                  </a:lnTo>
                  <a:lnTo>
                    <a:pt x="120" y="126"/>
                  </a:lnTo>
                  <a:lnTo>
                    <a:pt x="129" y="121"/>
                  </a:lnTo>
                  <a:lnTo>
                    <a:pt x="136" y="114"/>
                  </a:lnTo>
                  <a:lnTo>
                    <a:pt x="141" y="109"/>
                  </a:lnTo>
                  <a:lnTo>
                    <a:pt x="144" y="105"/>
                  </a:lnTo>
                  <a:lnTo>
                    <a:pt x="146" y="99"/>
                  </a:lnTo>
                  <a:lnTo>
                    <a:pt x="146" y="94"/>
                  </a:lnTo>
                  <a:lnTo>
                    <a:pt x="145" y="89"/>
                  </a:lnTo>
                  <a:lnTo>
                    <a:pt x="134" y="65"/>
                  </a:lnTo>
                  <a:lnTo>
                    <a:pt x="117" y="33"/>
                  </a:lnTo>
                  <a:lnTo>
                    <a:pt x="115" y="24"/>
                  </a:lnTo>
                  <a:lnTo>
                    <a:pt x="112" y="19"/>
                  </a:lnTo>
                  <a:lnTo>
                    <a:pt x="109" y="15"/>
                  </a:lnTo>
                  <a:lnTo>
                    <a:pt x="105" y="10"/>
                  </a:lnTo>
                  <a:lnTo>
                    <a:pt x="106" y="8"/>
                  </a:lnTo>
                  <a:lnTo>
                    <a:pt x="106" y="7"/>
                  </a:lnTo>
                  <a:lnTo>
                    <a:pt x="123" y="4"/>
                  </a:lnTo>
                  <a:lnTo>
                    <a:pt x="140" y="2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7" y="2"/>
                  </a:lnTo>
                  <a:lnTo>
                    <a:pt x="175" y="3"/>
                  </a:lnTo>
                  <a:lnTo>
                    <a:pt x="173" y="6"/>
                  </a:lnTo>
                  <a:lnTo>
                    <a:pt x="170" y="7"/>
                  </a:lnTo>
                  <a:lnTo>
                    <a:pt x="168" y="27"/>
                  </a:lnTo>
                  <a:lnTo>
                    <a:pt x="166" y="44"/>
                  </a:lnTo>
                  <a:lnTo>
                    <a:pt x="163" y="60"/>
                  </a:lnTo>
                  <a:lnTo>
                    <a:pt x="160" y="76"/>
                  </a:lnTo>
                  <a:lnTo>
                    <a:pt x="154" y="90"/>
                  </a:lnTo>
                  <a:lnTo>
                    <a:pt x="149" y="103"/>
                  </a:lnTo>
                  <a:lnTo>
                    <a:pt x="143" y="115"/>
                  </a:lnTo>
                  <a:lnTo>
                    <a:pt x="136" y="127"/>
                  </a:lnTo>
                  <a:lnTo>
                    <a:pt x="129" y="136"/>
                  </a:lnTo>
                  <a:lnTo>
                    <a:pt x="120" y="144"/>
                  </a:lnTo>
                  <a:lnTo>
                    <a:pt x="109" y="152"/>
                  </a:lnTo>
                  <a:lnTo>
                    <a:pt x="99" y="159"/>
                  </a:lnTo>
                  <a:lnTo>
                    <a:pt x="87" y="163"/>
                  </a:lnTo>
                  <a:lnTo>
                    <a:pt x="73" y="167"/>
                  </a:lnTo>
                  <a:lnTo>
                    <a:pt x="59" y="168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52440" y="2174760"/>
              <a:ext cx="212760" cy="106560"/>
            </a:xfrm>
            <a:custGeom>
              <a:avLst/>
              <a:gdLst/>
              <a:ahLst/>
              <a:rect l="l" t="t" r="r" b="b"/>
              <a:pathLst>
                <a:path w="134" h="67">
                  <a:moveTo>
                    <a:pt x="132" y="67"/>
                  </a:moveTo>
                  <a:lnTo>
                    <a:pt x="112" y="59"/>
                  </a:lnTo>
                  <a:lnTo>
                    <a:pt x="96" y="55"/>
                  </a:lnTo>
                  <a:lnTo>
                    <a:pt x="79" y="53"/>
                  </a:lnTo>
                  <a:lnTo>
                    <a:pt x="65" y="51"/>
                  </a:lnTo>
                  <a:lnTo>
                    <a:pt x="50" y="53"/>
                  </a:lnTo>
                  <a:lnTo>
                    <a:pt x="34" y="54"/>
                  </a:lnTo>
                  <a:lnTo>
                    <a:pt x="18" y="5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10" y="30"/>
                  </a:lnTo>
                  <a:lnTo>
                    <a:pt x="14" y="20"/>
                  </a:lnTo>
                  <a:lnTo>
                    <a:pt x="36" y="13"/>
                  </a:lnTo>
                  <a:lnTo>
                    <a:pt x="62" y="5"/>
                  </a:lnTo>
                  <a:lnTo>
                    <a:pt x="74" y="2"/>
                  </a:lnTo>
                  <a:lnTo>
                    <a:pt x="88" y="1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16" y="14"/>
                  </a:lnTo>
                  <a:lnTo>
                    <a:pt x="123" y="35"/>
                  </a:lnTo>
                  <a:lnTo>
                    <a:pt x="131" y="55"/>
                  </a:lnTo>
                  <a:lnTo>
                    <a:pt x="134" y="66"/>
                  </a:lnTo>
                  <a:lnTo>
                    <a:pt x="133" y="67"/>
                  </a:lnTo>
                  <a:lnTo>
                    <a:pt x="132" y="6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27240" y="2128680"/>
              <a:ext cx="141480" cy="15084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11" y="95"/>
                  </a:moveTo>
                  <a:lnTo>
                    <a:pt x="8" y="92"/>
                  </a:lnTo>
                  <a:lnTo>
                    <a:pt x="5" y="90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3" y="58"/>
                  </a:lnTo>
                  <a:lnTo>
                    <a:pt x="7" y="49"/>
                  </a:lnTo>
                  <a:lnTo>
                    <a:pt x="12" y="39"/>
                  </a:lnTo>
                  <a:lnTo>
                    <a:pt x="17" y="31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79" y="9"/>
                  </a:lnTo>
                  <a:lnTo>
                    <a:pt x="79" y="13"/>
                  </a:lnTo>
                  <a:lnTo>
                    <a:pt x="74" y="17"/>
                  </a:lnTo>
                  <a:lnTo>
                    <a:pt x="68" y="20"/>
                  </a:lnTo>
                  <a:lnTo>
                    <a:pt x="60" y="22"/>
                  </a:lnTo>
                  <a:lnTo>
                    <a:pt x="52" y="25"/>
                  </a:lnTo>
                  <a:lnTo>
                    <a:pt x="45" y="28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9"/>
                  </a:lnTo>
                  <a:lnTo>
                    <a:pt x="33" y="43"/>
                  </a:lnTo>
                  <a:lnTo>
                    <a:pt x="33" y="47"/>
                  </a:lnTo>
                  <a:lnTo>
                    <a:pt x="38" y="43"/>
                  </a:lnTo>
                  <a:lnTo>
                    <a:pt x="44" y="38"/>
                  </a:lnTo>
                  <a:lnTo>
                    <a:pt x="52" y="34"/>
                  </a:lnTo>
                  <a:lnTo>
                    <a:pt x="60" y="30"/>
                  </a:lnTo>
                  <a:lnTo>
                    <a:pt x="69" y="30"/>
                  </a:lnTo>
                  <a:lnTo>
                    <a:pt x="76" y="30"/>
                  </a:lnTo>
                  <a:lnTo>
                    <a:pt x="80" y="33"/>
                  </a:lnTo>
                  <a:lnTo>
                    <a:pt x="83" y="35"/>
                  </a:lnTo>
                  <a:lnTo>
                    <a:pt x="86" y="38"/>
                  </a:lnTo>
                  <a:lnTo>
                    <a:pt x="89" y="42"/>
                  </a:lnTo>
                  <a:lnTo>
                    <a:pt x="85" y="46"/>
                  </a:lnTo>
                  <a:lnTo>
                    <a:pt x="81" y="47"/>
                  </a:lnTo>
                  <a:lnTo>
                    <a:pt x="74" y="45"/>
                  </a:lnTo>
                  <a:lnTo>
                    <a:pt x="67" y="45"/>
                  </a:lnTo>
                  <a:lnTo>
                    <a:pt x="61" y="46"/>
                  </a:lnTo>
                  <a:lnTo>
                    <a:pt x="56" y="49"/>
                  </a:lnTo>
                  <a:lnTo>
                    <a:pt x="51" y="51"/>
                  </a:lnTo>
                  <a:lnTo>
                    <a:pt x="47" y="55"/>
                  </a:lnTo>
                  <a:lnTo>
                    <a:pt x="44" y="61"/>
                  </a:lnTo>
                  <a:lnTo>
                    <a:pt x="40" y="64"/>
                  </a:lnTo>
                  <a:lnTo>
                    <a:pt x="34" y="75"/>
                  </a:lnTo>
                  <a:lnTo>
                    <a:pt x="26" y="86"/>
                  </a:lnTo>
                  <a:lnTo>
                    <a:pt x="23" y="90"/>
                  </a:lnTo>
                  <a:lnTo>
                    <a:pt x="19" y="92"/>
                  </a:lnTo>
                  <a:lnTo>
                    <a:pt x="15" y="94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52640" y="2103480"/>
              <a:ext cx="315720" cy="137880"/>
            </a:xfrm>
            <a:custGeom>
              <a:avLst/>
              <a:gdLst/>
              <a:ahLst/>
              <a:rect l="l" t="t" r="r" b="b"/>
              <a:pathLst>
                <a:path w="199" h="87">
                  <a:moveTo>
                    <a:pt x="15" y="87"/>
                  </a:moveTo>
                  <a:lnTo>
                    <a:pt x="10" y="84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4" y="42"/>
                  </a:lnTo>
                  <a:lnTo>
                    <a:pt x="8" y="32"/>
                  </a:lnTo>
                  <a:lnTo>
                    <a:pt x="14" y="24"/>
                  </a:lnTo>
                  <a:lnTo>
                    <a:pt x="20" y="17"/>
                  </a:lnTo>
                  <a:lnTo>
                    <a:pt x="34" y="13"/>
                  </a:lnTo>
                  <a:lnTo>
                    <a:pt x="48" y="11"/>
                  </a:lnTo>
                  <a:lnTo>
                    <a:pt x="62" y="9"/>
                  </a:lnTo>
                  <a:lnTo>
                    <a:pt x="76" y="8"/>
                  </a:lnTo>
                  <a:lnTo>
                    <a:pt x="105" y="7"/>
                  </a:lnTo>
                  <a:lnTo>
                    <a:pt x="133" y="7"/>
                  </a:lnTo>
                  <a:lnTo>
                    <a:pt x="149" y="4"/>
                  </a:lnTo>
                  <a:lnTo>
                    <a:pt x="165" y="3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197" y="9"/>
                  </a:lnTo>
                  <a:lnTo>
                    <a:pt x="196" y="16"/>
                  </a:lnTo>
                  <a:lnTo>
                    <a:pt x="196" y="24"/>
                  </a:lnTo>
                  <a:lnTo>
                    <a:pt x="197" y="36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5" y="33"/>
                  </a:lnTo>
                  <a:lnTo>
                    <a:pt x="186" y="30"/>
                  </a:lnTo>
                  <a:lnTo>
                    <a:pt x="186" y="28"/>
                  </a:lnTo>
                  <a:lnTo>
                    <a:pt x="185" y="26"/>
                  </a:lnTo>
                  <a:lnTo>
                    <a:pt x="180" y="25"/>
                  </a:lnTo>
                  <a:lnTo>
                    <a:pt x="172" y="25"/>
                  </a:lnTo>
                  <a:lnTo>
                    <a:pt x="155" y="30"/>
                  </a:lnTo>
                  <a:lnTo>
                    <a:pt x="145" y="33"/>
                  </a:lnTo>
                  <a:lnTo>
                    <a:pt x="144" y="36"/>
                  </a:lnTo>
                  <a:lnTo>
                    <a:pt x="144" y="37"/>
                  </a:lnTo>
                  <a:lnTo>
                    <a:pt x="153" y="40"/>
                  </a:lnTo>
                  <a:lnTo>
                    <a:pt x="162" y="41"/>
                  </a:lnTo>
                  <a:lnTo>
                    <a:pt x="153" y="46"/>
                  </a:lnTo>
                  <a:lnTo>
                    <a:pt x="133" y="53"/>
                  </a:lnTo>
                  <a:lnTo>
                    <a:pt x="113" y="57"/>
                  </a:lnTo>
                  <a:lnTo>
                    <a:pt x="100" y="59"/>
                  </a:lnTo>
                  <a:lnTo>
                    <a:pt x="98" y="54"/>
                  </a:lnTo>
                  <a:lnTo>
                    <a:pt x="98" y="47"/>
                  </a:lnTo>
                  <a:lnTo>
                    <a:pt x="88" y="47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5"/>
                  </a:lnTo>
                  <a:lnTo>
                    <a:pt x="85" y="58"/>
                  </a:lnTo>
                  <a:lnTo>
                    <a:pt x="90" y="61"/>
                  </a:lnTo>
                  <a:lnTo>
                    <a:pt x="86" y="65"/>
                  </a:lnTo>
                  <a:lnTo>
                    <a:pt x="78" y="69"/>
                  </a:lnTo>
                  <a:lnTo>
                    <a:pt x="68" y="73"/>
                  </a:lnTo>
                  <a:lnTo>
                    <a:pt x="55" y="77"/>
                  </a:lnTo>
                  <a:lnTo>
                    <a:pt x="31" y="84"/>
                  </a:lnTo>
                  <a:lnTo>
                    <a:pt x="15" y="8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60600" y="2036880"/>
              <a:ext cx="206280" cy="18396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28" y="116"/>
                  </a:moveTo>
                  <a:lnTo>
                    <a:pt x="13" y="109"/>
                  </a:lnTo>
                  <a:lnTo>
                    <a:pt x="0" y="103"/>
                  </a:lnTo>
                  <a:lnTo>
                    <a:pt x="1" y="84"/>
                  </a:lnTo>
                  <a:lnTo>
                    <a:pt x="3" y="64"/>
                  </a:lnTo>
                  <a:lnTo>
                    <a:pt x="5" y="46"/>
                  </a:lnTo>
                  <a:lnTo>
                    <a:pt x="8" y="27"/>
                  </a:lnTo>
                  <a:lnTo>
                    <a:pt x="20" y="20"/>
                  </a:lnTo>
                  <a:lnTo>
                    <a:pt x="30" y="14"/>
                  </a:lnTo>
                  <a:lnTo>
                    <a:pt x="39" y="9"/>
                  </a:lnTo>
                  <a:lnTo>
                    <a:pt x="49" y="6"/>
                  </a:lnTo>
                  <a:lnTo>
                    <a:pt x="68" y="2"/>
                  </a:lnTo>
                  <a:lnTo>
                    <a:pt x="94" y="0"/>
                  </a:lnTo>
                  <a:lnTo>
                    <a:pt x="95" y="8"/>
                  </a:lnTo>
                  <a:lnTo>
                    <a:pt x="98" y="17"/>
                  </a:lnTo>
                  <a:lnTo>
                    <a:pt x="102" y="27"/>
                  </a:lnTo>
                  <a:lnTo>
                    <a:pt x="107" y="38"/>
                  </a:lnTo>
                  <a:lnTo>
                    <a:pt x="115" y="56"/>
                  </a:lnTo>
                  <a:lnTo>
                    <a:pt x="118" y="66"/>
                  </a:lnTo>
                  <a:lnTo>
                    <a:pt x="108" y="72"/>
                  </a:lnTo>
                  <a:lnTo>
                    <a:pt x="97" y="76"/>
                  </a:lnTo>
                  <a:lnTo>
                    <a:pt x="87" y="80"/>
                  </a:lnTo>
                  <a:lnTo>
                    <a:pt x="76" y="83"/>
                  </a:lnTo>
                  <a:lnTo>
                    <a:pt x="55" y="88"/>
                  </a:lnTo>
                  <a:lnTo>
                    <a:pt x="33" y="91"/>
                  </a:lnTo>
                  <a:lnTo>
                    <a:pt x="30" y="92"/>
                  </a:lnTo>
                  <a:lnTo>
                    <a:pt x="27" y="95"/>
                  </a:lnTo>
                  <a:lnTo>
                    <a:pt x="26" y="96"/>
                  </a:lnTo>
                  <a:lnTo>
                    <a:pt x="25" y="97"/>
                  </a:lnTo>
                  <a:lnTo>
                    <a:pt x="25" y="100"/>
                  </a:lnTo>
                  <a:lnTo>
                    <a:pt x="25" y="103"/>
                  </a:lnTo>
                  <a:lnTo>
                    <a:pt x="32" y="104"/>
                  </a:lnTo>
                  <a:lnTo>
                    <a:pt x="38" y="105"/>
                  </a:lnTo>
                  <a:lnTo>
                    <a:pt x="45" y="105"/>
                  </a:lnTo>
                  <a:lnTo>
                    <a:pt x="52" y="105"/>
                  </a:lnTo>
                  <a:lnTo>
                    <a:pt x="65" y="103"/>
                  </a:lnTo>
                  <a:lnTo>
                    <a:pt x="78" y="99"/>
                  </a:lnTo>
                  <a:lnTo>
                    <a:pt x="104" y="89"/>
                  </a:lnTo>
                  <a:lnTo>
                    <a:pt x="130" y="82"/>
                  </a:lnTo>
                  <a:lnTo>
                    <a:pt x="128" y="88"/>
                  </a:lnTo>
                  <a:lnTo>
                    <a:pt x="125" y="93"/>
                  </a:lnTo>
                  <a:lnTo>
                    <a:pt x="120" y="97"/>
                  </a:lnTo>
                  <a:lnTo>
                    <a:pt x="114" y="101"/>
                  </a:lnTo>
                  <a:lnTo>
                    <a:pt x="100" y="108"/>
                  </a:lnTo>
                  <a:lnTo>
                    <a:pt x="84" y="112"/>
                  </a:lnTo>
                  <a:lnTo>
                    <a:pt x="50" y="116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8480" y="2193840"/>
              <a:ext cx="52200" cy="223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24" y="14"/>
                  </a:moveTo>
                  <a:lnTo>
                    <a:pt x="17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5"/>
                  </a:lnTo>
                  <a:lnTo>
                    <a:pt x="33" y="9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30400" y="2193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3" y="10"/>
                  </a:move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6" y="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47760" y="2162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1920" y="2117520"/>
              <a:ext cx="30240" cy="590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0" y="37"/>
                  </a:moveTo>
                  <a:lnTo>
                    <a:pt x="6" y="32"/>
                  </a:lnTo>
                  <a:lnTo>
                    <a:pt x="2" y="28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13"/>
                  </a:lnTo>
                  <a:lnTo>
                    <a:pt x="18" y="23"/>
                  </a:lnTo>
                  <a:lnTo>
                    <a:pt x="19" y="32"/>
                  </a:lnTo>
                  <a:lnTo>
                    <a:pt x="14" y="3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6080" y="208584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" y="45"/>
                  </a:moveTo>
                  <a:lnTo>
                    <a:pt x="0" y="44"/>
                  </a:lnTo>
                  <a:lnTo>
                    <a:pt x="0" y="43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8" y="10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16" y="20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4" y="43"/>
                  </a:lnTo>
                  <a:lnTo>
                    <a:pt x="8" y="44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84200" y="2109600"/>
              <a:ext cx="12960" cy="446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3" y="28"/>
                  </a:move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7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13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6240" y="20844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3" y="41"/>
                  </a:move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9"/>
                  </a:lnTo>
                  <a:lnTo>
                    <a:pt x="1" y="4"/>
                  </a:lnTo>
                  <a:lnTo>
                    <a:pt x="5" y="1"/>
                  </a:lnTo>
                  <a:lnTo>
                    <a:pt x="11" y="0"/>
                  </a:lnTo>
                  <a:lnTo>
                    <a:pt x="9" y="11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51160" y="2084400"/>
              <a:ext cx="2376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3" y="37"/>
                  </a:moveTo>
                  <a:lnTo>
                    <a:pt x="1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3" y="8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14" y="24"/>
                  </a:lnTo>
                  <a:lnTo>
                    <a:pt x="13" y="28"/>
                  </a:lnTo>
                  <a:lnTo>
                    <a:pt x="12" y="33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1800" y="2098800"/>
              <a:ext cx="1620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5" y="23"/>
                  </a:moveTo>
                  <a:lnTo>
                    <a:pt x="4" y="17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8e85b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43160" y="1940040"/>
              <a:ext cx="190440" cy="137880"/>
            </a:xfrm>
            <a:custGeom>
              <a:avLst/>
              <a:gdLst/>
              <a:ahLst/>
              <a:rect l="l" t="t" r="r" b="b"/>
              <a:pathLst>
                <a:path w="120" h="87">
                  <a:moveTo>
                    <a:pt x="0" y="87"/>
                  </a:moveTo>
                  <a:lnTo>
                    <a:pt x="1" y="82"/>
                  </a:lnTo>
                  <a:lnTo>
                    <a:pt x="4" y="75"/>
                  </a:lnTo>
                  <a:lnTo>
                    <a:pt x="9" y="67"/>
                  </a:lnTo>
                  <a:lnTo>
                    <a:pt x="15" y="59"/>
                  </a:lnTo>
                  <a:lnTo>
                    <a:pt x="23" y="51"/>
                  </a:lnTo>
                  <a:lnTo>
                    <a:pt x="33" y="44"/>
                  </a:lnTo>
                  <a:lnTo>
                    <a:pt x="42" y="36"/>
                  </a:lnTo>
                  <a:lnTo>
                    <a:pt x="52" y="29"/>
                  </a:lnTo>
                  <a:lnTo>
                    <a:pt x="62" y="21"/>
                  </a:lnTo>
                  <a:lnTo>
                    <a:pt x="73" y="14"/>
                  </a:lnTo>
                  <a:lnTo>
                    <a:pt x="83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0" y="3"/>
                  </a:lnTo>
                  <a:lnTo>
                    <a:pt x="114" y="17"/>
                  </a:lnTo>
                  <a:lnTo>
                    <a:pt x="108" y="26"/>
                  </a:lnTo>
                  <a:lnTo>
                    <a:pt x="101" y="34"/>
                  </a:lnTo>
                  <a:lnTo>
                    <a:pt x="90" y="44"/>
                  </a:lnTo>
                  <a:lnTo>
                    <a:pt x="76" y="36"/>
                  </a:lnTo>
                  <a:lnTo>
                    <a:pt x="69" y="30"/>
                  </a:lnTo>
                  <a:lnTo>
                    <a:pt x="64" y="32"/>
                  </a:lnTo>
                  <a:lnTo>
                    <a:pt x="60" y="34"/>
                  </a:lnTo>
                  <a:lnTo>
                    <a:pt x="55" y="42"/>
                  </a:lnTo>
                  <a:lnTo>
                    <a:pt x="46" y="54"/>
                  </a:lnTo>
                  <a:lnTo>
                    <a:pt x="41" y="65"/>
                  </a:lnTo>
                  <a:lnTo>
                    <a:pt x="37" y="73"/>
                  </a:lnTo>
                  <a:lnTo>
                    <a:pt x="33" y="78"/>
                  </a:lnTo>
                  <a:lnTo>
                    <a:pt x="28" y="82"/>
                  </a:lnTo>
                  <a:lnTo>
                    <a:pt x="23" y="84"/>
                  </a:lnTo>
                  <a:lnTo>
                    <a:pt x="17" y="86"/>
                  </a:lnTo>
                  <a:lnTo>
                    <a:pt x="1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04800" y="20397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7" y="15"/>
                  </a:moveTo>
                  <a:lnTo>
                    <a:pt x="4" y="11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28680" y="195876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2" y="34"/>
                  </a:moveTo>
                  <a:lnTo>
                    <a:pt x="16" y="30"/>
                  </a:lnTo>
                  <a:lnTo>
                    <a:pt x="11" y="28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2" y="24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85840" y="1968480"/>
              <a:ext cx="3204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2" y="14"/>
                  </a:moveTo>
                  <a:lnTo>
                    <a:pt x="5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8" y="6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8e85b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05040" y="195084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36" y="17"/>
                  </a:moveTo>
                  <a:lnTo>
                    <a:pt x="31" y="14"/>
                  </a:lnTo>
                  <a:lnTo>
                    <a:pt x="25" y="13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9" y="5"/>
                  </a:lnTo>
                  <a:lnTo>
                    <a:pt x="36" y="7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0" y="15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54120" y="1809720"/>
              <a:ext cx="90720" cy="16524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1" y="104"/>
                  </a:moveTo>
                  <a:lnTo>
                    <a:pt x="0" y="102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2" y="87"/>
                  </a:lnTo>
                  <a:lnTo>
                    <a:pt x="5" y="71"/>
                  </a:lnTo>
                  <a:lnTo>
                    <a:pt x="11" y="54"/>
                  </a:lnTo>
                  <a:lnTo>
                    <a:pt x="16" y="37"/>
                  </a:lnTo>
                  <a:lnTo>
                    <a:pt x="22" y="21"/>
                  </a:lnTo>
                  <a:lnTo>
                    <a:pt x="26" y="8"/>
                  </a:lnTo>
                  <a:lnTo>
                    <a:pt x="30" y="1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5" y="12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45" y="28"/>
                  </a:lnTo>
                  <a:lnTo>
                    <a:pt x="40" y="33"/>
                  </a:lnTo>
                  <a:lnTo>
                    <a:pt x="35" y="38"/>
                  </a:lnTo>
                  <a:lnTo>
                    <a:pt x="28" y="53"/>
                  </a:lnTo>
                  <a:lnTo>
                    <a:pt x="21" y="67"/>
                  </a:lnTo>
                  <a:lnTo>
                    <a:pt x="15" y="81"/>
                  </a:lnTo>
                  <a:lnTo>
                    <a:pt x="9" y="93"/>
                  </a:lnTo>
                  <a:lnTo>
                    <a:pt x="7" y="98"/>
                  </a:lnTo>
                  <a:lnTo>
                    <a:pt x="5" y="102"/>
                  </a:lnTo>
                  <a:lnTo>
                    <a:pt x="3" y="103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5520" y="1879560"/>
              <a:ext cx="87120" cy="9216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0" y="58"/>
                  </a:moveTo>
                  <a:lnTo>
                    <a:pt x="4" y="41"/>
                  </a:lnTo>
                  <a:lnTo>
                    <a:pt x="10" y="26"/>
                  </a:lnTo>
                  <a:lnTo>
                    <a:pt x="16" y="1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1" y="9"/>
                  </a:lnTo>
                  <a:lnTo>
                    <a:pt x="45" y="14"/>
                  </a:lnTo>
                  <a:lnTo>
                    <a:pt x="49" y="22"/>
                  </a:lnTo>
                  <a:lnTo>
                    <a:pt x="52" y="30"/>
                  </a:lnTo>
                  <a:lnTo>
                    <a:pt x="54" y="38"/>
                  </a:lnTo>
                  <a:lnTo>
                    <a:pt x="55" y="46"/>
                  </a:lnTo>
                  <a:lnTo>
                    <a:pt x="50" y="50"/>
                  </a:lnTo>
                  <a:lnTo>
                    <a:pt x="43" y="52"/>
                  </a:lnTo>
                  <a:lnTo>
                    <a:pt x="36" y="54"/>
                  </a:lnTo>
                  <a:lnTo>
                    <a:pt x="28" y="55"/>
                  </a:lnTo>
                  <a:lnTo>
                    <a:pt x="1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97040" y="186372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2" y="49"/>
                  </a:moveTo>
                  <a:lnTo>
                    <a:pt x="8" y="43"/>
                  </a:lnTo>
                  <a:lnTo>
                    <a:pt x="4" y="32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0" y="11"/>
                  </a:lnTo>
                  <a:lnTo>
                    <a:pt x="27" y="7"/>
                  </a:lnTo>
                  <a:lnTo>
                    <a:pt x="50" y="3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9" y="2"/>
                  </a:lnTo>
                  <a:lnTo>
                    <a:pt x="111" y="3"/>
                  </a:lnTo>
                  <a:lnTo>
                    <a:pt x="120" y="7"/>
                  </a:lnTo>
                  <a:lnTo>
                    <a:pt x="128" y="11"/>
                  </a:lnTo>
                  <a:lnTo>
                    <a:pt x="134" y="16"/>
                  </a:lnTo>
                  <a:lnTo>
                    <a:pt x="136" y="20"/>
                  </a:lnTo>
                  <a:lnTo>
                    <a:pt x="138" y="24"/>
                  </a:lnTo>
                  <a:lnTo>
                    <a:pt x="139" y="28"/>
                  </a:lnTo>
                  <a:lnTo>
                    <a:pt x="140" y="32"/>
                  </a:lnTo>
                  <a:lnTo>
                    <a:pt x="137" y="35"/>
                  </a:lnTo>
                  <a:lnTo>
                    <a:pt x="134" y="35"/>
                  </a:lnTo>
                  <a:lnTo>
                    <a:pt x="131" y="32"/>
                  </a:lnTo>
                  <a:lnTo>
                    <a:pt x="129" y="29"/>
                  </a:lnTo>
                  <a:lnTo>
                    <a:pt x="124" y="23"/>
                  </a:lnTo>
                  <a:lnTo>
                    <a:pt x="121" y="18"/>
                  </a:lnTo>
                  <a:lnTo>
                    <a:pt x="111" y="15"/>
                  </a:lnTo>
                  <a:lnTo>
                    <a:pt x="99" y="14"/>
                  </a:lnTo>
                  <a:lnTo>
                    <a:pt x="89" y="15"/>
                  </a:lnTo>
                  <a:lnTo>
                    <a:pt x="79" y="19"/>
                  </a:lnTo>
                  <a:lnTo>
                    <a:pt x="58" y="28"/>
                  </a:lnTo>
                  <a:lnTo>
                    <a:pt x="40" y="39"/>
                  </a:lnTo>
                  <a:lnTo>
                    <a:pt x="18" y="48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57320" y="1706400"/>
              <a:ext cx="160560" cy="222480"/>
            </a:xfrm>
            <a:custGeom>
              <a:avLst/>
              <a:gdLst/>
              <a:ahLst/>
              <a:rect l="l" t="t" r="r" b="b"/>
              <a:pathLst>
                <a:path w="101" h="140">
                  <a:moveTo>
                    <a:pt x="9" y="140"/>
                  </a:moveTo>
                  <a:lnTo>
                    <a:pt x="4" y="139"/>
                  </a:lnTo>
                  <a:lnTo>
                    <a:pt x="0" y="138"/>
                  </a:lnTo>
                  <a:lnTo>
                    <a:pt x="1" y="127"/>
                  </a:lnTo>
                  <a:lnTo>
                    <a:pt x="6" y="111"/>
                  </a:lnTo>
                  <a:lnTo>
                    <a:pt x="12" y="93"/>
                  </a:lnTo>
                  <a:lnTo>
                    <a:pt x="19" y="73"/>
                  </a:lnTo>
                  <a:lnTo>
                    <a:pt x="34" y="32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11"/>
                  </a:lnTo>
                  <a:lnTo>
                    <a:pt x="70" y="16"/>
                  </a:lnTo>
                  <a:lnTo>
                    <a:pt x="74" y="22"/>
                  </a:lnTo>
                  <a:lnTo>
                    <a:pt x="78" y="28"/>
                  </a:lnTo>
                  <a:lnTo>
                    <a:pt x="82" y="35"/>
                  </a:lnTo>
                  <a:lnTo>
                    <a:pt x="88" y="51"/>
                  </a:lnTo>
                  <a:lnTo>
                    <a:pt x="93" y="68"/>
                  </a:lnTo>
                  <a:lnTo>
                    <a:pt x="98" y="84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3" y="99"/>
                  </a:lnTo>
                  <a:lnTo>
                    <a:pt x="86" y="90"/>
                  </a:lnTo>
                  <a:lnTo>
                    <a:pt x="79" y="82"/>
                  </a:lnTo>
                  <a:lnTo>
                    <a:pt x="73" y="76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1" y="78"/>
                  </a:lnTo>
                  <a:lnTo>
                    <a:pt x="49" y="84"/>
                  </a:lnTo>
                  <a:lnTo>
                    <a:pt x="47" y="90"/>
                  </a:lnTo>
                  <a:lnTo>
                    <a:pt x="46" y="99"/>
                  </a:lnTo>
                  <a:lnTo>
                    <a:pt x="40" y="103"/>
                  </a:lnTo>
                  <a:lnTo>
                    <a:pt x="34" y="109"/>
                  </a:lnTo>
                  <a:lnTo>
                    <a:pt x="28" y="115"/>
                  </a:lnTo>
                  <a:lnTo>
                    <a:pt x="23" y="122"/>
                  </a:lnTo>
                  <a:lnTo>
                    <a:pt x="13" y="135"/>
                  </a:lnTo>
                  <a:lnTo>
                    <a:pt x="9" y="14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0480" y="1898640"/>
              <a:ext cx="4428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3" y="13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9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11480" y="189864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35280" y="2503440"/>
              <a:ext cx="121932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Hazard repor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04920" y="4572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ablish procedures for employees’ to submit hazard repor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2590560"/>
            <a:ext cx="2819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make hasty decisio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80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ome important tips to get the most out of your safety meeting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828800"/>
            <a:ext cx="3429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spect your fellow member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2971800"/>
            <a:ext cx="2514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 an open mind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54100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cognize that you may have trouble communicating sometim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1523880"/>
            <a:ext cx="2743200" cy="1371600"/>
          </a:xfrm>
          <a:prstGeom prst="wedgeEllipseCallout">
            <a:avLst>
              <a:gd name="adj1" fmla="val -53356"/>
              <a:gd name="adj2" fmla="val 5254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17524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e come from different world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6" name="clip0095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419360" cy="351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-360" y="53337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available resources to solve problem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267080" y="2438280"/>
            <a:ext cx="4419720" cy="4114800"/>
            <a:chOff x="4267080" y="2438280"/>
            <a:chExt cx="4419720" cy="4114800"/>
          </a:xfrm>
        </p:grpSpPr>
        <p:pic>
          <p:nvPicPr>
            <p:cNvPr id="309" name="clip0017" descr=""/>
            <p:cNvPicPr/>
            <p:nvPr/>
          </p:nvPicPr>
          <p:blipFill>
            <a:blip r:embed="rId1"/>
            <a:stretch/>
          </p:blipFill>
          <p:spPr>
            <a:xfrm>
              <a:off x="4267080" y="2438280"/>
              <a:ext cx="4419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72000" y="2895480"/>
              <a:ext cx="17524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Benguiat Bk BT"/>
                </a:rPr>
                <a:t>Some possible solutions to our problems: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now what your committee’s goals are and what is expected from each memb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828800"/>
            <a:ext cx="3429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on’t waste time complaining - present solutions!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3657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al with one topic at a tim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How often should the Safety Committee meet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n a monthly basis – or at least quarter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673600" y="685800"/>
          <a:ext cx="3470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3600" y="685800"/>
                    <a:ext cx="347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Yes!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ribute meeting minutes to management and safety committee member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t a copy of the minut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e a copy of committee recommendations in the meeting minutes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50000" y="3378240"/>
            <a:ext cx="3294000" cy="3479760"/>
            <a:chOff x="5850000" y="3378240"/>
            <a:chExt cx="3294000" cy="3479760"/>
          </a:xfrm>
        </p:grpSpPr>
        <p:sp>
          <p:nvSpPr>
            <p:cNvPr id="320" name=""/>
            <p:cNvSpPr/>
            <p:nvPr/>
          </p:nvSpPr>
          <p:spPr>
            <a:xfrm>
              <a:off x="7481880" y="3722760"/>
              <a:ext cx="720720" cy="550800"/>
            </a:xfrm>
            <a:custGeom>
              <a:avLst/>
              <a:gdLst/>
              <a:ahLst/>
              <a:rect l="l" t="t" r="r" b="b"/>
              <a:pathLst>
                <a:path w="454" h="347">
                  <a:moveTo>
                    <a:pt x="0" y="109"/>
                  </a:moveTo>
                  <a:lnTo>
                    <a:pt x="88" y="198"/>
                  </a:lnTo>
                  <a:lnTo>
                    <a:pt x="94" y="256"/>
                  </a:lnTo>
                  <a:lnTo>
                    <a:pt x="101" y="347"/>
                  </a:lnTo>
                  <a:lnTo>
                    <a:pt x="125" y="347"/>
                  </a:lnTo>
                  <a:lnTo>
                    <a:pt x="150" y="320"/>
                  </a:lnTo>
                  <a:lnTo>
                    <a:pt x="163" y="268"/>
                  </a:lnTo>
                  <a:lnTo>
                    <a:pt x="163" y="192"/>
                  </a:lnTo>
                  <a:lnTo>
                    <a:pt x="169" y="235"/>
                  </a:lnTo>
                  <a:lnTo>
                    <a:pt x="175" y="262"/>
                  </a:lnTo>
                  <a:lnTo>
                    <a:pt x="182" y="287"/>
                  </a:lnTo>
                  <a:lnTo>
                    <a:pt x="206" y="287"/>
                  </a:lnTo>
                  <a:lnTo>
                    <a:pt x="232" y="262"/>
                  </a:lnTo>
                  <a:lnTo>
                    <a:pt x="232" y="230"/>
                  </a:lnTo>
                  <a:lnTo>
                    <a:pt x="250" y="184"/>
                  </a:lnTo>
                  <a:lnTo>
                    <a:pt x="256" y="217"/>
                  </a:lnTo>
                  <a:lnTo>
                    <a:pt x="268" y="250"/>
                  </a:lnTo>
                  <a:lnTo>
                    <a:pt x="300" y="235"/>
                  </a:lnTo>
                  <a:lnTo>
                    <a:pt x="311" y="210"/>
                  </a:lnTo>
                  <a:lnTo>
                    <a:pt x="311" y="230"/>
                  </a:lnTo>
                  <a:lnTo>
                    <a:pt x="349" y="210"/>
                  </a:lnTo>
                  <a:lnTo>
                    <a:pt x="366" y="165"/>
                  </a:lnTo>
                  <a:lnTo>
                    <a:pt x="355" y="235"/>
                  </a:lnTo>
                  <a:lnTo>
                    <a:pt x="349" y="262"/>
                  </a:lnTo>
                  <a:lnTo>
                    <a:pt x="373" y="268"/>
                  </a:lnTo>
                  <a:lnTo>
                    <a:pt x="380" y="300"/>
                  </a:lnTo>
                  <a:lnTo>
                    <a:pt x="416" y="294"/>
                  </a:lnTo>
                  <a:lnTo>
                    <a:pt x="440" y="235"/>
                  </a:lnTo>
                  <a:lnTo>
                    <a:pt x="454" y="165"/>
                  </a:lnTo>
                  <a:lnTo>
                    <a:pt x="440" y="104"/>
                  </a:lnTo>
                  <a:lnTo>
                    <a:pt x="404" y="52"/>
                  </a:lnTo>
                  <a:lnTo>
                    <a:pt x="359" y="11"/>
                  </a:lnTo>
                  <a:lnTo>
                    <a:pt x="336" y="45"/>
                  </a:lnTo>
                  <a:lnTo>
                    <a:pt x="306" y="19"/>
                  </a:lnTo>
                  <a:lnTo>
                    <a:pt x="286" y="5"/>
                  </a:lnTo>
                  <a:lnTo>
                    <a:pt x="274" y="19"/>
                  </a:lnTo>
                  <a:lnTo>
                    <a:pt x="243" y="11"/>
                  </a:lnTo>
                  <a:lnTo>
                    <a:pt x="237" y="45"/>
                  </a:lnTo>
                  <a:lnTo>
                    <a:pt x="224" y="26"/>
                  </a:lnTo>
                  <a:lnTo>
                    <a:pt x="193" y="19"/>
                  </a:lnTo>
                  <a:lnTo>
                    <a:pt x="163" y="0"/>
                  </a:lnTo>
                  <a:lnTo>
                    <a:pt x="150" y="26"/>
                  </a:lnTo>
                  <a:lnTo>
                    <a:pt x="132" y="11"/>
                  </a:lnTo>
                  <a:lnTo>
                    <a:pt x="107" y="5"/>
                  </a:lnTo>
                  <a:lnTo>
                    <a:pt x="88" y="11"/>
                  </a:lnTo>
                  <a:lnTo>
                    <a:pt x="82" y="52"/>
                  </a:lnTo>
                  <a:lnTo>
                    <a:pt x="88" y="57"/>
                  </a:lnTo>
                  <a:lnTo>
                    <a:pt x="69" y="57"/>
                  </a:lnTo>
                  <a:lnTo>
                    <a:pt x="6" y="52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b07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378840" y="3378240"/>
              <a:ext cx="2765160" cy="3287880"/>
              <a:chOff x="6378840" y="3378240"/>
              <a:chExt cx="2765160" cy="32878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7631280" y="4888080"/>
                <a:ext cx="1512720" cy="1778040"/>
                <a:chOff x="7631280" y="4888080"/>
                <a:chExt cx="1512720" cy="1778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631280" y="4888080"/>
                  <a:ext cx="1512720" cy="1778040"/>
                </a:xfrm>
                <a:custGeom>
                  <a:avLst/>
                  <a:gdLst/>
                  <a:ahLst/>
                  <a:rect l="l" t="t" r="r" b="b"/>
                  <a:pathLst>
                    <a:path w="953" h="1120">
                      <a:moveTo>
                        <a:pt x="0" y="0"/>
                      </a:moveTo>
                      <a:lnTo>
                        <a:pt x="103" y="87"/>
                      </a:lnTo>
                      <a:lnTo>
                        <a:pt x="121" y="149"/>
                      </a:lnTo>
                      <a:lnTo>
                        <a:pt x="237" y="536"/>
                      </a:lnTo>
                      <a:lnTo>
                        <a:pt x="279" y="635"/>
                      </a:lnTo>
                      <a:lnTo>
                        <a:pt x="310" y="685"/>
                      </a:lnTo>
                      <a:lnTo>
                        <a:pt x="354" y="736"/>
                      </a:lnTo>
                      <a:lnTo>
                        <a:pt x="403" y="792"/>
                      </a:lnTo>
                      <a:lnTo>
                        <a:pt x="428" y="884"/>
                      </a:lnTo>
                      <a:lnTo>
                        <a:pt x="454" y="947"/>
                      </a:lnTo>
                      <a:lnTo>
                        <a:pt x="528" y="958"/>
                      </a:lnTo>
                      <a:lnTo>
                        <a:pt x="596" y="1008"/>
                      </a:lnTo>
                      <a:lnTo>
                        <a:pt x="639" y="1051"/>
                      </a:lnTo>
                      <a:lnTo>
                        <a:pt x="682" y="1120"/>
                      </a:lnTo>
                      <a:lnTo>
                        <a:pt x="953" y="1120"/>
                      </a:lnTo>
                      <a:lnTo>
                        <a:pt x="897" y="1086"/>
                      </a:lnTo>
                      <a:lnTo>
                        <a:pt x="857" y="1052"/>
                      </a:lnTo>
                      <a:lnTo>
                        <a:pt x="829" y="1021"/>
                      </a:lnTo>
                      <a:lnTo>
                        <a:pt x="803" y="976"/>
                      </a:lnTo>
                      <a:lnTo>
                        <a:pt x="765" y="933"/>
                      </a:lnTo>
                      <a:lnTo>
                        <a:pt x="728" y="913"/>
                      </a:lnTo>
                      <a:lnTo>
                        <a:pt x="688" y="912"/>
                      </a:lnTo>
                      <a:lnTo>
                        <a:pt x="645" y="926"/>
                      </a:lnTo>
                      <a:lnTo>
                        <a:pt x="629" y="882"/>
                      </a:lnTo>
                      <a:lnTo>
                        <a:pt x="612" y="835"/>
                      </a:lnTo>
                      <a:lnTo>
                        <a:pt x="589" y="804"/>
                      </a:lnTo>
                      <a:lnTo>
                        <a:pt x="548" y="775"/>
                      </a:lnTo>
                      <a:lnTo>
                        <a:pt x="503" y="754"/>
                      </a:lnTo>
                      <a:lnTo>
                        <a:pt x="476" y="713"/>
                      </a:lnTo>
                      <a:lnTo>
                        <a:pt x="465" y="673"/>
                      </a:lnTo>
                      <a:lnTo>
                        <a:pt x="446" y="621"/>
                      </a:lnTo>
                      <a:lnTo>
                        <a:pt x="419" y="582"/>
                      </a:lnTo>
                      <a:lnTo>
                        <a:pt x="395" y="536"/>
                      </a:lnTo>
                      <a:lnTo>
                        <a:pt x="381" y="472"/>
                      </a:lnTo>
                      <a:lnTo>
                        <a:pt x="355" y="418"/>
                      </a:lnTo>
                      <a:lnTo>
                        <a:pt x="322" y="380"/>
                      </a:lnTo>
                      <a:lnTo>
                        <a:pt x="274" y="337"/>
                      </a:lnTo>
                      <a:lnTo>
                        <a:pt x="224" y="307"/>
                      </a:lnTo>
                      <a:lnTo>
                        <a:pt x="149" y="205"/>
                      </a:lnTo>
                      <a:lnTo>
                        <a:pt x="202" y="244"/>
                      </a:lnTo>
                      <a:lnTo>
                        <a:pt x="360" y="289"/>
                      </a:lnTo>
                      <a:lnTo>
                        <a:pt x="315" y="242"/>
                      </a:lnTo>
                      <a:lnTo>
                        <a:pt x="269" y="177"/>
                      </a:lnTo>
                      <a:lnTo>
                        <a:pt x="212" y="118"/>
                      </a:lnTo>
                      <a:lnTo>
                        <a:pt x="146" y="78"/>
                      </a:lnTo>
                      <a:lnTo>
                        <a:pt x="56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788600" y="4979880"/>
                  <a:ext cx="118800" cy="193680"/>
                </a:xfrm>
                <a:custGeom>
                  <a:avLst/>
                  <a:gdLst/>
                  <a:ahLst/>
                  <a:rect l="l" t="t" r="r" b="b"/>
                  <a:pathLst>
                    <a:path w="75" h="122">
                      <a:moveTo>
                        <a:pt x="0" y="0"/>
                      </a:moveTo>
                      <a:lnTo>
                        <a:pt x="31" y="19"/>
                      </a:lnTo>
                      <a:lnTo>
                        <a:pt x="57" y="34"/>
                      </a:lnTo>
                      <a:lnTo>
                        <a:pt x="75" y="65"/>
                      </a:lnTo>
                      <a:lnTo>
                        <a:pt x="47" y="72"/>
                      </a:lnTo>
                      <a:lnTo>
                        <a:pt x="41" y="122"/>
                      </a:lnTo>
                      <a:lnTo>
                        <a:pt x="39" y="106"/>
                      </a:lnTo>
                      <a:lnTo>
                        <a:pt x="25" y="68"/>
                      </a:lnTo>
                      <a:lnTo>
                        <a:pt x="15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378840" y="3378240"/>
                <a:ext cx="1801800" cy="1893960"/>
                <a:chOff x="6378840" y="3378240"/>
                <a:chExt cx="1801800" cy="18939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427800" y="3378240"/>
                  <a:ext cx="1719360" cy="1893960"/>
                </a:xfrm>
                <a:custGeom>
                  <a:avLst/>
                  <a:gdLst/>
                  <a:ahLst/>
                  <a:rect l="l" t="t" r="r" b="b"/>
                  <a:pathLst>
                    <a:path w="1083" h="1193">
                      <a:moveTo>
                        <a:pt x="118" y="725"/>
                      </a:moveTo>
                      <a:lnTo>
                        <a:pt x="149" y="827"/>
                      </a:lnTo>
                      <a:lnTo>
                        <a:pt x="203" y="902"/>
                      </a:lnTo>
                      <a:lnTo>
                        <a:pt x="296" y="961"/>
                      </a:lnTo>
                      <a:lnTo>
                        <a:pt x="392" y="986"/>
                      </a:lnTo>
                      <a:lnTo>
                        <a:pt x="398" y="1016"/>
                      </a:lnTo>
                      <a:lnTo>
                        <a:pt x="898" y="1193"/>
                      </a:lnTo>
                      <a:lnTo>
                        <a:pt x="873" y="1091"/>
                      </a:lnTo>
                      <a:lnTo>
                        <a:pt x="839" y="998"/>
                      </a:lnTo>
                      <a:lnTo>
                        <a:pt x="807" y="948"/>
                      </a:lnTo>
                      <a:lnTo>
                        <a:pt x="801" y="887"/>
                      </a:lnTo>
                      <a:lnTo>
                        <a:pt x="817" y="787"/>
                      </a:lnTo>
                      <a:lnTo>
                        <a:pt x="843" y="725"/>
                      </a:lnTo>
                      <a:lnTo>
                        <a:pt x="876" y="676"/>
                      </a:lnTo>
                      <a:lnTo>
                        <a:pt x="932" y="644"/>
                      </a:lnTo>
                      <a:lnTo>
                        <a:pt x="979" y="598"/>
                      </a:lnTo>
                      <a:lnTo>
                        <a:pt x="1023" y="529"/>
                      </a:lnTo>
                      <a:lnTo>
                        <a:pt x="1049" y="473"/>
                      </a:lnTo>
                      <a:lnTo>
                        <a:pt x="1080" y="387"/>
                      </a:lnTo>
                      <a:lnTo>
                        <a:pt x="1083" y="296"/>
                      </a:lnTo>
                      <a:lnTo>
                        <a:pt x="1044" y="228"/>
                      </a:lnTo>
                      <a:lnTo>
                        <a:pt x="979" y="167"/>
                      </a:lnTo>
                      <a:lnTo>
                        <a:pt x="888" y="102"/>
                      </a:lnTo>
                      <a:lnTo>
                        <a:pt x="801" y="58"/>
                      </a:lnTo>
                      <a:lnTo>
                        <a:pt x="702" y="30"/>
                      </a:lnTo>
                      <a:lnTo>
                        <a:pt x="618" y="11"/>
                      </a:lnTo>
                      <a:lnTo>
                        <a:pt x="527" y="0"/>
                      </a:lnTo>
                      <a:lnTo>
                        <a:pt x="437" y="2"/>
                      </a:lnTo>
                      <a:lnTo>
                        <a:pt x="353" y="18"/>
                      </a:lnTo>
                      <a:lnTo>
                        <a:pt x="280" y="43"/>
                      </a:lnTo>
                      <a:lnTo>
                        <a:pt x="218" y="79"/>
                      </a:lnTo>
                      <a:lnTo>
                        <a:pt x="146" y="126"/>
                      </a:lnTo>
                      <a:lnTo>
                        <a:pt x="80" y="186"/>
                      </a:lnTo>
                      <a:lnTo>
                        <a:pt x="18" y="267"/>
                      </a:lnTo>
                      <a:lnTo>
                        <a:pt x="0" y="341"/>
                      </a:lnTo>
                      <a:lnTo>
                        <a:pt x="6" y="426"/>
                      </a:lnTo>
                      <a:lnTo>
                        <a:pt x="38" y="494"/>
                      </a:lnTo>
                      <a:lnTo>
                        <a:pt x="75" y="539"/>
                      </a:lnTo>
                      <a:lnTo>
                        <a:pt x="100" y="608"/>
                      </a:lnTo>
                      <a:lnTo>
                        <a:pt x="118" y="725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605640" y="3414600"/>
                  <a:ext cx="1575000" cy="1349640"/>
                  <a:chOff x="6605640" y="3414600"/>
                  <a:chExt cx="1575000" cy="134964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6605640" y="3703680"/>
                    <a:ext cx="1575000" cy="1060560"/>
                    <a:chOff x="6605640" y="3703680"/>
                    <a:chExt cx="1575000" cy="1060560"/>
                  </a:xfrm>
                </p:grpSpPr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6605640" y="4421160"/>
                      <a:ext cx="552600" cy="343080"/>
                      <a:chOff x="6605640" y="4421160"/>
                      <a:chExt cx="552600" cy="34308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6634440" y="4421160"/>
                        <a:ext cx="523800" cy="34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0" h="216">
                            <a:moveTo>
                              <a:pt x="0" y="62"/>
                            </a:moveTo>
                            <a:lnTo>
                              <a:pt x="95" y="6"/>
                            </a:lnTo>
                            <a:lnTo>
                              <a:pt x="156" y="0"/>
                            </a:lnTo>
                            <a:lnTo>
                              <a:pt x="236" y="26"/>
                            </a:lnTo>
                            <a:lnTo>
                              <a:pt x="293" y="68"/>
                            </a:lnTo>
                            <a:lnTo>
                              <a:pt x="330" y="99"/>
                            </a:lnTo>
                            <a:lnTo>
                              <a:pt x="330" y="123"/>
                            </a:lnTo>
                            <a:lnTo>
                              <a:pt x="304" y="135"/>
                            </a:lnTo>
                            <a:lnTo>
                              <a:pt x="262" y="105"/>
                            </a:lnTo>
                            <a:lnTo>
                              <a:pt x="199" y="73"/>
                            </a:lnTo>
                            <a:lnTo>
                              <a:pt x="254" y="111"/>
                            </a:lnTo>
                            <a:lnTo>
                              <a:pt x="268" y="135"/>
                            </a:lnTo>
                            <a:lnTo>
                              <a:pt x="268" y="155"/>
                            </a:lnTo>
                            <a:lnTo>
                              <a:pt x="230" y="155"/>
                            </a:lnTo>
                            <a:lnTo>
                              <a:pt x="212" y="155"/>
                            </a:lnTo>
                            <a:lnTo>
                              <a:pt x="199" y="130"/>
                            </a:lnTo>
                            <a:lnTo>
                              <a:pt x="188" y="99"/>
                            </a:lnTo>
                            <a:lnTo>
                              <a:pt x="145" y="73"/>
                            </a:lnTo>
                            <a:lnTo>
                              <a:pt x="163" y="117"/>
                            </a:lnTo>
                            <a:lnTo>
                              <a:pt x="174" y="142"/>
                            </a:lnTo>
                            <a:lnTo>
                              <a:pt x="174" y="155"/>
                            </a:lnTo>
                            <a:lnTo>
                              <a:pt x="163" y="173"/>
                            </a:lnTo>
                            <a:lnTo>
                              <a:pt x="145" y="173"/>
                            </a:lnTo>
                            <a:lnTo>
                              <a:pt x="120" y="155"/>
                            </a:lnTo>
                            <a:lnTo>
                              <a:pt x="82" y="123"/>
                            </a:lnTo>
                            <a:lnTo>
                              <a:pt x="82" y="142"/>
                            </a:lnTo>
                            <a:lnTo>
                              <a:pt x="88" y="167"/>
                            </a:lnTo>
                            <a:lnTo>
                              <a:pt x="88" y="173"/>
                            </a:lnTo>
                            <a:lnTo>
                              <a:pt x="70" y="167"/>
                            </a:lnTo>
                            <a:lnTo>
                              <a:pt x="51" y="155"/>
                            </a:lnTo>
                            <a:lnTo>
                              <a:pt x="51" y="180"/>
                            </a:lnTo>
                            <a:lnTo>
                              <a:pt x="46" y="204"/>
                            </a:lnTo>
                            <a:lnTo>
                              <a:pt x="13" y="216"/>
                            </a:lnTo>
                            <a:lnTo>
                              <a:pt x="0" y="210"/>
                            </a:lnTo>
                            <a:lnTo>
                              <a:pt x="0" y="180"/>
                            </a:lnTo>
                            <a:lnTo>
                              <a:pt x="0" y="142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b07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6605640" y="4421160"/>
                        <a:ext cx="522360" cy="34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216">
                            <a:moveTo>
                              <a:pt x="0" y="62"/>
                            </a:moveTo>
                            <a:lnTo>
                              <a:pt x="94" y="6"/>
                            </a:lnTo>
                            <a:lnTo>
                              <a:pt x="156" y="0"/>
                            </a:lnTo>
                            <a:lnTo>
                              <a:pt x="236" y="26"/>
                            </a:lnTo>
                            <a:lnTo>
                              <a:pt x="291" y="68"/>
                            </a:lnTo>
                            <a:lnTo>
                              <a:pt x="329" y="99"/>
                            </a:lnTo>
                            <a:lnTo>
                              <a:pt x="329" y="123"/>
                            </a:lnTo>
                            <a:lnTo>
                              <a:pt x="304" y="135"/>
                            </a:lnTo>
                            <a:lnTo>
                              <a:pt x="261" y="105"/>
                            </a:lnTo>
                            <a:lnTo>
                              <a:pt x="199" y="73"/>
                            </a:lnTo>
                            <a:lnTo>
                              <a:pt x="254" y="111"/>
                            </a:lnTo>
                            <a:lnTo>
                              <a:pt x="266" y="135"/>
                            </a:lnTo>
                            <a:lnTo>
                              <a:pt x="266" y="155"/>
                            </a:lnTo>
                            <a:lnTo>
                              <a:pt x="230" y="155"/>
                            </a:lnTo>
                            <a:lnTo>
                              <a:pt x="213" y="155"/>
                            </a:lnTo>
                            <a:lnTo>
                              <a:pt x="199" y="130"/>
                            </a:lnTo>
                            <a:lnTo>
                              <a:pt x="187" y="99"/>
                            </a:lnTo>
                            <a:lnTo>
                              <a:pt x="143" y="73"/>
                            </a:lnTo>
                            <a:lnTo>
                              <a:pt x="163" y="117"/>
                            </a:lnTo>
                            <a:lnTo>
                              <a:pt x="174" y="142"/>
                            </a:lnTo>
                            <a:lnTo>
                              <a:pt x="174" y="155"/>
                            </a:lnTo>
                            <a:lnTo>
                              <a:pt x="163" y="173"/>
                            </a:lnTo>
                            <a:lnTo>
                              <a:pt x="143" y="173"/>
                            </a:lnTo>
                            <a:lnTo>
                              <a:pt x="118" y="155"/>
                            </a:lnTo>
                            <a:lnTo>
                              <a:pt x="82" y="123"/>
                            </a:lnTo>
                            <a:lnTo>
                              <a:pt x="82" y="142"/>
                            </a:lnTo>
                            <a:lnTo>
                              <a:pt x="88" y="167"/>
                            </a:lnTo>
                            <a:lnTo>
                              <a:pt x="88" y="173"/>
                            </a:lnTo>
                            <a:lnTo>
                              <a:pt x="69" y="167"/>
                            </a:lnTo>
                            <a:lnTo>
                              <a:pt x="50" y="155"/>
                            </a:lnTo>
                            <a:lnTo>
                              <a:pt x="50" y="180"/>
                            </a:lnTo>
                            <a:lnTo>
                              <a:pt x="44" y="204"/>
                            </a:lnTo>
                            <a:lnTo>
                              <a:pt x="13" y="216"/>
                            </a:lnTo>
                            <a:lnTo>
                              <a:pt x="0" y="210"/>
                            </a:lnTo>
                            <a:lnTo>
                              <a:pt x="0" y="180"/>
                            </a:lnTo>
                            <a:lnTo>
                              <a:pt x="0" y="142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453440" y="3703680"/>
                      <a:ext cx="72720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347">
                          <a:moveTo>
                            <a:pt x="0" y="109"/>
                          </a:moveTo>
                          <a:lnTo>
                            <a:pt x="88" y="198"/>
                          </a:lnTo>
                          <a:lnTo>
                            <a:pt x="94" y="256"/>
                          </a:lnTo>
                          <a:lnTo>
                            <a:pt x="102" y="347"/>
                          </a:lnTo>
                          <a:lnTo>
                            <a:pt x="127" y="347"/>
                          </a:lnTo>
                          <a:lnTo>
                            <a:pt x="152" y="319"/>
                          </a:lnTo>
                          <a:lnTo>
                            <a:pt x="163" y="268"/>
                          </a:lnTo>
                          <a:lnTo>
                            <a:pt x="163" y="192"/>
                          </a:lnTo>
                          <a:lnTo>
                            <a:pt x="170" y="235"/>
                          </a:lnTo>
                          <a:lnTo>
                            <a:pt x="177" y="262"/>
                          </a:lnTo>
                          <a:lnTo>
                            <a:pt x="183" y="287"/>
                          </a:lnTo>
                          <a:lnTo>
                            <a:pt x="208" y="287"/>
                          </a:lnTo>
                          <a:lnTo>
                            <a:pt x="233" y="262"/>
                          </a:lnTo>
                          <a:lnTo>
                            <a:pt x="233" y="230"/>
                          </a:lnTo>
                          <a:lnTo>
                            <a:pt x="253" y="184"/>
                          </a:lnTo>
                          <a:lnTo>
                            <a:pt x="258" y="217"/>
                          </a:lnTo>
                          <a:lnTo>
                            <a:pt x="272" y="250"/>
                          </a:lnTo>
                          <a:lnTo>
                            <a:pt x="303" y="235"/>
                          </a:lnTo>
                          <a:lnTo>
                            <a:pt x="314" y="210"/>
                          </a:lnTo>
                          <a:lnTo>
                            <a:pt x="314" y="230"/>
                          </a:lnTo>
                          <a:lnTo>
                            <a:pt x="354" y="210"/>
                          </a:lnTo>
                          <a:lnTo>
                            <a:pt x="372" y="165"/>
                          </a:lnTo>
                          <a:lnTo>
                            <a:pt x="359" y="235"/>
                          </a:lnTo>
                          <a:lnTo>
                            <a:pt x="354" y="262"/>
                          </a:lnTo>
                          <a:lnTo>
                            <a:pt x="378" y="268"/>
                          </a:lnTo>
                          <a:lnTo>
                            <a:pt x="382" y="300"/>
                          </a:lnTo>
                          <a:lnTo>
                            <a:pt x="422" y="294"/>
                          </a:lnTo>
                          <a:lnTo>
                            <a:pt x="446" y="235"/>
                          </a:lnTo>
                          <a:lnTo>
                            <a:pt x="458" y="165"/>
                          </a:lnTo>
                          <a:lnTo>
                            <a:pt x="446" y="103"/>
                          </a:lnTo>
                          <a:lnTo>
                            <a:pt x="408" y="52"/>
                          </a:lnTo>
                          <a:lnTo>
                            <a:pt x="365" y="11"/>
                          </a:lnTo>
                          <a:lnTo>
                            <a:pt x="340" y="45"/>
                          </a:lnTo>
                          <a:lnTo>
                            <a:pt x="308" y="19"/>
                          </a:lnTo>
                          <a:lnTo>
                            <a:pt x="290" y="5"/>
                          </a:lnTo>
                          <a:lnTo>
                            <a:pt x="278" y="19"/>
                          </a:lnTo>
                          <a:lnTo>
                            <a:pt x="246" y="11"/>
                          </a:lnTo>
                          <a:lnTo>
                            <a:pt x="239" y="45"/>
                          </a:lnTo>
                          <a:lnTo>
                            <a:pt x="227" y="25"/>
                          </a:lnTo>
                          <a:lnTo>
                            <a:pt x="196" y="19"/>
                          </a:lnTo>
                          <a:lnTo>
                            <a:pt x="163" y="0"/>
                          </a:lnTo>
                          <a:lnTo>
                            <a:pt x="152" y="25"/>
                          </a:lnTo>
                          <a:lnTo>
                            <a:pt x="133" y="11"/>
                          </a:lnTo>
                          <a:lnTo>
                            <a:pt x="107" y="5"/>
                          </a:lnTo>
                          <a:lnTo>
                            <a:pt x="88" y="11"/>
                          </a:lnTo>
                          <a:lnTo>
                            <a:pt x="82" y="52"/>
                          </a:lnTo>
                          <a:lnTo>
                            <a:pt x="88" y="57"/>
                          </a:lnTo>
                          <a:lnTo>
                            <a:pt x="70" y="57"/>
                          </a:lnTo>
                          <a:lnTo>
                            <a:pt x="5" y="52"/>
                          </a:lnTo>
                          <a:lnTo>
                            <a:pt x="0" y="109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6820200" y="3414600"/>
                    <a:ext cx="888840" cy="217800"/>
                    <a:chOff x="6820200" y="3414600"/>
                    <a:chExt cx="888840" cy="2178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6820200" y="3454560"/>
                      <a:ext cx="811080" cy="15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99">
                          <a:moveTo>
                            <a:pt x="0" y="4"/>
                          </a:moveTo>
                          <a:lnTo>
                            <a:pt x="64" y="0"/>
                          </a:lnTo>
                          <a:lnTo>
                            <a:pt x="131" y="16"/>
                          </a:lnTo>
                          <a:lnTo>
                            <a:pt x="181" y="34"/>
                          </a:lnTo>
                          <a:lnTo>
                            <a:pt x="253" y="66"/>
                          </a:lnTo>
                          <a:lnTo>
                            <a:pt x="315" y="81"/>
                          </a:lnTo>
                          <a:lnTo>
                            <a:pt x="371" y="73"/>
                          </a:lnTo>
                          <a:lnTo>
                            <a:pt x="431" y="81"/>
                          </a:lnTo>
                          <a:lnTo>
                            <a:pt x="476" y="84"/>
                          </a:lnTo>
                          <a:lnTo>
                            <a:pt x="511" y="99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c08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6988320" y="3414600"/>
                      <a:ext cx="72072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4" h="137">
                          <a:moveTo>
                            <a:pt x="0" y="0"/>
                          </a:moveTo>
                          <a:lnTo>
                            <a:pt x="35" y="23"/>
                          </a:lnTo>
                          <a:lnTo>
                            <a:pt x="91" y="41"/>
                          </a:lnTo>
                          <a:lnTo>
                            <a:pt x="131" y="53"/>
                          </a:lnTo>
                          <a:lnTo>
                            <a:pt x="178" y="59"/>
                          </a:lnTo>
                          <a:lnTo>
                            <a:pt x="222" y="48"/>
                          </a:lnTo>
                          <a:lnTo>
                            <a:pt x="296" y="59"/>
                          </a:lnTo>
                          <a:lnTo>
                            <a:pt x="346" y="69"/>
                          </a:lnTo>
                          <a:lnTo>
                            <a:pt x="390" y="74"/>
                          </a:lnTo>
                          <a:lnTo>
                            <a:pt x="440" y="98"/>
                          </a:lnTo>
                          <a:lnTo>
                            <a:pt x="454" y="137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c08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378840" y="3917880"/>
                  <a:ext cx="644400" cy="625680"/>
                  <a:chOff x="6378840" y="3917880"/>
                  <a:chExt cx="644400" cy="62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378840" y="3917880"/>
                    <a:ext cx="293760" cy="306360"/>
                    <a:chOff x="6378840" y="3917880"/>
                    <a:chExt cx="293760" cy="3063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434280" y="3975120"/>
                      <a:ext cx="22068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57">
                          <a:moveTo>
                            <a:pt x="126" y="0"/>
                          </a:moveTo>
                          <a:lnTo>
                            <a:pt x="22" y="75"/>
                          </a:lnTo>
                          <a:lnTo>
                            <a:pt x="0" y="107"/>
                          </a:lnTo>
                          <a:lnTo>
                            <a:pt x="8" y="137"/>
                          </a:lnTo>
                          <a:lnTo>
                            <a:pt x="27" y="157"/>
                          </a:lnTo>
                          <a:lnTo>
                            <a:pt x="62" y="146"/>
                          </a:lnTo>
                          <a:lnTo>
                            <a:pt x="139" y="66"/>
                          </a:lnTo>
                          <a:lnTo>
                            <a:pt x="126" y="0"/>
                          </a:lnTo>
                          <a:close/>
                        </a:path>
                      </a:pathLst>
                    </a:custGeom>
                    <a:solidFill>
                      <a:srgbClr val="f0f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507360" y="4130640"/>
                      <a:ext cx="77760" cy="74520"/>
                    </a:xfrm>
                    <a:prstGeom prst="ellipse">
                      <a:avLst/>
                    </a:prstGeom>
                    <a:solidFill>
                      <a:srgbClr val="00908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378840" y="3917880"/>
                      <a:ext cx="2937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41">
                          <a:moveTo>
                            <a:pt x="180" y="14"/>
                          </a:moveTo>
                          <a:lnTo>
                            <a:pt x="171" y="4"/>
                          </a:lnTo>
                          <a:lnTo>
                            <a:pt x="162" y="0"/>
                          </a:lnTo>
                          <a:lnTo>
                            <a:pt x="152" y="1"/>
                          </a:lnTo>
                          <a:lnTo>
                            <a:pt x="142" y="8"/>
                          </a:lnTo>
                          <a:lnTo>
                            <a:pt x="6" y="97"/>
                          </a:lnTo>
                          <a:lnTo>
                            <a:pt x="2" y="105"/>
                          </a:lnTo>
                          <a:lnTo>
                            <a:pt x="0" y="118"/>
                          </a:lnTo>
                          <a:lnTo>
                            <a:pt x="4" y="129"/>
                          </a:lnTo>
                          <a:lnTo>
                            <a:pt x="12" y="138"/>
                          </a:lnTo>
                          <a:lnTo>
                            <a:pt x="21" y="141"/>
                          </a:lnTo>
                          <a:lnTo>
                            <a:pt x="34" y="138"/>
                          </a:lnTo>
                          <a:lnTo>
                            <a:pt x="177" y="45"/>
                          </a:lnTo>
                          <a:lnTo>
                            <a:pt x="184" y="36"/>
                          </a:lnTo>
                          <a:lnTo>
                            <a:pt x="185" y="27"/>
                          </a:lnTo>
                          <a:lnTo>
                            <a:pt x="180" y="14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6427800" y="3922920"/>
                    <a:ext cx="595440" cy="620640"/>
                    <a:chOff x="6427800" y="3922920"/>
                    <a:chExt cx="595440" cy="6206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427800" y="4044960"/>
                      <a:ext cx="52236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314">
                          <a:moveTo>
                            <a:pt x="168" y="0"/>
                          </a:moveTo>
                          <a:lnTo>
                            <a:pt x="93" y="69"/>
                          </a:lnTo>
                          <a:lnTo>
                            <a:pt x="29" y="144"/>
                          </a:lnTo>
                          <a:lnTo>
                            <a:pt x="0" y="206"/>
                          </a:lnTo>
                          <a:lnTo>
                            <a:pt x="9" y="259"/>
                          </a:lnTo>
                          <a:lnTo>
                            <a:pt x="38" y="293"/>
                          </a:lnTo>
                          <a:lnTo>
                            <a:pt x="80" y="305"/>
                          </a:lnTo>
                          <a:lnTo>
                            <a:pt x="153" y="314"/>
                          </a:lnTo>
                          <a:lnTo>
                            <a:pt x="233" y="274"/>
                          </a:lnTo>
                          <a:lnTo>
                            <a:pt x="275" y="274"/>
                          </a:lnTo>
                          <a:lnTo>
                            <a:pt x="308" y="259"/>
                          </a:lnTo>
                          <a:lnTo>
                            <a:pt x="327" y="231"/>
                          </a:lnTo>
                          <a:lnTo>
                            <a:pt x="329" y="197"/>
                          </a:lnTo>
                          <a:lnTo>
                            <a:pt x="168" y="0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3" name=""/>
                    <p:cNvGrpSpPr/>
                    <p:nvPr/>
                  </p:nvGrpSpPr>
                  <p:grpSpPr>
                    <a:xfrm>
                      <a:off x="6721560" y="3922920"/>
                      <a:ext cx="301680" cy="341280"/>
                      <a:chOff x="6721560" y="3922920"/>
                      <a:chExt cx="301680" cy="341280"/>
                    </a:xfrm>
                  </p:grpSpPr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6735960" y="3975120"/>
                        <a:ext cx="258840" cy="28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82">
                            <a:moveTo>
                              <a:pt x="36" y="0"/>
                            </a:moveTo>
                            <a:lnTo>
                              <a:pt x="135" y="57"/>
                            </a:lnTo>
                            <a:lnTo>
                              <a:pt x="154" y="88"/>
                            </a:lnTo>
                            <a:lnTo>
                              <a:pt x="163" y="118"/>
                            </a:lnTo>
                            <a:lnTo>
                              <a:pt x="159" y="157"/>
                            </a:lnTo>
                            <a:lnTo>
                              <a:pt x="141" y="176"/>
                            </a:lnTo>
                            <a:lnTo>
                              <a:pt x="105" y="182"/>
                            </a:lnTo>
                            <a:lnTo>
                              <a:pt x="65" y="169"/>
                            </a:lnTo>
                            <a:lnTo>
                              <a:pt x="31" y="137"/>
                            </a:lnTo>
                            <a:lnTo>
                              <a:pt x="6" y="100"/>
                            </a:lnTo>
                            <a:lnTo>
                              <a:pt x="0" y="68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6810480" y="4160880"/>
                        <a:ext cx="76320" cy="73080"/>
                      </a:xfrm>
                      <a:prstGeom prst="ellipse">
                        <a:avLst/>
                      </a:prstGeom>
                      <a:solidFill>
                        <a:srgbClr val="00908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6721560" y="3922920"/>
                        <a:ext cx="301680" cy="20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129">
                            <a:moveTo>
                              <a:pt x="5" y="13"/>
                            </a:moveTo>
                            <a:lnTo>
                              <a:pt x="14" y="5"/>
                            </a:lnTo>
                            <a:lnTo>
                              <a:pt x="23" y="0"/>
                            </a:lnTo>
                            <a:lnTo>
                              <a:pt x="33" y="2"/>
                            </a:lnTo>
                            <a:lnTo>
                              <a:pt x="43" y="8"/>
                            </a:lnTo>
                            <a:lnTo>
                              <a:pt x="184" y="89"/>
                            </a:lnTo>
                            <a:lnTo>
                              <a:pt x="187" y="96"/>
                            </a:lnTo>
                            <a:lnTo>
                              <a:pt x="190" y="107"/>
                            </a:lnTo>
                            <a:lnTo>
                              <a:pt x="186" y="118"/>
                            </a:lnTo>
                            <a:lnTo>
                              <a:pt x="177" y="126"/>
                            </a:lnTo>
                            <a:lnTo>
                              <a:pt x="168" y="129"/>
                            </a:lnTo>
                            <a:lnTo>
                              <a:pt x="157" y="127"/>
                            </a:lnTo>
                            <a:lnTo>
                              <a:pt x="8" y="41"/>
                            </a:lnTo>
                            <a:lnTo>
                              <a:pt x="2" y="33"/>
                            </a:lnTo>
                            <a:lnTo>
                              <a:pt x="0" y="25"/>
                            </a:lnTo>
                            <a:lnTo>
                              <a:pt x="5" y="13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347" name=""/>
            <p:cNvGrpSpPr/>
            <p:nvPr/>
          </p:nvGrpSpPr>
          <p:grpSpPr>
            <a:xfrm>
              <a:off x="5850000" y="4543560"/>
              <a:ext cx="2933640" cy="2314440"/>
              <a:chOff x="5850000" y="4543560"/>
              <a:chExt cx="2933640" cy="2314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850000" y="4894200"/>
                <a:ext cx="2933640" cy="1800360"/>
                <a:chOff x="5850000" y="4894200"/>
                <a:chExt cx="2933640" cy="1800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50000" y="4894200"/>
                  <a:ext cx="2933640" cy="1800360"/>
                </a:xfrm>
                <a:custGeom>
                  <a:avLst/>
                  <a:gdLst/>
                  <a:ahLst/>
                  <a:rect l="l" t="t" r="r" b="b"/>
                  <a:pathLst>
                    <a:path w="1848" h="1134">
                      <a:moveTo>
                        <a:pt x="675" y="6"/>
                      </a:moveTo>
                      <a:lnTo>
                        <a:pt x="1207" y="117"/>
                      </a:lnTo>
                      <a:lnTo>
                        <a:pt x="1352" y="477"/>
                      </a:lnTo>
                      <a:lnTo>
                        <a:pt x="1391" y="520"/>
                      </a:lnTo>
                      <a:lnTo>
                        <a:pt x="1419" y="576"/>
                      </a:lnTo>
                      <a:lnTo>
                        <a:pt x="1457" y="637"/>
                      </a:lnTo>
                      <a:lnTo>
                        <a:pt x="1487" y="684"/>
                      </a:lnTo>
                      <a:lnTo>
                        <a:pt x="1543" y="732"/>
                      </a:lnTo>
                      <a:lnTo>
                        <a:pt x="1576" y="794"/>
                      </a:lnTo>
                      <a:lnTo>
                        <a:pt x="1596" y="850"/>
                      </a:lnTo>
                      <a:lnTo>
                        <a:pt x="1600" y="911"/>
                      </a:lnTo>
                      <a:lnTo>
                        <a:pt x="1653" y="922"/>
                      </a:lnTo>
                      <a:lnTo>
                        <a:pt x="1704" y="943"/>
                      </a:lnTo>
                      <a:lnTo>
                        <a:pt x="1759" y="974"/>
                      </a:lnTo>
                      <a:lnTo>
                        <a:pt x="1799" y="1017"/>
                      </a:lnTo>
                      <a:lnTo>
                        <a:pt x="1823" y="1066"/>
                      </a:lnTo>
                      <a:lnTo>
                        <a:pt x="1848" y="1134"/>
                      </a:lnTo>
                      <a:lnTo>
                        <a:pt x="689" y="1134"/>
                      </a:lnTo>
                      <a:lnTo>
                        <a:pt x="657" y="1092"/>
                      </a:lnTo>
                      <a:lnTo>
                        <a:pt x="644" y="1053"/>
                      </a:lnTo>
                      <a:lnTo>
                        <a:pt x="635" y="992"/>
                      </a:lnTo>
                      <a:lnTo>
                        <a:pt x="619" y="930"/>
                      </a:lnTo>
                      <a:lnTo>
                        <a:pt x="570" y="874"/>
                      </a:lnTo>
                      <a:lnTo>
                        <a:pt x="526" y="893"/>
                      </a:lnTo>
                      <a:lnTo>
                        <a:pt x="482" y="930"/>
                      </a:lnTo>
                      <a:lnTo>
                        <a:pt x="439" y="961"/>
                      </a:lnTo>
                      <a:lnTo>
                        <a:pt x="398" y="1022"/>
                      </a:lnTo>
                      <a:lnTo>
                        <a:pt x="364" y="1103"/>
                      </a:lnTo>
                      <a:lnTo>
                        <a:pt x="291" y="1082"/>
                      </a:lnTo>
                      <a:lnTo>
                        <a:pt x="48" y="1103"/>
                      </a:lnTo>
                      <a:lnTo>
                        <a:pt x="23" y="1063"/>
                      </a:lnTo>
                      <a:lnTo>
                        <a:pt x="2" y="985"/>
                      </a:lnTo>
                      <a:lnTo>
                        <a:pt x="0" y="904"/>
                      </a:lnTo>
                      <a:lnTo>
                        <a:pt x="18" y="819"/>
                      </a:lnTo>
                      <a:lnTo>
                        <a:pt x="55" y="742"/>
                      </a:lnTo>
                      <a:lnTo>
                        <a:pt x="118" y="675"/>
                      </a:lnTo>
                      <a:lnTo>
                        <a:pt x="195" y="631"/>
                      </a:lnTo>
                      <a:lnTo>
                        <a:pt x="186" y="553"/>
                      </a:lnTo>
                      <a:lnTo>
                        <a:pt x="204" y="489"/>
                      </a:lnTo>
                      <a:lnTo>
                        <a:pt x="231" y="412"/>
                      </a:lnTo>
                      <a:lnTo>
                        <a:pt x="272" y="350"/>
                      </a:lnTo>
                      <a:lnTo>
                        <a:pt x="315" y="316"/>
                      </a:lnTo>
                      <a:lnTo>
                        <a:pt x="379" y="288"/>
                      </a:lnTo>
                      <a:lnTo>
                        <a:pt x="426" y="272"/>
                      </a:lnTo>
                      <a:lnTo>
                        <a:pt x="476" y="198"/>
                      </a:lnTo>
                      <a:lnTo>
                        <a:pt x="470" y="74"/>
                      </a:lnTo>
                      <a:lnTo>
                        <a:pt x="513" y="18"/>
                      </a:lnTo>
                      <a:lnTo>
                        <a:pt x="570" y="0"/>
                      </a:lnTo>
                      <a:lnTo>
                        <a:pt x="675" y="6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58000" y="6105600"/>
                  <a:ext cx="117360" cy="331920"/>
                </a:xfrm>
                <a:custGeom>
                  <a:avLst/>
                  <a:gdLst/>
                  <a:ahLst/>
                  <a:rect l="l" t="t" r="r" b="b"/>
                  <a:pathLst>
                    <a:path w="74" h="209">
                      <a:moveTo>
                        <a:pt x="74" y="0"/>
                      </a:moveTo>
                      <a:lnTo>
                        <a:pt x="5" y="74"/>
                      </a:lnTo>
                      <a:lnTo>
                        <a:pt x="0" y="135"/>
                      </a:lnTo>
                      <a:lnTo>
                        <a:pt x="5" y="191"/>
                      </a:lnTo>
                      <a:lnTo>
                        <a:pt x="18" y="209"/>
                      </a:lnTo>
                    </a:path>
                  </a:pathLst>
                </a:custGeom>
                <a:noFill/>
                <a:ln w="11160">
                  <a:solidFill>
                    <a:srgbClr val="002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80520" y="5956200"/>
                  <a:ext cx="269640" cy="368280"/>
                </a:xfrm>
                <a:custGeom>
                  <a:avLst/>
                  <a:gdLst/>
                  <a:ahLst/>
                  <a:rect l="l" t="t" r="r" b="b"/>
                  <a:pathLst>
                    <a:path w="170" h="232">
                      <a:moveTo>
                        <a:pt x="0" y="168"/>
                      </a:moveTo>
                      <a:lnTo>
                        <a:pt x="28" y="180"/>
                      </a:lnTo>
                      <a:lnTo>
                        <a:pt x="44" y="194"/>
                      </a:lnTo>
                      <a:lnTo>
                        <a:pt x="22" y="202"/>
                      </a:lnTo>
                      <a:lnTo>
                        <a:pt x="50" y="211"/>
                      </a:lnTo>
                      <a:lnTo>
                        <a:pt x="77" y="232"/>
                      </a:lnTo>
                      <a:lnTo>
                        <a:pt x="71" y="175"/>
                      </a:lnTo>
                      <a:lnTo>
                        <a:pt x="116" y="119"/>
                      </a:lnTo>
                      <a:lnTo>
                        <a:pt x="145" y="97"/>
                      </a:lnTo>
                      <a:lnTo>
                        <a:pt x="170" y="87"/>
                      </a:lnTo>
                      <a:lnTo>
                        <a:pt x="149" y="87"/>
                      </a:lnTo>
                      <a:lnTo>
                        <a:pt x="106" y="97"/>
                      </a:lnTo>
                      <a:lnTo>
                        <a:pt x="74" y="123"/>
                      </a:lnTo>
                      <a:lnTo>
                        <a:pt x="81" y="87"/>
                      </a:lnTo>
                      <a:lnTo>
                        <a:pt x="109" y="37"/>
                      </a:lnTo>
                      <a:lnTo>
                        <a:pt x="143" y="0"/>
                      </a:lnTo>
                      <a:lnTo>
                        <a:pt x="109" y="18"/>
                      </a:lnTo>
                      <a:lnTo>
                        <a:pt x="66" y="60"/>
                      </a:lnTo>
                      <a:lnTo>
                        <a:pt x="50" y="112"/>
                      </a:lnTo>
                      <a:lnTo>
                        <a:pt x="50" y="159"/>
                      </a:lnTo>
                      <a:lnTo>
                        <a:pt x="50" y="183"/>
                      </a:lnTo>
                      <a:lnTo>
                        <a:pt x="35" y="162"/>
                      </a:lnTo>
                      <a:lnTo>
                        <a:pt x="0" y="168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159600" y="5867280"/>
                  <a:ext cx="108000" cy="33480"/>
                </a:xfrm>
                <a:custGeom>
                  <a:avLst/>
                  <a:gdLst/>
                  <a:ahLst/>
                  <a:rect l="l" t="t" r="r" b="b"/>
                  <a:pathLst>
                    <a:path w="68" h="21">
                      <a:moveTo>
                        <a:pt x="0" y="21"/>
                      </a:moveTo>
                      <a:lnTo>
                        <a:pt x="21" y="18"/>
                      </a:lnTo>
                      <a:lnTo>
                        <a:pt x="40" y="3"/>
                      </a:lnTo>
                      <a:lnTo>
                        <a:pt x="68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35960" y="5073840"/>
                  <a:ext cx="1311120" cy="792000"/>
                </a:xfrm>
                <a:custGeom>
                  <a:avLst/>
                  <a:gdLst/>
                  <a:ahLst/>
                  <a:rect l="l" t="t" r="r" b="b"/>
                  <a:pathLst>
                    <a:path w="826" h="499">
                      <a:moveTo>
                        <a:pt x="0" y="16"/>
                      </a:moveTo>
                      <a:lnTo>
                        <a:pt x="15" y="53"/>
                      </a:lnTo>
                      <a:lnTo>
                        <a:pt x="53" y="87"/>
                      </a:lnTo>
                      <a:lnTo>
                        <a:pt x="89" y="100"/>
                      </a:lnTo>
                      <a:lnTo>
                        <a:pt x="141" y="112"/>
                      </a:lnTo>
                      <a:lnTo>
                        <a:pt x="182" y="124"/>
                      </a:lnTo>
                      <a:lnTo>
                        <a:pt x="250" y="137"/>
                      </a:lnTo>
                      <a:lnTo>
                        <a:pt x="327" y="152"/>
                      </a:lnTo>
                      <a:lnTo>
                        <a:pt x="396" y="174"/>
                      </a:lnTo>
                      <a:lnTo>
                        <a:pt x="441" y="192"/>
                      </a:lnTo>
                      <a:lnTo>
                        <a:pt x="493" y="226"/>
                      </a:lnTo>
                      <a:lnTo>
                        <a:pt x="529" y="273"/>
                      </a:lnTo>
                      <a:lnTo>
                        <a:pt x="564" y="344"/>
                      </a:lnTo>
                      <a:lnTo>
                        <a:pt x="588" y="421"/>
                      </a:lnTo>
                      <a:lnTo>
                        <a:pt x="601" y="499"/>
                      </a:lnTo>
                      <a:lnTo>
                        <a:pt x="613" y="446"/>
                      </a:lnTo>
                      <a:lnTo>
                        <a:pt x="627" y="402"/>
                      </a:lnTo>
                      <a:lnTo>
                        <a:pt x="636" y="337"/>
                      </a:lnTo>
                      <a:lnTo>
                        <a:pt x="638" y="267"/>
                      </a:lnTo>
                      <a:lnTo>
                        <a:pt x="646" y="202"/>
                      </a:lnTo>
                      <a:lnTo>
                        <a:pt x="647" y="119"/>
                      </a:lnTo>
                      <a:lnTo>
                        <a:pt x="694" y="178"/>
                      </a:lnTo>
                      <a:lnTo>
                        <a:pt x="716" y="233"/>
                      </a:lnTo>
                      <a:lnTo>
                        <a:pt x="735" y="283"/>
                      </a:lnTo>
                      <a:lnTo>
                        <a:pt x="747" y="331"/>
                      </a:lnTo>
                      <a:lnTo>
                        <a:pt x="753" y="360"/>
                      </a:lnTo>
                      <a:lnTo>
                        <a:pt x="826" y="417"/>
                      </a:lnTo>
                      <a:lnTo>
                        <a:pt x="766" y="351"/>
                      </a:lnTo>
                      <a:lnTo>
                        <a:pt x="753" y="301"/>
                      </a:lnTo>
                      <a:lnTo>
                        <a:pt x="720" y="195"/>
                      </a:lnTo>
                      <a:lnTo>
                        <a:pt x="654" y="100"/>
                      </a:lnTo>
                      <a:lnTo>
                        <a:pt x="620" y="43"/>
                      </a:lnTo>
                      <a:lnTo>
                        <a:pt x="574" y="47"/>
                      </a:lnTo>
                      <a:lnTo>
                        <a:pt x="536" y="47"/>
                      </a:lnTo>
                      <a:lnTo>
                        <a:pt x="484" y="47"/>
                      </a:lnTo>
                      <a:lnTo>
                        <a:pt x="424" y="38"/>
                      </a:lnTo>
                      <a:lnTo>
                        <a:pt x="371" y="38"/>
                      </a:lnTo>
                      <a:lnTo>
                        <a:pt x="331" y="18"/>
                      </a:lnTo>
                      <a:lnTo>
                        <a:pt x="269" y="3"/>
                      </a:lnTo>
                      <a:lnTo>
                        <a:pt x="182" y="0"/>
                      </a:lnTo>
                      <a:lnTo>
                        <a:pt x="65" y="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11160">
                  <a:solidFill>
                    <a:srgbClr val="002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24800" y="4954680"/>
                  <a:ext cx="1413000" cy="915840"/>
                </a:xfrm>
                <a:custGeom>
                  <a:avLst/>
                  <a:gdLst/>
                  <a:ahLst/>
                  <a:rect l="l" t="t" r="r" b="b"/>
                  <a:pathLst>
                    <a:path w="890" h="577">
                      <a:moveTo>
                        <a:pt x="0" y="16"/>
                      </a:moveTo>
                      <a:lnTo>
                        <a:pt x="16" y="53"/>
                      </a:lnTo>
                      <a:lnTo>
                        <a:pt x="53" y="88"/>
                      </a:lnTo>
                      <a:lnTo>
                        <a:pt x="91" y="99"/>
                      </a:lnTo>
                      <a:lnTo>
                        <a:pt x="142" y="113"/>
                      </a:lnTo>
                      <a:lnTo>
                        <a:pt x="182" y="125"/>
                      </a:lnTo>
                      <a:lnTo>
                        <a:pt x="250" y="138"/>
                      </a:lnTo>
                      <a:lnTo>
                        <a:pt x="328" y="152"/>
                      </a:lnTo>
                      <a:lnTo>
                        <a:pt x="396" y="175"/>
                      </a:lnTo>
                      <a:lnTo>
                        <a:pt x="440" y="199"/>
                      </a:lnTo>
                      <a:lnTo>
                        <a:pt x="485" y="242"/>
                      </a:lnTo>
                      <a:lnTo>
                        <a:pt x="527" y="283"/>
                      </a:lnTo>
                      <a:lnTo>
                        <a:pt x="565" y="345"/>
                      </a:lnTo>
                      <a:lnTo>
                        <a:pt x="593" y="419"/>
                      </a:lnTo>
                      <a:lnTo>
                        <a:pt x="611" y="503"/>
                      </a:lnTo>
                      <a:lnTo>
                        <a:pt x="627" y="444"/>
                      </a:lnTo>
                      <a:lnTo>
                        <a:pt x="637" y="393"/>
                      </a:lnTo>
                      <a:lnTo>
                        <a:pt x="638" y="330"/>
                      </a:lnTo>
                      <a:lnTo>
                        <a:pt x="649" y="259"/>
                      </a:lnTo>
                      <a:lnTo>
                        <a:pt x="646" y="199"/>
                      </a:lnTo>
                      <a:lnTo>
                        <a:pt x="659" y="187"/>
                      </a:lnTo>
                      <a:lnTo>
                        <a:pt x="680" y="212"/>
                      </a:lnTo>
                      <a:lnTo>
                        <a:pt x="714" y="249"/>
                      </a:lnTo>
                      <a:lnTo>
                        <a:pt x="773" y="416"/>
                      </a:lnTo>
                      <a:lnTo>
                        <a:pt x="843" y="509"/>
                      </a:lnTo>
                      <a:lnTo>
                        <a:pt x="890" y="577"/>
                      </a:lnTo>
                      <a:lnTo>
                        <a:pt x="840" y="484"/>
                      </a:lnTo>
                      <a:lnTo>
                        <a:pt x="808" y="454"/>
                      </a:lnTo>
                      <a:lnTo>
                        <a:pt x="754" y="301"/>
                      </a:lnTo>
                      <a:lnTo>
                        <a:pt x="720" y="196"/>
                      </a:lnTo>
                      <a:lnTo>
                        <a:pt x="656" y="99"/>
                      </a:lnTo>
                      <a:lnTo>
                        <a:pt x="620" y="44"/>
                      </a:lnTo>
                      <a:lnTo>
                        <a:pt x="575" y="47"/>
                      </a:lnTo>
                      <a:lnTo>
                        <a:pt x="536" y="47"/>
                      </a:lnTo>
                      <a:lnTo>
                        <a:pt x="483" y="47"/>
                      </a:lnTo>
                      <a:lnTo>
                        <a:pt x="425" y="39"/>
                      </a:lnTo>
                      <a:lnTo>
                        <a:pt x="372" y="39"/>
                      </a:lnTo>
                      <a:lnTo>
                        <a:pt x="331" y="18"/>
                      </a:lnTo>
                      <a:lnTo>
                        <a:pt x="269" y="3"/>
                      </a:lnTo>
                      <a:lnTo>
                        <a:pt x="182" y="0"/>
                      </a:lnTo>
                      <a:lnTo>
                        <a:pt x="66" y="1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932800" y="4543560"/>
                <a:ext cx="1436400" cy="2314440"/>
              </a:xfrm>
              <a:custGeom>
                <a:avLst/>
                <a:gdLst/>
                <a:ahLst/>
                <a:rect l="l" t="t" r="r" b="b"/>
                <a:pathLst>
                  <a:path w="905" h="1458">
                    <a:moveTo>
                      <a:pt x="398" y="1122"/>
                    </a:moveTo>
                    <a:lnTo>
                      <a:pt x="465" y="1021"/>
                    </a:lnTo>
                    <a:lnTo>
                      <a:pt x="491" y="953"/>
                    </a:lnTo>
                    <a:lnTo>
                      <a:pt x="524" y="840"/>
                    </a:lnTo>
                    <a:lnTo>
                      <a:pt x="545" y="735"/>
                    </a:lnTo>
                    <a:lnTo>
                      <a:pt x="565" y="623"/>
                    </a:lnTo>
                    <a:lnTo>
                      <a:pt x="562" y="549"/>
                    </a:lnTo>
                    <a:lnTo>
                      <a:pt x="556" y="481"/>
                    </a:lnTo>
                    <a:lnTo>
                      <a:pt x="590" y="469"/>
                    </a:lnTo>
                    <a:lnTo>
                      <a:pt x="619" y="449"/>
                    </a:lnTo>
                    <a:lnTo>
                      <a:pt x="640" y="418"/>
                    </a:lnTo>
                    <a:lnTo>
                      <a:pt x="657" y="379"/>
                    </a:lnTo>
                    <a:lnTo>
                      <a:pt x="664" y="348"/>
                    </a:lnTo>
                    <a:lnTo>
                      <a:pt x="665" y="328"/>
                    </a:lnTo>
                    <a:lnTo>
                      <a:pt x="679" y="341"/>
                    </a:lnTo>
                    <a:lnTo>
                      <a:pt x="694" y="348"/>
                    </a:lnTo>
                    <a:lnTo>
                      <a:pt x="716" y="355"/>
                    </a:lnTo>
                    <a:lnTo>
                      <a:pt x="741" y="351"/>
                    </a:lnTo>
                    <a:lnTo>
                      <a:pt x="717" y="364"/>
                    </a:lnTo>
                    <a:lnTo>
                      <a:pt x="713" y="385"/>
                    </a:lnTo>
                    <a:lnTo>
                      <a:pt x="723" y="401"/>
                    </a:lnTo>
                    <a:lnTo>
                      <a:pt x="745" y="405"/>
                    </a:lnTo>
                    <a:lnTo>
                      <a:pt x="772" y="392"/>
                    </a:lnTo>
                    <a:lnTo>
                      <a:pt x="787" y="365"/>
                    </a:lnTo>
                    <a:lnTo>
                      <a:pt x="778" y="324"/>
                    </a:lnTo>
                    <a:lnTo>
                      <a:pt x="759" y="295"/>
                    </a:lnTo>
                    <a:lnTo>
                      <a:pt x="688" y="252"/>
                    </a:lnTo>
                    <a:lnTo>
                      <a:pt x="781" y="278"/>
                    </a:lnTo>
                    <a:lnTo>
                      <a:pt x="827" y="332"/>
                    </a:lnTo>
                    <a:lnTo>
                      <a:pt x="848" y="338"/>
                    </a:lnTo>
                    <a:lnTo>
                      <a:pt x="865" y="327"/>
                    </a:lnTo>
                    <a:lnTo>
                      <a:pt x="871" y="302"/>
                    </a:lnTo>
                    <a:lnTo>
                      <a:pt x="859" y="276"/>
                    </a:lnTo>
                    <a:lnTo>
                      <a:pt x="827" y="239"/>
                    </a:lnTo>
                    <a:lnTo>
                      <a:pt x="772" y="207"/>
                    </a:lnTo>
                    <a:lnTo>
                      <a:pt x="700" y="186"/>
                    </a:lnTo>
                    <a:lnTo>
                      <a:pt x="764" y="184"/>
                    </a:lnTo>
                    <a:lnTo>
                      <a:pt x="817" y="210"/>
                    </a:lnTo>
                    <a:lnTo>
                      <a:pt x="871" y="252"/>
                    </a:lnTo>
                    <a:lnTo>
                      <a:pt x="889" y="252"/>
                    </a:lnTo>
                    <a:lnTo>
                      <a:pt x="905" y="235"/>
                    </a:lnTo>
                    <a:lnTo>
                      <a:pt x="902" y="207"/>
                    </a:lnTo>
                    <a:lnTo>
                      <a:pt x="873" y="176"/>
                    </a:lnTo>
                    <a:lnTo>
                      <a:pt x="838" y="153"/>
                    </a:lnTo>
                    <a:lnTo>
                      <a:pt x="777" y="122"/>
                    </a:lnTo>
                    <a:lnTo>
                      <a:pt x="728" y="118"/>
                    </a:lnTo>
                    <a:lnTo>
                      <a:pt x="665" y="133"/>
                    </a:lnTo>
                    <a:lnTo>
                      <a:pt x="704" y="108"/>
                    </a:lnTo>
                    <a:lnTo>
                      <a:pt x="745" y="105"/>
                    </a:lnTo>
                    <a:lnTo>
                      <a:pt x="790" y="108"/>
                    </a:lnTo>
                    <a:lnTo>
                      <a:pt x="809" y="129"/>
                    </a:lnTo>
                    <a:lnTo>
                      <a:pt x="849" y="150"/>
                    </a:lnTo>
                    <a:lnTo>
                      <a:pt x="880" y="150"/>
                    </a:lnTo>
                    <a:lnTo>
                      <a:pt x="889" y="133"/>
                    </a:lnTo>
                    <a:lnTo>
                      <a:pt x="887" y="111"/>
                    </a:lnTo>
                    <a:lnTo>
                      <a:pt x="867" y="90"/>
                    </a:lnTo>
                    <a:lnTo>
                      <a:pt x="814" y="53"/>
                    </a:lnTo>
                    <a:lnTo>
                      <a:pt x="759" y="34"/>
                    </a:lnTo>
                    <a:lnTo>
                      <a:pt x="681" y="37"/>
                    </a:lnTo>
                    <a:lnTo>
                      <a:pt x="608" y="53"/>
                    </a:lnTo>
                    <a:lnTo>
                      <a:pt x="556" y="80"/>
                    </a:lnTo>
                    <a:lnTo>
                      <a:pt x="506" y="108"/>
                    </a:lnTo>
                    <a:lnTo>
                      <a:pt x="474" y="61"/>
                    </a:lnTo>
                    <a:lnTo>
                      <a:pt x="442" y="12"/>
                    </a:lnTo>
                    <a:lnTo>
                      <a:pt x="402" y="0"/>
                    </a:lnTo>
                    <a:lnTo>
                      <a:pt x="362" y="5"/>
                    </a:lnTo>
                    <a:lnTo>
                      <a:pt x="343" y="28"/>
                    </a:lnTo>
                    <a:lnTo>
                      <a:pt x="374" y="58"/>
                    </a:lnTo>
                    <a:lnTo>
                      <a:pt x="392" y="90"/>
                    </a:lnTo>
                    <a:lnTo>
                      <a:pt x="398" y="121"/>
                    </a:lnTo>
                    <a:lnTo>
                      <a:pt x="408" y="177"/>
                    </a:lnTo>
                    <a:lnTo>
                      <a:pt x="398" y="214"/>
                    </a:lnTo>
                    <a:lnTo>
                      <a:pt x="387" y="249"/>
                    </a:lnTo>
                    <a:lnTo>
                      <a:pt x="368" y="276"/>
                    </a:lnTo>
                    <a:lnTo>
                      <a:pt x="359" y="310"/>
                    </a:lnTo>
                    <a:lnTo>
                      <a:pt x="359" y="356"/>
                    </a:lnTo>
                    <a:lnTo>
                      <a:pt x="368" y="406"/>
                    </a:lnTo>
                    <a:lnTo>
                      <a:pt x="380" y="444"/>
                    </a:lnTo>
                    <a:lnTo>
                      <a:pt x="362" y="524"/>
                    </a:lnTo>
                    <a:lnTo>
                      <a:pt x="338" y="611"/>
                    </a:lnTo>
                    <a:lnTo>
                      <a:pt x="312" y="680"/>
                    </a:lnTo>
                    <a:lnTo>
                      <a:pt x="289" y="747"/>
                    </a:lnTo>
                    <a:lnTo>
                      <a:pt x="263" y="791"/>
                    </a:lnTo>
                    <a:lnTo>
                      <a:pt x="233" y="837"/>
                    </a:lnTo>
                    <a:lnTo>
                      <a:pt x="189" y="877"/>
                    </a:lnTo>
                    <a:lnTo>
                      <a:pt x="130" y="921"/>
                    </a:lnTo>
                    <a:lnTo>
                      <a:pt x="80" y="990"/>
                    </a:lnTo>
                    <a:lnTo>
                      <a:pt x="34" y="1081"/>
                    </a:lnTo>
                    <a:lnTo>
                      <a:pt x="16" y="1143"/>
                    </a:lnTo>
                    <a:lnTo>
                      <a:pt x="3" y="1190"/>
                    </a:lnTo>
                    <a:lnTo>
                      <a:pt x="3" y="1235"/>
                    </a:lnTo>
                    <a:lnTo>
                      <a:pt x="0" y="1281"/>
                    </a:lnTo>
                    <a:lnTo>
                      <a:pt x="3" y="1337"/>
                    </a:lnTo>
                    <a:lnTo>
                      <a:pt x="19" y="1389"/>
                    </a:lnTo>
                    <a:lnTo>
                      <a:pt x="45" y="1421"/>
                    </a:lnTo>
                    <a:lnTo>
                      <a:pt x="71" y="1440"/>
                    </a:lnTo>
                    <a:lnTo>
                      <a:pt x="102" y="1453"/>
                    </a:lnTo>
                    <a:lnTo>
                      <a:pt x="152" y="1458"/>
                    </a:lnTo>
                    <a:lnTo>
                      <a:pt x="192" y="1447"/>
                    </a:lnTo>
                    <a:lnTo>
                      <a:pt x="229" y="1409"/>
                    </a:lnTo>
                    <a:lnTo>
                      <a:pt x="254" y="1358"/>
                    </a:lnTo>
                    <a:lnTo>
                      <a:pt x="263" y="1300"/>
                    </a:lnTo>
                    <a:lnTo>
                      <a:pt x="303" y="1240"/>
                    </a:lnTo>
                    <a:lnTo>
                      <a:pt x="350" y="1188"/>
                    </a:lnTo>
                    <a:lnTo>
                      <a:pt x="398" y="1122"/>
                    </a:lnTo>
                    <a:close/>
                  </a:path>
                </a:pathLst>
              </a:custGeom>
              <a:solidFill>
                <a:srgbClr val="e0a0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836120" y="4094280"/>
              <a:ext cx="304920" cy="336600"/>
              <a:chOff x="7836120" y="4094280"/>
              <a:chExt cx="304920" cy="336600"/>
            </a:xfrm>
          </p:grpSpPr>
          <p:sp>
            <p:nvSpPr>
              <p:cNvPr id="357" name=""/>
              <p:cNvSpPr/>
              <p:nvPr/>
            </p:nvSpPr>
            <p:spPr>
              <a:xfrm>
                <a:off x="7863120" y="4094280"/>
                <a:ext cx="277920" cy="336600"/>
              </a:xfrm>
              <a:custGeom>
                <a:avLst/>
                <a:gdLst/>
                <a:ahLst/>
                <a:rect l="l" t="t" r="r" b="b"/>
                <a:pathLst>
                  <a:path w="175" h="212">
                    <a:moveTo>
                      <a:pt x="0" y="185"/>
                    </a:moveTo>
                    <a:lnTo>
                      <a:pt x="40" y="212"/>
                    </a:lnTo>
                    <a:lnTo>
                      <a:pt x="94" y="200"/>
                    </a:lnTo>
                    <a:lnTo>
                      <a:pt x="150" y="140"/>
                    </a:lnTo>
                    <a:lnTo>
                      <a:pt x="175" y="78"/>
                    </a:lnTo>
                    <a:lnTo>
                      <a:pt x="162" y="22"/>
                    </a:lnTo>
                    <a:lnTo>
                      <a:pt x="114" y="0"/>
                    </a:lnTo>
                    <a:lnTo>
                      <a:pt x="71" y="19"/>
                    </a:lnTo>
                    <a:lnTo>
                      <a:pt x="38" y="4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e0a0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36120" y="4103640"/>
                <a:ext cx="291960" cy="320760"/>
              </a:xfrm>
              <a:custGeom>
                <a:avLst/>
                <a:gdLst/>
                <a:ahLst/>
                <a:rect l="l" t="t" r="r" b="b"/>
                <a:pathLst>
                  <a:path w="184" h="202">
                    <a:moveTo>
                      <a:pt x="0" y="176"/>
                    </a:moveTo>
                    <a:lnTo>
                      <a:pt x="43" y="202"/>
                    </a:lnTo>
                    <a:lnTo>
                      <a:pt x="99" y="191"/>
                    </a:lnTo>
                    <a:lnTo>
                      <a:pt x="158" y="133"/>
                    </a:lnTo>
                    <a:lnTo>
                      <a:pt x="184" y="74"/>
                    </a:lnTo>
                    <a:lnTo>
                      <a:pt x="170" y="20"/>
                    </a:lnTo>
                    <a:lnTo>
                      <a:pt x="120" y="0"/>
                    </a:lnTo>
                    <a:lnTo>
                      <a:pt x="74" y="17"/>
                    </a:lnTo>
                    <a:lnTo>
                      <a:pt x="41" y="4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2209680" y="0"/>
            <a:ext cx="5867640" cy="2286000"/>
          </a:xfrm>
          <a:prstGeom prst="wedgeEllipseCallout">
            <a:avLst>
              <a:gd name="adj1" fmla="val 31333"/>
              <a:gd name="adj2" fmla="val 8020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80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we keep records of the meeting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Training for Committee Members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t your committee members know the purpose of the  meeting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ve all applicable OSHA safety and health standards accessibl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struct them on how to use the OSHA standard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vide training to committee members on hazard identification and accident investiga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447920"/>
            <a:ext cx="73915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486400" y="2057400"/>
            <a:ext cx="3657600" cy="3962520"/>
            <a:chOff x="5486400" y="2057400"/>
            <a:chExt cx="3657600" cy="3962520"/>
          </a:xfrm>
        </p:grpSpPr>
        <p:pic>
          <p:nvPicPr>
            <p:cNvPr id="365" name="clip0065" descr=""/>
            <p:cNvPicPr/>
            <p:nvPr/>
          </p:nvPicPr>
          <p:blipFill>
            <a:blip r:embed="rId1"/>
            <a:stretch/>
          </p:blipFill>
          <p:spPr>
            <a:xfrm>
              <a:off x="5486400" y="20574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790960" y="2504160"/>
              <a:ext cx="1280160" cy="29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Why are we here?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OSHA standard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How to recognize hazard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Should committee members be compensated for time spent on H &amp; S activities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4572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You betcha!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9" name="clip0000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73996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617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 participate in work area self-inspe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 participate in accident investig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 recommend corrective 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 promote safety trai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clip003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7608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Summ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2514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676520"/>
            <a:ext cx="85341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afety committee leadership PLUS support from management can help build an effective safety and health program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safety committee can be a constructive tool, providing guidance and leadership in the overall health and safety of the company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914400" y="1676520"/>
            <a:ext cx="72388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Thank You!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66652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qual representation of every work force divisio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o person or group should have veto power over decision-making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mbership participation is either by appointment or by volunteering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629400" cy="2514600"/>
          </a:xfrm>
          <a:prstGeom prst="wedgeEllipseCallout">
            <a:avLst>
              <a:gd name="adj1" fmla="val 52898"/>
              <a:gd name="adj2" fmla="val 3529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do you decide who will be members of the Safety Committe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324480" y="1371600"/>
          <a:ext cx="2819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371600"/>
                    <a:ext cx="2819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Ratio of Management to Work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55627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omic Sans MS"/>
              </a:rPr>
              <a:t>Equal representation of each grou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2133720"/>
            <a:ext cx="4316400" cy="1827000"/>
            <a:chOff x="0" y="2133720"/>
            <a:chExt cx="4316400" cy="1827000"/>
          </a:xfrm>
        </p:grpSpPr>
        <p:sp>
          <p:nvSpPr>
            <p:cNvPr id="55" name="Puzzle1"/>
            <p:cNvSpPr/>
            <p:nvPr/>
          </p:nvSpPr>
          <p:spPr>
            <a:xfrm>
              <a:off x="0" y="2133720"/>
              <a:ext cx="4316400" cy="1827000"/>
            </a:xfrm>
            <a:prstGeom prst="pie">
              <a:avLst/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9320" y="281952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Manage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76720" y="1371600"/>
            <a:ext cx="2670120" cy="2631960"/>
            <a:chOff x="3276720" y="1371600"/>
            <a:chExt cx="2670120" cy="2631960"/>
          </a:xfrm>
        </p:grpSpPr>
        <p:sp>
          <p:nvSpPr>
            <p:cNvPr id="58" name="Puzzle3"/>
            <p:cNvSpPr/>
            <p:nvPr/>
          </p:nvSpPr>
          <p:spPr>
            <a:xfrm>
              <a:off x="3276720" y="1371600"/>
              <a:ext cx="2670120" cy="2631960"/>
            </a:xfrm>
            <a:prstGeom prst="pi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1640" y="228600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14600" y="3276720"/>
            <a:ext cx="4264200" cy="2396880"/>
            <a:chOff x="2514600" y="3276720"/>
            <a:chExt cx="4264200" cy="2396880"/>
          </a:xfrm>
        </p:grpSpPr>
        <p:sp>
          <p:nvSpPr>
            <p:cNvPr id="61" name="Puzzle2"/>
            <p:cNvSpPr/>
            <p:nvPr/>
          </p:nvSpPr>
          <p:spPr>
            <a:xfrm>
              <a:off x="2514600" y="3276720"/>
              <a:ext cx="4264200" cy="239688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114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Finish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14400" y="3276720"/>
            <a:ext cx="2570040" cy="3065400"/>
            <a:chOff x="914400" y="3276720"/>
            <a:chExt cx="2570040" cy="3065400"/>
          </a:xfrm>
        </p:grpSpPr>
        <p:sp>
          <p:nvSpPr>
            <p:cNvPr id="64" name="Puzzle4"/>
            <p:cNvSpPr/>
            <p:nvPr/>
          </p:nvSpPr>
          <p:spPr>
            <a:xfrm>
              <a:off x="914400" y="3276720"/>
              <a:ext cx="2570040" cy="3065400"/>
            </a:xfrm>
            <a:prstGeom prst="pi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71600" y="4132440"/>
              <a:ext cx="15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60093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876920" y="2057400"/>
            <a:ext cx="3871800" cy="2050920"/>
            <a:chOff x="4876920" y="2057400"/>
            <a:chExt cx="3871800" cy="2050920"/>
          </a:xfrm>
        </p:grpSpPr>
        <p:sp>
          <p:nvSpPr>
            <p:cNvPr id="67" name="Puzzle1"/>
            <p:cNvSpPr/>
            <p:nvPr/>
          </p:nvSpPr>
          <p:spPr>
            <a:xfrm>
              <a:off x="4876920" y="2057400"/>
              <a:ext cx="3871800" cy="20509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4880" y="2819160"/>
              <a:ext cx="168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urchas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838080" y="37339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oth would be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great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65520" y="471600"/>
            <a:ext cx="4579920" cy="203616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members have to have work experience or training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clip0010" descr=""/>
          <p:cNvPicPr/>
          <p:nvPr/>
        </p:nvPicPr>
        <p:blipFill>
          <a:blip r:embed="rId1"/>
          <a:stretch/>
        </p:blipFill>
        <p:spPr>
          <a:xfrm>
            <a:off x="5265720" y="1371600"/>
            <a:ext cx="3878280" cy="525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0"/>
            <a:ext cx="6629400" cy="2895480"/>
          </a:xfrm>
          <a:prstGeom prst="wedgeEllipseCallout">
            <a:avLst>
              <a:gd name="adj1" fmla="val -53615"/>
              <a:gd name="adj2" fmla="val 67106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clip0077" descr=""/>
          <p:cNvPicPr/>
          <p:nvPr/>
        </p:nvPicPr>
        <p:blipFill>
          <a:blip r:embed="rId1"/>
          <a:stretch/>
        </p:blipFill>
        <p:spPr>
          <a:xfrm>
            <a:off x="171360" y="2590920"/>
            <a:ext cx="2935440" cy="4267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ell, what should be the criteria when we pick members for our Safety Committe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742840" y="4572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eed a positive attitud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eed to be motivat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elps to be enthusias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clip0079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3029040" cy="3873600"/>
          </a:xfrm>
          <a:prstGeom prst="rect">
            <a:avLst/>
          </a:prstGeom>
          <a:ln w="0">
            <a:noFill/>
          </a:ln>
        </p:spPr>
      </p:pic>
      <p:pic>
        <p:nvPicPr>
          <p:cNvPr id="77" name="clip0043" descr=""/>
          <p:cNvPicPr/>
          <p:nvPr/>
        </p:nvPicPr>
        <p:blipFill>
          <a:blip r:embed="rId2"/>
          <a:stretch/>
        </p:blipFill>
        <p:spPr>
          <a:xfrm>
            <a:off x="0" y="9144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133360" y="1980720"/>
            <a:ext cx="5105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ust be able to work with oth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elps to be self-confid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clip0081" descr=""/>
          <p:cNvPicPr/>
          <p:nvPr/>
        </p:nvPicPr>
        <p:blipFill>
          <a:blip r:embed="rId1"/>
          <a:stretch/>
        </p:blipFill>
        <p:spPr>
          <a:xfrm>
            <a:off x="0" y="4038480"/>
            <a:ext cx="229860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3808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ome old and some you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clip0100" descr=""/>
          <p:cNvPicPr/>
          <p:nvPr/>
        </p:nvPicPr>
        <p:blipFill>
          <a:blip r:embed="rId2"/>
          <a:stretch/>
        </p:blipFill>
        <p:spPr>
          <a:xfrm>
            <a:off x="6575400" y="228600"/>
            <a:ext cx="2568600" cy="2862360"/>
          </a:xfrm>
          <a:prstGeom prst="rect">
            <a:avLst/>
          </a:prstGeom>
          <a:ln w="0">
            <a:noFill/>
          </a:ln>
        </p:spPr>
      </p:pic>
      <p:pic>
        <p:nvPicPr>
          <p:cNvPr id="82" name="clip0102" descr=""/>
          <p:cNvPicPr/>
          <p:nvPr/>
        </p:nvPicPr>
        <p:blipFill>
          <a:blip r:embed="rId3"/>
          <a:stretch/>
        </p:blipFill>
        <p:spPr>
          <a:xfrm>
            <a:off x="6885000" y="3124080"/>
            <a:ext cx="22590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clip0103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766880" cy="354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7:45:36Z</dcterms:created>
  <dc:creator>Becky White</dc:creator>
  <dc:description/>
  <dc:language>en-US</dc:language>
  <cp:lastModifiedBy>AWCC</cp:lastModifiedBy>
  <dcterms:modified xsi:type="dcterms:W3CDTF">2006-10-16T19:02:42Z</dcterms:modified>
  <cp:revision>32</cp:revision>
  <dc:subject/>
  <dc:title>PowerPoint Presentation</dc:title>
</cp:coreProperties>
</file>