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6F68-1AB4-48C2-9BB5-3D037F29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9461-7842-414F-92EF-7B3A2B5E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177C-7AB4-4090-8131-871DFDCE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056-D5C6-43BE-92D0-62325393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B93-CF34-4731-AEF0-332B35C0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82F-A0E1-4F66-871F-A50CB646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E7A-2F77-440E-9C87-329DCDAC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2EC-4C88-4F27-A422-FD501BFD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4ED6-D4C8-427C-9271-C9ED48D9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4D8B-BC99-442A-9C78-3AB5DC9C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9E39-765A-43AE-B1ED-3EDABAC1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474-FC91-415C-A8F7-14AEBCF1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42FA-6E9D-447D-A697-45634A4E7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715000"/>
            <a:ext cx="7086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rkansas Workers’ Compensation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ealth and Safety 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1219320"/>
            <a:ext cx="81532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Machine  Guard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457200"/>
            <a:ext cx="5562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66ff33"/>
                </a:solidFill>
                <a:uFillTx/>
                <a:latin typeface="Comic Sans MS"/>
              </a:rPr>
              <a:t>Bending: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ess brakes, tube benders, plate ro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733920" y="2593800"/>
            <a:ext cx="5409720" cy="4263840"/>
            <a:chOff x="3733920" y="2593800"/>
            <a:chExt cx="5409720" cy="4263840"/>
          </a:xfrm>
        </p:grpSpPr>
        <p:pic>
          <p:nvPicPr>
            <p:cNvPr id="79" name="press_brakes" descr=""/>
            <p:cNvPicPr/>
            <p:nvPr/>
          </p:nvPicPr>
          <p:blipFill>
            <a:blip r:embed="rId1"/>
            <a:stretch/>
          </p:blipFill>
          <p:spPr>
            <a:xfrm>
              <a:off x="3733920" y="2593800"/>
              <a:ext cx="5409720" cy="42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929200" y="3254760"/>
              <a:ext cx="940680" cy="332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34800" y="4002480"/>
              <a:ext cx="940680" cy="332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133720" y="5638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ress br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457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33"/>
                </a:solidFill>
                <a:uFillTx/>
                <a:latin typeface="Comic Sans MS"/>
              </a:rPr>
              <a:t>Machine guards must be installed and maintained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666880"/>
            <a:ext cx="7772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event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main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tect from falling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762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33"/>
                </a:solidFill>
                <a:uFillTx/>
                <a:latin typeface="Comic Sans MS"/>
              </a:rPr>
              <a:t>Machine guards must be installed and maintained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281952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reate no new haz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reate no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7621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33"/>
                </a:solidFill>
                <a:uFillTx/>
                <a:latin typeface="Comic Sans MS"/>
              </a:rPr>
              <a:t>Allow Safe Maintenance and Lubric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33526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You should be able to lubricate the machine without removing the safegu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838080"/>
            <a:ext cx="891540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rriers and gu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events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chanical or electronic dev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stricts contact, e.g. presence-sensing,  restraining, tripping devices, 2-hand contr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eeding and ejection metho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liminates parts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Warning 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33"/>
                </a:solidFill>
                <a:uFillTx/>
                <a:latin typeface="Comic Sans MS"/>
              </a:rPr>
              <a:t>Types of Machine Safeguar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304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33"/>
                </a:solidFill>
                <a:uFillTx/>
                <a:latin typeface="Comic Sans MS"/>
              </a:rPr>
              <a:t>Train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447920"/>
            <a:ext cx="86868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dentification of haz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escription of safegu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structions on how to use safegu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structions on how and when safeguards may be rem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structions on what to do if safeguard is missing, damaged, or inadequ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1752480"/>
            <a:ext cx="6934320" cy="8251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GRINDER SAFE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53352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33"/>
                </a:solidFill>
                <a:uFillTx/>
                <a:latin typeface="Arial"/>
              </a:rPr>
              <a:t>Always protect your eyes when using a bench or floor grinder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– wear only an eye or face shield bearing the logo ANSI Z-8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9625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ke sure the manufacturer’s recommended speed, as posted on the wheel, is compatible with your grind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143000" y="-76320"/>
          <a:ext cx="7162920" cy="71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-76320"/>
                    <a:ext cx="7162920" cy="71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324480" y="1523880"/>
            <a:ext cx="2819520" cy="1008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e sure the outer wheel guard is in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304920"/>
            <a:ext cx="4267440" cy="703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e sure the power transmission cover is securely in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257800" y="990720"/>
            <a:ext cx="53352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924320" y="2514600"/>
            <a:ext cx="304920" cy="838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095520" y="5715000"/>
            <a:ext cx="381240" cy="457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6156360"/>
            <a:ext cx="3733920" cy="703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aintain the tool rest within 1/8” of grinding wheel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429000" y="5029200"/>
            <a:ext cx="457200" cy="457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410080"/>
            <a:ext cx="3276720" cy="82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unt the grinder secur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1295280"/>
            <a:ext cx="762120" cy="5335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04920"/>
            <a:ext cx="2666880" cy="1008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aintain the tongue guard within ¼” of grinding wheel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435800">
            <a:off x="4267080" y="2133360"/>
            <a:ext cx="99072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304920"/>
            <a:ext cx="861048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*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s the wheel wears down, readjust the tool rest and tongue guard.  When you can no longer adjust them, replace the wheel.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33"/>
                </a:solidFill>
                <a:uFillTx/>
                <a:latin typeface="Arial"/>
              </a:rPr>
              <a:t>Important: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When installing a new wheel, follow the manufacturer’s instructions closely.  An improperly installed wheel can break and cause injur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45720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33"/>
                </a:solidFill>
                <a:uFillTx/>
                <a:latin typeface="Comic Sans MS"/>
              </a:rPr>
              <a:t>Machine guarding must be provided and maintained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protect machine operators and oth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rom hazards associated with operation of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09480" y="1295280"/>
            <a:ext cx="7239240" cy="36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64600" dir="674838" blurRad="0" rotWithShape="0">
                    <a:srgbClr val="000000"/>
                  </a:outerShdw>
                </a:effectLst>
                <a:latin typeface="Impact"/>
              </a:rPr>
              <a:t>Thank you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64600" dir="674838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685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33"/>
                </a:solidFill>
                <a:uFillTx/>
                <a:latin typeface="Comic Sans MS"/>
              </a:rPr>
              <a:t>Hazards include: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057400"/>
            <a:ext cx="5638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-going nip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otating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lying chips and sp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380880"/>
            <a:ext cx="73911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66ff33"/>
                </a:solidFill>
                <a:uFillTx/>
                <a:latin typeface="Comic Sans MS"/>
              </a:rPr>
              <a:t>Rotating:</a:t>
            </a:r>
            <a:r>
              <a:rPr b="1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-running nip points, spindles, shaft ends, coupl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533520"/>
            <a:ext cx="66294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66ff33"/>
                </a:solidFill>
                <a:uFillTx/>
                <a:latin typeface="Comic Sans MS"/>
              </a:rPr>
              <a:t>Reciprocating: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ck-and-forth, up-and-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i02193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5486400" cy="3637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029200" y="54864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Reciprocating s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533520"/>
            <a:ext cx="71625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66ff33"/>
                </a:solidFill>
                <a:uFillTx/>
                <a:latin typeface="Comic Sans MS"/>
              </a:rPr>
              <a:t>Transverse: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ovement in a straight, continuous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2514600"/>
            <a:ext cx="72392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733920" y="2800440"/>
            <a:ext cx="5410080" cy="4054320"/>
            <a:chOff x="3733920" y="2800440"/>
            <a:chExt cx="5410080" cy="4054320"/>
          </a:xfrm>
        </p:grpSpPr>
        <p:pic>
          <p:nvPicPr>
            <p:cNvPr id="54" name="table_03" descr=""/>
            <p:cNvPicPr/>
            <p:nvPr/>
          </p:nvPicPr>
          <p:blipFill>
            <a:blip r:embed="rId1"/>
            <a:stretch/>
          </p:blipFill>
          <p:spPr>
            <a:xfrm>
              <a:off x="3733920" y="2800440"/>
              <a:ext cx="5410080" cy="40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445400">
              <a:off x="5393880" y="5100480"/>
              <a:ext cx="83844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514600" y="5791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Table s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228600"/>
            <a:ext cx="42670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66ff33"/>
                </a:solidFill>
                <a:uFillTx/>
                <a:latin typeface="Comic Sans MS"/>
              </a:rPr>
              <a:t>Cutting: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ndsaws, drills, milling machines, lathes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4273560"/>
            <a:ext cx="3505320" cy="2584440"/>
            <a:chOff x="0" y="4273560"/>
            <a:chExt cx="3505320" cy="2584440"/>
          </a:xfrm>
        </p:grpSpPr>
        <p:pic>
          <p:nvPicPr>
            <p:cNvPr id="59" name="bandsaws" descr=""/>
            <p:cNvPicPr/>
            <p:nvPr/>
          </p:nvPicPr>
          <p:blipFill>
            <a:blip r:embed="rId1"/>
            <a:stretch/>
          </p:blipFill>
          <p:spPr>
            <a:xfrm>
              <a:off x="0" y="4273560"/>
              <a:ext cx="3505320" cy="25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09840" y="4502160"/>
              <a:ext cx="838080" cy="380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320" y="5797440"/>
              <a:ext cx="152280" cy="152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523880" y="4343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Bands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lathes-prod1" descr=""/>
          <p:cNvPicPr/>
          <p:nvPr/>
        </p:nvPicPr>
        <p:blipFill>
          <a:blip r:embed="rId2"/>
          <a:stretch/>
        </p:blipFill>
        <p:spPr>
          <a:xfrm>
            <a:off x="5124600" y="4075200"/>
            <a:ext cx="4019400" cy="2782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943600" y="5943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La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mill1" descr=""/>
          <p:cNvPicPr/>
          <p:nvPr/>
        </p:nvPicPr>
        <p:blipFill>
          <a:blip r:embed="rId3"/>
          <a:stretch/>
        </p:blipFill>
        <p:spPr>
          <a:xfrm>
            <a:off x="4572000" y="-1440"/>
            <a:ext cx="4572000" cy="3458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90920" y="26668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illing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228600"/>
            <a:ext cx="51055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66ff33"/>
                </a:solidFill>
                <a:uFillTx/>
                <a:latin typeface="Comic Sans MS"/>
              </a:rPr>
              <a:t>Punching: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unch presses, not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unchPress2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3222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86400" y="2438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unch 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mmt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3384720" cy="4533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19320" y="6095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o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733920" y="304920"/>
            <a:ext cx="51051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66ff33"/>
                </a:solidFill>
                <a:uFillTx/>
                <a:latin typeface="Comic Sans MS"/>
              </a:rPr>
              <a:t>Shearing: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chanical, pneumatic, or hydraulic sh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04920" y="1795320"/>
            <a:ext cx="5486040" cy="5062320"/>
            <a:chOff x="304920" y="1795320"/>
            <a:chExt cx="5486040" cy="5062320"/>
          </a:xfrm>
        </p:grpSpPr>
        <p:pic>
          <p:nvPicPr>
            <p:cNvPr id="74" name="standard-model-as-shear-1" descr=""/>
            <p:cNvPicPr/>
            <p:nvPr/>
          </p:nvPicPr>
          <p:blipFill>
            <a:blip r:embed="rId1"/>
            <a:stretch/>
          </p:blipFill>
          <p:spPr>
            <a:xfrm>
              <a:off x="304920" y="1795320"/>
              <a:ext cx="5486040" cy="50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756800" y="2296440"/>
              <a:ext cx="725760" cy="167400"/>
            </a:xfrm>
            <a:prstGeom prst="rect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809880" y="52578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ydraulic 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20:44:41Z</dcterms:created>
  <dc:creator>AWCC</dc:creator>
  <dc:description/>
  <dc:language>en-US</dc:language>
  <cp:lastModifiedBy>AWCC</cp:lastModifiedBy>
  <dcterms:modified xsi:type="dcterms:W3CDTF">2008-01-31T21:41:56Z</dcterms:modified>
  <cp:revision>12</cp:revision>
  <dc:subject/>
  <dc:title>PowerPoint Presentation</dc:title>
</cp:coreProperties>
</file>