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210-307B-49BE-BF61-705D9951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8DD-B28C-4ECC-9F73-D82FD92B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68C-9FBC-4535-9917-C7AB3E9E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074-0425-4922-9EEF-1E987FDC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9D3-0858-4C1D-8E6F-D90B1DA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BBB-CB93-43B7-8960-C65D2C2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3FC-C1B5-45AE-BC97-71ED021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5C4-01E7-4FA8-A17C-A051F32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F15-FFC2-4DDD-BBA0-5F60182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812-3131-46ED-AB21-BB379B6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41F-2A22-4F13-9F1A-C17A11C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261-DA04-44BA-B689-5402AA3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CDC-0245-4741-8DC9-13553F00E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60" y="12600"/>
            <a:ext cx="9029520" cy="6824880"/>
          </a:xfrm>
          <a:custGeom>
            <a:avLst/>
            <a:gdLst/>
            <a:ahLst/>
            <a:rect l="l" t="t" r="r" b="b"/>
            <a:pathLst>
              <a:path w="5688" h="4299">
                <a:moveTo>
                  <a:pt x="3552" y="774"/>
                </a:moveTo>
                <a:lnTo>
                  <a:pt x="3369" y="41"/>
                </a:lnTo>
                <a:lnTo>
                  <a:pt x="2698" y="1005"/>
                </a:lnTo>
                <a:lnTo>
                  <a:pt x="2009" y="0"/>
                </a:lnTo>
                <a:lnTo>
                  <a:pt x="1836" y="1069"/>
                </a:lnTo>
                <a:lnTo>
                  <a:pt x="826" y="812"/>
                </a:lnTo>
                <a:lnTo>
                  <a:pt x="1167" y="1840"/>
                </a:lnTo>
                <a:lnTo>
                  <a:pt x="144" y="1802"/>
                </a:lnTo>
                <a:lnTo>
                  <a:pt x="691" y="2683"/>
                </a:lnTo>
                <a:lnTo>
                  <a:pt x="0" y="3087"/>
                </a:lnTo>
                <a:lnTo>
                  <a:pt x="775" y="3491"/>
                </a:lnTo>
                <a:lnTo>
                  <a:pt x="501" y="4298"/>
                </a:lnTo>
                <a:lnTo>
                  <a:pt x="1414" y="3701"/>
                </a:lnTo>
                <a:lnTo>
                  <a:pt x="1543" y="4179"/>
                </a:lnTo>
                <a:lnTo>
                  <a:pt x="2023" y="3725"/>
                </a:lnTo>
                <a:lnTo>
                  <a:pt x="2293" y="4225"/>
                </a:lnTo>
                <a:lnTo>
                  <a:pt x="2684" y="3585"/>
                </a:lnTo>
                <a:lnTo>
                  <a:pt x="3193" y="4166"/>
                </a:lnTo>
                <a:lnTo>
                  <a:pt x="3393" y="3423"/>
                </a:lnTo>
                <a:lnTo>
                  <a:pt x="4257" y="4095"/>
                </a:lnTo>
                <a:lnTo>
                  <a:pt x="3977" y="3091"/>
                </a:lnTo>
                <a:lnTo>
                  <a:pt x="4504" y="3013"/>
                </a:lnTo>
                <a:lnTo>
                  <a:pt x="4376" y="2454"/>
                </a:lnTo>
                <a:lnTo>
                  <a:pt x="5687" y="2201"/>
                </a:lnTo>
                <a:lnTo>
                  <a:pt x="4492" y="1721"/>
                </a:lnTo>
                <a:lnTo>
                  <a:pt x="5167" y="1065"/>
                </a:lnTo>
                <a:lnTo>
                  <a:pt x="4131" y="1381"/>
                </a:lnTo>
                <a:lnTo>
                  <a:pt x="4708" y="34"/>
                </a:lnTo>
                <a:lnTo>
                  <a:pt x="3552" y="77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7080" y="2523960"/>
            <a:ext cx="5408640" cy="1994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162920" y="4419720"/>
            <a:ext cx="1981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Arkansas Workers’ Compensatio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nguiat Bk BT"/>
              </a:rPr>
              <a:t>Health &amp; Safety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607680"/>
            <a:ext cx="4803840" cy="1374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Make Safety a Priority – Even on Bad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52880" y="228600"/>
            <a:ext cx="4216680" cy="6654960"/>
            <a:chOff x="4952880" y="228600"/>
            <a:chExt cx="4216680" cy="66549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952880" y="228600"/>
              <a:ext cx="4216680" cy="66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278320" y="371520"/>
              <a:ext cx="1143000" cy="782640"/>
            </a:xfrm>
            <a:custGeom>
              <a:avLst/>
              <a:gdLst/>
              <a:ahLst/>
              <a:rect l="l" t="t" r="r" b="b"/>
              <a:pathLst>
                <a:path w="720" h="493">
                  <a:moveTo>
                    <a:pt x="655" y="0"/>
                  </a:moveTo>
                  <a:lnTo>
                    <a:pt x="638" y="24"/>
                  </a:lnTo>
                  <a:lnTo>
                    <a:pt x="621" y="43"/>
                  </a:lnTo>
                  <a:lnTo>
                    <a:pt x="602" y="59"/>
                  </a:lnTo>
                  <a:lnTo>
                    <a:pt x="583" y="73"/>
                  </a:lnTo>
                  <a:lnTo>
                    <a:pt x="564" y="82"/>
                  </a:lnTo>
                  <a:lnTo>
                    <a:pt x="544" y="89"/>
                  </a:lnTo>
                  <a:lnTo>
                    <a:pt x="524" y="93"/>
                  </a:lnTo>
                  <a:lnTo>
                    <a:pt x="503" y="94"/>
                  </a:lnTo>
                  <a:lnTo>
                    <a:pt x="482" y="94"/>
                  </a:lnTo>
                  <a:lnTo>
                    <a:pt x="461" y="91"/>
                  </a:lnTo>
                  <a:lnTo>
                    <a:pt x="439" y="87"/>
                  </a:lnTo>
                  <a:lnTo>
                    <a:pt x="417" y="82"/>
                  </a:lnTo>
                  <a:lnTo>
                    <a:pt x="372" y="69"/>
                  </a:lnTo>
                  <a:lnTo>
                    <a:pt x="328" y="54"/>
                  </a:lnTo>
                  <a:lnTo>
                    <a:pt x="283" y="38"/>
                  </a:lnTo>
                  <a:lnTo>
                    <a:pt x="238" y="25"/>
                  </a:lnTo>
                  <a:lnTo>
                    <a:pt x="217" y="20"/>
                  </a:lnTo>
                  <a:lnTo>
                    <a:pt x="195" y="16"/>
                  </a:lnTo>
                  <a:lnTo>
                    <a:pt x="174" y="13"/>
                  </a:lnTo>
                  <a:lnTo>
                    <a:pt x="153" y="13"/>
                  </a:lnTo>
                  <a:lnTo>
                    <a:pt x="132" y="14"/>
                  </a:lnTo>
                  <a:lnTo>
                    <a:pt x="112" y="18"/>
                  </a:lnTo>
                  <a:lnTo>
                    <a:pt x="92" y="25"/>
                  </a:lnTo>
                  <a:lnTo>
                    <a:pt x="73" y="34"/>
                  </a:lnTo>
                  <a:lnTo>
                    <a:pt x="53" y="47"/>
                  </a:lnTo>
                  <a:lnTo>
                    <a:pt x="35" y="63"/>
                  </a:lnTo>
                  <a:lnTo>
                    <a:pt x="17" y="83"/>
                  </a:lnTo>
                  <a:lnTo>
                    <a:pt x="0" y="107"/>
                  </a:lnTo>
                  <a:lnTo>
                    <a:pt x="63" y="492"/>
                  </a:lnTo>
                  <a:lnTo>
                    <a:pt x="81" y="468"/>
                  </a:lnTo>
                  <a:lnTo>
                    <a:pt x="98" y="449"/>
                  </a:lnTo>
                  <a:lnTo>
                    <a:pt x="116" y="433"/>
                  </a:lnTo>
                  <a:lnTo>
                    <a:pt x="136" y="419"/>
                  </a:lnTo>
                  <a:lnTo>
                    <a:pt x="156" y="410"/>
                  </a:lnTo>
                  <a:lnTo>
                    <a:pt x="175" y="403"/>
                  </a:lnTo>
                  <a:lnTo>
                    <a:pt x="196" y="399"/>
                  </a:lnTo>
                  <a:lnTo>
                    <a:pt x="217" y="397"/>
                  </a:lnTo>
                  <a:lnTo>
                    <a:pt x="237" y="398"/>
                  </a:lnTo>
                  <a:lnTo>
                    <a:pt x="258" y="399"/>
                  </a:lnTo>
                  <a:lnTo>
                    <a:pt x="280" y="403"/>
                  </a:lnTo>
                  <a:lnTo>
                    <a:pt x="302" y="409"/>
                  </a:lnTo>
                  <a:lnTo>
                    <a:pt x="347" y="422"/>
                  </a:lnTo>
                  <a:lnTo>
                    <a:pt x="392" y="438"/>
                  </a:lnTo>
                  <a:lnTo>
                    <a:pt x="435" y="453"/>
                  </a:lnTo>
                  <a:lnTo>
                    <a:pt x="480" y="466"/>
                  </a:lnTo>
                  <a:lnTo>
                    <a:pt x="502" y="471"/>
                  </a:lnTo>
                  <a:lnTo>
                    <a:pt x="524" y="475"/>
                  </a:lnTo>
                  <a:lnTo>
                    <a:pt x="545" y="478"/>
                  </a:lnTo>
                  <a:lnTo>
                    <a:pt x="567" y="478"/>
                  </a:lnTo>
                  <a:lnTo>
                    <a:pt x="588" y="476"/>
                  </a:lnTo>
                  <a:lnTo>
                    <a:pt x="607" y="472"/>
                  </a:lnTo>
                  <a:lnTo>
                    <a:pt x="628" y="466"/>
                  </a:lnTo>
                  <a:lnTo>
                    <a:pt x="646" y="456"/>
                  </a:lnTo>
                  <a:lnTo>
                    <a:pt x="666" y="443"/>
                  </a:lnTo>
                  <a:lnTo>
                    <a:pt x="684" y="427"/>
                  </a:lnTo>
                  <a:lnTo>
                    <a:pt x="702" y="407"/>
                  </a:lnTo>
                  <a:lnTo>
                    <a:pt x="719" y="383"/>
                  </a:lnTo>
                  <a:lnTo>
                    <a:pt x="6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1880" y="533520"/>
              <a:ext cx="82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46720" y="466560"/>
              <a:ext cx="1033560" cy="62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2640" y="379440"/>
            <a:ext cx="5565600" cy="14508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266652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ake Sure Safety Rules Are for Protection -  Not Conven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91160" cy="619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Listen and Put Good Ideas to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9600" y="1371600"/>
            <a:ext cx="4449960" cy="551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Don’t Settle For Less Than a Safe Work 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7680" y="608040"/>
            <a:ext cx="777564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419720" y="1600200"/>
            <a:ext cx="4725720" cy="5087880"/>
            <a:chOff x="4419720" y="1600200"/>
            <a:chExt cx="4725720" cy="5087880"/>
          </a:xfrm>
        </p:grpSpPr>
        <p:sp>
          <p:nvSpPr>
            <p:cNvPr id="114" name=""/>
            <p:cNvSpPr/>
            <p:nvPr/>
          </p:nvSpPr>
          <p:spPr>
            <a:xfrm>
              <a:off x="6384960" y="1600200"/>
              <a:ext cx="2760480" cy="5087880"/>
            </a:xfrm>
            <a:custGeom>
              <a:avLst/>
              <a:gdLst/>
              <a:ahLst/>
              <a:rect l="l" t="t" r="r" b="b"/>
              <a:pathLst>
                <a:path w="1739" h="3205">
                  <a:moveTo>
                    <a:pt x="616" y="3204"/>
                  </a:moveTo>
                  <a:lnTo>
                    <a:pt x="607" y="3202"/>
                  </a:lnTo>
                  <a:lnTo>
                    <a:pt x="598" y="3199"/>
                  </a:lnTo>
                  <a:lnTo>
                    <a:pt x="590" y="3195"/>
                  </a:lnTo>
                  <a:lnTo>
                    <a:pt x="582" y="3191"/>
                  </a:lnTo>
                  <a:lnTo>
                    <a:pt x="574" y="3186"/>
                  </a:lnTo>
                  <a:lnTo>
                    <a:pt x="568" y="3181"/>
                  </a:lnTo>
                  <a:lnTo>
                    <a:pt x="562" y="3174"/>
                  </a:lnTo>
                  <a:lnTo>
                    <a:pt x="557" y="3169"/>
                  </a:lnTo>
                  <a:lnTo>
                    <a:pt x="551" y="3162"/>
                  </a:lnTo>
                  <a:lnTo>
                    <a:pt x="547" y="3154"/>
                  </a:lnTo>
                  <a:lnTo>
                    <a:pt x="544" y="3146"/>
                  </a:lnTo>
                  <a:lnTo>
                    <a:pt x="540" y="3138"/>
                  </a:lnTo>
                  <a:lnTo>
                    <a:pt x="535" y="3120"/>
                  </a:lnTo>
                  <a:lnTo>
                    <a:pt x="531" y="3101"/>
                  </a:lnTo>
                  <a:lnTo>
                    <a:pt x="517" y="3104"/>
                  </a:lnTo>
                  <a:lnTo>
                    <a:pt x="502" y="3109"/>
                  </a:lnTo>
                  <a:lnTo>
                    <a:pt x="495" y="3112"/>
                  </a:lnTo>
                  <a:lnTo>
                    <a:pt x="489" y="3116"/>
                  </a:lnTo>
                  <a:lnTo>
                    <a:pt x="483" y="3120"/>
                  </a:lnTo>
                  <a:lnTo>
                    <a:pt x="479" y="3123"/>
                  </a:lnTo>
                  <a:lnTo>
                    <a:pt x="465" y="3129"/>
                  </a:lnTo>
                  <a:lnTo>
                    <a:pt x="451" y="3134"/>
                  </a:lnTo>
                  <a:lnTo>
                    <a:pt x="440" y="3136"/>
                  </a:lnTo>
                  <a:lnTo>
                    <a:pt x="428" y="3136"/>
                  </a:lnTo>
                  <a:lnTo>
                    <a:pt x="420" y="3135"/>
                  </a:lnTo>
                  <a:lnTo>
                    <a:pt x="412" y="3131"/>
                  </a:lnTo>
                  <a:lnTo>
                    <a:pt x="405" y="3125"/>
                  </a:lnTo>
                  <a:lnTo>
                    <a:pt x="399" y="3118"/>
                  </a:lnTo>
                  <a:lnTo>
                    <a:pt x="395" y="3112"/>
                  </a:lnTo>
                  <a:lnTo>
                    <a:pt x="393" y="3102"/>
                  </a:lnTo>
                  <a:lnTo>
                    <a:pt x="390" y="3091"/>
                  </a:lnTo>
                  <a:lnTo>
                    <a:pt x="389" y="3081"/>
                  </a:lnTo>
                  <a:lnTo>
                    <a:pt x="389" y="3068"/>
                  </a:lnTo>
                  <a:lnTo>
                    <a:pt x="390" y="3055"/>
                  </a:lnTo>
                  <a:lnTo>
                    <a:pt x="393" y="3041"/>
                  </a:lnTo>
                  <a:lnTo>
                    <a:pt x="395" y="3027"/>
                  </a:lnTo>
                  <a:lnTo>
                    <a:pt x="381" y="3029"/>
                  </a:lnTo>
                  <a:lnTo>
                    <a:pt x="368" y="3034"/>
                  </a:lnTo>
                  <a:lnTo>
                    <a:pt x="355" y="3039"/>
                  </a:lnTo>
                  <a:lnTo>
                    <a:pt x="341" y="3044"/>
                  </a:lnTo>
                  <a:lnTo>
                    <a:pt x="327" y="3047"/>
                  </a:lnTo>
                  <a:lnTo>
                    <a:pt x="314" y="3047"/>
                  </a:lnTo>
                  <a:lnTo>
                    <a:pt x="304" y="3045"/>
                  </a:lnTo>
                  <a:lnTo>
                    <a:pt x="296" y="3043"/>
                  </a:lnTo>
                  <a:lnTo>
                    <a:pt x="291" y="3039"/>
                  </a:lnTo>
                  <a:lnTo>
                    <a:pt x="288" y="3032"/>
                  </a:lnTo>
                  <a:lnTo>
                    <a:pt x="286" y="3025"/>
                  </a:lnTo>
                  <a:lnTo>
                    <a:pt x="286" y="3018"/>
                  </a:lnTo>
                  <a:lnTo>
                    <a:pt x="286" y="3010"/>
                  </a:lnTo>
                  <a:lnTo>
                    <a:pt x="289" y="3000"/>
                  </a:lnTo>
                  <a:lnTo>
                    <a:pt x="293" y="2991"/>
                  </a:lnTo>
                  <a:lnTo>
                    <a:pt x="296" y="2982"/>
                  </a:lnTo>
                  <a:lnTo>
                    <a:pt x="306" y="2964"/>
                  </a:lnTo>
                  <a:lnTo>
                    <a:pt x="314" y="2946"/>
                  </a:lnTo>
                  <a:lnTo>
                    <a:pt x="313" y="2943"/>
                  </a:lnTo>
                  <a:lnTo>
                    <a:pt x="313" y="2941"/>
                  </a:lnTo>
                  <a:lnTo>
                    <a:pt x="285" y="2941"/>
                  </a:lnTo>
                  <a:lnTo>
                    <a:pt x="236" y="2943"/>
                  </a:lnTo>
                  <a:lnTo>
                    <a:pt x="205" y="2943"/>
                  </a:lnTo>
                  <a:lnTo>
                    <a:pt x="174" y="2941"/>
                  </a:lnTo>
                  <a:lnTo>
                    <a:pt x="142" y="2940"/>
                  </a:lnTo>
                  <a:lnTo>
                    <a:pt x="110" y="2937"/>
                  </a:lnTo>
                  <a:lnTo>
                    <a:pt x="79" y="2932"/>
                  </a:lnTo>
                  <a:lnTo>
                    <a:pt x="53" y="2926"/>
                  </a:lnTo>
                  <a:lnTo>
                    <a:pt x="40" y="2922"/>
                  </a:lnTo>
                  <a:lnTo>
                    <a:pt x="30" y="2916"/>
                  </a:lnTo>
                  <a:lnTo>
                    <a:pt x="21" y="2913"/>
                  </a:lnTo>
                  <a:lnTo>
                    <a:pt x="12" y="2906"/>
                  </a:lnTo>
                  <a:lnTo>
                    <a:pt x="7" y="2900"/>
                  </a:lnTo>
                  <a:lnTo>
                    <a:pt x="2" y="2892"/>
                  </a:lnTo>
                  <a:lnTo>
                    <a:pt x="0" y="2884"/>
                  </a:lnTo>
                  <a:lnTo>
                    <a:pt x="0" y="2876"/>
                  </a:lnTo>
                  <a:lnTo>
                    <a:pt x="2" y="2866"/>
                  </a:lnTo>
                  <a:lnTo>
                    <a:pt x="6" y="2855"/>
                  </a:lnTo>
                  <a:lnTo>
                    <a:pt x="14" y="2845"/>
                  </a:lnTo>
                  <a:lnTo>
                    <a:pt x="22" y="2832"/>
                  </a:lnTo>
                  <a:lnTo>
                    <a:pt x="37" y="2825"/>
                  </a:lnTo>
                  <a:lnTo>
                    <a:pt x="53" y="2816"/>
                  </a:lnTo>
                  <a:lnTo>
                    <a:pt x="69" y="2808"/>
                  </a:lnTo>
                  <a:lnTo>
                    <a:pt x="89" y="2801"/>
                  </a:lnTo>
                  <a:lnTo>
                    <a:pt x="107" y="2796"/>
                  </a:lnTo>
                  <a:lnTo>
                    <a:pt x="126" y="2789"/>
                  </a:lnTo>
                  <a:lnTo>
                    <a:pt x="147" y="2785"/>
                  </a:lnTo>
                  <a:lnTo>
                    <a:pt x="169" y="2781"/>
                  </a:lnTo>
                  <a:lnTo>
                    <a:pt x="189" y="2777"/>
                  </a:lnTo>
                  <a:lnTo>
                    <a:pt x="209" y="2775"/>
                  </a:lnTo>
                  <a:lnTo>
                    <a:pt x="229" y="2774"/>
                  </a:lnTo>
                  <a:lnTo>
                    <a:pt x="249" y="2773"/>
                  </a:lnTo>
                  <a:lnTo>
                    <a:pt x="269" y="2774"/>
                  </a:lnTo>
                  <a:lnTo>
                    <a:pt x="286" y="2775"/>
                  </a:lnTo>
                  <a:lnTo>
                    <a:pt x="304" y="2778"/>
                  </a:lnTo>
                  <a:lnTo>
                    <a:pt x="319" y="2782"/>
                  </a:lnTo>
                  <a:lnTo>
                    <a:pt x="358" y="2762"/>
                  </a:lnTo>
                  <a:lnTo>
                    <a:pt x="399" y="2744"/>
                  </a:lnTo>
                  <a:lnTo>
                    <a:pt x="420" y="2736"/>
                  </a:lnTo>
                  <a:lnTo>
                    <a:pt x="440" y="2729"/>
                  </a:lnTo>
                  <a:lnTo>
                    <a:pt x="461" y="2724"/>
                  </a:lnTo>
                  <a:lnTo>
                    <a:pt x="484" y="2720"/>
                  </a:lnTo>
                  <a:lnTo>
                    <a:pt x="482" y="2712"/>
                  </a:lnTo>
                  <a:lnTo>
                    <a:pt x="479" y="2704"/>
                  </a:lnTo>
                  <a:lnTo>
                    <a:pt x="443" y="2666"/>
                  </a:lnTo>
                  <a:lnTo>
                    <a:pt x="413" y="2628"/>
                  </a:lnTo>
                  <a:lnTo>
                    <a:pt x="384" y="2593"/>
                  </a:lnTo>
                  <a:lnTo>
                    <a:pt x="360" y="2555"/>
                  </a:lnTo>
                  <a:lnTo>
                    <a:pt x="348" y="2538"/>
                  </a:lnTo>
                  <a:lnTo>
                    <a:pt x="338" y="2521"/>
                  </a:lnTo>
                  <a:lnTo>
                    <a:pt x="328" y="2503"/>
                  </a:lnTo>
                  <a:lnTo>
                    <a:pt x="319" y="2485"/>
                  </a:lnTo>
                  <a:lnTo>
                    <a:pt x="311" y="2468"/>
                  </a:lnTo>
                  <a:lnTo>
                    <a:pt x="304" y="2450"/>
                  </a:lnTo>
                  <a:lnTo>
                    <a:pt x="298" y="2432"/>
                  </a:lnTo>
                  <a:lnTo>
                    <a:pt x="293" y="2414"/>
                  </a:lnTo>
                  <a:lnTo>
                    <a:pt x="288" y="2396"/>
                  </a:lnTo>
                  <a:lnTo>
                    <a:pt x="283" y="2377"/>
                  </a:lnTo>
                  <a:lnTo>
                    <a:pt x="280" y="2359"/>
                  </a:lnTo>
                  <a:lnTo>
                    <a:pt x="276" y="2339"/>
                  </a:lnTo>
                  <a:lnTo>
                    <a:pt x="275" y="2320"/>
                  </a:lnTo>
                  <a:lnTo>
                    <a:pt x="272" y="2299"/>
                  </a:lnTo>
                  <a:lnTo>
                    <a:pt x="272" y="2280"/>
                  </a:lnTo>
                  <a:lnTo>
                    <a:pt x="272" y="2259"/>
                  </a:lnTo>
                  <a:lnTo>
                    <a:pt x="274" y="2215"/>
                  </a:lnTo>
                  <a:lnTo>
                    <a:pt x="278" y="2171"/>
                  </a:lnTo>
                  <a:lnTo>
                    <a:pt x="285" y="2123"/>
                  </a:lnTo>
                  <a:lnTo>
                    <a:pt x="294" y="2071"/>
                  </a:lnTo>
                  <a:lnTo>
                    <a:pt x="306" y="2037"/>
                  </a:lnTo>
                  <a:lnTo>
                    <a:pt x="318" y="2008"/>
                  </a:lnTo>
                  <a:lnTo>
                    <a:pt x="332" y="1979"/>
                  </a:lnTo>
                  <a:lnTo>
                    <a:pt x="348" y="1949"/>
                  </a:lnTo>
                  <a:lnTo>
                    <a:pt x="384" y="1907"/>
                  </a:lnTo>
                  <a:lnTo>
                    <a:pt x="423" y="1864"/>
                  </a:lnTo>
                  <a:lnTo>
                    <a:pt x="433" y="1855"/>
                  </a:lnTo>
                  <a:lnTo>
                    <a:pt x="443" y="1845"/>
                  </a:lnTo>
                  <a:lnTo>
                    <a:pt x="455" y="1837"/>
                  </a:lnTo>
                  <a:lnTo>
                    <a:pt x="466" y="1830"/>
                  </a:lnTo>
                  <a:lnTo>
                    <a:pt x="479" y="1824"/>
                  </a:lnTo>
                  <a:lnTo>
                    <a:pt x="492" y="1819"/>
                  </a:lnTo>
                  <a:lnTo>
                    <a:pt x="505" y="1816"/>
                  </a:lnTo>
                  <a:lnTo>
                    <a:pt x="518" y="1816"/>
                  </a:lnTo>
                  <a:lnTo>
                    <a:pt x="526" y="1803"/>
                  </a:lnTo>
                  <a:lnTo>
                    <a:pt x="533" y="1789"/>
                  </a:lnTo>
                  <a:lnTo>
                    <a:pt x="540" y="1776"/>
                  </a:lnTo>
                  <a:lnTo>
                    <a:pt x="545" y="1760"/>
                  </a:lnTo>
                  <a:lnTo>
                    <a:pt x="557" y="1731"/>
                  </a:lnTo>
                  <a:lnTo>
                    <a:pt x="568" y="1701"/>
                  </a:lnTo>
                  <a:lnTo>
                    <a:pt x="563" y="1703"/>
                  </a:lnTo>
                  <a:lnTo>
                    <a:pt x="559" y="1703"/>
                  </a:lnTo>
                  <a:lnTo>
                    <a:pt x="554" y="1706"/>
                  </a:lnTo>
                  <a:lnTo>
                    <a:pt x="549" y="1709"/>
                  </a:lnTo>
                  <a:lnTo>
                    <a:pt x="541" y="1715"/>
                  </a:lnTo>
                  <a:lnTo>
                    <a:pt x="533" y="1720"/>
                  </a:lnTo>
                  <a:lnTo>
                    <a:pt x="518" y="1724"/>
                  </a:lnTo>
                  <a:lnTo>
                    <a:pt x="505" y="1726"/>
                  </a:lnTo>
                  <a:lnTo>
                    <a:pt x="493" y="1727"/>
                  </a:lnTo>
                  <a:lnTo>
                    <a:pt x="479" y="1726"/>
                  </a:lnTo>
                  <a:lnTo>
                    <a:pt x="474" y="1735"/>
                  </a:lnTo>
                  <a:lnTo>
                    <a:pt x="468" y="1743"/>
                  </a:lnTo>
                  <a:lnTo>
                    <a:pt x="461" y="1750"/>
                  </a:lnTo>
                  <a:lnTo>
                    <a:pt x="455" y="1755"/>
                  </a:lnTo>
                  <a:lnTo>
                    <a:pt x="448" y="1760"/>
                  </a:lnTo>
                  <a:lnTo>
                    <a:pt x="442" y="1764"/>
                  </a:lnTo>
                  <a:lnTo>
                    <a:pt x="436" y="1766"/>
                  </a:lnTo>
                  <a:lnTo>
                    <a:pt x="430" y="1766"/>
                  </a:lnTo>
                  <a:lnTo>
                    <a:pt x="423" y="1766"/>
                  </a:lnTo>
                  <a:lnTo>
                    <a:pt x="417" y="1765"/>
                  </a:lnTo>
                  <a:lnTo>
                    <a:pt x="412" y="1762"/>
                  </a:lnTo>
                  <a:lnTo>
                    <a:pt x="405" y="1758"/>
                  </a:lnTo>
                  <a:lnTo>
                    <a:pt x="399" y="1753"/>
                  </a:lnTo>
                  <a:lnTo>
                    <a:pt x="393" y="1746"/>
                  </a:lnTo>
                  <a:lnTo>
                    <a:pt x="388" y="1737"/>
                  </a:lnTo>
                  <a:lnTo>
                    <a:pt x="381" y="1728"/>
                  </a:lnTo>
                  <a:lnTo>
                    <a:pt x="379" y="1728"/>
                  </a:lnTo>
                  <a:lnTo>
                    <a:pt x="378" y="1728"/>
                  </a:lnTo>
                  <a:lnTo>
                    <a:pt x="366" y="1737"/>
                  </a:lnTo>
                  <a:lnTo>
                    <a:pt x="358" y="1742"/>
                  </a:lnTo>
                  <a:lnTo>
                    <a:pt x="350" y="1743"/>
                  </a:lnTo>
                  <a:lnTo>
                    <a:pt x="336" y="1743"/>
                  </a:lnTo>
                  <a:lnTo>
                    <a:pt x="326" y="1737"/>
                  </a:lnTo>
                  <a:lnTo>
                    <a:pt x="318" y="1727"/>
                  </a:lnTo>
                  <a:lnTo>
                    <a:pt x="311" y="1719"/>
                  </a:lnTo>
                  <a:lnTo>
                    <a:pt x="306" y="1709"/>
                  </a:lnTo>
                  <a:lnTo>
                    <a:pt x="303" y="1700"/>
                  </a:lnTo>
                  <a:lnTo>
                    <a:pt x="301" y="1689"/>
                  </a:lnTo>
                  <a:lnTo>
                    <a:pt x="300" y="1679"/>
                  </a:lnTo>
                  <a:lnTo>
                    <a:pt x="300" y="1669"/>
                  </a:lnTo>
                  <a:lnTo>
                    <a:pt x="304" y="1647"/>
                  </a:lnTo>
                  <a:lnTo>
                    <a:pt x="311" y="1625"/>
                  </a:lnTo>
                  <a:lnTo>
                    <a:pt x="316" y="1605"/>
                  </a:lnTo>
                  <a:lnTo>
                    <a:pt x="324" y="1585"/>
                  </a:lnTo>
                  <a:lnTo>
                    <a:pt x="313" y="1585"/>
                  </a:lnTo>
                  <a:lnTo>
                    <a:pt x="304" y="1585"/>
                  </a:lnTo>
                  <a:lnTo>
                    <a:pt x="295" y="1585"/>
                  </a:lnTo>
                  <a:lnTo>
                    <a:pt x="289" y="1583"/>
                  </a:lnTo>
                  <a:lnTo>
                    <a:pt x="283" y="1580"/>
                  </a:lnTo>
                  <a:lnTo>
                    <a:pt x="279" y="1576"/>
                  </a:lnTo>
                  <a:lnTo>
                    <a:pt x="275" y="1572"/>
                  </a:lnTo>
                  <a:lnTo>
                    <a:pt x="272" y="1567"/>
                  </a:lnTo>
                  <a:lnTo>
                    <a:pt x="271" y="1560"/>
                  </a:lnTo>
                  <a:lnTo>
                    <a:pt x="271" y="1553"/>
                  </a:lnTo>
                  <a:lnTo>
                    <a:pt x="271" y="1546"/>
                  </a:lnTo>
                  <a:lnTo>
                    <a:pt x="272" y="1538"/>
                  </a:lnTo>
                  <a:lnTo>
                    <a:pt x="276" y="1522"/>
                  </a:lnTo>
                  <a:lnTo>
                    <a:pt x="281" y="1504"/>
                  </a:lnTo>
                  <a:lnTo>
                    <a:pt x="286" y="1496"/>
                  </a:lnTo>
                  <a:lnTo>
                    <a:pt x="294" y="1488"/>
                  </a:lnTo>
                  <a:lnTo>
                    <a:pt x="301" y="1478"/>
                  </a:lnTo>
                  <a:lnTo>
                    <a:pt x="311" y="1471"/>
                  </a:lnTo>
                  <a:lnTo>
                    <a:pt x="322" y="1462"/>
                  </a:lnTo>
                  <a:lnTo>
                    <a:pt x="332" y="1454"/>
                  </a:lnTo>
                  <a:lnTo>
                    <a:pt x="343" y="1446"/>
                  </a:lnTo>
                  <a:lnTo>
                    <a:pt x="356" y="1439"/>
                  </a:lnTo>
                  <a:lnTo>
                    <a:pt x="368" y="1434"/>
                  </a:lnTo>
                  <a:lnTo>
                    <a:pt x="381" y="1428"/>
                  </a:lnTo>
                  <a:lnTo>
                    <a:pt x="393" y="1426"/>
                  </a:lnTo>
                  <a:lnTo>
                    <a:pt x="405" y="1424"/>
                  </a:lnTo>
                  <a:lnTo>
                    <a:pt x="418" y="1424"/>
                  </a:lnTo>
                  <a:lnTo>
                    <a:pt x="430" y="1426"/>
                  </a:lnTo>
                  <a:lnTo>
                    <a:pt x="441" y="1430"/>
                  </a:lnTo>
                  <a:lnTo>
                    <a:pt x="451" y="1435"/>
                  </a:lnTo>
                  <a:lnTo>
                    <a:pt x="458" y="1435"/>
                  </a:lnTo>
                  <a:lnTo>
                    <a:pt x="474" y="1428"/>
                  </a:lnTo>
                  <a:lnTo>
                    <a:pt x="484" y="1430"/>
                  </a:lnTo>
                  <a:lnTo>
                    <a:pt x="493" y="1433"/>
                  </a:lnTo>
                  <a:lnTo>
                    <a:pt x="502" y="1435"/>
                  </a:lnTo>
                  <a:lnTo>
                    <a:pt x="510" y="1439"/>
                  </a:lnTo>
                  <a:lnTo>
                    <a:pt x="528" y="1449"/>
                  </a:lnTo>
                  <a:lnTo>
                    <a:pt x="545" y="1460"/>
                  </a:lnTo>
                  <a:lnTo>
                    <a:pt x="560" y="1471"/>
                  </a:lnTo>
                  <a:lnTo>
                    <a:pt x="577" y="1480"/>
                  </a:lnTo>
                  <a:lnTo>
                    <a:pt x="585" y="1484"/>
                  </a:lnTo>
                  <a:lnTo>
                    <a:pt x="592" y="1487"/>
                  </a:lnTo>
                  <a:lnTo>
                    <a:pt x="600" y="1488"/>
                  </a:lnTo>
                  <a:lnTo>
                    <a:pt x="608" y="1489"/>
                  </a:lnTo>
                  <a:lnTo>
                    <a:pt x="624" y="1453"/>
                  </a:lnTo>
                  <a:lnTo>
                    <a:pt x="640" y="1419"/>
                  </a:lnTo>
                  <a:lnTo>
                    <a:pt x="649" y="1400"/>
                  </a:lnTo>
                  <a:lnTo>
                    <a:pt x="655" y="1382"/>
                  </a:lnTo>
                  <a:lnTo>
                    <a:pt x="660" y="1365"/>
                  </a:lnTo>
                  <a:lnTo>
                    <a:pt x="664" y="1344"/>
                  </a:lnTo>
                  <a:lnTo>
                    <a:pt x="667" y="1344"/>
                  </a:lnTo>
                  <a:lnTo>
                    <a:pt x="669" y="1343"/>
                  </a:lnTo>
                  <a:lnTo>
                    <a:pt x="672" y="1336"/>
                  </a:lnTo>
                  <a:lnTo>
                    <a:pt x="673" y="1321"/>
                  </a:lnTo>
                  <a:lnTo>
                    <a:pt x="677" y="1292"/>
                  </a:lnTo>
                  <a:lnTo>
                    <a:pt x="683" y="1242"/>
                  </a:lnTo>
                  <a:lnTo>
                    <a:pt x="693" y="1198"/>
                  </a:lnTo>
                  <a:lnTo>
                    <a:pt x="702" y="1160"/>
                  </a:lnTo>
                  <a:lnTo>
                    <a:pt x="714" y="1124"/>
                  </a:lnTo>
                  <a:lnTo>
                    <a:pt x="727" y="1092"/>
                  </a:lnTo>
                  <a:lnTo>
                    <a:pt x="734" y="1076"/>
                  </a:lnTo>
                  <a:lnTo>
                    <a:pt x="742" y="1061"/>
                  </a:lnTo>
                  <a:lnTo>
                    <a:pt x="750" y="1046"/>
                  </a:lnTo>
                  <a:lnTo>
                    <a:pt x="761" y="1029"/>
                  </a:lnTo>
                  <a:lnTo>
                    <a:pt x="771" y="1015"/>
                  </a:lnTo>
                  <a:lnTo>
                    <a:pt x="784" y="999"/>
                  </a:lnTo>
                  <a:lnTo>
                    <a:pt x="797" y="983"/>
                  </a:lnTo>
                  <a:lnTo>
                    <a:pt x="812" y="967"/>
                  </a:lnTo>
                  <a:lnTo>
                    <a:pt x="812" y="940"/>
                  </a:lnTo>
                  <a:lnTo>
                    <a:pt x="812" y="913"/>
                  </a:lnTo>
                  <a:lnTo>
                    <a:pt x="811" y="899"/>
                  </a:lnTo>
                  <a:lnTo>
                    <a:pt x="810" y="886"/>
                  </a:lnTo>
                  <a:lnTo>
                    <a:pt x="809" y="872"/>
                  </a:lnTo>
                  <a:lnTo>
                    <a:pt x="806" y="860"/>
                  </a:lnTo>
                  <a:lnTo>
                    <a:pt x="802" y="847"/>
                  </a:lnTo>
                  <a:lnTo>
                    <a:pt x="797" y="837"/>
                  </a:lnTo>
                  <a:lnTo>
                    <a:pt x="792" y="826"/>
                  </a:lnTo>
                  <a:lnTo>
                    <a:pt x="784" y="817"/>
                  </a:lnTo>
                  <a:lnTo>
                    <a:pt x="776" y="807"/>
                  </a:lnTo>
                  <a:lnTo>
                    <a:pt x="766" y="800"/>
                  </a:lnTo>
                  <a:lnTo>
                    <a:pt x="754" y="793"/>
                  </a:lnTo>
                  <a:lnTo>
                    <a:pt x="740" y="790"/>
                  </a:lnTo>
                  <a:lnTo>
                    <a:pt x="720" y="787"/>
                  </a:lnTo>
                  <a:lnTo>
                    <a:pt x="700" y="781"/>
                  </a:lnTo>
                  <a:lnTo>
                    <a:pt x="679" y="774"/>
                  </a:lnTo>
                  <a:lnTo>
                    <a:pt x="660" y="768"/>
                  </a:lnTo>
                  <a:lnTo>
                    <a:pt x="622" y="751"/>
                  </a:lnTo>
                  <a:lnTo>
                    <a:pt x="585" y="736"/>
                  </a:lnTo>
                  <a:lnTo>
                    <a:pt x="567" y="731"/>
                  </a:lnTo>
                  <a:lnTo>
                    <a:pt x="549" y="726"/>
                  </a:lnTo>
                  <a:lnTo>
                    <a:pt x="531" y="723"/>
                  </a:lnTo>
                  <a:lnTo>
                    <a:pt x="513" y="723"/>
                  </a:lnTo>
                  <a:lnTo>
                    <a:pt x="505" y="724"/>
                  </a:lnTo>
                  <a:lnTo>
                    <a:pt x="495" y="727"/>
                  </a:lnTo>
                  <a:lnTo>
                    <a:pt x="485" y="729"/>
                  </a:lnTo>
                  <a:lnTo>
                    <a:pt x="476" y="733"/>
                  </a:lnTo>
                  <a:lnTo>
                    <a:pt x="468" y="736"/>
                  </a:lnTo>
                  <a:lnTo>
                    <a:pt x="458" y="742"/>
                  </a:lnTo>
                  <a:lnTo>
                    <a:pt x="448" y="749"/>
                  </a:lnTo>
                  <a:lnTo>
                    <a:pt x="440" y="756"/>
                  </a:lnTo>
                  <a:lnTo>
                    <a:pt x="435" y="765"/>
                  </a:lnTo>
                  <a:lnTo>
                    <a:pt x="428" y="773"/>
                  </a:lnTo>
                  <a:lnTo>
                    <a:pt x="421" y="779"/>
                  </a:lnTo>
                  <a:lnTo>
                    <a:pt x="414" y="781"/>
                  </a:lnTo>
                  <a:lnTo>
                    <a:pt x="407" y="783"/>
                  </a:lnTo>
                  <a:lnTo>
                    <a:pt x="399" y="783"/>
                  </a:lnTo>
                  <a:lnTo>
                    <a:pt x="391" y="781"/>
                  </a:lnTo>
                  <a:lnTo>
                    <a:pt x="384" y="779"/>
                  </a:lnTo>
                  <a:lnTo>
                    <a:pt x="376" y="774"/>
                  </a:lnTo>
                  <a:lnTo>
                    <a:pt x="368" y="769"/>
                  </a:lnTo>
                  <a:lnTo>
                    <a:pt x="361" y="763"/>
                  </a:lnTo>
                  <a:lnTo>
                    <a:pt x="353" y="754"/>
                  </a:lnTo>
                  <a:lnTo>
                    <a:pt x="347" y="746"/>
                  </a:lnTo>
                  <a:lnTo>
                    <a:pt x="341" y="736"/>
                  </a:lnTo>
                  <a:lnTo>
                    <a:pt x="334" y="727"/>
                  </a:lnTo>
                  <a:lnTo>
                    <a:pt x="329" y="716"/>
                  </a:lnTo>
                  <a:lnTo>
                    <a:pt x="324" y="706"/>
                  </a:lnTo>
                  <a:lnTo>
                    <a:pt x="319" y="695"/>
                  </a:lnTo>
                  <a:lnTo>
                    <a:pt x="316" y="683"/>
                  </a:lnTo>
                  <a:lnTo>
                    <a:pt x="313" y="672"/>
                  </a:lnTo>
                  <a:lnTo>
                    <a:pt x="311" y="662"/>
                  </a:lnTo>
                  <a:lnTo>
                    <a:pt x="311" y="651"/>
                  </a:lnTo>
                  <a:lnTo>
                    <a:pt x="311" y="640"/>
                  </a:lnTo>
                  <a:lnTo>
                    <a:pt x="311" y="629"/>
                  </a:lnTo>
                  <a:lnTo>
                    <a:pt x="313" y="620"/>
                  </a:lnTo>
                  <a:lnTo>
                    <a:pt x="316" y="611"/>
                  </a:lnTo>
                  <a:lnTo>
                    <a:pt x="321" y="604"/>
                  </a:lnTo>
                  <a:lnTo>
                    <a:pt x="326" y="597"/>
                  </a:lnTo>
                  <a:lnTo>
                    <a:pt x="333" y="590"/>
                  </a:lnTo>
                  <a:lnTo>
                    <a:pt x="342" y="586"/>
                  </a:lnTo>
                  <a:lnTo>
                    <a:pt x="353" y="582"/>
                  </a:lnTo>
                  <a:lnTo>
                    <a:pt x="363" y="579"/>
                  </a:lnTo>
                  <a:lnTo>
                    <a:pt x="373" y="583"/>
                  </a:lnTo>
                  <a:lnTo>
                    <a:pt x="381" y="588"/>
                  </a:lnTo>
                  <a:lnTo>
                    <a:pt x="390" y="590"/>
                  </a:lnTo>
                  <a:lnTo>
                    <a:pt x="403" y="590"/>
                  </a:lnTo>
                  <a:lnTo>
                    <a:pt x="411" y="578"/>
                  </a:lnTo>
                  <a:lnTo>
                    <a:pt x="417" y="567"/>
                  </a:lnTo>
                  <a:lnTo>
                    <a:pt x="421" y="556"/>
                  </a:lnTo>
                  <a:lnTo>
                    <a:pt x="423" y="547"/>
                  </a:lnTo>
                  <a:lnTo>
                    <a:pt x="425" y="537"/>
                  </a:lnTo>
                  <a:lnTo>
                    <a:pt x="425" y="529"/>
                  </a:lnTo>
                  <a:lnTo>
                    <a:pt x="423" y="520"/>
                  </a:lnTo>
                  <a:lnTo>
                    <a:pt x="421" y="511"/>
                  </a:lnTo>
                  <a:lnTo>
                    <a:pt x="416" y="495"/>
                  </a:lnTo>
                  <a:lnTo>
                    <a:pt x="409" y="476"/>
                  </a:lnTo>
                  <a:lnTo>
                    <a:pt x="407" y="467"/>
                  </a:lnTo>
                  <a:lnTo>
                    <a:pt x="405" y="456"/>
                  </a:lnTo>
                  <a:lnTo>
                    <a:pt x="403" y="445"/>
                  </a:lnTo>
                  <a:lnTo>
                    <a:pt x="403" y="433"/>
                  </a:lnTo>
                  <a:lnTo>
                    <a:pt x="412" y="409"/>
                  </a:lnTo>
                  <a:lnTo>
                    <a:pt x="422" y="390"/>
                  </a:lnTo>
                  <a:lnTo>
                    <a:pt x="431" y="376"/>
                  </a:lnTo>
                  <a:lnTo>
                    <a:pt x="441" y="365"/>
                  </a:lnTo>
                  <a:lnTo>
                    <a:pt x="445" y="361"/>
                  </a:lnTo>
                  <a:lnTo>
                    <a:pt x="450" y="358"/>
                  </a:lnTo>
                  <a:lnTo>
                    <a:pt x="455" y="355"/>
                  </a:lnTo>
                  <a:lnTo>
                    <a:pt x="461" y="354"/>
                  </a:lnTo>
                  <a:lnTo>
                    <a:pt x="471" y="352"/>
                  </a:lnTo>
                  <a:lnTo>
                    <a:pt x="483" y="352"/>
                  </a:lnTo>
                  <a:lnTo>
                    <a:pt x="508" y="355"/>
                  </a:lnTo>
                  <a:lnTo>
                    <a:pt x="536" y="361"/>
                  </a:lnTo>
                  <a:lnTo>
                    <a:pt x="551" y="362"/>
                  </a:lnTo>
                  <a:lnTo>
                    <a:pt x="568" y="362"/>
                  </a:lnTo>
                  <a:lnTo>
                    <a:pt x="585" y="362"/>
                  </a:lnTo>
                  <a:lnTo>
                    <a:pt x="603" y="358"/>
                  </a:lnTo>
                  <a:lnTo>
                    <a:pt x="605" y="356"/>
                  </a:lnTo>
                  <a:lnTo>
                    <a:pt x="605" y="355"/>
                  </a:lnTo>
                  <a:lnTo>
                    <a:pt x="600" y="345"/>
                  </a:lnTo>
                  <a:lnTo>
                    <a:pt x="595" y="335"/>
                  </a:lnTo>
                  <a:lnTo>
                    <a:pt x="592" y="325"/>
                  </a:lnTo>
                  <a:lnTo>
                    <a:pt x="590" y="316"/>
                  </a:lnTo>
                  <a:lnTo>
                    <a:pt x="588" y="306"/>
                  </a:lnTo>
                  <a:lnTo>
                    <a:pt x="587" y="297"/>
                  </a:lnTo>
                  <a:lnTo>
                    <a:pt x="585" y="289"/>
                  </a:lnTo>
                  <a:lnTo>
                    <a:pt x="587" y="279"/>
                  </a:lnTo>
                  <a:lnTo>
                    <a:pt x="588" y="263"/>
                  </a:lnTo>
                  <a:lnTo>
                    <a:pt x="593" y="247"/>
                  </a:lnTo>
                  <a:lnTo>
                    <a:pt x="600" y="231"/>
                  </a:lnTo>
                  <a:lnTo>
                    <a:pt x="608" y="216"/>
                  </a:lnTo>
                  <a:lnTo>
                    <a:pt x="617" y="200"/>
                  </a:lnTo>
                  <a:lnTo>
                    <a:pt x="627" y="186"/>
                  </a:lnTo>
                  <a:lnTo>
                    <a:pt x="640" y="170"/>
                  </a:lnTo>
                  <a:lnTo>
                    <a:pt x="652" y="157"/>
                  </a:lnTo>
                  <a:lnTo>
                    <a:pt x="675" y="129"/>
                  </a:lnTo>
                  <a:lnTo>
                    <a:pt x="700" y="99"/>
                  </a:lnTo>
                  <a:lnTo>
                    <a:pt x="711" y="80"/>
                  </a:lnTo>
                  <a:lnTo>
                    <a:pt x="722" y="62"/>
                  </a:lnTo>
                  <a:lnTo>
                    <a:pt x="729" y="56"/>
                  </a:lnTo>
                  <a:lnTo>
                    <a:pt x="734" y="49"/>
                  </a:lnTo>
                  <a:lnTo>
                    <a:pt x="740" y="45"/>
                  </a:lnTo>
                  <a:lnTo>
                    <a:pt x="747" y="41"/>
                  </a:lnTo>
                  <a:lnTo>
                    <a:pt x="754" y="38"/>
                  </a:lnTo>
                  <a:lnTo>
                    <a:pt x="761" y="38"/>
                  </a:lnTo>
                  <a:lnTo>
                    <a:pt x="768" y="39"/>
                  </a:lnTo>
                  <a:lnTo>
                    <a:pt x="776" y="41"/>
                  </a:lnTo>
                  <a:lnTo>
                    <a:pt x="784" y="46"/>
                  </a:lnTo>
                  <a:lnTo>
                    <a:pt x="791" y="52"/>
                  </a:lnTo>
                  <a:lnTo>
                    <a:pt x="800" y="59"/>
                  </a:lnTo>
                  <a:lnTo>
                    <a:pt x="809" y="70"/>
                  </a:lnTo>
                  <a:lnTo>
                    <a:pt x="814" y="68"/>
                  </a:lnTo>
                  <a:lnTo>
                    <a:pt x="820" y="62"/>
                  </a:lnTo>
                  <a:lnTo>
                    <a:pt x="826" y="54"/>
                  </a:lnTo>
                  <a:lnTo>
                    <a:pt x="834" y="46"/>
                  </a:lnTo>
                  <a:lnTo>
                    <a:pt x="848" y="29"/>
                  </a:lnTo>
                  <a:lnTo>
                    <a:pt x="857" y="16"/>
                  </a:lnTo>
                  <a:lnTo>
                    <a:pt x="871" y="8"/>
                  </a:lnTo>
                  <a:lnTo>
                    <a:pt x="884" y="2"/>
                  </a:lnTo>
                  <a:lnTo>
                    <a:pt x="894" y="0"/>
                  </a:lnTo>
                  <a:lnTo>
                    <a:pt x="903" y="0"/>
                  </a:lnTo>
                  <a:lnTo>
                    <a:pt x="911" y="2"/>
                  </a:lnTo>
                  <a:lnTo>
                    <a:pt x="919" y="4"/>
                  </a:lnTo>
                  <a:lnTo>
                    <a:pt x="926" y="8"/>
                  </a:lnTo>
                  <a:lnTo>
                    <a:pt x="931" y="13"/>
                  </a:lnTo>
                  <a:lnTo>
                    <a:pt x="954" y="45"/>
                  </a:lnTo>
                  <a:lnTo>
                    <a:pt x="983" y="81"/>
                  </a:lnTo>
                  <a:lnTo>
                    <a:pt x="984" y="76"/>
                  </a:lnTo>
                  <a:lnTo>
                    <a:pt x="986" y="69"/>
                  </a:lnTo>
                  <a:lnTo>
                    <a:pt x="990" y="63"/>
                  </a:lnTo>
                  <a:lnTo>
                    <a:pt x="995" y="57"/>
                  </a:lnTo>
                  <a:lnTo>
                    <a:pt x="1006" y="43"/>
                  </a:lnTo>
                  <a:lnTo>
                    <a:pt x="1021" y="31"/>
                  </a:lnTo>
                  <a:lnTo>
                    <a:pt x="1036" y="19"/>
                  </a:lnTo>
                  <a:lnTo>
                    <a:pt x="1050" y="11"/>
                  </a:lnTo>
                  <a:lnTo>
                    <a:pt x="1058" y="7"/>
                  </a:lnTo>
                  <a:lnTo>
                    <a:pt x="1063" y="5"/>
                  </a:lnTo>
                  <a:lnTo>
                    <a:pt x="1070" y="4"/>
                  </a:lnTo>
                  <a:lnTo>
                    <a:pt x="1076" y="4"/>
                  </a:lnTo>
                  <a:lnTo>
                    <a:pt x="1076" y="12"/>
                  </a:lnTo>
                  <a:lnTo>
                    <a:pt x="1073" y="20"/>
                  </a:lnTo>
                  <a:lnTo>
                    <a:pt x="1071" y="27"/>
                  </a:lnTo>
                  <a:lnTo>
                    <a:pt x="1068" y="35"/>
                  </a:lnTo>
                  <a:lnTo>
                    <a:pt x="1065" y="42"/>
                  </a:lnTo>
                  <a:lnTo>
                    <a:pt x="1063" y="50"/>
                  </a:lnTo>
                  <a:lnTo>
                    <a:pt x="1060" y="57"/>
                  </a:lnTo>
                  <a:lnTo>
                    <a:pt x="1060" y="65"/>
                  </a:lnTo>
                  <a:lnTo>
                    <a:pt x="1088" y="50"/>
                  </a:lnTo>
                  <a:lnTo>
                    <a:pt x="1145" y="19"/>
                  </a:lnTo>
                  <a:lnTo>
                    <a:pt x="1160" y="12"/>
                  </a:lnTo>
                  <a:lnTo>
                    <a:pt x="1174" y="7"/>
                  </a:lnTo>
                  <a:lnTo>
                    <a:pt x="1188" y="2"/>
                  </a:lnTo>
                  <a:lnTo>
                    <a:pt x="1202" y="0"/>
                  </a:lnTo>
                  <a:lnTo>
                    <a:pt x="1207" y="0"/>
                  </a:lnTo>
                  <a:lnTo>
                    <a:pt x="1212" y="0"/>
                  </a:lnTo>
                  <a:lnTo>
                    <a:pt x="1217" y="2"/>
                  </a:lnTo>
                  <a:lnTo>
                    <a:pt x="1221" y="2"/>
                  </a:lnTo>
                  <a:lnTo>
                    <a:pt x="1225" y="5"/>
                  </a:lnTo>
                  <a:lnTo>
                    <a:pt x="1227" y="8"/>
                  </a:lnTo>
                  <a:lnTo>
                    <a:pt x="1230" y="12"/>
                  </a:lnTo>
                  <a:lnTo>
                    <a:pt x="1231" y="18"/>
                  </a:lnTo>
                  <a:lnTo>
                    <a:pt x="1227" y="25"/>
                  </a:lnTo>
                  <a:lnTo>
                    <a:pt x="1222" y="34"/>
                  </a:lnTo>
                  <a:lnTo>
                    <a:pt x="1215" y="41"/>
                  </a:lnTo>
                  <a:lnTo>
                    <a:pt x="1210" y="47"/>
                  </a:lnTo>
                  <a:lnTo>
                    <a:pt x="1197" y="59"/>
                  </a:lnTo>
                  <a:lnTo>
                    <a:pt x="1181" y="72"/>
                  </a:lnTo>
                  <a:lnTo>
                    <a:pt x="1168" y="86"/>
                  </a:lnTo>
                  <a:lnTo>
                    <a:pt x="1155" y="100"/>
                  </a:lnTo>
                  <a:lnTo>
                    <a:pt x="1148" y="109"/>
                  </a:lnTo>
                  <a:lnTo>
                    <a:pt x="1145" y="118"/>
                  </a:lnTo>
                  <a:lnTo>
                    <a:pt x="1141" y="129"/>
                  </a:lnTo>
                  <a:lnTo>
                    <a:pt x="1137" y="141"/>
                  </a:lnTo>
                  <a:lnTo>
                    <a:pt x="1156" y="130"/>
                  </a:lnTo>
                  <a:lnTo>
                    <a:pt x="1178" y="120"/>
                  </a:lnTo>
                  <a:lnTo>
                    <a:pt x="1200" y="113"/>
                  </a:lnTo>
                  <a:lnTo>
                    <a:pt x="1223" y="106"/>
                  </a:lnTo>
                  <a:lnTo>
                    <a:pt x="1235" y="104"/>
                  </a:lnTo>
                  <a:lnTo>
                    <a:pt x="1247" y="103"/>
                  </a:lnTo>
                  <a:lnTo>
                    <a:pt x="1259" y="103"/>
                  </a:lnTo>
                  <a:lnTo>
                    <a:pt x="1270" y="104"/>
                  </a:lnTo>
                  <a:lnTo>
                    <a:pt x="1282" y="106"/>
                  </a:lnTo>
                  <a:lnTo>
                    <a:pt x="1293" y="109"/>
                  </a:lnTo>
                  <a:lnTo>
                    <a:pt x="1303" y="115"/>
                  </a:lnTo>
                  <a:lnTo>
                    <a:pt x="1312" y="122"/>
                  </a:lnTo>
                  <a:lnTo>
                    <a:pt x="1313" y="126"/>
                  </a:lnTo>
                  <a:lnTo>
                    <a:pt x="1313" y="131"/>
                  </a:lnTo>
                  <a:lnTo>
                    <a:pt x="1290" y="150"/>
                  </a:lnTo>
                  <a:lnTo>
                    <a:pt x="1253" y="179"/>
                  </a:lnTo>
                  <a:lnTo>
                    <a:pt x="1236" y="195"/>
                  </a:lnTo>
                  <a:lnTo>
                    <a:pt x="1221" y="210"/>
                  </a:lnTo>
                  <a:lnTo>
                    <a:pt x="1215" y="218"/>
                  </a:lnTo>
                  <a:lnTo>
                    <a:pt x="1212" y="225"/>
                  </a:lnTo>
                  <a:lnTo>
                    <a:pt x="1210" y="232"/>
                  </a:lnTo>
                  <a:lnTo>
                    <a:pt x="1210" y="238"/>
                  </a:lnTo>
                  <a:lnTo>
                    <a:pt x="1233" y="236"/>
                  </a:lnTo>
                  <a:lnTo>
                    <a:pt x="1263" y="232"/>
                  </a:lnTo>
                  <a:lnTo>
                    <a:pt x="1277" y="231"/>
                  </a:lnTo>
                  <a:lnTo>
                    <a:pt x="1290" y="233"/>
                  </a:lnTo>
                  <a:lnTo>
                    <a:pt x="1295" y="234"/>
                  </a:lnTo>
                  <a:lnTo>
                    <a:pt x="1302" y="238"/>
                  </a:lnTo>
                  <a:lnTo>
                    <a:pt x="1307" y="241"/>
                  </a:lnTo>
                  <a:lnTo>
                    <a:pt x="1311" y="247"/>
                  </a:lnTo>
                  <a:lnTo>
                    <a:pt x="1311" y="252"/>
                  </a:lnTo>
                  <a:lnTo>
                    <a:pt x="1310" y="258"/>
                  </a:lnTo>
                  <a:lnTo>
                    <a:pt x="1307" y="263"/>
                  </a:lnTo>
                  <a:lnTo>
                    <a:pt x="1303" y="268"/>
                  </a:lnTo>
                  <a:lnTo>
                    <a:pt x="1293" y="277"/>
                  </a:lnTo>
                  <a:lnTo>
                    <a:pt x="1282" y="286"/>
                  </a:lnTo>
                  <a:lnTo>
                    <a:pt x="1268" y="295"/>
                  </a:lnTo>
                  <a:lnTo>
                    <a:pt x="1256" y="304"/>
                  </a:lnTo>
                  <a:lnTo>
                    <a:pt x="1251" y="309"/>
                  </a:lnTo>
                  <a:lnTo>
                    <a:pt x="1247" y="315"/>
                  </a:lnTo>
                  <a:lnTo>
                    <a:pt x="1243" y="320"/>
                  </a:lnTo>
                  <a:lnTo>
                    <a:pt x="1241" y="327"/>
                  </a:lnTo>
                  <a:lnTo>
                    <a:pt x="1254" y="332"/>
                  </a:lnTo>
                  <a:lnTo>
                    <a:pt x="1264" y="338"/>
                  </a:lnTo>
                  <a:lnTo>
                    <a:pt x="1273" y="345"/>
                  </a:lnTo>
                  <a:lnTo>
                    <a:pt x="1280" y="352"/>
                  </a:lnTo>
                  <a:lnTo>
                    <a:pt x="1288" y="361"/>
                  </a:lnTo>
                  <a:lnTo>
                    <a:pt x="1293" y="370"/>
                  </a:lnTo>
                  <a:lnTo>
                    <a:pt x="1297" y="381"/>
                  </a:lnTo>
                  <a:lnTo>
                    <a:pt x="1300" y="392"/>
                  </a:lnTo>
                  <a:lnTo>
                    <a:pt x="1302" y="403"/>
                  </a:lnTo>
                  <a:lnTo>
                    <a:pt x="1303" y="415"/>
                  </a:lnTo>
                  <a:lnTo>
                    <a:pt x="1305" y="427"/>
                  </a:lnTo>
                  <a:lnTo>
                    <a:pt x="1303" y="440"/>
                  </a:lnTo>
                  <a:lnTo>
                    <a:pt x="1300" y="465"/>
                  </a:lnTo>
                  <a:lnTo>
                    <a:pt x="1295" y="492"/>
                  </a:lnTo>
                  <a:lnTo>
                    <a:pt x="1285" y="520"/>
                  </a:lnTo>
                  <a:lnTo>
                    <a:pt x="1275" y="547"/>
                  </a:lnTo>
                  <a:lnTo>
                    <a:pt x="1265" y="572"/>
                  </a:lnTo>
                  <a:lnTo>
                    <a:pt x="1253" y="597"/>
                  </a:lnTo>
                  <a:lnTo>
                    <a:pt x="1240" y="620"/>
                  </a:lnTo>
                  <a:lnTo>
                    <a:pt x="1228" y="640"/>
                  </a:lnTo>
                  <a:lnTo>
                    <a:pt x="1215" y="659"/>
                  </a:lnTo>
                  <a:lnTo>
                    <a:pt x="1205" y="672"/>
                  </a:lnTo>
                  <a:lnTo>
                    <a:pt x="1192" y="701"/>
                  </a:lnTo>
                  <a:lnTo>
                    <a:pt x="1178" y="734"/>
                  </a:lnTo>
                  <a:lnTo>
                    <a:pt x="1171" y="751"/>
                  </a:lnTo>
                  <a:lnTo>
                    <a:pt x="1166" y="768"/>
                  </a:lnTo>
                  <a:lnTo>
                    <a:pt x="1163" y="785"/>
                  </a:lnTo>
                  <a:lnTo>
                    <a:pt x="1163" y="802"/>
                  </a:lnTo>
                  <a:lnTo>
                    <a:pt x="1183" y="811"/>
                  </a:lnTo>
                  <a:lnTo>
                    <a:pt x="1200" y="822"/>
                  </a:lnTo>
                  <a:lnTo>
                    <a:pt x="1215" y="831"/>
                  </a:lnTo>
                  <a:lnTo>
                    <a:pt x="1231" y="844"/>
                  </a:lnTo>
                  <a:lnTo>
                    <a:pt x="1246" y="856"/>
                  </a:lnTo>
                  <a:lnTo>
                    <a:pt x="1260" y="871"/>
                  </a:lnTo>
                  <a:lnTo>
                    <a:pt x="1274" y="887"/>
                  </a:lnTo>
                  <a:lnTo>
                    <a:pt x="1290" y="905"/>
                  </a:lnTo>
                  <a:lnTo>
                    <a:pt x="1293" y="905"/>
                  </a:lnTo>
                  <a:lnTo>
                    <a:pt x="1292" y="868"/>
                  </a:lnTo>
                  <a:lnTo>
                    <a:pt x="1293" y="831"/>
                  </a:lnTo>
                  <a:lnTo>
                    <a:pt x="1295" y="793"/>
                  </a:lnTo>
                  <a:lnTo>
                    <a:pt x="1295" y="756"/>
                  </a:lnTo>
                  <a:lnTo>
                    <a:pt x="1297" y="722"/>
                  </a:lnTo>
                  <a:lnTo>
                    <a:pt x="1300" y="685"/>
                  </a:lnTo>
                  <a:lnTo>
                    <a:pt x="1302" y="649"/>
                  </a:lnTo>
                  <a:lnTo>
                    <a:pt x="1305" y="613"/>
                  </a:lnTo>
                  <a:lnTo>
                    <a:pt x="1310" y="576"/>
                  </a:lnTo>
                  <a:lnTo>
                    <a:pt x="1315" y="536"/>
                  </a:lnTo>
                  <a:lnTo>
                    <a:pt x="1321" y="495"/>
                  </a:lnTo>
                  <a:lnTo>
                    <a:pt x="1329" y="454"/>
                  </a:lnTo>
                  <a:lnTo>
                    <a:pt x="1336" y="413"/>
                  </a:lnTo>
                  <a:lnTo>
                    <a:pt x="1347" y="374"/>
                  </a:lnTo>
                  <a:lnTo>
                    <a:pt x="1352" y="355"/>
                  </a:lnTo>
                  <a:lnTo>
                    <a:pt x="1359" y="338"/>
                  </a:lnTo>
                  <a:lnTo>
                    <a:pt x="1367" y="320"/>
                  </a:lnTo>
                  <a:lnTo>
                    <a:pt x="1374" y="302"/>
                  </a:lnTo>
                  <a:lnTo>
                    <a:pt x="1382" y="286"/>
                  </a:lnTo>
                  <a:lnTo>
                    <a:pt x="1392" y="271"/>
                  </a:lnTo>
                  <a:lnTo>
                    <a:pt x="1401" y="258"/>
                  </a:lnTo>
                  <a:lnTo>
                    <a:pt x="1412" y="245"/>
                  </a:lnTo>
                  <a:lnTo>
                    <a:pt x="1424" y="234"/>
                  </a:lnTo>
                  <a:lnTo>
                    <a:pt x="1435" y="224"/>
                  </a:lnTo>
                  <a:lnTo>
                    <a:pt x="1449" y="216"/>
                  </a:lnTo>
                  <a:lnTo>
                    <a:pt x="1463" y="209"/>
                  </a:lnTo>
                  <a:lnTo>
                    <a:pt x="1478" y="204"/>
                  </a:lnTo>
                  <a:lnTo>
                    <a:pt x="1494" y="202"/>
                  </a:lnTo>
                  <a:lnTo>
                    <a:pt x="1511" y="200"/>
                  </a:lnTo>
                  <a:lnTo>
                    <a:pt x="1529" y="200"/>
                  </a:lnTo>
                  <a:lnTo>
                    <a:pt x="1549" y="204"/>
                  </a:lnTo>
                  <a:lnTo>
                    <a:pt x="1569" y="210"/>
                  </a:lnTo>
                  <a:lnTo>
                    <a:pt x="1591" y="217"/>
                  </a:lnTo>
                  <a:lnTo>
                    <a:pt x="1614" y="227"/>
                  </a:lnTo>
                  <a:lnTo>
                    <a:pt x="1624" y="240"/>
                  </a:lnTo>
                  <a:lnTo>
                    <a:pt x="1631" y="251"/>
                  </a:lnTo>
                  <a:lnTo>
                    <a:pt x="1636" y="261"/>
                  </a:lnTo>
                  <a:lnTo>
                    <a:pt x="1636" y="268"/>
                  </a:lnTo>
                  <a:lnTo>
                    <a:pt x="1634" y="275"/>
                  </a:lnTo>
                  <a:lnTo>
                    <a:pt x="1631" y="281"/>
                  </a:lnTo>
                  <a:lnTo>
                    <a:pt x="1624" y="286"/>
                  </a:lnTo>
                  <a:lnTo>
                    <a:pt x="1616" y="290"/>
                  </a:lnTo>
                  <a:lnTo>
                    <a:pt x="1608" y="293"/>
                  </a:lnTo>
                  <a:lnTo>
                    <a:pt x="1599" y="295"/>
                  </a:lnTo>
                  <a:lnTo>
                    <a:pt x="1587" y="297"/>
                  </a:lnTo>
                  <a:lnTo>
                    <a:pt x="1577" y="298"/>
                  </a:lnTo>
                  <a:lnTo>
                    <a:pt x="1556" y="301"/>
                  </a:lnTo>
                  <a:lnTo>
                    <a:pt x="1537" y="302"/>
                  </a:lnTo>
                  <a:lnTo>
                    <a:pt x="1521" y="311"/>
                  </a:lnTo>
                  <a:lnTo>
                    <a:pt x="1507" y="322"/>
                  </a:lnTo>
                  <a:lnTo>
                    <a:pt x="1496" y="336"/>
                  </a:lnTo>
                  <a:lnTo>
                    <a:pt x="1486" y="352"/>
                  </a:lnTo>
                  <a:lnTo>
                    <a:pt x="1478" y="373"/>
                  </a:lnTo>
                  <a:lnTo>
                    <a:pt x="1473" y="395"/>
                  </a:lnTo>
                  <a:lnTo>
                    <a:pt x="1468" y="418"/>
                  </a:lnTo>
                  <a:lnTo>
                    <a:pt x="1466" y="443"/>
                  </a:lnTo>
                  <a:lnTo>
                    <a:pt x="1464" y="470"/>
                  </a:lnTo>
                  <a:lnTo>
                    <a:pt x="1464" y="499"/>
                  </a:lnTo>
                  <a:lnTo>
                    <a:pt x="1466" y="529"/>
                  </a:lnTo>
                  <a:lnTo>
                    <a:pt x="1467" y="560"/>
                  </a:lnTo>
                  <a:lnTo>
                    <a:pt x="1471" y="591"/>
                  </a:lnTo>
                  <a:lnTo>
                    <a:pt x="1474" y="624"/>
                  </a:lnTo>
                  <a:lnTo>
                    <a:pt x="1479" y="658"/>
                  </a:lnTo>
                  <a:lnTo>
                    <a:pt x="1486" y="690"/>
                  </a:lnTo>
                  <a:lnTo>
                    <a:pt x="1499" y="756"/>
                  </a:lnTo>
                  <a:lnTo>
                    <a:pt x="1514" y="822"/>
                  </a:lnTo>
                  <a:lnTo>
                    <a:pt x="1529" y="884"/>
                  </a:lnTo>
                  <a:lnTo>
                    <a:pt x="1546" y="942"/>
                  </a:lnTo>
                  <a:lnTo>
                    <a:pt x="1574" y="1036"/>
                  </a:lnTo>
                  <a:lnTo>
                    <a:pt x="1592" y="1095"/>
                  </a:lnTo>
                  <a:lnTo>
                    <a:pt x="1614" y="1190"/>
                  </a:lnTo>
                  <a:lnTo>
                    <a:pt x="1636" y="1289"/>
                  </a:lnTo>
                  <a:lnTo>
                    <a:pt x="1657" y="1389"/>
                  </a:lnTo>
                  <a:lnTo>
                    <a:pt x="1676" y="1492"/>
                  </a:lnTo>
                  <a:lnTo>
                    <a:pt x="1694" y="1595"/>
                  </a:lnTo>
                  <a:lnTo>
                    <a:pt x="1709" y="1700"/>
                  </a:lnTo>
                  <a:lnTo>
                    <a:pt x="1716" y="1753"/>
                  </a:lnTo>
                  <a:lnTo>
                    <a:pt x="1723" y="1805"/>
                  </a:lnTo>
                  <a:lnTo>
                    <a:pt x="1728" y="1858"/>
                  </a:lnTo>
                  <a:lnTo>
                    <a:pt x="1732" y="1912"/>
                  </a:lnTo>
                  <a:lnTo>
                    <a:pt x="1736" y="1964"/>
                  </a:lnTo>
                  <a:lnTo>
                    <a:pt x="1737" y="2017"/>
                  </a:lnTo>
                  <a:lnTo>
                    <a:pt x="1738" y="2070"/>
                  </a:lnTo>
                  <a:lnTo>
                    <a:pt x="1738" y="2123"/>
                  </a:lnTo>
                  <a:lnTo>
                    <a:pt x="1738" y="2175"/>
                  </a:lnTo>
                  <a:lnTo>
                    <a:pt x="1736" y="2228"/>
                  </a:lnTo>
                  <a:lnTo>
                    <a:pt x="1732" y="2279"/>
                  </a:lnTo>
                  <a:lnTo>
                    <a:pt x="1726" y="2330"/>
                  </a:lnTo>
                  <a:lnTo>
                    <a:pt x="1719" y="2382"/>
                  </a:lnTo>
                  <a:lnTo>
                    <a:pt x="1711" y="2432"/>
                  </a:lnTo>
                  <a:lnTo>
                    <a:pt x="1701" y="2482"/>
                  </a:lnTo>
                  <a:lnTo>
                    <a:pt x="1690" y="2532"/>
                  </a:lnTo>
                  <a:lnTo>
                    <a:pt x="1676" y="2582"/>
                  </a:lnTo>
                  <a:lnTo>
                    <a:pt x="1662" y="2630"/>
                  </a:lnTo>
                  <a:lnTo>
                    <a:pt x="1644" y="2678"/>
                  </a:lnTo>
                  <a:lnTo>
                    <a:pt x="1626" y="2725"/>
                  </a:lnTo>
                  <a:lnTo>
                    <a:pt x="1616" y="2741"/>
                  </a:lnTo>
                  <a:lnTo>
                    <a:pt x="1608" y="2757"/>
                  </a:lnTo>
                  <a:lnTo>
                    <a:pt x="1602" y="2764"/>
                  </a:lnTo>
                  <a:lnTo>
                    <a:pt x="1597" y="2774"/>
                  </a:lnTo>
                  <a:lnTo>
                    <a:pt x="1592" y="2781"/>
                  </a:lnTo>
                  <a:lnTo>
                    <a:pt x="1586" y="2788"/>
                  </a:lnTo>
                  <a:lnTo>
                    <a:pt x="1579" y="2798"/>
                  </a:lnTo>
                  <a:lnTo>
                    <a:pt x="1571" y="2807"/>
                  </a:lnTo>
                  <a:lnTo>
                    <a:pt x="1563" y="2816"/>
                  </a:lnTo>
                  <a:lnTo>
                    <a:pt x="1556" y="2823"/>
                  </a:lnTo>
                  <a:lnTo>
                    <a:pt x="1539" y="2836"/>
                  </a:lnTo>
                  <a:lnTo>
                    <a:pt x="1521" y="2848"/>
                  </a:lnTo>
                  <a:lnTo>
                    <a:pt x="1486" y="2866"/>
                  </a:lnTo>
                  <a:lnTo>
                    <a:pt x="1447" y="2886"/>
                  </a:lnTo>
                  <a:lnTo>
                    <a:pt x="1447" y="2900"/>
                  </a:lnTo>
                  <a:lnTo>
                    <a:pt x="1445" y="2914"/>
                  </a:lnTo>
                  <a:lnTo>
                    <a:pt x="1442" y="2926"/>
                  </a:lnTo>
                  <a:lnTo>
                    <a:pt x="1440" y="2938"/>
                  </a:lnTo>
                  <a:lnTo>
                    <a:pt x="1437" y="2949"/>
                  </a:lnTo>
                  <a:lnTo>
                    <a:pt x="1432" y="2959"/>
                  </a:lnTo>
                  <a:lnTo>
                    <a:pt x="1426" y="2968"/>
                  </a:lnTo>
                  <a:lnTo>
                    <a:pt x="1420" y="2977"/>
                  </a:lnTo>
                  <a:lnTo>
                    <a:pt x="1412" y="2983"/>
                  </a:lnTo>
                  <a:lnTo>
                    <a:pt x="1405" y="2990"/>
                  </a:lnTo>
                  <a:lnTo>
                    <a:pt x="1397" y="2995"/>
                  </a:lnTo>
                  <a:lnTo>
                    <a:pt x="1388" y="3000"/>
                  </a:lnTo>
                  <a:lnTo>
                    <a:pt x="1379" y="3006"/>
                  </a:lnTo>
                  <a:lnTo>
                    <a:pt x="1370" y="3010"/>
                  </a:lnTo>
                  <a:lnTo>
                    <a:pt x="1360" y="3013"/>
                  </a:lnTo>
                  <a:lnTo>
                    <a:pt x="1350" y="3016"/>
                  </a:lnTo>
                  <a:lnTo>
                    <a:pt x="1329" y="3021"/>
                  </a:lnTo>
                  <a:lnTo>
                    <a:pt x="1305" y="3022"/>
                  </a:lnTo>
                  <a:lnTo>
                    <a:pt x="1283" y="3024"/>
                  </a:lnTo>
                  <a:lnTo>
                    <a:pt x="1260" y="3024"/>
                  </a:lnTo>
                  <a:lnTo>
                    <a:pt x="1215" y="3021"/>
                  </a:lnTo>
                  <a:lnTo>
                    <a:pt x="1174" y="3017"/>
                  </a:lnTo>
                  <a:lnTo>
                    <a:pt x="1153" y="3018"/>
                  </a:lnTo>
                  <a:lnTo>
                    <a:pt x="1105" y="3021"/>
                  </a:lnTo>
                  <a:lnTo>
                    <a:pt x="1038" y="3027"/>
                  </a:lnTo>
                  <a:lnTo>
                    <a:pt x="963" y="3030"/>
                  </a:lnTo>
                  <a:lnTo>
                    <a:pt x="887" y="3036"/>
                  </a:lnTo>
                  <a:lnTo>
                    <a:pt x="821" y="3041"/>
                  </a:lnTo>
                  <a:lnTo>
                    <a:pt x="773" y="3045"/>
                  </a:lnTo>
                  <a:lnTo>
                    <a:pt x="755" y="3047"/>
                  </a:lnTo>
                  <a:lnTo>
                    <a:pt x="749" y="3048"/>
                  </a:lnTo>
                  <a:lnTo>
                    <a:pt x="742" y="3051"/>
                  </a:lnTo>
                  <a:lnTo>
                    <a:pt x="737" y="3054"/>
                  </a:lnTo>
                  <a:lnTo>
                    <a:pt x="732" y="3057"/>
                  </a:lnTo>
                  <a:lnTo>
                    <a:pt x="724" y="3066"/>
                  </a:lnTo>
                  <a:lnTo>
                    <a:pt x="715" y="3077"/>
                  </a:lnTo>
                  <a:lnTo>
                    <a:pt x="707" y="3089"/>
                  </a:lnTo>
                  <a:lnTo>
                    <a:pt x="700" y="3101"/>
                  </a:lnTo>
                  <a:lnTo>
                    <a:pt x="693" y="3115"/>
                  </a:lnTo>
                  <a:lnTo>
                    <a:pt x="686" y="3129"/>
                  </a:lnTo>
                  <a:lnTo>
                    <a:pt x="679" y="3143"/>
                  </a:lnTo>
                  <a:lnTo>
                    <a:pt x="673" y="3157"/>
                  </a:lnTo>
                  <a:lnTo>
                    <a:pt x="665" y="3169"/>
                  </a:lnTo>
                  <a:lnTo>
                    <a:pt x="658" y="3180"/>
                  </a:lnTo>
                  <a:lnTo>
                    <a:pt x="649" y="3189"/>
                  </a:lnTo>
                  <a:lnTo>
                    <a:pt x="639" y="3197"/>
                  </a:lnTo>
                  <a:lnTo>
                    <a:pt x="634" y="3200"/>
                  </a:lnTo>
                  <a:lnTo>
                    <a:pt x="629" y="3202"/>
                  </a:lnTo>
                  <a:lnTo>
                    <a:pt x="622" y="3204"/>
                  </a:lnTo>
                  <a:lnTo>
                    <a:pt x="616" y="3204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4145040"/>
              <a:ext cx="2237040" cy="2509920"/>
            </a:xfrm>
            <a:custGeom>
              <a:avLst/>
              <a:gdLst/>
              <a:ahLst/>
              <a:rect l="l" t="t" r="r" b="b"/>
              <a:pathLst>
                <a:path w="1409" h="1581">
                  <a:moveTo>
                    <a:pt x="309" y="1580"/>
                  </a:moveTo>
                  <a:lnTo>
                    <a:pt x="302" y="1577"/>
                  </a:lnTo>
                  <a:lnTo>
                    <a:pt x="293" y="1575"/>
                  </a:lnTo>
                  <a:lnTo>
                    <a:pt x="284" y="1570"/>
                  </a:lnTo>
                  <a:lnTo>
                    <a:pt x="277" y="1565"/>
                  </a:lnTo>
                  <a:lnTo>
                    <a:pt x="270" y="1560"/>
                  </a:lnTo>
                  <a:lnTo>
                    <a:pt x="266" y="1552"/>
                  </a:lnTo>
                  <a:lnTo>
                    <a:pt x="261" y="1545"/>
                  </a:lnTo>
                  <a:lnTo>
                    <a:pt x="257" y="1537"/>
                  </a:lnTo>
                  <a:lnTo>
                    <a:pt x="252" y="1522"/>
                  </a:lnTo>
                  <a:lnTo>
                    <a:pt x="250" y="1507"/>
                  </a:lnTo>
                  <a:lnTo>
                    <a:pt x="248" y="1486"/>
                  </a:lnTo>
                  <a:lnTo>
                    <a:pt x="248" y="1469"/>
                  </a:lnTo>
                  <a:lnTo>
                    <a:pt x="250" y="1433"/>
                  </a:lnTo>
                  <a:lnTo>
                    <a:pt x="252" y="1403"/>
                  </a:lnTo>
                  <a:lnTo>
                    <a:pt x="252" y="1393"/>
                  </a:lnTo>
                  <a:lnTo>
                    <a:pt x="250" y="1383"/>
                  </a:lnTo>
                  <a:lnTo>
                    <a:pt x="250" y="1378"/>
                  </a:lnTo>
                  <a:lnTo>
                    <a:pt x="248" y="1378"/>
                  </a:lnTo>
                  <a:lnTo>
                    <a:pt x="246" y="1375"/>
                  </a:lnTo>
                  <a:lnTo>
                    <a:pt x="241" y="1375"/>
                  </a:lnTo>
                  <a:lnTo>
                    <a:pt x="237" y="1380"/>
                  </a:lnTo>
                  <a:lnTo>
                    <a:pt x="232" y="1385"/>
                  </a:lnTo>
                  <a:lnTo>
                    <a:pt x="230" y="1393"/>
                  </a:lnTo>
                  <a:lnTo>
                    <a:pt x="228" y="1403"/>
                  </a:lnTo>
                  <a:lnTo>
                    <a:pt x="228" y="1416"/>
                  </a:lnTo>
                  <a:lnTo>
                    <a:pt x="228" y="1433"/>
                  </a:lnTo>
                  <a:lnTo>
                    <a:pt x="228" y="1441"/>
                  </a:lnTo>
                  <a:lnTo>
                    <a:pt x="225" y="1449"/>
                  </a:lnTo>
                  <a:lnTo>
                    <a:pt x="225" y="1456"/>
                  </a:lnTo>
                  <a:lnTo>
                    <a:pt x="223" y="1464"/>
                  </a:lnTo>
                  <a:lnTo>
                    <a:pt x="219" y="1469"/>
                  </a:lnTo>
                  <a:lnTo>
                    <a:pt x="212" y="1476"/>
                  </a:lnTo>
                  <a:lnTo>
                    <a:pt x="205" y="1479"/>
                  </a:lnTo>
                  <a:lnTo>
                    <a:pt x="194" y="1484"/>
                  </a:lnTo>
                  <a:lnTo>
                    <a:pt x="178" y="1494"/>
                  </a:lnTo>
                  <a:lnTo>
                    <a:pt x="162" y="1499"/>
                  </a:lnTo>
                  <a:lnTo>
                    <a:pt x="151" y="1504"/>
                  </a:lnTo>
                  <a:lnTo>
                    <a:pt x="140" y="1507"/>
                  </a:lnTo>
                  <a:lnTo>
                    <a:pt x="131" y="1509"/>
                  </a:lnTo>
                  <a:lnTo>
                    <a:pt x="122" y="1509"/>
                  </a:lnTo>
                  <a:lnTo>
                    <a:pt x="117" y="1507"/>
                  </a:lnTo>
                  <a:lnTo>
                    <a:pt x="113" y="1504"/>
                  </a:lnTo>
                  <a:lnTo>
                    <a:pt x="108" y="1499"/>
                  </a:lnTo>
                  <a:lnTo>
                    <a:pt x="106" y="1494"/>
                  </a:lnTo>
                  <a:lnTo>
                    <a:pt x="106" y="1486"/>
                  </a:lnTo>
                  <a:lnTo>
                    <a:pt x="106" y="1479"/>
                  </a:lnTo>
                  <a:lnTo>
                    <a:pt x="106" y="1464"/>
                  </a:lnTo>
                  <a:lnTo>
                    <a:pt x="110" y="1443"/>
                  </a:lnTo>
                  <a:lnTo>
                    <a:pt x="124" y="1403"/>
                  </a:lnTo>
                  <a:lnTo>
                    <a:pt x="144" y="1363"/>
                  </a:lnTo>
                  <a:lnTo>
                    <a:pt x="151" y="1345"/>
                  </a:lnTo>
                  <a:lnTo>
                    <a:pt x="155" y="1330"/>
                  </a:lnTo>
                  <a:lnTo>
                    <a:pt x="160" y="1320"/>
                  </a:lnTo>
                  <a:lnTo>
                    <a:pt x="160" y="1312"/>
                  </a:lnTo>
                  <a:lnTo>
                    <a:pt x="155" y="1315"/>
                  </a:lnTo>
                  <a:lnTo>
                    <a:pt x="151" y="1317"/>
                  </a:lnTo>
                  <a:lnTo>
                    <a:pt x="144" y="1320"/>
                  </a:lnTo>
                  <a:lnTo>
                    <a:pt x="142" y="1325"/>
                  </a:lnTo>
                  <a:lnTo>
                    <a:pt x="133" y="1335"/>
                  </a:lnTo>
                  <a:lnTo>
                    <a:pt x="124" y="1347"/>
                  </a:lnTo>
                  <a:lnTo>
                    <a:pt x="110" y="1375"/>
                  </a:lnTo>
                  <a:lnTo>
                    <a:pt x="99" y="1395"/>
                  </a:lnTo>
                  <a:lnTo>
                    <a:pt x="90" y="1398"/>
                  </a:lnTo>
                  <a:lnTo>
                    <a:pt x="77" y="1403"/>
                  </a:lnTo>
                  <a:lnTo>
                    <a:pt x="61" y="1408"/>
                  </a:lnTo>
                  <a:lnTo>
                    <a:pt x="47" y="1413"/>
                  </a:lnTo>
                  <a:lnTo>
                    <a:pt x="32" y="1418"/>
                  </a:lnTo>
                  <a:lnTo>
                    <a:pt x="18" y="1423"/>
                  </a:lnTo>
                  <a:lnTo>
                    <a:pt x="14" y="1423"/>
                  </a:lnTo>
                  <a:lnTo>
                    <a:pt x="9" y="1423"/>
                  </a:lnTo>
                  <a:lnTo>
                    <a:pt x="5" y="1421"/>
                  </a:lnTo>
                  <a:lnTo>
                    <a:pt x="0" y="1418"/>
                  </a:lnTo>
                  <a:lnTo>
                    <a:pt x="0" y="1406"/>
                  </a:lnTo>
                  <a:lnTo>
                    <a:pt x="5" y="1395"/>
                  </a:lnTo>
                  <a:lnTo>
                    <a:pt x="9" y="1383"/>
                  </a:lnTo>
                  <a:lnTo>
                    <a:pt x="11" y="1373"/>
                  </a:lnTo>
                  <a:lnTo>
                    <a:pt x="18" y="1363"/>
                  </a:lnTo>
                  <a:lnTo>
                    <a:pt x="23" y="1350"/>
                  </a:lnTo>
                  <a:lnTo>
                    <a:pt x="29" y="1340"/>
                  </a:lnTo>
                  <a:lnTo>
                    <a:pt x="36" y="1332"/>
                  </a:lnTo>
                  <a:lnTo>
                    <a:pt x="52" y="1312"/>
                  </a:lnTo>
                  <a:lnTo>
                    <a:pt x="72" y="1294"/>
                  </a:lnTo>
                  <a:lnTo>
                    <a:pt x="92" y="1277"/>
                  </a:lnTo>
                  <a:lnTo>
                    <a:pt x="113" y="1261"/>
                  </a:lnTo>
                  <a:lnTo>
                    <a:pt x="135" y="1249"/>
                  </a:lnTo>
                  <a:lnTo>
                    <a:pt x="160" y="1234"/>
                  </a:lnTo>
                  <a:lnTo>
                    <a:pt x="182" y="1224"/>
                  </a:lnTo>
                  <a:lnTo>
                    <a:pt x="205" y="1213"/>
                  </a:lnTo>
                  <a:lnTo>
                    <a:pt x="230" y="1203"/>
                  </a:lnTo>
                  <a:lnTo>
                    <a:pt x="252" y="1198"/>
                  </a:lnTo>
                  <a:lnTo>
                    <a:pt x="273" y="1193"/>
                  </a:lnTo>
                  <a:lnTo>
                    <a:pt x="293" y="1188"/>
                  </a:lnTo>
                  <a:lnTo>
                    <a:pt x="320" y="1188"/>
                  </a:lnTo>
                  <a:lnTo>
                    <a:pt x="351" y="1186"/>
                  </a:lnTo>
                  <a:lnTo>
                    <a:pt x="381" y="1183"/>
                  </a:lnTo>
                  <a:lnTo>
                    <a:pt x="410" y="1183"/>
                  </a:lnTo>
                  <a:lnTo>
                    <a:pt x="442" y="1178"/>
                  </a:lnTo>
                  <a:lnTo>
                    <a:pt x="471" y="1173"/>
                  </a:lnTo>
                  <a:lnTo>
                    <a:pt x="500" y="1168"/>
                  </a:lnTo>
                  <a:lnTo>
                    <a:pt x="532" y="1160"/>
                  </a:lnTo>
                  <a:lnTo>
                    <a:pt x="536" y="1173"/>
                  </a:lnTo>
                  <a:lnTo>
                    <a:pt x="543" y="1188"/>
                  </a:lnTo>
                  <a:lnTo>
                    <a:pt x="552" y="1203"/>
                  </a:lnTo>
                  <a:lnTo>
                    <a:pt x="563" y="1221"/>
                  </a:lnTo>
                  <a:lnTo>
                    <a:pt x="577" y="1234"/>
                  </a:lnTo>
                  <a:lnTo>
                    <a:pt x="588" y="1246"/>
                  </a:lnTo>
                  <a:lnTo>
                    <a:pt x="595" y="1251"/>
                  </a:lnTo>
                  <a:lnTo>
                    <a:pt x="604" y="1256"/>
                  </a:lnTo>
                  <a:lnTo>
                    <a:pt x="608" y="1259"/>
                  </a:lnTo>
                  <a:lnTo>
                    <a:pt x="617" y="1261"/>
                  </a:lnTo>
                  <a:lnTo>
                    <a:pt x="617" y="1256"/>
                  </a:lnTo>
                  <a:lnTo>
                    <a:pt x="617" y="1254"/>
                  </a:lnTo>
                  <a:lnTo>
                    <a:pt x="597" y="1234"/>
                  </a:lnTo>
                  <a:lnTo>
                    <a:pt x="579" y="1213"/>
                  </a:lnTo>
                  <a:lnTo>
                    <a:pt x="568" y="1201"/>
                  </a:lnTo>
                  <a:lnTo>
                    <a:pt x="561" y="1191"/>
                  </a:lnTo>
                  <a:lnTo>
                    <a:pt x="554" y="1178"/>
                  </a:lnTo>
                  <a:lnTo>
                    <a:pt x="552" y="1168"/>
                  </a:lnTo>
                  <a:lnTo>
                    <a:pt x="572" y="1176"/>
                  </a:lnTo>
                  <a:lnTo>
                    <a:pt x="592" y="1183"/>
                  </a:lnTo>
                  <a:lnTo>
                    <a:pt x="613" y="1193"/>
                  </a:lnTo>
                  <a:lnTo>
                    <a:pt x="631" y="1203"/>
                  </a:lnTo>
                  <a:lnTo>
                    <a:pt x="665" y="1226"/>
                  </a:lnTo>
                  <a:lnTo>
                    <a:pt x="703" y="1256"/>
                  </a:lnTo>
                  <a:lnTo>
                    <a:pt x="705" y="1256"/>
                  </a:lnTo>
                  <a:lnTo>
                    <a:pt x="707" y="1256"/>
                  </a:lnTo>
                  <a:lnTo>
                    <a:pt x="710" y="1254"/>
                  </a:lnTo>
                  <a:lnTo>
                    <a:pt x="712" y="1251"/>
                  </a:lnTo>
                  <a:lnTo>
                    <a:pt x="696" y="1234"/>
                  </a:lnTo>
                  <a:lnTo>
                    <a:pt x="678" y="1218"/>
                  </a:lnTo>
                  <a:lnTo>
                    <a:pt x="660" y="1203"/>
                  </a:lnTo>
                  <a:lnTo>
                    <a:pt x="642" y="1193"/>
                  </a:lnTo>
                  <a:lnTo>
                    <a:pt x="624" y="1181"/>
                  </a:lnTo>
                  <a:lnTo>
                    <a:pt x="608" y="1170"/>
                  </a:lnTo>
                  <a:lnTo>
                    <a:pt x="588" y="1160"/>
                  </a:lnTo>
                  <a:lnTo>
                    <a:pt x="568" y="1153"/>
                  </a:lnTo>
                  <a:lnTo>
                    <a:pt x="561" y="1148"/>
                  </a:lnTo>
                  <a:lnTo>
                    <a:pt x="554" y="1140"/>
                  </a:lnTo>
                  <a:lnTo>
                    <a:pt x="550" y="1135"/>
                  </a:lnTo>
                  <a:lnTo>
                    <a:pt x="547" y="1127"/>
                  </a:lnTo>
                  <a:lnTo>
                    <a:pt x="543" y="1120"/>
                  </a:lnTo>
                  <a:lnTo>
                    <a:pt x="543" y="1112"/>
                  </a:lnTo>
                  <a:lnTo>
                    <a:pt x="547" y="1105"/>
                  </a:lnTo>
                  <a:lnTo>
                    <a:pt x="552" y="1097"/>
                  </a:lnTo>
                  <a:lnTo>
                    <a:pt x="554" y="1097"/>
                  </a:lnTo>
                  <a:lnTo>
                    <a:pt x="559" y="1097"/>
                  </a:lnTo>
                  <a:lnTo>
                    <a:pt x="579" y="1107"/>
                  </a:lnTo>
                  <a:lnTo>
                    <a:pt x="597" y="1115"/>
                  </a:lnTo>
                  <a:lnTo>
                    <a:pt x="617" y="1120"/>
                  </a:lnTo>
                  <a:lnTo>
                    <a:pt x="635" y="1127"/>
                  </a:lnTo>
                  <a:lnTo>
                    <a:pt x="676" y="1140"/>
                  </a:lnTo>
                  <a:lnTo>
                    <a:pt x="714" y="1150"/>
                  </a:lnTo>
                  <a:lnTo>
                    <a:pt x="757" y="1160"/>
                  </a:lnTo>
                  <a:lnTo>
                    <a:pt x="797" y="1170"/>
                  </a:lnTo>
                  <a:lnTo>
                    <a:pt x="818" y="1178"/>
                  </a:lnTo>
                  <a:lnTo>
                    <a:pt x="838" y="1183"/>
                  </a:lnTo>
                  <a:lnTo>
                    <a:pt x="856" y="1191"/>
                  </a:lnTo>
                  <a:lnTo>
                    <a:pt x="879" y="1201"/>
                  </a:lnTo>
                  <a:lnTo>
                    <a:pt x="883" y="1201"/>
                  </a:lnTo>
                  <a:lnTo>
                    <a:pt x="892" y="1198"/>
                  </a:lnTo>
                  <a:lnTo>
                    <a:pt x="892" y="1196"/>
                  </a:lnTo>
                  <a:lnTo>
                    <a:pt x="888" y="1191"/>
                  </a:lnTo>
                  <a:lnTo>
                    <a:pt x="883" y="1186"/>
                  </a:lnTo>
                  <a:lnTo>
                    <a:pt x="881" y="1183"/>
                  </a:lnTo>
                  <a:lnTo>
                    <a:pt x="870" y="1173"/>
                  </a:lnTo>
                  <a:lnTo>
                    <a:pt x="856" y="1168"/>
                  </a:lnTo>
                  <a:lnTo>
                    <a:pt x="843" y="1158"/>
                  </a:lnTo>
                  <a:lnTo>
                    <a:pt x="825" y="1153"/>
                  </a:lnTo>
                  <a:lnTo>
                    <a:pt x="804" y="1145"/>
                  </a:lnTo>
                  <a:lnTo>
                    <a:pt x="784" y="1140"/>
                  </a:lnTo>
                  <a:lnTo>
                    <a:pt x="746" y="1130"/>
                  </a:lnTo>
                  <a:lnTo>
                    <a:pt x="707" y="1122"/>
                  </a:lnTo>
                  <a:lnTo>
                    <a:pt x="676" y="1117"/>
                  </a:lnTo>
                  <a:lnTo>
                    <a:pt x="656" y="1115"/>
                  </a:lnTo>
                  <a:lnTo>
                    <a:pt x="631" y="1107"/>
                  </a:lnTo>
                  <a:lnTo>
                    <a:pt x="606" y="1097"/>
                  </a:lnTo>
                  <a:lnTo>
                    <a:pt x="583" y="1087"/>
                  </a:lnTo>
                  <a:lnTo>
                    <a:pt x="561" y="1077"/>
                  </a:lnTo>
                  <a:lnTo>
                    <a:pt x="541" y="1064"/>
                  </a:lnTo>
                  <a:lnTo>
                    <a:pt x="520" y="1052"/>
                  </a:lnTo>
                  <a:lnTo>
                    <a:pt x="505" y="1039"/>
                  </a:lnTo>
                  <a:lnTo>
                    <a:pt x="489" y="1024"/>
                  </a:lnTo>
                  <a:lnTo>
                    <a:pt x="473" y="1011"/>
                  </a:lnTo>
                  <a:lnTo>
                    <a:pt x="457" y="996"/>
                  </a:lnTo>
                  <a:lnTo>
                    <a:pt x="444" y="981"/>
                  </a:lnTo>
                  <a:lnTo>
                    <a:pt x="430" y="966"/>
                  </a:lnTo>
                  <a:lnTo>
                    <a:pt x="421" y="948"/>
                  </a:lnTo>
                  <a:lnTo>
                    <a:pt x="410" y="928"/>
                  </a:lnTo>
                  <a:lnTo>
                    <a:pt x="401" y="910"/>
                  </a:lnTo>
                  <a:lnTo>
                    <a:pt x="394" y="892"/>
                  </a:lnTo>
                  <a:lnTo>
                    <a:pt x="385" y="875"/>
                  </a:lnTo>
                  <a:lnTo>
                    <a:pt x="378" y="852"/>
                  </a:lnTo>
                  <a:lnTo>
                    <a:pt x="374" y="834"/>
                  </a:lnTo>
                  <a:lnTo>
                    <a:pt x="369" y="814"/>
                  </a:lnTo>
                  <a:lnTo>
                    <a:pt x="365" y="791"/>
                  </a:lnTo>
                  <a:lnTo>
                    <a:pt x="363" y="769"/>
                  </a:lnTo>
                  <a:lnTo>
                    <a:pt x="358" y="746"/>
                  </a:lnTo>
                  <a:lnTo>
                    <a:pt x="358" y="726"/>
                  </a:lnTo>
                  <a:lnTo>
                    <a:pt x="356" y="678"/>
                  </a:lnTo>
                  <a:lnTo>
                    <a:pt x="356" y="629"/>
                  </a:lnTo>
                  <a:lnTo>
                    <a:pt x="358" y="579"/>
                  </a:lnTo>
                  <a:lnTo>
                    <a:pt x="365" y="528"/>
                  </a:lnTo>
                  <a:lnTo>
                    <a:pt x="369" y="508"/>
                  </a:lnTo>
                  <a:lnTo>
                    <a:pt x="374" y="485"/>
                  </a:lnTo>
                  <a:lnTo>
                    <a:pt x="381" y="465"/>
                  </a:lnTo>
                  <a:lnTo>
                    <a:pt x="390" y="447"/>
                  </a:lnTo>
                  <a:lnTo>
                    <a:pt x="394" y="430"/>
                  </a:lnTo>
                  <a:lnTo>
                    <a:pt x="401" y="412"/>
                  </a:lnTo>
                  <a:lnTo>
                    <a:pt x="410" y="394"/>
                  </a:lnTo>
                  <a:lnTo>
                    <a:pt x="419" y="379"/>
                  </a:lnTo>
                  <a:lnTo>
                    <a:pt x="428" y="362"/>
                  </a:lnTo>
                  <a:lnTo>
                    <a:pt x="442" y="346"/>
                  </a:lnTo>
                  <a:lnTo>
                    <a:pt x="451" y="331"/>
                  </a:lnTo>
                  <a:lnTo>
                    <a:pt x="464" y="316"/>
                  </a:lnTo>
                  <a:lnTo>
                    <a:pt x="491" y="286"/>
                  </a:lnTo>
                  <a:lnTo>
                    <a:pt x="518" y="255"/>
                  </a:lnTo>
                  <a:lnTo>
                    <a:pt x="527" y="258"/>
                  </a:lnTo>
                  <a:lnTo>
                    <a:pt x="538" y="258"/>
                  </a:lnTo>
                  <a:lnTo>
                    <a:pt x="547" y="263"/>
                  </a:lnTo>
                  <a:lnTo>
                    <a:pt x="559" y="270"/>
                  </a:lnTo>
                  <a:lnTo>
                    <a:pt x="579" y="283"/>
                  </a:lnTo>
                  <a:lnTo>
                    <a:pt x="601" y="296"/>
                  </a:lnTo>
                  <a:lnTo>
                    <a:pt x="613" y="301"/>
                  </a:lnTo>
                  <a:lnTo>
                    <a:pt x="624" y="303"/>
                  </a:lnTo>
                  <a:lnTo>
                    <a:pt x="629" y="303"/>
                  </a:lnTo>
                  <a:lnTo>
                    <a:pt x="633" y="303"/>
                  </a:lnTo>
                  <a:lnTo>
                    <a:pt x="638" y="301"/>
                  </a:lnTo>
                  <a:lnTo>
                    <a:pt x="642" y="301"/>
                  </a:lnTo>
                  <a:lnTo>
                    <a:pt x="647" y="298"/>
                  </a:lnTo>
                  <a:lnTo>
                    <a:pt x="651" y="293"/>
                  </a:lnTo>
                  <a:lnTo>
                    <a:pt x="656" y="288"/>
                  </a:lnTo>
                  <a:lnTo>
                    <a:pt x="660" y="283"/>
                  </a:lnTo>
                  <a:lnTo>
                    <a:pt x="662" y="278"/>
                  </a:lnTo>
                  <a:lnTo>
                    <a:pt x="667" y="268"/>
                  </a:lnTo>
                  <a:lnTo>
                    <a:pt x="669" y="258"/>
                  </a:lnTo>
                  <a:lnTo>
                    <a:pt x="674" y="250"/>
                  </a:lnTo>
                  <a:lnTo>
                    <a:pt x="687" y="250"/>
                  </a:lnTo>
                  <a:lnTo>
                    <a:pt x="705" y="250"/>
                  </a:lnTo>
                  <a:lnTo>
                    <a:pt x="721" y="255"/>
                  </a:lnTo>
                  <a:lnTo>
                    <a:pt x="739" y="260"/>
                  </a:lnTo>
                  <a:lnTo>
                    <a:pt x="757" y="268"/>
                  </a:lnTo>
                  <a:lnTo>
                    <a:pt x="777" y="276"/>
                  </a:lnTo>
                  <a:lnTo>
                    <a:pt x="795" y="283"/>
                  </a:lnTo>
                  <a:lnTo>
                    <a:pt x="813" y="296"/>
                  </a:lnTo>
                  <a:lnTo>
                    <a:pt x="831" y="306"/>
                  </a:lnTo>
                  <a:lnTo>
                    <a:pt x="849" y="319"/>
                  </a:lnTo>
                  <a:lnTo>
                    <a:pt x="865" y="331"/>
                  </a:lnTo>
                  <a:lnTo>
                    <a:pt x="881" y="341"/>
                  </a:lnTo>
                  <a:lnTo>
                    <a:pt x="894" y="354"/>
                  </a:lnTo>
                  <a:lnTo>
                    <a:pt x="906" y="369"/>
                  </a:lnTo>
                  <a:lnTo>
                    <a:pt x="915" y="382"/>
                  </a:lnTo>
                  <a:lnTo>
                    <a:pt x="921" y="397"/>
                  </a:lnTo>
                  <a:lnTo>
                    <a:pt x="928" y="410"/>
                  </a:lnTo>
                  <a:lnTo>
                    <a:pt x="935" y="422"/>
                  </a:lnTo>
                  <a:lnTo>
                    <a:pt x="942" y="440"/>
                  </a:lnTo>
                  <a:lnTo>
                    <a:pt x="946" y="460"/>
                  </a:lnTo>
                  <a:lnTo>
                    <a:pt x="953" y="503"/>
                  </a:lnTo>
                  <a:lnTo>
                    <a:pt x="962" y="546"/>
                  </a:lnTo>
                  <a:lnTo>
                    <a:pt x="966" y="586"/>
                  </a:lnTo>
                  <a:lnTo>
                    <a:pt x="971" y="619"/>
                  </a:lnTo>
                  <a:lnTo>
                    <a:pt x="973" y="635"/>
                  </a:lnTo>
                  <a:lnTo>
                    <a:pt x="975" y="645"/>
                  </a:lnTo>
                  <a:lnTo>
                    <a:pt x="978" y="652"/>
                  </a:lnTo>
                  <a:lnTo>
                    <a:pt x="980" y="655"/>
                  </a:lnTo>
                  <a:lnTo>
                    <a:pt x="982" y="647"/>
                  </a:lnTo>
                  <a:lnTo>
                    <a:pt x="984" y="637"/>
                  </a:lnTo>
                  <a:lnTo>
                    <a:pt x="984" y="624"/>
                  </a:lnTo>
                  <a:lnTo>
                    <a:pt x="984" y="612"/>
                  </a:lnTo>
                  <a:lnTo>
                    <a:pt x="982" y="581"/>
                  </a:lnTo>
                  <a:lnTo>
                    <a:pt x="978" y="549"/>
                  </a:lnTo>
                  <a:lnTo>
                    <a:pt x="973" y="513"/>
                  </a:lnTo>
                  <a:lnTo>
                    <a:pt x="966" y="483"/>
                  </a:lnTo>
                  <a:lnTo>
                    <a:pt x="962" y="455"/>
                  </a:lnTo>
                  <a:lnTo>
                    <a:pt x="957" y="437"/>
                  </a:lnTo>
                  <a:lnTo>
                    <a:pt x="962" y="437"/>
                  </a:lnTo>
                  <a:lnTo>
                    <a:pt x="987" y="468"/>
                  </a:lnTo>
                  <a:lnTo>
                    <a:pt x="1002" y="493"/>
                  </a:lnTo>
                  <a:lnTo>
                    <a:pt x="1009" y="506"/>
                  </a:lnTo>
                  <a:lnTo>
                    <a:pt x="1016" y="521"/>
                  </a:lnTo>
                  <a:lnTo>
                    <a:pt x="1025" y="538"/>
                  </a:lnTo>
                  <a:lnTo>
                    <a:pt x="1032" y="561"/>
                  </a:lnTo>
                  <a:lnTo>
                    <a:pt x="1036" y="597"/>
                  </a:lnTo>
                  <a:lnTo>
                    <a:pt x="1039" y="617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45" y="632"/>
                  </a:lnTo>
                  <a:lnTo>
                    <a:pt x="1048" y="635"/>
                  </a:lnTo>
                  <a:lnTo>
                    <a:pt x="1052" y="629"/>
                  </a:lnTo>
                  <a:lnTo>
                    <a:pt x="1052" y="624"/>
                  </a:lnTo>
                  <a:lnTo>
                    <a:pt x="1052" y="617"/>
                  </a:lnTo>
                  <a:lnTo>
                    <a:pt x="1052" y="612"/>
                  </a:lnTo>
                  <a:lnTo>
                    <a:pt x="1052" y="597"/>
                  </a:lnTo>
                  <a:lnTo>
                    <a:pt x="1050" y="579"/>
                  </a:lnTo>
                  <a:lnTo>
                    <a:pt x="1043" y="546"/>
                  </a:lnTo>
                  <a:lnTo>
                    <a:pt x="1039" y="526"/>
                  </a:lnTo>
                  <a:lnTo>
                    <a:pt x="1032" y="511"/>
                  </a:lnTo>
                  <a:lnTo>
                    <a:pt x="1025" y="495"/>
                  </a:lnTo>
                  <a:lnTo>
                    <a:pt x="1016" y="480"/>
                  </a:lnTo>
                  <a:lnTo>
                    <a:pt x="1005" y="465"/>
                  </a:lnTo>
                  <a:lnTo>
                    <a:pt x="984" y="435"/>
                  </a:lnTo>
                  <a:lnTo>
                    <a:pt x="962" y="407"/>
                  </a:lnTo>
                  <a:lnTo>
                    <a:pt x="935" y="377"/>
                  </a:lnTo>
                  <a:lnTo>
                    <a:pt x="908" y="349"/>
                  </a:lnTo>
                  <a:lnTo>
                    <a:pt x="883" y="326"/>
                  </a:lnTo>
                  <a:lnTo>
                    <a:pt x="861" y="306"/>
                  </a:lnTo>
                  <a:lnTo>
                    <a:pt x="847" y="301"/>
                  </a:lnTo>
                  <a:lnTo>
                    <a:pt x="836" y="296"/>
                  </a:lnTo>
                  <a:lnTo>
                    <a:pt x="825" y="288"/>
                  </a:lnTo>
                  <a:lnTo>
                    <a:pt x="813" y="281"/>
                  </a:lnTo>
                  <a:lnTo>
                    <a:pt x="793" y="268"/>
                  </a:lnTo>
                  <a:lnTo>
                    <a:pt x="770" y="253"/>
                  </a:lnTo>
                  <a:lnTo>
                    <a:pt x="759" y="248"/>
                  </a:lnTo>
                  <a:lnTo>
                    <a:pt x="748" y="240"/>
                  </a:lnTo>
                  <a:lnTo>
                    <a:pt x="737" y="238"/>
                  </a:lnTo>
                  <a:lnTo>
                    <a:pt x="725" y="235"/>
                  </a:lnTo>
                  <a:lnTo>
                    <a:pt x="714" y="230"/>
                  </a:lnTo>
                  <a:lnTo>
                    <a:pt x="703" y="230"/>
                  </a:lnTo>
                  <a:lnTo>
                    <a:pt x="689" y="230"/>
                  </a:lnTo>
                  <a:lnTo>
                    <a:pt x="674" y="235"/>
                  </a:lnTo>
                  <a:lnTo>
                    <a:pt x="676" y="225"/>
                  </a:lnTo>
                  <a:lnTo>
                    <a:pt x="676" y="215"/>
                  </a:lnTo>
                  <a:lnTo>
                    <a:pt x="705" y="212"/>
                  </a:lnTo>
                  <a:lnTo>
                    <a:pt x="730" y="212"/>
                  </a:lnTo>
                  <a:lnTo>
                    <a:pt x="734" y="212"/>
                  </a:lnTo>
                  <a:lnTo>
                    <a:pt x="739" y="212"/>
                  </a:lnTo>
                  <a:lnTo>
                    <a:pt x="746" y="210"/>
                  </a:lnTo>
                  <a:lnTo>
                    <a:pt x="750" y="207"/>
                  </a:lnTo>
                  <a:lnTo>
                    <a:pt x="757" y="202"/>
                  </a:lnTo>
                  <a:lnTo>
                    <a:pt x="764" y="197"/>
                  </a:lnTo>
                  <a:lnTo>
                    <a:pt x="770" y="190"/>
                  </a:lnTo>
                  <a:lnTo>
                    <a:pt x="777" y="179"/>
                  </a:lnTo>
                  <a:lnTo>
                    <a:pt x="784" y="167"/>
                  </a:lnTo>
                  <a:lnTo>
                    <a:pt x="786" y="157"/>
                  </a:lnTo>
                  <a:lnTo>
                    <a:pt x="788" y="154"/>
                  </a:lnTo>
                  <a:lnTo>
                    <a:pt x="793" y="149"/>
                  </a:lnTo>
                  <a:lnTo>
                    <a:pt x="797" y="147"/>
                  </a:lnTo>
                  <a:lnTo>
                    <a:pt x="802" y="144"/>
                  </a:lnTo>
                  <a:lnTo>
                    <a:pt x="849" y="139"/>
                  </a:lnTo>
                  <a:lnTo>
                    <a:pt x="894" y="134"/>
                  </a:lnTo>
                  <a:lnTo>
                    <a:pt x="915" y="129"/>
                  </a:lnTo>
                  <a:lnTo>
                    <a:pt x="935" y="124"/>
                  </a:lnTo>
                  <a:lnTo>
                    <a:pt x="953" y="119"/>
                  </a:lnTo>
                  <a:lnTo>
                    <a:pt x="973" y="111"/>
                  </a:lnTo>
                  <a:lnTo>
                    <a:pt x="989" y="104"/>
                  </a:lnTo>
                  <a:lnTo>
                    <a:pt x="1007" y="94"/>
                  </a:lnTo>
                  <a:lnTo>
                    <a:pt x="1021" y="81"/>
                  </a:lnTo>
                  <a:lnTo>
                    <a:pt x="1036" y="68"/>
                  </a:lnTo>
                  <a:lnTo>
                    <a:pt x="1048" y="56"/>
                  </a:lnTo>
                  <a:lnTo>
                    <a:pt x="1061" y="38"/>
                  </a:lnTo>
                  <a:lnTo>
                    <a:pt x="1070" y="20"/>
                  </a:lnTo>
                  <a:lnTo>
                    <a:pt x="1081" y="0"/>
                  </a:lnTo>
                  <a:lnTo>
                    <a:pt x="1280" y="0"/>
                  </a:lnTo>
                  <a:lnTo>
                    <a:pt x="1275" y="30"/>
                  </a:lnTo>
                  <a:lnTo>
                    <a:pt x="1271" y="61"/>
                  </a:lnTo>
                  <a:lnTo>
                    <a:pt x="1266" y="91"/>
                  </a:lnTo>
                  <a:lnTo>
                    <a:pt x="1262" y="124"/>
                  </a:lnTo>
                  <a:lnTo>
                    <a:pt x="1255" y="154"/>
                  </a:lnTo>
                  <a:lnTo>
                    <a:pt x="1248" y="187"/>
                  </a:lnTo>
                  <a:lnTo>
                    <a:pt x="1241" y="220"/>
                  </a:lnTo>
                  <a:lnTo>
                    <a:pt x="1232" y="255"/>
                  </a:lnTo>
                  <a:lnTo>
                    <a:pt x="1232" y="268"/>
                  </a:lnTo>
                  <a:lnTo>
                    <a:pt x="1232" y="281"/>
                  </a:lnTo>
                  <a:lnTo>
                    <a:pt x="1232" y="293"/>
                  </a:lnTo>
                  <a:lnTo>
                    <a:pt x="1232" y="306"/>
                  </a:lnTo>
                  <a:lnTo>
                    <a:pt x="1237" y="336"/>
                  </a:lnTo>
                  <a:lnTo>
                    <a:pt x="1239" y="364"/>
                  </a:lnTo>
                  <a:lnTo>
                    <a:pt x="1241" y="394"/>
                  </a:lnTo>
                  <a:lnTo>
                    <a:pt x="1244" y="425"/>
                  </a:lnTo>
                  <a:lnTo>
                    <a:pt x="1246" y="453"/>
                  </a:lnTo>
                  <a:lnTo>
                    <a:pt x="1246" y="483"/>
                  </a:lnTo>
                  <a:lnTo>
                    <a:pt x="1244" y="513"/>
                  </a:lnTo>
                  <a:lnTo>
                    <a:pt x="1241" y="541"/>
                  </a:lnTo>
                  <a:lnTo>
                    <a:pt x="1237" y="569"/>
                  </a:lnTo>
                  <a:lnTo>
                    <a:pt x="1232" y="599"/>
                  </a:lnTo>
                  <a:lnTo>
                    <a:pt x="1226" y="627"/>
                  </a:lnTo>
                  <a:lnTo>
                    <a:pt x="1219" y="655"/>
                  </a:lnTo>
                  <a:lnTo>
                    <a:pt x="1208" y="683"/>
                  </a:lnTo>
                  <a:lnTo>
                    <a:pt x="1196" y="708"/>
                  </a:lnTo>
                  <a:lnTo>
                    <a:pt x="1183" y="738"/>
                  </a:lnTo>
                  <a:lnTo>
                    <a:pt x="1167" y="763"/>
                  </a:lnTo>
                  <a:lnTo>
                    <a:pt x="1160" y="771"/>
                  </a:lnTo>
                  <a:lnTo>
                    <a:pt x="1160" y="776"/>
                  </a:lnTo>
                  <a:lnTo>
                    <a:pt x="1162" y="776"/>
                  </a:lnTo>
                  <a:lnTo>
                    <a:pt x="1167" y="776"/>
                  </a:lnTo>
                  <a:lnTo>
                    <a:pt x="1169" y="776"/>
                  </a:lnTo>
                  <a:lnTo>
                    <a:pt x="1174" y="771"/>
                  </a:lnTo>
                  <a:lnTo>
                    <a:pt x="1180" y="766"/>
                  </a:lnTo>
                  <a:lnTo>
                    <a:pt x="1185" y="758"/>
                  </a:lnTo>
                  <a:lnTo>
                    <a:pt x="1198" y="741"/>
                  </a:lnTo>
                  <a:lnTo>
                    <a:pt x="1205" y="726"/>
                  </a:lnTo>
                  <a:lnTo>
                    <a:pt x="1208" y="726"/>
                  </a:lnTo>
                  <a:lnTo>
                    <a:pt x="1212" y="726"/>
                  </a:lnTo>
                  <a:lnTo>
                    <a:pt x="1219" y="741"/>
                  </a:lnTo>
                  <a:lnTo>
                    <a:pt x="1226" y="756"/>
                  </a:lnTo>
                  <a:lnTo>
                    <a:pt x="1230" y="769"/>
                  </a:lnTo>
                  <a:lnTo>
                    <a:pt x="1232" y="781"/>
                  </a:lnTo>
                  <a:lnTo>
                    <a:pt x="1239" y="811"/>
                  </a:lnTo>
                  <a:lnTo>
                    <a:pt x="1246" y="844"/>
                  </a:lnTo>
                  <a:lnTo>
                    <a:pt x="1248" y="844"/>
                  </a:lnTo>
                  <a:lnTo>
                    <a:pt x="1250" y="844"/>
                  </a:lnTo>
                  <a:lnTo>
                    <a:pt x="1253" y="834"/>
                  </a:lnTo>
                  <a:lnTo>
                    <a:pt x="1253" y="822"/>
                  </a:lnTo>
                  <a:lnTo>
                    <a:pt x="1253" y="809"/>
                  </a:lnTo>
                  <a:lnTo>
                    <a:pt x="1250" y="799"/>
                  </a:lnTo>
                  <a:lnTo>
                    <a:pt x="1246" y="776"/>
                  </a:lnTo>
                  <a:lnTo>
                    <a:pt x="1239" y="756"/>
                  </a:lnTo>
                  <a:lnTo>
                    <a:pt x="1230" y="738"/>
                  </a:lnTo>
                  <a:lnTo>
                    <a:pt x="1226" y="718"/>
                  </a:lnTo>
                  <a:lnTo>
                    <a:pt x="1223" y="708"/>
                  </a:lnTo>
                  <a:lnTo>
                    <a:pt x="1223" y="700"/>
                  </a:lnTo>
                  <a:lnTo>
                    <a:pt x="1226" y="693"/>
                  </a:lnTo>
                  <a:lnTo>
                    <a:pt x="1228" y="685"/>
                  </a:lnTo>
                  <a:lnTo>
                    <a:pt x="1232" y="685"/>
                  </a:lnTo>
                  <a:lnTo>
                    <a:pt x="1237" y="685"/>
                  </a:lnTo>
                  <a:lnTo>
                    <a:pt x="1241" y="688"/>
                  </a:lnTo>
                  <a:lnTo>
                    <a:pt x="1246" y="690"/>
                  </a:lnTo>
                  <a:lnTo>
                    <a:pt x="1253" y="698"/>
                  </a:lnTo>
                  <a:lnTo>
                    <a:pt x="1257" y="705"/>
                  </a:lnTo>
                  <a:lnTo>
                    <a:pt x="1262" y="713"/>
                  </a:lnTo>
                  <a:lnTo>
                    <a:pt x="1266" y="723"/>
                  </a:lnTo>
                  <a:lnTo>
                    <a:pt x="1271" y="728"/>
                  </a:lnTo>
                  <a:lnTo>
                    <a:pt x="1277" y="733"/>
                  </a:lnTo>
                  <a:lnTo>
                    <a:pt x="1282" y="731"/>
                  </a:lnTo>
                  <a:lnTo>
                    <a:pt x="1284" y="726"/>
                  </a:lnTo>
                  <a:lnTo>
                    <a:pt x="1284" y="720"/>
                  </a:lnTo>
                  <a:lnTo>
                    <a:pt x="1282" y="715"/>
                  </a:lnTo>
                  <a:lnTo>
                    <a:pt x="1275" y="703"/>
                  </a:lnTo>
                  <a:lnTo>
                    <a:pt x="1268" y="690"/>
                  </a:lnTo>
                  <a:lnTo>
                    <a:pt x="1248" y="667"/>
                  </a:lnTo>
                  <a:lnTo>
                    <a:pt x="1237" y="655"/>
                  </a:lnTo>
                  <a:lnTo>
                    <a:pt x="1250" y="604"/>
                  </a:lnTo>
                  <a:lnTo>
                    <a:pt x="1257" y="559"/>
                  </a:lnTo>
                  <a:lnTo>
                    <a:pt x="1262" y="536"/>
                  </a:lnTo>
                  <a:lnTo>
                    <a:pt x="1266" y="518"/>
                  </a:lnTo>
                  <a:lnTo>
                    <a:pt x="1266" y="495"/>
                  </a:lnTo>
                  <a:lnTo>
                    <a:pt x="1268" y="475"/>
                  </a:lnTo>
                  <a:lnTo>
                    <a:pt x="1268" y="435"/>
                  </a:lnTo>
                  <a:lnTo>
                    <a:pt x="1266" y="389"/>
                  </a:lnTo>
                  <a:lnTo>
                    <a:pt x="1262" y="344"/>
                  </a:lnTo>
                  <a:lnTo>
                    <a:pt x="1255" y="293"/>
                  </a:lnTo>
                  <a:lnTo>
                    <a:pt x="1257" y="273"/>
                  </a:lnTo>
                  <a:lnTo>
                    <a:pt x="1257" y="255"/>
                  </a:lnTo>
                  <a:lnTo>
                    <a:pt x="1262" y="235"/>
                  </a:lnTo>
                  <a:lnTo>
                    <a:pt x="1266" y="220"/>
                  </a:lnTo>
                  <a:lnTo>
                    <a:pt x="1275" y="185"/>
                  </a:lnTo>
                  <a:lnTo>
                    <a:pt x="1284" y="149"/>
                  </a:lnTo>
                  <a:lnTo>
                    <a:pt x="1291" y="111"/>
                  </a:lnTo>
                  <a:lnTo>
                    <a:pt x="1298" y="73"/>
                  </a:lnTo>
                  <a:lnTo>
                    <a:pt x="1300" y="38"/>
                  </a:lnTo>
                  <a:lnTo>
                    <a:pt x="1304" y="0"/>
                  </a:lnTo>
                  <a:lnTo>
                    <a:pt x="1367" y="0"/>
                  </a:lnTo>
                  <a:lnTo>
                    <a:pt x="1374" y="56"/>
                  </a:lnTo>
                  <a:lnTo>
                    <a:pt x="1381" y="111"/>
                  </a:lnTo>
                  <a:lnTo>
                    <a:pt x="1388" y="167"/>
                  </a:lnTo>
                  <a:lnTo>
                    <a:pt x="1392" y="220"/>
                  </a:lnTo>
                  <a:lnTo>
                    <a:pt x="1399" y="276"/>
                  </a:lnTo>
                  <a:lnTo>
                    <a:pt x="1401" y="331"/>
                  </a:lnTo>
                  <a:lnTo>
                    <a:pt x="1406" y="384"/>
                  </a:lnTo>
                  <a:lnTo>
                    <a:pt x="1408" y="440"/>
                  </a:lnTo>
                  <a:lnTo>
                    <a:pt x="1408" y="498"/>
                  </a:lnTo>
                  <a:lnTo>
                    <a:pt x="1408" y="551"/>
                  </a:lnTo>
                  <a:lnTo>
                    <a:pt x="1406" y="607"/>
                  </a:lnTo>
                  <a:lnTo>
                    <a:pt x="1401" y="662"/>
                  </a:lnTo>
                  <a:lnTo>
                    <a:pt x="1397" y="718"/>
                  </a:lnTo>
                  <a:lnTo>
                    <a:pt x="1390" y="774"/>
                  </a:lnTo>
                  <a:lnTo>
                    <a:pt x="1383" y="829"/>
                  </a:lnTo>
                  <a:lnTo>
                    <a:pt x="1374" y="885"/>
                  </a:lnTo>
                  <a:lnTo>
                    <a:pt x="1361" y="933"/>
                  </a:lnTo>
                  <a:lnTo>
                    <a:pt x="1343" y="991"/>
                  </a:lnTo>
                  <a:lnTo>
                    <a:pt x="1334" y="1019"/>
                  </a:lnTo>
                  <a:lnTo>
                    <a:pt x="1322" y="1052"/>
                  </a:lnTo>
                  <a:lnTo>
                    <a:pt x="1309" y="1085"/>
                  </a:lnTo>
                  <a:lnTo>
                    <a:pt x="1298" y="1115"/>
                  </a:lnTo>
                  <a:lnTo>
                    <a:pt x="1282" y="1143"/>
                  </a:lnTo>
                  <a:lnTo>
                    <a:pt x="1266" y="1170"/>
                  </a:lnTo>
                  <a:lnTo>
                    <a:pt x="1257" y="1183"/>
                  </a:lnTo>
                  <a:lnTo>
                    <a:pt x="1248" y="1196"/>
                  </a:lnTo>
                  <a:lnTo>
                    <a:pt x="1239" y="1206"/>
                  </a:lnTo>
                  <a:lnTo>
                    <a:pt x="1230" y="1216"/>
                  </a:lnTo>
                  <a:lnTo>
                    <a:pt x="1219" y="1226"/>
                  </a:lnTo>
                  <a:lnTo>
                    <a:pt x="1208" y="1234"/>
                  </a:lnTo>
                  <a:lnTo>
                    <a:pt x="1198" y="1244"/>
                  </a:lnTo>
                  <a:lnTo>
                    <a:pt x="1185" y="1249"/>
                  </a:lnTo>
                  <a:lnTo>
                    <a:pt x="1176" y="1254"/>
                  </a:lnTo>
                  <a:lnTo>
                    <a:pt x="1162" y="1256"/>
                  </a:lnTo>
                  <a:lnTo>
                    <a:pt x="1149" y="1259"/>
                  </a:lnTo>
                  <a:lnTo>
                    <a:pt x="1138" y="1261"/>
                  </a:lnTo>
                  <a:lnTo>
                    <a:pt x="1135" y="1256"/>
                  </a:lnTo>
                  <a:lnTo>
                    <a:pt x="1133" y="1249"/>
                  </a:lnTo>
                  <a:lnTo>
                    <a:pt x="1129" y="1226"/>
                  </a:lnTo>
                  <a:lnTo>
                    <a:pt x="1117" y="1188"/>
                  </a:lnTo>
                  <a:lnTo>
                    <a:pt x="1111" y="1173"/>
                  </a:lnTo>
                  <a:lnTo>
                    <a:pt x="1104" y="1158"/>
                  </a:lnTo>
                  <a:lnTo>
                    <a:pt x="1095" y="1143"/>
                  </a:lnTo>
                  <a:lnTo>
                    <a:pt x="1086" y="1127"/>
                  </a:lnTo>
                  <a:lnTo>
                    <a:pt x="1075" y="1110"/>
                  </a:lnTo>
                  <a:lnTo>
                    <a:pt x="1063" y="1097"/>
                  </a:lnTo>
                  <a:lnTo>
                    <a:pt x="1052" y="1082"/>
                  </a:lnTo>
                  <a:lnTo>
                    <a:pt x="1039" y="1067"/>
                  </a:lnTo>
                  <a:lnTo>
                    <a:pt x="1025" y="1052"/>
                  </a:lnTo>
                  <a:lnTo>
                    <a:pt x="1014" y="1042"/>
                  </a:lnTo>
                  <a:lnTo>
                    <a:pt x="998" y="1029"/>
                  </a:lnTo>
                  <a:lnTo>
                    <a:pt x="984" y="1019"/>
                  </a:lnTo>
                  <a:lnTo>
                    <a:pt x="971" y="1009"/>
                  </a:lnTo>
                  <a:lnTo>
                    <a:pt x="957" y="1001"/>
                  </a:lnTo>
                  <a:lnTo>
                    <a:pt x="944" y="994"/>
                  </a:lnTo>
                  <a:lnTo>
                    <a:pt x="928" y="988"/>
                  </a:lnTo>
                  <a:lnTo>
                    <a:pt x="901" y="963"/>
                  </a:lnTo>
                  <a:lnTo>
                    <a:pt x="885" y="948"/>
                  </a:lnTo>
                  <a:lnTo>
                    <a:pt x="881" y="938"/>
                  </a:lnTo>
                  <a:lnTo>
                    <a:pt x="874" y="928"/>
                  </a:lnTo>
                  <a:lnTo>
                    <a:pt x="870" y="915"/>
                  </a:lnTo>
                  <a:lnTo>
                    <a:pt x="865" y="895"/>
                  </a:lnTo>
                  <a:lnTo>
                    <a:pt x="863" y="895"/>
                  </a:lnTo>
                  <a:lnTo>
                    <a:pt x="861" y="895"/>
                  </a:lnTo>
                  <a:lnTo>
                    <a:pt x="856" y="900"/>
                  </a:lnTo>
                  <a:lnTo>
                    <a:pt x="854" y="905"/>
                  </a:lnTo>
                  <a:lnTo>
                    <a:pt x="852" y="910"/>
                  </a:lnTo>
                  <a:lnTo>
                    <a:pt x="852" y="915"/>
                  </a:lnTo>
                  <a:lnTo>
                    <a:pt x="852" y="925"/>
                  </a:lnTo>
                  <a:lnTo>
                    <a:pt x="854" y="935"/>
                  </a:lnTo>
                  <a:lnTo>
                    <a:pt x="852" y="938"/>
                  </a:lnTo>
                  <a:lnTo>
                    <a:pt x="847" y="940"/>
                  </a:lnTo>
                  <a:lnTo>
                    <a:pt x="843" y="940"/>
                  </a:lnTo>
                  <a:lnTo>
                    <a:pt x="836" y="943"/>
                  </a:lnTo>
                  <a:lnTo>
                    <a:pt x="820" y="945"/>
                  </a:lnTo>
                  <a:lnTo>
                    <a:pt x="804" y="948"/>
                  </a:lnTo>
                  <a:lnTo>
                    <a:pt x="786" y="951"/>
                  </a:lnTo>
                  <a:lnTo>
                    <a:pt x="770" y="956"/>
                  </a:lnTo>
                  <a:lnTo>
                    <a:pt x="761" y="958"/>
                  </a:lnTo>
                  <a:lnTo>
                    <a:pt x="755" y="961"/>
                  </a:lnTo>
                  <a:lnTo>
                    <a:pt x="748" y="966"/>
                  </a:lnTo>
                  <a:lnTo>
                    <a:pt x="743" y="971"/>
                  </a:lnTo>
                  <a:lnTo>
                    <a:pt x="752" y="973"/>
                  </a:lnTo>
                  <a:lnTo>
                    <a:pt x="761" y="973"/>
                  </a:lnTo>
                  <a:lnTo>
                    <a:pt x="773" y="973"/>
                  </a:lnTo>
                  <a:lnTo>
                    <a:pt x="784" y="971"/>
                  </a:lnTo>
                  <a:lnTo>
                    <a:pt x="804" y="966"/>
                  </a:lnTo>
                  <a:lnTo>
                    <a:pt x="827" y="963"/>
                  </a:lnTo>
                  <a:lnTo>
                    <a:pt x="838" y="961"/>
                  </a:lnTo>
                  <a:lnTo>
                    <a:pt x="849" y="961"/>
                  </a:lnTo>
                  <a:lnTo>
                    <a:pt x="863" y="963"/>
                  </a:lnTo>
                  <a:lnTo>
                    <a:pt x="872" y="966"/>
                  </a:lnTo>
                  <a:lnTo>
                    <a:pt x="883" y="971"/>
                  </a:lnTo>
                  <a:lnTo>
                    <a:pt x="894" y="978"/>
                  </a:lnTo>
                  <a:lnTo>
                    <a:pt x="901" y="991"/>
                  </a:lnTo>
                  <a:lnTo>
                    <a:pt x="910" y="1004"/>
                  </a:lnTo>
                  <a:lnTo>
                    <a:pt x="953" y="1026"/>
                  </a:lnTo>
                  <a:lnTo>
                    <a:pt x="989" y="1049"/>
                  </a:lnTo>
                  <a:lnTo>
                    <a:pt x="1005" y="1062"/>
                  </a:lnTo>
                  <a:lnTo>
                    <a:pt x="1018" y="1074"/>
                  </a:lnTo>
                  <a:lnTo>
                    <a:pt x="1032" y="1087"/>
                  </a:lnTo>
                  <a:lnTo>
                    <a:pt x="1043" y="1100"/>
                  </a:lnTo>
                  <a:lnTo>
                    <a:pt x="1054" y="1115"/>
                  </a:lnTo>
                  <a:lnTo>
                    <a:pt x="1066" y="1130"/>
                  </a:lnTo>
                  <a:lnTo>
                    <a:pt x="1075" y="1148"/>
                  </a:lnTo>
                  <a:lnTo>
                    <a:pt x="1086" y="1165"/>
                  </a:lnTo>
                  <a:lnTo>
                    <a:pt x="1093" y="1186"/>
                  </a:lnTo>
                  <a:lnTo>
                    <a:pt x="1102" y="1206"/>
                  </a:lnTo>
                  <a:lnTo>
                    <a:pt x="1108" y="1231"/>
                  </a:lnTo>
                  <a:lnTo>
                    <a:pt x="1115" y="1259"/>
                  </a:lnTo>
                  <a:lnTo>
                    <a:pt x="1117" y="1274"/>
                  </a:lnTo>
                  <a:lnTo>
                    <a:pt x="1115" y="1289"/>
                  </a:lnTo>
                  <a:lnTo>
                    <a:pt x="1115" y="1304"/>
                  </a:lnTo>
                  <a:lnTo>
                    <a:pt x="1113" y="1317"/>
                  </a:lnTo>
                  <a:lnTo>
                    <a:pt x="1111" y="1327"/>
                  </a:lnTo>
                  <a:lnTo>
                    <a:pt x="1106" y="1340"/>
                  </a:lnTo>
                  <a:lnTo>
                    <a:pt x="1104" y="1347"/>
                  </a:lnTo>
                  <a:lnTo>
                    <a:pt x="1097" y="1358"/>
                  </a:lnTo>
                  <a:lnTo>
                    <a:pt x="1090" y="1365"/>
                  </a:lnTo>
                  <a:lnTo>
                    <a:pt x="1086" y="1373"/>
                  </a:lnTo>
                  <a:lnTo>
                    <a:pt x="1077" y="1378"/>
                  </a:lnTo>
                  <a:lnTo>
                    <a:pt x="1070" y="1383"/>
                  </a:lnTo>
                  <a:lnTo>
                    <a:pt x="1061" y="1385"/>
                  </a:lnTo>
                  <a:lnTo>
                    <a:pt x="1052" y="1390"/>
                  </a:lnTo>
                  <a:lnTo>
                    <a:pt x="1043" y="1393"/>
                  </a:lnTo>
                  <a:lnTo>
                    <a:pt x="1034" y="1395"/>
                  </a:lnTo>
                  <a:lnTo>
                    <a:pt x="1014" y="1401"/>
                  </a:lnTo>
                  <a:lnTo>
                    <a:pt x="993" y="1403"/>
                  </a:lnTo>
                  <a:lnTo>
                    <a:pt x="971" y="1403"/>
                  </a:lnTo>
                  <a:lnTo>
                    <a:pt x="948" y="1401"/>
                  </a:lnTo>
                  <a:lnTo>
                    <a:pt x="901" y="1395"/>
                  </a:lnTo>
                  <a:lnTo>
                    <a:pt x="854" y="1393"/>
                  </a:lnTo>
                  <a:lnTo>
                    <a:pt x="766" y="1398"/>
                  </a:lnTo>
                  <a:lnTo>
                    <a:pt x="719" y="1401"/>
                  </a:lnTo>
                  <a:lnTo>
                    <a:pt x="689" y="1403"/>
                  </a:lnTo>
                  <a:lnTo>
                    <a:pt x="669" y="1406"/>
                  </a:lnTo>
                  <a:lnTo>
                    <a:pt x="669" y="1401"/>
                  </a:lnTo>
                  <a:lnTo>
                    <a:pt x="674" y="1395"/>
                  </a:lnTo>
                  <a:lnTo>
                    <a:pt x="660" y="1395"/>
                  </a:lnTo>
                  <a:lnTo>
                    <a:pt x="647" y="1398"/>
                  </a:lnTo>
                  <a:lnTo>
                    <a:pt x="635" y="1403"/>
                  </a:lnTo>
                  <a:lnTo>
                    <a:pt x="624" y="1408"/>
                  </a:lnTo>
                  <a:lnTo>
                    <a:pt x="599" y="1416"/>
                  </a:lnTo>
                  <a:lnTo>
                    <a:pt x="572" y="1423"/>
                  </a:lnTo>
                  <a:lnTo>
                    <a:pt x="520" y="1418"/>
                  </a:lnTo>
                  <a:lnTo>
                    <a:pt x="473" y="1416"/>
                  </a:lnTo>
                  <a:lnTo>
                    <a:pt x="462" y="1418"/>
                  </a:lnTo>
                  <a:lnTo>
                    <a:pt x="451" y="1418"/>
                  </a:lnTo>
                  <a:lnTo>
                    <a:pt x="442" y="1423"/>
                  </a:lnTo>
                  <a:lnTo>
                    <a:pt x="430" y="1426"/>
                  </a:lnTo>
                  <a:lnTo>
                    <a:pt x="419" y="1433"/>
                  </a:lnTo>
                  <a:lnTo>
                    <a:pt x="410" y="1438"/>
                  </a:lnTo>
                  <a:lnTo>
                    <a:pt x="401" y="1446"/>
                  </a:lnTo>
                  <a:lnTo>
                    <a:pt x="392" y="1459"/>
                  </a:lnTo>
                  <a:lnTo>
                    <a:pt x="376" y="1489"/>
                  </a:lnTo>
                  <a:lnTo>
                    <a:pt x="356" y="1527"/>
                  </a:lnTo>
                  <a:lnTo>
                    <a:pt x="345" y="1545"/>
                  </a:lnTo>
                  <a:lnTo>
                    <a:pt x="331" y="1560"/>
                  </a:lnTo>
                  <a:lnTo>
                    <a:pt x="327" y="1567"/>
                  </a:lnTo>
                  <a:lnTo>
                    <a:pt x="320" y="1575"/>
                  </a:lnTo>
                  <a:lnTo>
                    <a:pt x="315" y="1577"/>
                  </a:lnTo>
                  <a:lnTo>
                    <a:pt x="309" y="158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45440" y="1639800"/>
              <a:ext cx="1562040" cy="2508480"/>
            </a:xfrm>
            <a:custGeom>
              <a:avLst/>
              <a:gdLst/>
              <a:ahLst/>
              <a:rect l="l" t="t" r="r" b="b"/>
              <a:pathLst>
                <a:path w="984" h="1580">
                  <a:moveTo>
                    <a:pt x="782" y="1579"/>
                  </a:moveTo>
                  <a:lnTo>
                    <a:pt x="788" y="1561"/>
                  </a:lnTo>
                  <a:lnTo>
                    <a:pt x="795" y="1544"/>
                  </a:lnTo>
                  <a:lnTo>
                    <a:pt x="800" y="1521"/>
                  </a:lnTo>
                  <a:lnTo>
                    <a:pt x="806" y="1501"/>
                  </a:lnTo>
                  <a:lnTo>
                    <a:pt x="816" y="1498"/>
                  </a:lnTo>
                  <a:lnTo>
                    <a:pt x="828" y="1493"/>
                  </a:lnTo>
                  <a:lnTo>
                    <a:pt x="836" y="1488"/>
                  </a:lnTo>
                  <a:lnTo>
                    <a:pt x="847" y="1483"/>
                  </a:lnTo>
                  <a:lnTo>
                    <a:pt x="857" y="1478"/>
                  </a:lnTo>
                  <a:lnTo>
                    <a:pt x="865" y="1470"/>
                  </a:lnTo>
                  <a:lnTo>
                    <a:pt x="872" y="1463"/>
                  </a:lnTo>
                  <a:lnTo>
                    <a:pt x="879" y="1455"/>
                  </a:lnTo>
                  <a:lnTo>
                    <a:pt x="886" y="1445"/>
                  </a:lnTo>
                  <a:lnTo>
                    <a:pt x="891" y="1435"/>
                  </a:lnTo>
                  <a:lnTo>
                    <a:pt x="896" y="1425"/>
                  </a:lnTo>
                  <a:lnTo>
                    <a:pt x="900" y="1415"/>
                  </a:lnTo>
                  <a:lnTo>
                    <a:pt x="901" y="1402"/>
                  </a:lnTo>
                  <a:lnTo>
                    <a:pt x="905" y="1392"/>
                  </a:lnTo>
                  <a:lnTo>
                    <a:pt x="905" y="1379"/>
                  </a:lnTo>
                  <a:lnTo>
                    <a:pt x="905" y="1364"/>
                  </a:lnTo>
                  <a:lnTo>
                    <a:pt x="886" y="1402"/>
                  </a:lnTo>
                  <a:lnTo>
                    <a:pt x="869" y="1432"/>
                  </a:lnTo>
                  <a:lnTo>
                    <a:pt x="864" y="1440"/>
                  </a:lnTo>
                  <a:lnTo>
                    <a:pt x="859" y="1448"/>
                  </a:lnTo>
                  <a:lnTo>
                    <a:pt x="852" y="1455"/>
                  </a:lnTo>
                  <a:lnTo>
                    <a:pt x="847" y="1460"/>
                  </a:lnTo>
                  <a:lnTo>
                    <a:pt x="840" y="1465"/>
                  </a:lnTo>
                  <a:lnTo>
                    <a:pt x="830" y="1470"/>
                  </a:lnTo>
                  <a:lnTo>
                    <a:pt x="818" y="1475"/>
                  </a:lnTo>
                  <a:lnTo>
                    <a:pt x="807" y="1478"/>
                  </a:lnTo>
                  <a:lnTo>
                    <a:pt x="807" y="1473"/>
                  </a:lnTo>
                  <a:lnTo>
                    <a:pt x="807" y="1468"/>
                  </a:lnTo>
                  <a:lnTo>
                    <a:pt x="811" y="1463"/>
                  </a:lnTo>
                  <a:lnTo>
                    <a:pt x="812" y="1460"/>
                  </a:lnTo>
                  <a:lnTo>
                    <a:pt x="818" y="1453"/>
                  </a:lnTo>
                  <a:lnTo>
                    <a:pt x="826" y="1448"/>
                  </a:lnTo>
                  <a:lnTo>
                    <a:pt x="843" y="1438"/>
                  </a:lnTo>
                  <a:lnTo>
                    <a:pt x="860" y="1430"/>
                  </a:lnTo>
                  <a:lnTo>
                    <a:pt x="867" y="1417"/>
                  </a:lnTo>
                  <a:lnTo>
                    <a:pt x="874" y="1402"/>
                  </a:lnTo>
                  <a:lnTo>
                    <a:pt x="881" y="1382"/>
                  </a:lnTo>
                  <a:lnTo>
                    <a:pt x="886" y="1362"/>
                  </a:lnTo>
                  <a:lnTo>
                    <a:pt x="888" y="1349"/>
                  </a:lnTo>
                  <a:lnTo>
                    <a:pt x="888" y="1339"/>
                  </a:lnTo>
                  <a:lnTo>
                    <a:pt x="888" y="1334"/>
                  </a:lnTo>
                  <a:lnTo>
                    <a:pt x="888" y="1324"/>
                  </a:lnTo>
                  <a:lnTo>
                    <a:pt x="886" y="1319"/>
                  </a:lnTo>
                  <a:lnTo>
                    <a:pt x="883" y="1314"/>
                  </a:lnTo>
                  <a:lnTo>
                    <a:pt x="877" y="1311"/>
                  </a:lnTo>
                  <a:lnTo>
                    <a:pt x="869" y="1311"/>
                  </a:lnTo>
                  <a:lnTo>
                    <a:pt x="872" y="1324"/>
                  </a:lnTo>
                  <a:lnTo>
                    <a:pt x="872" y="1339"/>
                  </a:lnTo>
                  <a:lnTo>
                    <a:pt x="872" y="1349"/>
                  </a:lnTo>
                  <a:lnTo>
                    <a:pt x="872" y="1359"/>
                  </a:lnTo>
                  <a:lnTo>
                    <a:pt x="869" y="1372"/>
                  </a:lnTo>
                  <a:lnTo>
                    <a:pt x="867" y="1379"/>
                  </a:lnTo>
                  <a:lnTo>
                    <a:pt x="862" y="1387"/>
                  </a:lnTo>
                  <a:lnTo>
                    <a:pt x="857" y="1395"/>
                  </a:lnTo>
                  <a:lnTo>
                    <a:pt x="852" y="1402"/>
                  </a:lnTo>
                  <a:lnTo>
                    <a:pt x="843" y="1407"/>
                  </a:lnTo>
                  <a:lnTo>
                    <a:pt x="836" y="1415"/>
                  </a:lnTo>
                  <a:lnTo>
                    <a:pt x="830" y="1420"/>
                  </a:lnTo>
                  <a:lnTo>
                    <a:pt x="811" y="1430"/>
                  </a:lnTo>
                  <a:lnTo>
                    <a:pt x="790" y="1440"/>
                  </a:lnTo>
                  <a:lnTo>
                    <a:pt x="787" y="1458"/>
                  </a:lnTo>
                  <a:lnTo>
                    <a:pt x="785" y="1473"/>
                  </a:lnTo>
                  <a:lnTo>
                    <a:pt x="783" y="1493"/>
                  </a:lnTo>
                  <a:lnTo>
                    <a:pt x="783" y="1511"/>
                  </a:lnTo>
                  <a:lnTo>
                    <a:pt x="778" y="1528"/>
                  </a:lnTo>
                  <a:lnTo>
                    <a:pt x="773" y="1546"/>
                  </a:lnTo>
                  <a:lnTo>
                    <a:pt x="766" y="1564"/>
                  </a:lnTo>
                  <a:lnTo>
                    <a:pt x="759" y="1579"/>
                  </a:lnTo>
                  <a:lnTo>
                    <a:pt x="450" y="1579"/>
                  </a:lnTo>
                  <a:lnTo>
                    <a:pt x="462" y="1574"/>
                  </a:lnTo>
                  <a:lnTo>
                    <a:pt x="472" y="1569"/>
                  </a:lnTo>
                  <a:lnTo>
                    <a:pt x="482" y="1564"/>
                  </a:lnTo>
                  <a:lnTo>
                    <a:pt x="493" y="1559"/>
                  </a:lnTo>
                  <a:lnTo>
                    <a:pt x="501" y="1551"/>
                  </a:lnTo>
                  <a:lnTo>
                    <a:pt x="511" y="1544"/>
                  </a:lnTo>
                  <a:lnTo>
                    <a:pt x="518" y="1536"/>
                  </a:lnTo>
                  <a:lnTo>
                    <a:pt x="527" y="1526"/>
                  </a:lnTo>
                  <a:lnTo>
                    <a:pt x="542" y="1508"/>
                  </a:lnTo>
                  <a:lnTo>
                    <a:pt x="558" y="1486"/>
                  </a:lnTo>
                  <a:lnTo>
                    <a:pt x="573" y="1458"/>
                  </a:lnTo>
                  <a:lnTo>
                    <a:pt x="588" y="1430"/>
                  </a:lnTo>
                  <a:lnTo>
                    <a:pt x="592" y="1417"/>
                  </a:lnTo>
                  <a:lnTo>
                    <a:pt x="594" y="1405"/>
                  </a:lnTo>
                  <a:lnTo>
                    <a:pt x="583" y="1402"/>
                  </a:lnTo>
                  <a:lnTo>
                    <a:pt x="575" y="1397"/>
                  </a:lnTo>
                  <a:lnTo>
                    <a:pt x="568" y="1390"/>
                  </a:lnTo>
                  <a:lnTo>
                    <a:pt x="561" y="1382"/>
                  </a:lnTo>
                  <a:lnTo>
                    <a:pt x="558" y="1372"/>
                  </a:lnTo>
                  <a:lnTo>
                    <a:pt x="552" y="1362"/>
                  </a:lnTo>
                  <a:lnTo>
                    <a:pt x="552" y="1349"/>
                  </a:lnTo>
                  <a:lnTo>
                    <a:pt x="551" y="1336"/>
                  </a:lnTo>
                  <a:lnTo>
                    <a:pt x="551" y="1291"/>
                  </a:lnTo>
                  <a:lnTo>
                    <a:pt x="551" y="1253"/>
                  </a:lnTo>
                  <a:lnTo>
                    <a:pt x="546" y="1253"/>
                  </a:lnTo>
                  <a:lnTo>
                    <a:pt x="542" y="1253"/>
                  </a:lnTo>
                  <a:lnTo>
                    <a:pt x="539" y="1253"/>
                  </a:lnTo>
                  <a:lnTo>
                    <a:pt x="537" y="1253"/>
                  </a:lnTo>
                  <a:lnTo>
                    <a:pt x="534" y="1258"/>
                  </a:lnTo>
                  <a:lnTo>
                    <a:pt x="530" y="1266"/>
                  </a:lnTo>
                  <a:lnTo>
                    <a:pt x="530" y="1273"/>
                  </a:lnTo>
                  <a:lnTo>
                    <a:pt x="530" y="1286"/>
                  </a:lnTo>
                  <a:lnTo>
                    <a:pt x="530" y="1296"/>
                  </a:lnTo>
                  <a:lnTo>
                    <a:pt x="534" y="1311"/>
                  </a:lnTo>
                  <a:lnTo>
                    <a:pt x="539" y="1339"/>
                  </a:lnTo>
                  <a:lnTo>
                    <a:pt x="547" y="1364"/>
                  </a:lnTo>
                  <a:lnTo>
                    <a:pt x="552" y="1382"/>
                  </a:lnTo>
                  <a:lnTo>
                    <a:pt x="558" y="1395"/>
                  </a:lnTo>
                  <a:lnTo>
                    <a:pt x="552" y="1395"/>
                  </a:lnTo>
                  <a:lnTo>
                    <a:pt x="547" y="1395"/>
                  </a:lnTo>
                  <a:lnTo>
                    <a:pt x="542" y="1392"/>
                  </a:lnTo>
                  <a:lnTo>
                    <a:pt x="537" y="1387"/>
                  </a:lnTo>
                  <a:lnTo>
                    <a:pt x="527" y="1374"/>
                  </a:lnTo>
                  <a:lnTo>
                    <a:pt x="517" y="1359"/>
                  </a:lnTo>
                  <a:lnTo>
                    <a:pt x="498" y="1329"/>
                  </a:lnTo>
                  <a:lnTo>
                    <a:pt x="486" y="1309"/>
                  </a:lnTo>
                  <a:lnTo>
                    <a:pt x="482" y="1309"/>
                  </a:lnTo>
                  <a:lnTo>
                    <a:pt x="477" y="1309"/>
                  </a:lnTo>
                  <a:lnTo>
                    <a:pt x="479" y="1316"/>
                  </a:lnTo>
                  <a:lnTo>
                    <a:pt x="481" y="1326"/>
                  </a:lnTo>
                  <a:lnTo>
                    <a:pt x="482" y="1334"/>
                  </a:lnTo>
                  <a:lnTo>
                    <a:pt x="486" y="1344"/>
                  </a:lnTo>
                  <a:lnTo>
                    <a:pt x="489" y="1352"/>
                  </a:lnTo>
                  <a:lnTo>
                    <a:pt x="494" y="1359"/>
                  </a:lnTo>
                  <a:lnTo>
                    <a:pt x="499" y="1367"/>
                  </a:lnTo>
                  <a:lnTo>
                    <a:pt x="506" y="1377"/>
                  </a:lnTo>
                  <a:lnTo>
                    <a:pt x="518" y="1390"/>
                  </a:lnTo>
                  <a:lnTo>
                    <a:pt x="534" y="1402"/>
                  </a:lnTo>
                  <a:lnTo>
                    <a:pt x="551" y="1415"/>
                  </a:lnTo>
                  <a:lnTo>
                    <a:pt x="566" y="1425"/>
                  </a:lnTo>
                  <a:lnTo>
                    <a:pt x="566" y="1430"/>
                  </a:lnTo>
                  <a:lnTo>
                    <a:pt x="564" y="1438"/>
                  </a:lnTo>
                  <a:lnTo>
                    <a:pt x="561" y="1448"/>
                  </a:lnTo>
                  <a:lnTo>
                    <a:pt x="556" y="1455"/>
                  </a:lnTo>
                  <a:lnTo>
                    <a:pt x="542" y="1475"/>
                  </a:lnTo>
                  <a:lnTo>
                    <a:pt x="527" y="1498"/>
                  </a:lnTo>
                  <a:lnTo>
                    <a:pt x="505" y="1518"/>
                  </a:lnTo>
                  <a:lnTo>
                    <a:pt x="486" y="1536"/>
                  </a:lnTo>
                  <a:lnTo>
                    <a:pt x="477" y="1544"/>
                  </a:lnTo>
                  <a:lnTo>
                    <a:pt x="469" y="1549"/>
                  </a:lnTo>
                  <a:lnTo>
                    <a:pt x="462" y="1554"/>
                  </a:lnTo>
                  <a:lnTo>
                    <a:pt x="457" y="1556"/>
                  </a:lnTo>
                  <a:lnTo>
                    <a:pt x="457" y="1536"/>
                  </a:lnTo>
                  <a:lnTo>
                    <a:pt x="458" y="1501"/>
                  </a:lnTo>
                  <a:lnTo>
                    <a:pt x="462" y="1460"/>
                  </a:lnTo>
                  <a:lnTo>
                    <a:pt x="464" y="1415"/>
                  </a:lnTo>
                  <a:lnTo>
                    <a:pt x="465" y="1372"/>
                  </a:lnTo>
                  <a:lnTo>
                    <a:pt x="465" y="1334"/>
                  </a:lnTo>
                  <a:lnTo>
                    <a:pt x="465" y="1316"/>
                  </a:lnTo>
                  <a:lnTo>
                    <a:pt x="464" y="1306"/>
                  </a:lnTo>
                  <a:lnTo>
                    <a:pt x="462" y="1296"/>
                  </a:lnTo>
                  <a:lnTo>
                    <a:pt x="458" y="1291"/>
                  </a:lnTo>
                  <a:lnTo>
                    <a:pt x="453" y="1271"/>
                  </a:lnTo>
                  <a:lnTo>
                    <a:pt x="450" y="1248"/>
                  </a:lnTo>
                  <a:lnTo>
                    <a:pt x="446" y="1225"/>
                  </a:lnTo>
                  <a:lnTo>
                    <a:pt x="446" y="1205"/>
                  </a:lnTo>
                  <a:lnTo>
                    <a:pt x="445" y="1162"/>
                  </a:lnTo>
                  <a:lnTo>
                    <a:pt x="446" y="1122"/>
                  </a:lnTo>
                  <a:lnTo>
                    <a:pt x="446" y="1079"/>
                  </a:lnTo>
                  <a:lnTo>
                    <a:pt x="445" y="1038"/>
                  </a:lnTo>
                  <a:lnTo>
                    <a:pt x="441" y="1018"/>
                  </a:lnTo>
                  <a:lnTo>
                    <a:pt x="438" y="998"/>
                  </a:lnTo>
                  <a:lnTo>
                    <a:pt x="433" y="975"/>
                  </a:lnTo>
                  <a:lnTo>
                    <a:pt x="426" y="955"/>
                  </a:lnTo>
                  <a:lnTo>
                    <a:pt x="417" y="917"/>
                  </a:lnTo>
                  <a:lnTo>
                    <a:pt x="410" y="874"/>
                  </a:lnTo>
                  <a:lnTo>
                    <a:pt x="405" y="854"/>
                  </a:lnTo>
                  <a:lnTo>
                    <a:pt x="405" y="831"/>
                  </a:lnTo>
                  <a:lnTo>
                    <a:pt x="402" y="811"/>
                  </a:lnTo>
                  <a:lnTo>
                    <a:pt x="402" y="791"/>
                  </a:lnTo>
                  <a:lnTo>
                    <a:pt x="402" y="771"/>
                  </a:lnTo>
                  <a:lnTo>
                    <a:pt x="405" y="748"/>
                  </a:lnTo>
                  <a:lnTo>
                    <a:pt x="409" y="730"/>
                  </a:lnTo>
                  <a:lnTo>
                    <a:pt x="412" y="710"/>
                  </a:lnTo>
                  <a:lnTo>
                    <a:pt x="419" y="690"/>
                  </a:lnTo>
                  <a:lnTo>
                    <a:pt x="428" y="669"/>
                  </a:lnTo>
                  <a:lnTo>
                    <a:pt x="438" y="652"/>
                  </a:lnTo>
                  <a:lnTo>
                    <a:pt x="452" y="637"/>
                  </a:lnTo>
                  <a:lnTo>
                    <a:pt x="450" y="624"/>
                  </a:lnTo>
                  <a:lnTo>
                    <a:pt x="452" y="611"/>
                  </a:lnTo>
                  <a:lnTo>
                    <a:pt x="452" y="599"/>
                  </a:lnTo>
                  <a:lnTo>
                    <a:pt x="452" y="591"/>
                  </a:lnTo>
                  <a:lnTo>
                    <a:pt x="436" y="616"/>
                  </a:lnTo>
                  <a:lnTo>
                    <a:pt x="421" y="639"/>
                  </a:lnTo>
                  <a:lnTo>
                    <a:pt x="402" y="657"/>
                  </a:lnTo>
                  <a:lnTo>
                    <a:pt x="387" y="677"/>
                  </a:lnTo>
                  <a:lnTo>
                    <a:pt x="368" y="692"/>
                  </a:lnTo>
                  <a:lnTo>
                    <a:pt x="349" y="705"/>
                  </a:lnTo>
                  <a:lnTo>
                    <a:pt x="328" y="717"/>
                  </a:lnTo>
                  <a:lnTo>
                    <a:pt x="310" y="725"/>
                  </a:lnTo>
                  <a:lnTo>
                    <a:pt x="287" y="733"/>
                  </a:lnTo>
                  <a:lnTo>
                    <a:pt x="269" y="738"/>
                  </a:lnTo>
                  <a:lnTo>
                    <a:pt x="257" y="738"/>
                  </a:lnTo>
                  <a:lnTo>
                    <a:pt x="245" y="740"/>
                  </a:lnTo>
                  <a:lnTo>
                    <a:pt x="234" y="738"/>
                  </a:lnTo>
                  <a:lnTo>
                    <a:pt x="224" y="738"/>
                  </a:lnTo>
                  <a:lnTo>
                    <a:pt x="212" y="735"/>
                  </a:lnTo>
                  <a:lnTo>
                    <a:pt x="200" y="735"/>
                  </a:lnTo>
                  <a:lnTo>
                    <a:pt x="188" y="730"/>
                  </a:lnTo>
                  <a:lnTo>
                    <a:pt x="176" y="725"/>
                  </a:lnTo>
                  <a:lnTo>
                    <a:pt x="152" y="717"/>
                  </a:lnTo>
                  <a:lnTo>
                    <a:pt x="128" y="702"/>
                  </a:lnTo>
                  <a:lnTo>
                    <a:pt x="121" y="695"/>
                  </a:lnTo>
                  <a:lnTo>
                    <a:pt x="115" y="685"/>
                  </a:lnTo>
                  <a:lnTo>
                    <a:pt x="109" y="672"/>
                  </a:lnTo>
                  <a:lnTo>
                    <a:pt x="104" y="662"/>
                  </a:lnTo>
                  <a:lnTo>
                    <a:pt x="103" y="649"/>
                  </a:lnTo>
                  <a:lnTo>
                    <a:pt x="99" y="637"/>
                  </a:lnTo>
                  <a:lnTo>
                    <a:pt x="97" y="624"/>
                  </a:lnTo>
                  <a:lnTo>
                    <a:pt x="96" y="611"/>
                  </a:lnTo>
                  <a:lnTo>
                    <a:pt x="96" y="584"/>
                  </a:lnTo>
                  <a:lnTo>
                    <a:pt x="97" y="558"/>
                  </a:lnTo>
                  <a:lnTo>
                    <a:pt x="99" y="533"/>
                  </a:lnTo>
                  <a:lnTo>
                    <a:pt x="103" y="513"/>
                  </a:lnTo>
                  <a:lnTo>
                    <a:pt x="111" y="495"/>
                  </a:lnTo>
                  <a:lnTo>
                    <a:pt x="120" y="475"/>
                  </a:lnTo>
                  <a:lnTo>
                    <a:pt x="125" y="457"/>
                  </a:lnTo>
                  <a:lnTo>
                    <a:pt x="128" y="440"/>
                  </a:lnTo>
                  <a:lnTo>
                    <a:pt x="128" y="429"/>
                  </a:lnTo>
                  <a:lnTo>
                    <a:pt x="128" y="422"/>
                  </a:lnTo>
                  <a:lnTo>
                    <a:pt x="127" y="412"/>
                  </a:lnTo>
                  <a:lnTo>
                    <a:pt x="127" y="404"/>
                  </a:lnTo>
                  <a:lnTo>
                    <a:pt x="123" y="394"/>
                  </a:lnTo>
                  <a:lnTo>
                    <a:pt x="121" y="387"/>
                  </a:lnTo>
                  <a:lnTo>
                    <a:pt x="115" y="376"/>
                  </a:lnTo>
                  <a:lnTo>
                    <a:pt x="109" y="369"/>
                  </a:lnTo>
                  <a:lnTo>
                    <a:pt x="109" y="361"/>
                  </a:lnTo>
                  <a:lnTo>
                    <a:pt x="109" y="354"/>
                  </a:lnTo>
                  <a:lnTo>
                    <a:pt x="109" y="349"/>
                  </a:lnTo>
                  <a:lnTo>
                    <a:pt x="108" y="344"/>
                  </a:lnTo>
                  <a:lnTo>
                    <a:pt x="99" y="333"/>
                  </a:lnTo>
                  <a:lnTo>
                    <a:pt x="92" y="326"/>
                  </a:lnTo>
                  <a:lnTo>
                    <a:pt x="84" y="318"/>
                  </a:lnTo>
                  <a:lnTo>
                    <a:pt x="75" y="311"/>
                  </a:lnTo>
                  <a:lnTo>
                    <a:pt x="74" y="308"/>
                  </a:lnTo>
                  <a:lnTo>
                    <a:pt x="70" y="303"/>
                  </a:lnTo>
                  <a:lnTo>
                    <a:pt x="68" y="298"/>
                  </a:lnTo>
                  <a:lnTo>
                    <a:pt x="68" y="293"/>
                  </a:lnTo>
                  <a:lnTo>
                    <a:pt x="80" y="280"/>
                  </a:lnTo>
                  <a:lnTo>
                    <a:pt x="92" y="270"/>
                  </a:lnTo>
                  <a:lnTo>
                    <a:pt x="97" y="268"/>
                  </a:lnTo>
                  <a:lnTo>
                    <a:pt x="103" y="265"/>
                  </a:lnTo>
                  <a:lnTo>
                    <a:pt x="104" y="265"/>
                  </a:lnTo>
                  <a:lnTo>
                    <a:pt x="109" y="263"/>
                  </a:lnTo>
                  <a:lnTo>
                    <a:pt x="116" y="265"/>
                  </a:lnTo>
                  <a:lnTo>
                    <a:pt x="127" y="270"/>
                  </a:lnTo>
                  <a:lnTo>
                    <a:pt x="140" y="278"/>
                  </a:lnTo>
                  <a:lnTo>
                    <a:pt x="161" y="288"/>
                  </a:lnTo>
                  <a:lnTo>
                    <a:pt x="164" y="293"/>
                  </a:lnTo>
                  <a:lnTo>
                    <a:pt x="169" y="301"/>
                  </a:lnTo>
                  <a:lnTo>
                    <a:pt x="173" y="303"/>
                  </a:lnTo>
                  <a:lnTo>
                    <a:pt x="176" y="306"/>
                  </a:lnTo>
                  <a:lnTo>
                    <a:pt x="180" y="306"/>
                  </a:lnTo>
                  <a:lnTo>
                    <a:pt x="185" y="303"/>
                  </a:lnTo>
                  <a:lnTo>
                    <a:pt x="183" y="293"/>
                  </a:lnTo>
                  <a:lnTo>
                    <a:pt x="180" y="285"/>
                  </a:lnTo>
                  <a:lnTo>
                    <a:pt x="174" y="278"/>
                  </a:lnTo>
                  <a:lnTo>
                    <a:pt x="169" y="270"/>
                  </a:lnTo>
                  <a:lnTo>
                    <a:pt x="156" y="263"/>
                  </a:lnTo>
                  <a:lnTo>
                    <a:pt x="140" y="258"/>
                  </a:lnTo>
                  <a:lnTo>
                    <a:pt x="133" y="253"/>
                  </a:lnTo>
                  <a:lnTo>
                    <a:pt x="127" y="248"/>
                  </a:lnTo>
                  <a:lnTo>
                    <a:pt x="121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6" y="225"/>
                  </a:lnTo>
                  <a:lnTo>
                    <a:pt x="120" y="215"/>
                  </a:lnTo>
                  <a:lnTo>
                    <a:pt x="125" y="205"/>
                  </a:lnTo>
                  <a:lnTo>
                    <a:pt x="140" y="205"/>
                  </a:lnTo>
                  <a:lnTo>
                    <a:pt x="156" y="210"/>
                  </a:lnTo>
                  <a:lnTo>
                    <a:pt x="174" y="212"/>
                  </a:lnTo>
                  <a:lnTo>
                    <a:pt x="195" y="212"/>
                  </a:lnTo>
                  <a:lnTo>
                    <a:pt x="195" y="210"/>
                  </a:lnTo>
                  <a:lnTo>
                    <a:pt x="193" y="207"/>
                  </a:lnTo>
                  <a:lnTo>
                    <a:pt x="180" y="202"/>
                  </a:lnTo>
                  <a:lnTo>
                    <a:pt x="168" y="197"/>
                  </a:lnTo>
                  <a:lnTo>
                    <a:pt x="156" y="197"/>
                  </a:lnTo>
                  <a:lnTo>
                    <a:pt x="142" y="192"/>
                  </a:lnTo>
                  <a:lnTo>
                    <a:pt x="145" y="177"/>
                  </a:lnTo>
                  <a:lnTo>
                    <a:pt x="151" y="164"/>
                  </a:lnTo>
                  <a:lnTo>
                    <a:pt x="147" y="159"/>
                  </a:lnTo>
                  <a:lnTo>
                    <a:pt x="145" y="157"/>
                  </a:lnTo>
                  <a:lnTo>
                    <a:pt x="144" y="152"/>
                  </a:lnTo>
                  <a:lnTo>
                    <a:pt x="142" y="147"/>
                  </a:lnTo>
                  <a:lnTo>
                    <a:pt x="144" y="134"/>
                  </a:lnTo>
                  <a:lnTo>
                    <a:pt x="145" y="121"/>
                  </a:lnTo>
                  <a:lnTo>
                    <a:pt x="152" y="93"/>
                  </a:lnTo>
                  <a:lnTo>
                    <a:pt x="156" y="71"/>
                  </a:lnTo>
                  <a:lnTo>
                    <a:pt x="154" y="71"/>
                  </a:lnTo>
                  <a:lnTo>
                    <a:pt x="152" y="71"/>
                  </a:lnTo>
                  <a:lnTo>
                    <a:pt x="137" y="86"/>
                  </a:lnTo>
                  <a:lnTo>
                    <a:pt x="123" y="104"/>
                  </a:lnTo>
                  <a:lnTo>
                    <a:pt x="121" y="109"/>
                  </a:lnTo>
                  <a:lnTo>
                    <a:pt x="115" y="119"/>
                  </a:lnTo>
                  <a:lnTo>
                    <a:pt x="108" y="129"/>
                  </a:lnTo>
                  <a:lnTo>
                    <a:pt x="97" y="144"/>
                  </a:lnTo>
                  <a:lnTo>
                    <a:pt x="75" y="172"/>
                  </a:lnTo>
                  <a:lnTo>
                    <a:pt x="53" y="207"/>
                  </a:lnTo>
                  <a:lnTo>
                    <a:pt x="41" y="222"/>
                  </a:lnTo>
                  <a:lnTo>
                    <a:pt x="32" y="240"/>
                  </a:lnTo>
                  <a:lnTo>
                    <a:pt x="27" y="255"/>
                  </a:lnTo>
                  <a:lnTo>
                    <a:pt x="22" y="268"/>
                  </a:lnTo>
                  <a:lnTo>
                    <a:pt x="22" y="275"/>
                  </a:lnTo>
                  <a:lnTo>
                    <a:pt x="22" y="280"/>
                  </a:lnTo>
                  <a:lnTo>
                    <a:pt x="26" y="285"/>
                  </a:lnTo>
                  <a:lnTo>
                    <a:pt x="27" y="291"/>
                  </a:lnTo>
                  <a:lnTo>
                    <a:pt x="31" y="296"/>
                  </a:lnTo>
                  <a:lnTo>
                    <a:pt x="34" y="298"/>
                  </a:lnTo>
                  <a:lnTo>
                    <a:pt x="41" y="301"/>
                  </a:lnTo>
                  <a:lnTo>
                    <a:pt x="48" y="303"/>
                  </a:lnTo>
                  <a:lnTo>
                    <a:pt x="46" y="308"/>
                  </a:lnTo>
                  <a:lnTo>
                    <a:pt x="43" y="311"/>
                  </a:lnTo>
                  <a:lnTo>
                    <a:pt x="39" y="316"/>
                  </a:lnTo>
                  <a:lnTo>
                    <a:pt x="34" y="318"/>
                  </a:lnTo>
                  <a:lnTo>
                    <a:pt x="26" y="326"/>
                  </a:lnTo>
                  <a:lnTo>
                    <a:pt x="17" y="326"/>
                  </a:lnTo>
                  <a:lnTo>
                    <a:pt x="12" y="311"/>
                  </a:lnTo>
                  <a:lnTo>
                    <a:pt x="7" y="296"/>
                  </a:lnTo>
                  <a:lnTo>
                    <a:pt x="3" y="283"/>
                  </a:lnTo>
                  <a:lnTo>
                    <a:pt x="2" y="270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3" y="240"/>
                  </a:lnTo>
                  <a:lnTo>
                    <a:pt x="5" y="230"/>
                  </a:lnTo>
                  <a:lnTo>
                    <a:pt x="9" y="220"/>
                  </a:lnTo>
                  <a:lnTo>
                    <a:pt x="14" y="212"/>
                  </a:lnTo>
                  <a:lnTo>
                    <a:pt x="19" y="205"/>
                  </a:lnTo>
                  <a:lnTo>
                    <a:pt x="26" y="195"/>
                  </a:lnTo>
                  <a:lnTo>
                    <a:pt x="43" y="172"/>
                  </a:lnTo>
                  <a:lnTo>
                    <a:pt x="65" y="147"/>
                  </a:lnTo>
                  <a:lnTo>
                    <a:pt x="79" y="129"/>
                  </a:lnTo>
                  <a:lnTo>
                    <a:pt x="97" y="101"/>
                  </a:lnTo>
                  <a:lnTo>
                    <a:pt x="118" y="76"/>
                  </a:lnTo>
                  <a:lnTo>
                    <a:pt x="130" y="63"/>
                  </a:lnTo>
                  <a:lnTo>
                    <a:pt x="137" y="51"/>
                  </a:lnTo>
                  <a:lnTo>
                    <a:pt x="142" y="43"/>
                  </a:lnTo>
                  <a:lnTo>
                    <a:pt x="145" y="38"/>
                  </a:lnTo>
                  <a:lnTo>
                    <a:pt x="151" y="38"/>
                  </a:lnTo>
                  <a:lnTo>
                    <a:pt x="152" y="38"/>
                  </a:lnTo>
                  <a:lnTo>
                    <a:pt x="156" y="35"/>
                  </a:lnTo>
                  <a:lnTo>
                    <a:pt x="162" y="38"/>
                  </a:lnTo>
                  <a:lnTo>
                    <a:pt x="169" y="40"/>
                  </a:lnTo>
                  <a:lnTo>
                    <a:pt x="174" y="45"/>
                  </a:lnTo>
                  <a:lnTo>
                    <a:pt x="181" y="51"/>
                  </a:lnTo>
                  <a:lnTo>
                    <a:pt x="188" y="56"/>
                  </a:lnTo>
                  <a:lnTo>
                    <a:pt x="195" y="61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0" y="66"/>
                  </a:lnTo>
                  <a:lnTo>
                    <a:pt x="214" y="66"/>
                  </a:lnTo>
                  <a:lnTo>
                    <a:pt x="217" y="66"/>
                  </a:lnTo>
                  <a:lnTo>
                    <a:pt x="221" y="63"/>
                  </a:lnTo>
                  <a:lnTo>
                    <a:pt x="229" y="56"/>
                  </a:lnTo>
                  <a:lnTo>
                    <a:pt x="238" y="43"/>
                  </a:lnTo>
                  <a:lnTo>
                    <a:pt x="245" y="35"/>
                  </a:lnTo>
                  <a:lnTo>
                    <a:pt x="251" y="28"/>
                  </a:lnTo>
                  <a:lnTo>
                    <a:pt x="257" y="28"/>
                  </a:lnTo>
                  <a:lnTo>
                    <a:pt x="258" y="45"/>
                  </a:lnTo>
                  <a:lnTo>
                    <a:pt x="263" y="66"/>
                  </a:lnTo>
                  <a:lnTo>
                    <a:pt x="269" y="86"/>
                  </a:lnTo>
                  <a:lnTo>
                    <a:pt x="269" y="106"/>
                  </a:lnTo>
                  <a:lnTo>
                    <a:pt x="251" y="109"/>
                  </a:lnTo>
                  <a:lnTo>
                    <a:pt x="238" y="111"/>
                  </a:lnTo>
                  <a:lnTo>
                    <a:pt x="229" y="139"/>
                  </a:lnTo>
                  <a:lnTo>
                    <a:pt x="221" y="167"/>
                  </a:lnTo>
                  <a:lnTo>
                    <a:pt x="216" y="197"/>
                  </a:lnTo>
                  <a:lnTo>
                    <a:pt x="210" y="225"/>
                  </a:lnTo>
                  <a:lnTo>
                    <a:pt x="207" y="255"/>
                  </a:lnTo>
                  <a:lnTo>
                    <a:pt x="207" y="285"/>
                  </a:lnTo>
                  <a:lnTo>
                    <a:pt x="207" y="316"/>
                  </a:lnTo>
                  <a:lnTo>
                    <a:pt x="210" y="346"/>
                  </a:lnTo>
                  <a:lnTo>
                    <a:pt x="216" y="351"/>
                  </a:lnTo>
                  <a:lnTo>
                    <a:pt x="221" y="359"/>
                  </a:lnTo>
                  <a:lnTo>
                    <a:pt x="224" y="364"/>
                  </a:lnTo>
                  <a:lnTo>
                    <a:pt x="226" y="369"/>
                  </a:lnTo>
                  <a:lnTo>
                    <a:pt x="227" y="374"/>
                  </a:lnTo>
                  <a:lnTo>
                    <a:pt x="227" y="376"/>
                  </a:lnTo>
                  <a:lnTo>
                    <a:pt x="216" y="376"/>
                  </a:lnTo>
                  <a:lnTo>
                    <a:pt x="202" y="379"/>
                  </a:lnTo>
                  <a:lnTo>
                    <a:pt x="195" y="379"/>
                  </a:lnTo>
                  <a:lnTo>
                    <a:pt x="190" y="379"/>
                  </a:lnTo>
                  <a:lnTo>
                    <a:pt x="185" y="381"/>
                  </a:lnTo>
                  <a:lnTo>
                    <a:pt x="180" y="384"/>
                  </a:lnTo>
                  <a:lnTo>
                    <a:pt x="180" y="389"/>
                  </a:lnTo>
                  <a:lnTo>
                    <a:pt x="181" y="399"/>
                  </a:lnTo>
                  <a:lnTo>
                    <a:pt x="190" y="399"/>
                  </a:lnTo>
                  <a:lnTo>
                    <a:pt x="195" y="399"/>
                  </a:lnTo>
                  <a:lnTo>
                    <a:pt x="197" y="397"/>
                  </a:lnTo>
                  <a:lnTo>
                    <a:pt x="200" y="394"/>
                  </a:lnTo>
                  <a:lnTo>
                    <a:pt x="200" y="399"/>
                  </a:lnTo>
                  <a:lnTo>
                    <a:pt x="195" y="404"/>
                  </a:lnTo>
                  <a:lnTo>
                    <a:pt x="190" y="409"/>
                  </a:lnTo>
                  <a:lnTo>
                    <a:pt x="188" y="412"/>
                  </a:lnTo>
                  <a:lnTo>
                    <a:pt x="188" y="414"/>
                  </a:lnTo>
                  <a:lnTo>
                    <a:pt x="190" y="417"/>
                  </a:lnTo>
                  <a:lnTo>
                    <a:pt x="190" y="422"/>
                  </a:lnTo>
                  <a:lnTo>
                    <a:pt x="229" y="417"/>
                  </a:lnTo>
                  <a:lnTo>
                    <a:pt x="263" y="412"/>
                  </a:lnTo>
                  <a:lnTo>
                    <a:pt x="274" y="412"/>
                  </a:lnTo>
                  <a:lnTo>
                    <a:pt x="282" y="412"/>
                  </a:lnTo>
                  <a:lnTo>
                    <a:pt x="294" y="412"/>
                  </a:lnTo>
                  <a:lnTo>
                    <a:pt x="303" y="414"/>
                  </a:lnTo>
                  <a:lnTo>
                    <a:pt x="311" y="417"/>
                  </a:lnTo>
                  <a:lnTo>
                    <a:pt x="322" y="422"/>
                  </a:lnTo>
                  <a:lnTo>
                    <a:pt x="334" y="429"/>
                  </a:lnTo>
                  <a:lnTo>
                    <a:pt x="346" y="437"/>
                  </a:lnTo>
                  <a:lnTo>
                    <a:pt x="351" y="437"/>
                  </a:lnTo>
                  <a:lnTo>
                    <a:pt x="356" y="442"/>
                  </a:lnTo>
                  <a:lnTo>
                    <a:pt x="357" y="445"/>
                  </a:lnTo>
                  <a:lnTo>
                    <a:pt x="363" y="445"/>
                  </a:lnTo>
                  <a:lnTo>
                    <a:pt x="366" y="445"/>
                  </a:lnTo>
                  <a:lnTo>
                    <a:pt x="371" y="445"/>
                  </a:lnTo>
                  <a:lnTo>
                    <a:pt x="369" y="442"/>
                  </a:lnTo>
                  <a:lnTo>
                    <a:pt x="368" y="437"/>
                  </a:lnTo>
                  <a:lnTo>
                    <a:pt x="364" y="432"/>
                  </a:lnTo>
                  <a:lnTo>
                    <a:pt x="357" y="427"/>
                  </a:lnTo>
                  <a:lnTo>
                    <a:pt x="351" y="422"/>
                  </a:lnTo>
                  <a:lnTo>
                    <a:pt x="334" y="414"/>
                  </a:lnTo>
                  <a:lnTo>
                    <a:pt x="322" y="409"/>
                  </a:lnTo>
                  <a:lnTo>
                    <a:pt x="322" y="407"/>
                  </a:lnTo>
                  <a:lnTo>
                    <a:pt x="323" y="404"/>
                  </a:lnTo>
                  <a:lnTo>
                    <a:pt x="344" y="397"/>
                  </a:lnTo>
                  <a:lnTo>
                    <a:pt x="361" y="392"/>
                  </a:lnTo>
                  <a:lnTo>
                    <a:pt x="380" y="387"/>
                  </a:lnTo>
                  <a:lnTo>
                    <a:pt x="393" y="384"/>
                  </a:lnTo>
                  <a:lnTo>
                    <a:pt x="404" y="381"/>
                  </a:lnTo>
                  <a:lnTo>
                    <a:pt x="412" y="381"/>
                  </a:lnTo>
                  <a:lnTo>
                    <a:pt x="421" y="384"/>
                  </a:lnTo>
                  <a:lnTo>
                    <a:pt x="431" y="384"/>
                  </a:lnTo>
                  <a:lnTo>
                    <a:pt x="440" y="387"/>
                  </a:lnTo>
                  <a:lnTo>
                    <a:pt x="448" y="392"/>
                  </a:lnTo>
                  <a:lnTo>
                    <a:pt x="458" y="394"/>
                  </a:lnTo>
                  <a:lnTo>
                    <a:pt x="467" y="399"/>
                  </a:lnTo>
                  <a:lnTo>
                    <a:pt x="469" y="399"/>
                  </a:lnTo>
                  <a:lnTo>
                    <a:pt x="472" y="399"/>
                  </a:lnTo>
                  <a:lnTo>
                    <a:pt x="470" y="394"/>
                  </a:lnTo>
                  <a:lnTo>
                    <a:pt x="469" y="389"/>
                  </a:lnTo>
                  <a:lnTo>
                    <a:pt x="465" y="387"/>
                  </a:lnTo>
                  <a:lnTo>
                    <a:pt x="462" y="381"/>
                  </a:lnTo>
                  <a:lnTo>
                    <a:pt x="453" y="376"/>
                  </a:lnTo>
                  <a:lnTo>
                    <a:pt x="441" y="371"/>
                  </a:lnTo>
                  <a:lnTo>
                    <a:pt x="419" y="364"/>
                  </a:lnTo>
                  <a:lnTo>
                    <a:pt x="400" y="361"/>
                  </a:lnTo>
                  <a:lnTo>
                    <a:pt x="400" y="359"/>
                  </a:lnTo>
                  <a:lnTo>
                    <a:pt x="400" y="356"/>
                  </a:lnTo>
                  <a:lnTo>
                    <a:pt x="414" y="354"/>
                  </a:lnTo>
                  <a:lnTo>
                    <a:pt x="428" y="351"/>
                  </a:lnTo>
                  <a:lnTo>
                    <a:pt x="443" y="351"/>
                  </a:lnTo>
                  <a:lnTo>
                    <a:pt x="458" y="351"/>
                  </a:lnTo>
                  <a:lnTo>
                    <a:pt x="458" y="349"/>
                  </a:lnTo>
                  <a:lnTo>
                    <a:pt x="458" y="346"/>
                  </a:lnTo>
                  <a:lnTo>
                    <a:pt x="453" y="341"/>
                  </a:lnTo>
                  <a:lnTo>
                    <a:pt x="446" y="339"/>
                  </a:lnTo>
                  <a:lnTo>
                    <a:pt x="441" y="336"/>
                  </a:lnTo>
                  <a:lnTo>
                    <a:pt x="434" y="336"/>
                  </a:lnTo>
                  <a:lnTo>
                    <a:pt x="426" y="336"/>
                  </a:lnTo>
                  <a:lnTo>
                    <a:pt x="419" y="336"/>
                  </a:lnTo>
                  <a:lnTo>
                    <a:pt x="410" y="339"/>
                  </a:lnTo>
                  <a:lnTo>
                    <a:pt x="405" y="341"/>
                  </a:lnTo>
                  <a:lnTo>
                    <a:pt x="376" y="354"/>
                  </a:lnTo>
                  <a:lnTo>
                    <a:pt x="354" y="361"/>
                  </a:lnTo>
                  <a:lnTo>
                    <a:pt x="361" y="349"/>
                  </a:lnTo>
                  <a:lnTo>
                    <a:pt x="366" y="333"/>
                  </a:lnTo>
                  <a:lnTo>
                    <a:pt x="369" y="318"/>
                  </a:lnTo>
                  <a:lnTo>
                    <a:pt x="371" y="306"/>
                  </a:lnTo>
                  <a:lnTo>
                    <a:pt x="375" y="293"/>
                  </a:lnTo>
                  <a:lnTo>
                    <a:pt x="376" y="278"/>
                  </a:lnTo>
                  <a:lnTo>
                    <a:pt x="376" y="265"/>
                  </a:lnTo>
                  <a:lnTo>
                    <a:pt x="375" y="253"/>
                  </a:lnTo>
                  <a:lnTo>
                    <a:pt x="375" y="240"/>
                  </a:lnTo>
                  <a:lnTo>
                    <a:pt x="371" y="227"/>
                  </a:lnTo>
                  <a:lnTo>
                    <a:pt x="368" y="215"/>
                  </a:lnTo>
                  <a:lnTo>
                    <a:pt x="363" y="202"/>
                  </a:lnTo>
                  <a:lnTo>
                    <a:pt x="356" y="189"/>
                  </a:lnTo>
                  <a:lnTo>
                    <a:pt x="349" y="177"/>
                  </a:lnTo>
                  <a:lnTo>
                    <a:pt x="344" y="164"/>
                  </a:lnTo>
                  <a:lnTo>
                    <a:pt x="334" y="152"/>
                  </a:lnTo>
                  <a:lnTo>
                    <a:pt x="335" y="136"/>
                  </a:lnTo>
                  <a:lnTo>
                    <a:pt x="335" y="126"/>
                  </a:lnTo>
                  <a:lnTo>
                    <a:pt x="334" y="124"/>
                  </a:lnTo>
                  <a:lnTo>
                    <a:pt x="330" y="124"/>
                  </a:lnTo>
                  <a:lnTo>
                    <a:pt x="325" y="119"/>
                  </a:lnTo>
                  <a:lnTo>
                    <a:pt x="316" y="116"/>
                  </a:lnTo>
                  <a:lnTo>
                    <a:pt x="310" y="111"/>
                  </a:lnTo>
                  <a:lnTo>
                    <a:pt x="304" y="106"/>
                  </a:lnTo>
                  <a:lnTo>
                    <a:pt x="298" y="99"/>
                  </a:lnTo>
                  <a:lnTo>
                    <a:pt x="294" y="91"/>
                  </a:lnTo>
                  <a:lnTo>
                    <a:pt x="287" y="76"/>
                  </a:lnTo>
                  <a:lnTo>
                    <a:pt x="284" y="61"/>
                  </a:lnTo>
                  <a:lnTo>
                    <a:pt x="281" y="45"/>
                  </a:lnTo>
                  <a:lnTo>
                    <a:pt x="277" y="33"/>
                  </a:lnTo>
                  <a:lnTo>
                    <a:pt x="274" y="28"/>
                  </a:lnTo>
                  <a:lnTo>
                    <a:pt x="270" y="25"/>
                  </a:lnTo>
                  <a:lnTo>
                    <a:pt x="265" y="23"/>
                  </a:lnTo>
                  <a:lnTo>
                    <a:pt x="258" y="23"/>
                  </a:lnTo>
                  <a:lnTo>
                    <a:pt x="260" y="18"/>
                  </a:lnTo>
                  <a:lnTo>
                    <a:pt x="263" y="15"/>
                  </a:lnTo>
                  <a:lnTo>
                    <a:pt x="265" y="10"/>
                  </a:lnTo>
                  <a:lnTo>
                    <a:pt x="269" y="8"/>
                  </a:lnTo>
                  <a:lnTo>
                    <a:pt x="275" y="5"/>
                  </a:lnTo>
                  <a:lnTo>
                    <a:pt x="282" y="3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1" y="3"/>
                  </a:lnTo>
                  <a:lnTo>
                    <a:pt x="320" y="8"/>
                  </a:lnTo>
                  <a:lnTo>
                    <a:pt x="334" y="25"/>
                  </a:lnTo>
                  <a:lnTo>
                    <a:pt x="349" y="45"/>
                  </a:lnTo>
                  <a:lnTo>
                    <a:pt x="363" y="66"/>
                  </a:lnTo>
                  <a:lnTo>
                    <a:pt x="376" y="86"/>
                  </a:lnTo>
                  <a:lnTo>
                    <a:pt x="392" y="109"/>
                  </a:lnTo>
                  <a:lnTo>
                    <a:pt x="405" y="129"/>
                  </a:lnTo>
                  <a:lnTo>
                    <a:pt x="421" y="152"/>
                  </a:lnTo>
                  <a:lnTo>
                    <a:pt x="441" y="172"/>
                  </a:lnTo>
                  <a:lnTo>
                    <a:pt x="448" y="187"/>
                  </a:lnTo>
                  <a:lnTo>
                    <a:pt x="453" y="202"/>
                  </a:lnTo>
                  <a:lnTo>
                    <a:pt x="457" y="215"/>
                  </a:lnTo>
                  <a:lnTo>
                    <a:pt x="458" y="230"/>
                  </a:lnTo>
                  <a:lnTo>
                    <a:pt x="458" y="245"/>
                  </a:lnTo>
                  <a:lnTo>
                    <a:pt x="462" y="258"/>
                  </a:lnTo>
                  <a:lnTo>
                    <a:pt x="464" y="273"/>
                  </a:lnTo>
                  <a:lnTo>
                    <a:pt x="469" y="288"/>
                  </a:lnTo>
                  <a:lnTo>
                    <a:pt x="474" y="285"/>
                  </a:lnTo>
                  <a:lnTo>
                    <a:pt x="477" y="285"/>
                  </a:lnTo>
                  <a:lnTo>
                    <a:pt x="481" y="283"/>
                  </a:lnTo>
                  <a:lnTo>
                    <a:pt x="484" y="280"/>
                  </a:lnTo>
                  <a:lnTo>
                    <a:pt x="487" y="275"/>
                  </a:lnTo>
                  <a:lnTo>
                    <a:pt x="489" y="265"/>
                  </a:lnTo>
                  <a:lnTo>
                    <a:pt x="489" y="255"/>
                  </a:lnTo>
                  <a:lnTo>
                    <a:pt x="487" y="245"/>
                  </a:lnTo>
                  <a:lnTo>
                    <a:pt x="486" y="235"/>
                  </a:lnTo>
                  <a:lnTo>
                    <a:pt x="482" y="220"/>
                  </a:lnTo>
                  <a:lnTo>
                    <a:pt x="474" y="197"/>
                  </a:lnTo>
                  <a:lnTo>
                    <a:pt x="464" y="174"/>
                  </a:lnTo>
                  <a:lnTo>
                    <a:pt x="453" y="157"/>
                  </a:lnTo>
                  <a:lnTo>
                    <a:pt x="448" y="147"/>
                  </a:lnTo>
                  <a:lnTo>
                    <a:pt x="431" y="131"/>
                  </a:lnTo>
                  <a:lnTo>
                    <a:pt x="412" y="114"/>
                  </a:lnTo>
                  <a:lnTo>
                    <a:pt x="405" y="106"/>
                  </a:lnTo>
                  <a:lnTo>
                    <a:pt x="397" y="99"/>
                  </a:lnTo>
                  <a:lnTo>
                    <a:pt x="392" y="88"/>
                  </a:lnTo>
                  <a:lnTo>
                    <a:pt x="388" y="81"/>
                  </a:lnTo>
                  <a:lnTo>
                    <a:pt x="404" y="81"/>
                  </a:lnTo>
                  <a:lnTo>
                    <a:pt x="417" y="83"/>
                  </a:lnTo>
                  <a:lnTo>
                    <a:pt x="429" y="86"/>
                  </a:lnTo>
                  <a:lnTo>
                    <a:pt x="441" y="88"/>
                  </a:lnTo>
                  <a:lnTo>
                    <a:pt x="453" y="93"/>
                  </a:lnTo>
                  <a:lnTo>
                    <a:pt x="464" y="99"/>
                  </a:lnTo>
                  <a:lnTo>
                    <a:pt x="474" y="106"/>
                  </a:lnTo>
                  <a:lnTo>
                    <a:pt x="484" y="111"/>
                  </a:lnTo>
                  <a:lnTo>
                    <a:pt x="493" y="119"/>
                  </a:lnTo>
                  <a:lnTo>
                    <a:pt x="499" y="129"/>
                  </a:lnTo>
                  <a:lnTo>
                    <a:pt x="510" y="139"/>
                  </a:lnTo>
                  <a:lnTo>
                    <a:pt x="517" y="149"/>
                  </a:lnTo>
                  <a:lnTo>
                    <a:pt x="522" y="159"/>
                  </a:lnTo>
                  <a:lnTo>
                    <a:pt x="529" y="174"/>
                  </a:lnTo>
                  <a:lnTo>
                    <a:pt x="534" y="187"/>
                  </a:lnTo>
                  <a:lnTo>
                    <a:pt x="539" y="202"/>
                  </a:lnTo>
                  <a:lnTo>
                    <a:pt x="563" y="217"/>
                  </a:lnTo>
                  <a:lnTo>
                    <a:pt x="580" y="232"/>
                  </a:lnTo>
                  <a:lnTo>
                    <a:pt x="588" y="240"/>
                  </a:lnTo>
                  <a:lnTo>
                    <a:pt x="594" y="250"/>
                  </a:lnTo>
                  <a:lnTo>
                    <a:pt x="599" y="265"/>
                  </a:lnTo>
                  <a:lnTo>
                    <a:pt x="600" y="283"/>
                  </a:lnTo>
                  <a:lnTo>
                    <a:pt x="594" y="283"/>
                  </a:lnTo>
                  <a:lnTo>
                    <a:pt x="583" y="283"/>
                  </a:lnTo>
                  <a:lnTo>
                    <a:pt x="570" y="280"/>
                  </a:lnTo>
                  <a:lnTo>
                    <a:pt x="554" y="280"/>
                  </a:lnTo>
                  <a:lnTo>
                    <a:pt x="554" y="285"/>
                  </a:lnTo>
                  <a:lnTo>
                    <a:pt x="552" y="288"/>
                  </a:lnTo>
                  <a:lnTo>
                    <a:pt x="552" y="296"/>
                  </a:lnTo>
                  <a:lnTo>
                    <a:pt x="556" y="301"/>
                  </a:lnTo>
                  <a:lnTo>
                    <a:pt x="575" y="303"/>
                  </a:lnTo>
                  <a:lnTo>
                    <a:pt x="594" y="303"/>
                  </a:lnTo>
                  <a:lnTo>
                    <a:pt x="607" y="308"/>
                  </a:lnTo>
                  <a:lnTo>
                    <a:pt x="621" y="311"/>
                  </a:lnTo>
                  <a:lnTo>
                    <a:pt x="633" y="318"/>
                  </a:lnTo>
                  <a:lnTo>
                    <a:pt x="643" y="326"/>
                  </a:lnTo>
                  <a:lnTo>
                    <a:pt x="653" y="336"/>
                  </a:lnTo>
                  <a:lnTo>
                    <a:pt x="660" y="346"/>
                  </a:lnTo>
                  <a:lnTo>
                    <a:pt x="665" y="356"/>
                  </a:lnTo>
                  <a:lnTo>
                    <a:pt x="670" y="369"/>
                  </a:lnTo>
                  <a:lnTo>
                    <a:pt x="674" y="381"/>
                  </a:lnTo>
                  <a:lnTo>
                    <a:pt x="676" y="394"/>
                  </a:lnTo>
                  <a:lnTo>
                    <a:pt x="676" y="409"/>
                  </a:lnTo>
                  <a:lnTo>
                    <a:pt x="676" y="422"/>
                  </a:lnTo>
                  <a:lnTo>
                    <a:pt x="676" y="437"/>
                  </a:lnTo>
                  <a:lnTo>
                    <a:pt x="674" y="455"/>
                  </a:lnTo>
                  <a:lnTo>
                    <a:pt x="670" y="467"/>
                  </a:lnTo>
                  <a:lnTo>
                    <a:pt x="665" y="485"/>
                  </a:lnTo>
                  <a:lnTo>
                    <a:pt x="664" y="500"/>
                  </a:lnTo>
                  <a:lnTo>
                    <a:pt x="659" y="515"/>
                  </a:lnTo>
                  <a:lnTo>
                    <a:pt x="645" y="546"/>
                  </a:lnTo>
                  <a:lnTo>
                    <a:pt x="631" y="576"/>
                  </a:lnTo>
                  <a:lnTo>
                    <a:pt x="614" y="604"/>
                  </a:lnTo>
                  <a:lnTo>
                    <a:pt x="599" y="629"/>
                  </a:lnTo>
                  <a:lnTo>
                    <a:pt x="588" y="642"/>
                  </a:lnTo>
                  <a:lnTo>
                    <a:pt x="580" y="652"/>
                  </a:lnTo>
                  <a:lnTo>
                    <a:pt x="571" y="662"/>
                  </a:lnTo>
                  <a:lnTo>
                    <a:pt x="563" y="669"/>
                  </a:lnTo>
                  <a:lnTo>
                    <a:pt x="552" y="695"/>
                  </a:lnTo>
                  <a:lnTo>
                    <a:pt x="542" y="730"/>
                  </a:lnTo>
                  <a:lnTo>
                    <a:pt x="540" y="748"/>
                  </a:lnTo>
                  <a:lnTo>
                    <a:pt x="539" y="768"/>
                  </a:lnTo>
                  <a:lnTo>
                    <a:pt x="540" y="773"/>
                  </a:lnTo>
                  <a:lnTo>
                    <a:pt x="542" y="783"/>
                  </a:lnTo>
                  <a:lnTo>
                    <a:pt x="544" y="788"/>
                  </a:lnTo>
                  <a:lnTo>
                    <a:pt x="547" y="793"/>
                  </a:lnTo>
                  <a:lnTo>
                    <a:pt x="558" y="793"/>
                  </a:lnTo>
                  <a:lnTo>
                    <a:pt x="564" y="796"/>
                  </a:lnTo>
                  <a:lnTo>
                    <a:pt x="573" y="798"/>
                  </a:lnTo>
                  <a:lnTo>
                    <a:pt x="583" y="801"/>
                  </a:lnTo>
                  <a:lnTo>
                    <a:pt x="590" y="806"/>
                  </a:lnTo>
                  <a:lnTo>
                    <a:pt x="599" y="811"/>
                  </a:lnTo>
                  <a:lnTo>
                    <a:pt x="605" y="819"/>
                  </a:lnTo>
                  <a:lnTo>
                    <a:pt x="616" y="826"/>
                  </a:lnTo>
                  <a:lnTo>
                    <a:pt x="633" y="841"/>
                  </a:lnTo>
                  <a:lnTo>
                    <a:pt x="648" y="862"/>
                  </a:lnTo>
                  <a:lnTo>
                    <a:pt x="664" y="882"/>
                  </a:lnTo>
                  <a:lnTo>
                    <a:pt x="679" y="904"/>
                  </a:lnTo>
                  <a:lnTo>
                    <a:pt x="708" y="950"/>
                  </a:lnTo>
                  <a:lnTo>
                    <a:pt x="735" y="995"/>
                  </a:lnTo>
                  <a:lnTo>
                    <a:pt x="759" y="1036"/>
                  </a:lnTo>
                  <a:lnTo>
                    <a:pt x="780" y="1071"/>
                  </a:lnTo>
                  <a:lnTo>
                    <a:pt x="788" y="1076"/>
                  </a:lnTo>
                  <a:lnTo>
                    <a:pt x="797" y="1081"/>
                  </a:lnTo>
                  <a:lnTo>
                    <a:pt x="806" y="1089"/>
                  </a:lnTo>
                  <a:lnTo>
                    <a:pt x="811" y="1096"/>
                  </a:lnTo>
                  <a:lnTo>
                    <a:pt x="818" y="1104"/>
                  </a:lnTo>
                  <a:lnTo>
                    <a:pt x="826" y="1114"/>
                  </a:lnTo>
                  <a:lnTo>
                    <a:pt x="835" y="1122"/>
                  </a:lnTo>
                  <a:lnTo>
                    <a:pt x="842" y="1124"/>
                  </a:lnTo>
                  <a:lnTo>
                    <a:pt x="865" y="1155"/>
                  </a:lnTo>
                  <a:lnTo>
                    <a:pt x="886" y="1182"/>
                  </a:lnTo>
                  <a:lnTo>
                    <a:pt x="905" y="1210"/>
                  </a:lnTo>
                  <a:lnTo>
                    <a:pt x="920" y="1238"/>
                  </a:lnTo>
                  <a:lnTo>
                    <a:pt x="934" y="1266"/>
                  </a:lnTo>
                  <a:lnTo>
                    <a:pt x="948" y="1294"/>
                  </a:lnTo>
                  <a:lnTo>
                    <a:pt x="958" y="1321"/>
                  </a:lnTo>
                  <a:lnTo>
                    <a:pt x="966" y="1349"/>
                  </a:lnTo>
                  <a:lnTo>
                    <a:pt x="972" y="1377"/>
                  </a:lnTo>
                  <a:lnTo>
                    <a:pt x="977" y="1405"/>
                  </a:lnTo>
                  <a:lnTo>
                    <a:pt x="982" y="1432"/>
                  </a:lnTo>
                  <a:lnTo>
                    <a:pt x="982" y="1463"/>
                  </a:lnTo>
                  <a:lnTo>
                    <a:pt x="983" y="1491"/>
                  </a:lnTo>
                  <a:lnTo>
                    <a:pt x="983" y="1521"/>
                  </a:lnTo>
                  <a:lnTo>
                    <a:pt x="982" y="1549"/>
                  </a:lnTo>
                  <a:lnTo>
                    <a:pt x="978" y="1579"/>
                  </a:lnTo>
                  <a:lnTo>
                    <a:pt x="782" y="1579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19720" y="1790640"/>
              <a:ext cx="4502160" cy="4656240"/>
              <a:chOff x="4419720" y="1790640"/>
              <a:chExt cx="4502160" cy="4656240"/>
            </a:xfrm>
          </p:grpSpPr>
          <p:sp>
            <p:nvSpPr>
              <p:cNvPr id="118" name=""/>
              <p:cNvSpPr/>
              <p:nvPr/>
            </p:nvSpPr>
            <p:spPr>
              <a:xfrm>
                <a:off x="4419720" y="2168640"/>
                <a:ext cx="2288880" cy="4278240"/>
              </a:xfrm>
              <a:custGeom>
                <a:avLst/>
                <a:gdLst/>
                <a:ahLst/>
                <a:rect l="l" t="t" r="r" b="b"/>
                <a:pathLst>
                  <a:path w="1442" h="2695">
                    <a:moveTo>
                      <a:pt x="906" y="2694"/>
                    </a:moveTo>
                    <a:lnTo>
                      <a:pt x="890" y="2690"/>
                    </a:lnTo>
                    <a:lnTo>
                      <a:pt x="872" y="2685"/>
                    </a:lnTo>
                    <a:lnTo>
                      <a:pt x="851" y="2681"/>
                    </a:lnTo>
                    <a:lnTo>
                      <a:pt x="830" y="2681"/>
                    </a:lnTo>
                    <a:lnTo>
                      <a:pt x="786" y="2681"/>
                    </a:lnTo>
                    <a:lnTo>
                      <a:pt x="742" y="2681"/>
                    </a:lnTo>
                    <a:lnTo>
                      <a:pt x="722" y="2681"/>
                    </a:lnTo>
                    <a:lnTo>
                      <a:pt x="701" y="2681"/>
                    </a:lnTo>
                    <a:lnTo>
                      <a:pt x="682" y="2677"/>
                    </a:lnTo>
                    <a:lnTo>
                      <a:pt x="664" y="2672"/>
                    </a:lnTo>
                    <a:lnTo>
                      <a:pt x="650" y="2668"/>
                    </a:lnTo>
                    <a:lnTo>
                      <a:pt x="639" y="2664"/>
                    </a:lnTo>
                    <a:lnTo>
                      <a:pt x="634" y="2660"/>
                    </a:lnTo>
                    <a:lnTo>
                      <a:pt x="627" y="2655"/>
                    </a:lnTo>
                    <a:lnTo>
                      <a:pt x="623" y="2647"/>
                    </a:lnTo>
                    <a:lnTo>
                      <a:pt x="620" y="2642"/>
                    </a:lnTo>
                    <a:lnTo>
                      <a:pt x="606" y="2642"/>
                    </a:lnTo>
                    <a:lnTo>
                      <a:pt x="597" y="2642"/>
                    </a:lnTo>
                    <a:lnTo>
                      <a:pt x="586" y="2638"/>
                    </a:lnTo>
                    <a:lnTo>
                      <a:pt x="579" y="2634"/>
                    </a:lnTo>
                    <a:lnTo>
                      <a:pt x="569" y="2629"/>
                    </a:lnTo>
                    <a:lnTo>
                      <a:pt x="565" y="2625"/>
                    </a:lnTo>
                    <a:lnTo>
                      <a:pt x="560" y="2612"/>
                    </a:lnTo>
                    <a:lnTo>
                      <a:pt x="558" y="2599"/>
                    </a:lnTo>
                    <a:lnTo>
                      <a:pt x="567" y="2591"/>
                    </a:lnTo>
                    <a:lnTo>
                      <a:pt x="579" y="2586"/>
                    </a:lnTo>
                    <a:lnTo>
                      <a:pt x="590" y="2582"/>
                    </a:lnTo>
                    <a:lnTo>
                      <a:pt x="604" y="2573"/>
                    </a:lnTo>
                    <a:lnTo>
                      <a:pt x="634" y="2569"/>
                    </a:lnTo>
                    <a:lnTo>
                      <a:pt x="669" y="2560"/>
                    </a:lnTo>
                    <a:lnTo>
                      <a:pt x="701" y="2552"/>
                    </a:lnTo>
                    <a:lnTo>
                      <a:pt x="735" y="2547"/>
                    </a:lnTo>
                    <a:lnTo>
                      <a:pt x="749" y="2543"/>
                    </a:lnTo>
                    <a:lnTo>
                      <a:pt x="765" y="2535"/>
                    </a:lnTo>
                    <a:lnTo>
                      <a:pt x="779" y="2530"/>
                    </a:lnTo>
                    <a:lnTo>
                      <a:pt x="793" y="2522"/>
                    </a:lnTo>
                    <a:lnTo>
                      <a:pt x="809" y="2517"/>
                    </a:lnTo>
                    <a:lnTo>
                      <a:pt x="823" y="2513"/>
                    </a:lnTo>
                    <a:lnTo>
                      <a:pt x="839" y="2509"/>
                    </a:lnTo>
                    <a:lnTo>
                      <a:pt x="858" y="2504"/>
                    </a:lnTo>
                    <a:lnTo>
                      <a:pt x="860" y="2496"/>
                    </a:lnTo>
                    <a:lnTo>
                      <a:pt x="862" y="2487"/>
                    </a:lnTo>
                    <a:lnTo>
                      <a:pt x="867" y="2483"/>
                    </a:lnTo>
                    <a:lnTo>
                      <a:pt x="869" y="2478"/>
                    </a:lnTo>
                    <a:lnTo>
                      <a:pt x="881" y="2470"/>
                    </a:lnTo>
                    <a:lnTo>
                      <a:pt x="890" y="2461"/>
                    </a:lnTo>
                    <a:lnTo>
                      <a:pt x="895" y="2453"/>
                    </a:lnTo>
                    <a:lnTo>
                      <a:pt x="899" y="2444"/>
                    </a:lnTo>
                    <a:lnTo>
                      <a:pt x="901" y="2435"/>
                    </a:lnTo>
                    <a:lnTo>
                      <a:pt x="901" y="2422"/>
                    </a:lnTo>
                    <a:lnTo>
                      <a:pt x="901" y="2414"/>
                    </a:lnTo>
                    <a:lnTo>
                      <a:pt x="899" y="2405"/>
                    </a:lnTo>
                    <a:lnTo>
                      <a:pt x="895" y="2384"/>
                    </a:lnTo>
                    <a:lnTo>
                      <a:pt x="890" y="2362"/>
                    </a:lnTo>
                    <a:lnTo>
                      <a:pt x="885" y="2353"/>
                    </a:lnTo>
                    <a:lnTo>
                      <a:pt x="885" y="2345"/>
                    </a:lnTo>
                    <a:lnTo>
                      <a:pt x="883" y="2332"/>
                    </a:lnTo>
                    <a:lnTo>
                      <a:pt x="885" y="2323"/>
                    </a:lnTo>
                    <a:lnTo>
                      <a:pt x="876" y="2315"/>
                    </a:lnTo>
                    <a:lnTo>
                      <a:pt x="867" y="2306"/>
                    </a:lnTo>
                    <a:lnTo>
                      <a:pt x="862" y="2297"/>
                    </a:lnTo>
                    <a:lnTo>
                      <a:pt x="860" y="2289"/>
                    </a:lnTo>
                    <a:lnTo>
                      <a:pt x="855" y="2280"/>
                    </a:lnTo>
                    <a:lnTo>
                      <a:pt x="853" y="2272"/>
                    </a:lnTo>
                    <a:lnTo>
                      <a:pt x="851" y="2263"/>
                    </a:lnTo>
                    <a:lnTo>
                      <a:pt x="848" y="2250"/>
                    </a:lnTo>
                    <a:lnTo>
                      <a:pt x="832" y="2246"/>
                    </a:lnTo>
                    <a:lnTo>
                      <a:pt x="809" y="2237"/>
                    </a:lnTo>
                    <a:lnTo>
                      <a:pt x="779" y="2228"/>
                    </a:lnTo>
                    <a:lnTo>
                      <a:pt x="749" y="2220"/>
                    </a:lnTo>
                    <a:lnTo>
                      <a:pt x="719" y="2211"/>
                    </a:lnTo>
                    <a:lnTo>
                      <a:pt x="694" y="2198"/>
                    </a:lnTo>
                    <a:lnTo>
                      <a:pt x="687" y="2194"/>
                    </a:lnTo>
                    <a:lnTo>
                      <a:pt x="680" y="2185"/>
                    </a:lnTo>
                    <a:lnTo>
                      <a:pt x="678" y="2185"/>
                    </a:lnTo>
                    <a:lnTo>
                      <a:pt x="676" y="2181"/>
                    </a:lnTo>
                    <a:lnTo>
                      <a:pt x="676" y="2177"/>
                    </a:lnTo>
                    <a:lnTo>
                      <a:pt x="685" y="2168"/>
                    </a:lnTo>
                    <a:lnTo>
                      <a:pt x="694" y="2155"/>
                    </a:lnTo>
                    <a:lnTo>
                      <a:pt x="701" y="2147"/>
                    </a:lnTo>
                    <a:lnTo>
                      <a:pt x="706" y="2134"/>
                    </a:lnTo>
                    <a:lnTo>
                      <a:pt x="710" y="2116"/>
                    </a:lnTo>
                    <a:lnTo>
                      <a:pt x="715" y="2099"/>
                    </a:lnTo>
                    <a:lnTo>
                      <a:pt x="717" y="2086"/>
                    </a:lnTo>
                    <a:lnTo>
                      <a:pt x="719" y="2069"/>
                    </a:lnTo>
                    <a:lnTo>
                      <a:pt x="719" y="2039"/>
                    </a:lnTo>
                    <a:lnTo>
                      <a:pt x="719" y="2004"/>
                    </a:lnTo>
                    <a:lnTo>
                      <a:pt x="722" y="1974"/>
                    </a:lnTo>
                    <a:lnTo>
                      <a:pt x="722" y="1953"/>
                    </a:lnTo>
                    <a:lnTo>
                      <a:pt x="719" y="1953"/>
                    </a:lnTo>
                    <a:lnTo>
                      <a:pt x="719" y="1931"/>
                    </a:lnTo>
                    <a:lnTo>
                      <a:pt x="719" y="1918"/>
                    </a:lnTo>
                    <a:lnTo>
                      <a:pt x="719" y="1905"/>
                    </a:lnTo>
                    <a:lnTo>
                      <a:pt x="717" y="1892"/>
                    </a:lnTo>
                    <a:lnTo>
                      <a:pt x="715" y="1879"/>
                    </a:lnTo>
                    <a:lnTo>
                      <a:pt x="710" y="1866"/>
                    </a:lnTo>
                    <a:lnTo>
                      <a:pt x="706" y="1853"/>
                    </a:lnTo>
                    <a:lnTo>
                      <a:pt x="701" y="1841"/>
                    </a:lnTo>
                    <a:lnTo>
                      <a:pt x="689" y="1819"/>
                    </a:lnTo>
                    <a:lnTo>
                      <a:pt x="680" y="1797"/>
                    </a:lnTo>
                    <a:lnTo>
                      <a:pt x="669" y="1772"/>
                    </a:lnTo>
                    <a:lnTo>
                      <a:pt x="657" y="1741"/>
                    </a:lnTo>
                    <a:lnTo>
                      <a:pt x="652" y="1746"/>
                    </a:lnTo>
                    <a:lnTo>
                      <a:pt x="648" y="1746"/>
                    </a:lnTo>
                    <a:lnTo>
                      <a:pt x="646" y="1750"/>
                    </a:lnTo>
                    <a:lnTo>
                      <a:pt x="643" y="1754"/>
                    </a:lnTo>
                    <a:lnTo>
                      <a:pt x="643" y="1763"/>
                    </a:lnTo>
                    <a:lnTo>
                      <a:pt x="646" y="1776"/>
                    </a:lnTo>
                    <a:lnTo>
                      <a:pt x="648" y="1793"/>
                    </a:lnTo>
                    <a:lnTo>
                      <a:pt x="650" y="1806"/>
                    </a:lnTo>
                    <a:lnTo>
                      <a:pt x="650" y="1815"/>
                    </a:lnTo>
                    <a:lnTo>
                      <a:pt x="652" y="1823"/>
                    </a:lnTo>
                    <a:lnTo>
                      <a:pt x="650" y="1828"/>
                    </a:lnTo>
                    <a:lnTo>
                      <a:pt x="648" y="1836"/>
                    </a:lnTo>
                    <a:lnTo>
                      <a:pt x="634" y="1849"/>
                    </a:lnTo>
                    <a:lnTo>
                      <a:pt x="618" y="1866"/>
                    </a:lnTo>
                    <a:lnTo>
                      <a:pt x="618" y="1875"/>
                    </a:lnTo>
                    <a:lnTo>
                      <a:pt x="623" y="1884"/>
                    </a:lnTo>
                    <a:lnTo>
                      <a:pt x="627" y="1892"/>
                    </a:lnTo>
                    <a:lnTo>
                      <a:pt x="634" y="1901"/>
                    </a:lnTo>
                    <a:lnTo>
                      <a:pt x="650" y="1927"/>
                    </a:lnTo>
                    <a:lnTo>
                      <a:pt x="664" y="1953"/>
                    </a:lnTo>
                    <a:lnTo>
                      <a:pt x="671" y="1966"/>
                    </a:lnTo>
                    <a:lnTo>
                      <a:pt x="678" y="1978"/>
                    </a:lnTo>
                    <a:lnTo>
                      <a:pt x="680" y="1996"/>
                    </a:lnTo>
                    <a:lnTo>
                      <a:pt x="680" y="2004"/>
                    </a:lnTo>
                    <a:lnTo>
                      <a:pt x="680" y="2013"/>
                    </a:lnTo>
                    <a:lnTo>
                      <a:pt x="680" y="2017"/>
                    </a:lnTo>
                    <a:lnTo>
                      <a:pt x="678" y="2026"/>
                    </a:lnTo>
                    <a:lnTo>
                      <a:pt x="673" y="2030"/>
                    </a:lnTo>
                    <a:lnTo>
                      <a:pt x="671" y="2039"/>
                    </a:lnTo>
                    <a:lnTo>
                      <a:pt x="664" y="2043"/>
                    </a:lnTo>
                    <a:lnTo>
                      <a:pt x="657" y="2047"/>
                    </a:lnTo>
                    <a:lnTo>
                      <a:pt x="650" y="2052"/>
                    </a:lnTo>
                    <a:lnTo>
                      <a:pt x="636" y="2056"/>
                    </a:lnTo>
                    <a:lnTo>
                      <a:pt x="627" y="2056"/>
                    </a:lnTo>
                    <a:lnTo>
                      <a:pt x="618" y="2056"/>
                    </a:lnTo>
                    <a:lnTo>
                      <a:pt x="611" y="2052"/>
                    </a:lnTo>
                    <a:lnTo>
                      <a:pt x="604" y="2047"/>
                    </a:lnTo>
                    <a:lnTo>
                      <a:pt x="597" y="2039"/>
                    </a:lnTo>
                    <a:lnTo>
                      <a:pt x="593" y="2026"/>
                    </a:lnTo>
                    <a:lnTo>
                      <a:pt x="590" y="2017"/>
                    </a:lnTo>
                    <a:lnTo>
                      <a:pt x="586" y="2026"/>
                    </a:lnTo>
                    <a:lnTo>
                      <a:pt x="579" y="2035"/>
                    </a:lnTo>
                    <a:lnTo>
                      <a:pt x="574" y="2043"/>
                    </a:lnTo>
                    <a:lnTo>
                      <a:pt x="565" y="2047"/>
                    </a:lnTo>
                    <a:lnTo>
                      <a:pt x="560" y="2052"/>
                    </a:lnTo>
                    <a:lnTo>
                      <a:pt x="553" y="2052"/>
                    </a:lnTo>
                    <a:lnTo>
                      <a:pt x="544" y="2052"/>
                    </a:lnTo>
                    <a:lnTo>
                      <a:pt x="533" y="2052"/>
                    </a:lnTo>
                    <a:lnTo>
                      <a:pt x="528" y="2047"/>
                    </a:lnTo>
                    <a:lnTo>
                      <a:pt x="523" y="2043"/>
                    </a:lnTo>
                    <a:lnTo>
                      <a:pt x="521" y="2039"/>
                    </a:lnTo>
                    <a:lnTo>
                      <a:pt x="519" y="2035"/>
                    </a:lnTo>
                    <a:lnTo>
                      <a:pt x="516" y="2017"/>
                    </a:lnTo>
                    <a:lnTo>
                      <a:pt x="519" y="2004"/>
                    </a:lnTo>
                    <a:lnTo>
                      <a:pt x="521" y="1987"/>
                    </a:lnTo>
                    <a:lnTo>
                      <a:pt x="521" y="1974"/>
                    </a:lnTo>
                    <a:lnTo>
                      <a:pt x="521" y="1970"/>
                    </a:lnTo>
                    <a:lnTo>
                      <a:pt x="521" y="1961"/>
                    </a:lnTo>
                    <a:lnTo>
                      <a:pt x="521" y="1957"/>
                    </a:lnTo>
                    <a:lnTo>
                      <a:pt x="516" y="1953"/>
                    </a:lnTo>
                    <a:lnTo>
                      <a:pt x="507" y="1983"/>
                    </a:lnTo>
                    <a:lnTo>
                      <a:pt x="498" y="2004"/>
                    </a:lnTo>
                    <a:lnTo>
                      <a:pt x="493" y="2013"/>
                    </a:lnTo>
                    <a:lnTo>
                      <a:pt x="486" y="2026"/>
                    </a:lnTo>
                    <a:lnTo>
                      <a:pt x="475" y="2035"/>
                    </a:lnTo>
                    <a:lnTo>
                      <a:pt x="463" y="2043"/>
                    </a:lnTo>
                    <a:lnTo>
                      <a:pt x="447" y="2047"/>
                    </a:lnTo>
                    <a:lnTo>
                      <a:pt x="436" y="2047"/>
                    </a:lnTo>
                    <a:lnTo>
                      <a:pt x="431" y="2047"/>
                    </a:lnTo>
                    <a:lnTo>
                      <a:pt x="427" y="2047"/>
                    </a:lnTo>
                    <a:lnTo>
                      <a:pt x="422" y="2043"/>
                    </a:lnTo>
                    <a:lnTo>
                      <a:pt x="420" y="2043"/>
                    </a:lnTo>
                    <a:lnTo>
                      <a:pt x="417" y="2039"/>
                    </a:lnTo>
                    <a:lnTo>
                      <a:pt x="415" y="2035"/>
                    </a:lnTo>
                    <a:lnTo>
                      <a:pt x="415" y="2026"/>
                    </a:lnTo>
                    <a:lnTo>
                      <a:pt x="417" y="2017"/>
                    </a:lnTo>
                    <a:lnTo>
                      <a:pt x="420" y="2009"/>
                    </a:lnTo>
                    <a:lnTo>
                      <a:pt x="440" y="1961"/>
                    </a:lnTo>
                    <a:lnTo>
                      <a:pt x="454" y="1927"/>
                    </a:lnTo>
                    <a:lnTo>
                      <a:pt x="454" y="1888"/>
                    </a:lnTo>
                    <a:lnTo>
                      <a:pt x="452" y="1862"/>
                    </a:lnTo>
                    <a:lnTo>
                      <a:pt x="447" y="1836"/>
                    </a:lnTo>
                    <a:lnTo>
                      <a:pt x="447" y="1815"/>
                    </a:lnTo>
                    <a:lnTo>
                      <a:pt x="447" y="1802"/>
                    </a:lnTo>
                    <a:lnTo>
                      <a:pt x="447" y="1793"/>
                    </a:lnTo>
                    <a:lnTo>
                      <a:pt x="452" y="1780"/>
                    </a:lnTo>
                    <a:lnTo>
                      <a:pt x="454" y="1767"/>
                    </a:lnTo>
                    <a:lnTo>
                      <a:pt x="459" y="1754"/>
                    </a:lnTo>
                    <a:lnTo>
                      <a:pt x="466" y="1741"/>
                    </a:lnTo>
                    <a:lnTo>
                      <a:pt x="475" y="1724"/>
                    </a:lnTo>
                    <a:lnTo>
                      <a:pt x="484" y="1707"/>
                    </a:lnTo>
                    <a:lnTo>
                      <a:pt x="486" y="1698"/>
                    </a:lnTo>
                    <a:lnTo>
                      <a:pt x="489" y="1694"/>
                    </a:lnTo>
                    <a:lnTo>
                      <a:pt x="463" y="1690"/>
                    </a:lnTo>
                    <a:lnTo>
                      <a:pt x="431" y="1681"/>
                    </a:lnTo>
                    <a:lnTo>
                      <a:pt x="417" y="1677"/>
                    </a:lnTo>
                    <a:lnTo>
                      <a:pt x="406" y="1681"/>
                    </a:lnTo>
                    <a:lnTo>
                      <a:pt x="401" y="1681"/>
                    </a:lnTo>
                    <a:lnTo>
                      <a:pt x="397" y="1685"/>
                    </a:lnTo>
                    <a:lnTo>
                      <a:pt x="392" y="1690"/>
                    </a:lnTo>
                    <a:lnTo>
                      <a:pt x="390" y="1694"/>
                    </a:lnTo>
                    <a:lnTo>
                      <a:pt x="374" y="1707"/>
                    </a:lnTo>
                    <a:lnTo>
                      <a:pt x="357" y="1720"/>
                    </a:lnTo>
                    <a:lnTo>
                      <a:pt x="348" y="1724"/>
                    </a:lnTo>
                    <a:lnTo>
                      <a:pt x="341" y="1728"/>
                    </a:lnTo>
                    <a:lnTo>
                      <a:pt x="332" y="1733"/>
                    </a:lnTo>
                    <a:lnTo>
                      <a:pt x="320" y="1737"/>
                    </a:lnTo>
                    <a:lnTo>
                      <a:pt x="314" y="1728"/>
                    </a:lnTo>
                    <a:lnTo>
                      <a:pt x="307" y="1720"/>
                    </a:lnTo>
                    <a:lnTo>
                      <a:pt x="302" y="1711"/>
                    </a:lnTo>
                    <a:lnTo>
                      <a:pt x="295" y="1703"/>
                    </a:lnTo>
                    <a:lnTo>
                      <a:pt x="295" y="1694"/>
                    </a:lnTo>
                    <a:lnTo>
                      <a:pt x="291" y="1685"/>
                    </a:lnTo>
                    <a:lnTo>
                      <a:pt x="288" y="1677"/>
                    </a:lnTo>
                    <a:lnTo>
                      <a:pt x="288" y="1668"/>
                    </a:lnTo>
                    <a:lnTo>
                      <a:pt x="279" y="1664"/>
                    </a:lnTo>
                    <a:lnTo>
                      <a:pt x="272" y="1660"/>
                    </a:lnTo>
                    <a:lnTo>
                      <a:pt x="263" y="1655"/>
                    </a:lnTo>
                    <a:lnTo>
                      <a:pt x="251" y="1651"/>
                    </a:lnTo>
                    <a:lnTo>
                      <a:pt x="233" y="1638"/>
                    </a:lnTo>
                    <a:lnTo>
                      <a:pt x="212" y="1621"/>
                    </a:lnTo>
                    <a:lnTo>
                      <a:pt x="191" y="1599"/>
                    </a:lnTo>
                    <a:lnTo>
                      <a:pt x="175" y="1582"/>
                    </a:lnTo>
                    <a:lnTo>
                      <a:pt x="161" y="1565"/>
                    </a:lnTo>
                    <a:lnTo>
                      <a:pt x="150" y="1552"/>
                    </a:lnTo>
                    <a:lnTo>
                      <a:pt x="154" y="1539"/>
                    </a:lnTo>
                    <a:lnTo>
                      <a:pt x="157" y="1526"/>
                    </a:lnTo>
                    <a:lnTo>
                      <a:pt x="134" y="1526"/>
                    </a:lnTo>
                    <a:lnTo>
                      <a:pt x="120" y="1526"/>
                    </a:lnTo>
                    <a:lnTo>
                      <a:pt x="113" y="1526"/>
                    </a:lnTo>
                    <a:lnTo>
                      <a:pt x="104" y="1526"/>
                    </a:lnTo>
                    <a:lnTo>
                      <a:pt x="97" y="1513"/>
                    </a:lnTo>
                    <a:lnTo>
                      <a:pt x="90" y="1504"/>
                    </a:lnTo>
                    <a:lnTo>
                      <a:pt x="90" y="1496"/>
                    </a:lnTo>
                    <a:lnTo>
                      <a:pt x="95" y="1487"/>
                    </a:lnTo>
                    <a:lnTo>
                      <a:pt x="99" y="1483"/>
                    </a:lnTo>
                    <a:lnTo>
                      <a:pt x="106" y="1474"/>
                    </a:lnTo>
                    <a:lnTo>
                      <a:pt x="113" y="1470"/>
                    </a:lnTo>
                    <a:lnTo>
                      <a:pt x="120" y="1470"/>
                    </a:lnTo>
                    <a:lnTo>
                      <a:pt x="127" y="1466"/>
                    </a:lnTo>
                    <a:lnTo>
                      <a:pt x="134" y="1461"/>
                    </a:lnTo>
                    <a:lnTo>
                      <a:pt x="150" y="1457"/>
                    </a:lnTo>
                    <a:lnTo>
                      <a:pt x="164" y="1453"/>
                    </a:lnTo>
                    <a:lnTo>
                      <a:pt x="171" y="1453"/>
                    </a:lnTo>
                    <a:lnTo>
                      <a:pt x="175" y="1448"/>
                    </a:lnTo>
                    <a:lnTo>
                      <a:pt x="180" y="1444"/>
                    </a:lnTo>
                    <a:lnTo>
                      <a:pt x="184" y="1440"/>
                    </a:lnTo>
                    <a:lnTo>
                      <a:pt x="175" y="1431"/>
                    </a:lnTo>
                    <a:lnTo>
                      <a:pt x="166" y="1422"/>
                    </a:lnTo>
                    <a:lnTo>
                      <a:pt x="145" y="1405"/>
                    </a:lnTo>
                    <a:lnTo>
                      <a:pt x="127" y="1392"/>
                    </a:lnTo>
                    <a:lnTo>
                      <a:pt x="111" y="1375"/>
                    </a:lnTo>
                    <a:lnTo>
                      <a:pt x="95" y="1358"/>
                    </a:lnTo>
                    <a:lnTo>
                      <a:pt x="81" y="1336"/>
                    </a:lnTo>
                    <a:lnTo>
                      <a:pt x="67" y="1319"/>
                    </a:lnTo>
                    <a:lnTo>
                      <a:pt x="53" y="1302"/>
                    </a:lnTo>
                    <a:lnTo>
                      <a:pt x="44" y="1280"/>
                    </a:lnTo>
                    <a:lnTo>
                      <a:pt x="35" y="1263"/>
                    </a:lnTo>
                    <a:lnTo>
                      <a:pt x="25" y="1241"/>
                    </a:lnTo>
                    <a:lnTo>
                      <a:pt x="18" y="1220"/>
                    </a:lnTo>
                    <a:lnTo>
                      <a:pt x="12" y="1198"/>
                    </a:lnTo>
                    <a:lnTo>
                      <a:pt x="7" y="1181"/>
                    </a:lnTo>
                    <a:lnTo>
                      <a:pt x="5" y="1159"/>
                    </a:lnTo>
                    <a:lnTo>
                      <a:pt x="0" y="1138"/>
                    </a:lnTo>
                    <a:lnTo>
                      <a:pt x="0" y="1112"/>
                    </a:lnTo>
                    <a:lnTo>
                      <a:pt x="0" y="1095"/>
                    </a:lnTo>
                    <a:lnTo>
                      <a:pt x="0" y="1073"/>
                    </a:lnTo>
                    <a:lnTo>
                      <a:pt x="0" y="1047"/>
                    </a:lnTo>
                    <a:lnTo>
                      <a:pt x="5" y="1026"/>
                    </a:lnTo>
                    <a:lnTo>
                      <a:pt x="7" y="1004"/>
                    </a:lnTo>
                    <a:lnTo>
                      <a:pt x="12" y="983"/>
                    </a:lnTo>
                    <a:lnTo>
                      <a:pt x="16" y="961"/>
                    </a:lnTo>
                    <a:lnTo>
                      <a:pt x="23" y="940"/>
                    </a:lnTo>
                    <a:lnTo>
                      <a:pt x="30" y="918"/>
                    </a:lnTo>
                    <a:lnTo>
                      <a:pt x="37" y="897"/>
                    </a:lnTo>
                    <a:lnTo>
                      <a:pt x="46" y="875"/>
                    </a:lnTo>
                    <a:lnTo>
                      <a:pt x="55" y="853"/>
                    </a:lnTo>
                    <a:lnTo>
                      <a:pt x="67" y="832"/>
                    </a:lnTo>
                    <a:lnTo>
                      <a:pt x="76" y="815"/>
                    </a:lnTo>
                    <a:lnTo>
                      <a:pt x="88" y="793"/>
                    </a:lnTo>
                    <a:lnTo>
                      <a:pt x="99" y="776"/>
                    </a:lnTo>
                    <a:lnTo>
                      <a:pt x="104" y="763"/>
                    </a:lnTo>
                    <a:lnTo>
                      <a:pt x="106" y="754"/>
                    </a:lnTo>
                    <a:lnTo>
                      <a:pt x="108" y="754"/>
                    </a:lnTo>
                    <a:lnTo>
                      <a:pt x="113" y="754"/>
                    </a:lnTo>
                    <a:lnTo>
                      <a:pt x="118" y="754"/>
                    </a:lnTo>
                    <a:lnTo>
                      <a:pt x="125" y="754"/>
                    </a:lnTo>
                    <a:lnTo>
                      <a:pt x="125" y="759"/>
                    </a:lnTo>
                    <a:lnTo>
                      <a:pt x="125" y="763"/>
                    </a:lnTo>
                    <a:lnTo>
                      <a:pt x="122" y="772"/>
                    </a:lnTo>
                    <a:lnTo>
                      <a:pt x="118" y="780"/>
                    </a:lnTo>
                    <a:lnTo>
                      <a:pt x="113" y="789"/>
                    </a:lnTo>
                    <a:lnTo>
                      <a:pt x="106" y="810"/>
                    </a:lnTo>
                    <a:lnTo>
                      <a:pt x="101" y="832"/>
                    </a:lnTo>
                    <a:lnTo>
                      <a:pt x="101" y="858"/>
                    </a:lnTo>
                    <a:lnTo>
                      <a:pt x="99" y="879"/>
                    </a:lnTo>
                    <a:lnTo>
                      <a:pt x="101" y="901"/>
                    </a:lnTo>
                    <a:lnTo>
                      <a:pt x="106" y="922"/>
                    </a:lnTo>
                    <a:lnTo>
                      <a:pt x="113" y="944"/>
                    </a:lnTo>
                    <a:lnTo>
                      <a:pt x="118" y="966"/>
                    </a:lnTo>
                    <a:lnTo>
                      <a:pt x="127" y="987"/>
                    </a:lnTo>
                    <a:lnTo>
                      <a:pt x="136" y="1004"/>
                    </a:lnTo>
                    <a:lnTo>
                      <a:pt x="150" y="1022"/>
                    </a:lnTo>
                    <a:lnTo>
                      <a:pt x="164" y="1039"/>
                    </a:lnTo>
                    <a:lnTo>
                      <a:pt x="178" y="1056"/>
                    </a:lnTo>
                    <a:lnTo>
                      <a:pt x="194" y="1073"/>
                    </a:lnTo>
                    <a:lnTo>
                      <a:pt x="212" y="1086"/>
                    </a:lnTo>
                    <a:lnTo>
                      <a:pt x="231" y="1099"/>
                    </a:lnTo>
                    <a:lnTo>
                      <a:pt x="233" y="1103"/>
                    </a:lnTo>
                    <a:lnTo>
                      <a:pt x="233" y="1108"/>
                    </a:lnTo>
                    <a:lnTo>
                      <a:pt x="228" y="1125"/>
                    </a:lnTo>
                    <a:lnTo>
                      <a:pt x="226" y="1142"/>
                    </a:lnTo>
                    <a:lnTo>
                      <a:pt x="224" y="1159"/>
                    </a:lnTo>
                    <a:lnTo>
                      <a:pt x="224" y="1181"/>
                    </a:lnTo>
                    <a:lnTo>
                      <a:pt x="226" y="1198"/>
                    </a:lnTo>
                    <a:lnTo>
                      <a:pt x="228" y="1216"/>
                    </a:lnTo>
                    <a:lnTo>
                      <a:pt x="233" y="1237"/>
                    </a:lnTo>
                    <a:lnTo>
                      <a:pt x="237" y="1254"/>
                    </a:lnTo>
                    <a:lnTo>
                      <a:pt x="249" y="1289"/>
                    </a:lnTo>
                    <a:lnTo>
                      <a:pt x="261" y="1328"/>
                    </a:lnTo>
                    <a:lnTo>
                      <a:pt x="274" y="1362"/>
                    </a:lnTo>
                    <a:lnTo>
                      <a:pt x="286" y="1397"/>
                    </a:lnTo>
                    <a:lnTo>
                      <a:pt x="295" y="1397"/>
                    </a:lnTo>
                    <a:lnTo>
                      <a:pt x="304" y="1392"/>
                    </a:lnTo>
                    <a:lnTo>
                      <a:pt x="316" y="1388"/>
                    </a:lnTo>
                    <a:lnTo>
                      <a:pt x="325" y="1384"/>
                    </a:lnTo>
                    <a:lnTo>
                      <a:pt x="337" y="1379"/>
                    </a:lnTo>
                    <a:lnTo>
                      <a:pt x="348" y="1375"/>
                    </a:lnTo>
                    <a:lnTo>
                      <a:pt x="362" y="1375"/>
                    </a:lnTo>
                    <a:lnTo>
                      <a:pt x="374" y="1371"/>
                    </a:lnTo>
                    <a:lnTo>
                      <a:pt x="376" y="1375"/>
                    </a:lnTo>
                    <a:lnTo>
                      <a:pt x="380" y="1384"/>
                    </a:lnTo>
                    <a:lnTo>
                      <a:pt x="385" y="1392"/>
                    </a:lnTo>
                    <a:lnTo>
                      <a:pt x="385" y="1397"/>
                    </a:lnTo>
                    <a:lnTo>
                      <a:pt x="390" y="1405"/>
                    </a:lnTo>
                    <a:lnTo>
                      <a:pt x="392" y="1414"/>
                    </a:lnTo>
                    <a:lnTo>
                      <a:pt x="392" y="1422"/>
                    </a:lnTo>
                    <a:lnTo>
                      <a:pt x="392" y="1435"/>
                    </a:lnTo>
                    <a:lnTo>
                      <a:pt x="383" y="1440"/>
                    </a:lnTo>
                    <a:lnTo>
                      <a:pt x="374" y="1444"/>
                    </a:lnTo>
                    <a:lnTo>
                      <a:pt x="362" y="1448"/>
                    </a:lnTo>
                    <a:lnTo>
                      <a:pt x="355" y="1448"/>
                    </a:lnTo>
                    <a:lnTo>
                      <a:pt x="355" y="1453"/>
                    </a:lnTo>
                    <a:lnTo>
                      <a:pt x="385" y="1491"/>
                    </a:lnTo>
                    <a:lnTo>
                      <a:pt x="401" y="1513"/>
                    </a:lnTo>
                    <a:lnTo>
                      <a:pt x="406" y="1517"/>
                    </a:lnTo>
                    <a:lnTo>
                      <a:pt x="413" y="1522"/>
                    </a:lnTo>
                    <a:lnTo>
                      <a:pt x="417" y="1517"/>
                    </a:lnTo>
                    <a:lnTo>
                      <a:pt x="427" y="1517"/>
                    </a:lnTo>
                    <a:lnTo>
                      <a:pt x="436" y="1513"/>
                    </a:lnTo>
                    <a:lnTo>
                      <a:pt x="445" y="1504"/>
                    </a:lnTo>
                    <a:lnTo>
                      <a:pt x="459" y="1500"/>
                    </a:lnTo>
                    <a:lnTo>
                      <a:pt x="475" y="1487"/>
                    </a:lnTo>
                    <a:lnTo>
                      <a:pt x="480" y="1474"/>
                    </a:lnTo>
                    <a:lnTo>
                      <a:pt x="484" y="1466"/>
                    </a:lnTo>
                    <a:lnTo>
                      <a:pt x="484" y="1461"/>
                    </a:lnTo>
                    <a:lnTo>
                      <a:pt x="489" y="1457"/>
                    </a:lnTo>
                    <a:lnTo>
                      <a:pt x="493" y="1453"/>
                    </a:lnTo>
                    <a:lnTo>
                      <a:pt x="498" y="1453"/>
                    </a:lnTo>
                    <a:lnTo>
                      <a:pt x="510" y="1453"/>
                    </a:lnTo>
                    <a:lnTo>
                      <a:pt x="519" y="1453"/>
                    </a:lnTo>
                    <a:lnTo>
                      <a:pt x="526" y="1448"/>
                    </a:lnTo>
                    <a:lnTo>
                      <a:pt x="535" y="1444"/>
                    </a:lnTo>
                    <a:lnTo>
                      <a:pt x="542" y="1440"/>
                    </a:lnTo>
                    <a:lnTo>
                      <a:pt x="549" y="1435"/>
                    </a:lnTo>
                    <a:lnTo>
                      <a:pt x="556" y="1431"/>
                    </a:lnTo>
                    <a:lnTo>
                      <a:pt x="560" y="1422"/>
                    </a:lnTo>
                    <a:lnTo>
                      <a:pt x="569" y="1410"/>
                    </a:lnTo>
                    <a:lnTo>
                      <a:pt x="579" y="1392"/>
                    </a:lnTo>
                    <a:lnTo>
                      <a:pt x="588" y="1371"/>
                    </a:lnTo>
                    <a:lnTo>
                      <a:pt x="595" y="1353"/>
                    </a:lnTo>
                    <a:lnTo>
                      <a:pt x="606" y="1310"/>
                    </a:lnTo>
                    <a:lnTo>
                      <a:pt x="616" y="1267"/>
                    </a:lnTo>
                    <a:lnTo>
                      <a:pt x="623" y="1246"/>
                    </a:lnTo>
                    <a:lnTo>
                      <a:pt x="629" y="1228"/>
                    </a:lnTo>
                    <a:lnTo>
                      <a:pt x="639" y="1211"/>
                    </a:lnTo>
                    <a:lnTo>
                      <a:pt x="646" y="1198"/>
                    </a:lnTo>
                    <a:lnTo>
                      <a:pt x="648" y="1190"/>
                    </a:lnTo>
                    <a:lnTo>
                      <a:pt x="652" y="1177"/>
                    </a:lnTo>
                    <a:lnTo>
                      <a:pt x="639" y="1172"/>
                    </a:lnTo>
                    <a:lnTo>
                      <a:pt x="623" y="1168"/>
                    </a:lnTo>
                    <a:lnTo>
                      <a:pt x="611" y="1164"/>
                    </a:lnTo>
                    <a:lnTo>
                      <a:pt x="602" y="1159"/>
                    </a:lnTo>
                    <a:lnTo>
                      <a:pt x="590" y="1151"/>
                    </a:lnTo>
                    <a:lnTo>
                      <a:pt x="581" y="1142"/>
                    </a:lnTo>
                    <a:lnTo>
                      <a:pt x="569" y="1138"/>
                    </a:lnTo>
                    <a:lnTo>
                      <a:pt x="563" y="1125"/>
                    </a:lnTo>
                    <a:lnTo>
                      <a:pt x="556" y="1116"/>
                    </a:lnTo>
                    <a:lnTo>
                      <a:pt x="549" y="1108"/>
                    </a:lnTo>
                    <a:lnTo>
                      <a:pt x="542" y="1099"/>
                    </a:lnTo>
                    <a:lnTo>
                      <a:pt x="535" y="1086"/>
                    </a:lnTo>
                    <a:lnTo>
                      <a:pt x="526" y="1060"/>
                    </a:lnTo>
                    <a:lnTo>
                      <a:pt x="516" y="1034"/>
                    </a:lnTo>
                    <a:lnTo>
                      <a:pt x="510" y="1009"/>
                    </a:lnTo>
                    <a:lnTo>
                      <a:pt x="505" y="983"/>
                    </a:lnTo>
                    <a:lnTo>
                      <a:pt x="503" y="957"/>
                    </a:lnTo>
                    <a:lnTo>
                      <a:pt x="498" y="931"/>
                    </a:lnTo>
                    <a:lnTo>
                      <a:pt x="498" y="875"/>
                    </a:lnTo>
                    <a:lnTo>
                      <a:pt x="498" y="823"/>
                    </a:lnTo>
                    <a:lnTo>
                      <a:pt x="503" y="819"/>
                    </a:lnTo>
                    <a:lnTo>
                      <a:pt x="505" y="815"/>
                    </a:lnTo>
                    <a:lnTo>
                      <a:pt x="510" y="815"/>
                    </a:lnTo>
                    <a:lnTo>
                      <a:pt x="514" y="815"/>
                    </a:lnTo>
                    <a:lnTo>
                      <a:pt x="521" y="815"/>
                    </a:lnTo>
                    <a:lnTo>
                      <a:pt x="533" y="810"/>
                    </a:lnTo>
                    <a:lnTo>
                      <a:pt x="535" y="802"/>
                    </a:lnTo>
                    <a:lnTo>
                      <a:pt x="533" y="789"/>
                    </a:lnTo>
                    <a:lnTo>
                      <a:pt x="530" y="776"/>
                    </a:lnTo>
                    <a:lnTo>
                      <a:pt x="528" y="767"/>
                    </a:lnTo>
                    <a:lnTo>
                      <a:pt x="493" y="772"/>
                    </a:lnTo>
                    <a:lnTo>
                      <a:pt x="461" y="776"/>
                    </a:lnTo>
                    <a:lnTo>
                      <a:pt x="454" y="776"/>
                    </a:lnTo>
                    <a:lnTo>
                      <a:pt x="445" y="776"/>
                    </a:lnTo>
                    <a:lnTo>
                      <a:pt x="440" y="776"/>
                    </a:lnTo>
                    <a:lnTo>
                      <a:pt x="433" y="772"/>
                    </a:lnTo>
                    <a:lnTo>
                      <a:pt x="427" y="763"/>
                    </a:lnTo>
                    <a:lnTo>
                      <a:pt x="422" y="759"/>
                    </a:lnTo>
                    <a:lnTo>
                      <a:pt x="415" y="750"/>
                    </a:lnTo>
                    <a:lnTo>
                      <a:pt x="410" y="737"/>
                    </a:lnTo>
                    <a:lnTo>
                      <a:pt x="413" y="724"/>
                    </a:lnTo>
                    <a:lnTo>
                      <a:pt x="413" y="711"/>
                    </a:lnTo>
                    <a:lnTo>
                      <a:pt x="415" y="698"/>
                    </a:lnTo>
                    <a:lnTo>
                      <a:pt x="420" y="690"/>
                    </a:lnTo>
                    <a:lnTo>
                      <a:pt x="422" y="677"/>
                    </a:lnTo>
                    <a:lnTo>
                      <a:pt x="429" y="668"/>
                    </a:lnTo>
                    <a:lnTo>
                      <a:pt x="436" y="655"/>
                    </a:lnTo>
                    <a:lnTo>
                      <a:pt x="440" y="647"/>
                    </a:lnTo>
                    <a:lnTo>
                      <a:pt x="454" y="629"/>
                    </a:lnTo>
                    <a:lnTo>
                      <a:pt x="470" y="616"/>
                    </a:lnTo>
                    <a:lnTo>
                      <a:pt x="489" y="599"/>
                    </a:lnTo>
                    <a:lnTo>
                      <a:pt x="507" y="582"/>
                    </a:lnTo>
                    <a:lnTo>
                      <a:pt x="507" y="534"/>
                    </a:lnTo>
                    <a:lnTo>
                      <a:pt x="505" y="491"/>
                    </a:lnTo>
                    <a:lnTo>
                      <a:pt x="505" y="470"/>
                    </a:lnTo>
                    <a:lnTo>
                      <a:pt x="503" y="448"/>
                    </a:lnTo>
                    <a:lnTo>
                      <a:pt x="505" y="427"/>
                    </a:lnTo>
                    <a:lnTo>
                      <a:pt x="507" y="405"/>
                    </a:lnTo>
                    <a:lnTo>
                      <a:pt x="514" y="379"/>
                    </a:lnTo>
                    <a:lnTo>
                      <a:pt x="516" y="362"/>
                    </a:lnTo>
                    <a:lnTo>
                      <a:pt x="519" y="358"/>
                    </a:lnTo>
                    <a:lnTo>
                      <a:pt x="519" y="349"/>
                    </a:lnTo>
                    <a:lnTo>
                      <a:pt x="503" y="349"/>
                    </a:lnTo>
                    <a:lnTo>
                      <a:pt x="475" y="353"/>
                    </a:lnTo>
                    <a:lnTo>
                      <a:pt x="443" y="358"/>
                    </a:lnTo>
                    <a:lnTo>
                      <a:pt x="408" y="362"/>
                    </a:lnTo>
                    <a:lnTo>
                      <a:pt x="394" y="366"/>
                    </a:lnTo>
                    <a:lnTo>
                      <a:pt x="380" y="366"/>
                    </a:lnTo>
                    <a:lnTo>
                      <a:pt x="369" y="366"/>
                    </a:lnTo>
                    <a:lnTo>
                      <a:pt x="360" y="362"/>
                    </a:lnTo>
                    <a:lnTo>
                      <a:pt x="355" y="362"/>
                    </a:lnTo>
                    <a:lnTo>
                      <a:pt x="353" y="358"/>
                    </a:lnTo>
                    <a:lnTo>
                      <a:pt x="350" y="358"/>
                    </a:lnTo>
                    <a:lnTo>
                      <a:pt x="353" y="353"/>
                    </a:lnTo>
                    <a:lnTo>
                      <a:pt x="355" y="349"/>
                    </a:lnTo>
                    <a:lnTo>
                      <a:pt x="357" y="345"/>
                    </a:lnTo>
                    <a:lnTo>
                      <a:pt x="362" y="341"/>
                    </a:lnTo>
                    <a:lnTo>
                      <a:pt x="380" y="306"/>
                    </a:lnTo>
                    <a:lnTo>
                      <a:pt x="401" y="267"/>
                    </a:lnTo>
                    <a:lnTo>
                      <a:pt x="413" y="250"/>
                    </a:lnTo>
                    <a:lnTo>
                      <a:pt x="422" y="228"/>
                    </a:lnTo>
                    <a:lnTo>
                      <a:pt x="438" y="211"/>
                    </a:lnTo>
                    <a:lnTo>
                      <a:pt x="450" y="194"/>
                    </a:lnTo>
                    <a:lnTo>
                      <a:pt x="463" y="181"/>
                    </a:lnTo>
                    <a:lnTo>
                      <a:pt x="480" y="164"/>
                    </a:lnTo>
                    <a:lnTo>
                      <a:pt x="496" y="151"/>
                    </a:lnTo>
                    <a:lnTo>
                      <a:pt x="512" y="138"/>
                    </a:lnTo>
                    <a:lnTo>
                      <a:pt x="528" y="125"/>
                    </a:lnTo>
                    <a:lnTo>
                      <a:pt x="546" y="116"/>
                    </a:lnTo>
                    <a:lnTo>
                      <a:pt x="565" y="108"/>
                    </a:lnTo>
                    <a:lnTo>
                      <a:pt x="586" y="103"/>
                    </a:lnTo>
                    <a:lnTo>
                      <a:pt x="588" y="99"/>
                    </a:lnTo>
                    <a:lnTo>
                      <a:pt x="590" y="95"/>
                    </a:lnTo>
                    <a:lnTo>
                      <a:pt x="595" y="95"/>
                    </a:lnTo>
                    <a:lnTo>
                      <a:pt x="599" y="91"/>
                    </a:lnTo>
                    <a:lnTo>
                      <a:pt x="611" y="86"/>
                    </a:lnTo>
                    <a:lnTo>
                      <a:pt x="620" y="86"/>
                    </a:lnTo>
                    <a:lnTo>
                      <a:pt x="634" y="86"/>
                    </a:lnTo>
                    <a:lnTo>
                      <a:pt x="646" y="86"/>
                    </a:lnTo>
                    <a:lnTo>
                      <a:pt x="659" y="91"/>
                    </a:lnTo>
                    <a:lnTo>
                      <a:pt x="673" y="95"/>
                    </a:lnTo>
                    <a:lnTo>
                      <a:pt x="729" y="112"/>
                    </a:lnTo>
                    <a:lnTo>
                      <a:pt x="770" y="125"/>
                    </a:lnTo>
                    <a:lnTo>
                      <a:pt x="761" y="112"/>
                    </a:lnTo>
                    <a:lnTo>
                      <a:pt x="752" y="95"/>
                    </a:lnTo>
                    <a:lnTo>
                      <a:pt x="747" y="86"/>
                    </a:lnTo>
                    <a:lnTo>
                      <a:pt x="742" y="78"/>
                    </a:lnTo>
                    <a:lnTo>
                      <a:pt x="740" y="73"/>
                    </a:lnTo>
                    <a:lnTo>
                      <a:pt x="740" y="65"/>
                    </a:lnTo>
                    <a:lnTo>
                      <a:pt x="754" y="82"/>
                    </a:lnTo>
                    <a:lnTo>
                      <a:pt x="768" y="103"/>
                    </a:lnTo>
                    <a:lnTo>
                      <a:pt x="784" y="121"/>
                    </a:lnTo>
                    <a:lnTo>
                      <a:pt x="800" y="138"/>
                    </a:lnTo>
                    <a:lnTo>
                      <a:pt x="800" y="129"/>
                    </a:lnTo>
                    <a:lnTo>
                      <a:pt x="795" y="116"/>
                    </a:lnTo>
                    <a:lnTo>
                      <a:pt x="791" y="108"/>
                    </a:lnTo>
                    <a:lnTo>
                      <a:pt x="784" y="99"/>
                    </a:lnTo>
                    <a:lnTo>
                      <a:pt x="779" y="91"/>
                    </a:lnTo>
                    <a:lnTo>
                      <a:pt x="775" y="82"/>
                    </a:lnTo>
                    <a:lnTo>
                      <a:pt x="772" y="78"/>
                    </a:lnTo>
                    <a:lnTo>
                      <a:pt x="772" y="69"/>
                    </a:lnTo>
                    <a:lnTo>
                      <a:pt x="772" y="65"/>
                    </a:lnTo>
                    <a:lnTo>
                      <a:pt x="772" y="60"/>
                    </a:lnTo>
                    <a:lnTo>
                      <a:pt x="782" y="78"/>
                    </a:lnTo>
                    <a:lnTo>
                      <a:pt x="793" y="91"/>
                    </a:lnTo>
                    <a:lnTo>
                      <a:pt x="800" y="108"/>
                    </a:lnTo>
                    <a:lnTo>
                      <a:pt x="809" y="125"/>
                    </a:lnTo>
                    <a:lnTo>
                      <a:pt x="812" y="125"/>
                    </a:lnTo>
                    <a:lnTo>
                      <a:pt x="814" y="125"/>
                    </a:lnTo>
                    <a:lnTo>
                      <a:pt x="814" y="108"/>
                    </a:lnTo>
                    <a:lnTo>
                      <a:pt x="812" y="91"/>
                    </a:lnTo>
                    <a:lnTo>
                      <a:pt x="809" y="73"/>
                    </a:lnTo>
                    <a:lnTo>
                      <a:pt x="807" y="56"/>
                    </a:lnTo>
                    <a:lnTo>
                      <a:pt x="805" y="43"/>
                    </a:lnTo>
                    <a:lnTo>
                      <a:pt x="800" y="26"/>
                    </a:lnTo>
                    <a:lnTo>
                      <a:pt x="800" y="13"/>
                    </a:lnTo>
                    <a:lnTo>
                      <a:pt x="800" y="0"/>
                    </a:lnTo>
                    <a:lnTo>
                      <a:pt x="805" y="9"/>
                    </a:lnTo>
                    <a:lnTo>
                      <a:pt x="809" y="17"/>
                    </a:lnTo>
                    <a:lnTo>
                      <a:pt x="812" y="26"/>
                    </a:lnTo>
                    <a:lnTo>
                      <a:pt x="816" y="39"/>
                    </a:lnTo>
                    <a:lnTo>
                      <a:pt x="823" y="60"/>
                    </a:lnTo>
                    <a:lnTo>
                      <a:pt x="828" y="82"/>
                    </a:lnTo>
                    <a:lnTo>
                      <a:pt x="830" y="82"/>
                    </a:lnTo>
                    <a:lnTo>
                      <a:pt x="835" y="73"/>
                    </a:lnTo>
                    <a:lnTo>
                      <a:pt x="839" y="65"/>
                    </a:lnTo>
                    <a:lnTo>
                      <a:pt x="844" y="56"/>
                    </a:lnTo>
                    <a:lnTo>
                      <a:pt x="853" y="43"/>
                    </a:lnTo>
                    <a:lnTo>
                      <a:pt x="860" y="34"/>
                    </a:lnTo>
                    <a:lnTo>
                      <a:pt x="867" y="30"/>
                    </a:lnTo>
                    <a:lnTo>
                      <a:pt x="872" y="26"/>
                    </a:lnTo>
                    <a:lnTo>
                      <a:pt x="876" y="22"/>
                    </a:lnTo>
                    <a:lnTo>
                      <a:pt x="881" y="22"/>
                    </a:lnTo>
                    <a:lnTo>
                      <a:pt x="885" y="22"/>
                    </a:lnTo>
                    <a:lnTo>
                      <a:pt x="883" y="26"/>
                    </a:lnTo>
                    <a:lnTo>
                      <a:pt x="881" y="26"/>
                    </a:lnTo>
                    <a:lnTo>
                      <a:pt x="878" y="30"/>
                    </a:lnTo>
                    <a:lnTo>
                      <a:pt x="876" y="34"/>
                    </a:lnTo>
                    <a:lnTo>
                      <a:pt x="874" y="34"/>
                    </a:lnTo>
                    <a:lnTo>
                      <a:pt x="869" y="39"/>
                    </a:lnTo>
                    <a:lnTo>
                      <a:pt x="865" y="43"/>
                    </a:lnTo>
                    <a:lnTo>
                      <a:pt x="860" y="47"/>
                    </a:lnTo>
                    <a:lnTo>
                      <a:pt x="853" y="60"/>
                    </a:lnTo>
                    <a:lnTo>
                      <a:pt x="846" y="73"/>
                    </a:lnTo>
                    <a:lnTo>
                      <a:pt x="842" y="91"/>
                    </a:lnTo>
                    <a:lnTo>
                      <a:pt x="837" y="103"/>
                    </a:lnTo>
                    <a:lnTo>
                      <a:pt x="835" y="116"/>
                    </a:lnTo>
                    <a:lnTo>
                      <a:pt x="835" y="129"/>
                    </a:lnTo>
                    <a:lnTo>
                      <a:pt x="844" y="125"/>
                    </a:lnTo>
                    <a:lnTo>
                      <a:pt x="853" y="116"/>
                    </a:lnTo>
                    <a:lnTo>
                      <a:pt x="862" y="108"/>
                    </a:lnTo>
                    <a:lnTo>
                      <a:pt x="869" y="103"/>
                    </a:lnTo>
                    <a:lnTo>
                      <a:pt x="885" y="86"/>
                    </a:lnTo>
                    <a:lnTo>
                      <a:pt x="901" y="69"/>
                    </a:lnTo>
                    <a:lnTo>
                      <a:pt x="908" y="65"/>
                    </a:lnTo>
                    <a:lnTo>
                      <a:pt x="918" y="56"/>
                    </a:lnTo>
                    <a:lnTo>
                      <a:pt x="925" y="52"/>
                    </a:lnTo>
                    <a:lnTo>
                      <a:pt x="936" y="47"/>
                    </a:lnTo>
                    <a:lnTo>
                      <a:pt x="945" y="43"/>
                    </a:lnTo>
                    <a:lnTo>
                      <a:pt x="957" y="39"/>
                    </a:lnTo>
                    <a:lnTo>
                      <a:pt x="968" y="39"/>
                    </a:lnTo>
                    <a:lnTo>
                      <a:pt x="980" y="34"/>
                    </a:lnTo>
                    <a:lnTo>
                      <a:pt x="980" y="39"/>
                    </a:lnTo>
                    <a:lnTo>
                      <a:pt x="982" y="39"/>
                    </a:lnTo>
                    <a:lnTo>
                      <a:pt x="961" y="47"/>
                    </a:lnTo>
                    <a:lnTo>
                      <a:pt x="943" y="56"/>
                    </a:lnTo>
                    <a:lnTo>
                      <a:pt x="925" y="69"/>
                    </a:lnTo>
                    <a:lnTo>
                      <a:pt x="906" y="73"/>
                    </a:lnTo>
                    <a:lnTo>
                      <a:pt x="906" y="78"/>
                    </a:lnTo>
                    <a:lnTo>
                      <a:pt x="906" y="82"/>
                    </a:lnTo>
                    <a:lnTo>
                      <a:pt x="901" y="82"/>
                    </a:lnTo>
                    <a:lnTo>
                      <a:pt x="899" y="82"/>
                    </a:lnTo>
                    <a:lnTo>
                      <a:pt x="897" y="86"/>
                    </a:lnTo>
                    <a:lnTo>
                      <a:pt x="895" y="91"/>
                    </a:lnTo>
                    <a:lnTo>
                      <a:pt x="890" y="95"/>
                    </a:lnTo>
                    <a:lnTo>
                      <a:pt x="883" y="103"/>
                    </a:lnTo>
                    <a:lnTo>
                      <a:pt x="883" y="108"/>
                    </a:lnTo>
                    <a:lnTo>
                      <a:pt x="906" y="99"/>
                    </a:lnTo>
                    <a:lnTo>
                      <a:pt x="927" y="95"/>
                    </a:lnTo>
                    <a:lnTo>
                      <a:pt x="948" y="91"/>
                    </a:lnTo>
                    <a:lnTo>
                      <a:pt x="964" y="91"/>
                    </a:lnTo>
                    <a:lnTo>
                      <a:pt x="980" y="91"/>
                    </a:lnTo>
                    <a:lnTo>
                      <a:pt x="996" y="95"/>
                    </a:lnTo>
                    <a:lnTo>
                      <a:pt x="1010" y="99"/>
                    </a:lnTo>
                    <a:lnTo>
                      <a:pt x="1024" y="108"/>
                    </a:lnTo>
                    <a:lnTo>
                      <a:pt x="1033" y="116"/>
                    </a:lnTo>
                    <a:lnTo>
                      <a:pt x="1047" y="129"/>
                    </a:lnTo>
                    <a:lnTo>
                      <a:pt x="1056" y="142"/>
                    </a:lnTo>
                    <a:lnTo>
                      <a:pt x="1067" y="155"/>
                    </a:lnTo>
                    <a:lnTo>
                      <a:pt x="1077" y="177"/>
                    </a:lnTo>
                    <a:lnTo>
                      <a:pt x="1088" y="194"/>
                    </a:lnTo>
                    <a:lnTo>
                      <a:pt x="1097" y="216"/>
                    </a:lnTo>
                    <a:lnTo>
                      <a:pt x="1109" y="237"/>
                    </a:lnTo>
                    <a:lnTo>
                      <a:pt x="1114" y="250"/>
                    </a:lnTo>
                    <a:lnTo>
                      <a:pt x="1118" y="267"/>
                    </a:lnTo>
                    <a:lnTo>
                      <a:pt x="1123" y="276"/>
                    </a:lnTo>
                    <a:lnTo>
                      <a:pt x="1125" y="284"/>
                    </a:lnTo>
                    <a:lnTo>
                      <a:pt x="1125" y="297"/>
                    </a:lnTo>
                    <a:lnTo>
                      <a:pt x="1125" y="306"/>
                    </a:lnTo>
                    <a:lnTo>
                      <a:pt x="1118" y="306"/>
                    </a:lnTo>
                    <a:lnTo>
                      <a:pt x="1109" y="306"/>
                    </a:lnTo>
                    <a:lnTo>
                      <a:pt x="1097" y="306"/>
                    </a:lnTo>
                    <a:lnTo>
                      <a:pt x="1086" y="306"/>
                    </a:lnTo>
                    <a:lnTo>
                      <a:pt x="1061" y="302"/>
                    </a:lnTo>
                    <a:lnTo>
                      <a:pt x="1044" y="297"/>
                    </a:lnTo>
                    <a:lnTo>
                      <a:pt x="1047" y="306"/>
                    </a:lnTo>
                    <a:lnTo>
                      <a:pt x="1049" y="310"/>
                    </a:lnTo>
                    <a:lnTo>
                      <a:pt x="1056" y="323"/>
                    </a:lnTo>
                    <a:lnTo>
                      <a:pt x="1063" y="336"/>
                    </a:lnTo>
                    <a:lnTo>
                      <a:pt x="1072" y="349"/>
                    </a:lnTo>
                    <a:lnTo>
                      <a:pt x="1079" y="358"/>
                    </a:lnTo>
                    <a:lnTo>
                      <a:pt x="1084" y="375"/>
                    </a:lnTo>
                    <a:lnTo>
                      <a:pt x="1088" y="388"/>
                    </a:lnTo>
                    <a:lnTo>
                      <a:pt x="1093" y="392"/>
                    </a:lnTo>
                    <a:lnTo>
                      <a:pt x="1102" y="405"/>
                    </a:lnTo>
                    <a:lnTo>
                      <a:pt x="1107" y="422"/>
                    </a:lnTo>
                    <a:lnTo>
                      <a:pt x="1114" y="440"/>
                    </a:lnTo>
                    <a:lnTo>
                      <a:pt x="1118" y="461"/>
                    </a:lnTo>
                    <a:lnTo>
                      <a:pt x="1125" y="483"/>
                    </a:lnTo>
                    <a:lnTo>
                      <a:pt x="1132" y="509"/>
                    </a:lnTo>
                    <a:lnTo>
                      <a:pt x="1137" y="530"/>
                    </a:lnTo>
                    <a:lnTo>
                      <a:pt x="1141" y="556"/>
                    </a:lnTo>
                    <a:lnTo>
                      <a:pt x="1144" y="578"/>
                    </a:lnTo>
                    <a:lnTo>
                      <a:pt x="1146" y="603"/>
                    </a:lnTo>
                    <a:lnTo>
                      <a:pt x="1146" y="625"/>
                    </a:lnTo>
                    <a:lnTo>
                      <a:pt x="1146" y="642"/>
                    </a:lnTo>
                    <a:lnTo>
                      <a:pt x="1146" y="659"/>
                    </a:lnTo>
                    <a:lnTo>
                      <a:pt x="1146" y="668"/>
                    </a:lnTo>
                    <a:lnTo>
                      <a:pt x="1144" y="672"/>
                    </a:lnTo>
                    <a:lnTo>
                      <a:pt x="1141" y="681"/>
                    </a:lnTo>
                    <a:lnTo>
                      <a:pt x="1139" y="685"/>
                    </a:lnTo>
                    <a:lnTo>
                      <a:pt x="1118" y="685"/>
                    </a:lnTo>
                    <a:lnTo>
                      <a:pt x="1097" y="685"/>
                    </a:lnTo>
                    <a:lnTo>
                      <a:pt x="1077" y="690"/>
                    </a:lnTo>
                    <a:lnTo>
                      <a:pt x="1056" y="694"/>
                    </a:lnTo>
                    <a:lnTo>
                      <a:pt x="1035" y="694"/>
                    </a:lnTo>
                    <a:lnTo>
                      <a:pt x="1017" y="698"/>
                    </a:lnTo>
                    <a:lnTo>
                      <a:pt x="1005" y="698"/>
                    </a:lnTo>
                    <a:lnTo>
                      <a:pt x="996" y="698"/>
                    </a:lnTo>
                    <a:lnTo>
                      <a:pt x="987" y="698"/>
                    </a:lnTo>
                    <a:lnTo>
                      <a:pt x="978" y="698"/>
                    </a:lnTo>
                    <a:lnTo>
                      <a:pt x="973" y="694"/>
                    </a:lnTo>
                    <a:lnTo>
                      <a:pt x="968" y="690"/>
                    </a:lnTo>
                    <a:lnTo>
                      <a:pt x="966" y="690"/>
                    </a:lnTo>
                    <a:lnTo>
                      <a:pt x="961" y="690"/>
                    </a:lnTo>
                    <a:lnTo>
                      <a:pt x="957" y="694"/>
                    </a:lnTo>
                    <a:lnTo>
                      <a:pt x="955" y="694"/>
                    </a:lnTo>
                    <a:lnTo>
                      <a:pt x="950" y="698"/>
                    </a:lnTo>
                    <a:lnTo>
                      <a:pt x="943" y="707"/>
                    </a:lnTo>
                    <a:lnTo>
                      <a:pt x="936" y="724"/>
                    </a:lnTo>
                    <a:lnTo>
                      <a:pt x="927" y="741"/>
                    </a:lnTo>
                    <a:lnTo>
                      <a:pt x="920" y="767"/>
                    </a:lnTo>
                    <a:lnTo>
                      <a:pt x="913" y="793"/>
                    </a:lnTo>
                    <a:lnTo>
                      <a:pt x="897" y="849"/>
                    </a:lnTo>
                    <a:lnTo>
                      <a:pt x="885" y="909"/>
                    </a:lnTo>
                    <a:lnTo>
                      <a:pt x="874" y="957"/>
                    </a:lnTo>
                    <a:lnTo>
                      <a:pt x="867" y="1000"/>
                    </a:lnTo>
                    <a:lnTo>
                      <a:pt x="862" y="1022"/>
                    </a:lnTo>
                    <a:lnTo>
                      <a:pt x="860" y="1043"/>
                    </a:lnTo>
                    <a:lnTo>
                      <a:pt x="860" y="1069"/>
                    </a:lnTo>
                    <a:lnTo>
                      <a:pt x="860" y="1086"/>
                    </a:lnTo>
                    <a:lnTo>
                      <a:pt x="862" y="1099"/>
                    </a:lnTo>
                    <a:lnTo>
                      <a:pt x="865" y="1108"/>
                    </a:lnTo>
                    <a:lnTo>
                      <a:pt x="867" y="1116"/>
                    </a:lnTo>
                    <a:lnTo>
                      <a:pt x="872" y="1125"/>
                    </a:lnTo>
                    <a:lnTo>
                      <a:pt x="876" y="1134"/>
                    </a:lnTo>
                    <a:lnTo>
                      <a:pt x="883" y="1142"/>
                    </a:lnTo>
                    <a:lnTo>
                      <a:pt x="890" y="1155"/>
                    </a:lnTo>
                    <a:lnTo>
                      <a:pt x="897" y="1164"/>
                    </a:lnTo>
                    <a:lnTo>
                      <a:pt x="906" y="1177"/>
                    </a:lnTo>
                    <a:lnTo>
                      <a:pt x="915" y="1190"/>
                    </a:lnTo>
                    <a:lnTo>
                      <a:pt x="925" y="1207"/>
                    </a:lnTo>
                    <a:lnTo>
                      <a:pt x="931" y="1224"/>
                    </a:lnTo>
                    <a:lnTo>
                      <a:pt x="938" y="1237"/>
                    </a:lnTo>
                    <a:lnTo>
                      <a:pt x="943" y="1254"/>
                    </a:lnTo>
                    <a:lnTo>
                      <a:pt x="943" y="1272"/>
                    </a:lnTo>
                    <a:lnTo>
                      <a:pt x="948" y="1289"/>
                    </a:lnTo>
                    <a:lnTo>
                      <a:pt x="948" y="1319"/>
                    </a:lnTo>
                    <a:lnTo>
                      <a:pt x="948" y="1349"/>
                    </a:lnTo>
                    <a:lnTo>
                      <a:pt x="945" y="1384"/>
                    </a:lnTo>
                    <a:lnTo>
                      <a:pt x="945" y="1414"/>
                    </a:lnTo>
                    <a:lnTo>
                      <a:pt x="945" y="1431"/>
                    </a:lnTo>
                    <a:lnTo>
                      <a:pt x="948" y="1448"/>
                    </a:lnTo>
                    <a:lnTo>
                      <a:pt x="950" y="1466"/>
                    </a:lnTo>
                    <a:lnTo>
                      <a:pt x="952" y="1483"/>
                    </a:lnTo>
                    <a:lnTo>
                      <a:pt x="959" y="1500"/>
                    </a:lnTo>
                    <a:lnTo>
                      <a:pt x="973" y="1522"/>
                    </a:lnTo>
                    <a:lnTo>
                      <a:pt x="987" y="1543"/>
                    </a:lnTo>
                    <a:lnTo>
                      <a:pt x="1005" y="1565"/>
                    </a:lnTo>
                    <a:lnTo>
                      <a:pt x="1014" y="1578"/>
                    </a:lnTo>
                    <a:lnTo>
                      <a:pt x="1026" y="1586"/>
                    </a:lnTo>
                    <a:lnTo>
                      <a:pt x="1038" y="1595"/>
                    </a:lnTo>
                    <a:lnTo>
                      <a:pt x="1047" y="1603"/>
                    </a:lnTo>
                    <a:lnTo>
                      <a:pt x="1056" y="1612"/>
                    </a:lnTo>
                    <a:lnTo>
                      <a:pt x="1067" y="1616"/>
                    </a:lnTo>
                    <a:lnTo>
                      <a:pt x="1077" y="1621"/>
                    </a:lnTo>
                    <a:lnTo>
                      <a:pt x="1086" y="1621"/>
                    </a:lnTo>
                    <a:lnTo>
                      <a:pt x="1086" y="1616"/>
                    </a:lnTo>
                    <a:lnTo>
                      <a:pt x="1086" y="1608"/>
                    </a:lnTo>
                    <a:lnTo>
                      <a:pt x="1086" y="1595"/>
                    </a:lnTo>
                    <a:lnTo>
                      <a:pt x="1086" y="1582"/>
                    </a:lnTo>
                    <a:lnTo>
                      <a:pt x="1084" y="1552"/>
                    </a:lnTo>
                    <a:lnTo>
                      <a:pt x="1081" y="1530"/>
                    </a:lnTo>
                    <a:lnTo>
                      <a:pt x="1088" y="1530"/>
                    </a:lnTo>
                    <a:lnTo>
                      <a:pt x="1093" y="1530"/>
                    </a:lnTo>
                    <a:lnTo>
                      <a:pt x="1102" y="1543"/>
                    </a:lnTo>
                    <a:lnTo>
                      <a:pt x="1109" y="1569"/>
                    </a:lnTo>
                    <a:lnTo>
                      <a:pt x="1116" y="1595"/>
                    </a:lnTo>
                    <a:lnTo>
                      <a:pt x="1125" y="1625"/>
                    </a:lnTo>
                    <a:lnTo>
                      <a:pt x="1127" y="1634"/>
                    </a:lnTo>
                    <a:lnTo>
                      <a:pt x="1132" y="1642"/>
                    </a:lnTo>
                    <a:lnTo>
                      <a:pt x="1137" y="1651"/>
                    </a:lnTo>
                    <a:lnTo>
                      <a:pt x="1139" y="1651"/>
                    </a:lnTo>
                    <a:lnTo>
                      <a:pt x="1141" y="1651"/>
                    </a:lnTo>
                    <a:lnTo>
                      <a:pt x="1144" y="1647"/>
                    </a:lnTo>
                    <a:lnTo>
                      <a:pt x="1146" y="1642"/>
                    </a:lnTo>
                    <a:lnTo>
                      <a:pt x="1146" y="1629"/>
                    </a:lnTo>
                    <a:lnTo>
                      <a:pt x="1146" y="1612"/>
                    </a:lnTo>
                    <a:lnTo>
                      <a:pt x="1148" y="1612"/>
                    </a:lnTo>
                    <a:lnTo>
                      <a:pt x="1150" y="1608"/>
                    </a:lnTo>
                    <a:lnTo>
                      <a:pt x="1150" y="1595"/>
                    </a:lnTo>
                    <a:lnTo>
                      <a:pt x="1153" y="1578"/>
                    </a:lnTo>
                    <a:lnTo>
                      <a:pt x="1155" y="1573"/>
                    </a:lnTo>
                    <a:lnTo>
                      <a:pt x="1157" y="1569"/>
                    </a:lnTo>
                    <a:lnTo>
                      <a:pt x="1157" y="1560"/>
                    </a:lnTo>
                    <a:lnTo>
                      <a:pt x="1160" y="1556"/>
                    </a:lnTo>
                    <a:lnTo>
                      <a:pt x="1162" y="1552"/>
                    </a:lnTo>
                    <a:lnTo>
                      <a:pt x="1162" y="1543"/>
                    </a:lnTo>
                    <a:lnTo>
                      <a:pt x="1160" y="1535"/>
                    </a:lnTo>
                    <a:lnTo>
                      <a:pt x="1162" y="1530"/>
                    </a:lnTo>
                    <a:lnTo>
                      <a:pt x="1171" y="1526"/>
                    </a:lnTo>
                    <a:lnTo>
                      <a:pt x="1174" y="1517"/>
                    </a:lnTo>
                    <a:lnTo>
                      <a:pt x="1178" y="1509"/>
                    </a:lnTo>
                    <a:lnTo>
                      <a:pt x="1183" y="1496"/>
                    </a:lnTo>
                    <a:lnTo>
                      <a:pt x="1187" y="1487"/>
                    </a:lnTo>
                    <a:lnTo>
                      <a:pt x="1192" y="1474"/>
                    </a:lnTo>
                    <a:lnTo>
                      <a:pt x="1197" y="1466"/>
                    </a:lnTo>
                    <a:lnTo>
                      <a:pt x="1199" y="1457"/>
                    </a:lnTo>
                    <a:lnTo>
                      <a:pt x="1199" y="1453"/>
                    </a:lnTo>
                    <a:lnTo>
                      <a:pt x="1197" y="1448"/>
                    </a:lnTo>
                    <a:lnTo>
                      <a:pt x="1194" y="1448"/>
                    </a:lnTo>
                    <a:lnTo>
                      <a:pt x="1194" y="1444"/>
                    </a:lnTo>
                    <a:lnTo>
                      <a:pt x="1194" y="1440"/>
                    </a:lnTo>
                    <a:lnTo>
                      <a:pt x="1199" y="1435"/>
                    </a:lnTo>
                    <a:lnTo>
                      <a:pt x="1201" y="1435"/>
                    </a:lnTo>
                    <a:lnTo>
                      <a:pt x="1204" y="1435"/>
                    </a:lnTo>
                    <a:lnTo>
                      <a:pt x="1210" y="1435"/>
                    </a:lnTo>
                    <a:lnTo>
                      <a:pt x="1222" y="1422"/>
                    </a:lnTo>
                    <a:lnTo>
                      <a:pt x="1236" y="1397"/>
                    </a:lnTo>
                    <a:lnTo>
                      <a:pt x="1240" y="1384"/>
                    </a:lnTo>
                    <a:lnTo>
                      <a:pt x="1245" y="1375"/>
                    </a:lnTo>
                    <a:lnTo>
                      <a:pt x="1250" y="1366"/>
                    </a:lnTo>
                    <a:lnTo>
                      <a:pt x="1252" y="1362"/>
                    </a:lnTo>
                    <a:lnTo>
                      <a:pt x="1252" y="1358"/>
                    </a:lnTo>
                    <a:lnTo>
                      <a:pt x="1257" y="1358"/>
                    </a:lnTo>
                    <a:lnTo>
                      <a:pt x="1259" y="1341"/>
                    </a:lnTo>
                    <a:lnTo>
                      <a:pt x="1259" y="1328"/>
                    </a:lnTo>
                    <a:lnTo>
                      <a:pt x="1263" y="1315"/>
                    </a:lnTo>
                    <a:lnTo>
                      <a:pt x="1263" y="1302"/>
                    </a:lnTo>
                    <a:lnTo>
                      <a:pt x="1268" y="1297"/>
                    </a:lnTo>
                    <a:lnTo>
                      <a:pt x="1270" y="1297"/>
                    </a:lnTo>
                    <a:lnTo>
                      <a:pt x="1270" y="1284"/>
                    </a:lnTo>
                    <a:lnTo>
                      <a:pt x="1270" y="1276"/>
                    </a:lnTo>
                    <a:lnTo>
                      <a:pt x="1266" y="1267"/>
                    </a:lnTo>
                    <a:lnTo>
                      <a:pt x="1263" y="1259"/>
                    </a:lnTo>
                    <a:lnTo>
                      <a:pt x="1259" y="1250"/>
                    </a:lnTo>
                    <a:lnTo>
                      <a:pt x="1252" y="1246"/>
                    </a:lnTo>
                    <a:lnTo>
                      <a:pt x="1247" y="1241"/>
                    </a:lnTo>
                    <a:lnTo>
                      <a:pt x="1240" y="1237"/>
                    </a:lnTo>
                    <a:lnTo>
                      <a:pt x="1227" y="1228"/>
                    </a:lnTo>
                    <a:lnTo>
                      <a:pt x="1213" y="1220"/>
                    </a:lnTo>
                    <a:lnTo>
                      <a:pt x="1204" y="1211"/>
                    </a:lnTo>
                    <a:lnTo>
                      <a:pt x="1197" y="1207"/>
                    </a:lnTo>
                    <a:lnTo>
                      <a:pt x="1192" y="1203"/>
                    </a:lnTo>
                    <a:lnTo>
                      <a:pt x="1185" y="1194"/>
                    </a:lnTo>
                    <a:lnTo>
                      <a:pt x="1178" y="1194"/>
                    </a:lnTo>
                    <a:lnTo>
                      <a:pt x="1174" y="1194"/>
                    </a:lnTo>
                    <a:lnTo>
                      <a:pt x="1174" y="1190"/>
                    </a:lnTo>
                    <a:lnTo>
                      <a:pt x="1176" y="1190"/>
                    </a:lnTo>
                    <a:lnTo>
                      <a:pt x="1164" y="1155"/>
                    </a:lnTo>
                    <a:lnTo>
                      <a:pt x="1153" y="1125"/>
                    </a:lnTo>
                    <a:lnTo>
                      <a:pt x="1144" y="1103"/>
                    </a:lnTo>
                    <a:lnTo>
                      <a:pt x="1137" y="1082"/>
                    </a:lnTo>
                    <a:lnTo>
                      <a:pt x="1137" y="1073"/>
                    </a:lnTo>
                    <a:lnTo>
                      <a:pt x="1134" y="1065"/>
                    </a:lnTo>
                    <a:lnTo>
                      <a:pt x="1134" y="1052"/>
                    </a:lnTo>
                    <a:lnTo>
                      <a:pt x="1137" y="1034"/>
                    </a:lnTo>
                    <a:lnTo>
                      <a:pt x="1141" y="1022"/>
                    </a:lnTo>
                    <a:lnTo>
                      <a:pt x="1146" y="1004"/>
                    </a:lnTo>
                    <a:lnTo>
                      <a:pt x="1153" y="987"/>
                    </a:lnTo>
                    <a:lnTo>
                      <a:pt x="1162" y="966"/>
                    </a:lnTo>
                    <a:lnTo>
                      <a:pt x="1169" y="953"/>
                    </a:lnTo>
                    <a:lnTo>
                      <a:pt x="1180" y="944"/>
                    </a:lnTo>
                    <a:lnTo>
                      <a:pt x="1187" y="935"/>
                    </a:lnTo>
                    <a:lnTo>
                      <a:pt x="1194" y="931"/>
                    </a:lnTo>
                    <a:lnTo>
                      <a:pt x="1201" y="927"/>
                    </a:lnTo>
                    <a:lnTo>
                      <a:pt x="1208" y="922"/>
                    </a:lnTo>
                    <a:lnTo>
                      <a:pt x="1215" y="922"/>
                    </a:lnTo>
                    <a:lnTo>
                      <a:pt x="1222" y="918"/>
                    </a:lnTo>
                    <a:lnTo>
                      <a:pt x="1229" y="918"/>
                    </a:lnTo>
                    <a:lnTo>
                      <a:pt x="1236" y="922"/>
                    </a:lnTo>
                    <a:lnTo>
                      <a:pt x="1243" y="927"/>
                    </a:lnTo>
                    <a:lnTo>
                      <a:pt x="1247" y="931"/>
                    </a:lnTo>
                    <a:lnTo>
                      <a:pt x="1252" y="940"/>
                    </a:lnTo>
                    <a:lnTo>
                      <a:pt x="1259" y="948"/>
                    </a:lnTo>
                    <a:lnTo>
                      <a:pt x="1263" y="953"/>
                    </a:lnTo>
                    <a:lnTo>
                      <a:pt x="1266" y="957"/>
                    </a:lnTo>
                    <a:lnTo>
                      <a:pt x="1268" y="961"/>
                    </a:lnTo>
                    <a:lnTo>
                      <a:pt x="1270" y="970"/>
                    </a:lnTo>
                    <a:lnTo>
                      <a:pt x="1275" y="974"/>
                    </a:lnTo>
                    <a:lnTo>
                      <a:pt x="1275" y="987"/>
                    </a:lnTo>
                    <a:lnTo>
                      <a:pt x="1273" y="996"/>
                    </a:lnTo>
                    <a:lnTo>
                      <a:pt x="1268" y="1004"/>
                    </a:lnTo>
                    <a:lnTo>
                      <a:pt x="1263" y="1013"/>
                    </a:lnTo>
                    <a:lnTo>
                      <a:pt x="1259" y="1022"/>
                    </a:lnTo>
                    <a:lnTo>
                      <a:pt x="1250" y="1030"/>
                    </a:lnTo>
                    <a:lnTo>
                      <a:pt x="1243" y="1034"/>
                    </a:lnTo>
                    <a:lnTo>
                      <a:pt x="1236" y="1039"/>
                    </a:lnTo>
                    <a:lnTo>
                      <a:pt x="1227" y="1043"/>
                    </a:lnTo>
                    <a:lnTo>
                      <a:pt x="1222" y="1043"/>
                    </a:lnTo>
                    <a:lnTo>
                      <a:pt x="1215" y="1043"/>
                    </a:lnTo>
                    <a:lnTo>
                      <a:pt x="1213" y="1039"/>
                    </a:lnTo>
                    <a:lnTo>
                      <a:pt x="1210" y="1034"/>
                    </a:lnTo>
                    <a:lnTo>
                      <a:pt x="1208" y="1034"/>
                    </a:lnTo>
                    <a:lnTo>
                      <a:pt x="1208" y="1030"/>
                    </a:lnTo>
                    <a:lnTo>
                      <a:pt x="1213" y="1026"/>
                    </a:lnTo>
                    <a:lnTo>
                      <a:pt x="1217" y="1026"/>
                    </a:lnTo>
                    <a:lnTo>
                      <a:pt x="1227" y="1022"/>
                    </a:lnTo>
                    <a:lnTo>
                      <a:pt x="1233" y="1022"/>
                    </a:lnTo>
                    <a:lnTo>
                      <a:pt x="1238" y="1013"/>
                    </a:lnTo>
                    <a:lnTo>
                      <a:pt x="1243" y="1009"/>
                    </a:lnTo>
                    <a:lnTo>
                      <a:pt x="1245" y="1000"/>
                    </a:lnTo>
                    <a:lnTo>
                      <a:pt x="1245" y="996"/>
                    </a:lnTo>
                    <a:lnTo>
                      <a:pt x="1247" y="987"/>
                    </a:lnTo>
                    <a:lnTo>
                      <a:pt x="1247" y="983"/>
                    </a:lnTo>
                    <a:lnTo>
                      <a:pt x="1245" y="978"/>
                    </a:lnTo>
                    <a:lnTo>
                      <a:pt x="1245" y="974"/>
                    </a:lnTo>
                    <a:lnTo>
                      <a:pt x="1243" y="974"/>
                    </a:lnTo>
                    <a:lnTo>
                      <a:pt x="1240" y="970"/>
                    </a:lnTo>
                    <a:lnTo>
                      <a:pt x="1238" y="970"/>
                    </a:lnTo>
                    <a:lnTo>
                      <a:pt x="1233" y="966"/>
                    </a:lnTo>
                    <a:lnTo>
                      <a:pt x="1224" y="966"/>
                    </a:lnTo>
                    <a:lnTo>
                      <a:pt x="1215" y="966"/>
                    </a:lnTo>
                    <a:lnTo>
                      <a:pt x="1204" y="970"/>
                    </a:lnTo>
                    <a:lnTo>
                      <a:pt x="1192" y="974"/>
                    </a:lnTo>
                    <a:lnTo>
                      <a:pt x="1183" y="983"/>
                    </a:lnTo>
                    <a:lnTo>
                      <a:pt x="1174" y="996"/>
                    </a:lnTo>
                    <a:lnTo>
                      <a:pt x="1169" y="1000"/>
                    </a:lnTo>
                    <a:lnTo>
                      <a:pt x="1164" y="1009"/>
                    </a:lnTo>
                    <a:lnTo>
                      <a:pt x="1162" y="1013"/>
                    </a:lnTo>
                    <a:lnTo>
                      <a:pt x="1160" y="1026"/>
                    </a:lnTo>
                    <a:lnTo>
                      <a:pt x="1157" y="1034"/>
                    </a:lnTo>
                    <a:lnTo>
                      <a:pt x="1155" y="1043"/>
                    </a:lnTo>
                    <a:lnTo>
                      <a:pt x="1155" y="1052"/>
                    </a:lnTo>
                    <a:lnTo>
                      <a:pt x="1155" y="1065"/>
                    </a:lnTo>
                    <a:lnTo>
                      <a:pt x="1164" y="1086"/>
                    </a:lnTo>
                    <a:lnTo>
                      <a:pt x="1176" y="1103"/>
                    </a:lnTo>
                    <a:lnTo>
                      <a:pt x="1187" y="1121"/>
                    </a:lnTo>
                    <a:lnTo>
                      <a:pt x="1201" y="1138"/>
                    </a:lnTo>
                    <a:lnTo>
                      <a:pt x="1229" y="1168"/>
                    </a:lnTo>
                    <a:lnTo>
                      <a:pt x="1254" y="1194"/>
                    </a:lnTo>
                    <a:lnTo>
                      <a:pt x="1266" y="1211"/>
                    </a:lnTo>
                    <a:lnTo>
                      <a:pt x="1275" y="1228"/>
                    </a:lnTo>
                    <a:lnTo>
                      <a:pt x="1282" y="1237"/>
                    </a:lnTo>
                    <a:lnTo>
                      <a:pt x="1284" y="1246"/>
                    </a:lnTo>
                    <a:lnTo>
                      <a:pt x="1289" y="1254"/>
                    </a:lnTo>
                    <a:lnTo>
                      <a:pt x="1291" y="1263"/>
                    </a:lnTo>
                    <a:lnTo>
                      <a:pt x="1293" y="1272"/>
                    </a:lnTo>
                    <a:lnTo>
                      <a:pt x="1293" y="1284"/>
                    </a:lnTo>
                    <a:lnTo>
                      <a:pt x="1293" y="1293"/>
                    </a:lnTo>
                    <a:lnTo>
                      <a:pt x="1293" y="1306"/>
                    </a:lnTo>
                    <a:lnTo>
                      <a:pt x="1291" y="1319"/>
                    </a:lnTo>
                    <a:lnTo>
                      <a:pt x="1289" y="1332"/>
                    </a:lnTo>
                    <a:lnTo>
                      <a:pt x="1284" y="1349"/>
                    </a:lnTo>
                    <a:lnTo>
                      <a:pt x="1280" y="1362"/>
                    </a:lnTo>
                    <a:lnTo>
                      <a:pt x="1275" y="1371"/>
                    </a:lnTo>
                    <a:lnTo>
                      <a:pt x="1268" y="1379"/>
                    </a:lnTo>
                    <a:lnTo>
                      <a:pt x="1261" y="1392"/>
                    </a:lnTo>
                    <a:lnTo>
                      <a:pt x="1254" y="1405"/>
                    </a:lnTo>
                    <a:lnTo>
                      <a:pt x="1240" y="1435"/>
                    </a:lnTo>
                    <a:lnTo>
                      <a:pt x="1229" y="1470"/>
                    </a:lnTo>
                    <a:lnTo>
                      <a:pt x="1220" y="1509"/>
                    </a:lnTo>
                    <a:lnTo>
                      <a:pt x="1213" y="1543"/>
                    </a:lnTo>
                    <a:lnTo>
                      <a:pt x="1208" y="1556"/>
                    </a:lnTo>
                    <a:lnTo>
                      <a:pt x="1208" y="1569"/>
                    </a:lnTo>
                    <a:lnTo>
                      <a:pt x="1208" y="1582"/>
                    </a:lnTo>
                    <a:lnTo>
                      <a:pt x="1210" y="1591"/>
                    </a:lnTo>
                    <a:lnTo>
                      <a:pt x="1208" y="1603"/>
                    </a:lnTo>
                    <a:lnTo>
                      <a:pt x="1206" y="1621"/>
                    </a:lnTo>
                    <a:lnTo>
                      <a:pt x="1206" y="1629"/>
                    </a:lnTo>
                    <a:lnTo>
                      <a:pt x="1206" y="1638"/>
                    </a:lnTo>
                    <a:lnTo>
                      <a:pt x="1208" y="1647"/>
                    </a:lnTo>
                    <a:lnTo>
                      <a:pt x="1210" y="1651"/>
                    </a:lnTo>
                    <a:lnTo>
                      <a:pt x="1215" y="1647"/>
                    </a:lnTo>
                    <a:lnTo>
                      <a:pt x="1220" y="1638"/>
                    </a:lnTo>
                    <a:lnTo>
                      <a:pt x="1222" y="1629"/>
                    </a:lnTo>
                    <a:lnTo>
                      <a:pt x="1227" y="1621"/>
                    </a:lnTo>
                    <a:lnTo>
                      <a:pt x="1229" y="1612"/>
                    </a:lnTo>
                    <a:lnTo>
                      <a:pt x="1236" y="1599"/>
                    </a:lnTo>
                    <a:lnTo>
                      <a:pt x="1240" y="1591"/>
                    </a:lnTo>
                    <a:lnTo>
                      <a:pt x="1247" y="1586"/>
                    </a:lnTo>
                    <a:lnTo>
                      <a:pt x="1261" y="1565"/>
                    </a:lnTo>
                    <a:lnTo>
                      <a:pt x="1275" y="1543"/>
                    </a:lnTo>
                    <a:lnTo>
                      <a:pt x="1291" y="1526"/>
                    </a:lnTo>
                    <a:lnTo>
                      <a:pt x="1307" y="1504"/>
                    </a:lnTo>
                    <a:lnTo>
                      <a:pt x="1321" y="1487"/>
                    </a:lnTo>
                    <a:lnTo>
                      <a:pt x="1335" y="1470"/>
                    </a:lnTo>
                    <a:lnTo>
                      <a:pt x="1349" y="1453"/>
                    </a:lnTo>
                    <a:lnTo>
                      <a:pt x="1360" y="1435"/>
                    </a:lnTo>
                    <a:lnTo>
                      <a:pt x="1372" y="1414"/>
                    </a:lnTo>
                    <a:lnTo>
                      <a:pt x="1381" y="1392"/>
                    </a:lnTo>
                    <a:lnTo>
                      <a:pt x="1388" y="1375"/>
                    </a:lnTo>
                    <a:lnTo>
                      <a:pt x="1393" y="1349"/>
                    </a:lnTo>
                    <a:lnTo>
                      <a:pt x="1395" y="1336"/>
                    </a:lnTo>
                    <a:lnTo>
                      <a:pt x="1395" y="1323"/>
                    </a:lnTo>
                    <a:lnTo>
                      <a:pt x="1395" y="1310"/>
                    </a:lnTo>
                    <a:lnTo>
                      <a:pt x="1395" y="1297"/>
                    </a:lnTo>
                    <a:lnTo>
                      <a:pt x="1395" y="1284"/>
                    </a:lnTo>
                    <a:lnTo>
                      <a:pt x="1393" y="1267"/>
                    </a:lnTo>
                    <a:lnTo>
                      <a:pt x="1390" y="1250"/>
                    </a:lnTo>
                    <a:lnTo>
                      <a:pt x="1386" y="1237"/>
                    </a:lnTo>
                    <a:lnTo>
                      <a:pt x="1370" y="1211"/>
                    </a:lnTo>
                    <a:lnTo>
                      <a:pt x="1351" y="1190"/>
                    </a:lnTo>
                    <a:lnTo>
                      <a:pt x="1342" y="1172"/>
                    </a:lnTo>
                    <a:lnTo>
                      <a:pt x="1333" y="1159"/>
                    </a:lnTo>
                    <a:lnTo>
                      <a:pt x="1326" y="1142"/>
                    </a:lnTo>
                    <a:lnTo>
                      <a:pt x="1319" y="1129"/>
                    </a:lnTo>
                    <a:lnTo>
                      <a:pt x="1312" y="1112"/>
                    </a:lnTo>
                    <a:lnTo>
                      <a:pt x="1307" y="1099"/>
                    </a:lnTo>
                    <a:lnTo>
                      <a:pt x="1305" y="1082"/>
                    </a:lnTo>
                    <a:lnTo>
                      <a:pt x="1305" y="1069"/>
                    </a:lnTo>
                    <a:lnTo>
                      <a:pt x="1305" y="1060"/>
                    </a:lnTo>
                    <a:lnTo>
                      <a:pt x="1307" y="1056"/>
                    </a:lnTo>
                    <a:lnTo>
                      <a:pt x="1310" y="1047"/>
                    </a:lnTo>
                    <a:lnTo>
                      <a:pt x="1312" y="1043"/>
                    </a:lnTo>
                    <a:lnTo>
                      <a:pt x="1316" y="1034"/>
                    </a:lnTo>
                    <a:lnTo>
                      <a:pt x="1321" y="1026"/>
                    </a:lnTo>
                    <a:lnTo>
                      <a:pt x="1326" y="1022"/>
                    </a:lnTo>
                    <a:lnTo>
                      <a:pt x="1333" y="1013"/>
                    </a:lnTo>
                    <a:lnTo>
                      <a:pt x="1337" y="1004"/>
                    </a:lnTo>
                    <a:lnTo>
                      <a:pt x="1344" y="991"/>
                    </a:lnTo>
                    <a:lnTo>
                      <a:pt x="1356" y="974"/>
                    </a:lnTo>
                    <a:lnTo>
                      <a:pt x="1365" y="961"/>
                    </a:lnTo>
                    <a:lnTo>
                      <a:pt x="1390" y="931"/>
                    </a:lnTo>
                    <a:lnTo>
                      <a:pt x="1406" y="909"/>
                    </a:lnTo>
                    <a:lnTo>
                      <a:pt x="1418" y="853"/>
                    </a:lnTo>
                    <a:lnTo>
                      <a:pt x="1427" y="810"/>
                    </a:lnTo>
                    <a:lnTo>
                      <a:pt x="1427" y="797"/>
                    </a:lnTo>
                    <a:lnTo>
                      <a:pt x="1427" y="789"/>
                    </a:lnTo>
                    <a:lnTo>
                      <a:pt x="1427" y="776"/>
                    </a:lnTo>
                    <a:lnTo>
                      <a:pt x="1427" y="763"/>
                    </a:lnTo>
                    <a:lnTo>
                      <a:pt x="1425" y="754"/>
                    </a:lnTo>
                    <a:lnTo>
                      <a:pt x="1423" y="741"/>
                    </a:lnTo>
                    <a:lnTo>
                      <a:pt x="1420" y="728"/>
                    </a:lnTo>
                    <a:lnTo>
                      <a:pt x="1416" y="711"/>
                    </a:lnTo>
                    <a:lnTo>
                      <a:pt x="1406" y="703"/>
                    </a:lnTo>
                    <a:lnTo>
                      <a:pt x="1399" y="694"/>
                    </a:lnTo>
                    <a:lnTo>
                      <a:pt x="1390" y="690"/>
                    </a:lnTo>
                    <a:lnTo>
                      <a:pt x="1383" y="685"/>
                    </a:lnTo>
                    <a:lnTo>
                      <a:pt x="1374" y="681"/>
                    </a:lnTo>
                    <a:lnTo>
                      <a:pt x="1367" y="677"/>
                    </a:lnTo>
                    <a:lnTo>
                      <a:pt x="1360" y="677"/>
                    </a:lnTo>
                    <a:lnTo>
                      <a:pt x="1353" y="677"/>
                    </a:lnTo>
                    <a:lnTo>
                      <a:pt x="1349" y="681"/>
                    </a:lnTo>
                    <a:lnTo>
                      <a:pt x="1340" y="681"/>
                    </a:lnTo>
                    <a:lnTo>
                      <a:pt x="1333" y="681"/>
                    </a:lnTo>
                    <a:lnTo>
                      <a:pt x="1328" y="685"/>
                    </a:lnTo>
                    <a:lnTo>
                      <a:pt x="1321" y="690"/>
                    </a:lnTo>
                    <a:lnTo>
                      <a:pt x="1316" y="694"/>
                    </a:lnTo>
                    <a:lnTo>
                      <a:pt x="1312" y="703"/>
                    </a:lnTo>
                    <a:lnTo>
                      <a:pt x="1307" y="707"/>
                    </a:lnTo>
                    <a:lnTo>
                      <a:pt x="1300" y="724"/>
                    </a:lnTo>
                    <a:lnTo>
                      <a:pt x="1293" y="737"/>
                    </a:lnTo>
                    <a:lnTo>
                      <a:pt x="1291" y="754"/>
                    </a:lnTo>
                    <a:lnTo>
                      <a:pt x="1291" y="767"/>
                    </a:lnTo>
                    <a:lnTo>
                      <a:pt x="1291" y="776"/>
                    </a:lnTo>
                    <a:lnTo>
                      <a:pt x="1291" y="784"/>
                    </a:lnTo>
                    <a:lnTo>
                      <a:pt x="1293" y="789"/>
                    </a:lnTo>
                    <a:lnTo>
                      <a:pt x="1296" y="793"/>
                    </a:lnTo>
                    <a:lnTo>
                      <a:pt x="1298" y="802"/>
                    </a:lnTo>
                    <a:lnTo>
                      <a:pt x="1303" y="806"/>
                    </a:lnTo>
                    <a:lnTo>
                      <a:pt x="1307" y="810"/>
                    </a:lnTo>
                    <a:lnTo>
                      <a:pt x="1314" y="815"/>
                    </a:lnTo>
                    <a:lnTo>
                      <a:pt x="1321" y="815"/>
                    </a:lnTo>
                    <a:lnTo>
                      <a:pt x="1328" y="810"/>
                    </a:lnTo>
                    <a:lnTo>
                      <a:pt x="1333" y="806"/>
                    </a:lnTo>
                    <a:lnTo>
                      <a:pt x="1335" y="802"/>
                    </a:lnTo>
                    <a:lnTo>
                      <a:pt x="1337" y="793"/>
                    </a:lnTo>
                    <a:lnTo>
                      <a:pt x="1337" y="789"/>
                    </a:lnTo>
                    <a:lnTo>
                      <a:pt x="1335" y="780"/>
                    </a:lnTo>
                    <a:lnTo>
                      <a:pt x="1333" y="776"/>
                    </a:lnTo>
                    <a:lnTo>
                      <a:pt x="1328" y="776"/>
                    </a:lnTo>
                    <a:lnTo>
                      <a:pt x="1326" y="776"/>
                    </a:lnTo>
                    <a:lnTo>
                      <a:pt x="1321" y="776"/>
                    </a:lnTo>
                    <a:lnTo>
                      <a:pt x="1319" y="780"/>
                    </a:lnTo>
                    <a:lnTo>
                      <a:pt x="1316" y="780"/>
                    </a:lnTo>
                    <a:lnTo>
                      <a:pt x="1314" y="780"/>
                    </a:lnTo>
                    <a:lnTo>
                      <a:pt x="1314" y="776"/>
                    </a:lnTo>
                    <a:lnTo>
                      <a:pt x="1312" y="772"/>
                    </a:lnTo>
                    <a:lnTo>
                      <a:pt x="1316" y="763"/>
                    </a:lnTo>
                    <a:lnTo>
                      <a:pt x="1321" y="763"/>
                    </a:lnTo>
                    <a:lnTo>
                      <a:pt x="1323" y="763"/>
                    </a:lnTo>
                    <a:lnTo>
                      <a:pt x="1328" y="759"/>
                    </a:lnTo>
                    <a:lnTo>
                      <a:pt x="1333" y="763"/>
                    </a:lnTo>
                    <a:lnTo>
                      <a:pt x="1337" y="763"/>
                    </a:lnTo>
                    <a:lnTo>
                      <a:pt x="1342" y="772"/>
                    </a:lnTo>
                    <a:lnTo>
                      <a:pt x="1346" y="776"/>
                    </a:lnTo>
                    <a:lnTo>
                      <a:pt x="1349" y="784"/>
                    </a:lnTo>
                    <a:lnTo>
                      <a:pt x="1351" y="793"/>
                    </a:lnTo>
                    <a:lnTo>
                      <a:pt x="1351" y="802"/>
                    </a:lnTo>
                    <a:lnTo>
                      <a:pt x="1349" y="810"/>
                    </a:lnTo>
                    <a:lnTo>
                      <a:pt x="1346" y="815"/>
                    </a:lnTo>
                    <a:lnTo>
                      <a:pt x="1340" y="819"/>
                    </a:lnTo>
                    <a:lnTo>
                      <a:pt x="1337" y="823"/>
                    </a:lnTo>
                    <a:lnTo>
                      <a:pt x="1333" y="823"/>
                    </a:lnTo>
                    <a:lnTo>
                      <a:pt x="1328" y="823"/>
                    </a:lnTo>
                    <a:lnTo>
                      <a:pt x="1323" y="828"/>
                    </a:lnTo>
                    <a:lnTo>
                      <a:pt x="1312" y="823"/>
                    </a:lnTo>
                    <a:lnTo>
                      <a:pt x="1298" y="819"/>
                    </a:lnTo>
                    <a:lnTo>
                      <a:pt x="1291" y="810"/>
                    </a:lnTo>
                    <a:lnTo>
                      <a:pt x="1284" y="797"/>
                    </a:lnTo>
                    <a:lnTo>
                      <a:pt x="1282" y="789"/>
                    </a:lnTo>
                    <a:lnTo>
                      <a:pt x="1280" y="776"/>
                    </a:lnTo>
                    <a:lnTo>
                      <a:pt x="1280" y="763"/>
                    </a:lnTo>
                    <a:lnTo>
                      <a:pt x="1280" y="754"/>
                    </a:lnTo>
                    <a:lnTo>
                      <a:pt x="1282" y="741"/>
                    </a:lnTo>
                    <a:lnTo>
                      <a:pt x="1284" y="733"/>
                    </a:lnTo>
                    <a:lnTo>
                      <a:pt x="1289" y="724"/>
                    </a:lnTo>
                    <a:lnTo>
                      <a:pt x="1293" y="716"/>
                    </a:lnTo>
                    <a:lnTo>
                      <a:pt x="1298" y="707"/>
                    </a:lnTo>
                    <a:lnTo>
                      <a:pt x="1305" y="698"/>
                    </a:lnTo>
                    <a:lnTo>
                      <a:pt x="1312" y="690"/>
                    </a:lnTo>
                    <a:lnTo>
                      <a:pt x="1321" y="685"/>
                    </a:lnTo>
                    <a:lnTo>
                      <a:pt x="1328" y="681"/>
                    </a:lnTo>
                    <a:lnTo>
                      <a:pt x="1335" y="672"/>
                    </a:lnTo>
                    <a:lnTo>
                      <a:pt x="1344" y="668"/>
                    </a:lnTo>
                    <a:lnTo>
                      <a:pt x="1353" y="668"/>
                    </a:lnTo>
                    <a:lnTo>
                      <a:pt x="1363" y="668"/>
                    </a:lnTo>
                    <a:lnTo>
                      <a:pt x="1372" y="668"/>
                    </a:lnTo>
                    <a:lnTo>
                      <a:pt x="1381" y="668"/>
                    </a:lnTo>
                    <a:lnTo>
                      <a:pt x="1390" y="677"/>
                    </a:lnTo>
                    <a:lnTo>
                      <a:pt x="1397" y="681"/>
                    </a:lnTo>
                    <a:lnTo>
                      <a:pt x="1406" y="690"/>
                    </a:lnTo>
                    <a:lnTo>
                      <a:pt x="1411" y="698"/>
                    </a:lnTo>
                    <a:lnTo>
                      <a:pt x="1418" y="707"/>
                    </a:lnTo>
                    <a:lnTo>
                      <a:pt x="1425" y="724"/>
                    </a:lnTo>
                    <a:lnTo>
                      <a:pt x="1429" y="737"/>
                    </a:lnTo>
                    <a:lnTo>
                      <a:pt x="1434" y="754"/>
                    </a:lnTo>
                    <a:lnTo>
                      <a:pt x="1439" y="776"/>
                    </a:lnTo>
                    <a:lnTo>
                      <a:pt x="1439" y="797"/>
                    </a:lnTo>
                    <a:lnTo>
                      <a:pt x="1441" y="823"/>
                    </a:lnTo>
                    <a:lnTo>
                      <a:pt x="1436" y="841"/>
                    </a:lnTo>
                    <a:lnTo>
                      <a:pt x="1434" y="858"/>
                    </a:lnTo>
                    <a:lnTo>
                      <a:pt x="1427" y="871"/>
                    </a:lnTo>
                    <a:lnTo>
                      <a:pt x="1423" y="888"/>
                    </a:lnTo>
                    <a:lnTo>
                      <a:pt x="1418" y="901"/>
                    </a:lnTo>
                    <a:lnTo>
                      <a:pt x="1411" y="914"/>
                    </a:lnTo>
                    <a:lnTo>
                      <a:pt x="1406" y="927"/>
                    </a:lnTo>
                    <a:lnTo>
                      <a:pt x="1399" y="940"/>
                    </a:lnTo>
                    <a:lnTo>
                      <a:pt x="1370" y="978"/>
                    </a:lnTo>
                    <a:lnTo>
                      <a:pt x="1342" y="1017"/>
                    </a:lnTo>
                    <a:lnTo>
                      <a:pt x="1337" y="1026"/>
                    </a:lnTo>
                    <a:lnTo>
                      <a:pt x="1333" y="1034"/>
                    </a:lnTo>
                    <a:lnTo>
                      <a:pt x="1330" y="1043"/>
                    </a:lnTo>
                    <a:lnTo>
                      <a:pt x="1326" y="1056"/>
                    </a:lnTo>
                    <a:lnTo>
                      <a:pt x="1323" y="1065"/>
                    </a:lnTo>
                    <a:lnTo>
                      <a:pt x="1321" y="1073"/>
                    </a:lnTo>
                    <a:lnTo>
                      <a:pt x="1321" y="1082"/>
                    </a:lnTo>
                    <a:lnTo>
                      <a:pt x="1321" y="1099"/>
                    </a:lnTo>
                    <a:lnTo>
                      <a:pt x="1326" y="1108"/>
                    </a:lnTo>
                    <a:lnTo>
                      <a:pt x="1328" y="1121"/>
                    </a:lnTo>
                    <a:lnTo>
                      <a:pt x="1333" y="1134"/>
                    </a:lnTo>
                    <a:lnTo>
                      <a:pt x="1340" y="1147"/>
                    </a:lnTo>
                    <a:lnTo>
                      <a:pt x="1349" y="1159"/>
                    </a:lnTo>
                    <a:lnTo>
                      <a:pt x="1358" y="1177"/>
                    </a:lnTo>
                    <a:lnTo>
                      <a:pt x="1370" y="1194"/>
                    </a:lnTo>
                    <a:lnTo>
                      <a:pt x="1383" y="1211"/>
                    </a:lnTo>
                    <a:lnTo>
                      <a:pt x="1390" y="1224"/>
                    </a:lnTo>
                    <a:lnTo>
                      <a:pt x="1395" y="1233"/>
                    </a:lnTo>
                    <a:lnTo>
                      <a:pt x="1397" y="1241"/>
                    </a:lnTo>
                    <a:lnTo>
                      <a:pt x="1402" y="1250"/>
                    </a:lnTo>
                    <a:lnTo>
                      <a:pt x="1404" y="1263"/>
                    </a:lnTo>
                    <a:lnTo>
                      <a:pt x="1406" y="1276"/>
                    </a:lnTo>
                    <a:lnTo>
                      <a:pt x="1409" y="1284"/>
                    </a:lnTo>
                    <a:lnTo>
                      <a:pt x="1409" y="1297"/>
                    </a:lnTo>
                    <a:lnTo>
                      <a:pt x="1409" y="1319"/>
                    </a:lnTo>
                    <a:lnTo>
                      <a:pt x="1406" y="1341"/>
                    </a:lnTo>
                    <a:lnTo>
                      <a:pt x="1402" y="1362"/>
                    </a:lnTo>
                    <a:lnTo>
                      <a:pt x="1393" y="1379"/>
                    </a:lnTo>
                    <a:lnTo>
                      <a:pt x="1386" y="1401"/>
                    </a:lnTo>
                    <a:lnTo>
                      <a:pt x="1374" y="1422"/>
                    </a:lnTo>
                    <a:lnTo>
                      <a:pt x="1365" y="1444"/>
                    </a:lnTo>
                    <a:lnTo>
                      <a:pt x="1353" y="1461"/>
                    </a:lnTo>
                    <a:lnTo>
                      <a:pt x="1328" y="1500"/>
                    </a:lnTo>
                    <a:lnTo>
                      <a:pt x="1303" y="1530"/>
                    </a:lnTo>
                    <a:lnTo>
                      <a:pt x="1298" y="1543"/>
                    </a:lnTo>
                    <a:lnTo>
                      <a:pt x="1291" y="1547"/>
                    </a:lnTo>
                    <a:lnTo>
                      <a:pt x="1284" y="1556"/>
                    </a:lnTo>
                    <a:lnTo>
                      <a:pt x="1277" y="1565"/>
                    </a:lnTo>
                    <a:lnTo>
                      <a:pt x="1270" y="1569"/>
                    </a:lnTo>
                    <a:lnTo>
                      <a:pt x="1266" y="1578"/>
                    </a:lnTo>
                    <a:lnTo>
                      <a:pt x="1259" y="1586"/>
                    </a:lnTo>
                    <a:lnTo>
                      <a:pt x="1254" y="1595"/>
                    </a:lnTo>
                    <a:lnTo>
                      <a:pt x="1254" y="1603"/>
                    </a:lnTo>
                    <a:lnTo>
                      <a:pt x="1252" y="1608"/>
                    </a:lnTo>
                    <a:lnTo>
                      <a:pt x="1250" y="1616"/>
                    </a:lnTo>
                    <a:lnTo>
                      <a:pt x="1247" y="1621"/>
                    </a:lnTo>
                    <a:lnTo>
                      <a:pt x="1238" y="1634"/>
                    </a:lnTo>
                    <a:lnTo>
                      <a:pt x="1229" y="1647"/>
                    </a:lnTo>
                    <a:lnTo>
                      <a:pt x="1227" y="1651"/>
                    </a:lnTo>
                    <a:lnTo>
                      <a:pt x="1222" y="1660"/>
                    </a:lnTo>
                    <a:lnTo>
                      <a:pt x="1222" y="1668"/>
                    </a:lnTo>
                    <a:lnTo>
                      <a:pt x="1220" y="1672"/>
                    </a:lnTo>
                    <a:lnTo>
                      <a:pt x="1222" y="1681"/>
                    </a:lnTo>
                    <a:lnTo>
                      <a:pt x="1222" y="1685"/>
                    </a:lnTo>
                    <a:lnTo>
                      <a:pt x="1227" y="1694"/>
                    </a:lnTo>
                    <a:lnTo>
                      <a:pt x="1236" y="1703"/>
                    </a:lnTo>
                    <a:lnTo>
                      <a:pt x="1245" y="1703"/>
                    </a:lnTo>
                    <a:lnTo>
                      <a:pt x="1250" y="1707"/>
                    </a:lnTo>
                    <a:lnTo>
                      <a:pt x="1252" y="1711"/>
                    </a:lnTo>
                    <a:lnTo>
                      <a:pt x="1259" y="1724"/>
                    </a:lnTo>
                    <a:lnTo>
                      <a:pt x="1263" y="1720"/>
                    </a:lnTo>
                    <a:lnTo>
                      <a:pt x="1270" y="1720"/>
                    </a:lnTo>
                    <a:lnTo>
                      <a:pt x="1275" y="1733"/>
                    </a:lnTo>
                    <a:lnTo>
                      <a:pt x="1280" y="1741"/>
                    </a:lnTo>
                    <a:lnTo>
                      <a:pt x="1282" y="1750"/>
                    </a:lnTo>
                    <a:lnTo>
                      <a:pt x="1280" y="1759"/>
                    </a:lnTo>
                    <a:lnTo>
                      <a:pt x="1275" y="1763"/>
                    </a:lnTo>
                    <a:lnTo>
                      <a:pt x="1280" y="1763"/>
                    </a:lnTo>
                    <a:lnTo>
                      <a:pt x="1282" y="1763"/>
                    </a:lnTo>
                    <a:lnTo>
                      <a:pt x="1284" y="1763"/>
                    </a:lnTo>
                    <a:lnTo>
                      <a:pt x="1289" y="1759"/>
                    </a:lnTo>
                    <a:lnTo>
                      <a:pt x="1293" y="1759"/>
                    </a:lnTo>
                    <a:lnTo>
                      <a:pt x="1300" y="1763"/>
                    </a:lnTo>
                    <a:lnTo>
                      <a:pt x="1300" y="1767"/>
                    </a:lnTo>
                    <a:lnTo>
                      <a:pt x="1300" y="1776"/>
                    </a:lnTo>
                    <a:lnTo>
                      <a:pt x="1298" y="1776"/>
                    </a:lnTo>
                    <a:lnTo>
                      <a:pt x="1298" y="1789"/>
                    </a:lnTo>
                    <a:lnTo>
                      <a:pt x="1296" y="1793"/>
                    </a:lnTo>
                    <a:lnTo>
                      <a:pt x="1287" y="1793"/>
                    </a:lnTo>
                    <a:lnTo>
                      <a:pt x="1280" y="1793"/>
                    </a:lnTo>
                    <a:lnTo>
                      <a:pt x="1275" y="1789"/>
                    </a:lnTo>
                    <a:lnTo>
                      <a:pt x="1268" y="1789"/>
                    </a:lnTo>
                    <a:lnTo>
                      <a:pt x="1266" y="1780"/>
                    </a:lnTo>
                    <a:lnTo>
                      <a:pt x="1263" y="1780"/>
                    </a:lnTo>
                    <a:lnTo>
                      <a:pt x="1259" y="1776"/>
                    </a:lnTo>
                    <a:lnTo>
                      <a:pt x="1257" y="1776"/>
                    </a:lnTo>
                    <a:lnTo>
                      <a:pt x="1247" y="1772"/>
                    </a:lnTo>
                    <a:lnTo>
                      <a:pt x="1240" y="1772"/>
                    </a:lnTo>
                    <a:lnTo>
                      <a:pt x="1252" y="1785"/>
                    </a:lnTo>
                    <a:lnTo>
                      <a:pt x="1268" y="1802"/>
                    </a:lnTo>
                    <a:lnTo>
                      <a:pt x="1266" y="1806"/>
                    </a:lnTo>
                    <a:lnTo>
                      <a:pt x="1259" y="1810"/>
                    </a:lnTo>
                    <a:lnTo>
                      <a:pt x="1254" y="1815"/>
                    </a:lnTo>
                    <a:lnTo>
                      <a:pt x="1250" y="1815"/>
                    </a:lnTo>
                    <a:lnTo>
                      <a:pt x="1245" y="1815"/>
                    </a:lnTo>
                    <a:lnTo>
                      <a:pt x="1236" y="1823"/>
                    </a:lnTo>
                    <a:lnTo>
                      <a:pt x="1227" y="1832"/>
                    </a:lnTo>
                    <a:lnTo>
                      <a:pt x="1227" y="1836"/>
                    </a:lnTo>
                    <a:lnTo>
                      <a:pt x="1229" y="1841"/>
                    </a:lnTo>
                    <a:lnTo>
                      <a:pt x="1233" y="1849"/>
                    </a:lnTo>
                    <a:lnTo>
                      <a:pt x="1238" y="1858"/>
                    </a:lnTo>
                    <a:lnTo>
                      <a:pt x="1247" y="1871"/>
                    </a:lnTo>
                    <a:lnTo>
                      <a:pt x="1259" y="1888"/>
                    </a:lnTo>
                    <a:lnTo>
                      <a:pt x="1263" y="1897"/>
                    </a:lnTo>
                    <a:lnTo>
                      <a:pt x="1266" y="1905"/>
                    </a:lnTo>
                    <a:lnTo>
                      <a:pt x="1268" y="1914"/>
                    </a:lnTo>
                    <a:lnTo>
                      <a:pt x="1270" y="1918"/>
                    </a:lnTo>
                    <a:lnTo>
                      <a:pt x="1273" y="1927"/>
                    </a:lnTo>
                    <a:lnTo>
                      <a:pt x="1270" y="1931"/>
                    </a:lnTo>
                    <a:lnTo>
                      <a:pt x="1268" y="1935"/>
                    </a:lnTo>
                    <a:lnTo>
                      <a:pt x="1266" y="1944"/>
                    </a:lnTo>
                    <a:lnTo>
                      <a:pt x="1245" y="1931"/>
                    </a:lnTo>
                    <a:lnTo>
                      <a:pt x="1227" y="1918"/>
                    </a:lnTo>
                    <a:lnTo>
                      <a:pt x="1222" y="1978"/>
                    </a:lnTo>
                    <a:lnTo>
                      <a:pt x="1222" y="2009"/>
                    </a:lnTo>
                    <a:lnTo>
                      <a:pt x="1220" y="2022"/>
                    </a:lnTo>
                    <a:lnTo>
                      <a:pt x="1217" y="2026"/>
                    </a:lnTo>
                    <a:lnTo>
                      <a:pt x="1213" y="2026"/>
                    </a:lnTo>
                    <a:lnTo>
                      <a:pt x="1206" y="2030"/>
                    </a:lnTo>
                    <a:lnTo>
                      <a:pt x="1199" y="2017"/>
                    </a:lnTo>
                    <a:lnTo>
                      <a:pt x="1192" y="2004"/>
                    </a:lnTo>
                    <a:lnTo>
                      <a:pt x="1185" y="1987"/>
                    </a:lnTo>
                    <a:lnTo>
                      <a:pt x="1183" y="1966"/>
                    </a:lnTo>
                    <a:lnTo>
                      <a:pt x="1176" y="1931"/>
                    </a:lnTo>
                    <a:lnTo>
                      <a:pt x="1171" y="1905"/>
                    </a:lnTo>
                    <a:lnTo>
                      <a:pt x="1169" y="1905"/>
                    </a:lnTo>
                    <a:lnTo>
                      <a:pt x="1164" y="1931"/>
                    </a:lnTo>
                    <a:lnTo>
                      <a:pt x="1157" y="1961"/>
                    </a:lnTo>
                    <a:lnTo>
                      <a:pt x="1150" y="1991"/>
                    </a:lnTo>
                    <a:lnTo>
                      <a:pt x="1144" y="2022"/>
                    </a:lnTo>
                    <a:lnTo>
                      <a:pt x="1137" y="2052"/>
                    </a:lnTo>
                    <a:lnTo>
                      <a:pt x="1132" y="2078"/>
                    </a:lnTo>
                    <a:lnTo>
                      <a:pt x="1132" y="2095"/>
                    </a:lnTo>
                    <a:lnTo>
                      <a:pt x="1130" y="2108"/>
                    </a:lnTo>
                    <a:lnTo>
                      <a:pt x="1132" y="2121"/>
                    </a:lnTo>
                    <a:lnTo>
                      <a:pt x="1132" y="2134"/>
                    </a:lnTo>
                    <a:lnTo>
                      <a:pt x="1130" y="2172"/>
                    </a:lnTo>
                    <a:lnTo>
                      <a:pt x="1127" y="2207"/>
                    </a:lnTo>
                    <a:lnTo>
                      <a:pt x="1130" y="2224"/>
                    </a:lnTo>
                    <a:lnTo>
                      <a:pt x="1132" y="2241"/>
                    </a:lnTo>
                    <a:lnTo>
                      <a:pt x="1134" y="2263"/>
                    </a:lnTo>
                    <a:lnTo>
                      <a:pt x="1139" y="2285"/>
                    </a:lnTo>
                    <a:lnTo>
                      <a:pt x="1146" y="2302"/>
                    </a:lnTo>
                    <a:lnTo>
                      <a:pt x="1150" y="2315"/>
                    </a:lnTo>
                    <a:lnTo>
                      <a:pt x="1153" y="2332"/>
                    </a:lnTo>
                    <a:lnTo>
                      <a:pt x="1153" y="2349"/>
                    </a:lnTo>
                    <a:lnTo>
                      <a:pt x="1153" y="2379"/>
                    </a:lnTo>
                    <a:lnTo>
                      <a:pt x="1153" y="2410"/>
                    </a:lnTo>
                    <a:lnTo>
                      <a:pt x="1153" y="2427"/>
                    </a:lnTo>
                    <a:lnTo>
                      <a:pt x="1153" y="2440"/>
                    </a:lnTo>
                    <a:lnTo>
                      <a:pt x="1155" y="2453"/>
                    </a:lnTo>
                    <a:lnTo>
                      <a:pt x="1160" y="2466"/>
                    </a:lnTo>
                    <a:lnTo>
                      <a:pt x="1167" y="2478"/>
                    </a:lnTo>
                    <a:lnTo>
                      <a:pt x="1174" y="2491"/>
                    </a:lnTo>
                    <a:lnTo>
                      <a:pt x="1185" y="2504"/>
                    </a:lnTo>
                    <a:lnTo>
                      <a:pt x="1199" y="2513"/>
                    </a:lnTo>
                    <a:lnTo>
                      <a:pt x="1215" y="2530"/>
                    </a:lnTo>
                    <a:lnTo>
                      <a:pt x="1229" y="2552"/>
                    </a:lnTo>
                    <a:lnTo>
                      <a:pt x="1238" y="2565"/>
                    </a:lnTo>
                    <a:lnTo>
                      <a:pt x="1245" y="2582"/>
                    </a:lnTo>
                    <a:lnTo>
                      <a:pt x="1252" y="2595"/>
                    </a:lnTo>
                    <a:lnTo>
                      <a:pt x="1252" y="2608"/>
                    </a:lnTo>
                    <a:lnTo>
                      <a:pt x="1254" y="2612"/>
                    </a:lnTo>
                    <a:lnTo>
                      <a:pt x="1252" y="2616"/>
                    </a:lnTo>
                    <a:lnTo>
                      <a:pt x="1252" y="2625"/>
                    </a:lnTo>
                    <a:lnTo>
                      <a:pt x="1252" y="2629"/>
                    </a:lnTo>
                    <a:lnTo>
                      <a:pt x="1247" y="2634"/>
                    </a:lnTo>
                    <a:lnTo>
                      <a:pt x="1245" y="2638"/>
                    </a:lnTo>
                    <a:lnTo>
                      <a:pt x="1243" y="2642"/>
                    </a:lnTo>
                    <a:lnTo>
                      <a:pt x="1238" y="2647"/>
                    </a:lnTo>
                    <a:lnTo>
                      <a:pt x="1227" y="2651"/>
                    </a:lnTo>
                    <a:lnTo>
                      <a:pt x="1215" y="2660"/>
                    </a:lnTo>
                    <a:lnTo>
                      <a:pt x="1199" y="2664"/>
                    </a:lnTo>
                    <a:lnTo>
                      <a:pt x="1180" y="2668"/>
                    </a:lnTo>
                    <a:lnTo>
                      <a:pt x="1160" y="2668"/>
                    </a:lnTo>
                    <a:lnTo>
                      <a:pt x="1137" y="2668"/>
                    </a:lnTo>
                    <a:lnTo>
                      <a:pt x="1121" y="2668"/>
                    </a:lnTo>
                    <a:lnTo>
                      <a:pt x="1107" y="2668"/>
                    </a:lnTo>
                    <a:lnTo>
                      <a:pt x="1091" y="2668"/>
                    </a:lnTo>
                    <a:lnTo>
                      <a:pt x="1077" y="2668"/>
                    </a:lnTo>
                    <a:lnTo>
                      <a:pt x="1049" y="2672"/>
                    </a:lnTo>
                    <a:lnTo>
                      <a:pt x="1019" y="2677"/>
                    </a:lnTo>
                    <a:lnTo>
                      <a:pt x="991" y="2685"/>
                    </a:lnTo>
                    <a:lnTo>
                      <a:pt x="964" y="2690"/>
                    </a:lnTo>
                    <a:lnTo>
                      <a:pt x="936" y="2694"/>
                    </a:lnTo>
                    <a:lnTo>
                      <a:pt x="906" y="2694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42120" y="4967280"/>
                <a:ext cx="939600" cy="1442880"/>
              </a:xfrm>
              <a:custGeom>
                <a:avLst/>
                <a:gdLst/>
                <a:ahLst/>
                <a:rect l="l" t="t" r="r" b="b"/>
                <a:pathLst>
                  <a:path w="592" h="909">
                    <a:moveTo>
                      <a:pt x="272" y="908"/>
                    </a:moveTo>
                    <a:lnTo>
                      <a:pt x="240" y="903"/>
                    </a:lnTo>
                    <a:lnTo>
                      <a:pt x="210" y="897"/>
                    </a:lnTo>
                    <a:lnTo>
                      <a:pt x="179" y="895"/>
                    </a:lnTo>
                    <a:lnTo>
                      <a:pt x="150" y="893"/>
                    </a:lnTo>
                    <a:lnTo>
                      <a:pt x="120" y="893"/>
                    </a:lnTo>
                    <a:lnTo>
                      <a:pt x="90" y="893"/>
                    </a:lnTo>
                    <a:lnTo>
                      <a:pt x="60" y="895"/>
                    </a:lnTo>
                    <a:lnTo>
                      <a:pt x="28" y="895"/>
                    </a:lnTo>
                    <a:lnTo>
                      <a:pt x="19" y="893"/>
                    </a:lnTo>
                    <a:lnTo>
                      <a:pt x="13" y="890"/>
                    </a:lnTo>
                    <a:lnTo>
                      <a:pt x="6" y="888"/>
                    </a:lnTo>
                    <a:lnTo>
                      <a:pt x="0" y="885"/>
                    </a:lnTo>
                    <a:lnTo>
                      <a:pt x="0" y="883"/>
                    </a:lnTo>
                    <a:lnTo>
                      <a:pt x="0" y="879"/>
                    </a:lnTo>
                    <a:lnTo>
                      <a:pt x="5" y="874"/>
                    </a:lnTo>
                    <a:lnTo>
                      <a:pt x="13" y="870"/>
                    </a:lnTo>
                    <a:lnTo>
                      <a:pt x="25" y="866"/>
                    </a:lnTo>
                    <a:lnTo>
                      <a:pt x="37" y="862"/>
                    </a:lnTo>
                    <a:lnTo>
                      <a:pt x="68" y="856"/>
                    </a:lnTo>
                    <a:lnTo>
                      <a:pt x="102" y="853"/>
                    </a:lnTo>
                    <a:lnTo>
                      <a:pt x="137" y="850"/>
                    </a:lnTo>
                    <a:lnTo>
                      <a:pt x="170" y="850"/>
                    </a:lnTo>
                    <a:lnTo>
                      <a:pt x="200" y="850"/>
                    </a:lnTo>
                    <a:lnTo>
                      <a:pt x="220" y="853"/>
                    </a:lnTo>
                    <a:lnTo>
                      <a:pt x="235" y="859"/>
                    </a:lnTo>
                    <a:lnTo>
                      <a:pt x="250" y="867"/>
                    </a:lnTo>
                    <a:lnTo>
                      <a:pt x="257" y="870"/>
                    </a:lnTo>
                    <a:lnTo>
                      <a:pt x="267" y="873"/>
                    </a:lnTo>
                    <a:lnTo>
                      <a:pt x="275" y="874"/>
                    </a:lnTo>
                    <a:lnTo>
                      <a:pt x="284" y="876"/>
                    </a:lnTo>
                    <a:lnTo>
                      <a:pt x="285" y="873"/>
                    </a:lnTo>
                    <a:lnTo>
                      <a:pt x="284" y="870"/>
                    </a:lnTo>
                    <a:lnTo>
                      <a:pt x="290" y="870"/>
                    </a:lnTo>
                    <a:lnTo>
                      <a:pt x="295" y="870"/>
                    </a:lnTo>
                    <a:lnTo>
                      <a:pt x="294" y="863"/>
                    </a:lnTo>
                    <a:lnTo>
                      <a:pt x="292" y="856"/>
                    </a:lnTo>
                    <a:lnTo>
                      <a:pt x="287" y="850"/>
                    </a:lnTo>
                    <a:lnTo>
                      <a:pt x="282" y="845"/>
                    </a:lnTo>
                    <a:lnTo>
                      <a:pt x="269" y="833"/>
                    </a:lnTo>
                    <a:lnTo>
                      <a:pt x="260" y="827"/>
                    </a:lnTo>
                    <a:lnTo>
                      <a:pt x="260" y="824"/>
                    </a:lnTo>
                    <a:lnTo>
                      <a:pt x="260" y="822"/>
                    </a:lnTo>
                    <a:lnTo>
                      <a:pt x="277" y="815"/>
                    </a:lnTo>
                    <a:lnTo>
                      <a:pt x="300" y="808"/>
                    </a:lnTo>
                    <a:lnTo>
                      <a:pt x="311" y="805"/>
                    </a:lnTo>
                    <a:lnTo>
                      <a:pt x="322" y="804"/>
                    </a:lnTo>
                    <a:lnTo>
                      <a:pt x="334" y="802"/>
                    </a:lnTo>
                    <a:lnTo>
                      <a:pt x="342" y="802"/>
                    </a:lnTo>
                    <a:lnTo>
                      <a:pt x="347" y="812"/>
                    </a:lnTo>
                    <a:lnTo>
                      <a:pt x="354" y="822"/>
                    </a:lnTo>
                    <a:lnTo>
                      <a:pt x="360" y="832"/>
                    </a:lnTo>
                    <a:lnTo>
                      <a:pt x="367" y="843"/>
                    </a:lnTo>
                    <a:lnTo>
                      <a:pt x="369" y="843"/>
                    </a:lnTo>
                    <a:lnTo>
                      <a:pt x="373" y="842"/>
                    </a:lnTo>
                    <a:lnTo>
                      <a:pt x="373" y="839"/>
                    </a:lnTo>
                    <a:lnTo>
                      <a:pt x="374" y="836"/>
                    </a:lnTo>
                    <a:lnTo>
                      <a:pt x="368" y="828"/>
                    </a:lnTo>
                    <a:lnTo>
                      <a:pt x="362" y="817"/>
                    </a:lnTo>
                    <a:lnTo>
                      <a:pt x="357" y="806"/>
                    </a:lnTo>
                    <a:lnTo>
                      <a:pt x="355" y="800"/>
                    </a:lnTo>
                    <a:lnTo>
                      <a:pt x="363" y="805"/>
                    </a:lnTo>
                    <a:lnTo>
                      <a:pt x="372" y="812"/>
                    </a:lnTo>
                    <a:lnTo>
                      <a:pt x="377" y="813"/>
                    </a:lnTo>
                    <a:lnTo>
                      <a:pt x="381" y="813"/>
                    </a:lnTo>
                    <a:lnTo>
                      <a:pt x="382" y="812"/>
                    </a:lnTo>
                    <a:lnTo>
                      <a:pt x="383" y="811"/>
                    </a:lnTo>
                    <a:lnTo>
                      <a:pt x="384" y="808"/>
                    </a:lnTo>
                    <a:lnTo>
                      <a:pt x="386" y="804"/>
                    </a:lnTo>
                    <a:lnTo>
                      <a:pt x="376" y="801"/>
                    </a:lnTo>
                    <a:lnTo>
                      <a:pt x="367" y="797"/>
                    </a:lnTo>
                    <a:lnTo>
                      <a:pt x="359" y="792"/>
                    </a:lnTo>
                    <a:lnTo>
                      <a:pt x="352" y="786"/>
                    </a:lnTo>
                    <a:lnTo>
                      <a:pt x="352" y="782"/>
                    </a:lnTo>
                    <a:lnTo>
                      <a:pt x="352" y="778"/>
                    </a:lnTo>
                    <a:lnTo>
                      <a:pt x="369" y="763"/>
                    </a:lnTo>
                    <a:lnTo>
                      <a:pt x="381" y="756"/>
                    </a:lnTo>
                    <a:lnTo>
                      <a:pt x="384" y="755"/>
                    </a:lnTo>
                    <a:lnTo>
                      <a:pt x="387" y="755"/>
                    </a:lnTo>
                    <a:lnTo>
                      <a:pt x="391" y="756"/>
                    </a:lnTo>
                    <a:lnTo>
                      <a:pt x="394" y="758"/>
                    </a:lnTo>
                    <a:lnTo>
                      <a:pt x="399" y="763"/>
                    </a:lnTo>
                    <a:lnTo>
                      <a:pt x="405" y="770"/>
                    </a:lnTo>
                    <a:lnTo>
                      <a:pt x="410" y="774"/>
                    </a:lnTo>
                    <a:lnTo>
                      <a:pt x="416" y="777"/>
                    </a:lnTo>
                    <a:lnTo>
                      <a:pt x="425" y="779"/>
                    </a:lnTo>
                    <a:lnTo>
                      <a:pt x="434" y="781"/>
                    </a:lnTo>
                    <a:lnTo>
                      <a:pt x="434" y="778"/>
                    </a:lnTo>
                    <a:lnTo>
                      <a:pt x="434" y="774"/>
                    </a:lnTo>
                    <a:lnTo>
                      <a:pt x="424" y="768"/>
                    </a:lnTo>
                    <a:lnTo>
                      <a:pt x="414" y="762"/>
                    </a:lnTo>
                    <a:lnTo>
                      <a:pt x="404" y="755"/>
                    </a:lnTo>
                    <a:lnTo>
                      <a:pt x="394" y="748"/>
                    </a:lnTo>
                    <a:lnTo>
                      <a:pt x="396" y="728"/>
                    </a:lnTo>
                    <a:lnTo>
                      <a:pt x="402" y="708"/>
                    </a:lnTo>
                    <a:lnTo>
                      <a:pt x="405" y="697"/>
                    </a:lnTo>
                    <a:lnTo>
                      <a:pt x="406" y="686"/>
                    </a:lnTo>
                    <a:lnTo>
                      <a:pt x="405" y="675"/>
                    </a:lnTo>
                    <a:lnTo>
                      <a:pt x="401" y="664"/>
                    </a:lnTo>
                    <a:lnTo>
                      <a:pt x="394" y="656"/>
                    </a:lnTo>
                    <a:lnTo>
                      <a:pt x="388" y="647"/>
                    </a:lnTo>
                    <a:lnTo>
                      <a:pt x="383" y="641"/>
                    </a:lnTo>
                    <a:lnTo>
                      <a:pt x="381" y="634"/>
                    </a:lnTo>
                    <a:lnTo>
                      <a:pt x="377" y="618"/>
                    </a:lnTo>
                    <a:lnTo>
                      <a:pt x="374" y="599"/>
                    </a:lnTo>
                    <a:lnTo>
                      <a:pt x="388" y="603"/>
                    </a:lnTo>
                    <a:lnTo>
                      <a:pt x="412" y="608"/>
                    </a:lnTo>
                    <a:lnTo>
                      <a:pt x="424" y="610"/>
                    </a:lnTo>
                    <a:lnTo>
                      <a:pt x="430" y="608"/>
                    </a:lnTo>
                    <a:lnTo>
                      <a:pt x="432" y="607"/>
                    </a:lnTo>
                    <a:lnTo>
                      <a:pt x="432" y="604"/>
                    </a:lnTo>
                    <a:lnTo>
                      <a:pt x="430" y="600"/>
                    </a:lnTo>
                    <a:lnTo>
                      <a:pt x="425" y="597"/>
                    </a:lnTo>
                    <a:lnTo>
                      <a:pt x="412" y="597"/>
                    </a:lnTo>
                    <a:lnTo>
                      <a:pt x="402" y="597"/>
                    </a:lnTo>
                    <a:lnTo>
                      <a:pt x="394" y="595"/>
                    </a:lnTo>
                    <a:lnTo>
                      <a:pt x="387" y="591"/>
                    </a:lnTo>
                    <a:lnTo>
                      <a:pt x="382" y="584"/>
                    </a:lnTo>
                    <a:lnTo>
                      <a:pt x="378" y="576"/>
                    </a:lnTo>
                    <a:lnTo>
                      <a:pt x="373" y="568"/>
                    </a:lnTo>
                    <a:lnTo>
                      <a:pt x="369" y="557"/>
                    </a:lnTo>
                    <a:lnTo>
                      <a:pt x="387" y="563"/>
                    </a:lnTo>
                    <a:lnTo>
                      <a:pt x="406" y="568"/>
                    </a:lnTo>
                    <a:lnTo>
                      <a:pt x="415" y="570"/>
                    </a:lnTo>
                    <a:lnTo>
                      <a:pt x="425" y="572"/>
                    </a:lnTo>
                    <a:lnTo>
                      <a:pt x="435" y="573"/>
                    </a:lnTo>
                    <a:lnTo>
                      <a:pt x="445" y="573"/>
                    </a:lnTo>
                    <a:lnTo>
                      <a:pt x="442" y="567"/>
                    </a:lnTo>
                    <a:lnTo>
                      <a:pt x="436" y="561"/>
                    </a:lnTo>
                    <a:lnTo>
                      <a:pt x="429" y="556"/>
                    </a:lnTo>
                    <a:lnTo>
                      <a:pt x="421" y="552"/>
                    </a:lnTo>
                    <a:lnTo>
                      <a:pt x="402" y="543"/>
                    </a:lnTo>
                    <a:lnTo>
                      <a:pt x="382" y="534"/>
                    </a:lnTo>
                    <a:lnTo>
                      <a:pt x="372" y="529"/>
                    </a:lnTo>
                    <a:lnTo>
                      <a:pt x="363" y="523"/>
                    </a:lnTo>
                    <a:lnTo>
                      <a:pt x="355" y="516"/>
                    </a:lnTo>
                    <a:lnTo>
                      <a:pt x="347" y="509"/>
                    </a:lnTo>
                    <a:lnTo>
                      <a:pt x="342" y="500"/>
                    </a:lnTo>
                    <a:lnTo>
                      <a:pt x="340" y="490"/>
                    </a:lnTo>
                    <a:lnTo>
                      <a:pt x="339" y="484"/>
                    </a:lnTo>
                    <a:lnTo>
                      <a:pt x="339" y="479"/>
                    </a:lnTo>
                    <a:lnTo>
                      <a:pt x="340" y="472"/>
                    </a:lnTo>
                    <a:lnTo>
                      <a:pt x="342" y="465"/>
                    </a:lnTo>
                    <a:lnTo>
                      <a:pt x="347" y="463"/>
                    </a:lnTo>
                    <a:lnTo>
                      <a:pt x="349" y="461"/>
                    </a:lnTo>
                    <a:lnTo>
                      <a:pt x="352" y="456"/>
                    </a:lnTo>
                    <a:lnTo>
                      <a:pt x="354" y="454"/>
                    </a:lnTo>
                    <a:lnTo>
                      <a:pt x="355" y="446"/>
                    </a:lnTo>
                    <a:lnTo>
                      <a:pt x="354" y="436"/>
                    </a:lnTo>
                    <a:lnTo>
                      <a:pt x="364" y="427"/>
                    </a:lnTo>
                    <a:lnTo>
                      <a:pt x="372" y="417"/>
                    </a:lnTo>
                    <a:lnTo>
                      <a:pt x="379" y="408"/>
                    </a:lnTo>
                    <a:lnTo>
                      <a:pt x="386" y="399"/>
                    </a:lnTo>
                    <a:lnTo>
                      <a:pt x="391" y="388"/>
                    </a:lnTo>
                    <a:lnTo>
                      <a:pt x="394" y="377"/>
                    </a:lnTo>
                    <a:lnTo>
                      <a:pt x="399" y="366"/>
                    </a:lnTo>
                    <a:lnTo>
                      <a:pt x="401" y="355"/>
                    </a:lnTo>
                    <a:lnTo>
                      <a:pt x="405" y="332"/>
                    </a:lnTo>
                    <a:lnTo>
                      <a:pt x="405" y="308"/>
                    </a:lnTo>
                    <a:lnTo>
                      <a:pt x="404" y="284"/>
                    </a:lnTo>
                    <a:lnTo>
                      <a:pt x="401" y="260"/>
                    </a:lnTo>
                    <a:lnTo>
                      <a:pt x="392" y="211"/>
                    </a:lnTo>
                    <a:lnTo>
                      <a:pt x="383" y="163"/>
                    </a:lnTo>
                    <a:lnTo>
                      <a:pt x="379" y="140"/>
                    </a:lnTo>
                    <a:lnTo>
                      <a:pt x="376" y="116"/>
                    </a:lnTo>
                    <a:lnTo>
                      <a:pt x="376" y="93"/>
                    </a:lnTo>
                    <a:lnTo>
                      <a:pt x="376" y="73"/>
                    </a:lnTo>
                    <a:lnTo>
                      <a:pt x="387" y="47"/>
                    </a:lnTo>
                    <a:lnTo>
                      <a:pt x="394" y="31"/>
                    </a:lnTo>
                    <a:lnTo>
                      <a:pt x="401" y="17"/>
                    </a:lnTo>
                    <a:lnTo>
                      <a:pt x="410" y="0"/>
                    </a:lnTo>
                    <a:lnTo>
                      <a:pt x="416" y="1"/>
                    </a:lnTo>
                    <a:lnTo>
                      <a:pt x="422" y="4"/>
                    </a:lnTo>
                    <a:lnTo>
                      <a:pt x="429" y="8"/>
                    </a:lnTo>
                    <a:lnTo>
                      <a:pt x="436" y="12"/>
                    </a:lnTo>
                    <a:lnTo>
                      <a:pt x="452" y="22"/>
                    </a:lnTo>
                    <a:lnTo>
                      <a:pt x="467" y="31"/>
                    </a:lnTo>
                    <a:lnTo>
                      <a:pt x="467" y="34"/>
                    </a:lnTo>
                    <a:lnTo>
                      <a:pt x="467" y="38"/>
                    </a:lnTo>
                    <a:lnTo>
                      <a:pt x="443" y="51"/>
                    </a:lnTo>
                    <a:lnTo>
                      <a:pt x="417" y="62"/>
                    </a:lnTo>
                    <a:lnTo>
                      <a:pt x="412" y="65"/>
                    </a:lnTo>
                    <a:lnTo>
                      <a:pt x="410" y="68"/>
                    </a:lnTo>
                    <a:lnTo>
                      <a:pt x="410" y="70"/>
                    </a:lnTo>
                    <a:lnTo>
                      <a:pt x="411" y="73"/>
                    </a:lnTo>
                    <a:lnTo>
                      <a:pt x="415" y="76"/>
                    </a:lnTo>
                    <a:lnTo>
                      <a:pt x="421" y="77"/>
                    </a:lnTo>
                    <a:lnTo>
                      <a:pt x="431" y="79"/>
                    </a:lnTo>
                    <a:lnTo>
                      <a:pt x="445" y="81"/>
                    </a:lnTo>
                    <a:lnTo>
                      <a:pt x="444" y="90"/>
                    </a:lnTo>
                    <a:lnTo>
                      <a:pt x="443" y="97"/>
                    </a:lnTo>
                    <a:lnTo>
                      <a:pt x="442" y="103"/>
                    </a:lnTo>
                    <a:lnTo>
                      <a:pt x="443" y="106"/>
                    </a:lnTo>
                    <a:lnTo>
                      <a:pt x="445" y="108"/>
                    </a:lnTo>
                    <a:lnTo>
                      <a:pt x="450" y="108"/>
                    </a:lnTo>
                    <a:lnTo>
                      <a:pt x="458" y="109"/>
                    </a:lnTo>
                    <a:lnTo>
                      <a:pt x="469" y="109"/>
                    </a:lnTo>
                    <a:lnTo>
                      <a:pt x="469" y="119"/>
                    </a:lnTo>
                    <a:lnTo>
                      <a:pt x="469" y="129"/>
                    </a:lnTo>
                    <a:lnTo>
                      <a:pt x="469" y="136"/>
                    </a:lnTo>
                    <a:lnTo>
                      <a:pt x="471" y="141"/>
                    </a:lnTo>
                    <a:lnTo>
                      <a:pt x="474" y="145"/>
                    </a:lnTo>
                    <a:lnTo>
                      <a:pt x="481" y="147"/>
                    </a:lnTo>
                    <a:lnTo>
                      <a:pt x="479" y="172"/>
                    </a:lnTo>
                    <a:lnTo>
                      <a:pt x="479" y="199"/>
                    </a:lnTo>
                    <a:lnTo>
                      <a:pt x="479" y="211"/>
                    </a:lnTo>
                    <a:lnTo>
                      <a:pt x="479" y="225"/>
                    </a:lnTo>
                    <a:lnTo>
                      <a:pt x="481" y="238"/>
                    </a:lnTo>
                    <a:lnTo>
                      <a:pt x="482" y="251"/>
                    </a:lnTo>
                    <a:lnTo>
                      <a:pt x="479" y="290"/>
                    </a:lnTo>
                    <a:lnTo>
                      <a:pt x="473" y="327"/>
                    </a:lnTo>
                    <a:lnTo>
                      <a:pt x="468" y="362"/>
                    </a:lnTo>
                    <a:lnTo>
                      <a:pt x="464" y="397"/>
                    </a:lnTo>
                    <a:lnTo>
                      <a:pt x="463" y="415"/>
                    </a:lnTo>
                    <a:lnTo>
                      <a:pt x="463" y="432"/>
                    </a:lnTo>
                    <a:lnTo>
                      <a:pt x="464" y="450"/>
                    </a:lnTo>
                    <a:lnTo>
                      <a:pt x="466" y="467"/>
                    </a:lnTo>
                    <a:lnTo>
                      <a:pt x="468" y="486"/>
                    </a:lnTo>
                    <a:lnTo>
                      <a:pt x="472" y="506"/>
                    </a:lnTo>
                    <a:lnTo>
                      <a:pt x="479" y="524"/>
                    </a:lnTo>
                    <a:lnTo>
                      <a:pt x="486" y="545"/>
                    </a:lnTo>
                    <a:lnTo>
                      <a:pt x="489" y="565"/>
                    </a:lnTo>
                    <a:lnTo>
                      <a:pt x="489" y="584"/>
                    </a:lnTo>
                    <a:lnTo>
                      <a:pt x="489" y="600"/>
                    </a:lnTo>
                    <a:lnTo>
                      <a:pt x="489" y="615"/>
                    </a:lnTo>
                    <a:lnTo>
                      <a:pt x="489" y="644"/>
                    </a:lnTo>
                    <a:lnTo>
                      <a:pt x="489" y="668"/>
                    </a:lnTo>
                    <a:lnTo>
                      <a:pt x="489" y="679"/>
                    </a:lnTo>
                    <a:lnTo>
                      <a:pt x="491" y="691"/>
                    </a:lnTo>
                    <a:lnTo>
                      <a:pt x="494" y="702"/>
                    </a:lnTo>
                    <a:lnTo>
                      <a:pt x="499" y="715"/>
                    </a:lnTo>
                    <a:lnTo>
                      <a:pt x="507" y="728"/>
                    </a:lnTo>
                    <a:lnTo>
                      <a:pt x="517" y="742"/>
                    </a:lnTo>
                    <a:lnTo>
                      <a:pt x="530" y="756"/>
                    </a:lnTo>
                    <a:lnTo>
                      <a:pt x="546" y="772"/>
                    </a:lnTo>
                    <a:lnTo>
                      <a:pt x="559" y="785"/>
                    </a:lnTo>
                    <a:lnTo>
                      <a:pt x="571" y="795"/>
                    </a:lnTo>
                    <a:lnTo>
                      <a:pt x="578" y="806"/>
                    </a:lnTo>
                    <a:lnTo>
                      <a:pt x="585" y="817"/>
                    </a:lnTo>
                    <a:lnTo>
                      <a:pt x="589" y="827"/>
                    </a:lnTo>
                    <a:lnTo>
                      <a:pt x="591" y="836"/>
                    </a:lnTo>
                    <a:lnTo>
                      <a:pt x="590" y="845"/>
                    </a:lnTo>
                    <a:lnTo>
                      <a:pt x="587" y="853"/>
                    </a:lnTo>
                    <a:lnTo>
                      <a:pt x="584" y="859"/>
                    </a:lnTo>
                    <a:lnTo>
                      <a:pt x="577" y="865"/>
                    </a:lnTo>
                    <a:lnTo>
                      <a:pt x="568" y="870"/>
                    </a:lnTo>
                    <a:lnTo>
                      <a:pt x="558" y="874"/>
                    </a:lnTo>
                    <a:lnTo>
                      <a:pt x="547" y="879"/>
                    </a:lnTo>
                    <a:lnTo>
                      <a:pt x="534" y="881"/>
                    </a:lnTo>
                    <a:lnTo>
                      <a:pt x="520" y="884"/>
                    </a:lnTo>
                    <a:lnTo>
                      <a:pt x="504" y="884"/>
                    </a:lnTo>
                    <a:lnTo>
                      <a:pt x="473" y="883"/>
                    </a:lnTo>
                    <a:lnTo>
                      <a:pt x="443" y="883"/>
                    </a:lnTo>
                    <a:lnTo>
                      <a:pt x="414" y="885"/>
                    </a:lnTo>
                    <a:lnTo>
                      <a:pt x="386" y="890"/>
                    </a:lnTo>
                    <a:lnTo>
                      <a:pt x="357" y="893"/>
                    </a:lnTo>
                    <a:lnTo>
                      <a:pt x="330" y="899"/>
                    </a:lnTo>
                    <a:lnTo>
                      <a:pt x="302" y="904"/>
                    </a:lnTo>
                    <a:lnTo>
                      <a:pt x="272" y="908"/>
                    </a:lnTo>
                  </a:path>
                </a:pathLst>
              </a:custGeom>
              <a:solidFill>
                <a:srgbClr val="916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43480" y="5699160"/>
                <a:ext cx="687600" cy="638280"/>
              </a:xfrm>
              <a:custGeom>
                <a:avLst/>
                <a:gdLst/>
                <a:ahLst/>
                <a:rect l="l" t="t" r="r" b="b"/>
                <a:pathLst>
                  <a:path w="433" h="402">
                    <a:moveTo>
                      <a:pt x="15" y="401"/>
                    </a:moveTo>
                    <a:lnTo>
                      <a:pt x="8" y="399"/>
                    </a:lnTo>
                    <a:lnTo>
                      <a:pt x="3" y="395"/>
                    </a:lnTo>
                    <a:lnTo>
                      <a:pt x="1" y="390"/>
                    </a:lnTo>
                    <a:lnTo>
                      <a:pt x="0" y="384"/>
                    </a:lnTo>
                    <a:lnTo>
                      <a:pt x="13" y="377"/>
                    </a:lnTo>
                    <a:lnTo>
                      <a:pt x="25" y="372"/>
                    </a:lnTo>
                    <a:lnTo>
                      <a:pt x="38" y="366"/>
                    </a:lnTo>
                    <a:lnTo>
                      <a:pt x="53" y="363"/>
                    </a:lnTo>
                    <a:lnTo>
                      <a:pt x="83" y="356"/>
                    </a:lnTo>
                    <a:lnTo>
                      <a:pt x="114" y="351"/>
                    </a:lnTo>
                    <a:lnTo>
                      <a:pt x="145" y="345"/>
                    </a:lnTo>
                    <a:lnTo>
                      <a:pt x="176" y="338"/>
                    </a:lnTo>
                    <a:lnTo>
                      <a:pt x="192" y="332"/>
                    </a:lnTo>
                    <a:lnTo>
                      <a:pt x="205" y="325"/>
                    </a:lnTo>
                    <a:lnTo>
                      <a:pt x="219" y="317"/>
                    </a:lnTo>
                    <a:lnTo>
                      <a:pt x="232" y="308"/>
                    </a:lnTo>
                    <a:lnTo>
                      <a:pt x="250" y="305"/>
                    </a:lnTo>
                    <a:lnTo>
                      <a:pt x="269" y="302"/>
                    </a:lnTo>
                    <a:lnTo>
                      <a:pt x="277" y="299"/>
                    </a:lnTo>
                    <a:lnTo>
                      <a:pt x="285" y="297"/>
                    </a:lnTo>
                    <a:lnTo>
                      <a:pt x="289" y="294"/>
                    </a:lnTo>
                    <a:lnTo>
                      <a:pt x="292" y="291"/>
                    </a:lnTo>
                    <a:lnTo>
                      <a:pt x="294" y="288"/>
                    </a:lnTo>
                    <a:lnTo>
                      <a:pt x="295" y="285"/>
                    </a:lnTo>
                    <a:lnTo>
                      <a:pt x="303" y="290"/>
                    </a:lnTo>
                    <a:lnTo>
                      <a:pt x="312" y="298"/>
                    </a:lnTo>
                    <a:lnTo>
                      <a:pt x="317" y="302"/>
                    </a:lnTo>
                    <a:lnTo>
                      <a:pt x="323" y="306"/>
                    </a:lnTo>
                    <a:lnTo>
                      <a:pt x="330" y="308"/>
                    </a:lnTo>
                    <a:lnTo>
                      <a:pt x="336" y="308"/>
                    </a:lnTo>
                    <a:lnTo>
                      <a:pt x="336" y="302"/>
                    </a:lnTo>
                    <a:lnTo>
                      <a:pt x="337" y="298"/>
                    </a:lnTo>
                    <a:lnTo>
                      <a:pt x="332" y="297"/>
                    </a:lnTo>
                    <a:lnTo>
                      <a:pt x="327" y="295"/>
                    </a:lnTo>
                    <a:lnTo>
                      <a:pt x="322" y="291"/>
                    </a:lnTo>
                    <a:lnTo>
                      <a:pt x="318" y="288"/>
                    </a:lnTo>
                    <a:lnTo>
                      <a:pt x="309" y="279"/>
                    </a:lnTo>
                    <a:lnTo>
                      <a:pt x="303" y="272"/>
                    </a:lnTo>
                    <a:lnTo>
                      <a:pt x="303" y="268"/>
                    </a:lnTo>
                    <a:lnTo>
                      <a:pt x="304" y="266"/>
                    </a:lnTo>
                    <a:lnTo>
                      <a:pt x="305" y="265"/>
                    </a:lnTo>
                    <a:lnTo>
                      <a:pt x="308" y="263"/>
                    </a:lnTo>
                    <a:lnTo>
                      <a:pt x="313" y="265"/>
                    </a:lnTo>
                    <a:lnTo>
                      <a:pt x="319" y="266"/>
                    </a:lnTo>
                    <a:lnTo>
                      <a:pt x="327" y="270"/>
                    </a:lnTo>
                    <a:lnTo>
                      <a:pt x="336" y="272"/>
                    </a:lnTo>
                    <a:lnTo>
                      <a:pt x="343" y="275"/>
                    </a:lnTo>
                    <a:lnTo>
                      <a:pt x="351" y="275"/>
                    </a:lnTo>
                    <a:lnTo>
                      <a:pt x="350" y="271"/>
                    </a:lnTo>
                    <a:lnTo>
                      <a:pt x="346" y="267"/>
                    </a:lnTo>
                    <a:lnTo>
                      <a:pt x="342" y="263"/>
                    </a:lnTo>
                    <a:lnTo>
                      <a:pt x="337" y="260"/>
                    </a:lnTo>
                    <a:lnTo>
                      <a:pt x="327" y="256"/>
                    </a:lnTo>
                    <a:lnTo>
                      <a:pt x="318" y="254"/>
                    </a:lnTo>
                    <a:lnTo>
                      <a:pt x="319" y="251"/>
                    </a:lnTo>
                    <a:lnTo>
                      <a:pt x="320" y="247"/>
                    </a:lnTo>
                    <a:lnTo>
                      <a:pt x="325" y="240"/>
                    </a:lnTo>
                    <a:lnTo>
                      <a:pt x="330" y="233"/>
                    </a:lnTo>
                    <a:lnTo>
                      <a:pt x="332" y="226"/>
                    </a:lnTo>
                    <a:lnTo>
                      <a:pt x="333" y="221"/>
                    </a:lnTo>
                    <a:lnTo>
                      <a:pt x="335" y="209"/>
                    </a:lnTo>
                    <a:lnTo>
                      <a:pt x="333" y="197"/>
                    </a:lnTo>
                    <a:lnTo>
                      <a:pt x="330" y="184"/>
                    </a:lnTo>
                    <a:lnTo>
                      <a:pt x="328" y="172"/>
                    </a:lnTo>
                    <a:lnTo>
                      <a:pt x="327" y="161"/>
                    </a:lnTo>
                    <a:lnTo>
                      <a:pt x="327" y="149"/>
                    </a:lnTo>
                    <a:lnTo>
                      <a:pt x="333" y="150"/>
                    </a:lnTo>
                    <a:lnTo>
                      <a:pt x="341" y="152"/>
                    </a:lnTo>
                    <a:lnTo>
                      <a:pt x="345" y="153"/>
                    </a:lnTo>
                    <a:lnTo>
                      <a:pt x="348" y="153"/>
                    </a:lnTo>
                    <a:lnTo>
                      <a:pt x="351" y="153"/>
                    </a:lnTo>
                    <a:lnTo>
                      <a:pt x="354" y="152"/>
                    </a:lnTo>
                    <a:lnTo>
                      <a:pt x="352" y="147"/>
                    </a:lnTo>
                    <a:lnTo>
                      <a:pt x="348" y="143"/>
                    </a:lnTo>
                    <a:lnTo>
                      <a:pt x="343" y="138"/>
                    </a:lnTo>
                    <a:lnTo>
                      <a:pt x="338" y="133"/>
                    </a:lnTo>
                    <a:lnTo>
                      <a:pt x="325" y="123"/>
                    </a:lnTo>
                    <a:lnTo>
                      <a:pt x="317" y="116"/>
                    </a:lnTo>
                    <a:lnTo>
                      <a:pt x="315" y="113"/>
                    </a:lnTo>
                    <a:lnTo>
                      <a:pt x="315" y="108"/>
                    </a:lnTo>
                    <a:lnTo>
                      <a:pt x="328" y="108"/>
                    </a:lnTo>
                    <a:lnTo>
                      <a:pt x="345" y="108"/>
                    </a:lnTo>
                    <a:lnTo>
                      <a:pt x="354" y="107"/>
                    </a:lnTo>
                    <a:lnTo>
                      <a:pt x="361" y="104"/>
                    </a:lnTo>
                    <a:lnTo>
                      <a:pt x="364" y="103"/>
                    </a:lnTo>
                    <a:lnTo>
                      <a:pt x="366" y="100"/>
                    </a:lnTo>
                    <a:lnTo>
                      <a:pt x="367" y="99"/>
                    </a:lnTo>
                    <a:lnTo>
                      <a:pt x="367" y="96"/>
                    </a:lnTo>
                    <a:lnTo>
                      <a:pt x="359" y="91"/>
                    </a:lnTo>
                    <a:lnTo>
                      <a:pt x="351" y="86"/>
                    </a:lnTo>
                    <a:lnTo>
                      <a:pt x="343" y="86"/>
                    </a:lnTo>
                    <a:lnTo>
                      <a:pt x="337" y="84"/>
                    </a:lnTo>
                    <a:lnTo>
                      <a:pt x="325" y="83"/>
                    </a:lnTo>
                    <a:lnTo>
                      <a:pt x="315" y="83"/>
                    </a:lnTo>
                    <a:lnTo>
                      <a:pt x="312" y="81"/>
                    </a:lnTo>
                    <a:lnTo>
                      <a:pt x="308" y="79"/>
                    </a:lnTo>
                    <a:lnTo>
                      <a:pt x="304" y="74"/>
                    </a:lnTo>
                    <a:lnTo>
                      <a:pt x="300" y="70"/>
                    </a:lnTo>
                    <a:lnTo>
                      <a:pt x="297" y="62"/>
                    </a:lnTo>
                    <a:lnTo>
                      <a:pt x="293" y="52"/>
                    </a:lnTo>
                    <a:lnTo>
                      <a:pt x="289" y="40"/>
                    </a:lnTo>
                    <a:lnTo>
                      <a:pt x="285" y="24"/>
                    </a:lnTo>
                    <a:lnTo>
                      <a:pt x="298" y="23"/>
                    </a:lnTo>
                    <a:lnTo>
                      <a:pt x="309" y="20"/>
                    </a:lnTo>
                    <a:lnTo>
                      <a:pt x="320" y="18"/>
                    </a:lnTo>
                    <a:lnTo>
                      <a:pt x="333" y="13"/>
                    </a:lnTo>
                    <a:lnTo>
                      <a:pt x="359" y="5"/>
                    </a:lnTo>
                    <a:lnTo>
                      <a:pt x="382" y="0"/>
                    </a:lnTo>
                    <a:lnTo>
                      <a:pt x="387" y="16"/>
                    </a:lnTo>
                    <a:lnTo>
                      <a:pt x="390" y="32"/>
                    </a:lnTo>
                    <a:lnTo>
                      <a:pt x="392" y="42"/>
                    </a:lnTo>
                    <a:lnTo>
                      <a:pt x="392" y="50"/>
                    </a:lnTo>
                    <a:lnTo>
                      <a:pt x="397" y="59"/>
                    </a:lnTo>
                    <a:lnTo>
                      <a:pt x="400" y="68"/>
                    </a:lnTo>
                    <a:lnTo>
                      <a:pt x="409" y="79"/>
                    </a:lnTo>
                    <a:lnTo>
                      <a:pt x="417" y="92"/>
                    </a:lnTo>
                    <a:lnTo>
                      <a:pt x="422" y="106"/>
                    </a:lnTo>
                    <a:lnTo>
                      <a:pt x="424" y="120"/>
                    </a:lnTo>
                    <a:lnTo>
                      <a:pt x="427" y="136"/>
                    </a:lnTo>
                    <a:lnTo>
                      <a:pt x="428" y="150"/>
                    </a:lnTo>
                    <a:lnTo>
                      <a:pt x="428" y="168"/>
                    </a:lnTo>
                    <a:lnTo>
                      <a:pt x="428" y="186"/>
                    </a:lnTo>
                    <a:lnTo>
                      <a:pt x="424" y="194"/>
                    </a:lnTo>
                    <a:lnTo>
                      <a:pt x="420" y="200"/>
                    </a:lnTo>
                    <a:lnTo>
                      <a:pt x="419" y="207"/>
                    </a:lnTo>
                    <a:lnTo>
                      <a:pt x="418" y="214"/>
                    </a:lnTo>
                    <a:lnTo>
                      <a:pt x="418" y="226"/>
                    </a:lnTo>
                    <a:lnTo>
                      <a:pt x="420" y="238"/>
                    </a:lnTo>
                    <a:lnTo>
                      <a:pt x="424" y="248"/>
                    </a:lnTo>
                    <a:lnTo>
                      <a:pt x="428" y="260"/>
                    </a:lnTo>
                    <a:lnTo>
                      <a:pt x="431" y="271"/>
                    </a:lnTo>
                    <a:lnTo>
                      <a:pt x="432" y="285"/>
                    </a:lnTo>
                    <a:lnTo>
                      <a:pt x="410" y="299"/>
                    </a:lnTo>
                    <a:lnTo>
                      <a:pt x="389" y="313"/>
                    </a:lnTo>
                    <a:lnTo>
                      <a:pt x="367" y="325"/>
                    </a:lnTo>
                    <a:lnTo>
                      <a:pt x="345" y="336"/>
                    </a:lnTo>
                    <a:lnTo>
                      <a:pt x="322" y="345"/>
                    </a:lnTo>
                    <a:lnTo>
                      <a:pt x="298" y="356"/>
                    </a:lnTo>
                    <a:lnTo>
                      <a:pt x="274" y="362"/>
                    </a:lnTo>
                    <a:lnTo>
                      <a:pt x="250" y="369"/>
                    </a:lnTo>
                    <a:lnTo>
                      <a:pt x="225" y="376"/>
                    </a:lnTo>
                    <a:lnTo>
                      <a:pt x="202" y="379"/>
                    </a:lnTo>
                    <a:lnTo>
                      <a:pt x="176" y="384"/>
                    </a:lnTo>
                    <a:lnTo>
                      <a:pt x="152" y="388"/>
                    </a:lnTo>
                    <a:lnTo>
                      <a:pt x="127" y="389"/>
                    </a:lnTo>
                    <a:lnTo>
                      <a:pt x="102" y="392"/>
                    </a:lnTo>
                    <a:lnTo>
                      <a:pt x="76" y="392"/>
                    </a:lnTo>
                    <a:lnTo>
                      <a:pt x="51" y="393"/>
                    </a:lnTo>
                    <a:lnTo>
                      <a:pt x="47" y="396"/>
                    </a:lnTo>
                    <a:lnTo>
                      <a:pt x="43" y="399"/>
                    </a:lnTo>
                    <a:lnTo>
                      <a:pt x="38" y="400"/>
                    </a:lnTo>
                    <a:lnTo>
                      <a:pt x="35" y="401"/>
                    </a:lnTo>
                    <a:lnTo>
                      <a:pt x="25" y="401"/>
                    </a:lnTo>
                    <a:lnTo>
                      <a:pt x="15" y="401"/>
                    </a:lnTo>
                  </a:path>
                </a:pathLst>
              </a:custGeom>
              <a:solidFill>
                <a:srgbClr val="916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02480" y="6286680"/>
                <a:ext cx="63360" cy="4428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31" y="27"/>
                    </a:moveTo>
                    <a:lnTo>
                      <a:pt x="15" y="20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9"/>
                    </a:lnTo>
                    <a:lnTo>
                      <a:pt x="34" y="16"/>
                    </a:lnTo>
                    <a:lnTo>
                      <a:pt x="39" y="25"/>
                    </a:lnTo>
                    <a:lnTo>
                      <a:pt x="36" y="27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27880" y="5948280"/>
                <a:ext cx="723960" cy="297000"/>
              </a:xfrm>
              <a:custGeom>
                <a:avLst/>
                <a:gdLst/>
                <a:ahLst/>
                <a:rect l="l" t="t" r="r" b="b"/>
                <a:pathLst>
                  <a:path w="456" h="187">
                    <a:moveTo>
                      <a:pt x="230" y="186"/>
                    </a:moveTo>
                    <a:lnTo>
                      <a:pt x="217" y="182"/>
                    </a:lnTo>
                    <a:lnTo>
                      <a:pt x="204" y="181"/>
                    </a:lnTo>
                    <a:lnTo>
                      <a:pt x="191" y="178"/>
                    </a:lnTo>
                    <a:lnTo>
                      <a:pt x="177" y="178"/>
                    </a:lnTo>
                    <a:lnTo>
                      <a:pt x="147" y="176"/>
                    </a:lnTo>
                    <a:lnTo>
                      <a:pt x="118" y="178"/>
                    </a:lnTo>
                    <a:lnTo>
                      <a:pt x="89" y="178"/>
                    </a:lnTo>
                    <a:lnTo>
                      <a:pt x="60" y="178"/>
                    </a:lnTo>
                    <a:lnTo>
                      <a:pt x="45" y="178"/>
                    </a:lnTo>
                    <a:lnTo>
                      <a:pt x="30" y="176"/>
                    </a:lnTo>
                    <a:lnTo>
                      <a:pt x="17" y="174"/>
                    </a:lnTo>
                    <a:lnTo>
                      <a:pt x="3" y="172"/>
                    </a:lnTo>
                    <a:lnTo>
                      <a:pt x="1" y="164"/>
                    </a:lnTo>
                    <a:lnTo>
                      <a:pt x="0" y="157"/>
                    </a:lnTo>
                    <a:lnTo>
                      <a:pt x="0" y="150"/>
                    </a:lnTo>
                    <a:lnTo>
                      <a:pt x="1" y="144"/>
                    </a:lnTo>
                    <a:lnTo>
                      <a:pt x="4" y="138"/>
                    </a:lnTo>
                    <a:lnTo>
                      <a:pt x="8" y="133"/>
                    </a:lnTo>
                    <a:lnTo>
                      <a:pt x="13" y="127"/>
                    </a:lnTo>
                    <a:lnTo>
                      <a:pt x="18" y="122"/>
                    </a:lnTo>
                    <a:lnTo>
                      <a:pt x="32" y="114"/>
                    </a:lnTo>
                    <a:lnTo>
                      <a:pt x="47" y="106"/>
                    </a:lnTo>
                    <a:lnTo>
                      <a:pt x="65" y="99"/>
                    </a:lnTo>
                    <a:lnTo>
                      <a:pt x="84" y="93"/>
                    </a:lnTo>
                    <a:lnTo>
                      <a:pt x="104" y="90"/>
                    </a:lnTo>
                    <a:lnTo>
                      <a:pt x="123" y="86"/>
                    </a:lnTo>
                    <a:lnTo>
                      <a:pt x="142" y="84"/>
                    </a:lnTo>
                    <a:lnTo>
                      <a:pt x="162" y="81"/>
                    </a:lnTo>
                    <a:lnTo>
                      <a:pt x="192" y="80"/>
                    </a:lnTo>
                    <a:lnTo>
                      <a:pt x="211" y="79"/>
                    </a:lnTo>
                    <a:lnTo>
                      <a:pt x="222" y="70"/>
                    </a:lnTo>
                    <a:lnTo>
                      <a:pt x="244" y="57"/>
                    </a:lnTo>
                    <a:lnTo>
                      <a:pt x="271" y="41"/>
                    </a:lnTo>
                    <a:lnTo>
                      <a:pt x="303" y="24"/>
                    </a:lnTo>
                    <a:lnTo>
                      <a:pt x="318" y="18"/>
                    </a:lnTo>
                    <a:lnTo>
                      <a:pt x="333" y="11"/>
                    </a:lnTo>
                    <a:lnTo>
                      <a:pt x="348" y="5"/>
                    </a:lnTo>
                    <a:lnTo>
                      <a:pt x="363" y="2"/>
                    </a:lnTo>
                    <a:lnTo>
                      <a:pt x="375" y="0"/>
                    </a:lnTo>
                    <a:lnTo>
                      <a:pt x="386" y="0"/>
                    </a:lnTo>
                    <a:lnTo>
                      <a:pt x="391" y="2"/>
                    </a:lnTo>
                    <a:lnTo>
                      <a:pt x="395" y="2"/>
                    </a:lnTo>
                    <a:lnTo>
                      <a:pt x="399" y="5"/>
                    </a:lnTo>
                    <a:lnTo>
                      <a:pt x="403" y="8"/>
                    </a:lnTo>
                    <a:lnTo>
                      <a:pt x="409" y="38"/>
                    </a:lnTo>
                    <a:lnTo>
                      <a:pt x="413" y="45"/>
                    </a:lnTo>
                    <a:lnTo>
                      <a:pt x="415" y="43"/>
                    </a:lnTo>
                    <a:lnTo>
                      <a:pt x="418" y="42"/>
                    </a:lnTo>
                    <a:lnTo>
                      <a:pt x="420" y="34"/>
                    </a:lnTo>
                    <a:lnTo>
                      <a:pt x="420" y="4"/>
                    </a:lnTo>
                    <a:lnTo>
                      <a:pt x="428" y="9"/>
                    </a:lnTo>
                    <a:lnTo>
                      <a:pt x="442" y="20"/>
                    </a:lnTo>
                    <a:lnTo>
                      <a:pt x="448" y="27"/>
                    </a:lnTo>
                    <a:lnTo>
                      <a:pt x="452" y="34"/>
                    </a:lnTo>
                    <a:lnTo>
                      <a:pt x="454" y="36"/>
                    </a:lnTo>
                    <a:lnTo>
                      <a:pt x="455" y="39"/>
                    </a:lnTo>
                    <a:lnTo>
                      <a:pt x="454" y="42"/>
                    </a:lnTo>
                    <a:lnTo>
                      <a:pt x="452" y="43"/>
                    </a:lnTo>
                    <a:lnTo>
                      <a:pt x="420" y="52"/>
                    </a:lnTo>
                    <a:lnTo>
                      <a:pt x="389" y="65"/>
                    </a:lnTo>
                    <a:lnTo>
                      <a:pt x="373" y="72"/>
                    </a:lnTo>
                    <a:lnTo>
                      <a:pt x="360" y="79"/>
                    </a:lnTo>
                    <a:lnTo>
                      <a:pt x="346" y="86"/>
                    </a:lnTo>
                    <a:lnTo>
                      <a:pt x="333" y="95"/>
                    </a:lnTo>
                    <a:lnTo>
                      <a:pt x="321" y="103"/>
                    </a:lnTo>
                    <a:lnTo>
                      <a:pt x="308" y="113"/>
                    </a:lnTo>
                    <a:lnTo>
                      <a:pt x="295" y="123"/>
                    </a:lnTo>
                    <a:lnTo>
                      <a:pt x="284" y="134"/>
                    </a:lnTo>
                    <a:lnTo>
                      <a:pt x="272" y="145"/>
                    </a:lnTo>
                    <a:lnTo>
                      <a:pt x="261" y="159"/>
                    </a:lnTo>
                    <a:lnTo>
                      <a:pt x="249" y="171"/>
                    </a:lnTo>
                    <a:lnTo>
                      <a:pt x="239" y="186"/>
                    </a:lnTo>
                    <a:lnTo>
                      <a:pt x="234" y="186"/>
                    </a:lnTo>
                    <a:lnTo>
                      <a:pt x="230" y="186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10160" y="6029280"/>
                <a:ext cx="357480" cy="192240"/>
              </a:xfrm>
              <a:custGeom>
                <a:avLst/>
                <a:gdLst/>
                <a:ahLst/>
                <a:rect l="l" t="t" r="r" b="b"/>
                <a:pathLst>
                  <a:path w="225" h="121">
                    <a:moveTo>
                      <a:pt x="42" y="120"/>
                    </a:moveTo>
                    <a:lnTo>
                      <a:pt x="28" y="116"/>
                    </a:lnTo>
                    <a:lnTo>
                      <a:pt x="18" y="112"/>
                    </a:lnTo>
                    <a:lnTo>
                      <a:pt x="11" y="105"/>
                    </a:lnTo>
                    <a:lnTo>
                      <a:pt x="0" y="98"/>
                    </a:lnTo>
                    <a:lnTo>
                      <a:pt x="1" y="93"/>
                    </a:lnTo>
                    <a:lnTo>
                      <a:pt x="3" y="88"/>
                    </a:lnTo>
                    <a:lnTo>
                      <a:pt x="5" y="82"/>
                    </a:lnTo>
                    <a:lnTo>
                      <a:pt x="9" y="77"/>
                    </a:lnTo>
                    <a:lnTo>
                      <a:pt x="18" y="66"/>
                    </a:lnTo>
                    <a:lnTo>
                      <a:pt x="31" y="57"/>
                    </a:lnTo>
                    <a:lnTo>
                      <a:pt x="45" y="46"/>
                    </a:lnTo>
                    <a:lnTo>
                      <a:pt x="61" y="38"/>
                    </a:lnTo>
                    <a:lnTo>
                      <a:pt x="79" y="30"/>
                    </a:lnTo>
                    <a:lnTo>
                      <a:pt x="98" y="22"/>
                    </a:lnTo>
                    <a:lnTo>
                      <a:pt x="116" y="15"/>
                    </a:lnTo>
                    <a:lnTo>
                      <a:pt x="136" y="9"/>
                    </a:lnTo>
                    <a:lnTo>
                      <a:pt x="154" y="5"/>
                    </a:lnTo>
                    <a:lnTo>
                      <a:pt x="172" y="2"/>
                    </a:lnTo>
                    <a:lnTo>
                      <a:pt x="189" y="0"/>
                    </a:lnTo>
                    <a:lnTo>
                      <a:pt x="202" y="0"/>
                    </a:lnTo>
                    <a:lnTo>
                      <a:pt x="215" y="2"/>
                    </a:lnTo>
                    <a:lnTo>
                      <a:pt x="224" y="5"/>
                    </a:lnTo>
                    <a:lnTo>
                      <a:pt x="197" y="11"/>
                    </a:lnTo>
                    <a:lnTo>
                      <a:pt x="171" y="18"/>
                    </a:lnTo>
                    <a:lnTo>
                      <a:pt x="157" y="20"/>
                    </a:lnTo>
                    <a:lnTo>
                      <a:pt x="143" y="25"/>
                    </a:lnTo>
                    <a:lnTo>
                      <a:pt x="131" y="30"/>
                    </a:lnTo>
                    <a:lnTo>
                      <a:pt x="118" y="35"/>
                    </a:lnTo>
                    <a:lnTo>
                      <a:pt x="106" y="42"/>
                    </a:lnTo>
                    <a:lnTo>
                      <a:pt x="95" y="48"/>
                    </a:lnTo>
                    <a:lnTo>
                      <a:pt x="84" y="58"/>
                    </a:lnTo>
                    <a:lnTo>
                      <a:pt x="75" y="68"/>
                    </a:lnTo>
                    <a:lnTo>
                      <a:pt x="67" y="78"/>
                    </a:lnTo>
                    <a:lnTo>
                      <a:pt x="60" y="91"/>
                    </a:lnTo>
                    <a:lnTo>
                      <a:pt x="55" y="104"/>
                    </a:lnTo>
                    <a:lnTo>
                      <a:pt x="51" y="119"/>
                    </a:lnTo>
                    <a:lnTo>
                      <a:pt x="46" y="119"/>
                    </a:lnTo>
                    <a:lnTo>
                      <a:pt x="42" y="120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43600" y="4508640"/>
                <a:ext cx="712800" cy="1500120"/>
              </a:xfrm>
              <a:custGeom>
                <a:avLst/>
                <a:gdLst/>
                <a:ahLst/>
                <a:rect l="l" t="t" r="r" b="b"/>
                <a:pathLst>
                  <a:path w="449" h="945">
                    <a:moveTo>
                      <a:pt x="279" y="944"/>
                    </a:moveTo>
                    <a:lnTo>
                      <a:pt x="276" y="933"/>
                    </a:lnTo>
                    <a:lnTo>
                      <a:pt x="269" y="922"/>
                    </a:lnTo>
                    <a:lnTo>
                      <a:pt x="262" y="910"/>
                    </a:lnTo>
                    <a:lnTo>
                      <a:pt x="252" y="898"/>
                    </a:lnTo>
                    <a:lnTo>
                      <a:pt x="227" y="872"/>
                    </a:lnTo>
                    <a:lnTo>
                      <a:pt x="197" y="844"/>
                    </a:lnTo>
                    <a:lnTo>
                      <a:pt x="169" y="815"/>
                    </a:lnTo>
                    <a:lnTo>
                      <a:pt x="139" y="787"/>
                    </a:lnTo>
                    <a:lnTo>
                      <a:pt x="127" y="772"/>
                    </a:lnTo>
                    <a:lnTo>
                      <a:pt x="116" y="758"/>
                    </a:lnTo>
                    <a:lnTo>
                      <a:pt x="107" y="745"/>
                    </a:lnTo>
                    <a:lnTo>
                      <a:pt x="100" y="733"/>
                    </a:lnTo>
                    <a:lnTo>
                      <a:pt x="85" y="712"/>
                    </a:lnTo>
                    <a:lnTo>
                      <a:pt x="72" y="690"/>
                    </a:lnTo>
                    <a:lnTo>
                      <a:pt x="59" y="669"/>
                    </a:lnTo>
                    <a:lnTo>
                      <a:pt x="48" y="646"/>
                    </a:lnTo>
                    <a:lnTo>
                      <a:pt x="37" y="622"/>
                    </a:lnTo>
                    <a:lnTo>
                      <a:pt x="29" y="597"/>
                    </a:lnTo>
                    <a:lnTo>
                      <a:pt x="22" y="572"/>
                    </a:lnTo>
                    <a:lnTo>
                      <a:pt x="15" y="547"/>
                    </a:lnTo>
                    <a:lnTo>
                      <a:pt x="10" y="521"/>
                    </a:lnTo>
                    <a:lnTo>
                      <a:pt x="6" y="494"/>
                    </a:lnTo>
                    <a:lnTo>
                      <a:pt x="2" y="468"/>
                    </a:lnTo>
                    <a:lnTo>
                      <a:pt x="1" y="441"/>
                    </a:lnTo>
                    <a:lnTo>
                      <a:pt x="0" y="415"/>
                    </a:lnTo>
                    <a:lnTo>
                      <a:pt x="1" y="388"/>
                    </a:lnTo>
                    <a:lnTo>
                      <a:pt x="2" y="361"/>
                    </a:lnTo>
                    <a:lnTo>
                      <a:pt x="5" y="335"/>
                    </a:lnTo>
                    <a:lnTo>
                      <a:pt x="9" y="309"/>
                    </a:lnTo>
                    <a:lnTo>
                      <a:pt x="14" y="284"/>
                    </a:lnTo>
                    <a:lnTo>
                      <a:pt x="20" y="258"/>
                    </a:lnTo>
                    <a:lnTo>
                      <a:pt x="27" y="232"/>
                    </a:lnTo>
                    <a:lnTo>
                      <a:pt x="37" y="207"/>
                    </a:lnTo>
                    <a:lnTo>
                      <a:pt x="47" y="184"/>
                    </a:lnTo>
                    <a:lnTo>
                      <a:pt x="57" y="161"/>
                    </a:lnTo>
                    <a:lnTo>
                      <a:pt x="69" y="140"/>
                    </a:lnTo>
                    <a:lnTo>
                      <a:pt x="84" y="118"/>
                    </a:lnTo>
                    <a:lnTo>
                      <a:pt x="97" y="97"/>
                    </a:lnTo>
                    <a:lnTo>
                      <a:pt x="114" y="79"/>
                    </a:lnTo>
                    <a:lnTo>
                      <a:pt x="130" y="59"/>
                    </a:lnTo>
                    <a:lnTo>
                      <a:pt x="149" y="43"/>
                    </a:lnTo>
                    <a:lnTo>
                      <a:pt x="169" y="27"/>
                    </a:lnTo>
                    <a:lnTo>
                      <a:pt x="189" y="13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6" y="0"/>
                    </a:lnTo>
                    <a:lnTo>
                      <a:pt x="215" y="8"/>
                    </a:lnTo>
                    <a:lnTo>
                      <a:pt x="210" y="16"/>
                    </a:lnTo>
                    <a:lnTo>
                      <a:pt x="205" y="24"/>
                    </a:lnTo>
                    <a:lnTo>
                      <a:pt x="200" y="32"/>
                    </a:lnTo>
                    <a:lnTo>
                      <a:pt x="187" y="50"/>
                    </a:lnTo>
                    <a:lnTo>
                      <a:pt x="179" y="68"/>
                    </a:lnTo>
                    <a:lnTo>
                      <a:pt x="157" y="104"/>
                    </a:lnTo>
                    <a:lnTo>
                      <a:pt x="138" y="140"/>
                    </a:lnTo>
                    <a:lnTo>
                      <a:pt x="122" y="174"/>
                    </a:lnTo>
                    <a:lnTo>
                      <a:pt x="109" y="209"/>
                    </a:lnTo>
                    <a:lnTo>
                      <a:pt x="96" y="244"/>
                    </a:lnTo>
                    <a:lnTo>
                      <a:pt x="87" y="282"/>
                    </a:lnTo>
                    <a:lnTo>
                      <a:pt x="77" y="323"/>
                    </a:lnTo>
                    <a:lnTo>
                      <a:pt x="69" y="366"/>
                    </a:lnTo>
                    <a:lnTo>
                      <a:pt x="68" y="400"/>
                    </a:lnTo>
                    <a:lnTo>
                      <a:pt x="67" y="433"/>
                    </a:lnTo>
                    <a:lnTo>
                      <a:pt x="67" y="468"/>
                    </a:lnTo>
                    <a:lnTo>
                      <a:pt x="68" y="502"/>
                    </a:lnTo>
                    <a:lnTo>
                      <a:pt x="71" y="536"/>
                    </a:lnTo>
                    <a:lnTo>
                      <a:pt x="76" y="570"/>
                    </a:lnTo>
                    <a:lnTo>
                      <a:pt x="81" y="602"/>
                    </a:lnTo>
                    <a:lnTo>
                      <a:pt x="90" y="635"/>
                    </a:lnTo>
                    <a:lnTo>
                      <a:pt x="100" y="666"/>
                    </a:lnTo>
                    <a:lnTo>
                      <a:pt x="111" y="697"/>
                    </a:lnTo>
                    <a:lnTo>
                      <a:pt x="119" y="712"/>
                    </a:lnTo>
                    <a:lnTo>
                      <a:pt x="127" y="726"/>
                    </a:lnTo>
                    <a:lnTo>
                      <a:pt x="134" y="740"/>
                    </a:lnTo>
                    <a:lnTo>
                      <a:pt x="143" y="754"/>
                    </a:lnTo>
                    <a:lnTo>
                      <a:pt x="153" y="767"/>
                    </a:lnTo>
                    <a:lnTo>
                      <a:pt x="163" y="780"/>
                    </a:lnTo>
                    <a:lnTo>
                      <a:pt x="174" y="792"/>
                    </a:lnTo>
                    <a:lnTo>
                      <a:pt x="186" y="804"/>
                    </a:lnTo>
                    <a:lnTo>
                      <a:pt x="199" y="815"/>
                    </a:lnTo>
                    <a:lnTo>
                      <a:pt x="211" y="826"/>
                    </a:lnTo>
                    <a:lnTo>
                      <a:pt x="225" y="837"/>
                    </a:lnTo>
                    <a:lnTo>
                      <a:pt x="241" y="847"/>
                    </a:lnTo>
                    <a:lnTo>
                      <a:pt x="254" y="856"/>
                    </a:lnTo>
                    <a:lnTo>
                      <a:pt x="274" y="867"/>
                    </a:lnTo>
                    <a:lnTo>
                      <a:pt x="296" y="878"/>
                    </a:lnTo>
                    <a:lnTo>
                      <a:pt x="321" y="890"/>
                    </a:lnTo>
                    <a:lnTo>
                      <a:pt x="348" y="899"/>
                    </a:lnTo>
                    <a:lnTo>
                      <a:pt x="374" y="908"/>
                    </a:lnTo>
                    <a:lnTo>
                      <a:pt x="396" y="913"/>
                    </a:lnTo>
                    <a:lnTo>
                      <a:pt x="416" y="915"/>
                    </a:lnTo>
                    <a:lnTo>
                      <a:pt x="444" y="928"/>
                    </a:lnTo>
                    <a:lnTo>
                      <a:pt x="448" y="931"/>
                    </a:lnTo>
                    <a:lnTo>
                      <a:pt x="406" y="933"/>
                    </a:lnTo>
                    <a:lnTo>
                      <a:pt x="362" y="936"/>
                    </a:lnTo>
                    <a:lnTo>
                      <a:pt x="321" y="940"/>
                    </a:lnTo>
                    <a:lnTo>
                      <a:pt x="279" y="944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78600" y="2692440"/>
                <a:ext cx="1071720" cy="3279600"/>
              </a:xfrm>
              <a:custGeom>
                <a:avLst/>
                <a:gdLst/>
                <a:ahLst/>
                <a:rect l="l" t="t" r="r" b="b"/>
                <a:pathLst>
                  <a:path w="675" h="2066">
                    <a:moveTo>
                      <a:pt x="409" y="2064"/>
                    </a:moveTo>
                    <a:lnTo>
                      <a:pt x="378" y="2059"/>
                    </a:lnTo>
                    <a:lnTo>
                      <a:pt x="346" y="2052"/>
                    </a:lnTo>
                    <a:lnTo>
                      <a:pt x="316" y="2042"/>
                    </a:lnTo>
                    <a:lnTo>
                      <a:pt x="286" y="2033"/>
                    </a:lnTo>
                    <a:lnTo>
                      <a:pt x="255" y="2020"/>
                    </a:lnTo>
                    <a:lnTo>
                      <a:pt x="226" y="2007"/>
                    </a:lnTo>
                    <a:lnTo>
                      <a:pt x="198" y="1992"/>
                    </a:lnTo>
                    <a:lnTo>
                      <a:pt x="172" y="1974"/>
                    </a:lnTo>
                    <a:lnTo>
                      <a:pt x="145" y="1955"/>
                    </a:lnTo>
                    <a:lnTo>
                      <a:pt x="121" y="1935"/>
                    </a:lnTo>
                    <a:lnTo>
                      <a:pt x="110" y="1923"/>
                    </a:lnTo>
                    <a:lnTo>
                      <a:pt x="99" y="1912"/>
                    </a:lnTo>
                    <a:lnTo>
                      <a:pt x="89" y="1900"/>
                    </a:lnTo>
                    <a:lnTo>
                      <a:pt x="79" y="1888"/>
                    </a:lnTo>
                    <a:lnTo>
                      <a:pt x="70" y="1874"/>
                    </a:lnTo>
                    <a:lnTo>
                      <a:pt x="61" y="1861"/>
                    </a:lnTo>
                    <a:lnTo>
                      <a:pt x="53" y="1845"/>
                    </a:lnTo>
                    <a:lnTo>
                      <a:pt x="46" y="1830"/>
                    </a:lnTo>
                    <a:lnTo>
                      <a:pt x="40" y="1816"/>
                    </a:lnTo>
                    <a:lnTo>
                      <a:pt x="33" y="1800"/>
                    </a:lnTo>
                    <a:lnTo>
                      <a:pt x="28" y="1783"/>
                    </a:lnTo>
                    <a:lnTo>
                      <a:pt x="23" y="1766"/>
                    </a:lnTo>
                    <a:lnTo>
                      <a:pt x="40" y="1773"/>
                    </a:lnTo>
                    <a:lnTo>
                      <a:pt x="65" y="1780"/>
                    </a:lnTo>
                    <a:lnTo>
                      <a:pt x="94" y="1788"/>
                    </a:lnTo>
                    <a:lnTo>
                      <a:pt x="127" y="1793"/>
                    </a:lnTo>
                    <a:lnTo>
                      <a:pt x="142" y="1794"/>
                    </a:lnTo>
                    <a:lnTo>
                      <a:pt x="159" y="1795"/>
                    </a:lnTo>
                    <a:lnTo>
                      <a:pt x="172" y="1794"/>
                    </a:lnTo>
                    <a:lnTo>
                      <a:pt x="187" y="1793"/>
                    </a:lnTo>
                    <a:lnTo>
                      <a:pt x="199" y="1790"/>
                    </a:lnTo>
                    <a:lnTo>
                      <a:pt x="210" y="1784"/>
                    </a:lnTo>
                    <a:lnTo>
                      <a:pt x="214" y="1782"/>
                    </a:lnTo>
                    <a:lnTo>
                      <a:pt x="217" y="1777"/>
                    </a:lnTo>
                    <a:lnTo>
                      <a:pt x="221" y="1775"/>
                    </a:lnTo>
                    <a:lnTo>
                      <a:pt x="224" y="1770"/>
                    </a:lnTo>
                    <a:lnTo>
                      <a:pt x="220" y="1768"/>
                    </a:lnTo>
                    <a:lnTo>
                      <a:pt x="214" y="1768"/>
                    </a:lnTo>
                    <a:lnTo>
                      <a:pt x="204" y="1770"/>
                    </a:lnTo>
                    <a:lnTo>
                      <a:pt x="193" y="1771"/>
                    </a:lnTo>
                    <a:lnTo>
                      <a:pt x="165" y="1773"/>
                    </a:lnTo>
                    <a:lnTo>
                      <a:pt x="132" y="1777"/>
                    </a:lnTo>
                    <a:lnTo>
                      <a:pt x="115" y="1777"/>
                    </a:lnTo>
                    <a:lnTo>
                      <a:pt x="99" y="1777"/>
                    </a:lnTo>
                    <a:lnTo>
                      <a:pt x="84" y="1773"/>
                    </a:lnTo>
                    <a:lnTo>
                      <a:pt x="69" y="1771"/>
                    </a:lnTo>
                    <a:lnTo>
                      <a:pt x="56" y="1766"/>
                    </a:lnTo>
                    <a:lnTo>
                      <a:pt x="45" y="1759"/>
                    </a:lnTo>
                    <a:lnTo>
                      <a:pt x="40" y="1754"/>
                    </a:lnTo>
                    <a:lnTo>
                      <a:pt x="35" y="1749"/>
                    </a:lnTo>
                    <a:lnTo>
                      <a:pt x="32" y="1743"/>
                    </a:lnTo>
                    <a:lnTo>
                      <a:pt x="28" y="1737"/>
                    </a:lnTo>
                    <a:lnTo>
                      <a:pt x="20" y="1737"/>
                    </a:lnTo>
                    <a:lnTo>
                      <a:pt x="15" y="1738"/>
                    </a:lnTo>
                    <a:lnTo>
                      <a:pt x="12" y="1715"/>
                    </a:lnTo>
                    <a:lnTo>
                      <a:pt x="8" y="1692"/>
                    </a:lnTo>
                    <a:lnTo>
                      <a:pt x="5" y="1668"/>
                    </a:lnTo>
                    <a:lnTo>
                      <a:pt x="3" y="1643"/>
                    </a:lnTo>
                    <a:lnTo>
                      <a:pt x="1" y="1620"/>
                    </a:lnTo>
                    <a:lnTo>
                      <a:pt x="0" y="1596"/>
                    </a:lnTo>
                    <a:lnTo>
                      <a:pt x="1" y="1571"/>
                    </a:lnTo>
                    <a:lnTo>
                      <a:pt x="1" y="1547"/>
                    </a:lnTo>
                    <a:lnTo>
                      <a:pt x="3" y="1523"/>
                    </a:lnTo>
                    <a:lnTo>
                      <a:pt x="5" y="1500"/>
                    </a:lnTo>
                    <a:lnTo>
                      <a:pt x="9" y="1475"/>
                    </a:lnTo>
                    <a:lnTo>
                      <a:pt x="13" y="1452"/>
                    </a:lnTo>
                    <a:lnTo>
                      <a:pt x="18" y="1429"/>
                    </a:lnTo>
                    <a:lnTo>
                      <a:pt x="25" y="1405"/>
                    </a:lnTo>
                    <a:lnTo>
                      <a:pt x="30" y="1384"/>
                    </a:lnTo>
                    <a:lnTo>
                      <a:pt x="38" y="1361"/>
                    </a:lnTo>
                    <a:lnTo>
                      <a:pt x="41" y="1361"/>
                    </a:lnTo>
                    <a:lnTo>
                      <a:pt x="43" y="1361"/>
                    </a:lnTo>
                    <a:lnTo>
                      <a:pt x="60" y="1380"/>
                    </a:lnTo>
                    <a:lnTo>
                      <a:pt x="78" y="1399"/>
                    </a:lnTo>
                    <a:lnTo>
                      <a:pt x="88" y="1409"/>
                    </a:lnTo>
                    <a:lnTo>
                      <a:pt x="99" y="1416"/>
                    </a:lnTo>
                    <a:lnTo>
                      <a:pt x="110" y="1425"/>
                    </a:lnTo>
                    <a:lnTo>
                      <a:pt x="121" y="1430"/>
                    </a:lnTo>
                    <a:lnTo>
                      <a:pt x="132" y="1436"/>
                    </a:lnTo>
                    <a:lnTo>
                      <a:pt x="145" y="1439"/>
                    </a:lnTo>
                    <a:lnTo>
                      <a:pt x="157" y="1441"/>
                    </a:lnTo>
                    <a:lnTo>
                      <a:pt x="169" y="1441"/>
                    </a:lnTo>
                    <a:lnTo>
                      <a:pt x="182" y="1439"/>
                    </a:lnTo>
                    <a:lnTo>
                      <a:pt x="193" y="1436"/>
                    </a:lnTo>
                    <a:lnTo>
                      <a:pt x="206" y="1429"/>
                    </a:lnTo>
                    <a:lnTo>
                      <a:pt x="219" y="1419"/>
                    </a:lnTo>
                    <a:lnTo>
                      <a:pt x="219" y="1415"/>
                    </a:lnTo>
                    <a:lnTo>
                      <a:pt x="219" y="1412"/>
                    </a:lnTo>
                    <a:lnTo>
                      <a:pt x="202" y="1416"/>
                    </a:lnTo>
                    <a:lnTo>
                      <a:pt x="187" y="1418"/>
                    </a:lnTo>
                    <a:lnTo>
                      <a:pt x="174" y="1419"/>
                    </a:lnTo>
                    <a:lnTo>
                      <a:pt x="162" y="1419"/>
                    </a:lnTo>
                    <a:lnTo>
                      <a:pt x="150" y="1419"/>
                    </a:lnTo>
                    <a:lnTo>
                      <a:pt x="139" y="1418"/>
                    </a:lnTo>
                    <a:lnTo>
                      <a:pt x="128" y="1415"/>
                    </a:lnTo>
                    <a:lnTo>
                      <a:pt x="120" y="1411"/>
                    </a:lnTo>
                    <a:lnTo>
                      <a:pt x="110" y="1405"/>
                    </a:lnTo>
                    <a:lnTo>
                      <a:pt x="103" y="1400"/>
                    </a:lnTo>
                    <a:lnTo>
                      <a:pt x="94" y="1394"/>
                    </a:lnTo>
                    <a:lnTo>
                      <a:pt x="85" y="1385"/>
                    </a:lnTo>
                    <a:lnTo>
                      <a:pt x="67" y="1366"/>
                    </a:lnTo>
                    <a:lnTo>
                      <a:pt x="48" y="1342"/>
                    </a:lnTo>
                    <a:lnTo>
                      <a:pt x="50" y="1332"/>
                    </a:lnTo>
                    <a:lnTo>
                      <a:pt x="52" y="1321"/>
                    </a:lnTo>
                    <a:lnTo>
                      <a:pt x="56" y="1309"/>
                    </a:lnTo>
                    <a:lnTo>
                      <a:pt x="61" y="1297"/>
                    </a:lnTo>
                    <a:lnTo>
                      <a:pt x="75" y="1270"/>
                    </a:lnTo>
                    <a:lnTo>
                      <a:pt x="92" y="1241"/>
                    </a:lnTo>
                    <a:lnTo>
                      <a:pt x="127" y="1187"/>
                    </a:lnTo>
                    <a:lnTo>
                      <a:pt x="154" y="1141"/>
                    </a:lnTo>
                    <a:lnTo>
                      <a:pt x="155" y="1141"/>
                    </a:lnTo>
                    <a:lnTo>
                      <a:pt x="157" y="1142"/>
                    </a:lnTo>
                    <a:lnTo>
                      <a:pt x="157" y="1135"/>
                    </a:lnTo>
                    <a:lnTo>
                      <a:pt x="162" y="1129"/>
                    </a:lnTo>
                    <a:lnTo>
                      <a:pt x="167" y="1121"/>
                    </a:lnTo>
                    <a:lnTo>
                      <a:pt x="172" y="1112"/>
                    </a:lnTo>
                    <a:lnTo>
                      <a:pt x="184" y="1096"/>
                    </a:lnTo>
                    <a:lnTo>
                      <a:pt x="194" y="1083"/>
                    </a:lnTo>
                    <a:lnTo>
                      <a:pt x="197" y="1083"/>
                    </a:lnTo>
                    <a:lnTo>
                      <a:pt x="201" y="1083"/>
                    </a:lnTo>
                    <a:lnTo>
                      <a:pt x="212" y="1096"/>
                    </a:lnTo>
                    <a:lnTo>
                      <a:pt x="224" y="1107"/>
                    </a:lnTo>
                    <a:lnTo>
                      <a:pt x="235" y="1117"/>
                    </a:lnTo>
                    <a:lnTo>
                      <a:pt x="249" y="1126"/>
                    </a:lnTo>
                    <a:lnTo>
                      <a:pt x="263" y="1133"/>
                    </a:lnTo>
                    <a:lnTo>
                      <a:pt x="278" y="1139"/>
                    </a:lnTo>
                    <a:lnTo>
                      <a:pt x="294" y="1142"/>
                    </a:lnTo>
                    <a:lnTo>
                      <a:pt x="312" y="1144"/>
                    </a:lnTo>
                    <a:lnTo>
                      <a:pt x="312" y="1141"/>
                    </a:lnTo>
                    <a:lnTo>
                      <a:pt x="314" y="1141"/>
                    </a:lnTo>
                    <a:lnTo>
                      <a:pt x="299" y="1135"/>
                    </a:lnTo>
                    <a:lnTo>
                      <a:pt x="284" y="1129"/>
                    </a:lnTo>
                    <a:lnTo>
                      <a:pt x="266" y="1121"/>
                    </a:lnTo>
                    <a:lnTo>
                      <a:pt x="248" y="1110"/>
                    </a:lnTo>
                    <a:lnTo>
                      <a:pt x="240" y="1105"/>
                    </a:lnTo>
                    <a:lnTo>
                      <a:pt x="232" y="1099"/>
                    </a:lnTo>
                    <a:lnTo>
                      <a:pt x="226" y="1092"/>
                    </a:lnTo>
                    <a:lnTo>
                      <a:pt x="220" y="1085"/>
                    </a:lnTo>
                    <a:lnTo>
                      <a:pt x="216" y="1078"/>
                    </a:lnTo>
                    <a:lnTo>
                      <a:pt x="212" y="1072"/>
                    </a:lnTo>
                    <a:lnTo>
                      <a:pt x="211" y="1064"/>
                    </a:lnTo>
                    <a:lnTo>
                      <a:pt x="211" y="1055"/>
                    </a:lnTo>
                    <a:lnTo>
                      <a:pt x="214" y="1055"/>
                    </a:lnTo>
                    <a:lnTo>
                      <a:pt x="216" y="1054"/>
                    </a:lnTo>
                    <a:lnTo>
                      <a:pt x="217" y="1050"/>
                    </a:lnTo>
                    <a:lnTo>
                      <a:pt x="219" y="1048"/>
                    </a:lnTo>
                    <a:lnTo>
                      <a:pt x="220" y="1046"/>
                    </a:lnTo>
                    <a:lnTo>
                      <a:pt x="222" y="1046"/>
                    </a:lnTo>
                    <a:lnTo>
                      <a:pt x="224" y="1039"/>
                    </a:lnTo>
                    <a:lnTo>
                      <a:pt x="229" y="1030"/>
                    </a:lnTo>
                    <a:lnTo>
                      <a:pt x="234" y="1021"/>
                    </a:lnTo>
                    <a:lnTo>
                      <a:pt x="241" y="1010"/>
                    </a:lnTo>
                    <a:lnTo>
                      <a:pt x="258" y="985"/>
                    </a:lnTo>
                    <a:lnTo>
                      <a:pt x="278" y="960"/>
                    </a:lnTo>
                    <a:lnTo>
                      <a:pt x="319" y="913"/>
                    </a:lnTo>
                    <a:lnTo>
                      <a:pt x="346" y="881"/>
                    </a:lnTo>
                    <a:lnTo>
                      <a:pt x="362" y="856"/>
                    </a:lnTo>
                    <a:lnTo>
                      <a:pt x="375" y="832"/>
                    </a:lnTo>
                    <a:lnTo>
                      <a:pt x="388" y="808"/>
                    </a:lnTo>
                    <a:lnTo>
                      <a:pt x="400" y="784"/>
                    </a:lnTo>
                    <a:lnTo>
                      <a:pt x="408" y="785"/>
                    </a:lnTo>
                    <a:lnTo>
                      <a:pt x="418" y="788"/>
                    </a:lnTo>
                    <a:lnTo>
                      <a:pt x="426" y="794"/>
                    </a:lnTo>
                    <a:lnTo>
                      <a:pt x="438" y="799"/>
                    </a:lnTo>
                    <a:lnTo>
                      <a:pt x="450" y="805"/>
                    </a:lnTo>
                    <a:lnTo>
                      <a:pt x="461" y="810"/>
                    </a:lnTo>
                    <a:lnTo>
                      <a:pt x="473" y="814"/>
                    </a:lnTo>
                    <a:lnTo>
                      <a:pt x="483" y="817"/>
                    </a:lnTo>
                    <a:lnTo>
                      <a:pt x="483" y="813"/>
                    </a:lnTo>
                    <a:lnTo>
                      <a:pt x="483" y="808"/>
                    </a:lnTo>
                    <a:lnTo>
                      <a:pt x="468" y="805"/>
                    </a:lnTo>
                    <a:lnTo>
                      <a:pt x="455" y="799"/>
                    </a:lnTo>
                    <a:lnTo>
                      <a:pt x="441" y="794"/>
                    </a:lnTo>
                    <a:lnTo>
                      <a:pt x="428" y="787"/>
                    </a:lnTo>
                    <a:lnTo>
                      <a:pt x="418" y="780"/>
                    </a:lnTo>
                    <a:lnTo>
                      <a:pt x="406" y="774"/>
                    </a:lnTo>
                    <a:lnTo>
                      <a:pt x="398" y="767"/>
                    </a:lnTo>
                    <a:lnTo>
                      <a:pt x="389" y="758"/>
                    </a:lnTo>
                    <a:lnTo>
                      <a:pt x="381" y="751"/>
                    </a:lnTo>
                    <a:lnTo>
                      <a:pt x="375" y="742"/>
                    </a:lnTo>
                    <a:lnTo>
                      <a:pt x="368" y="733"/>
                    </a:lnTo>
                    <a:lnTo>
                      <a:pt x="363" y="723"/>
                    </a:lnTo>
                    <a:lnTo>
                      <a:pt x="359" y="714"/>
                    </a:lnTo>
                    <a:lnTo>
                      <a:pt x="356" y="704"/>
                    </a:lnTo>
                    <a:lnTo>
                      <a:pt x="352" y="694"/>
                    </a:lnTo>
                    <a:lnTo>
                      <a:pt x="351" y="683"/>
                    </a:lnTo>
                    <a:lnTo>
                      <a:pt x="346" y="662"/>
                    </a:lnTo>
                    <a:lnTo>
                      <a:pt x="346" y="639"/>
                    </a:lnTo>
                    <a:lnTo>
                      <a:pt x="348" y="616"/>
                    </a:lnTo>
                    <a:lnTo>
                      <a:pt x="352" y="592"/>
                    </a:lnTo>
                    <a:lnTo>
                      <a:pt x="357" y="567"/>
                    </a:lnTo>
                    <a:lnTo>
                      <a:pt x="363" y="542"/>
                    </a:lnTo>
                    <a:lnTo>
                      <a:pt x="369" y="515"/>
                    </a:lnTo>
                    <a:lnTo>
                      <a:pt x="378" y="490"/>
                    </a:lnTo>
                    <a:lnTo>
                      <a:pt x="380" y="488"/>
                    </a:lnTo>
                    <a:lnTo>
                      <a:pt x="382" y="488"/>
                    </a:lnTo>
                    <a:lnTo>
                      <a:pt x="391" y="503"/>
                    </a:lnTo>
                    <a:lnTo>
                      <a:pt x="403" y="517"/>
                    </a:lnTo>
                    <a:lnTo>
                      <a:pt x="415" y="531"/>
                    </a:lnTo>
                    <a:lnTo>
                      <a:pt x="429" y="542"/>
                    </a:lnTo>
                    <a:lnTo>
                      <a:pt x="445" y="551"/>
                    </a:lnTo>
                    <a:lnTo>
                      <a:pt x="461" y="560"/>
                    </a:lnTo>
                    <a:lnTo>
                      <a:pt x="478" y="567"/>
                    </a:lnTo>
                    <a:lnTo>
                      <a:pt x="496" y="571"/>
                    </a:lnTo>
                    <a:lnTo>
                      <a:pt x="515" y="575"/>
                    </a:lnTo>
                    <a:lnTo>
                      <a:pt x="533" y="575"/>
                    </a:lnTo>
                    <a:lnTo>
                      <a:pt x="551" y="575"/>
                    </a:lnTo>
                    <a:lnTo>
                      <a:pt x="570" y="572"/>
                    </a:lnTo>
                    <a:lnTo>
                      <a:pt x="587" y="567"/>
                    </a:lnTo>
                    <a:lnTo>
                      <a:pt x="603" y="559"/>
                    </a:lnTo>
                    <a:lnTo>
                      <a:pt x="610" y="554"/>
                    </a:lnTo>
                    <a:lnTo>
                      <a:pt x="618" y="548"/>
                    </a:lnTo>
                    <a:lnTo>
                      <a:pt x="626" y="542"/>
                    </a:lnTo>
                    <a:lnTo>
                      <a:pt x="632" y="536"/>
                    </a:lnTo>
                    <a:lnTo>
                      <a:pt x="629" y="535"/>
                    </a:lnTo>
                    <a:lnTo>
                      <a:pt x="616" y="533"/>
                    </a:lnTo>
                    <a:lnTo>
                      <a:pt x="595" y="540"/>
                    </a:lnTo>
                    <a:lnTo>
                      <a:pt x="574" y="545"/>
                    </a:lnTo>
                    <a:lnTo>
                      <a:pt x="552" y="549"/>
                    </a:lnTo>
                    <a:lnTo>
                      <a:pt x="531" y="551"/>
                    </a:lnTo>
                    <a:lnTo>
                      <a:pt x="509" y="551"/>
                    </a:lnTo>
                    <a:lnTo>
                      <a:pt x="489" y="548"/>
                    </a:lnTo>
                    <a:lnTo>
                      <a:pt x="471" y="544"/>
                    </a:lnTo>
                    <a:lnTo>
                      <a:pt x="453" y="537"/>
                    </a:lnTo>
                    <a:lnTo>
                      <a:pt x="446" y="533"/>
                    </a:lnTo>
                    <a:lnTo>
                      <a:pt x="438" y="529"/>
                    </a:lnTo>
                    <a:lnTo>
                      <a:pt x="432" y="524"/>
                    </a:lnTo>
                    <a:lnTo>
                      <a:pt x="426" y="518"/>
                    </a:lnTo>
                    <a:lnTo>
                      <a:pt x="420" y="511"/>
                    </a:lnTo>
                    <a:lnTo>
                      <a:pt x="415" y="504"/>
                    </a:lnTo>
                    <a:lnTo>
                      <a:pt x="411" y="497"/>
                    </a:lnTo>
                    <a:lnTo>
                      <a:pt x="408" y="488"/>
                    </a:lnTo>
                    <a:lnTo>
                      <a:pt x="405" y="479"/>
                    </a:lnTo>
                    <a:lnTo>
                      <a:pt x="404" y="469"/>
                    </a:lnTo>
                    <a:lnTo>
                      <a:pt x="403" y="460"/>
                    </a:lnTo>
                    <a:lnTo>
                      <a:pt x="403" y="447"/>
                    </a:lnTo>
                    <a:lnTo>
                      <a:pt x="405" y="437"/>
                    </a:lnTo>
                    <a:lnTo>
                      <a:pt x="406" y="424"/>
                    </a:lnTo>
                    <a:lnTo>
                      <a:pt x="410" y="411"/>
                    </a:lnTo>
                    <a:lnTo>
                      <a:pt x="415" y="397"/>
                    </a:lnTo>
                    <a:lnTo>
                      <a:pt x="432" y="365"/>
                    </a:lnTo>
                    <a:lnTo>
                      <a:pt x="441" y="345"/>
                    </a:lnTo>
                    <a:lnTo>
                      <a:pt x="447" y="331"/>
                    </a:lnTo>
                    <a:lnTo>
                      <a:pt x="453" y="319"/>
                    </a:lnTo>
                    <a:lnTo>
                      <a:pt x="456" y="319"/>
                    </a:lnTo>
                    <a:lnTo>
                      <a:pt x="458" y="319"/>
                    </a:lnTo>
                    <a:lnTo>
                      <a:pt x="468" y="329"/>
                    </a:lnTo>
                    <a:lnTo>
                      <a:pt x="478" y="338"/>
                    </a:lnTo>
                    <a:lnTo>
                      <a:pt x="489" y="345"/>
                    </a:lnTo>
                    <a:lnTo>
                      <a:pt x="499" y="349"/>
                    </a:lnTo>
                    <a:lnTo>
                      <a:pt x="509" y="350"/>
                    </a:lnTo>
                    <a:lnTo>
                      <a:pt x="520" y="351"/>
                    </a:lnTo>
                    <a:lnTo>
                      <a:pt x="530" y="350"/>
                    </a:lnTo>
                    <a:lnTo>
                      <a:pt x="540" y="346"/>
                    </a:lnTo>
                    <a:lnTo>
                      <a:pt x="550" y="342"/>
                    </a:lnTo>
                    <a:lnTo>
                      <a:pt x="559" y="336"/>
                    </a:lnTo>
                    <a:lnTo>
                      <a:pt x="569" y="329"/>
                    </a:lnTo>
                    <a:lnTo>
                      <a:pt x="578" y="322"/>
                    </a:lnTo>
                    <a:lnTo>
                      <a:pt x="597" y="305"/>
                    </a:lnTo>
                    <a:lnTo>
                      <a:pt x="616" y="285"/>
                    </a:lnTo>
                    <a:lnTo>
                      <a:pt x="616" y="282"/>
                    </a:lnTo>
                    <a:lnTo>
                      <a:pt x="616" y="281"/>
                    </a:lnTo>
                    <a:lnTo>
                      <a:pt x="610" y="281"/>
                    </a:lnTo>
                    <a:lnTo>
                      <a:pt x="603" y="283"/>
                    </a:lnTo>
                    <a:lnTo>
                      <a:pt x="597" y="288"/>
                    </a:lnTo>
                    <a:lnTo>
                      <a:pt x="589" y="295"/>
                    </a:lnTo>
                    <a:lnTo>
                      <a:pt x="574" y="306"/>
                    </a:lnTo>
                    <a:lnTo>
                      <a:pt x="557" y="320"/>
                    </a:lnTo>
                    <a:lnTo>
                      <a:pt x="548" y="326"/>
                    </a:lnTo>
                    <a:lnTo>
                      <a:pt x="540" y="331"/>
                    </a:lnTo>
                    <a:lnTo>
                      <a:pt x="531" y="335"/>
                    </a:lnTo>
                    <a:lnTo>
                      <a:pt x="520" y="338"/>
                    </a:lnTo>
                    <a:lnTo>
                      <a:pt x="510" y="338"/>
                    </a:lnTo>
                    <a:lnTo>
                      <a:pt x="500" y="336"/>
                    </a:lnTo>
                    <a:lnTo>
                      <a:pt x="489" y="331"/>
                    </a:lnTo>
                    <a:lnTo>
                      <a:pt x="478" y="324"/>
                    </a:lnTo>
                    <a:lnTo>
                      <a:pt x="466" y="308"/>
                    </a:lnTo>
                    <a:lnTo>
                      <a:pt x="461" y="297"/>
                    </a:lnTo>
                    <a:lnTo>
                      <a:pt x="460" y="288"/>
                    </a:lnTo>
                    <a:lnTo>
                      <a:pt x="460" y="272"/>
                    </a:lnTo>
                    <a:lnTo>
                      <a:pt x="458" y="268"/>
                    </a:lnTo>
                    <a:lnTo>
                      <a:pt x="455" y="265"/>
                    </a:lnTo>
                    <a:lnTo>
                      <a:pt x="453" y="261"/>
                    </a:lnTo>
                    <a:lnTo>
                      <a:pt x="452" y="255"/>
                    </a:lnTo>
                    <a:lnTo>
                      <a:pt x="453" y="247"/>
                    </a:lnTo>
                    <a:lnTo>
                      <a:pt x="455" y="236"/>
                    </a:lnTo>
                    <a:lnTo>
                      <a:pt x="476" y="244"/>
                    </a:lnTo>
                    <a:lnTo>
                      <a:pt x="496" y="248"/>
                    </a:lnTo>
                    <a:lnTo>
                      <a:pt x="505" y="249"/>
                    </a:lnTo>
                    <a:lnTo>
                      <a:pt x="515" y="249"/>
                    </a:lnTo>
                    <a:lnTo>
                      <a:pt x="523" y="249"/>
                    </a:lnTo>
                    <a:lnTo>
                      <a:pt x="532" y="248"/>
                    </a:lnTo>
                    <a:lnTo>
                      <a:pt x="541" y="245"/>
                    </a:lnTo>
                    <a:lnTo>
                      <a:pt x="550" y="243"/>
                    </a:lnTo>
                    <a:lnTo>
                      <a:pt x="557" y="240"/>
                    </a:lnTo>
                    <a:lnTo>
                      <a:pt x="566" y="236"/>
                    </a:lnTo>
                    <a:lnTo>
                      <a:pt x="585" y="225"/>
                    </a:lnTo>
                    <a:lnTo>
                      <a:pt x="605" y="210"/>
                    </a:lnTo>
                    <a:lnTo>
                      <a:pt x="605" y="206"/>
                    </a:lnTo>
                    <a:lnTo>
                      <a:pt x="605" y="201"/>
                    </a:lnTo>
                    <a:lnTo>
                      <a:pt x="597" y="209"/>
                    </a:lnTo>
                    <a:lnTo>
                      <a:pt x="587" y="215"/>
                    </a:lnTo>
                    <a:lnTo>
                      <a:pt x="577" y="221"/>
                    </a:lnTo>
                    <a:lnTo>
                      <a:pt x="566" y="227"/>
                    </a:lnTo>
                    <a:lnTo>
                      <a:pt x="556" y="231"/>
                    </a:lnTo>
                    <a:lnTo>
                      <a:pt x="545" y="235"/>
                    </a:lnTo>
                    <a:lnTo>
                      <a:pt x="533" y="236"/>
                    </a:lnTo>
                    <a:lnTo>
                      <a:pt x="523" y="238"/>
                    </a:lnTo>
                    <a:lnTo>
                      <a:pt x="512" y="238"/>
                    </a:lnTo>
                    <a:lnTo>
                      <a:pt x="502" y="236"/>
                    </a:lnTo>
                    <a:lnTo>
                      <a:pt x="491" y="233"/>
                    </a:lnTo>
                    <a:lnTo>
                      <a:pt x="481" y="231"/>
                    </a:lnTo>
                    <a:lnTo>
                      <a:pt x="473" y="225"/>
                    </a:lnTo>
                    <a:lnTo>
                      <a:pt x="463" y="218"/>
                    </a:lnTo>
                    <a:lnTo>
                      <a:pt x="458" y="210"/>
                    </a:lnTo>
                    <a:lnTo>
                      <a:pt x="451" y="199"/>
                    </a:lnTo>
                    <a:lnTo>
                      <a:pt x="450" y="187"/>
                    </a:lnTo>
                    <a:lnTo>
                      <a:pt x="447" y="175"/>
                    </a:lnTo>
                    <a:lnTo>
                      <a:pt x="445" y="164"/>
                    </a:lnTo>
                    <a:lnTo>
                      <a:pt x="442" y="154"/>
                    </a:lnTo>
                    <a:lnTo>
                      <a:pt x="438" y="143"/>
                    </a:lnTo>
                    <a:lnTo>
                      <a:pt x="434" y="136"/>
                    </a:lnTo>
                    <a:lnTo>
                      <a:pt x="429" y="129"/>
                    </a:lnTo>
                    <a:lnTo>
                      <a:pt x="424" y="122"/>
                    </a:lnTo>
                    <a:lnTo>
                      <a:pt x="419" y="116"/>
                    </a:lnTo>
                    <a:lnTo>
                      <a:pt x="413" y="111"/>
                    </a:lnTo>
                    <a:lnTo>
                      <a:pt x="408" y="107"/>
                    </a:lnTo>
                    <a:lnTo>
                      <a:pt x="401" y="103"/>
                    </a:lnTo>
                    <a:lnTo>
                      <a:pt x="388" y="96"/>
                    </a:lnTo>
                    <a:lnTo>
                      <a:pt x="373" y="91"/>
                    </a:lnTo>
                    <a:lnTo>
                      <a:pt x="341" y="84"/>
                    </a:lnTo>
                    <a:lnTo>
                      <a:pt x="309" y="77"/>
                    </a:lnTo>
                    <a:lnTo>
                      <a:pt x="292" y="73"/>
                    </a:lnTo>
                    <a:lnTo>
                      <a:pt x="277" y="68"/>
                    </a:lnTo>
                    <a:lnTo>
                      <a:pt x="262" y="61"/>
                    </a:lnTo>
                    <a:lnTo>
                      <a:pt x="247" y="52"/>
                    </a:lnTo>
                    <a:lnTo>
                      <a:pt x="245" y="50"/>
                    </a:lnTo>
                    <a:lnTo>
                      <a:pt x="245" y="47"/>
                    </a:lnTo>
                    <a:lnTo>
                      <a:pt x="266" y="47"/>
                    </a:lnTo>
                    <a:lnTo>
                      <a:pt x="286" y="46"/>
                    </a:lnTo>
                    <a:lnTo>
                      <a:pt x="309" y="45"/>
                    </a:lnTo>
                    <a:lnTo>
                      <a:pt x="331" y="41"/>
                    </a:lnTo>
                    <a:lnTo>
                      <a:pt x="346" y="54"/>
                    </a:lnTo>
                    <a:lnTo>
                      <a:pt x="361" y="65"/>
                    </a:lnTo>
                    <a:lnTo>
                      <a:pt x="377" y="75"/>
                    </a:lnTo>
                    <a:lnTo>
                      <a:pt x="394" y="83"/>
                    </a:lnTo>
                    <a:lnTo>
                      <a:pt x="411" y="89"/>
                    </a:lnTo>
                    <a:lnTo>
                      <a:pt x="429" y="93"/>
                    </a:lnTo>
                    <a:lnTo>
                      <a:pt x="447" y="97"/>
                    </a:lnTo>
                    <a:lnTo>
                      <a:pt x="466" y="99"/>
                    </a:lnTo>
                    <a:lnTo>
                      <a:pt x="483" y="97"/>
                    </a:lnTo>
                    <a:lnTo>
                      <a:pt x="503" y="96"/>
                    </a:lnTo>
                    <a:lnTo>
                      <a:pt x="520" y="93"/>
                    </a:lnTo>
                    <a:lnTo>
                      <a:pt x="538" y="88"/>
                    </a:lnTo>
                    <a:lnTo>
                      <a:pt x="557" y="81"/>
                    </a:lnTo>
                    <a:lnTo>
                      <a:pt x="574" y="73"/>
                    </a:lnTo>
                    <a:lnTo>
                      <a:pt x="592" y="63"/>
                    </a:lnTo>
                    <a:lnTo>
                      <a:pt x="608" y="52"/>
                    </a:lnTo>
                    <a:lnTo>
                      <a:pt x="618" y="39"/>
                    </a:lnTo>
                    <a:lnTo>
                      <a:pt x="630" y="23"/>
                    </a:lnTo>
                    <a:lnTo>
                      <a:pt x="636" y="16"/>
                    </a:lnTo>
                    <a:lnTo>
                      <a:pt x="642" y="9"/>
                    </a:lnTo>
                    <a:lnTo>
                      <a:pt x="649" y="4"/>
                    </a:lnTo>
                    <a:lnTo>
                      <a:pt x="657" y="0"/>
                    </a:lnTo>
                    <a:lnTo>
                      <a:pt x="649" y="15"/>
                    </a:lnTo>
                    <a:lnTo>
                      <a:pt x="642" y="29"/>
                    </a:lnTo>
                    <a:lnTo>
                      <a:pt x="637" y="42"/>
                    </a:lnTo>
                    <a:lnTo>
                      <a:pt x="634" y="56"/>
                    </a:lnTo>
                    <a:lnTo>
                      <a:pt x="630" y="69"/>
                    </a:lnTo>
                    <a:lnTo>
                      <a:pt x="627" y="83"/>
                    </a:lnTo>
                    <a:lnTo>
                      <a:pt x="625" y="96"/>
                    </a:lnTo>
                    <a:lnTo>
                      <a:pt x="623" y="110"/>
                    </a:lnTo>
                    <a:lnTo>
                      <a:pt x="623" y="136"/>
                    </a:lnTo>
                    <a:lnTo>
                      <a:pt x="625" y="161"/>
                    </a:lnTo>
                    <a:lnTo>
                      <a:pt x="627" y="187"/>
                    </a:lnTo>
                    <a:lnTo>
                      <a:pt x="632" y="213"/>
                    </a:lnTo>
                    <a:lnTo>
                      <a:pt x="644" y="265"/>
                    </a:lnTo>
                    <a:lnTo>
                      <a:pt x="654" y="317"/>
                    </a:lnTo>
                    <a:lnTo>
                      <a:pt x="659" y="343"/>
                    </a:lnTo>
                    <a:lnTo>
                      <a:pt x="662" y="370"/>
                    </a:lnTo>
                    <a:lnTo>
                      <a:pt x="664" y="399"/>
                    </a:lnTo>
                    <a:lnTo>
                      <a:pt x="664" y="427"/>
                    </a:lnTo>
                    <a:lnTo>
                      <a:pt x="660" y="461"/>
                    </a:lnTo>
                    <a:lnTo>
                      <a:pt x="657" y="490"/>
                    </a:lnTo>
                    <a:lnTo>
                      <a:pt x="655" y="513"/>
                    </a:lnTo>
                    <a:lnTo>
                      <a:pt x="654" y="533"/>
                    </a:lnTo>
                    <a:lnTo>
                      <a:pt x="655" y="554"/>
                    </a:lnTo>
                    <a:lnTo>
                      <a:pt x="659" y="576"/>
                    </a:lnTo>
                    <a:lnTo>
                      <a:pt x="664" y="604"/>
                    </a:lnTo>
                    <a:lnTo>
                      <a:pt x="673" y="636"/>
                    </a:lnTo>
                    <a:lnTo>
                      <a:pt x="674" y="667"/>
                    </a:lnTo>
                    <a:lnTo>
                      <a:pt x="674" y="700"/>
                    </a:lnTo>
                    <a:lnTo>
                      <a:pt x="672" y="731"/>
                    </a:lnTo>
                    <a:lnTo>
                      <a:pt x="668" y="762"/>
                    </a:lnTo>
                    <a:lnTo>
                      <a:pt x="665" y="792"/>
                    </a:lnTo>
                    <a:lnTo>
                      <a:pt x="662" y="824"/>
                    </a:lnTo>
                    <a:lnTo>
                      <a:pt x="662" y="840"/>
                    </a:lnTo>
                    <a:lnTo>
                      <a:pt x="662" y="855"/>
                    </a:lnTo>
                    <a:lnTo>
                      <a:pt x="662" y="871"/>
                    </a:lnTo>
                    <a:lnTo>
                      <a:pt x="664" y="886"/>
                    </a:lnTo>
                    <a:lnTo>
                      <a:pt x="669" y="892"/>
                    </a:lnTo>
                    <a:lnTo>
                      <a:pt x="669" y="897"/>
                    </a:lnTo>
                    <a:lnTo>
                      <a:pt x="668" y="899"/>
                    </a:lnTo>
                    <a:lnTo>
                      <a:pt x="662" y="901"/>
                    </a:lnTo>
                    <a:lnTo>
                      <a:pt x="647" y="903"/>
                    </a:lnTo>
                    <a:lnTo>
                      <a:pt x="629" y="901"/>
                    </a:lnTo>
                    <a:lnTo>
                      <a:pt x="587" y="896"/>
                    </a:lnTo>
                    <a:lnTo>
                      <a:pt x="568" y="892"/>
                    </a:lnTo>
                    <a:lnTo>
                      <a:pt x="559" y="883"/>
                    </a:lnTo>
                    <a:lnTo>
                      <a:pt x="550" y="876"/>
                    </a:lnTo>
                    <a:lnTo>
                      <a:pt x="541" y="869"/>
                    </a:lnTo>
                    <a:lnTo>
                      <a:pt x="531" y="865"/>
                    </a:lnTo>
                    <a:lnTo>
                      <a:pt x="520" y="862"/>
                    </a:lnTo>
                    <a:lnTo>
                      <a:pt x="510" y="860"/>
                    </a:lnTo>
                    <a:lnTo>
                      <a:pt x="500" y="858"/>
                    </a:lnTo>
                    <a:lnTo>
                      <a:pt x="490" y="858"/>
                    </a:lnTo>
                    <a:lnTo>
                      <a:pt x="478" y="858"/>
                    </a:lnTo>
                    <a:lnTo>
                      <a:pt x="468" y="860"/>
                    </a:lnTo>
                    <a:lnTo>
                      <a:pt x="458" y="862"/>
                    </a:lnTo>
                    <a:lnTo>
                      <a:pt x="447" y="864"/>
                    </a:lnTo>
                    <a:lnTo>
                      <a:pt x="437" y="869"/>
                    </a:lnTo>
                    <a:lnTo>
                      <a:pt x="426" y="874"/>
                    </a:lnTo>
                    <a:lnTo>
                      <a:pt x="416" y="879"/>
                    </a:lnTo>
                    <a:lnTo>
                      <a:pt x="408" y="885"/>
                    </a:lnTo>
                    <a:lnTo>
                      <a:pt x="398" y="892"/>
                    </a:lnTo>
                    <a:lnTo>
                      <a:pt x="389" y="898"/>
                    </a:lnTo>
                    <a:lnTo>
                      <a:pt x="381" y="906"/>
                    </a:lnTo>
                    <a:lnTo>
                      <a:pt x="372" y="915"/>
                    </a:lnTo>
                    <a:lnTo>
                      <a:pt x="364" y="923"/>
                    </a:lnTo>
                    <a:lnTo>
                      <a:pt x="358" y="932"/>
                    </a:lnTo>
                    <a:lnTo>
                      <a:pt x="352" y="942"/>
                    </a:lnTo>
                    <a:lnTo>
                      <a:pt x="346" y="951"/>
                    </a:lnTo>
                    <a:lnTo>
                      <a:pt x="341" y="960"/>
                    </a:lnTo>
                    <a:lnTo>
                      <a:pt x="336" y="971"/>
                    </a:lnTo>
                    <a:lnTo>
                      <a:pt x="333" y="982"/>
                    </a:lnTo>
                    <a:lnTo>
                      <a:pt x="331" y="994"/>
                    </a:lnTo>
                    <a:lnTo>
                      <a:pt x="329" y="1004"/>
                    </a:lnTo>
                    <a:lnTo>
                      <a:pt x="329" y="1015"/>
                    </a:lnTo>
                    <a:lnTo>
                      <a:pt x="329" y="1026"/>
                    </a:lnTo>
                    <a:lnTo>
                      <a:pt x="331" y="1037"/>
                    </a:lnTo>
                    <a:lnTo>
                      <a:pt x="338" y="1049"/>
                    </a:lnTo>
                    <a:lnTo>
                      <a:pt x="346" y="1058"/>
                    </a:lnTo>
                    <a:lnTo>
                      <a:pt x="352" y="1065"/>
                    </a:lnTo>
                    <a:lnTo>
                      <a:pt x="358" y="1071"/>
                    </a:lnTo>
                    <a:lnTo>
                      <a:pt x="364" y="1075"/>
                    </a:lnTo>
                    <a:lnTo>
                      <a:pt x="369" y="1076"/>
                    </a:lnTo>
                    <a:lnTo>
                      <a:pt x="376" y="1076"/>
                    </a:lnTo>
                    <a:lnTo>
                      <a:pt x="381" y="1075"/>
                    </a:lnTo>
                    <a:lnTo>
                      <a:pt x="406" y="1064"/>
                    </a:lnTo>
                    <a:lnTo>
                      <a:pt x="441" y="1050"/>
                    </a:lnTo>
                    <a:lnTo>
                      <a:pt x="443" y="1078"/>
                    </a:lnTo>
                    <a:lnTo>
                      <a:pt x="446" y="1112"/>
                    </a:lnTo>
                    <a:lnTo>
                      <a:pt x="446" y="1128"/>
                    </a:lnTo>
                    <a:lnTo>
                      <a:pt x="443" y="1141"/>
                    </a:lnTo>
                    <a:lnTo>
                      <a:pt x="442" y="1148"/>
                    </a:lnTo>
                    <a:lnTo>
                      <a:pt x="438" y="1153"/>
                    </a:lnTo>
                    <a:lnTo>
                      <a:pt x="434" y="1159"/>
                    </a:lnTo>
                    <a:lnTo>
                      <a:pt x="429" y="1162"/>
                    </a:lnTo>
                    <a:lnTo>
                      <a:pt x="405" y="1190"/>
                    </a:lnTo>
                    <a:lnTo>
                      <a:pt x="383" y="1216"/>
                    </a:lnTo>
                    <a:lnTo>
                      <a:pt x="363" y="1241"/>
                    </a:lnTo>
                    <a:lnTo>
                      <a:pt x="346" y="1269"/>
                    </a:lnTo>
                    <a:lnTo>
                      <a:pt x="331" y="1294"/>
                    </a:lnTo>
                    <a:lnTo>
                      <a:pt x="318" y="1321"/>
                    </a:lnTo>
                    <a:lnTo>
                      <a:pt x="306" y="1348"/>
                    </a:lnTo>
                    <a:lnTo>
                      <a:pt x="296" y="1375"/>
                    </a:lnTo>
                    <a:lnTo>
                      <a:pt x="289" y="1403"/>
                    </a:lnTo>
                    <a:lnTo>
                      <a:pt x="282" y="1432"/>
                    </a:lnTo>
                    <a:lnTo>
                      <a:pt x="277" y="1461"/>
                    </a:lnTo>
                    <a:lnTo>
                      <a:pt x="273" y="1493"/>
                    </a:lnTo>
                    <a:lnTo>
                      <a:pt x="271" y="1525"/>
                    </a:lnTo>
                    <a:lnTo>
                      <a:pt x="269" y="1559"/>
                    </a:lnTo>
                    <a:lnTo>
                      <a:pt x="268" y="1594"/>
                    </a:lnTo>
                    <a:lnTo>
                      <a:pt x="268" y="1632"/>
                    </a:lnTo>
                    <a:lnTo>
                      <a:pt x="272" y="1665"/>
                    </a:lnTo>
                    <a:lnTo>
                      <a:pt x="274" y="1693"/>
                    </a:lnTo>
                    <a:lnTo>
                      <a:pt x="279" y="1719"/>
                    </a:lnTo>
                    <a:lnTo>
                      <a:pt x="284" y="1743"/>
                    </a:lnTo>
                    <a:lnTo>
                      <a:pt x="289" y="1766"/>
                    </a:lnTo>
                    <a:lnTo>
                      <a:pt x="296" y="1787"/>
                    </a:lnTo>
                    <a:lnTo>
                      <a:pt x="304" y="1806"/>
                    </a:lnTo>
                    <a:lnTo>
                      <a:pt x="312" y="1824"/>
                    </a:lnTo>
                    <a:lnTo>
                      <a:pt x="321" y="1841"/>
                    </a:lnTo>
                    <a:lnTo>
                      <a:pt x="333" y="1859"/>
                    </a:lnTo>
                    <a:lnTo>
                      <a:pt x="346" y="1877"/>
                    </a:lnTo>
                    <a:lnTo>
                      <a:pt x="358" y="1895"/>
                    </a:lnTo>
                    <a:lnTo>
                      <a:pt x="389" y="1932"/>
                    </a:lnTo>
                    <a:lnTo>
                      <a:pt x="426" y="1974"/>
                    </a:lnTo>
                    <a:lnTo>
                      <a:pt x="447" y="1988"/>
                    </a:lnTo>
                    <a:lnTo>
                      <a:pt x="458" y="1996"/>
                    </a:lnTo>
                    <a:lnTo>
                      <a:pt x="463" y="1999"/>
                    </a:lnTo>
                    <a:lnTo>
                      <a:pt x="465" y="2002"/>
                    </a:lnTo>
                    <a:lnTo>
                      <a:pt x="463" y="2006"/>
                    </a:lnTo>
                    <a:lnTo>
                      <a:pt x="458" y="2007"/>
                    </a:lnTo>
                    <a:lnTo>
                      <a:pt x="458" y="2019"/>
                    </a:lnTo>
                    <a:lnTo>
                      <a:pt x="458" y="2031"/>
                    </a:lnTo>
                    <a:lnTo>
                      <a:pt x="458" y="2043"/>
                    </a:lnTo>
                    <a:lnTo>
                      <a:pt x="456" y="2056"/>
                    </a:lnTo>
                    <a:lnTo>
                      <a:pt x="451" y="2059"/>
                    </a:lnTo>
                    <a:lnTo>
                      <a:pt x="445" y="2061"/>
                    </a:lnTo>
                    <a:lnTo>
                      <a:pt x="438" y="2064"/>
                    </a:lnTo>
                    <a:lnTo>
                      <a:pt x="432" y="2064"/>
                    </a:lnTo>
                    <a:lnTo>
                      <a:pt x="420" y="2065"/>
                    </a:lnTo>
                    <a:lnTo>
                      <a:pt x="409" y="2064"/>
                    </a:lnTo>
                  </a:path>
                </a:pathLst>
              </a:custGeom>
              <a:solidFill>
                <a:srgbClr val="fff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27800" y="4768920"/>
                <a:ext cx="585720" cy="939600"/>
              </a:xfrm>
              <a:custGeom>
                <a:avLst/>
                <a:gdLst/>
                <a:ahLst/>
                <a:rect l="l" t="t" r="r" b="b"/>
                <a:pathLst>
                  <a:path w="369" h="592">
                    <a:moveTo>
                      <a:pt x="142" y="591"/>
                    </a:moveTo>
                    <a:lnTo>
                      <a:pt x="123" y="586"/>
                    </a:lnTo>
                    <a:lnTo>
                      <a:pt x="105" y="581"/>
                    </a:lnTo>
                    <a:lnTo>
                      <a:pt x="87" y="575"/>
                    </a:lnTo>
                    <a:lnTo>
                      <a:pt x="70" y="568"/>
                    </a:lnTo>
                    <a:lnTo>
                      <a:pt x="35" y="552"/>
                    </a:lnTo>
                    <a:lnTo>
                      <a:pt x="0" y="541"/>
                    </a:lnTo>
                    <a:lnTo>
                      <a:pt x="1" y="534"/>
                    </a:lnTo>
                    <a:lnTo>
                      <a:pt x="4" y="529"/>
                    </a:lnTo>
                    <a:lnTo>
                      <a:pt x="8" y="522"/>
                    </a:lnTo>
                    <a:lnTo>
                      <a:pt x="12" y="516"/>
                    </a:lnTo>
                    <a:lnTo>
                      <a:pt x="19" y="504"/>
                    </a:lnTo>
                    <a:lnTo>
                      <a:pt x="27" y="493"/>
                    </a:lnTo>
                    <a:lnTo>
                      <a:pt x="30" y="465"/>
                    </a:lnTo>
                    <a:lnTo>
                      <a:pt x="35" y="436"/>
                    </a:lnTo>
                    <a:lnTo>
                      <a:pt x="37" y="406"/>
                    </a:lnTo>
                    <a:lnTo>
                      <a:pt x="38" y="377"/>
                    </a:lnTo>
                    <a:lnTo>
                      <a:pt x="40" y="348"/>
                    </a:lnTo>
                    <a:lnTo>
                      <a:pt x="40" y="318"/>
                    </a:lnTo>
                    <a:lnTo>
                      <a:pt x="42" y="290"/>
                    </a:lnTo>
                    <a:lnTo>
                      <a:pt x="43" y="260"/>
                    </a:lnTo>
                    <a:lnTo>
                      <a:pt x="61" y="260"/>
                    </a:lnTo>
                    <a:lnTo>
                      <a:pt x="77" y="259"/>
                    </a:lnTo>
                    <a:lnTo>
                      <a:pt x="92" y="257"/>
                    </a:lnTo>
                    <a:lnTo>
                      <a:pt x="108" y="256"/>
                    </a:lnTo>
                    <a:lnTo>
                      <a:pt x="122" y="252"/>
                    </a:lnTo>
                    <a:lnTo>
                      <a:pt x="136" y="249"/>
                    </a:lnTo>
                    <a:lnTo>
                      <a:pt x="149" y="245"/>
                    </a:lnTo>
                    <a:lnTo>
                      <a:pt x="161" y="240"/>
                    </a:lnTo>
                    <a:lnTo>
                      <a:pt x="172" y="234"/>
                    </a:lnTo>
                    <a:lnTo>
                      <a:pt x="184" y="229"/>
                    </a:lnTo>
                    <a:lnTo>
                      <a:pt x="194" y="223"/>
                    </a:lnTo>
                    <a:lnTo>
                      <a:pt x="204" y="217"/>
                    </a:lnTo>
                    <a:lnTo>
                      <a:pt x="224" y="200"/>
                    </a:lnTo>
                    <a:lnTo>
                      <a:pt x="241" y="184"/>
                    </a:lnTo>
                    <a:lnTo>
                      <a:pt x="258" y="165"/>
                    </a:lnTo>
                    <a:lnTo>
                      <a:pt x="273" y="146"/>
                    </a:lnTo>
                    <a:lnTo>
                      <a:pt x="288" y="125"/>
                    </a:lnTo>
                    <a:lnTo>
                      <a:pt x="302" y="102"/>
                    </a:lnTo>
                    <a:lnTo>
                      <a:pt x="331" y="52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1"/>
                    </a:lnTo>
                    <a:lnTo>
                      <a:pt x="368" y="16"/>
                    </a:lnTo>
                    <a:lnTo>
                      <a:pt x="367" y="31"/>
                    </a:lnTo>
                    <a:lnTo>
                      <a:pt x="364" y="45"/>
                    </a:lnTo>
                    <a:lnTo>
                      <a:pt x="361" y="59"/>
                    </a:lnTo>
                    <a:lnTo>
                      <a:pt x="349" y="86"/>
                    </a:lnTo>
                    <a:lnTo>
                      <a:pt x="336" y="113"/>
                    </a:lnTo>
                    <a:lnTo>
                      <a:pt x="323" y="142"/>
                    </a:lnTo>
                    <a:lnTo>
                      <a:pt x="311" y="170"/>
                    </a:lnTo>
                    <a:lnTo>
                      <a:pt x="306" y="186"/>
                    </a:lnTo>
                    <a:lnTo>
                      <a:pt x="302" y="200"/>
                    </a:lnTo>
                    <a:lnTo>
                      <a:pt x="301" y="217"/>
                    </a:lnTo>
                    <a:lnTo>
                      <a:pt x="299" y="233"/>
                    </a:lnTo>
                    <a:lnTo>
                      <a:pt x="307" y="266"/>
                    </a:lnTo>
                    <a:lnTo>
                      <a:pt x="313" y="298"/>
                    </a:lnTo>
                    <a:lnTo>
                      <a:pt x="320" y="331"/>
                    </a:lnTo>
                    <a:lnTo>
                      <a:pt x="324" y="363"/>
                    </a:lnTo>
                    <a:lnTo>
                      <a:pt x="326" y="395"/>
                    </a:lnTo>
                    <a:lnTo>
                      <a:pt x="328" y="423"/>
                    </a:lnTo>
                    <a:lnTo>
                      <a:pt x="326" y="438"/>
                    </a:lnTo>
                    <a:lnTo>
                      <a:pt x="325" y="452"/>
                    </a:lnTo>
                    <a:lnTo>
                      <a:pt x="324" y="465"/>
                    </a:lnTo>
                    <a:lnTo>
                      <a:pt x="321" y="477"/>
                    </a:lnTo>
                    <a:lnTo>
                      <a:pt x="317" y="491"/>
                    </a:lnTo>
                    <a:lnTo>
                      <a:pt x="312" y="502"/>
                    </a:lnTo>
                    <a:lnTo>
                      <a:pt x="307" y="513"/>
                    </a:lnTo>
                    <a:lnTo>
                      <a:pt x="302" y="523"/>
                    </a:lnTo>
                    <a:lnTo>
                      <a:pt x="294" y="534"/>
                    </a:lnTo>
                    <a:lnTo>
                      <a:pt x="287" y="543"/>
                    </a:lnTo>
                    <a:lnTo>
                      <a:pt x="278" y="552"/>
                    </a:lnTo>
                    <a:lnTo>
                      <a:pt x="268" y="559"/>
                    </a:lnTo>
                    <a:lnTo>
                      <a:pt x="256" y="566"/>
                    </a:lnTo>
                    <a:lnTo>
                      <a:pt x="244" y="572"/>
                    </a:lnTo>
                    <a:lnTo>
                      <a:pt x="229" y="577"/>
                    </a:lnTo>
                    <a:lnTo>
                      <a:pt x="216" y="583"/>
                    </a:lnTo>
                    <a:lnTo>
                      <a:pt x="199" y="586"/>
                    </a:lnTo>
                    <a:lnTo>
                      <a:pt x="182" y="588"/>
                    </a:lnTo>
                    <a:lnTo>
                      <a:pt x="162" y="589"/>
                    </a:lnTo>
                    <a:lnTo>
                      <a:pt x="142" y="591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5520" y="4572000"/>
                <a:ext cx="593640" cy="836640"/>
              </a:xfrm>
              <a:custGeom>
                <a:avLst/>
                <a:gdLst/>
                <a:ahLst/>
                <a:rect l="l" t="t" r="r" b="b"/>
                <a:pathLst>
                  <a:path w="374" h="527">
                    <a:moveTo>
                      <a:pt x="194" y="526"/>
                    </a:moveTo>
                    <a:lnTo>
                      <a:pt x="188" y="522"/>
                    </a:lnTo>
                    <a:lnTo>
                      <a:pt x="183" y="514"/>
                    </a:lnTo>
                    <a:lnTo>
                      <a:pt x="179" y="504"/>
                    </a:lnTo>
                    <a:lnTo>
                      <a:pt x="175" y="495"/>
                    </a:lnTo>
                    <a:lnTo>
                      <a:pt x="169" y="469"/>
                    </a:lnTo>
                    <a:lnTo>
                      <a:pt x="164" y="442"/>
                    </a:lnTo>
                    <a:lnTo>
                      <a:pt x="161" y="429"/>
                    </a:lnTo>
                    <a:lnTo>
                      <a:pt x="157" y="415"/>
                    </a:lnTo>
                    <a:lnTo>
                      <a:pt x="152" y="401"/>
                    </a:lnTo>
                    <a:lnTo>
                      <a:pt x="146" y="389"/>
                    </a:lnTo>
                    <a:lnTo>
                      <a:pt x="139" y="379"/>
                    </a:lnTo>
                    <a:lnTo>
                      <a:pt x="131" y="370"/>
                    </a:lnTo>
                    <a:lnTo>
                      <a:pt x="126" y="366"/>
                    </a:lnTo>
                    <a:lnTo>
                      <a:pt x="120" y="363"/>
                    </a:lnTo>
                    <a:lnTo>
                      <a:pt x="115" y="361"/>
                    </a:lnTo>
                    <a:lnTo>
                      <a:pt x="109" y="359"/>
                    </a:lnTo>
                    <a:lnTo>
                      <a:pt x="120" y="395"/>
                    </a:lnTo>
                    <a:lnTo>
                      <a:pt x="139" y="450"/>
                    </a:lnTo>
                    <a:lnTo>
                      <a:pt x="142" y="464"/>
                    </a:lnTo>
                    <a:lnTo>
                      <a:pt x="143" y="477"/>
                    </a:lnTo>
                    <a:lnTo>
                      <a:pt x="144" y="490"/>
                    </a:lnTo>
                    <a:lnTo>
                      <a:pt x="142" y="502"/>
                    </a:lnTo>
                    <a:lnTo>
                      <a:pt x="141" y="506"/>
                    </a:lnTo>
                    <a:lnTo>
                      <a:pt x="138" y="510"/>
                    </a:lnTo>
                    <a:lnTo>
                      <a:pt x="136" y="514"/>
                    </a:lnTo>
                    <a:lnTo>
                      <a:pt x="132" y="518"/>
                    </a:lnTo>
                    <a:lnTo>
                      <a:pt x="128" y="521"/>
                    </a:lnTo>
                    <a:lnTo>
                      <a:pt x="123" y="522"/>
                    </a:lnTo>
                    <a:lnTo>
                      <a:pt x="118" y="524"/>
                    </a:lnTo>
                    <a:lnTo>
                      <a:pt x="111" y="524"/>
                    </a:lnTo>
                    <a:lnTo>
                      <a:pt x="109" y="521"/>
                    </a:lnTo>
                    <a:lnTo>
                      <a:pt x="107" y="517"/>
                    </a:lnTo>
                    <a:lnTo>
                      <a:pt x="105" y="511"/>
                    </a:lnTo>
                    <a:lnTo>
                      <a:pt x="105" y="504"/>
                    </a:lnTo>
                    <a:lnTo>
                      <a:pt x="104" y="490"/>
                    </a:lnTo>
                    <a:lnTo>
                      <a:pt x="102" y="474"/>
                    </a:lnTo>
                    <a:lnTo>
                      <a:pt x="102" y="440"/>
                    </a:lnTo>
                    <a:lnTo>
                      <a:pt x="101" y="413"/>
                    </a:lnTo>
                    <a:lnTo>
                      <a:pt x="94" y="395"/>
                    </a:lnTo>
                    <a:lnTo>
                      <a:pt x="86" y="376"/>
                    </a:lnTo>
                    <a:lnTo>
                      <a:pt x="79" y="358"/>
                    </a:lnTo>
                    <a:lnTo>
                      <a:pt x="74" y="342"/>
                    </a:lnTo>
                    <a:lnTo>
                      <a:pt x="66" y="342"/>
                    </a:lnTo>
                    <a:lnTo>
                      <a:pt x="57" y="343"/>
                    </a:lnTo>
                    <a:lnTo>
                      <a:pt x="61" y="363"/>
                    </a:lnTo>
                    <a:lnTo>
                      <a:pt x="63" y="385"/>
                    </a:lnTo>
                    <a:lnTo>
                      <a:pt x="66" y="408"/>
                    </a:lnTo>
                    <a:lnTo>
                      <a:pt x="66" y="431"/>
                    </a:lnTo>
                    <a:lnTo>
                      <a:pt x="64" y="442"/>
                    </a:lnTo>
                    <a:lnTo>
                      <a:pt x="63" y="454"/>
                    </a:lnTo>
                    <a:lnTo>
                      <a:pt x="61" y="465"/>
                    </a:lnTo>
                    <a:lnTo>
                      <a:pt x="57" y="474"/>
                    </a:lnTo>
                    <a:lnTo>
                      <a:pt x="52" y="485"/>
                    </a:lnTo>
                    <a:lnTo>
                      <a:pt x="47" y="495"/>
                    </a:lnTo>
                    <a:lnTo>
                      <a:pt x="40" y="504"/>
                    </a:lnTo>
                    <a:lnTo>
                      <a:pt x="32" y="513"/>
                    </a:lnTo>
                    <a:lnTo>
                      <a:pt x="22" y="517"/>
                    </a:lnTo>
                    <a:lnTo>
                      <a:pt x="14" y="519"/>
                    </a:lnTo>
                    <a:lnTo>
                      <a:pt x="7" y="519"/>
                    </a:lnTo>
                    <a:lnTo>
                      <a:pt x="4" y="518"/>
                    </a:lnTo>
                    <a:lnTo>
                      <a:pt x="1" y="517"/>
                    </a:lnTo>
                    <a:lnTo>
                      <a:pt x="0" y="513"/>
                    </a:lnTo>
                    <a:lnTo>
                      <a:pt x="0" y="508"/>
                    </a:lnTo>
                    <a:lnTo>
                      <a:pt x="1" y="503"/>
                    </a:lnTo>
                    <a:lnTo>
                      <a:pt x="6" y="491"/>
                    </a:lnTo>
                    <a:lnTo>
                      <a:pt x="14" y="479"/>
                    </a:lnTo>
                    <a:lnTo>
                      <a:pt x="22" y="468"/>
                    </a:lnTo>
                    <a:lnTo>
                      <a:pt x="29" y="458"/>
                    </a:lnTo>
                    <a:lnTo>
                      <a:pt x="34" y="440"/>
                    </a:lnTo>
                    <a:lnTo>
                      <a:pt x="38" y="420"/>
                    </a:lnTo>
                    <a:lnTo>
                      <a:pt x="39" y="403"/>
                    </a:lnTo>
                    <a:lnTo>
                      <a:pt x="40" y="386"/>
                    </a:lnTo>
                    <a:lnTo>
                      <a:pt x="40" y="369"/>
                    </a:lnTo>
                    <a:lnTo>
                      <a:pt x="39" y="351"/>
                    </a:lnTo>
                    <a:lnTo>
                      <a:pt x="37" y="333"/>
                    </a:lnTo>
                    <a:lnTo>
                      <a:pt x="34" y="315"/>
                    </a:lnTo>
                    <a:lnTo>
                      <a:pt x="37" y="292"/>
                    </a:lnTo>
                    <a:lnTo>
                      <a:pt x="40" y="270"/>
                    </a:lnTo>
                    <a:lnTo>
                      <a:pt x="47" y="248"/>
                    </a:lnTo>
                    <a:lnTo>
                      <a:pt x="56" y="226"/>
                    </a:lnTo>
                    <a:lnTo>
                      <a:pt x="64" y="206"/>
                    </a:lnTo>
                    <a:lnTo>
                      <a:pt x="76" y="186"/>
                    </a:lnTo>
                    <a:lnTo>
                      <a:pt x="87" y="167"/>
                    </a:lnTo>
                    <a:lnTo>
                      <a:pt x="101" y="147"/>
                    </a:lnTo>
                    <a:lnTo>
                      <a:pt x="128" y="110"/>
                    </a:lnTo>
                    <a:lnTo>
                      <a:pt x="157" y="73"/>
                    </a:lnTo>
                    <a:lnTo>
                      <a:pt x="185" y="36"/>
                    </a:lnTo>
                    <a:lnTo>
                      <a:pt x="209" y="0"/>
                    </a:lnTo>
                    <a:lnTo>
                      <a:pt x="221" y="2"/>
                    </a:lnTo>
                    <a:lnTo>
                      <a:pt x="234" y="6"/>
                    </a:lnTo>
                    <a:lnTo>
                      <a:pt x="250" y="13"/>
                    </a:lnTo>
                    <a:lnTo>
                      <a:pt x="265" y="24"/>
                    </a:lnTo>
                    <a:lnTo>
                      <a:pt x="280" y="35"/>
                    </a:lnTo>
                    <a:lnTo>
                      <a:pt x="297" y="49"/>
                    </a:lnTo>
                    <a:lnTo>
                      <a:pt x="312" y="63"/>
                    </a:lnTo>
                    <a:lnTo>
                      <a:pt x="327" y="79"/>
                    </a:lnTo>
                    <a:lnTo>
                      <a:pt x="340" y="96"/>
                    </a:lnTo>
                    <a:lnTo>
                      <a:pt x="353" y="113"/>
                    </a:lnTo>
                    <a:lnTo>
                      <a:pt x="361" y="131"/>
                    </a:lnTo>
                    <a:lnTo>
                      <a:pt x="369" y="149"/>
                    </a:lnTo>
                    <a:lnTo>
                      <a:pt x="370" y="157"/>
                    </a:lnTo>
                    <a:lnTo>
                      <a:pt x="373" y="165"/>
                    </a:lnTo>
                    <a:lnTo>
                      <a:pt x="373" y="174"/>
                    </a:lnTo>
                    <a:lnTo>
                      <a:pt x="373" y="181"/>
                    </a:lnTo>
                    <a:lnTo>
                      <a:pt x="372" y="190"/>
                    </a:lnTo>
                    <a:lnTo>
                      <a:pt x="369" y="197"/>
                    </a:lnTo>
                    <a:lnTo>
                      <a:pt x="367" y="203"/>
                    </a:lnTo>
                    <a:lnTo>
                      <a:pt x="361" y="210"/>
                    </a:lnTo>
                    <a:lnTo>
                      <a:pt x="348" y="211"/>
                    </a:lnTo>
                    <a:lnTo>
                      <a:pt x="338" y="213"/>
                    </a:lnTo>
                    <a:lnTo>
                      <a:pt x="325" y="211"/>
                    </a:lnTo>
                    <a:lnTo>
                      <a:pt x="312" y="210"/>
                    </a:lnTo>
                    <a:lnTo>
                      <a:pt x="288" y="207"/>
                    </a:lnTo>
                    <a:lnTo>
                      <a:pt x="265" y="203"/>
                    </a:lnTo>
                    <a:lnTo>
                      <a:pt x="253" y="203"/>
                    </a:lnTo>
                    <a:lnTo>
                      <a:pt x="242" y="203"/>
                    </a:lnTo>
                    <a:lnTo>
                      <a:pt x="232" y="204"/>
                    </a:lnTo>
                    <a:lnTo>
                      <a:pt x="221" y="207"/>
                    </a:lnTo>
                    <a:lnTo>
                      <a:pt x="211" y="213"/>
                    </a:lnTo>
                    <a:lnTo>
                      <a:pt x="203" y="220"/>
                    </a:lnTo>
                    <a:lnTo>
                      <a:pt x="194" y="228"/>
                    </a:lnTo>
                    <a:lnTo>
                      <a:pt x="186" y="240"/>
                    </a:lnTo>
                    <a:lnTo>
                      <a:pt x="191" y="265"/>
                    </a:lnTo>
                    <a:lnTo>
                      <a:pt x="199" y="295"/>
                    </a:lnTo>
                    <a:lnTo>
                      <a:pt x="199" y="304"/>
                    </a:lnTo>
                    <a:lnTo>
                      <a:pt x="199" y="310"/>
                    </a:lnTo>
                    <a:lnTo>
                      <a:pt x="198" y="317"/>
                    </a:lnTo>
                    <a:lnTo>
                      <a:pt x="194" y="322"/>
                    </a:lnTo>
                    <a:lnTo>
                      <a:pt x="190" y="328"/>
                    </a:lnTo>
                    <a:lnTo>
                      <a:pt x="184" y="332"/>
                    </a:lnTo>
                    <a:lnTo>
                      <a:pt x="175" y="336"/>
                    </a:lnTo>
                    <a:lnTo>
                      <a:pt x="164" y="339"/>
                    </a:lnTo>
                    <a:lnTo>
                      <a:pt x="164" y="343"/>
                    </a:lnTo>
                    <a:lnTo>
                      <a:pt x="169" y="351"/>
                    </a:lnTo>
                    <a:lnTo>
                      <a:pt x="174" y="361"/>
                    </a:lnTo>
                    <a:lnTo>
                      <a:pt x="180" y="373"/>
                    </a:lnTo>
                    <a:lnTo>
                      <a:pt x="196" y="403"/>
                    </a:lnTo>
                    <a:lnTo>
                      <a:pt x="211" y="434"/>
                    </a:lnTo>
                    <a:lnTo>
                      <a:pt x="219" y="450"/>
                    </a:lnTo>
                    <a:lnTo>
                      <a:pt x="224" y="467"/>
                    </a:lnTo>
                    <a:lnTo>
                      <a:pt x="227" y="481"/>
                    </a:lnTo>
                    <a:lnTo>
                      <a:pt x="228" y="495"/>
                    </a:lnTo>
                    <a:lnTo>
                      <a:pt x="227" y="502"/>
                    </a:lnTo>
                    <a:lnTo>
                      <a:pt x="226" y="507"/>
                    </a:lnTo>
                    <a:lnTo>
                      <a:pt x="223" y="511"/>
                    </a:lnTo>
                    <a:lnTo>
                      <a:pt x="219" y="517"/>
                    </a:lnTo>
                    <a:lnTo>
                      <a:pt x="214" y="519"/>
                    </a:lnTo>
                    <a:lnTo>
                      <a:pt x="209" y="524"/>
                    </a:lnTo>
                    <a:lnTo>
                      <a:pt x="201" y="524"/>
                    </a:lnTo>
                    <a:lnTo>
                      <a:pt x="194" y="526"/>
                    </a:lnTo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872560" y="5167440"/>
                <a:ext cx="49320" cy="7128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30" y="44"/>
                    </a:moveTo>
                    <a:lnTo>
                      <a:pt x="14" y="28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4" y="11"/>
                    </a:lnTo>
                    <a:lnTo>
                      <a:pt x="22" y="26"/>
                    </a:lnTo>
                    <a:lnTo>
                      <a:pt x="29" y="39"/>
                    </a:lnTo>
                    <a:lnTo>
                      <a:pt x="30" y="44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24640" y="5002200"/>
                <a:ext cx="311040" cy="160200"/>
              </a:xfrm>
              <a:custGeom>
                <a:avLst/>
                <a:gdLst/>
                <a:ahLst/>
                <a:rect l="l" t="t" r="r" b="b"/>
                <a:pathLst>
                  <a:path w="196" h="101">
                    <a:moveTo>
                      <a:pt x="0" y="100"/>
                    </a:moveTo>
                    <a:lnTo>
                      <a:pt x="0" y="97"/>
                    </a:lnTo>
                    <a:lnTo>
                      <a:pt x="0" y="95"/>
                    </a:lnTo>
                    <a:lnTo>
                      <a:pt x="26" y="88"/>
                    </a:lnTo>
                    <a:lnTo>
                      <a:pt x="51" y="78"/>
                    </a:lnTo>
                    <a:lnTo>
                      <a:pt x="75" y="70"/>
                    </a:lnTo>
                    <a:lnTo>
                      <a:pt x="99" y="59"/>
                    </a:lnTo>
                    <a:lnTo>
                      <a:pt x="122" y="48"/>
                    </a:lnTo>
                    <a:lnTo>
                      <a:pt x="145" y="34"/>
                    </a:lnTo>
                    <a:lnTo>
                      <a:pt x="166" y="19"/>
                    </a:lnTo>
                    <a:lnTo>
                      <a:pt x="188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4" y="2"/>
                    </a:lnTo>
                    <a:lnTo>
                      <a:pt x="195" y="3"/>
                    </a:lnTo>
                    <a:lnTo>
                      <a:pt x="188" y="12"/>
                    </a:lnTo>
                    <a:lnTo>
                      <a:pt x="178" y="22"/>
                    </a:lnTo>
                    <a:lnTo>
                      <a:pt x="170" y="32"/>
                    </a:lnTo>
                    <a:lnTo>
                      <a:pt x="158" y="41"/>
                    </a:lnTo>
                    <a:lnTo>
                      <a:pt x="146" y="50"/>
                    </a:lnTo>
                    <a:lnTo>
                      <a:pt x="133" y="57"/>
                    </a:lnTo>
                    <a:lnTo>
                      <a:pt x="119" y="64"/>
                    </a:lnTo>
                    <a:lnTo>
                      <a:pt x="105" y="70"/>
                    </a:lnTo>
                    <a:lnTo>
                      <a:pt x="78" y="82"/>
                    </a:lnTo>
                    <a:lnTo>
                      <a:pt x="50" y="91"/>
                    </a:lnTo>
                    <a:lnTo>
                      <a:pt x="23" y="97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86400" y="4606920"/>
                <a:ext cx="420840" cy="528480"/>
              </a:xfrm>
              <a:custGeom>
                <a:avLst/>
                <a:gdLst/>
                <a:ahLst/>
                <a:rect l="l" t="t" r="r" b="b"/>
                <a:pathLst>
                  <a:path w="265" h="333">
                    <a:moveTo>
                      <a:pt x="56" y="332"/>
                    </a:moveTo>
                    <a:lnTo>
                      <a:pt x="45" y="314"/>
                    </a:lnTo>
                    <a:lnTo>
                      <a:pt x="35" y="300"/>
                    </a:lnTo>
                    <a:lnTo>
                      <a:pt x="27" y="283"/>
                    </a:lnTo>
                    <a:lnTo>
                      <a:pt x="20" y="267"/>
                    </a:lnTo>
                    <a:lnTo>
                      <a:pt x="14" y="252"/>
                    </a:lnTo>
                    <a:lnTo>
                      <a:pt x="9" y="236"/>
                    </a:lnTo>
                    <a:lnTo>
                      <a:pt x="4" y="218"/>
                    </a:lnTo>
                    <a:lnTo>
                      <a:pt x="0" y="199"/>
                    </a:lnTo>
                    <a:lnTo>
                      <a:pt x="17" y="199"/>
                    </a:lnTo>
                    <a:lnTo>
                      <a:pt x="35" y="202"/>
                    </a:lnTo>
                    <a:lnTo>
                      <a:pt x="40" y="222"/>
                    </a:lnTo>
                    <a:lnTo>
                      <a:pt x="50" y="252"/>
                    </a:lnTo>
                    <a:lnTo>
                      <a:pt x="56" y="268"/>
                    </a:lnTo>
                    <a:lnTo>
                      <a:pt x="61" y="282"/>
                    </a:lnTo>
                    <a:lnTo>
                      <a:pt x="66" y="293"/>
                    </a:lnTo>
                    <a:lnTo>
                      <a:pt x="72" y="300"/>
                    </a:lnTo>
                    <a:lnTo>
                      <a:pt x="84" y="298"/>
                    </a:lnTo>
                    <a:lnTo>
                      <a:pt x="105" y="293"/>
                    </a:lnTo>
                    <a:lnTo>
                      <a:pt x="128" y="288"/>
                    </a:lnTo>
                    <a:lnTo>
                      <a:pt x="141" y="284"/>
                    </a:lnTo>
                    <a:lnTo>
                      <a:pt x="140" y="275"/>
                    </a:lnTo>
                    <a:lnTo>
                      <a:pt x="138" y="264"/>
                    </a:lnTo>
                    <a:lnTo>
                      <a:pt x="136" y="254"/>
                    </a:lnTo>
                    <a:lnTo>
                      <a:pt x="132" y="245"/>
                    </a:lnTo>
                    <a:lnTo>
                      <a:pt x="126" y="226"/>
                    </a:lnTo>
                    <a:lnTo>
                      <a:pt x="120" y="209"/>
                    </a:lnTo>
                    <a:lnTo>
                      <a:pt x="131" y="207"/>
                    </a:lnTo>
                    <a:lnTo>
                      <a:pt x="138" y="203"/>
                    </a:lnTo>
                    <a:lnTo>
                      <a:pt x="145" y="198"/>
                    </a:lnTo>
                    <a:lnTo>
                      <a:pt x="150" y="191"/>
                    </a:lnTo>
                    <a:lnTo>
                      <a:pt x="152" y="183"/>
                    </a:lnTo>
                    <a:lnTo>
                      <a:pt x="154" y="173"/>
                    </a:lnTo>
                    <a:lnTo>
                      <a:pt x="152" y="164"/>
                    </a:lnTo>
                    <a:lnTo>
                      <a:pt x="152" y="153"/>
                    </a:lnTo>
                    <a:lnTo>
                      <a:pt x="142" y="112"/>
                    </a:lnTo>
                    <a:lnTo>
                      <a:pt x="133" y="80"/>
                    </a:lnTo>
                    <a:lnTo>
                      <a:pt x="145" y="77"/>
                    </a:lnTo>
                    <a:lnTo>
                      <a:pt x="152" y="73"/>
                    </a:lnTo>
                    <a:lnTo>
                      <a:pt x="159" y="68"/>
                    </a:lnTo>
                    <a:lnTo>
                      <a:pt x="162" y="62"/>
                    </a:lnTo>
                    <a:lnTo>
                      <a:pt x="164" y="57"/>
                    </a:lnTo>
                    <a:lnTo>
                      <a:pt x="164" y="50"/>
                    </a:lnTo>
                    <a:lnTo>
                      <a:pt x="161" y="45"/>
                    </a:lnTo>
                    <a:lnTo>
                      <a:pt x="160" y="38"/>
                    </a:lnTo>
                    <a:lnTo>
                      <a:pt x="155" y="25"/>
                    </a:lnTo>
                    <a:lnTo>
                      <a:pt x="152" y="13"/>
                    </a:lnTo>
                    <a:lnTo>
                      <a:pt x="154" y="9"/>
                    </a:lnTo>
                    <a:lnTo>
                      <a:pt x="156" y="5"/>
                    </a:lnTo>
                    <a:lnTo>
                      <a:pt x="161" y="2"/>
                    </a:lnTo>
                    <a:lnTo>
                      <a:pt x="169" y="0"/>
                    </a:lnTo>
                    <a:lnTo>
                      <a:pt x="172" y="29"/>
                    </a:lnTo>
                    <a:lnTo>
                      <a:pt x="177" y="59"/>
                    </a:lnTo>
                    <a:lnTo>
                      <a:pt x="188" y="93"/>
                    </a:lnTo>
                    <a:lnTo>
                      <a:pt x="199" y="127"/>
                    </a:lnTo>
                    <a:lnTo>
                      <a:pt x="206" y="143"/>
                    </a:lnTo>
                    <a:lnTo>
                      <a:pt x="212" y="159"/>
                    </a:lnTo>
                    <a:lnTo>
                      <a:pt x="219" y="176"/>
                    </a:lnTo>
                    <a:lnTo>
                      <a:pt x="229" y="191"/>
                    </a:lnTo>
                    <a:lnTo>
                      <a:pt x="236" y="204"/>
                    </a:lnTo>
                    <a:lnTo>
                      <a:pt x="245" y="216"/>
                    </a:lnTo>
                    <a:lnTo>
                      <a:pt x="254" y="227"/>
                    </a:lnTo>
                    <a:lnTo>
                      <a:pt x="264" y="237"/>
                    </a:lnTo>
                    <a:lnTo>
                      <a:pt x="252" y="246"/>
                    </a:lnTo>
                    <a:lnTo>
                      <a:pt x="241" y="256"/>
                    </a:lnTo>
                    <a:lnTo>
                      <a:pt x="229" y="266"/>
                    </a:lnTo>
                    <a:lnTo>
                      <a:pt x="217" y="273"/>
                    </a:lnTo>
                    <a:lnTo>
                      <a:pt x="192" y="287"/>
                    </a:lnTo>
                    <a:lnTo>
                      <a:pt x="165" y="300"/>
                    </a:lnTo>
                    <a:lnTo>
                      <a:pt x="138" y="310"/>
                    </a:lnTo>
                    <a:lnTo>
                      <a:pt x="110" y="320"/>
                    </a:lnTo>
                    <a:lnTo>
                      <a:pt x="82" y="327"/>
                    </a:lnTo>
                    <a:lnTo>
                      <a:pt x="56" y="332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10160" y="505944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3" y="14"/>
                    </a:moveTo>
                    <a:lnTo>
                      <a:pt x="1" y="11"/>
                    </a:lnTo>
                    <a:lnTo>
                      <a:pt x="0" y="9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19" y="9"/>
                    </a:lnTo>
                    <a:lnTo>
                      <a:pt x="16" y="14"/>
                    </a:lnTo>
                    <a:lnTo>
                      <a:pt x="11" y="14"/>
                    </a:lnTo>
                    <a:lnTo>
                      <a:pt x="3" y="14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75320" y="50227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6" y="19"/>
                    </a:moveTo>
                    <a:lnTo>
                      <a:pt x="2" y="16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6" y="19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70640" y="4930920"/>
                <a:ext cx="106200" cy="118800"/>
              </a:xfrm>
              <a:custGeom>
                <a:avLst/>
                <a:gdLst/>
                <a:ahLst/>
                <a:rect l="l" t="t" r="r" b="b"/>
                <a:pathLst>
                  <a:path w="67" h="75">
                    <a:moveTo>
                      <a:pt x="30" y="74"/>
                    </a:moveTo>
                    <a:lnTo>
                      <a:pt x="24" y="68"/>
                    </a:lnTo>
                    <a:lnTo>
                      <a:pt x="19" y="59"/>
                    </a:lnTo>
                    <a:lnTo>
                      <a:pt x="13" y="50"/>
                    </a:lnTo>
                    <a:lnTo>
                      <a:pt x="9" y="39"/>
                    </a:lnTo>
                    <a:lnTo>
                      <a:pt x="5" y="27"/>
                    </a:lnTo>
                    <a:lnTo>
                      <a:pt x="2" y="1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15" y="2"/>
                    </a:lnTo>
                    <a:lnTo>
                      <a:pt x="29" y="4"/>
                    </a:lnTo>
                    <a:lnTo>
                      <a:pt x="41" y="5"/>
                    </a:lnTo>
                    <a:lnTo>
                      <a:pt x="49" y="8"/>
                    </a:lnTo>
                    <a:lnTo>
                      <a:pt x="52" y="20"/>
                    </a:lnTo>
                    <a:lnTo>
                      <a:pt x="57" y="35"/>
                    </a:lnTo>
                    <a:lnTo>
                      <a:pt x="62" y="50"/>
                    </a:lnTo>
                    <a:lnTo>
                      <a:pt x="66" y="66"/>
                    </a:lnTo>
                    <a:lnTo>
                      <a:pt x="59" y="69"/>
                    </a:lnTo>
                    <a:lnTo>
                      <a:pt x="49" y="72"/>
                    </a:lnTo>
                    <a:lnTo>
                      <a:pt x="38" y="73"/>
                    </a:lnTo>
                    <a:lnTo>
                      <a:pt x="30" y="74"/>
                    </a:lnTo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364440" y="4998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5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9640" y="493704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4" y="21"/>
                    </a:moveTo>
                    <a:lnTo>
                      <a:pt x="10" y="9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" y="2"/>
                    </a:lnTo>
                    <a:lnTo>
                      <a:pt x="24" y="5"/>
                    </a:lnTo>
                    <a:lnTo>
                      <a:pt x="28" y="16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4" y="21"/>
                    </a:lnTo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78360" y="4408560"/>
                <a:ext cx="290520" cy="560160"/>
              </a:xfrm>
              <a:custGeom>
                <a:avLst/>
                <a:gdLst/>
                <a:ahLst/>
                <a:rect l="l" t="t" r="r" b="b"/>
                <a:pathLst>
                  <a:path w="183" h="353">
                    <a:moveTo>
                      <a:pt x="99" y="352"/>
                    </a:moveTo>
                    <a:lnTo>
                      <a:pt x="86" y="340"/>
                    </a:lnTo>
                    <a:lnTo>
                      <a:pt x="75" y="330"/>
                    </a:lnTo>
                    <a:lnTo>
                      <a:pt x="65" y="318"/>
                    </a:lnTo>
                    <a:lnTo>
                      <a:pt x="56" y="304"/>
                    </a:lnTo>
                    <a:lnTo>
                      <a:pt x="47" y="289"/>
                    </a:lnTo>
                    <a:lnTo>
                      <a:pt x="40" y="274"/>
                    </a:lnTo>
                    <a:lnTo>
                      <a:pt x="35" y="259"/>
                    </a:lnTo>
                    <a:lnTo>
                      <a:pt x="29" y="243"/>
                    </a:lnTo>
                    <a:lnTo>
                      <a:pt x="20" y="211"/>
                    </a:lnTo>
                    <a:lnTo>
                      <a:pt x="13" y="178"/>
                    </a:lnTo>
                    <a:lnTo>
                      <a:pt x="8" y="147"/>
                    </a:lnTo>
                    <a:lnTo>
                      <a:pt x="1" y="115"/>
                    </a:lnTo>
                    <a:lnTo>
                      <a:pt x="0" y="111"/>
                    </a:lnTo>
                    <a:lnTo>
                      <a:pt x="1" y="104"/>
                    </a:lnTo>
                    <a:lnTo>
                      <a:pt x="4" y="98"/>
                    </a:lnTo>
                    <a:lnTo>
                      <a:pt x="6" y="90"/>
                    </a:lnTo>
                    <a:lnTo>
                      <a:pt x="17" y="70"/>
                    </a:lnTo>
                    <a:lnTo>
                      <a:pt x="28" y="52"/>
                    </a:lnTo>
                    <a:lnTo>
                      <a:pt x="42" y="32"/>
                    </a:lnTo>
                    <a:lnTo>
                      <a:pt x="55" y="16"/>
                    </a:lnTo>
                    <a:lnTo>
                      <a:pt x="65" y="5"/>
                    </a:lnTo>
                    <a:lnTo>
                      <a:pt x="71" y="0"/>
                    </a:lnTo>
                    <a:lnTo>
                      <a:pt x="72" y="20"/>
                    </a:lnTo>
                    <a:lnTo>
                      <a:pt x="73" y="39"/>
                    </a:lnTo>
                    <a:lnTo>
                      <a:pt x="76" y="56"/>
                    </a:lnTo>
                    <a:lnTo>
                      <a:pt x="78" y="70"/>
                    </a:lnTo>
                    <a:lnTo>
                      <a:pt x="82" y="84"/>
                    </a:lnTo>
                    <a:lnTo>
                      <a:pt x="88" y="98"/>
                    </a:lnTo>
                    <a:lnTo>
                      <a:pt x="94" y="109"/>
                    </a:lnTo>
                    <a:lnTo>
                      <a:pt x="100" y="120"/>
                    </a:lnTo>
                    <a:lnTo>
                      <a:pt x="115" y="143"/>
                    </a:lnTo>
                    <a:lnTo>
                      <a:pt x="135" y="164"/>
                    </a:lnTo>
                    <a:lnTo>
                      <a:pt x="157" y="188"/>
                    </a:lnTo>
                    <a:lnTo>
                      <a:pt x="182" y="217"/>
                    </a:lnTo>
                    <a:lnTo>
                      <a:pt x="178" y="232"/>
                    </a:lnTo>
                    <a:lnTo>
                      <a:pt x="172" y="251"/>
                    </a:lnTo>
                    <a:lnTo>
                      <a:pt x="162" y="273"/>
                    </a:lnTo>
                    <a:lnTo>
                      <a:pt x="150" y="295"/>
                    </a:lnTo>
                    <a:lnTo>
                      <a:pt x="140" y="315"/>
                    </a:lnTo>
                    <a:lnTo>
                      <a:pt x="125" y="333"/>
                    </a:lnTo>
                    <a:lnTo>
                      <a:pt x="119" y="340"/>
                    </a:lnTo>
                    <a:lnTo>
                      <a:pt x="112" y="345"/>
                    </a:lnTo>
                    <a:lnTo>
                      <a:pt x="105" y="349"/>
                    </a:lnTo>
                    <a:lnTo>
                      <a:pt x="99" y="352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10280" y="4800600"/>
                <a:ext cx="61920" cy="135000"/>
              </a:xfrm>
              <a:custGeom>
                <a:avLst/>
                <a:gdLst/>
                <a:ahLst/>
                <a:rect l="l" t="t" r="r" b="b"/>
                <a:pathLst>
                  <a:path w="39" h="85">
                    <a:moveTo>
                      <a:pt x="0" y="84"/>
                    </a:moveTo>
                    <a:lnTo>
                      <a:pt x="3" y="64"/>
                    </a:lnTo>
                    <a:lnTo>
                      <a:pt x="6" y="41"/>
                    </a:lnTo>
                    <a:lnTo>
                      <a:pt x="10" y="19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2" y="4"/>
                    </a:lnTo>
                    <a:lnTo>
                      <a:pt x="26" y="7"/>
                    </a:lnTo>
                    <a:lnTo>
                      <a:pt x="31" y="12"/>
                    </a:lnTo>
                    <a:lnTo>
                      <a:pt x="23" y="16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5" y="29"/>
                    </a:lnTo>
                    <a:lnTo>
                      <a:pt x="26" y="38"/>
                    </a:lnTo>
                    <a:lnTo>
                      <a:pt x="38" y="50"/>
                    </a:lnTo>
                    <a:lnTo>
                      <a:pt x="27" y="55"/>
                    </a:lnTo>
                    <a:lnTo>
                      <a:pt x="16" y="61"/>
                    </a:lnTo>
                    <a:lnTo>
                      <a:pt x="11" y="64"/>
                    </a:lnTo>
                    <a:lnTo>
                      <a:pt x="9" y="69"/>
                    </a:lnTo>
                    <a:lnTo>
                      <a:pt x="8" y="75"/>
                    </a:lnTo>
                    <a:lnTo>
                      <a:pt x="9" y="82"/>
                    </a:lnTo>
                    <a:lnTo>
                      <a:pt x="5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916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81720" y="49165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8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05400" y="483228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3" y="28"/>
                    </a:moveTo>
                    <a:lnTo>
                      <a:pt x="1" y="24"/>
                    </a:lnTo>
                    <a:lnTo>
                      <a:pt x="0" y="23"/>
                    </a:lnTo>
                    <a:lnTo>
                      <a:pt x="8" y="11"/>
                    </a:lnTo>
                    <a:lnTo>
                      <a:pt x="16" y="0"/>
                    </a:lnTo>
                    <a:lnTo>
                      <a:pt x="19" y="6"/>
                    </a:lnTo>
                    <a:lnTo>
                      <a:pt x="20" y="11"/>
                    </a:lnTo>
                    <a:lnTo>
                      <a:pt x="20" y="17"/>
                    </a:lnTo>
                    <a:lnTo>
                      <a:pt x="19" y="26"/>
                    </a:lnTo>
                    <a:lnTo>
                      <a:pt x="10" y="27"/>
                    </a:lnTo>
                    <a:lnTo>
                      <a:pt x="3" y="28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88200" y="481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33"/>
                    </a:moveTo>
                    <a:lnTo>
                      <a:pt x="11" y="29"/>
                    </a:lnTo>
                    <a:lnTo>
                      <a:pt x="8" y="25"/>
                    </a:lnTo>
                    <a:lnTo>
                      <a:pt x="4" y="20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2" y="11"/>
                    </a:lnTo>
                    <a:lnTo>
                      <a:pt x="24" y="15"/>
                    </a:lnTo>
                    <a:lnTo>
                      <a:pt x="27" y="20"/>
                    </a:lnTo>
                    <a:lnTo>
                      <a:pt x="28" y="26"/>
                    </a:lnTo>
                    <a:lnTo>
                      <a:pt x="25" y="31"/>
                    </a:lnTo>
                    <a:lnTo>
                      <a:pt x="23" y="33"/>
                    </a:lnTo>
                    <a:lnTo>
                      <a:pt x="20" y="33"/>
                    </a:lnTo>
                    <a:lnTo>
                      <a:pt x="17" y="33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17960" y="4802040"/>
                <a:ext cx="88920" cy="44640"/>
              </a:xfrm>
              <a:custGeom>
                <a:avLst/>
                <a:gdLst/>
                <a:ahLst/>
                <a:rect l="l" t="t" r="r" b="b"/>
                <a:pathLst>
                  <a:path w="56" h="28">
                    <a:moveTo>
                      <a:pt x="0" y="27"/>
                    </a:moveTo>
                    <a:lnTo>
                      <a:pt x="0" y="22"/>
                    </a:lnTo>
                    <a:lnTo>
                      <a:pt x="0" y="16"/>
                    </a:lnTo>
                    <a:lnTo>
                      <a:pt x="9" y="13"/>
                    </a:lnTo>
                    <a:lnTo>
                      <a:pt x="24" y="7"/>
                    </a:lnTo>
                    <a:lnTo>
                      <a:pt x="33" y="4"/>
                    </a:lnTo>
                    <a:lnTo>
                      <a:pt x="41" y="2"/>
                    </a:lnTo>
                    <a:lnTo>
                      <a:pt x="48" y="0"/>
                    </a:lnTo>
                    <a:lnTo>
                      <a:pt x="55" y="2"/>
                    </a:lnTo>
                    <a:lnTo>
                      <a:pt x="47" y="8"/>
                    </a:lnTo>
                    <a:lnTo>
                      <a:pt x="42" y="13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4" y="25"/>
                    </a:lnTo>
                    <a:lnTo>
                      <a:pt x="18" y="25"/>
                    </a:lnTo>
                    <a:lnTo>
                      <a:pt x="9" y="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35520" y="4492800"/>
                <a:ext cx="525600" cy="341280"/>
              </a:xfrm>
              <a:custGeom>
                <a:avLst/>
                <a:gdLst/>
                <a:ahLst/>
                <a:rect l="l" t="t" r="r" b="b"/>
                <a:pathLst>
                  <a:path w="331" h="215">
                    <a:moveTo>
                      <a:pt x="236" y="214"/>
                    </a:moveTo>
                    <a:lnTo>
                      <a:pt x="218" y="208"/>
                    </a:lnTo>
                    <a:lnTo>
                      <a:pt x="204" y="203"/>
                    </a:lnTo>
                    <a:lnTo>
                      <a:pt x="193" y="201"/>
                    </a:lnTo>
                    <a:lnTo>
                      <a:pt x="184" y="201"/>
                    </a:lnTo>
                    <a:lnTo>
                      <a:pt x="166" y="201"/>
                    </a:lnTo>
                    <a:lnTo>
                      <a:pt x="141" y="203"/>
                    </a:lnTo>
                    <a:lnTo>
                      <a:pt x="136" y="190"/>
                    </a:lnTo>
                    <a:lnTo>
                      <a:pt x="129" y="174"/>
                    </a:lnTo>
                    <a:lnTo>
                      <a:pt x="119" y="155"/>
                    </a:lnTo>
                    <a:lnTo>
                      <a:pt x="109" y="135"/>
                    </a:lnTo>
                    <a:lnTo>
                      <a:pt x="100" y="117"/>
                    </a:lnTo>
                    <a:lnTo>
                      <a:pt x="92" y="100"/>
                    </a:lnTo>
                    <a:lnTo>
                      <a:pt x="87" y="88"/>
                    </a:lnTo>
                    <a:lnTo>
                      <a:pt x="85" y="80"/>
                    </a:lnTo>
                    <a:lnTo>
                      <a:pt x="89" y="76"/>
                    </a:lnTo>
                    <a:lnTo>
                      <a:pt x="92" y="73"/>
                    </a:lnTo>
                    <a:lnTo>
                      <a:pt x="92" y="69"/>
                    </a:lnTo>
                    <a:lnTo>
                      <a:pt x="92" y="66"/>
                    </a:lnTo>
                    <a:lnTo>
                      <a:pt x="80" y="66"/>
                    </a:lnTo>
                    <a:lnTo>
                      <a:pt x="64" y="67"/>
                    </a:lnTo>
                    <a:lnTo>
                      <a:pt x="47" y="67"/>
                    </a:lnTo>
                    <a:lnTo>
                      <a:pt x="29" y="66"/>
                    </a:lnTo>
                    <a:lnTo>
                      <a:pt x="22" y="65"/>
                    </a:lnTo>
                    <a:lnTo>
                      <a:pt x="15" y="62"/>
                    </a:lnTo>
                    <a:lnTo>
                      <a:pt x="9" y="58"/>
                    </a:lnTo>
                    <a:lnTo>
                      <a:pt x="4" y="53"/>
                    </a:lnTo>
                    <a:lnTo>
                      <a:pt x="1" y="47"/>
                    </a:lnTo>
                    <a:lnTo>
                      <a:pt x="0" y="39"/>
                    </a:lnTo>
                    <a:lnTo>
                      <a:pt x="1" y="29"/>
                    </a:lnTo>
                    <a:lnTo>
                      <a:pt x="4" y="19"/>
                    </a:lnTo>
                    <a:lnTo>
                      <a:pt x="34" y="12"/>
                    </a:lnTo>
                    <a:lnTo>
                      <a:pt x="55" y="5"/>
                    </a:lnTo>
                    <a:lnTo>
                      <a:pt x="62" y="2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2" y="11"/>
                    </a:lnTo>
                    <a:lnTo>
                      <a:pt x="97" y="19"/>
                    </a:lnTo>
                    <a:lnTo>
                      <a:pt x="113" y="42"/>
                    </a:lnTo>
                    <a:lnTo>
                      <a:pt x="134" y="76"/>
                    </a:lnTo>
                    <a:lnTo>
                      <a:pt x="139" y="77"/>
                    </a:lnTo>
                    <a:lnTo>
                      <a:pt x="144" y="76"/>
                    </a:lnTo>
                    <a:lnTo>
                      <a:pt x="149" y="74"/>
                    </a:lnTo>
                    <a:lnTo>
                      <a:pt x="156" y="73"/>
                    </a:lnTo>
                    <a:lnTo>
                      <a:pt x="168" y="67"/>
                    </a:lnTo>
                    <a:lnTo>
                      <a:pt x="179" y="61"/>
                    </a:lnTo>
                    <a:lnTo>
                      <a:pt x="192" y="53"/>
                    </a:lnTo>
                    <a:lnTo>
                      <a:pt x="203" y="46"/>
                    </a:lnTo>
                    <a:lnTo>
                      <a:pt x="216" y="40"/>
                    </a:lnTo>
                    <a:lnTo>
                      <a:pt x="227" y="38"/>
                    </a:lnTo>
                    <a:lnTo>
                      <a:pt x="235" y="45"/>
                    </a:lnTo>
                    <a:lnTo>
                      <a:pt x="246" y="54"/>
                    </a:lnTo>
                    <a:lnTo>
                      <a:pt x="253" y="58"/>
                    </a:lnTo>
                    <a:lnTo>
                      <a:pt x="259" y="62"/>
                    </a:lnTo>
                    <a:lnTo>
                      <a:pt x="264" y="63"/>
                    </a:lnTo>
                    <a:lnTo>
                      <a:pt x="269" y="63"/>
                    </a:lnTo>
                    <a:lnTo>
                      <a:pt x="269" y="56"/>
                    </a:lnTo>
                    <a:lnTo>
                      <a:pt x="266" y="51"/>
                    </a:lnTo>
                    <a:lnTo>
                      <a:pt x="263" y="46"/>
                    </a:lnTo>
                    <a:lnTo>
                      <a:pt x="258" y="40"/>
                    </a:lnTo>
                    <a:lnTo>
                      <a:pt x="249" y="32"/>
                    </a:lnTo>
                    <a:lnTo>
                      <a:pt x="240" y="25"/>
                    </a:lnTo>
                    <a:lnTo>
                      <a:pt x="241" y="19"/>
                    </a:lnTo>
                    <a:lnTo>
                      <a:pt x="243" y="12"/>
                    </a:lnTo>
                    <a:lnTo>
                      <a:pt x="251" y="12"/>
                    </a:lnTo>
                    <a:lnTo>
                      <a:pt x="258" y="13"/>
                    </a:lnTo>
                    <a:lnTo>
                      <a:pt x="264" y="17"/>
                    </a:lnTo>
                    <a:lnTo>
                      <a:pt x="271" y="20"/>
                    </a:lnTo>
                    <a:lnTo>
                      <a:pt x="281" y="29"/>
                    </a:lnTo>
                    <a:lnTo>
                      <a:pt x="291" y="42"/>
                    </a:lnTo>
                    <a:lnTo>
                      <a:pt x="300" y="53"/>
                    </a:lnTo>
                    <a:lnTo>
                      <a:pt x="308" y="63"/>
                    </a:lnTo>
                    <a:lnTo>
                      <a:pt x="313" y="67"/>
                    </a:lnTo>
                    <a:lnTo>
                      <a:pt x="318" y="72"/>
                    </a:lnTo>
                    <a:lnTo>
                      <a:pt x="324" y="74"/>
                    </a:lnTo>
                    <a:lnTo>
                      <a:pt x="330" y="77"/>
                    </a:lnTo>
                    <a:lnTo>
                      <a:pt x="330" y="83"/>
                    </a:lnTo>
                    <a:lnTo>
                      <a:pt x="329" y="90"/>
                    </a:lnTo>
                    <a:lnTo>
                      <a:pt x="325" y="97"/>
                    </a:lnTo>
                    <a:lnTo>
                      <a:pt x="321" y="106"/>
                    </a:lnTo>
                    <a:lnTo>
                      <a:pt x="310" y="124"/>
                    </a:lnTo>
                    <a:lnTo>
                      <a:pt x="296" y="144"/>
                    </a:lnTo>
                    <a:lnTo>
                      <a:pt x="266" y="182"/>
                    </a:lnTo>
                    <a:lnTo>
                      <a:pt x="243" y="213"/>
                    </a:lnTo>
                    <a:lnTo>
                      <a:pt x="239" y="213"/>
                    </a:lnTo>
                    <a:lnTo>
                      <a:pt x="236" y="214"/>
                    </a:lnTo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54640" y="4791240"/>
                <a:ext cx="12960" cy="4284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4" y="26"/>
                    </a:moveTo>
                    <a:lnTo>
                      <a:pt x="3" y="1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4" y="26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73720" y="478800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4" y="19"/>
                    </a:moveTo>
                    <a:lnTo>
                      <a:pt x="1" y="13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30" y="9"/>
                    </a:lnTo>
                    <a:lnTo>
                      <a:pt x="34" y="13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24" y="15"/>
                    </a:lnTo>
                    <a:lnTo>
                      <a:pt x="17" y="17"/>
                    </a:lnTo>
                    <a:lnTo>
                      <a:pt x="10" y="17"/>
                    </a:lnTo>
                    <a:lnTo>
                      <a:pt x="4" y="19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51560" y="474660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5" y="38"/>
                    </a:move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18" y="5"/>
                    </a:lnTo>
                    <a:lnTo>
                      <a:pt x="21" y="9"/>
                    </a:lnTo>
                    <a:lnTo>
                      <a:pt x="22" y="12"/>
                    </a:lnTo>
                    <a:lnTo>
                      <a:pt x="25" y="16"/>
                    </a:lnTo>
                    <a:lnTo>
                      <a:pt x="20" y="26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29120" y="474336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30"/>
                    </a:moveTo>
                    <a:lnTo>
                      <a:pt x="4" y="22"/>
                    </a:lnTo>
                    <a:lnTo>
                      <a:pt x="12" y="7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41" y="8"/>
                    </a:lnTo>
                    <a:lnTo>
                      <a:pt x="39" y="15"/>
                    </a:lnTo>
                    <a:lnTo>
                      <a:pt x="35" y="21"/>
                    </a:lnTo>
                    <a:lnTo>
                      <a:pt x="30" y="25"/>
                    </a:lnTo>
                    <a:lnTo>
                      <a:pt x="24" y="26"/>
                    </a:lnTo>
                    <a:lnTo>
                      <a:pt x="17" y="28"/>
                    </a:lnTo>
                    <a:lnTo>
                      <a:pt x="9" y="28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5000" y="468000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32" y="65"/>
                    </a:moveTo>
                    <a:lnTo>
                      <a:pt x="20" y="62"/>
                    </a:lnTo>
                    <a:lnTo>
                      <a:pt x="10" y="58"/>
                    </a:lnTo>
                    <a:lnTo>
                      <a:pt x="6" y="56"/>
                    </a:lnTo>
                    <a:lnTo>
                      <a:pt x="4" y="53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10" y="42"/>
                    </a:lnTo>
                    <a:lnTo>
                      <a:pt x="20" y="39"/>
                    </a:lnTo>
                    <a:lnTo>
                      <a:pt x="29" y="35"/>
                    </a:lnTo>
                    <a:lnTo>
                      <a:pt x="37" y="29"/>
                    </a:lnTo>
                    <a:lnTo>
                      <a:pt x="45" y="24"/>
                    </a:lnTo>
                    <a:lnTo>
                      <a:pt x="53" y="17"/>
                    </a:lnTo>
                    <a:lnTo>
                      <a:pt x="59" y="9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2" y="12"/>
                    </a:lnTo>
                    <a:lnTo>
                      <a:pt x="72" y="22"/>
                    </a:lnTo>
                    <a:lnTo>
                      <a:pt x="71" y="34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6"/>
                    </a:lnTo>
                    <a:lnTo>
                      <a:pt x="42" y="62"/>
                    </a:lnTo>
                    <a:lnTo>
                      <a:pt x="32" y="65"/>
                    </a:lnTo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61120" y="4459320"/>
                <a:ext cx="109440" cy="31752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10" y="199"/>
                    </a:moveTo>
                    <a:lnTo>
                      <a:pt x="6" y="195"/>
                    </a:lnTo>
                    <a:lnTo>
                      <a:pt x="3" y="190"/>
                    </a:lnTo>
                    <a:lnTo>
                      <a:pt x="1" y="187"/>
                    </a:lnTo>
                    <a:lnTo>
                      <a:pt x="0" y="181"/>
                    </a:lnTo>
                    <a:lnTo>
                      <a:pt x="0" y="173"/>
                    </a:lnTo>
                    <a:lnTo>
                      <a:pt x="1" y="165"/>
                    </a:lnTo>
                    <a:lnTo>
                      <a:pt x="9" y="161"/>
                    </a:lnTo>
                    <a:lnTo>
                      <a:pt x="15" y="156"/>
                    </a:lnTo>
                    <a:lnTo>
                      <a:pt x="21" y="149"/>
                    </a:lnTo>
                    <a:lnTo>
                      <a:pt x="24" y="142"/>
                    </a:lnTo>
                    <a:lnTo>
                      <a:pt x="26" y="134"/>
                    </a:lnTo>
                    <a:lnTo>
                      <a:pt x="25" y="127"/>
                    </a:lnTo>
                    <a:lnTo>
                      <a:pt x="21" y="118"/>
                    </a:lnTo>
                    <a:lnTo>
                      <a:pt x="15" y="112"/>
                    </a:lnTo>
                    <a:lnTo>
                      <a:pt x="15" y="105"/>
                    </a:lnTo>
                    <a:lnTo>
                      <a:pt x="16" y="100"/>
                    </a:lnTo>
                    <a:lnTo>
                      <a:pt x="19" y="94"/>
                    </a:lnTo>
                    <a:lnTo>
                      <a:pt x="20" y="88"/>
                    </a:lnTo>
                    <a:lnTo>
                      <a:pt x="26" y="88"/>
                    </a:lnTo>
                    <a:lnTo>
                      <a:pt x="31" y="90"/>
                    </a:lnTo>
                    <a:lnTo>
                      <a:pt x="34" y="87"/>
                    </a:lnTo>
                    <a:lnTo>
                      <a:pt x="36" y="77"/>
                    </a:lnTo>
                    <a:lnTo>
                      <a:pt x="31" y="74"/>
                    </a:lnTo>
                    <a:lnTo>
                      <a:pt x="28" y="70"/>
                    </a:lnTo>
                    <a:lnTo>
                      <a:pt x="28" y="67"/>
                    </a:lnTo>
                    <a:lnTo>
                      <a:pt x="29" y="64"/>
                    </a:lnTo>
                    <a:lnTo>
                      <a:pt x="34" y="59"/>
                    </a:lnTo>
                    <a:lnTo>
                      <a:pt x="43" y="54"/>
                    </a:lnTo>
                    <a:lnTo>
                      <a:pt x="43" y="46"/>
                    </a:lnTo>
                    <a:lnTo>
                      <a:pt x="42" y="36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56" y="21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6" y="15"/>
                    </a:lnTo>
                    <a:lnTo>
                      <a:pt x="61" y="33"/>
                    </a:lnTo>
                    <a:lnTo>
                      <a:pt x="54" y="50"/>
                    </a:lnTo>
                    <a:lnTo>
                      <a:pt x="49" y="67"/>
                    </a:lnTo>
                    <a:lnTo>
                      <a:pt x="46" y="70"/>
                    </a:lnTo>
                    <a:lnTo>
                      <a:pt x="44" y="74"/>
                    </a:lnTo>
                    <a:lnTo>
                      <a:pt x="43" y="77"/>
                    </a:lnTo>
                    <a:lnTo>
                      <a:pt x="42" y="84"/>
                    </a:lnTo>
                    <a:lnTo>
                      <a:pt x="41" y="98"/>
                    </a:lnTo>
                    <a:lnTo>
                      <a:pt x="41" y="115"/>
                    </a:lnTo>
                    <a:lnTo>
                      <a:pt x="39" y="132"/>
                    </a:lnTo>
                    <a:lnTo>
                      <a:pt x="38" y="147"/>
                    </a:lnTo>
                    <a:lnTo>
                      <a:pt x="37" y="154"/>
                    </a:lnTo>
                    <a:lnTo>
                      <a:pt x="34" y="160"/>
                    </a:lnTo>
                    <a:lnTo>
                      <a:pt x="31" y="165"/>
                    </a:lnTo>
                    <a:lnTo>
                      <a:pt x="28" y="168"/>
                    </a:lnTo>
                    <a:lnTo>
                      <a:pt x="26" y="174"/>
                    </a:lnTo>
                    <a:lnTo>
                      <a:pt x="28" y="179"/>
                    </a:lnTo>
                    <a:lnTo>
                      <a:pt x="31" y="181"/>
                    </a:lnTo>
                    <a:lnTo>
                      <a:pt x="38" y="183"/>
                    </a:lnTo>
                    <a:lnTo>
                      <a:pt x="38" y="188"/>
                    </a:lnTo>
                    <a:lnTo>
                      <a:pt x="38" y="195"/>
                    </a:lnTo>
                    <a:lnTo>
                      <a:pt x="21" y="195"/>
                    </a:lnTo>
                    <a:lnTo>
                      <a:pt x="10" y="199"/>
                    </a:lnTo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56320" y="4632480"/>
                <a:ext cx="150480" cy="9036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25" y="56"/>
                    </a:moveTo>
                    <a:lnTo>
                      <a:pt x="16" y="52"/>
                    </a:lnTo>
                    <a:lnTo>
                      <a:pt x="9" y="47"/>
                    </a:lnTo>
                    <a:lnTo>
                      <a:pt x="5" y="44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16" y="27"/>
                    </a:lnTo>
                    <a:lnTo>
                      <a:pt x="27" y="20"/>
                    </a:lnTo>
                    <a:lnTo>
                      <a:pt x="37" y="13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7" y="2"/>
                    </a:lnTo>
                    <a:lnTo>
                      <a:pt x="94" y="4"/>
                    </a:lnTo>
                    <a:lnTo>
                      <a:pt x="94" y="11"/>
                    </a:lnTo>
                    <a:lnTo>
                      <a:pt x="92" y="16"/>
                    </a:lnTo>
                    <a:lnTo>
                      <a:pt x="89" y="22"/>
                    </a:lnTo>
                    <a:lnTo>
                      <a:pt x="87" y="26"/>
                    </a:lnTo>
                    <a:lnTo>
                      <a:pt x="79" y="36"/>
                    </a:lnTo>
                    <a:lnTo>
                      <a:pt x="69" y="42"/>
                    </a:lnTo>
                    <a:lnTo>
                      <a:pt x="59" y="49"/>
                    </a:lnTo>
                    <a:lnTo>
                      <a:pt x="47" y="53"/>
                    </a:lnTo>
                    <a:lnTo>
                      <a:pt x="37" y="56"/>
                    </a:lnTo>
                    <a:lnTo>
                      <a:pt x="25" y="56"/>
                    </a:lnTo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59360" y="468936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" y="2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10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81520" y="4662360"/>
                <a:ext cx="36720" cy="5400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0" y="33"/>
                    </a:moveTo>
                    <a:lnTo>
                      <a:pt x="1" y="22"/>
                    </a:lnTo>
                    <a:lnTo>
                      <a:pt x="5" y="14"/>
                    </a:lnTo>
                    <a:lnTo>
                      <a:pt x="9" y="7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7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0" y="30"/>
                    </a:lnTo>
                    <a:lnTo>
                      <a:pt x="5" y="31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76960" y="3929040"/>
                <a:ext cx="517320" cy="747720"/>
              </a:xfrm>
              <a:custGeom>
                <a:avLst/>
                <a:gdLst/>
                <a:ahLst/>
                <a:rect l="l" t="t" r="r" b="b"/>
                <a:pathLst>
                  <a:path w="326" h="471">
                    <a:moveTo>
                      <a:pt x="172" y="470"/>
                    </a:moveTo>
                    <a:lnTo>
                      <a:pt x="170" y="466"/>
                    </a:lnTo>
                    <a:lnTo>
                      <a:pt x="167" y="462"/>
                    </a:lnTo>
                    <a:lnTo>
                      <a:pt x="162" y="456"/>
                    </a:lnTo>
                    <a:lnTo>
                      <a:pt x="156" y="450"/>
                    </a:lnTo>
                    <a:lnTo>
                      <a:pt x="140" y="438"/>
                    </a:lnTo>
                    <a:lnTo>
                      <a:pt x="122" y="424"/>
                    </a:lnTo>
                    <a:lnTo>
                      <a:pt x="84" y="398"/>
                    </a:lnTo>
                    <a:lnTo>
                      <a:pt x="58" y="383"/>
                    </a:lnTo>
                    <a:lnTo>
                      <a:pt x="60" y="377"/>
                    </a:lnTo>
                    <a:lnTo>
                      <a:pt x="65" y="366"/>
                    </a:lnTo>
                    <a:lnTo>
                      <a:pt x="74" y="353"/>
                    </a:lnTo>
                    <a:lnTo>
                      <a:pt x="84" y="338"/>
                    </a:lnTo>
                    <a:lnTo>
                      <a:pt x="108" y="304"/>
                    </a:lnTo>
                    <a:lnTo>
                      <a:pt x="137" y="268"/>
                    </a:lnTo>
                    <a:lnTo>
                      <a:pt x="164" y="231"/>
                    </a:lnTo>
                    <a:lnTo>
                      <a:pt x="187" y="198"/>
                    </a:lnTo>
                    <a:lnTo>
                      <a:pt x="194" y="185"/>
                    </a:lnTo>
                    <a:lnTo>
                      <a:pt x="201" y="174"/>
                    </a:lnTo>
                    <a:lnTo>
                      <a:pt x="202" y="168"/>
                    </a:lnTo>
                    <a:lnTo>
                      <a:pt x="204" y="164"/>
                    </a:lnTo>
                    <a:lnTo>
                      <a:pt x="202" y="162"/>
                    </a:lnTo>
                    <a:lnTo>
                      <a:pt x="202" y="159"/>
                    </a:lnTo>
                    <a:lnTo>
                      <a:pt x="198" y="161"/>
                    </a:lnTo>
                    <a:lnTo>
                      <a:pt x="194" y="163"/>
                    </a:lnTo>
                    <a:lnTo>
                      <a:pt x="189" y="167"/>
                    </a:lnTo>
                    <a:lnTo>
                      <a:pt x="186" y="171"/>
                    </a:lnTo>
                    <a:lnTo>
                      <a:pt x="177" y="182"/>
                    </a:lnTo>
                    <a:lnTo>
                      <a:pt x="167" y="196"/>
                    </a:lnTo>
                    <a:lnTo>
                      <a:pt x="150" y="223"/>
                    </a:lnTo>
                    <a:lnTo>
                      <a:pt x="136" y="243"/>
                    </a:lnTo>
                    <a:lnTo>
                      <a:pt x="137" y="236"/>
                    </a:lnTo>
                    <a:lnTo>
                      <a:pt x="139" y="230"/>
                    </a:lnTo>
                    <a:lnTo>
                      <a:pt x="141" y="223"/>
                    </a:lnTo>
                    <a:lnTo>
                      <a:pt x="145" y="218"/>
                    </a:lnTo>
                    <a:lnTo>
                      <a:pt x="147" y="211"/>
                    </a:lnTo>
                    <a:lnTo>
                      <a:pt x="150" y="205"/>
                    </a:lnTo>
                    <a:lnTo>
                      <a:pt x="151" y="198"/>
                    </a:lnTo>
                    <a:lnTo>
                      <a:pt x="151" y="193"/>
                    </a:lnTo>
                    <a:lnTo>
                      <a:pt x="147" y="193"/>
                    </a:lnTo>
                    <a:lnTo>
                      <a:pt x="144" y="191"/>
                    </a:lnTo>
                    <a:lnTo>
                      <a:pt x="139" y="198"/>
                    </a:lnTo>
                    <a:lnTo>
                      <a:pt x="134" y="205"/>
                    </a:lnTo>
                    <a:lnTo>
                      <a:pt x="129" y="215"/>
                    </a:lnTo>
                    <a:lnTo>
                      <a:pt x="123" y="225"/>
                    </a:lnTo>
                    <a:lnTo>
                      <a:pt x="119" y="234"/>
                    </a:lnTo>
                    <a:lnTo>
                      <a:pt x="116" y="243"/>
                    </a:lnTo>
                    <a:lnTo>
                      <a:pt x="113" y="253"/>
                    </a:lnTo>
                    <a:lnTo>
                      <a:pt x="112" y="261"/>
                    </a:lnTo>
                    <a:lnTo>
                      <a:pt x="117" y="259"/>
                    </a:lnTo>
                    <a:lnTo>
                      <a:pt x="124" y="259"/>
                    </a:lnTo>
                    <a:lnTo>
                      <a:pt x="113" y="277"/>
                    </a:lnTo>
                    <a:lnTo>
                      <a:pt x="100" y="293"/>
                    </a:lnTo>
                    <a:lnTo>
                      <a:pt x="97" y="286"/>
                    </a:lnTo>
                    <a:lnTo>
                      <a:pt x="95" y="276"/>
                    </a:lnTo>
                    <a:lnTo>
                      <a:pt x="95" y="266"/>
                    </a:lnTo>
                    <a:lnTo>
                      <a:pt x="95" y="257"/>
                    </a:lnTo>
                    <a:lnTo>
                      <a:pt x="97" y="248"/>
                    </a:lnTo>
                    <a:lnTo>
                      <a:pt x="95" y="239"/>
                    </a:lnTo>
                    <a:lnTo>
                      <a:pt x="92" y="230"/>
                    </a:lnTo>
                    <a:lnTo>
                      <a:pt x="89" y="221"/>
                    </a:lnTo>
                    <a:lnTo>
                      <a:pt x="82" y="221"/>
                    </a:lnTo>
                    <a:lnTo>
                      <a:pt x="74" y="223"/>
                    </a:lnTo>
                    <a:lnTo>
                      <a:pt x="65" y="225"/>
                    </a:lnTo>
                    <a:lnTo>
                      <a:pt x="57" y="228"/>
                    </a:lnTo>
                    <a:lnTo>
                      <a:pt x="48" y="232"/>
                    </a:lnTo>
                    <a:lnTo>
                      <a:pt x="40" y="236"/>
                    </a:lnTo>
                    <a:lnTo>
                      <a:pt x="35" y="241"/>
                    </a:lnTo>
                    <a:lnTo>
                      <a:pt x="32" y="245"/>
                    </a:lnTo>
                    <a:lnTo>
                      <a:pt x="33" y="248"/>
                    </a:lnTo>
                    <a:lnTo>
                      <a:pt x="35" y="250"/>
                    </a:lnTo>
                    <a:lnTo>
                      <a:pt x="33" y="253"/>
                    </a:lnTo>
                    <a:lnTo>
                      <a:pt x="32" y="255"/>
                    </a:lnTo>
                    <a:lnTo>
                      <a:pt x="32" y="259"/>
                    </a:lnTo>
                    <a:lnTo>
                      <a:pt x="33" y="266"/>
                    </a:lnTo>
                    <a:lnTo>
                      <a:pt x="35" y="261"/>
                    </a:lnTo>
                    <a:lnTo>
                      <a:pt x="35" y="257"/>
                    </a:lnTo>
                    <a:lnTo>
                      <a:pt x="40" y="282"/>
                    </a:lnTo>
                    <a:lnTo>
                      <a:pt x="42" y="304"/>
                    </a:lnTo>
                    <a:lnTo>
                      <a:pt x="43" y="325"/>
                    </a:lnTo>
                    <a:lnTo>
                      <a:pt x="43" y="345"/>
                    </a:lnTo>
                    <a:lnTo>
                      <a:pt x="42" y="353"/>
                    </a:lnTo>
                    <a:lnTo>
                      <a:pt x="40" y="363"/>
                    </a:lnTo>
                    <a:lnTo>
                      <a:pt x="37" y="372"/>
                    </a:lnTo>
                    <a:lnTo>
                      <a:pt x="35" y="382"/>
                    </a:lnTo>
                    <a:lnTo>
                      <a:pt x="30" y="391"/>
                    </a:lnTo>
                    <a:lnTo>
                      <a:pt x="23" y="401"/>
                    </a:lnTo>
                    <a:lnTo>
                      <a:pt x="17" y="411"/>
                    </a:lnTo>
                    <a:lnTo>
                      <a:pt x="8" y="421"/>
                    </a:lnTo>
                    <a:lnTo>
                      <a:pt x="4" y="411"/>
                    </a:lnTo>
                    <a:lnTo>
                      <a:pt x="1" y="397"/>
                    </a:lnTo>
                    <a:lnTo>
                      <a:pt x="0" y="380"/>
                    </a:lnTo>
                    <a:lnTo>
                      <a:pt x="0" y="363"/>
                    </a:lnTo>
                    <a:lnTo>
                      <a:pt x="1" y="343"/>
                    </a:lnTo>
                    <a:lnTo>
                      <a:pt x="4" y="323"/>
                    </a:lnTo>
                    <a:lnTo>
                      <a:pt x="6" y="303"/>
                    </a:lnTo>
                    <a:lnTo>
                      <a:pt x="9" y="282"/>
                    </a:lnTo>
                    <a:lnTo>
                      <a:pt x="17" y="239"/>
                    </a:lnTo>
                    <a:lnTo>
                      <a:pt x="25" y="201"/>
                    </a:lnTo>
                    <a:lnTo>
                      <a:pt x="33" y="168"/>
                    </a:lnTo>
                    <a:lnTo>
                      <a:pt x="40" y="144"/>
                    </a:lnTo>
                    <a:lnTo>
                      <a:pt x="42" y="144"/>
                    </a:lnTo>
                    <a:lnTo>
                      <a:pt x="45" y="144"/>
                    </a:lnTo>
                    <a:lnTo>
                      <a:pt x="51" y="157"/>
                    </a:lnTo>
                    <a:lnTo>
                      <a:pt x="58" y="173"/>
                    </a:lnTo>
                    <a:lnTo>
                      <a:pt x="64" y="180"/>
                    </a:lnTo>
                    <a:lnTo>
                      <a:pt x="69" y="185"/>
                    </a:lnTo>
                    <a:lnTo>
                      <a:pt x="77" y="191"/>
                    </a:lnTo>
                    <a:lnTo>
                      <a:pt x="84" y="193"/>
                    </a:lnTo>
                    <a:lnTo>
                      <a:pt x="84" y="189"/>
                    </a:lnTo>
                    <a:lnTo>
                      <a:pt x="82" y="186"/>
                    </a:lnTo>
                    <a:lnTo>
                      <a:pt x="77" y="181"/>
                    </a:lnTo>
                    <a:lnTo>
                      <a:pt x="72" y="174"/>
                    </a:lnTo>
                    <a:lnTo>
                      <a:pt x="67" y="168"/>
                    </a:lnTo>
                    <a:lnTo>
                      <a:pt x="65" y="162"/>
                    </a:lnTo>
                    <a:lnTo>
                      <a:pt x="60" y="150"/>
                    </a:lnTo>
                    <a:lnTo>
                      <a:pt x="57" y="136"/>
                    </a:lnTo>
                    <a:lnTo>
                      <a:pt x="57" y="121"/>
                    </a:lnTo>
                    <a:lnTo>
                      <a:pt x="57" y="107"/>
                    </a:lnTo>
                    <a:lnTo>
                      <a:pt x="58" y="93"/>
                    </a:lnTo>
                    <a:lnTo>
                      <a:pt x="60" y="78"/>
                    </a:lnTo>
                    <a:lnTo>
                      <a:pt x="62" y="78"/>
                    </a:lnTo>
                    <a:lnTo>
                      <a:pt x="65" y="78"/>
                    </a:lnTo>
                    <a:lnTo>
                      <a:pt x="66" y="96"/>
                    </a:lnTo>
                    <a:lnTo>
                      <a:pt x="69" y="113"/>
                    </a:lnTo>
                    <a:lnTo>
                      <a:pt x="72" y="127"/>
                    </a:lnTo>
                    <a:lnTo>
                      <a:pt x="77" y="139"/>
                    </a:lnTo>
                    <a:lnTo>
                      <a:pt x="80" y="148"/>
                    </a:lnTo>
                    <a:lnTo>
                      <a:pt x="85" y="157"/>
                    </a:lnTo>
                    <a:lnTo>
                      <a:pt x="90" y="162"/>
                    </a:lnTo>
                    <a:lnTo>
                      <a:pt x="95" y="166"/>
                    </a:lnTo>
                    <a:lnTo>
                      <a:pt x="102" y="167"/>
                    </a:lnTo>
                    <a:lnTo>
                      <a:pt x="108" y="168"/>
                    </a:lnTo>
                    <a:lnTo>
                      <a:pt x="114" y="167"/>
                    </a:lnTo>
                    <a:lnTo>
                      <a:pt x="121" y="166"/>
                    </a:lnTo>
                    <a:lnTo>
                      <a:pt x="127" y="162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64" y="130"/>
                    </a:lnTo>
                    <a:lnTo>
                      <a:pt x="178" y="113"/>
                    </a:lnTo>
                    <a:lnTo>
                      <a:pt x="193" y="94"/>
                    </a:lnTo>
                    <a:lnTo>
                      <a:pt x="206" y="73"/>
                    </a:lnTo>
                    <a:lnTo>
                      <a:pt x="230" y="34"/>
                    </a:lnTo>
                    <a:lnTo>
                      <a:pt x="246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1" y="11"/>
                    </a:lnTo>
                    <a:lnTo>
                      <a:pt x="249" y="29"/>
                    </a:lnTo>
                    <a:lnTo>
                      <a:pt x="248" y="37"/>
                    </a:lnTo>
                    <a:lnTo>
                      <a:pt x="246" y="45"/>
                    </a:lnTo>
                    <a:lnTo>
                      <a:pt x="243" y="52"/>
                    </a:lnTo>
                    <a:lnTo>
                      <a:pt x="240" y="55"/>
                    </a:lnTo>
                    <a:lnTo>
                      <a:pt x="236" y="67"/>
                    </a:lnTo>
                    <a:lnTo>
                      <a:pt x="230" y="84"/>
                    </a:lnTo>
                    <a:lnTo>
                      <a:pt x="226" y="93"/>
                    </a:lnTo>
                    <a:lnTo>
                      <a:pt x="224" y="100"/>
                    </a:lnTo>
                    <a:lnTo>
                      <a:pt x="224" y="105"/>
                    </a:lnTo>
                    <a:lnTo>
                      <a:pt x="225" y="107"/>
                    </a:lnTo>
                    <a:lnTo>
                      <a:pt x="231" y="102"/>
                    </a:lnTo>
                    <a:lnTo>
                      <a:pt x="236" y="96"/>
                    </a:lnTo>
                    <a:lnTo>
                      <a:pt x="241" y="90"/>
                    </a:lnTo>
                    <a:lnTo>
                      <a:pt x="246" y="82"/>
                    </a:lnTo>
                    <a:lnTo>
                      <a:pt x="254" y="67"/>
                    </a:lnTo>
                    <a:lnTo>
                      <a:pt x="261" y="52"/>
                    </a:lnTo>
                    <a:lnTo>
                      <a:pt x="264" y="52"/>
                    </a:lnTo>
                    <a:lnTo>
                      <a:pt x="268" y="52"/>
                    </a:lnTo>
                    <a:lnTo>
                      <a:pt x="272" y="53"/>
                    </a:lnTo>
                    <a:lnTo>
                      <a:pt x="274" y="56"/>
                    </a:lnTo>
                    <a:lnTo>
                      <a:pt x="282" y="61"/>
                    </a:lnTo>
                    <a:lnTo>
                      <a:pt x="288" y="71"/>
                    </a:lnTo>
                    <a:lnTo>
                      <a:pt x="293" y="82"/>
                    </a:lnTo>
                    <a:lnTo>
                      <a:pt x="298" y="94"/>
                    </a:lnTo>
                    <a:lnTo>
                      <a:pt x="303" y="107"/>
                    </a:lnTo>
                    <a:lnTo>
                      <a:pt x="309" y="123"/>
                    </a:lnTo>
                    <a:lnTo>
                      <a:pt x="315" y="154"/>
                    </a:lnTo>
                    <a:lnTo>
                      <a:pt x="321" y="184"/>
                    </a:lnTo>
                    <a:lnTo>
                      <a:pt x="324" y="209"/>
                    </a:lnTo>
                    <a:lnTo>
                      <a:pt x="325" y="227"/>
                    </a:lnTo>
                    <a:lnTo>
                      <a:pt x="321" y="239"/>
                    </a:lnTo>
                    <a:lnTo>
                      <a:pt x="316" y="253"/>
                    </a:lnTo>
                    <a:lnTo>
                      <a:pt x="310" y="268"/>
                    </a:lnTo>
                    <a:lnTo>
                      <a:pt x="303" y="284"/>
                    </a:lnTo>
                    <a:lnTo>
                      <a:pt x="283" y="320"/>
                    </a:lnTo>
                    <a:lnTo>
                      <a:pt x="261" y="356"/>
                    </a:lnTo>
                    <a:lnTo>
                      <a:pt x="238" y="391"/>
                    </a:lnTo>
                    <a:lnTo>
                      <a:pt x="214" y="424"/>
                    </a:lnTo>
                    <a:lnTo>
                      <a:pt x="202" y="439"/>
                    </a:lnTo>
                    <a:lnTo>
                      <a:pt x="191" y="451"/>
                    </a:lnTo>
                    <a:lnTo>
                      <a:pt x="181" y="462"/>
                    </a:lnTo>
                    <a:lnTo>
                      <a:pt x="172" y="470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37040" y="463536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3" y="16"/>
                    </a:moveTo>
                    <a:lnTo>
                      <a:pt x="1" y="14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8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72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91160" y="4552920"/>
                <a:ext cx="145800" cy="104760"/>
              </a:xfrm>
              <a:custGeom>
                <a:avLst/>
                <a:gdLst/>
                <a:ahLst/>
                <a:rect l="l" t="t" r="r" b="b"/>
                <a:pathLst>
                  <a:path w="92" h="66">
                    <a:moveTo>
                      <a:pt x="24" y="65"/>
                    </a:moveTo>
                    <a:lnTo>
                      <a:pt x="14" y="61"/>
                    </a:lnTo>
                    <a:lnTo>
                      <a:pt x="6" y="57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1" y="42"/>
                    </a:lnTo>
                    <a:lnTo>
                      <a:pt x="3" y="36"/>
                    </a:lnTo>
                    <a:lnTo>
                      <a:pt x="8" y="31"/>
                    </a:lnTo>
                    <a:lnTo>
                      <a:pt x="13" y="26"/>
                    </a:lnTo>
                    <a:lnTo>
                      <a:pt x="19" y="20"/>
                    </a:lnTo>
                    <a:lnTo>
                      <a:pt x="27" y="15"/>
                    </a:lnTo>
                    <a:lnTo>
                      <a:pt x="36" y="11"/>
                    </a:lnTo>
                    <a:lnTo>
                      <a:pt x="44" y="7"/>
                    </a:lnTo>
                    <a:lnTo>
                      <a:pt x="52" y="2"/>
                    </a:lnTo>
                    <a:lnTo>
                      <a:pt x="61" y="2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18"/>
                    </a:lnTo>
                    <a:lnTo>
                      <a:pt x="91" y="38"/>
                    </a:lnTo>
                    <a:lnTo>
                      <a:pt x="85" y="46"/>
                    </a:lnTo>
                    <a:lnTo>
                      <a:pt x="77" y="52"/>
                    </a:lnTo>
                    <a:lnTo>
                      <a:pt x="68" y="57"/>
                    </a:lnTo>
                    <a:lnTo>
                      <a:pt x="59" y="60"/>
                    </a:lnTo>
                    <a:lnTo>
                      <a:pt x="51" y="63"/>
                    </a:lnTo>
                    <a:lnTo>
                      <a:pt x="42" y="63"/>
                    </a:lnTo>
                    <a:lnTo>
                      <a:pt x="33" y="65"/>
                    </a:lnTo>
                    <a:lnTo>
                      <a:pt x="24" y="65"/>
                    </a:lnTo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59400" y="46069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9" y="29"/>
                    </a:moveTo>
                    <a:lnTo>
                      <a:pt x="4" y="28"/>
                    </a:lnTo>
                    <a:lnTo>
                      <a:pt x="0" y="24"/>
                    </a:lnTo>
                    <a:lnTo>
                      <a:pt x="6" y="7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9" y="4"/>
                    </a:lnTo>
                    <a:lnTo>
                      <a:pt x="23" y="8"/>
                    </a:lnTo>
                    <a:lnTo>
                      <a:pt x="17" y="20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18280" y="461484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3" y="15"/>
                    </a:moveTo>
                    <a:lnTo>
                      <a:pt x="1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5" y="9"/>
                    </a:lnTo>
                    <a:lnTo>
                      <a:pt x="11" y="13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16480" y="45673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4" y="13"/>
                    </a:moveTo>
                    <a:lnTo>
                      <a:pt x="1" y="9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4" y="13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76880" y="4367160"/>
                <a:ext cx="92160" cy="206280"/>
              </a:xfrm>
              <a:custGeom>
                <a:avLst/>
                <a:gdLst/>
                <a:ahLst/>
                <a:rect l="l" t="t" r="r" b="b"/>
                <a:pathLst>
                  <a:path w="58" h="130">
                    <a:moveTo>
                      <a:pt x="45" y="129"/>
                    </a:moveTo>
                    <a:lnTo>
                      <a:pt x="33" y="115"/>
                    </a:lnTo>
                    <a:lnTo>
                      <a:pt x="22" y="103"/>
                    </a:lnTo>
                    <a:lnTo>
                      <a:pt x="12" y="94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9" y="72"/>
                    </a:lnTo>
                    <a:lnTo>
                      <a:pt x="17" y="62"/>
                    </a:lnTo>
                    <a:lnTo>
                      <a:pt x="25" y="53"/>
                    </a:lnTo>
                    <a:lnTo>
                      <a:pt x="30" y="44"/>
                    </a:lnTo>
                    <a:lnTo>
                      <a:pt x="43" y="23"/>
                    </a:lnTo>
                    <a:lnTo>
                      <a:pt x="53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5" y="31"/>
                    </a:lnTo>
                    <a:lnTo>
                      <a:pt x="52" y="64"/>
                    </a:lnTo>
                    <a:lnTo>
                      <a:pt x="50" y="95"/>
                    </a:lnTo>
                    <a:lnTo>
                      <a:pt x="48" y="129"/>
                    </a:lnTo>
                    <a:lnTo>
                      <a:pt x="45" y="129"/>
                    </a:lnTo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97560" y="4378320"/>
                <a:ext cx="415800" cy="190440"/>
              </a:xfrm>
              <a:custGeom>
                <a:avLst/>
                <a:gdLst/>
                <a:ahLst/>
                <a:rect l="l" t="t" r="r" b="b"/>
                <a:pathLst>
                  <a:path w="262" h="120">
                    <a:moveTo>
                      <a:pt x="20" y="119"/>
                    </a:moveTo>
                    <a:lnTo>
                      <a:pt x="7" y="117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13" y="96"/>
                    </a:lnTo>
                    <a:lnTo>
                      <a:pt x="26" y="87"/>
                    </a:lnTo>
                    <a:lnTo>
                      <a:pt x="38" y="80"/>
                    </a:lnTo>
                    <a:lnTo>
                      <a:pt x="51" y="73"/>
                    </a:lnTo>
                    <a:lnTo>
                      <a:pt x="65" y="68"/>
                    </a:lnTo>
                    <a:lnTo>
                      <a:pt x="79" y="65"/>
                    </a:lnTo>
                    <a:lnTo>
                      <a:pt x="95" y="62"/>
                    </a:lnTo>
                    <a:lnTo>
                      <a:pt x="110" y="62"/>
                    </a:lnTo>
                    <a:lnTo>
                      <a:pt x="112" y="60"/>
                    </a:lnTo>
                    <a:lnTo>
                      <a:pt x="114" y="50"/>
                    </a:lnTo>
                    <a:lnTo>
                      <a:pt x="145" y="34"/>
                    </a:lnTo>
                    <a:lnTo>
                      <a:pt x="181" y="18"/>
                    </a:lnTo>
                    <a:lnTo>
                      <a:pt x="199" y="10"/>
                    </a:lnTo>
                    <a:lnTo>
                      <a:pt x="218" y="5"/>
                    </a:lnTo>
                    <a:lnTo>
                      <a:pt x="226" y="3"/>
                    </a:lnTo>
                    <a:lnTo>
                      <a:pt x="236" y="2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56" y="7"/>
                    </a:lnTo>
                    <a:lnTo>
                      <a:pt x="258" y="14"/>
                    </a:lnTo>
                    <a:lnTo>
                      <a:pt x="260" y="18"/>
                    </a:lnTo>
                    <a:lnTo>
                      <a:pt x="261" y="23"/>
                    </a:lnTo>
                    <a:lnTo>
                      <a:pt x="261" y="27"/>
                    </a:lnTo>
                    <a:lnTo>
                      <a:pt x="260" y="32"/>
                    </a:lnTo>
                    <a:lnTo>
                      <a:pt x="248" y="38"/>
                    </a:lnTo>
                    <a:lnTo>
                      <a:pt x="231" y="45"/>
                    </a:lnTo>
                    <a:lnTo>
                      <a:pt x="211" y="51"/>
                    </a:lnTo>
                    <a:lnTo>
                      <a:pt x="191" y="58"/>
                    </a:lnTo>
                    <a:lnTo>
                      <a:pt x="171" y="65"/>
                    </a:lnTo>
                    <a:lnTo>
                      <a:pt x="153" y="72"/>
                    </a:lnTo>
                    <a:lnTo>
                      <a:pt x="145" y="76"/>
                    </a:lnTo>
                    <a:lnTo>
                      <a:pt x="140" y="78"/>
                    </a:lnTo>
                    <a:lnTo>
                      <a:pt x="135" y="83"/>
                    </a:lnTo>
                    <a:lnTo>
                      <a:pt x="132" y="85"/>
                    </a:lnTo>
                    <a:lnTo>
                      <a:pt x="111" y="92"/>
                    </a:lnTo>
                    <a:lnTo>
                      <a:pt x="88" y="98"/>
                    </a:lnTo>
                    <a:lnTo>
                      <a:pt x="77" y="101"/>
                    </a:lnTo>
                    <a:lnTo>
                      <a:pt x="65" y="105"/>
                    </a:lnTo>
                    <a:lnTo>
                      <a:pt x="55" y="110"/>
                    </a:lnTo>
                    <a:lnTo>
                      <a:pt x="46" y="114"/>
                    </a:lnTo>
                    <a:lnTo>
                      <a:pt x="40" y="114"/>
                    </a:lnTo>
                    <a:lnTo>
                      <a:pt x="32" y="115"/>
                    </a:lnTo>
                    <a:lnTo>
                      <a:pt x="26" y="117"/>
                    </a:lnTo>
                    <a:lnTo>
                      <a:pt x="20" y="119"/>
                    </a:lnTo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22960" y="450540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30"/>
                    </a:moveTo>
                    <a:lnTo>
                      <a:pt x="1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2" y="5"/>
                    </a:lnTo>
                    <a:lnTo>
                      <a:pt x="23" y="8"/>
                    </a:lnTo>
                    <a:lnTo>
                      <a:pt x="24" y="11"/>
                    </a:lnTo>
                    <a:lnTo>
                      <a:pt x="29" y="15"/>
                    </a:lnTo>
                    <a:lnTo>
                      <a:pt x="29" y="20"/>
                    </a:lnTo>
                    <a:lnTo>
                      <a:pt x="29" y="27"/>
                    </a:lnTo>
                    <a:lnTo>
                      <a:pt x="17" y="28"/>
                    </a:lnTo>
                    <a:lnTo>
                      <a:pt x="5" y="30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99200" y="44686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9" y="21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5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9" y="21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64080" y="4311720"/>
                <a:ext cx="46080" cy="172800"/>
              </a:xfrm>
              <a:custGeom>
                <a:avLst/>
                <a:gdLst/>
                <a:ahLst/>
                <a:rect l="l" t="t" r="r" b="b"/>
                <a:pathLst>
                  <a:path w="29" h="109">
                    <a:moveTo>
                      <a:pt x="2" y="108"/>
                    </a:moveTo>
                    <a:lnTo>
                      <a:pt x="0" y="83"/>
                    </a:lnTo>
                    <a:lnTo>
                      <a:pt x="0" y="57"/>
                    </a:lnTo>
                    <a:lnTo>
                      <a:pt x="0" y="34"/>
                    </a:lnTo>
                    <a:lnTo>
                      <a:pt x="0" y="9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3" y="5"/>
                    </a:lnTo>
                    <a:lnTo>
                      <a:pt x="24" y="1"/>
                    </a:lnTo>
                    <a:lnTo>
                      <a:pt x="27" y="27"/>
                    </a:lnTo>
                    <a:lnTo>
                      <a:pt x="28" y="59"/>
                    </a:lnTo>
                    <a:lnTo>
                      <a:pt x="27" y="68"/>
                    </a:lnTo>
                    <a:lnTo>
                      <a:pt x="26" y="76"/>
                    </a:lnTo>
                    <a:lnTo>
                      <a:pt x="24" y="84"/>
                    </a:lnTo>
                    <a:lnTo>
                      <a:pt x="22" y="91"/>
                    </a:lnTo>
                    <a:lnTo>
                      <a:pt x="18" y="96"/>
                    </a:lnTo>
                    <a:lnTo>
                      <a:pt x="14" y="102"/>
                    </a:lnTo>
                    <a:lnTo>
                      <a:pt x="9" y="106"/>
                    </a:lnTo>
                    <a:lnTo>
                      <a:pt x="2" y="108"/>
                    </a:lnTo>
                  </a:path>
                </a:pathLst>
              </a:custGeom>
              <a:solidFill>
                <a:srgbClr val="da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08560" y="443700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6" y="18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4" y="13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6" y="18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6720" y="3468600"/>
                <a:ext cx="396720" cy="973080"/>
              </a:xfrm>
              <a:custGeom>
                <a:avLst/>
                <a:gdLst/>
                <a:ahLst/>
                <a:rect l="l" t="t" r="r" b="b"/>
                <a:pathLst>
                  <a:path w="250" h="613">
                    <a:moveTo>
                      <a:pt x="185" y="612"/>
                    </a:moveTo>
                    <a:lnTo>
                      <a:pt x="167" y="594"/>
                    </a:lnTo>
                    <a:lnTo>
                      <a:pt x="147" y="578"/>
                    </a:lnTo>
                    <a:lnTo>
                      <a:pt x="122" y="558"/>
                    </a:lnTo>
                    <a:lnTo>
                      <a:pt x="93" y="533"/>
                    </a:lnTo>
                    <a:lnTo>
                      <a:pt x="83" y="519"/>
                    </a:lnTo>
                    <a:lnTo>
                      <a:pt x="73" y="504"/>
                    </a:lnTo>
                    <a:lnTo>
                      <a:pt x="64" y="489"/>
                    </a:lnTo>
                    <a:lnTo>
                      <a:pt x="55" y="472"/>
                    </a:lnTo>
                    <a:lnTo>
                      <a:pt x="48" y="456"/>
                    </a:lnTo>
                    <a:lnTo>
                      <a:pt x="40" y="441"/>
                    </a:lnTo>
                    <a:lnTo>
                      <a:pt x="33" y="425"/>
                    </a:lnTo>
                    <a:lnTo>
                      <a:pt x="27" y="407"/>
                    </a:lnTo>
                    <a:lnTo>
                      <a:pt x="21" y="391"/>
                    </a:lnTo>
                    <a:lnTo>
                      <a:pt x="17" y="374"/>
                    </a:lnTo>
                    <a:lnTo>
                      <a:pt x="12" y="357"/>
                    </a:lnTo>
                    <a:lnTo>
                      <a:pt x="8" y="340"/>
                    </a:lnTo>
                    <a:lnTo>
                      <a:pt x="5" y="322"/>
                    </a:lnTo>
                    <a:lnTo>
                      <a:pt x="3" y="306"/>
                    </a:lnTo>
                    <a:lnTo>
                      <a:pt x="1" y="288"/>
                    </a:lnTo>
                    <a:lnTo>
                      <a:pt x="0" y="270"/>
                    </a:lnTo>
                    <a:lnTo>
                      <a:pt x="0" y="252"/>
                    </a:lnTo>
                    <a:lnTo>
                      <a:pt x="0" y="235"/>
                    </a:lnTo>
                    <a:lnTo>
                      <a:pt x="0" y="217"/>
                    </a:lnTo>
                    <a:lnTo>
                      <a:pt x="3" y="199"/>
                    </a:lnTo>
                    <a:lnTo>
                      <a:pt x="4" y="182"/>
                    </a:lnTo>
                    <a:lnTo>
                      <a:pt x="6" y="164"/>
                    </a:lnTo>
                    <a:lnTo>
                      <a:pt x="10" y="148"/>
                    </a:lnTo>
                    <a:lnTo>
                      <a:pt x="14" y="130"/>
                    </a:lnTo>
                    <a:lnTo>
                      <a:pt x="19" y="114"/>
                    </a:lnTo>
                    <a:lnTo>
                      <a:pt x="25" y="96"/>
                    </a:lnTo>
                    <a:lnTo>
                      <a:pt x="31" y="80"/>
                    </a:lnTo>
                    <a:lnTo>
                      <a:pt x="37" y="64"/>
                    </a:lnTo>
                    <a:lnTo>
                      <a:pt x="45" y="47"/>
                    </a:lnTo>
                    <a:lnTo>
                      <a:pt x="53" y="31"/>
                    </a:lnTo>
                    <a:lnTo>
                      <a:pt x="60" y="16"/>
                    </a:lnTo>
                    <a:lnTo>
                      <a:pt x="70" y="0"/>
                    </a:lnTo>
                    <a:lnTo>
                      <a:pt x="71" y="7"/>
                    </a:lnTo>
                    <a:lnTo>
                      <a:pt x="71" y="18"/>
                    </a:lnTo>
                    <a:lnTo>
                      <a:pt x="71" y="31"/>
                    </a:lnTo>
                    <a:lnTo>
                      <a:pt x="70" y="46"/>
                    </a:lnTo>
                    <a:lnTo>
                      <a:pt x="69" y="63"/>
                    </a:lnTo>
                    <a:lnTo>
                      <a:pt x="69" y="76"/>
                    </a:lnTo>
                    <a:lnTo>
                      <a:pt x="69" y="83"/>
                    </a:lnTo>
                    <a:lnTo>
                      <a:pt x="70" y="86"/>
                    </a:lnTo>
                    <a:lnTo>
                      <a:pt x="71" y="91"/>
                    </a:lnTo>
                    <a:lnTo>
                      <a:pt x="73" y="93"/>
                    </a:lnTo>
                    <a:lnTo>
                      <a:pt x="77" y="111"/>
                    </a:lnTo>
                    <a:lnTo>
                      <a:pt x="84" y="134"/>
                    </a:lnTo>
                    <a:lnTo>
                      <a:pt x="93" y="161"/>
                    </a:lnTo>
                    <a:lnTo>
                      <a:pt x="105" y="188"/>
                    </a:lnTo>
                    <a:lnTo>
                      <a:pt x="110" y="204"/>
                    </a:lnTo>
                    <a:lnTo>
                      <a:pt x="117" y="216"/>
                    </a:lnTo>
                    <a:lnTo>
                      <a:pt x="125" y="228"/>
                    </a:lnTo>
                    <a:lnTo>
                      <a:pt x="132" y="238"/>
                    </a:lnTo>
                    <a:lnTo>
                      <a:pt x="141" y="250"/>
                    </a:lnTo>
                    <a:lnTo>
                      <a:pt x="149" y="256"/>
                    </a:lnTo>
                    <a:lnTo>
                      <a:pt x="158" y="263"/>
                    </a:lnTo>
                    <a:lnTo>
                      <a:pt x="167" y="266"/>
                    </a:lnTo>
                    <a:lnTo>
                      <a:pt x="175" y="277"/>
                    </a:lnTo>
                    <a:lnTo>
                      <a:pt x="191" y="290"/>
                    </a:lnTo>
                    <a:lnTo>
                      <a:pt x="191" y="320"/>
                    </a:lnTo>
                    <a:lnTo>
                      <a:pt x="192" y="349"/>
                    </a:lnTo>
                    <a:lnTo>
                      <a:pt x="195" y="376"/>
                    </a:lnTo>
                    <a:lnTo>
                      <a:pt x="198" y="403"/>
                    </a:lnTo>
                    <a:lnTo>
                      <a:pt x="204" y="431"/>
                    </a:lnTo>
                    <a:lnTo>
                      <a:pt x="210" y="458"/>
                    </a:lnTo>
                    <a:lnTo>
                      <a:pt x="217" y="486"/>
                    </a:lnTo>
                    <a:lnTo>
                      <a:pt x="227" y="516"/>
                    </a:lnTo>
                    <a:lnTo>
                      <a:pt x="232" y="532"/>
                    </a:lnTo>
                    <a:lnTo>
                      <a:pt x="240" y="549"/>
                    </a:lnTo>
                    <a:lnTo>
                      <a:pt x="245" y="569"/>
                    </a:lnTo>
                    <a:lnTo>
                      <a:pt x="249" y="589"/>
                    </a:lnTo>
                    <a:lnTo>
                      <a:pt x="234" y="596"/>
                    </a:lnTo>
                    <a:lnTo>
                      <a:pt x="217" y="603"/>
                    </a:lnTo>
                    <a:lnTo>
                      <a:pt x="209" y="607"/>
                    </a:lnTo>
                    <a:lnTo>
                      <a:pt x="201" y="610"/>
                    </a:lnTo>
                    <a:lnTo>
                      <a:pt x="193" y="611"/>
                    </a:lnTo>
                    <a:lnTo>
                      <a:pt x="185" y="612"/>
                    </a:lnTo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80280" y="4368960"/>
                <a:ext cx="3312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0" y="38"/>
                    </a:moveTo>
                    <a:lnTo>
                      <a:pt x="0" y="33"/>
                    </a:lnTo>
                    <a:lnTo>
                      <a:pt x="3" y="27"/>
                    </a:lnTo>
                    <a:lnTo>
                      <a:pt x="4" y="22"/>
                    </a:lnTo>
                    <a:lnTo>
                      <a:pt x="8" y="18"/>
                    </a:lnTo>
                    <a:lnTo>
                      <a:pt x="14" y="9"/>
                    </a:lnTo>
                    <a:lnTo>
                      <a:pt x="20" y="0"/>
                    </a:lnTo>
                    <a:lnTo>
                      <a:pt x="19" y="9"/>
                    </a:lnTo>
                    <a:lnTo>
                      <a:pt x="14" y="19"/>
                    </a:lnTo>
                    <a:lnTo>
                      <a:pt x="9" y="30"/>
                    </a:lnTo>
                    <a:lnTo>
                      <a:pt x="5" y="38"/>
                    </a:lnTo>
                    <a:lnTo>
                      <a:pt x="3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13320" y="4361040"/>
                <a:ext cx="36720" cy="6156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14" y="38"/>
                    </a:moveTo>
                    <a:lnTo>
                      <a:pt x="9" y="33"/>
                    </a:lnTo>
                    <a:lnTo>
                      <a:pt x="4" y="29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5" y="10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22" y="2"/>
                    </a:lnTo>
                    <a:lnTo>
                      <a:pt x="21" y="11"/>
                    </a:lnTo>
                    <a:lnTo>
                      <a:pt x="19" y="16"/>
                    </a:lnTo>
                    <a:lnTo>
                      <a:pt x="19" y="25"/>
                    </a:lnTo>
                    <a:lnTo>
                      <a:pt x="21" y="37"/>
                    </a:lnTo>
                    <a:lnTo>
                      <a:pt x="15" y="38"/>
                    </a:lnTo>
                    <a:lnTo>
                      <a:pt x="14" y="38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80120" y="4357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4" y="16"/>
                    </a:moveTo>
                    <a:lnTo>
                      <a:pt x="1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9" y="14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89680" y="3807000"/>
                <a:ext cx="582840" cy="568080"/>
              </a:xfrm>
              <a:custGeom>
                <a:avLst/>
                <a:gdLst/>
                <a:ahLst/>
                <a:rect l="l" t="t" r="r" b="b"/>
                <a:pathLst>
                  <a:path w="367" h="358">
                    <a:moveTo>
                      <a:pt x="105" y="357"/>
                    </a:moveTo>
                    <a:lnTo>
                      <a:pt x="94" y="347"/>
                    </a:lnTo>
                    <a:lnTo>
                      <a:pt x="86" y="338"/>
                    </a:lnTo>
                    <a:lnTo>
                      <a:pt x="81" y="328"/>
                    </a:lnTo>
                    <a:lnTo>
                      <a:pt x="79" y="318"/>
                    </a:lnTo>
                    <a:lnTo>
                      <a:pt x="77" y="297"/>
                    </a:lnTo>
                    <a:lnTo>
                      <a:pt x="77" y="273"/>
                    </a:lnTo>
                    <a:lnTo>
                      <a:pt x="75" y="270"/>
                    </a:lnTo>
                    <a:lnTo>
                      <a:pt x="73" y="266"/>
                    </a:lnTo>
                    <a:lnTo>
                      <a:pt x="73" y="262"/>
                    </a:lnTo>
                    <a:lnTo>
                      <a:pt x="72" y="258"/>
                    </a:lnTo>
                    <a:lnTo>
                      <a:pt x="72" y="248"/>
                    </a:lnTo>
                    <a:lnTo>
                      <a:pt x="70" y="240"/>
                    </a:lnTo>
                    <a:lnTo>
                      <a:pt x="67" y="240"/>
                    </a:lnTo>
                    <a:lnTo>
                      <a:pt x="65" y="240"/>
                    </a:lnTo>
                    <a:lnTo>
                      <a:pt x="63" y="241"/>
                    </a:lnTo>
                    <a:lnTo>
                      <a:pt x="62" y="244"/>
                    </a:lnTo>
                    <a:lnTo>
                      <a:pt x="60" y="244"/>
                    </a:lnTo>
                    <a:lnTo>
                      <a:pt x="58" y="245"/>
                    </a:lnTo>
                    <a:lnTo>
                      <a:pt x="57" y="270"/>
                    </a:lnTo>
                    <a:lnTo>
                      <a:pt x="56" y="295"/>
                    </a:lnTo>
                    <a:lnTo>
                      <a:pt x="55" y="307"/>
                    </a:lnTo>
                    <a:lnTo>
                      <a:pt x="50" y="318"/>
                    </a:lnTo>
                    <a:lnTo>
                      <a:pt x="48" y="323"/>
                    </a:lnTo>
                    <a:lnTo>
                      <a:pt x="45" y="327"/>
                    </a:lnTo>
                    <a:lnTo>
                      <a:pt x="40" y="331"/>
                    </a:lnTo>
                    <a:lnTo>
                      <a:pt x="35" y="335"/>
                    </a:lnTo>
                    <a:lnTo>
                      <a:pt x="28" y="335"/>
                    </a:lnTo>
                    <a:lnTo>
                      <a:pt x="23" y="334"/>
                    </a:lnTo>
                    <a:lnTo>
                      <a:pt x="18" y="332"/>
                    </a:lnTo>
                    <a:lnTo>
                      <a:pt x="14" y="331"/>
                    </a:lnTo>
                    <a:lnTo>
                      <a:pt x="10" y="328"/>
                    </a:lnTo>
                    <a:lnTo>
                      <a:pt x="8" y="325"/>
                    </a:lnTo>
                    <a:lnTo>
                      <a:pt x="5" y="320"/>
                    </a:lnTo>
                    <a:lnTo>
                      <a:pt x="3" y="316"/>
                    </a:lnTo>
                    <a:lnTo>
                      <a:pt x="0" y="307"/>
                    </a:lnTo>
                    <a:lnTo>
                      <a:pt x="0" y="296"/>
                    </a:lnTo>
                    <a:lnTo>
                      <a:pt x="0" y="285"/>
                    </a:lnTo>
                    <a:lnTo>
                      <a:pt x="1" y="271"/>
                    </a:lnTo>
                    <a:lnTo>
                      <a:pt x="15" y="223"/>
                    </a:lnTo>
                    <a:lnTo>
                      <a:pt x="27" y="186"/>
                    </a:lnTo>
                    <a:lnTo>
                      <a:pt x="42" y="180"/>
                    </a:lnTo>
                    <a:lnTo>
                      <a:pt x="57" y="172"/>
                    </a:lnTo>
                    <a:lnTo>
                      <a:pt x="72" y="166"/>
                    </a:lnTo>
                    <a:lnTo>
                      <a:pt x="87" y="160"/>
                    </a:lnTo>
                    <a:lnTo>
                      <a:pt x="90" y="164"/>
                    </a:lnTo>
                    <a:lnTo>
                      <a:pt x="93" y="168"/>
                    </a:lnTo>
                    <a:lnTo>
                      <a:pt x="95" y="171"/>
                    </a:lnTo>
                    <a:lnTo>
                      <a:pt x="99" y="175"/>
                    </a:lnTo>
                    <a:lnTo>
                      <a:pt x="107" y="179"/>
                    </a:lnTo>
                    <a:lnTo>
                      <a:pt x="115" y="182"/>
                    </a:lnTo>
                    <a:lnTo>
                      <a:pt x="125" y="182"/>
                    </a:lnTo>
                    <a:lnTo>
                      <a:pt x="135" y="182"/>
                    </a:lnTo>
                    <a:lnTo>
                      <a:pt x="147" y="180"/>
                    </a:lnTo>
                    <a:lnTo>
                      <a:pt x="157" y="178"/>
                    </a:lnTo>
                    <a:lnTo>
                      <a:pt x="167" y="173"/>
                    </a:lnTo>
                    <a:lnTo>
                      <a:pt x="177" y="170"/>
                    </a:lnTo>
                    <a:lnTo>
                      <a:pt x="185" y="164"/>
                    </a:lnTo>
                    <a:lnTo>
                      <a:pt x="192" y="159"/>
                    </a:lnTo>
                    <a:lnTo>
                      <a:pt x="197" y="152"/>
                    </a:lnTo>
                    <a:lnTo>
                      <a:pt x="200" y="147"/>
                    </a:lnTo>
                    <a:lnTo>
                      <a:pt x="200" y="144"/>
                    </a:lnTo>
                    <a:lnTo>
                      <a:pt x="200" y="141"/>
                    </a:lnTo>
                    <a:lnTo>
                      <a:pt x="199" y="138"/>
                    </a:lnTo>
                    <a:lnTo>
                      <a:pt x="198" y="134"/>
                    </a:lnTo>
                    <a:lnTo>
                      <a:pt x="184" y="147"/>
                    </a:lnTo>
                    <a:lnTo>
                      <a:pt x="171" y="156"/>
                    </a:lnTo>
                    <a:lnTo>
                      <a:pt x="159" y="163"/>
                    </a:lnTo>
                    <a:lnTo>
                      <a:pt x="148" y="168"/>
                    </a:lnTo>
                    <a:lnTo>
                      <a:pt x="138" y="170"/>
                    </a:lnTo>
                    <a:lnTo>
                      <a:pt x="130" y="170"/>
                    </a:lnTo>
                    <a:lnTo>
                      <a:pt x="122" y="167"/>
                    </a:lnTo>
                    <a:lnTo>
                      <a:pt x="115" y="163"/>
                    </a:lnTo>
                    <a:lnTo>
                      <a:pt x="112" y="156"/>
                    </a:lnTo>
                    <a:lnTo>
                      <a:pt x="109" y="148"/>
                    </a:lnTo>
                    <a:lnTo>
                      <a:pt x="108" y="138"/>
                    </a:lnTo>
                    <a:lnTo>
                      <a:pt x="109" y="126"/>
                    </a:lnTo>
                    <a:lnTo>
                      <a:pt x="113" y="114"/>
                    </a:lnTo>
                    <a:lnTo>
                      <a:pt x="119" y="99"/>
                    </a:lnTo>
                    <a:lnTo>
                      <a:pt x="127" y="84"/>
                    </a:lnTo>
                    <a:lnTo>
                      <a:pt x="138" y="66"/>
                    </a:lnTo>
                    <a:lnTo>
                      <a:pt x="147" y="62"/>
                    </a:lnTo>
                    <a:lnTo>
                      <a:pt x="155" y="59"/>
                    </a:lnTo>
                    <a:lnTo>
                      <a:pt x="164" y="57"/>
                    </a:lnTo>
                    <a:lnTo>
                      <a:pt x="172" y="57"/>
                    </a:lnTo>
                    <a:lnTo>
                      <a:pt x="182" y="59"/>
                    </a:lnTo>
                    <a:lnTo>
                      <a:pt x="192" y="62"/>
                    </a:lnTo>
                    <a:lnTo>
                      <a:pt x="200" y="65"/>
                    </a:lnTo>
                    <a:lnTo>
                      <a:pt x="209" y="71"/>
                    </a:lnTo>
                    <a:lnTo>
                      <a:pt x="245" y="95"/>
                    </a:lnTo>
                    <a:lnTo>
                      <a:pt x="279" y="118"/>
                    </a:lnTo>
                    <a:lnTo>
                      <a:pt x="274" y="137"/>
                    </a:lnTo>
                    <a:lnTo>
                      <a:pt x="270" y="156"/>
                    </a:lnTo>
                    <a:lnTo>
                      <a:pt x="274" y="156"/>
                    </a:lnTo>
                    <a:lnTo>
                      <a:pt x="277" y="156"/>
                    </a:lnTo>
                    <a:lnTo>
                      <a:pt x="287" y="140"/>
                    </a:lnTo>
                    <a:lnTo>
                      <a:pt x="295" y="125"/>
                    </a:lnTo>
                    <a:lnTo>
                      <a:pt x="298" y="129"/>
                    </a:lnTo>
                    <a:lnTo>
                      <a:pt x="299" y="136"/>
                    </a:lnTo>
                    <a:lnTo>
                      <a:pt x="299" y="144"/>
                    </a:lnTo>
                    <a:lnTo>
                      <a:pt x="299" y="150"/>
                    </a:lnTo>
                    <a:lnTo>
                      <a:pt x="304" y="152"/>
                    </a:lnTo>
                    <a:lnTo>
                      <a:pt x="309" y="153"/>
                    </a:lnTo>
                    <a:lnTo>
                      <a:pt x="311" y="150"/>
                    </a:lnTo>
                    <a:lnTo>
                      <a:pt x="312" y="148"/>
                    </a:lnTo>
                    <a:lnTo>
                      <a:pt x="309" y="138"/>
                    </a:lnTo>
                    <a:lnTo>
                      <a:pt x="309" y="130"/>
                    </a:lnTo>
                    <a:lnTo>
                      <a:pt x="309" y="121"/>
                    </a:lnTo>
                    <a:lnTo>
                      <a:pt x="311" y="110"/>
                    </a:lnTo>
                    <a:lnTo>
                      <a:pt x="314" y="91"/>
                    </a:lnTo>
                    <a:lnTo>
                      <a:pt x="321" y="71"/>
                    </a:lnTo>
                    <a:lnTo>
                      <a:pt x="336" y="32"/>
                    </a:lnTo>
                    <a:lnTo>
                      <a:pt x="350" y="0"/>
                    </a:lnTo>
                    <a:lnTo>
                      <a:pt x="355" y="3"/>
                    </a:lnTo>
                    <a:lnTo>
                      <a:pt x="359" y="7"/>
                    </a:lnTo>
                    <a:lnTo>
                      <a:pt x="361" y="11"/>
                    </a:lnTo>
                    <a:lnTo>
                      <a:pt x="364" y="16"/>
                    </a:lnTo>
                    <a:lnTo>
                      <a:pt x="365" y="22"/>
                    </a:lnTo>
                    <a:lnTo>
                      <a:pt x="366" y="29"/>
                    </a:lnTo>
                    <a:lnTo>
                      <a:pt x="366" y="34"/>
                    </a:lnTo>
                    <a:lnTo>
                      <a:pt x="366" y="42"/>
                    </a:lnTo>
                    <a:lnTo>
                      <a:pt x="364" y="57"/>
                    </a:lnTo>
                    <a:lnTo>
                      <a:pt x="360" y="72"/>
                    </a:lnTo>
                    <a:lnTo>
                      <a:pt x="355" y="89"/>
                    </a:lnTo>
                    <a:lnTo>
                      <a:pt x="347" y="106"/>
                    </a:lnTo>
                    <a:lnTo>
                      <a:pt x="332" y="140"/>
                    </a:lnTo>
                    <a:lnTo>
                      <a:pt x="317" y="171"/>
                    </a:lnTo>
                    <a:lnTo>
                      <a:pt x="304" y="195"/>
                    </a:lnTo>
                    <a:lnTo>
                      <a:pt x="298" y="212"/>
                    </a:lnTo>
                    <a:lnTo>
                      <a:pt x="297" y="227"/>
                    </a:lnTo>
                    <a:lnTo>
                      <a:pt x="294" y="239"/>
                    </a:lnTo>
                    <a:lnTo>
                      <a:pt x="289" y="250"/>
                    </a:lnTo>
                    <a:lnTo>
                      <a:pt x="282" y="261"/>
                    </a:lnTo>
                    <a:lnTo>
                      <a:pt x="277" y="270"/>
                    </a:lnTo>
                    <a:lnTo>
                      <a:pt x="269" y="279"/>
                    </a:lnTo>
                    <a:lnTo>
                      <a:pt x="260" y="288"/>
                    </a:lnTo>
                    <a:lnTo>
                      <a:pt x="250" y="296"/>
                    </a:lnTo>
                    <a:lnTo>
                      <a:pt x="238" y="297"/>
                    </a:lnTo>
                    <a:lnTo>
                      <a:pt x="217" y="302"/>
                    </a:lnTo>
                    <a:lnTo>
                      <a:pt x="204" y="307"/>
                    </a:lnTo>
                    <a:lnTo>
                      <a:pt x="192" y="309"/>
                    </a:lnTo>
                    <a:lnTo>
                      <a:pt x="182" y="311"/>
                    </a:lnTo>
                    <a:lnTo>
                      <a:pt x="172" y="311"/>
                    </a:lnTo>
                    <a:lnTo>
                      <a:pt x="167" y="293"/>
                    </a:lnTo>
                    <a:lnTo>
                      <a:pt x="165" y="279"/>
                    </a:lnTo>
                    <a:lnTo>
                      <a:pt x="162" y="274"/>
                    </a:lnTo>
                    <a:lnTo>
                      <a:pt x="160" y="268"/>
                    </a:lnTo>
                    <a:lnTo>
                      <a:pt x="156" y="262"/>
                    </a:lnTo>
                    <a:lnTo>
                      <a:pt x="151" y="254"/>
                    </a:lnTo>
                    <a:lnTo>
                      <a:pt x="148" y="264"/>
                    </a:lnTo>
                    <a:lnTo>
                      <a:pt x="148" y="278"/>
                    </a:lnTo>
                    <a:lnTo>
                      <a:pt x="148" y="293"/>
                    </a:lnTo>
                    <a:lnTo>
                      <a:pt x="148" y="307"/>
                    </a:lnTo>
                    <a:lnTo>
                      <a:pt x="143" y="315"/>
                    </a:lnTo>
                    <a:lnTo>
                      <a:pt x="140" y="323"/>
                    </a:lnTo>
                    <a:lnTo>
                      <a:pt x="137" y="331"/>
                    </a:lnTo>
                    <a:lnTo>
                      <a:pt x="135" y="338"/>
                    </a:lnTo>
                    <a:lnTo>
                      <a:pt x="130" y="346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17" y="355"/>
                    </a:lnTo>
                    <a:lnTo>
                      <a:pt x="112" y="355"/>
                    </a:lnTo>
                    <a:lnTo>
                      <a:pt x="105" y="357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27720" y="4305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6" y="15"/>
                    </a:moveTo>
                    <a:lnTo>
                      <a:pt x="4" y="13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9" y="15"/>
                    </a:lnTo>
                    <a:lnTo>
                      <a:pt x="6" y="15"/>
                    </a:lnTo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0520" y="4278240"/>
                <a:ext cx="41040" cy="47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" y="29"/>
                    </a:moveTo>
                    <a:lnTo>
                      <a:pt x="1" y="28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14" y="14"/>
                    </a:lnTo>
                    <a:lnTo>
                      <a:pt x="2" y="29"/>
                    </a:lnTo>
                  </a:path>
                </a:pathLst>
              </a:custGeom>
              <a:solidFill>
                <a:srgbClr val="3d7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50120" y="3201840"/>
                <a:ext cx="309600" cy="1070280"/>
              </a:xfrm>
              <a:custGeom>
                <a:avLst/>
                <a:gdLst/>
                <a:ahLst/>
                <a:rect l="l" t="t" r="r" b="b"/>
                <a:pathLst>
                  <a:path w="195" h="674">
                    <a:moveTo>
                      <a:pt x="1" y="673"/>
                    </a:moveTo>
                    <a:lnTo>
                      <a:pt x="0" y="671"/>
                    </a:lnTo>
                    <a:lnTo>
                      <a:pt x="0" y="668"/>
                    </a:lnTo>
                    <a:lnTo>
                      <a:pt x="6" y="658"/>
                    </a:lnTo>
                    <a:lnTo>
                      <a:pt x="12" y="649"/>
                    </a:lnTo>
                    <a:lnTo>
                      <a:pt x="15" y="641"/>
                    </a:lnTo>
                    <a:lnTo>
                      <a:pt x="19" y="631"/>
                    </a:lnTo>
                    <a:lnTo>
                      <a:pt x="24" y="612"/>
                    </a:lnTo>
                    <a:lnTo>
                      <a:pt x="29" y="592"/>
                    </a:lnTo>
                    <a:lnTo>
                      <a:pt x="48" y="553"/>
                    </a:lnTo>
                    <a:lnTo>
                      <a:pt x="67" y="517"/>
                    </a:lnTo>
                    <a:lnTo>
                      <a:pt x="76" y="498"/>
                    </a:lnTo>
                    <a:lnTo>
                      <a:pt x="84" y="479"/>
                    </a:lnTo>
                    <a:lnTo>
                      <a:pt x="87" y="469"/>
                    </a:lnTo>
                    <a:lnTo>
                      <a:pt x="89" y="460"/>
                    </a:lnTo>
                    <a:lnTo>
                      <a:pt x="90" y="449"/>
                    </a:lnTo>
                    <a:lnTo>
                      <a:pt x="92" y="438"/>
                    </a:lnTo>
                    <a:lnTo>
                      <a:pt x="87" y="410"/>
                    </a:lnTo>
                    <a:lnTo>
                      <a:pt x="85" y="380"/>
                    </a:lnTo>
                    <a:lnTo>
                      <a:pt x="84" y="350"/>
                    </a:lnTo>
                    <a:lnTo>
                      <a:pt x="84" y="320"/>
                    </a:lnTo>
                    <a:lnTo>
                      <a:pt x="85" y="292"/>
                    </a:lnTo>
                    <a:lnTo>
                      <a:pt x="87" y="262"/>
                    </a:lnTo>
                    <a:lnTo>
                      <a:pt x="92" y="232"/>
                    </a:lnTo>
                    <a:lnTo>
                      <a:pt x="97" y="204"/>
                    </a:lnTo>
                    <a:lnTo>
                      <a:pt x="102" y="175"/>
                    </a:lnTo>
                    <a:lnTo>
                      <a:pt x="110" y="147"/>
                    </a:lnTo>
                    <a:lnTo>
                      <a:pt x="119" y="120"/>
                    </a:lnTo>
                    <a:lnTo>
                      <a:pt x="131" y="95"/>
                    </a:lnTo>
                    <a:lnTo>
                      <a:pt x="144" y="69"/>
                    </a:lnTo>
                    <a:lnTo>
                      <a:pt x="157" y="45"/>
                    </a:lnTo>
                    <a:lnTo>
                      <a:pt x="174" y="22"/>
                    </a:lnTo>
                    <a:lnTo>
                      <a:pt x="192" y="0"/>
                    </a:lnTo>
                    <a:lnTo>
                      <a:pt x="193" y="1"/>
                    </a:lnTo>
                    <a:lnTo>
                      <a:pt x="194" y="4"/>
                    </a:lnTo>
                    <a:lnTo>
                      <a:pt x="188" y="23"/>
                    </a:lnTo>
                    <a:lnTo>
                      <a:pt x="177" y="40"/>
                    </a:lnTo>
                    <a:lnTo>
                      <a:pt x="167" y="59"/>
                    </a:lnTo>
                    <a:lnTo>
                      <a:pt x="157" y="79"/>
                    </a:lnTo>
                    <a:lnTo>
                      <a:pt x="151" y="103"/>
                    </a:lnTo>
                    <a:lnTo>
                      <a:pt x="144" y="127"/>
                    </a:lnTo>
                    <a:lnTo>
                      <a:pt x="134" y="150"/>
                    </a:lnTo>
                    <a:lnTo>
                      <a:pt x="125" y="172"/>
                    </a:lnTo>
                    <a:lnTo>
                      <a:pt x="118" y="195"/>
                    </a:lnTo>
                    <a:lnTo>
                      <a:pt x="110" y="217"/>
                    </a:lnTo>
                    <a:lnTo>
                      <a:pt x="104" y="240"/>
                    </a:lnTo>
                    <a:lnTo>
                      <a:pt x="97" y="262"/>
                    </a:lnTo>
                    <a:lnTo>
                      <a:pt x="94" y="283"/>
                    </a:lnTo>
                    <a:lnTo>
                      <a:pt x="92" y="306"/>
                    </a:lnTo>
                    <a:lnTo>
                      <a:pt x="92" y="316"/>
                    </a:lnTo>
                    <a:lnTo>
                      <a:pt x="92" y="327"/>
                    </a:lnTo>
                    <a:lnTo>
                      <a:pt x="94" y="338"/>
                    </a:lnTo>
                    <a:lnTo>
                      <a:pt x="97" y="349"/>
                    </a:lnTo>
                    <a:lnTo>
                      <a:pt x="99" y="360"/>
                    </a:lnTo>
                    <a:lnTo>
                      <a:pt x="102" y="370"/>
                    </a:lnTo>
                    <a:lnTo>
                      <a:pt x="107" y="381"/>
                    </a:lnTo>
                    <a:lnTo>
                      <a:pt x="113" y="392"/>
                    </a:lnTo>
                    <a:lnTo>
                      <a:pt x="119" y="404"/>
                    </a:lnTo>
                    <a:lnTo>
                      <a:pt x="127" y="415"/>
                    </a:lnTo>
                    <a:lnTo>
                      <a:pt x="136" y="426"/>
                    </a:lnTo>
                    <a:lnTo>
                      <a:pt x="146" y="438"/>
                    </a:lnTo>
                    <a:lnTo>
                      <a:pt x="149" y="441"/>
                    </a:lnTo>
                    <a:lnTo>
                      <a:pt x="151" y="445"/>
                    </a:lnTo>
                    <a:lnTo>
                      <a:pt x="152" y="451"/>
                    </a:lnTo>
                    <a:lnTo>
                      <a:pt x="152" y="458"/>
                    </a:lnTo>
                    <a:lnTo>
                      <a:pt x="149" y="471"/>
                    </a:lnTo>
                    <a:lnTo>
                      <a:pt x="141" y="487"/>
                    </a:lnTo>
                    <a:lnTo>
                      <a:pt x="131" y="506"/>
                    </a:lnTo>
                    <a:lnTo>
                      <a:pt x="119" y="526"/>
                    </a:lnTo>
                    <a:lnTo>
                      <a:pt x="105" y="546"/>
                    </a:lnTo>
                    <a:lnTo>
                      <a:pt x="90" y="567"/>
                    </a:lnTo>
                    <a:lnTo>
                      <a:pt x="58" y="607"/>
                    </a:lnTo>
                    <a:lnTo>
                      <a:pt x="30" y="641"/>
                    </a:lnTo>
                    <a:lnTo>
                      <a:pt x="9" y="664"/>
                    </a:lnTo>
                    <a:lnTo>
                      <a:pt x="1" y="673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02280" y="2671920"/>
                <a:ext cx="784080" cy="1503360"/>
              </a:xfrm>
              <a:custGeom>
                <a:avLst/>
                <a:gdLst/>
                <a:ahLst/>
                <a:rect l="l" t="t" r="r" b="b"/>
                <a:pathLst>
                  <a:path w="494" h="947">
                    <a:moveTo>
                      <a:pt x="277" y="946"/>
                    </a:moveTo>
                    <a:lnTo>
                      <a:pt x="266" y="933"/>
                    </a:lnTo>
                    <a:lnTo>
                      <a:pt x="259" y="919"/>
                    </a:lnTo>
                    <a:lnTo>
                      <a:pt x="256" y="914"/>
                    </a:lnTo>
                    <a:lnTo>
                      <a:pt x="254" y="907"/>
                    </a:lnTo>
                    <a:lnTo>
                      <a:pt x="254" y="900"/>
                    </a:lnTo>
                    <a:lnTo>
                      <a:pt x="252" y="894"/>
                    </a:lnTo>
                    <a:lnTo>
                      <a:pt x="254" y="882"/>
                    </a:lnTo>
                    <a:lnTo>
                      <a:pt x="256" y="870"/>
                    </a:lnTo>
                    <a:lnTo>
                      <a:pt x="261" y="860"/>
                    </a:lnTo>
                    <a:lnTo>
                      <a:pt x="267" y="848"/>
                    </a:lnTo>
                    <a:lnTo>
                      <a:pt x="284" y="828"/>
                    </a:lnTo>
                    <a:lnTo>
                      <a:pt x="303" y="808"/>
                    </a:lnTo>
                    <a:lnTo>
                      <a:pt x="321" y="789"/>
                    </a:lnTo>
                    <a:lnTo>
                      <a:pt x="336" y="769"/>
                    </a:lnTo>
                    <a:lnTo>
                      <a:pt x="344" y="753"/>
                    </a:lnTo>
                    <a:lnTo>
                      <a:pt x="355" y="729"/>
                    </a:lnTo>
                    <a:lnTo>
                      <a:pt x="368" y="698"/>
                    </a:lnTo>
                    <a:lnTo>
                      <a:pt x="382" y="665"/>
                    </a:lnTo>
                    <a:lnTo>
                      <a:pt x="396" y="631"/>
                    </a:lnTo>
                    <a:lnTo>
                      <a:pt x="406" y="601"/>
                    </a:lnTo>
                    <a:lnTo>
                      <a:pt x="409" y="588"/>
                    </a:lnTo>
                    <a:lnTo>
                      <a:pt x="414" y="577"/>
                    </a:lnTo>
                    <a:lnTo>
                      <a:pt x="414" y="569"/>
                    </a:lnTo>
                    <a:lnTo>
                      <a:pt x="414" y="562"/>
                    </a:lnTo>
                    <a:lnTo>
                      <a:pt x="403" y="590"/>
                    </a:lnTo>
                    <a:lnTo>
                      <a:pt x="386" y="633"/>
                    </a:lnTo>
                    <a:lnTo>
                      <a:pt x="377" y="657"/>
                    </a:lnTo>
                    <a:lnTo>
                      <a:pt x="366" y="676"/>
                    </a:lnTo>
                    <a:lnTo>
                      <a:pt x="361" y="684"/>
                    </a:lnTo>
                    <a:lnTo>
                      <a:pt x="357" y="691"/>
                    </a:lnTo>
                    <a:lnTo>
                      <a:pt x="354" y="695"/>
                    </a:lnTo>
                    <a:lnTo>
                      <a:pt x="350" y="696"/>
                    </a:lnTo>
                    <a:lnTo>
                      <a:pt x="346" y="708"/>
                    </a:lnTo>
                    <a:lnTo>
                      <a:pt x="340" y="724"/>
                    </a:lnTo>
                    <a:lnTo>
                      <a:pt x="332" y="738"/>
                    </a:lnTo>
                    <a:lnTo>
                      <a:pt x="322" y="753"/>
                    </a:lnTo>
                    <a:lnTo>
                      <a:pt x="302" y="783"/>
                    </a:lnTo>
                    <a:lnTo>
                      <a:pt x="285" y="805"/>
                    </a:lnTo>
                    <a:lnTo>
                      <a:pt x="272" y="816"/>
                    </a:lnTo>
                    <a:lnTo>
                      <a:pt x="259" y="826"/>
                    </a:lnTo>
                    <a:lnTo>
                      <a:pt x="245" y="832"/>
                    </a:lnTo>
                    <a:lnTo>
                      <a:pt x="234" y="836"/>
                    </a:lnTo>
                    <a:lnTo>
                      <a:pt x="221" y="839"/>
                    </a:lnTo>
                    <a:lnTo>
                      <a:pt x="210" y="839"/>
                    </a:lnTo>
                    <a:lnTo>
                      <a:pt x="199" y="837"/>
                    </a:lnTo>
                    <a:lnTo>
                      <a:pt x="189" y="835"/>
                    </a:lnTo>
                    <a:lnTo>
                      <a:pt x="180" y="829"/>
                    </a:lnTo>
                    <a:lnTo>
                      <a:pt x="170" y="823"/>
                    </a:lnTo>
                    <a:lnTo>
                      <a:pt x="162" y="816"/>
                    </a:lnTo>
                    <a:lnTo>
                      <a:pt x="154" y="806"/>
                    </a:lnTo>
                    <a:lnTo>
                      <a:pt x="146" y="797"/>
                    </a:lnTo>
                    <a:lnTo>
                      <a:pt x="138" y="785"/>
                    </a:lnTo>
                    <a:lnTo>
                      <a:pt x="132" y="772"/>
                    </a:lnTo>
                    <a:lnTo>
                      <a:pt x="125" y="760"/>
                    </a:lnTo>
                    <a:lnTo>
                      <a:pt x="115" y="731"/>
                    </a:lnTo>
                    <a:lnTo>
                      <a:pt x="105" y="701"/>
                    </a:lnTo>
                    <a:lnTo>
                      <a:pt x="98" y="671"/>
                    </a:lnTo>
                    <a:lnTo>
                      <a:pt x="92" y="640"/>
                    </a:lnTo>
                    <a:lnTo>
                      <a:pt x="86" y="610"/>
                    </a:lnTo>
                    <a:lnTo>
                      <a:pt x="84" y="581"/>
                    </a:lnTo>
                    <a:lnTo>
                      <a:pt x="81" y="555"/>
                    </a:lnTo>
                    <a:lnTo>
                      <a:pt x="81" y="532"/>
                    </a:lnTo>
                    <a:lnTo>
                      <a:pt x="84" y="525"/>
                    </a:lnTo>
                    <a:lnTo>
                      <a:pt x="85" y="520"/>
                    </a:lnTo>
                    <a:lnTo>
                      <a:pt x="89" y="515"/>
                    </a:lnTo>
                    <a:lnTo>
                      <a:pt x="92" y="513"/>
                    </a:lnTo>
                    <a:lnTo>
                      <a:pt x="94" y="512"/>
                    </a:lnTo>
                    <a:lnTo>
                      <a:pt x="98" y="512"/>
                    </a:lnTo>
                    <a:lnTo>
                      <a:pt x="100" y="512"/>
                    </a:lnTo>
                    <a:lnTo>
                      <a:pt x="104" y="513"/>
                    </a:lnTo>
                    <a:lnTo>
                      <a:pt x="112" y="515"/>
                    </a:lnTo>
                    <a:lnTo>
                      <a:pt x="119" y="519"/>
                    </a:lnTo>
                    <a:lnTo>
                      <a:pt x="122" y="520"/>
                    </a:lnTo>
                    <a:lnTo>
                      <a:pt x="125" y="520"/>
                    </a:lnTo>
                    <a:lnTo>
                      <a:pt x="130" y="519"/>
                    </a:lnTo>
                    <a:lnTo>
                      <a:pt x="133" y="517"/>
                    </a:lnTo>
                    <a:lnTo>
                      <a:pt x="138" y="492"/>
                    </a:lnTo>
                    <a:lnTo>
                      <a:pt x="143" y="463"/>
                    </a:lnTo>
                    <a:lnTo>
                      <a:pt x="148" y="434"/>
                    </a:lnTo>
                    <a:lnTo>
                      <a:pt x="152" y="410"/>
                    </a:lnTo>
                    <a:lnTo>
                      <a:pt x="165" y="410"/>
                    </a:lnTo>
                    <a:lnTo>
                      <a:pt x="175" y="410"/>
                    </a:lnTo>
                    <a:lnTo>
                      <a:pt x="182" y="407"/>
                    </a:lnTo>
                    <a:lnTo>
                      <a:pt x="189" y="404"/>
                    </a:lnTo>
                    <a:lnTo>
                      <a:pt x="202" y="397"/>
                    </a:lnTo>
                    <a:lnTo>
                      <a:pt x="218" y="392"/>
                    </a:lnTo>
                    <a:lnTo>
                      <a:pt x="218" y="410"/>
                    </a:lnTo>
                    <a:lnTo>
                      <a:pt x="217" y="434"/>
                    </a:lnTo>
                    <a:lnTo>
                      <a:pt x="217" y="445"/>
                    </a:lnTo>
                    <a:lnTo>
                      <a:pt x="218" y="456"/>
                    </a:lnTo>
                    <a:lnTo>
                      <a:pt x="221" y="465"/>
                    </a:lnTo>
                    <a:lnTo>
                      <a:pt x="224" y="472"/>
                    </a:lnTo>
                    <a:lnTo>
                      <a:pt x="228" y="467"/>
                    </a:lnTo>
                    <a:lnTo>
                      <a:pt x="232" y="461"/>
                    </a:lnTo>
                    <a:lnTo>
                      <a:pt x="234" y="454"/>
                    </a:lnTo>
                    <a:lnTo>
                      <a:pt x="236" y="445"/>
                    </a:lnTo>
                    <a:lnTo>
                      <a:pt x="236" y="425"/>
                    </a:lnTo>
                    <a:lnTo>
                      <a:pt x="234" y="402"/>
                    </a:lnTo>
                    <a:lnTo>
                      <a:pt x="229" y="380"/>
                    </a:lnTo>
                    <a:lnTo>
                      <a:pt x="224" y="358"/>
                    </a:lnTo>
                    <a:lnTo>
                      <a:pt x="218" y="340"/>
                    </a:lnTo>
                    <a:lnTo>
                      <a:pt x="212" y="329"/>
                    </a:lnTo>
                    <a:lnTo>
                      <a:pt x="209" y="329"/>
                    </a:lnTo>
                    <a:lnTo>
                      <a:pt x="207" y="329"/>
                    </a:lnTo>
                    <a:lnTo>
                      <a:pt x="208" y="340"/>
                    </a:lnTo>
                    <a:lnTo>
                      <a:pt x="208" y="350"/>
                    </a:lnTo>
                    <a:lnTo>
                      <a:pt x="207" y="360"/>
                    </a:lnTo>
                    <a:lnTo>
                      <a:pt x="205" y="367"/>
                    </a:lnTo>
                    <a:lnTo>
                      <a:pt x="204" y="373"/>
                    </a:lnTo>
                    <a:lnTo>
                      <a:pt x="202" y="379"/>
                    </a:lnTo>
                    <a:lnTo>
                      <a:pt x="199" y="383"/>
                    </a:lnTo>
                    <a:lnTo>
                      <a:pt x="195" y="386"/>
                    </a:lnTo>
                    <a:lnTo>
                      <a:pt x="192" y="388"/>
                    </a:lnTo>
                    <a:lnTo>
                      <a:pt x="187" y="391"/>
                    </a:lnTo>
                    <a:lnTo>
                      <a:pt x="184" y="392"/>
                    </a:lnTo>
                    <a:lnTo>
                      <a:pt x="179" y="394"/>
                    </a:lnTo>
                    <a:lnTo>
                      <a:pt x="170" y="394"/>
                    </a:lnTo>
                    <a:lnTo>
                      <a:pt x="160" y="392"/>
                    </a:lnTo>
                    <a:lnTo>
                      <a:pt x="140" y="390"/>
                    </a:lnTo>
                    <a:lnTo>
                      <a:pt x="120" y="388"/>
                    </a:lnTo>
                    <a:lnTo>
                      <a:pt x="112" y="390"/>
                    </a:lnTo>
                    <a:lnTo>
                      <a:pt x="105" y="394"/>
                    </a:lnTo>
                    <a:lnTo>
                      <a:pt x="103" y="397"/>
                    </a:lnTo>
                    <a:lnTo>
                      <a:pt x="100" y="400"/>
                    </a:lnTo>
                    <a:lnTo>
                      <a:pt x="98" y="404"/>
                    </a:lnTo>
                    <a:lnTo>
                      <a:pt x="97" y="410"/>
                    </a:lnTo>
                    <a:lnTo>
                      <a:pt x="102" y="414"/>
                    </a:lnTo>
                    <a:lnTo>
                      <a:pt x="107" y="415"/>
                    </a:lnTo>
                    <a:lnTo>
                      <a:pt x="109" y="414"/>
                    </a:lnTo>
                    <a:lnTo>
                      <a:pt x="113" y="413"/>
                    </a:lnTo>
                    <a:lnTo>
                      <a:pt x="117" y="410"/>
                    </a:lnTo>
                    <a:lnTo>
                      <a:pt x="120" y="407"/>
                    </a:lnTo>
                    <a:lnTo>
                      <a:pt x="125" y="406"/>
                    </a:lnTo>
                    <a:lnTo>
                      <a:pt x="133" y="404"/>
                    </a:lnTo>
                    <a:lnTo>
                      <a:pt x="132" y="408"/>
                    </a:lnTo>
                    <a:lnTo>
                      <a:pt x="127" y="413"/>
                    </a:lnTo>
                    <a:lnTo>
                      <a:pt x="118" y="420"/>
                    </a:lnTo>
                    <a:lnTo>
                      <a:pt x="107" y="425"/>
                    </a:lnTo>
                    <a:lnTo>
                      <a:pt x="93" y="431"/>
                    </a:lnTo>
                    <a:lnTo>
                      <a:pt x="77" y="437"/>
                    </a:lnTo>
                    <a:lnTo>
                      <a:pt x="62" y="441"/>
                    </a:lnTo>
                    <a:lnTo>
                      <a:pt x="47" y="442"/>
                    </a:lnTo>
                    <a:lnTo>
                      <a:pt x="40" y="444"/>
                    </a:lnTo>
                    <a:lnTo>
                      <a:pt x="33" y="444"/>
                    </a:lnTo>
                    <a:lnTo>
                      <a:pt x="25" y="442"/>
                    </a:lnTo>
                    <a:lnTo>
                      <a:pt x="20" y="441"/>
                    </a:lnTo>
                    <a:lnTo>
                      <a:pt x="14" y="438"/>
                    </a:lnTo>
                    <a:lnTo>
                      <a:pt x="10" y="434"/>
                    </a:lnTo>
                    <a:lnTo>
                      <a:pt x="5" y="431"/>
                    </a:lnTo>
                    <a:lnTo>
                      <a:pt x="3" y="425"/>
                    </a:lnTo>
                    <a:lnTo>
                      <a:pt x="0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1" y="392"/>
                    </a:lnTo>
                    <a:lnTo>
                      <a:pt x="4" y="381"/>
                    </a:lnTo>
                    <a:lnTo>
                      <a:pt x="9" y="368"/>
                    </a:lnTo>
                    <a:lnTo>
                      <a:pt x="14" y="354"/>
                    </a:lnTo>
                    <a:lnTo>
                      <a:pt x="22" y="338"/>
                    </a:lnTo>
                    <a:lnTo>
                      <a:pt x="58" y="302"/>
                    </a:lnTo>
                    <a:lnTo>
                      <a:pt x="90" y="273"/>
                    </a:lnTo>
                    <a:lnTo>
                      <a:pt x="104" y="258"/>
                    </a:lnTo>
                    <a:lnTo>
                      <a:pt x="117" y="245"/>
                    </a:lnTo>
                    <a:lnTo>
                      <a:pt x="127" y="229"/>
                    </a:lnTo>
                    <a:lnTo>
                      <a:pt x="136" y="215"/>
                    </a:lnTo>
                    <a:lnTo>
                      <a:pt x="142" y="200"/>
                    </a:lnTo>
                    <a:lnTo>
                      <a:pt x="147" y="183"/>
                    </a:lnTo>
                    <a:lnTo>
                      <a:pt x="148" y="175"/>
                    </a:lnTo>
                    <a:lnTo>
                      <a:pt x="148" y="167"/>
                    </a:lnTo>
                    <a:lnTo>
                      <a:pt x="148" y="157"/>
                    </a:lnTo>
                    <a:lnTo>
                      <a:pt x="148" y="148"/>
                    </a:lnTo>
                    <a:lnTo>
                      <a:pt x="145" y="127"/>
                    </a:lnTo>
                    <a:lnTo>
                      <a:pt x="140" y="106"/>
                    </a:lnTo>
                    <a:lnTo>
                      <a:pt x="130" y="81"/>
                    </a:lnTo>
                    <a:lnTo>
                      <a:pt x="118" y="54"/>
                    </a:lnTo>
                    <a:lnTo>
                      <a:pt x="115" y="42"/>
                    </a:lnTo>
                    <a:lnTo>
                      <a:pt x="113" y="29"/>
                    </a:lnTo>
                    <a:lnTo>
                      <a:pt x="122" y="29"/>
                    </a:lnTo>
                    <a:lnTo>
                      <a:pt x="128" y="29"/>
                    </a:lnTo>
                    <a:lnTo>
                      <a:pt x="133" y="27"/>
                    </a:lnTo>
                    <a:lnTo>
                      <a:pt x="137" y="25"/>
                    </a:lnTo>
                    <a:lnTo>
                      <a:pt x="141" y="23"/>
                    </a:lnTo>
                    <a:lnTo>
                      <a:pt x="143" y="18"/>
                    </a:lnTo>
                    <a:lnTo>
                      <a:pt x="147" y="9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61" y="20"/>
                    </a:lnTo>
                    <a:lnTo>
                      <a:pt x="166" y="32"/>
                    </a:lnTo>
                    <a:lnTo>
                      <a:pt x="169" y="38"/>
                    </a:lnTo>
                    <a:lnTo>
                      <a:pt x="169" y="45"/>
                    </a:lnTo>
                    <a:lnTo>
                      <a:pt x="167" y="54"/>
                    </a:lnTo>
                    <a:lnTo>
                      <a:pt x="165" y="68"/>
                    </a:lnTo>
                    <a:lnTo>
                      <a:pt x="166" y="98"/>
                    </a:lnTo>
                    <a:lnTo>
                      <a:pt x="165" y="134"/>
                    </a:lnTo>
                    <a:lnTo>
                      <a:pt x="165" y="154"/>
                    </a:lnTo>
                    <a:lnTo>
                      <a:pt x="166" y="174"/>
                    </a:lnTo>
                    <a:lnTo>
                      <a:pt x="167" y="193"/>
                    </a:lnTo>
                    <a:lnTo>
                      <a:pt x="170" y="213"/>
                    </a:lnTo>
                    <a:lnTo>
                      <a:pt x="174" y="231"/>
                    </a:lnTo>
                    <a:lnTo>
                      <a:pt x="180" y="248"/>
                    </a:lnTo>
                    <a:lnTo>
                      <a:pt x="182" y="256"/>
                    </a:lnTo>
                    <a:lnTo>
                      <a:pt x="187" y="263"/>
                    </a:lnTo>
                    <a:lnTo>
                      <a:pt x="192" y="270"/>
                    </a:lnTo>
                    <a:lnTo>
                      <a:pt x="197" y="277"/>
                    </a:lnTo>
                    <a:lnTo>
                      <a:pt x="203" y="282"/>
                    </a:lnTo>
                    <a:lnTo>
                      <a:pt x="209" y="288"/>
                    </a:lnTo>
                    <a:lnTo>
                      <a:pt x="217" y="292"/>
                    </a:lnTo>
                    <a:lnTo>
                      <a:pt x="224" y="295"/>
                    </a:lnTo>
                    <a:lnTo>
                      <a:pt x="234" y="297"/>
                    </a:lnTo>
                    <a:lnTo>
                      <a:pt x="242" y="300"/>
                    </a:lnTo>
                    <a:lnTo>
                      <a:pt x="252" y="300"/>
                    </a:lnTo>
                    <a:lnTo>
                      <a:pt x="264" y="300"/>
                    </a:lnTo>
                    <a:lnTo>
                      <a:pt x="266" y="297"/>
                    </a:lnTo>
                    <a:lnTo>
                      <a:pt x="267" y="295"/>
                    </a:lnTo>
                    <a:lnTo>
                      <a:pt x="256" y="295"/>
                    </a:lnTo>
                    <a:lnTo>
                      <a:pt x="245" y="292"/>
                    </a:lnTo>
                    <a:lnTo>
                      <a:pt x="234" y="288"/>
                    </a:lnTo>
                    <a:lnTo>
                      <a:pt x="222" y="282"/>
                    </a:lnTo>
                    <a:lnTo>
                      <a:pt x="212" y="275"/>
                    </a:lnTo>
                    <a:lnTo>
                      <a:pt x="204" y="267"/>
                    </a:lnTo>
                    <a:lnTo>
                      <a:pt x="202" y="262"/>
                    </a:lnTo>
                    <a:lnTo>
                      <a:pt x="199" y="258"/>
                    </a:lnTo>
                    <a:lnTo>
                      <a:pt x="198" y="252"/>
                    </a:lnTo>
                    <a:lnTo>
                      <a:pt x="198" y="245"/>
                    </a:lnTo>
                    <a:lnTo>
                      <a:pt x="216" y="255"/>
                    </a:lnTo>
                    <a:lnTo>
                      <a:pt x="234" y="267"/>
                    </a:lnTo>
                    <a:lnTo>
                      <a:pt x="242" y="273"/>
                    </a:lnTo>
                    <a:lnTo>
                      <a:pt x="252" y="277"/>
                    </a:lnTo>
                    <a:lnTo>
                      <a:pt x="257" y="279"/>
                    </a:lnTo>
                    <a:lnTo>
                      <a:pt x="262" y="279"/>
                    </a:lnTo>
                    <a:lnTo>
                      <a:pt x="267" y="277"/>
                    </a:lnTo>
                    <a:lnTo>
                      <a:pt x="272" y="275"/>
                    </a:lnTo>
                    <a:lnTo>
                      <a:pt x="272" y="273"/>
                    </a:lnTo>
                    <a:lnTo>
                      <a:pt x="272" y="272"/>
                    </a:lnTo>
                    <a:lnTo>
                      <a:pt x="260" y="269"/>
                    </a:lnTo>
                    <a:lnTo>
                      <a:pt x="249" y="265"/>
                    </a:lnTo>
                    <a:lnTo>
                      <a:pt x="240" y="259"/>
                    </a:lnTo>
                    <a:lnTo>
                      <a:pt x="229" y="252"/>
                    </a:lnTo>
                    <a:lnTo>
                      <a:pt x="231" y="250"/>
                    </a:lnTo>
                    <a:lnTo>
                      <a:pt x="231" y="248"/>
                    </a:lnTo>
                    <a:lnTo>
                      <a:pt x="244" y="243"/>
                    </a:lnTo>
                    <a:lnTo>
                      <a:pt x="255" y="238"/>
                    </a:lnTo>
                    <a:lnTo>
                      <a:pt x="264" y="231"/>
                    </a:lnTo>
                    <a:lnTo>
                      <a:pt x="272" y="225"/>
                    </a:lnTo>
                    <a:lnTo>
                      <a:pt x="277" y="217"/>
                    </a:lnTo>
                    <a:lnTo>
                      <a:pt x="280" y="211"/>
                    </a:lnTo>
                    <a:lnTo>
                      <a:pt x="283" y="202"/>
                    </a:lnTo>
                    <a:lnTo>
                      <a:pt x="284" y="194"/>
                    </a:lnTo>
                    <a:lnTo>
                      <a:pt x="284" y="186"/>
                    </a:lnTo>
                    <a:lnTo>
                      <a:pt x="283" y="177"/>
                    </a:lnTo>
                    <a:lnTo>
                      <a:pt x="280" y="168"/>
                    </a:lnTo>
                    <a:lnTo>
                      <a:pt x="277" y="160"/>
                    </a:lnTo>
                    <a:lnTo>
                      <a:pt x="269" y="143"/>
                    </a:lnTo>
                    <a:lnTo>
                      <a:pt x="257" y="123"/>
                    </a:lnTo>
                    <a:lnTo>
                      <a:pt x="232" y="90"/>
                    </a:lnTo>
                    <a:lnTo>
                      <a:pt x="207" y="59"/>
                    </a:lnTo>
                    <a:lnTo>
                      <a:pt x="197" y="46"/>
                    </a:lnTo>
                    <a:lnTo>
                      <a:pt x="189" y="36"/>
                    </a:lnTo>
                    <a:lnTo>
                      <a:pt x="187" y="32"/>
                    </a:lnTo>
                    <a:lnTo>
                      <a:pt x="187" y="29"/>
                    </a:lnTo>
                    <a:lnTo>
                      <a:pt x="187" y="25"/>
                    </a:lnTo>
                    <a:lnTo>
                      <a:pt x="187" y="23"/>
                    </a:lnTo>
                    <a:lnTo>
                      <a:pt x="218" y="18"/>
                    </a:lnTo>
                    <a:lnTo>
                      <a:pt x="250" y="12"/>
                    </a:lnTo>
                    <a:lnTo>
                      <a:pt x="266" y="11"/>
                    </a:lnTo>
                    <a:lnTo>
                      <a:pt x="283" y="9"/>
                    </a:lnTo>
                    <a:lnTo>
                      <a:pt x="299" y="8"/>
                    </a:lnTo>
                    <a:lnTo>
                      <a:pt x="316" y="9"/>
                    </a:lnTo>
                    <a:lnTo>
                      <a:pt x="324" y="22"/>
                    </a:lnTo>
                    <a:lnTo>
                      <a:pt x="332" y="39"/>
                    </a:lnTo>
                    <a:lnTo>
                      <a:pt x="340" y="61"/>
                    </a:lnTo>
                    <a:lnTo>
                      <a:pt x="346" y="84"/>
                    </a:lnTo>
                    <a:lnTo>
                      <a:pt x="352" y="111"/>
                    </a:lnTo>
                    <a:lnTo>
                      <a:pt x="359" y="138"/>
                    </a:lnTo>
                    <a:lnTo>
                      <a:pt x="364" y="168"/>
                    </a:lnTo>
                    <a:lnTo>
                      <a:pt x="366" y="198"/>
                    </a:lnTo>
                    <a:lnTo>
                      <a:pt x="369" y="228"/>
                    </a:lnTo>
                    <a:lnTo>
                      <a:pt x="370" y="258"/>
                    </a:lnTo>
                    <a:lnTo>
                      <a:pt x="369" y="286"/>
                    </a:lnTo>
                    <a:lnTo>
                      <a:pt x="368" y="313"/>
                    </a:lnTo>
                    <a:lnTo>
                      <a:pt x="365" y="326"/>
                    </a:lnTo>
                    <a:lnTo>
                      <a:pt x="363" y="338"/>
                    </a:lnTo>
                    <a:lnTo>
                      <a:pt x="360" y="349"/>
                    </a:lnTo>
                    <a:lnTo>
                      <a:pt x="356" y="360"/>
                    </a:lnTo>
                    <a:lnTo>
                      <a:pt x="352" y="370"/>
                    </a:lnTo>
                    <a:lnTo>
                      <a:pt x="349" y="379"/>
                    </a:lnTo>
                    <a:lnTo>
                      <a:pt x="344" y="387"/>
                    </a:lnTo>
                    <a:lnTo>
                      <a:pt x="337" y="394"/>
                    </a:lnTo>
                    <a:lnTo>
                      <a:pt x="337" y="397"/>
                    </a:lnTo>
                    <a:lnTo>
                      <a:pt x="337" y="403"/>
                    </a:lnTo>
                    <a:lnTo>
                      <a:pt x="341" y="407"/>
                    </a:lnTo>
                    <a:lnTo>
                      <a:pt x="347" y="413"/>
                    </a:lnTo>
                    <a:lnTo>
                      <a:pt x="374" y="406"/>
                    </a:lnTo>
                    <a:lnTo>
                      <a:pt x="416" y="399"/>
                    </a:lnTo>
                    <a:lnTo>
                      <a:pt x="438" y="397"/>
                    </a:lnTo>
                    <a:lnTo>
                      <a:pt x="456" y="395"/>
                    </a:lnTo>
                    <a:lnTo>
                      <a:pt x="466" y="395"/>
                    </a:lnTo>
                    <a:lnTo>
                      <a:pt x="473" y="395"/>
                    </a:lnTo>
                    <a:lnTo>
                      <a:pt x="478" y="397"/>
                    </a:lnTo>
                    <a:lnTo>
                      <a:pt x="482" y="399"/>
                    </a:lnTo>
                    <a:lnTo>
                      <a:pt x="489" y="397"/>
                    </a:lnTo>
                    <a:lnTo>
                      <a:pt x="493" y="395"/>
                    </a:lnTo>
                    <a:lnTo>
                      <a:pt x="493" y="399"/>
                    </a:lnTo>
                    <a:lnTo>
                      <a:pt x="493" y="404"/>
                    </a:lnTo>
                    <a:lnTo>
                      <a:pt x="476" y="454"/>
                    </a:lnTo>
                    <a:lnTo>
                      <a:pt x="459" y="504"/>
                    </a:lnTo>
                    <a:lnTo>
                      <a:pt x="446" y="552"/>
                    </a:lnTo>
                    <a:lnTo>
                      <a:pt x="435" y="601"/>
                    </a:lnTo>
                    <a:lnTo>
                      <a:pt x="426" y="650"/>
                    </a:lnTo>
                    <a:lnTo>
                      <a:pt x="417" y="701"/>
                    </a:lnTo>
                    <a:lnTo>
                      <a:pt x="409" y="751"/>
                    </a:lnTo>
                    <a:lnTo>
                      <a:pt x="403" y="801"/>
                    </a:lnTo>
                    <a:lnTo>
                      <a:pt x="402" y="801"/>
                    </a:lnTo>
                    <a:lnTo>
                      <a:pt x="399" y="801"/>
                    </a:lnTo>
                    <a:lnTo>
                      <a:pt x="392" y="817"/>
                    </a:lnTo>
                    <a:lnTo>
                      <a:pt x="379" y="837"/>
                    </a:lnTo>
                    <a:lnTo>
                      <a:pt x="364" y="860"/>
                    </a:lnTo>
                    <a:lnTo>
                      <a:pt x="347" y="887"/>
                    </a:lnTo>
                    <a:lnTo>
                      <a:pt x="329" y="910"/>
                    </a:lnTo>
                    <a:lnTo>
                      <a:pt x="311" y="928"/>
                    </a:lnTo>
                    <a:lnTo>
                      <a:pt x="302" y="935"/>
                    </a:lnTo>
                    <a:lnTo>
                      <a:pt x="293" y="942"/>
                    </a:lnTo>
                    <a:lnTo>
                      <a:pt x="285" y="944"/>
                    </a:lnTo>
                    <a:lnTo>
                      <a:pt x="277" y="946"/>
                    </a:lnTo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21600" y="4057560"/>
                <a:ext cx="114120" cy="77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67" y="48"/>
                    </a:moveTo>
                    <a:lnTo>
                      <a:pt x="49" y="39"/>
                    </a:lnTo>
                    <a:lnTo>
                      <a:pt x="28" y="27"/>
                    </a:lnTo>
                    <a:lnTo>
                      <a:pt x="18" y="21"/>
                    </a:lnTo>
                    <a:lnTo>
                      <a:pt x="9" y="14"/>
                    </a:lnTo>
                    <a:lnTo>
                      <a:pt x="3" y="7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33" y="2"/>
                    </a:lnTo>
                    <a:lnTo>
                      <a:pt x="44" y="5"/>
                    </a:lnTo>
                    <a:lnTo>
                      <a:pt x="50" y="7"/>
                    </a:lnTo>
                    <a:lnTo>
                      <a:pt x="55" y="11"/>
                    </a:lnTo>
                    <a:lnTo>
                      <a:pt x="60" y="15"/>
                    </a:lnTo>
                    <a:lnTo>
                      <a:pt x="63" y="19"/>
                    </a:lnTo>
                    <a:lnTo>
                      <a:pt x="66" y="25"/>
                    </a:lnTo>
                    <a:lnTo>
                      <a:pt x="68" y="32"/>
                    </a:lnTo>
                    <a:lnTo>
                      <a:pt x="70" y="38"/>
                    </a:lnTo>
                    <a:lnTo>
                      <a:pt x="71" y="46"/>
                    </a:lnTo>
                    <a:lnTo>
                      <a:pt x="68" y="48"/>
                    </a:lnTo>
                    <a:lnTo>
                      <a:pt x="67" y="48"/>
                    </a:lnTo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0360" y="3886200"/>
                <a:ext cx="238320" cy="203040"/>
              </a:xfrm>
              <a:custGeom>
                <a:avLst/>
                <a:gdLst/>
                <a:ahLst/>
                <a:rect l="l" t="t" r="r" b="b"/>
                <a:pathLst>
                  <a:path w="150" h="128">
                    <a:moveTo>
                      <a:pt x="12" y="127"/>
                    </a:moveTo>
                    <a:lnTo>
                      <a:pt x="6" y="124"/>
                    </a:lnTo>
                    <a:lnTo>
                      <a:pt x="2" y="120"/>
                    </a:lnTo>
                    <a:lnTo>
                      <a:pt x="0" y="115"/>
                    </a:lnTo>
                    <a:lnTo>
                      <a:pt x="0" y="109"/>
                    </a:lnTo>
                    <a:lnTo>
                      <a:pt x="0" y="102"/>
                    </a:lnTo>
                    <a:lnTo>
                      <a:pt x="2" y="95"/>
                    </a:lnTo>
                    <a:lnTo>
                      <a:pt x="5" y="88"/>
                    </a:lnTo>
                    <a:lnTo>
                      <a:pt x="9" y="81"/>
                    </a:lnTo>
                    <a:lnTo>
                      <a:pt x="18" y="66"/>
                    </a:lnTo>
                    <a:lnTo>
                      <a:pt x="27" y="52"/>
                    </a:lnTo>
                    <a:lnTo>
                      <a:pt x="35" y="39"/>
                    </a:lnTo>
                    <a:lnTo>
                      <a:pt x="42" y="33"/>
                    </a:lnTo>
                    <a:lnTo>
                      <a:pt x="52" y="27"/>
                    </a:lnTo>
                    <a:lnTo>
                      <a:pt x="63" y="21"/>
                    </a:lnTo>
                    <a:lnTo>
                      <a:pt x="78" y="14"/>
                    </a:lnTo>
                    <a:lnTo>
                      <a:pt x="94" y="7"/>
                    </a:lnTo>
                    <a:lnTo>
                      <a:pt x="110" y="3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2"/>
                    </a:lnTo>
                    <a:lnTo>
                      <a:pt x="144" y="4"/>
                    </a:lnTo>
                    <a:lnTo>
                      <a:pt x="149" y="9"/>
                    </a:lnTo>
                    <a:lnTo>
                      <a:pt x="149" y="22"/>
                    </a:lnTo>
                    <a:lnTo>
                      <a:pt x="147" y="34"/>
                    </a:lnTo>
                    <a:lnTo>
                      <a:pt x="142" y="46"/>
                    </a:lnTo>
                    <a:lnTo>
                      <a:pt x="137" y="57"/>
                    </a:lnTo>
                    <a:lnTo>
                      <a:pt x="130" y="68"/>
                    </a:lnTo>
                    <a:lnTo>
                      <a:pt x="122" y="77"/>
                    </a:lnTo>
                    <a:lnTo>
                      <a:pt x="112" y="86"/>
                    </a:lnTo>
                    <a:lnTo>
                      <a:pt x="104" y="94"/>
                    </a:lnTo>
                    <a:lnTo>
                      <a:pt x="92" y="101"/>
                    </a:lnTo>
                    <a:lnTo>
                      <a:pt x="82" y="108"/>
                    </a:lnTo>
                    <a:lnTo>
                      <a:pt x="71" y="113"/>
                    </a:lnTo>
                    <a:lnTo>
                      <a:pt x="58" y="117"/>
                    </a:lnTo>
                    <a:lnTo>
                      <a:pt x="47" y="122"/>
                    </a:lnTo>
                    <a:lnTo>
                      <a:pt x="35" y="124"/>
                    </a:lnTo>
                    <a:lnTo>
                      <a:pt x="23" y="125"/>
                    </a:lnTo>
                    <a:lnTo>
                      <a:pt x="12" y="127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8800" y="388476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46" y="105"/>
                    </a:moveTo>
                    <a:lnTo>
                      <a:pt x="36" y="93"/>
                    </a:lnTo>
                    <a:lnTo>
                      <a:pt x="28" y="80"/>
                    </a:lnTo>
                    <a:lnTo>
                      <a:pt x="20" y="68"/>
                    </a:lnTo>
                    <a:lnTo>
                      <a:pt x="14" y="55"/>
                    </a:lnTo>
                    <a:lnTo>
                      <a:pt x="10" y="41"/>
                    </a:lnTo>
                    <a:lnTo>
                      <a:pt x="5" y="29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12" y="11"/>
                    </a:lnTo>
                    <a:lnTo>
                      <a:pt x="22" y="23"/>
                    </a:lnTo>
                    <a:lnTo>
                      <a:pt x="34" y="39"/>
                    </a:lnTo>
                    <a:lnTo>
                      <a:pt x="49" y="56"/>
                    </a:lnTo>
                    <a:lnTo>
                      <a:pt x="61" y="71"/>
                    </a:lnTo>
                    <a:lnTo>
                      <a:pt x="73" y="86"/>
                    </a:lnTo>
                    <a:lnTo>
                      <a:pt x="81" y="96"/>
                    </a:lnTo>
                    <a:lnTo>
                      <a:pt x="82" y="102"/>
                    </a:lnTo>
                    <a:lnTo>
                      <a:pt x="64" y="103"/>
                    </a:lnTo>
                    <a:lnTo>
                      <a:pt x="46" y="105"/>
                    </a:lnTo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69040" y="3646440"/>
                <a:ext cx="133200" cy="8892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0" y="55"/>
                    </a:moveTo>
                    <a:lnTo>
                      <a:pt x="6" y="40"/>
                    </a:lnTo>
                    <a:lnTo>
                      <a:pt x="14" y="27"/>
                    </a:lnTo>
                    <a:lnTo>
                      <a:pt x="19" y="21"/>
                    </a:lnTo>
                    <a:lnTo>
                      <a:pt x="23" y="16"/>
                    </a:lnTo>
                    <a:lnTo>
                      <a:pt x="30" y="11"/>
                    </a:lnTo>
                    <a:lnTo>
                      <a:pt x="35" y="7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4" y="3"/>
                    </a:lnTo>
                    <a:lnTo>
                      <a:pt x="70" y="7"/>
                    </a:lnTo>
                    <a:lnTo>
                      <a:pt x="77" y="12"/>
                    </a:lnTo>
                    <a:lnTo>
                      <a:pt x="83" y="19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4" y="18"/>
                    </a:lnTo>
                    <a:lnTo>
                      <a:pt x="69" y="16"/>
                    </a:lnTo>
                    <a:lnTo>
                      <a:pt x="64" y="16"/>
                    </a:lnTo>
                    <a:lnTo>
                      <a:pt x="58" y="16"/>
                    </a:lnTo>
                    <a:lnTo>
                      <a:pt x="47" y="20"/>
                    </a:lnTo>
                    <a:lnTo>
                      <a:pt x="37" y="26"/>
                    </a:lnTo>
                    <a:lnTo>
                      <a:pt x="15" y="4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7a8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13400" y="371304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13"/>
                    </a:move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5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04040" y="369396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9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7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6000" y="3659040"/>
                <a:ext cx="41400" cy="504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2"/>
                    </a:moveTo>
                    <a:lnTo>
                      <a:pt x="17" y="0"/>
                    </a:lnTo>
                    <a:lnTo>
                      <a:pt x="25" y="0"/>
                    </a:lnTo>
                    <a:lnTo>
                      <a:pt x="13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81560" y="3346560"/>
                <a:ext cx="34920" cy="10944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8" y="68"/>
                    </a:moveTo>
                    <a:lnTo>
                      <a:pt x="7" y="56"/>
                    </a:lnTo>
                    <a:lnTo>
                      <a:pt x="6" y="43"/>
                    </a:lnTo>
                    <a:lnTo>
                      <a:pt x="5" y="32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1" y="15"/>
                    </a:lnTo>
                    <a:lnTo>
                      <a:pt x="20" y="34"/>
                    </a:lnTo>
                    <a:lnTo>
                      <a:pt x="17" y="43"/>
                    </a:lnTo>
                    <a:lnTo>
                      <a:pt x="16" y="53"/>
                    </a:lnTo>
                    <a:lnTo>
                      <a:pt x="12" y="61"/>
                    </a:lnTo>
                    <a:lnTo>
                      <a:pt x="8" y="68"/>
                    </a:lnTo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24520" y="2328840"/>
                <a:ext cx="1190520" cy="963720"/>
              </a:xfrm>
              <a:custGeom>
                <a:avLst/>
                <a:gdLst/>
                <a:ahLst/>
                <a:rect l="l" t="t" r="r" b="b"/>
                <a:pathLst>
                  <a:path w="750" h="607">
                    <a:moveTo>
                      <a:pt x="416" y="606"/>
                    </a:moveTo>
                    <a:lnTo>
                      <a:pt x="415" y="602"/>
                    </a:lnTo>
                    <a:lnTo>
                      <a:pt x="415" y="598"/>
                    </a:lnTo>
                    <a:lnTo>
                      <a:pt x="424" y="576"/>
                    </a:lnTo>
                    <a:lnTo>
                      <a:pt x="431" y="554"/>
                    </a:lnTo>
                    <a:lnTo>
                      <a:pt x="434" y="530"/>
                    </a:lnTo>
                    <a:lnTo>
                      <a:pt x="437" y="506"/>
                    </a:lnTo>
                    <a:lnTo>
                      <a:pt x="438" y="482"/>
                    </a:lnTo>
                    <a:lnTo>
                      <a:pt x="437" y="458"/>
                    </a:lnTo>
                    <a:lnTo>
                      <a:pt x="434" y="433"/>
                    </a:lnTo>
                    <a:lnTo>
                      <a:pt x="431" y="409"/>
                    </a:lnTo>
                    <a:lnTo>
                      <a:pt x="421" y="359"/>
                    </a:lnTo>
                    <a:lnTo>
                      <a:pt x="410" y="311"/>
                    </a:lnTo>
                    <a:lnTo>
                      <a:pt x="399" y="263"/>
                    </a:lnTo>
                    <a:lnTo>
                      <a:pt x="390" y="220"/>
                    </a:lnTo>
                    <a:lnTo>
                      <a:pt x="382" y="215"/>
                    </a:lnTo>
                    <a:lnTo>
                      <a:pt x="373" y="211"/>
                    </a:lnTo>
                    <a:lnTo>
                      <a:pt x="364" y="208"/>
                    </a:lnTo>
                    <a:lnTo>
                      <a:pt x="354" y="205"/>
                    </a:lnTo>
                    <a:lnTo>
                      <a:pt x="343" y="205"/>
                    </a:lnTo>
                    <a:lnTo>
                      <a:pt x="333" y="205"/>
                    </a:lnTo>
                    <a:lnTo>
                      <a:pt x="321" y="205"/>
                    </a:lnTo>
                    <a:lnTo>
                      <a:pt x="309" y="208"/>
                    </a:lnTo>
                    <a:lnTo>
                      <a:pt x="263" y="216"/>
                    </a:lnTo>
                    <a:lnTo>
                      <a:pt x="224" y="220"/>
                    </a:lnTo>
                    <a:lnTo>
                      <a:pt x="219" y="212"/>
                    </a:lnTo>
                    <a:lnTo>
                      <a:pt x="215" y="204"/>
                    </a:lnTo>
                    <a:lnTo>
                      <a:pt x="214" y="195"/>
                    </a:lnTo>
                    <a:lnTo>
                      <a:pt x="212" y="185"/>
                    </a:lnTo>
                    <a:lnTo>
                      <a:pt x="214" y="177"/>
                    </a:lnTo>
                    <a:lnTo>
                      <a:pt x="215" y="168"/>
                    </a:lnTo>
                    <a:lnTo>
                      <a:pt x="217" y="159"/>
                    </a:lnTo>
                    <a:lnTo>
                      <a:pt x="220" y="150"/>
                    </a:lnTo>
                    <a:lnTo>
                      <a:pt x="226" y="134"/>
                    </a:lnTo>
                    <a:lnTo>
                      <a:pt x="231" y="118"/>
                    </a:lnTo>
                    <a:lnTo>
                      <a:pt x="234" y="113"/>
                    </a:lnTo>
                    <a:lnTo>
                      <a:pt x="235" y="106"/>
                    </a:lnTo>
                    <a:lnTo>
                      <a:pt x="236" y="100"/>
                    </a:lnTo>
                    <a:lnTo>
                      <a:pt x="236" y="96"/>
                    </a:lnTo>
                    <a:lnTo>
                      <a:pt x="226" y="105"/>
                    </a:lnTo>
                    <a:lnTo>
                      <a:pt x="219" y="114"/>
                    </a:lnTo>
                    <a:lnTo>
                      <a:pt x="212" y="124"/>
                    </a:lnTo>
                    <a:lnTo>
                      <a:pt x="209" y="134"/>
                    </a:lnTo>
                    <a:lnTo>
                      <a:pt x="203" y="155"/>
                    </a:lnTo>
                    <a:lnTo>
                      <a:pt x="198" y="177"/>
                    </a:lnTo>
                    <a:lnTo>
                      <a:pt x="196" y="186"/>
                    </a:lnTo>
                    <a:lnTo>
                      <a:pt x="192" y="196"/>
                    </a:lnTo>
                    <a:lnTo>
                      <a:pt x="185" y="205"/>
                    </a:lnTo>
                    <a:lnTo>
                      <a:pt x="178" y="213"/>
                    </a:lnTo>
                    <a:lnTo>
                      <a:pt x="167" y="218"/>
                    </a:lnTo>
                    <a:lnTo>
                      <a:pt x="155" y="224"/>
                    </a:lnTo>
                    <a:lnTo>
                      <a:pt x="140" y="229"/>
                    </a:lnTo>
                    <a:lnTo>
                      <a:pt x="120" y="231"/>
                    </a:lnTo>
                    <a:lnTo>
                      <a:pt x="122" y="218"/>
                    </a:lnTo>
                    <a:lnTo>
                      <a:pt x="126" y="207"/>
                    </a:lnTo>
                    <a:lnTo>
                      <a:pt x="132" y="195"/>
                    </a:lnTo>
                    <a:lnTo>
                      <a:pt x="139" y="181"/>
                    </a:lnTo>
                    <a:lnTo>
                      <a:pt x="150" y="159"/>
                    </a:lnTo>
                    <a:lnTo>
                      <a:pt x="154" y="145"/>
                    </a:lnTo>
                    <a:lnTo>
                      <a:pt x="145" y="155"/>
                    </a:lnTo>
                    <a:lnTo>
                      <a:pt x="137" y="164"/>
                    </a:lnTo>
                    <a:lnTo>
                      <a:pt x="131" y="174"/>
                    </a:lnTo>
                    <a:lnTo>
                      <a:pt x="126" y="184"/>
                    </a:lnTo>
                    <a:lnTo>
                      <a:pt x="117" y="204"/>
                    </a:lnTo>
                    <a:lnTo>
                      <a:pt x="108" y="229"/>
                    </a:lnTo>
                    <a:lnTo>
                      <a:pt x="82" y="234"/>
                    </a:lnTo>
                    <a:lnTo>
                      <a:pt x="52" y="241"/>
                    </a:lnTo>
                    <a:lnTo>
                      <a:pt x="38" y="243"/>
                    </a:lnTo>
                    <a:lnTo>
                      <a:pt x="25" y="245"/>
                    </a:lnTo>
                    <a:lnTo>
                      <a:pt x="12" y="246"/>
                    </a:lnTo>
                    <a:lnTo>
                      <a:pt x="0" y="245"/>
                    </a:lnTo>
                    <a:lnTo>
                      <a:pt x="1" y="234"/>
                    </a:lnTo>
                    <a:lnTo>
                      <a:pt x="4" y="223"/>
                    </a:lnTo>
                    <a:lnTo>
                      <a:pt x="8" y="211"/>
                    </a:lnTo>
                    <a:lnTo>
                      <a:pt x="12" y="200"/>
                    </a:lnTo>
                    <a:lnTo>
                      <a:pt x="23" y="177"/>
                    </a:lnTo>
                    <a:lnTo>
                      <a:pt x="36" y="155"/>
                    </a:lnTo>
                    <a:lnTo>
                      <a:pt x="51" y="134"/>
                    </a:lnTo>
                    <a:lnTo>
                      <a:pt x="67" y="114"/>
                    </a:lnTo>
                    <a:lnTo>
                      <a:pt x="87" y="95"/>
                    </a:lnTo>
                    <a:lnTo>
                      <a:pt x="107" y="76"/>
                    </a:lnTo>
                    <a:lnTo>
                      <a:pt x="128" y="60"/>
                    </a:lnTo>
                    <a:lnTo>
                      <a:pt x="150" y="45"/>
                    </a:lnTo>
                    <a:lnTo>
                      <a:pt x="172" y="32"/>
                    </a:lnTo>
                    <a:lnTo>
                      <a:pt x="196" y="22"/>
                    </a:lnTo>
                    <a:lnTo>
                      <a:pt x="220" y="12"/>
                    </a:lnTo>
                    <a:lnTo>
                      <a:pt x="242" y="5"/>
                    </a:lnTo>
                    <a:lnTo>
                      <a:pt x="266" y="2"/>
                    </a:lnTo>
                    <a:lnTo>
                      <a:pt x="287" y="0"/>
                    </a:lnTo>
                    <a:lnTo>
                      <a:pt x="307" y="7"/>
                    </a:lnTo>
                    <a:lnTo>
                      <a:pt x="326" y="14"/>
                    </a:lnTo>
                    <a:lnTo>
                      <a:pt x="343" y="21"/>
                    </a:lnTo>
                    <a:lnTo>
                      <a:pt x="359" y="27"/>
                    </a:lnTo>
                    <a:lnTo>
                      <a:pt x="391" y="45"/>
                    </a:lnTo>
                    <a:lnTo>
                      <a:pt x="428" y="66"/>
                    </a:lnTo>
                    <a:lnTo>
                      <a:pt x="436" y="64"/>
                    </a:lnTo>
                    <a:lnTo>
                      <a:pt x="446" y="59"/>
                    </a:lnTo>
                    <a:lnTo>
                      <a:pt x="456" y="50"/>
                    </a:lnTo>
                    <a:lnTo>
                      <a:pt x="463" y="45"/>
                    </a:lnTo>
                    <a:lnTo>
                      <a:pt x="486" y="34"/>
                    </a:lnTo>
                    <a:lnTo>
                      <a:pt x="508" y="25"/>
                    </a:lnTo>
                    <a:lnTo>
                      <a:pt x="528" y="16"/>
                    </a:lnTo>
                    <a:lnTo>
                      <a:pt x="547" y="11"/>
                    </a:lnTo>
                    <a:lnTo>
                      <a:pt x="564" y="7"/>
                    </a:lnTo>
                    <a:lnTo>
                      <a:pt x="580" y="5"/>
                    </a:lnTo>
                    <a:lnTo>
                      <a:pt x="595" y="7"/>
                    </a:lnTo>
                    <a:lnTo>
                      <a:pt x="610" y="10"/>
                    </a:lnTo>
                    <a:lnTo>
                      <a:pt x="623" y="15"/>
                    </a:lnTo>
                    <a:lnTo>
                      <a:pt x="636" y="23"/>
                    </a:lnTo>
                    <a:lnTo>
                      <a:pt x="649" y="34"/>
                    </a:lnTo>
                    <a:lnTo>
                      <a:pt x="662" y="48"/>
                    </a:lnTo>
                    <a:lnTo>
                      <a:pt x="673" y="64"/>
                    </a:lnTo>
                    <a:lnTo>
                      <a:pt x="684" y="84"/>
                    </a:lnTo>
                    <a:lnTo>
                      <a:pt x="696" y="106"/>
                    </a:lnTo>
                    <a:lnTo>
                      <a:pt x="707" y="134"/>
                    </a:lnTo>
                    <a:lnTo>
                      <a:pt x="711" y="144"/>
                    </a:lnTo>
                    <a:lnTo>
                      <a:pt x="715" y="157"/>
                    </a:lnTo>
                    <a:lnTo>
                      <a:pt x="719" y="170"/>
                    </a:lnTo>
                    <a:lnTo>
                      <a:pt x="719" y="184"/>
                    </a:lnTo>
                    <a:lnTo>
                      <a:pt x="705" y="185"/>
                    </a:lnTo>
                    <a:lnTo>
                      <a:pt x="692" y="185"/>
                    </a:lnTo>
                    <a:lnTo>
                      <a:pt x="680" y="182"/>
                    </a:lnTo>
                    <a:lnTo>
                      <a:pt x="670" y="178"/>
                    </a:lnTo>
                    <a:lnTo>
                      <a:pt x="662" y="173"/>
                    </a:lnTo>
                    <a:lnTo>
                      <a:pt x="654" y="168"/>
                    </a:lnTo>
                    <a:lnTo>
                      <a:pt x="647" y="161"/>
                    </a:lnTo>
                    <a:lnTo>
                      <a:pt x="640" y="152"/>
                    </a:lnTo>
                    <a:lnTo>
                      <a:pt x="627" y="139"/>
                    </a:lnTo>
                    <a:lnTo>
                      <a:pt x="616" y="125"/>
                    </a:lnTo>
                    <a:lnTo>
                      <a:pt x="610" y="121"/>
                    </a:lnTo>
                    <a:lnTo>
                      <a:pt x="603" y="117"/>
                    </a:lnTo>
                    <a:lnTo>
                      <a:pt x="595" y="116"/>
                    </a:lnTo>
                    <a:lnTo>
                      <a:pt x="588" y="116"/>
                    </a:lnTo>
                    <a:lnTo>
                      <a:pt x="600" y="125"/>
                    </a:lnTo>
                    <a:lnTo>
                      <a:pt x="613" y="137"/>
                    </a:lnTo>
                    <a:lnTo>
                      <a:pt x="626" y="152"/>
                    </a:lnTo>
                    <a:lnTo>
                      <a:pt x="639" y="170"/>
                    </a:lnTo>
                    <a:lnTo>
                      <a:pt x="636" y="177"/>
                    </a:lnTo>
                    <a:lnTo>
                      <a:pt x="635" y="182"/>
                    </a:lnTo>
                    <a:lnTo>
                      <a:pt x="637" y="189"/>
                    </a:lnTo>
                    <a:lnTo>
                      <a:pt x="641" y="198"/>
                    </a:lnTo>
                    <a:lnTo>
                      <a:pt x="652" y="212"/>
                    </a:lnTo>
                    <a:lnTo>
                      <a:pt x="662" y="230"/>
                    </a:lnTo>
                    <a:lnTo>
                      <a:pt x="672" y="250"/>
                    </a:lnTo>
                    <a:lnTo>
                      <a:pt x="683" y="273"/>
                    </a:lnTo>
                    <a:lnTo>
                      <a:pt x="693" y="296"/>
                    </a:lnTo>
                    <a:lnTo>
                      <a:pt x="704" y="322"/>
                    </a:lnTo>
                    <a:lnTo>
                      <a:pt x="714" y="348"/>
                    </a:lnTo>
                    <a:lnTo>
                      <a:pt x="722" y="375"/>
                    </a:lnTo>
                    <a:lnTo>
                      <a:pt x="731" y="402"/>
                    </a:lnTo>
                    <a:lnTo>
                      <a:pt x="737" y="429"/>
                    </a:lnTo>
                    <a:lnTo>
                      <a:pt x="743" y="455"/>
                    </a:lnTo>
                    <a:lnTo>
                      <a:pt x="747" y="479"/>
                    </a:lnTo>
                    <a:lnTo>
                      <a:pt x="749" y="504"/>
                    </a:lnTo>
                    <a:lnTo>
                      <a:pt x="749" y="526"/>
                    </a:lnTo>
                    <a:lnTo>
                      <a:pt x="748" y="535"/>
                    </a:lnTo>
                    <a:lnTo>
                      <a:pt x="747" y="545"/>
                    </a:lnTo>
                    <a:lnTo>
                      <a:pt x="745" y="554"/>
                    </a:lnTo>
                    <a:lnTo>
                      <a:pt x="743" y="563"/>
                    </a:lnTo>
                    <a:lnTo>
                      <a:pt x="720" y="565"/>
                    </a:lnTo>
                    <a:lnTo>
                      <a:pt x="702" y="568"/>
                    </a:lnTo>
                    <a:lnTo>
                      <a:pt x="683" y="569"/>
                    </a:lnTo>
                    <a:lnTo>
                      <a:pt x="652" y="574"/>
                    </a:lnTo>
                    <a:lnTo>
                      <a:pt x="652" y="546"/>
                    </a:lnTo>
                    <a:lnTo>
                      <a:pt x="652" y="522"/>
                    </a:lnTo>
                    <a:lnTo>
                      <a:pt x="652" y="511"/>
                    </a:lnTo>
                    <a:lnTo>
                      <a:pt x="650" y="499"/>
                    </a:lnTo>
                    <a:lnTo>
                      <a:pt x="649" y="486"/>
                    </a:lnTo>
                    <a:lnTo>
                      <a:pt x="647" y="476"/>
                    </a:lnTo>
                    <a:lnTo>
                      <a:pt x="645" y="496"/>
                    </a:lnTo>
                    <a:lnTo>
                      <a:pt x="645" y="515"/>
                    </a:lnTo>
                    <a:lnTo>
                      <a:pt x="642" y="519"/>
                    </a:lnTo>
                    <a:lnTo>
                      <a:pt x="641" y="524"/>
                    </a:lnTo>
                    <a:lnTo>
                      <a:pt x="641" y="533"/>
                    </a:lnTo>
                    <a:lnTo>
                      <a:pt x="640" y="540"/>
                    </a:lnTo>
                    <a:lnTo>
                      <a:pt x="639" y="558"/>
                    </a:lnTo>
                    <a:lnTo>
                      <a:pt x="637" y="574"/>
                    </a:lnTo>
                    <a:lnTo>
                      <a:pt x="623" y="576"/>
                    </a:lnTo>
                    <a:lnTo>
                      <a:pt x="613" y="576"/>
                    </a:lnTo>
                    <a:lnTo>
                      <a:pt x="605" y="574"/>
                    </a:lnTo>
                    <a:lnTo>
                      <a:pt x="600" y="570"/>
                    </a:lnTo>
                    <a:lnTo>
                      <a:pt x="595" y="567"/>
                    </a:lnTo>
                    <a:lnTo>
                      <a:pt x="594" y="561"/>
                    </a:lnTo>
                    <a:lnTo>
                      <a:pt x="593" y="554"/>
                    </a:lnTo>
                    <a:lnTo>
                      <a:pt x="593" y="546"/>
                    </a:lnTo>
                    <a:lnTo>
                      <a:pt x="594" y="529"/>
                    </a:lnTo>
                    <a:lnTo>
                      <a:pt x="597" y="508"/>
                    </a:lnTo>
                    <a:lnTo>
                      <a:pt x="597" y="497"/>
                    </a:lnTo>
                    <a:lnTo>
                      <a:pt x="595" y="486"/>
                    </a:lnTo>
                    <a:lnTo>
                      <a:pt x="593" y="474"/>
                    </a:lnTo>
                    <a:lnTo>
                      <a:pt x="589" y="462"/>
                    </a:lnTo>
                    <a:lnTo>
                      <a:pt x="587" y="462"/>
                    </a:lnTo>
                    <a:lnTo>
                      <a:pt x="585" y="461"/>
                    </a:lnTo>
                    <a:lnTo>
                      <a:pt x="588" y="483"/>
                    </a:lnTo>
                    <a:lnTo>
                      <a:pt x="590" y="506"/>
                    </a:lnTo>
                    <a:lnTo>
                      <a:pt x="592" y="517"/>
                    </a:lnTo>
                    <a:lnTo>
                      <a:pt x="592" y="527"/>
                    </a:lnTo>
                    <a:lnTo>
                      <a:pt x="592" y="537"/>
                    </a:lnTo>
                    <a:lnTo>
                      <a:pt x="590" y="545"/>
                    </a:lnTo>
                    <a:lnTo>
                      <a:pt x="589" y="553"/>
                    </a:lnTo>
                    <a:lnTo>
                      <a:pt x="585" y="561"/>
                    </a:lnTo>
                    <a:lnTo>
                      <a:pt x="582" y="567"/>
                    </a:lnTo>
                    <a:lnTo>
                      <a:pt x="575" y="574"/>
                    </a:lnTo>
                    <a:lnTo>
                      <a:pt x="568" y="577"/>
                    </a:lnTo>
                    <a:lnTo>
                      <a:pt x="559" y="581"/>
                    </a:lnTo>
                    <a:lnTo>
                      <a:pt x="548" y="584"/>
                    </a:lnTo>
                    <a:lnTo>
                      <a:pt x="535" y="585"/>
                    </a:lnTo>
                    <a:lnTo>
                      <a:pt x="533" y="558"/>
                    </a:lnTo>
                    <a:lnTo>
                      <a:pt x="532" y="533"/>
                    </a:lnTo>
                    <a:lnTo>
                      <a:pt x="531" y="506"/>
                    </a:lnTo>
                    <a:lnTo>
                      <a:pt x="531" y="478"/>
                    </a:lnTo>
                    <a:lnTo>
                      <a:pt x="530" y="452"/>
                    </a:lnTo>
                    <a:lnTo>
                      <a:pt x="525" y="425"/>
                    </a:lnTo>
                    <a:lnTo>
                      <a:pt x="525" y="413"/>
                    </a:lnTo>
                    <a:lnTo>
                      <a:pt x="520" y="399"/>
                    </a:lnTo>
                    <a:lnTo>
                      <a:pt x="518" y="388"/>
                    </a:lnTo>
                    <a:lnTo>
                      <a:pt x="513" y="375"/>
                    </a:lnTo>
                    <a:lnTo>
                      <a:pt x="514" y="399"/>
                    </a:lnTo>
                    <a:lnTo>
                      <a:pt x="515" y="452"/>
                    </a:lnTo>
                    <a:lnTo>
                      <a:pt x="518" y="508"/>
                    </a:lnTo>
                    <a:lnTo>
                      <a:pt x="518" y="540"/>
                    </a:lnTo>
                    <a:lnTo>
                      <a:pt x="515" y="540"/>
                    </a:lnTo>
                    <a:lnTo>
                      <a:pt x="513" y="542"/>
                    </a:lnTo>
                    <a:lnTo>
                      <a:pt x="512" y="545"/>
                    </a:lnTo>
                    <a:lnTo>
                      <a:pt x="510" y="547"/>
                    </a:lnTo>
                    <a:lnTo>
                      <a:pt x="508" y="554"/>
                    </a:lnTo>
                    <a:lnTo>
                      <a:pt x="507" y="564"/>
                    </a:lnTo>
                    <a:lnTo>
                      <a:pt x="504" y="583"/>
                    </a:lnTo>
                    <a:lnTo>
                      <a:pt x="501" y="598"/>
                    </a:lnTo>
                    <a:lnTo>
                      <a:pt x="494" y="602"/>
                    </a:lnTo>
                    <a:lnTo>
                      <a:pt x="483" y="603"/>
                    </a:lnTo>
                    <a:lnTo>
                      <a:pt x="473" y="604"/>
                    </a:lnTo>
                    <a:lnTo>
                      <a:pt x="461" y="606"/>
                    </a:lnTo>
                    <a:lnTo>
                      <a:pt x="436" y="606"/>
                    </a:lnTo>
                    <a:lnTo>
                      <a:pt x="416" y="606"/>
                    </a:lnTo>
                  </a:path>
                </a:pathLst>
              </a:custGeom>
              <a:solidFill>
                <a:srgbClr val="958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49880" y="2789280"/>
                <a:ext cx="71280" cy="274680"/>
              </a:xfrm>
              <a:custGeom>
                <a:avLst/>
                <a:gdLst/>
                <a:ahLst/>
                <a:rect l="l" t="t" r="r" b="b"/>
                <a:pathLst>
                  <a:path w="45" h="173">
                    <a:moveTo>
                      <a:pt x="0" y="172"/>
                    </a:moveTo>
                    <a:lnTo>
                      <a:pt x="1" y="168"/>
                    </a:lnTo>
                    <a:lnTo>
                      <a:pt x="1" y="166"/>
                    </a:lnTo>
                    <a:lnTo>
                      <a:pt x="2" y="164"/>
                    </a:lnTo>
                    <a:lnTo>
                      <a:pt x="5" y="163"/>
                    </a:lnTo>
                    <a:lnTo>
                      <a:pt x="2" y="138"/>
                    </a:lnTo>
                    <a:lnTo>
                      <a:pt x="2" y="116"/>
                    </a:lnTo>
                    <a:lnTo>
                      <a:pt x="5" y="98"/>
                    </a:lnTo>
                    <a:lnTo>
                      <a:pt x="9" y="79"/>
                    </a:lnTo>
                    <a:lnTo>
                      <a:pt x="12" y="61"/>
                    </a:lnTo>
                    <a:lnTo>
                      <a:pt x="16" y="42"/>
                    </a:lnTo>
                    <a:lnTo>
                      <a:pt x="20" y="2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34" y="25"/>
                    </a:lnTo>
                    <a:lnTo>
                      <a:pt x="40" y="52"/>
                    </a:lnTo>
                    <a:lnTo>
                      <a:pt x="43" y="65"/>
                    </a:lnTo>
                    <a:lnTo>
                      <a:pt x="44" y="79"/>
                    </a:lnTo>
                    <a:lnTo>
                      <a:pt x="44" y="93"/>
                    </a:lnTo>
                    <a:lnTo>
                      <a:pt x="42" y="106"/>
                    </a:lnTo>
                    <a:lnTo>
                      <a:pt x="29" y="114"/>
                    </a:lnTo>
                    <a:lnTo>
                      <a:pt x="17" y="123"/>
                    </a:lnTo>
                    <a:lnTo>
                      <a:pt x="15" y="127"/>
                    </a:lnTo>
                    <a:lnTo>
                      <a:pt x="14" y="134"/>
                    </a:lnTo>
                    <a:lnTo>
                      <a:pt x="15" y="143"/>
                    </a:lnTo>
                    <a:lnTo>
                      <a:pt x="19" y="154"/>
                    </a:lnTo>
                    <a:lnTo>
                      <a:pt x="15" y="161"/>
                    </a:lnTo>
                    <a:lnTo>
                      <a:pt x="11" y="167"/>
                    </a:lnTo>
                    <a:lnTo>
                      <a:pt x="6" y="171"/>
                    </a:lnTo>
                    <a:lnTo>
                      <a:pt x="0" y="17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75160" y="2773440"/>
                <a:ext cx="146160" cy="263520"/>
              </a:xfrm>
              <a:custGeom>
                <a:avLst/>
                <a:gdLst/>
                <a:ahLst/>
                <a:rect l="l" t="t" r="r" b="b"/>
                <a:pathLst>
                  <a:path w="92" h="166">
                    <a:moveTo>
                      <a:pt x="37" y="165"/>
                    </a:moveTo>
                    <a:lnTo>
                      <a:pt x="29" y="161"/>
                    </a:lnTo>
                    <a:lnTo>
                      <a:pt x="23" y="156"/>
                    </a:lnTo>
                    <a:lnTo>
                      <a:pt x="18" y="147"/>
                    </a:lnTo>
                    <a:lnTo>
                      <a:pt x="13" y="138"/>
                    </a:lnTo>
                    <a:lnTo>
                      <a:pt x="9" y="127"/>
                    </a:lnTo>
                    <a:lnTo>
                      <a:pt x="6" y="115"/>
                    </a:lnTo>
                    <a:lnTo>
                      <a:pt x="4" y="102"/>
                    </a:lnTo>
                    <a:lnTo>
                      <a:pt x="1" y="89"/>
                    </a:lnTo>
                    <a:lnTo>
                      <a:pt x="0" y="61"/>
                    </a:lnTo>
                    <a:lnTo>
                      <a:pt x="0" y="36"/>
                    </a:lnTo>
                    <a:lnTo>
                      <a:pt x="1" y="24"/>
                    </a:lnTo>
                    <a:lnTo>
                      <a:pt x="3" y="15"/>
                    </a:lnTo>
                    <a:lnTo>
                      <a:pt x="5" y="5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39" y="27"/>
                    </a:lnTo>
                    <a:lnTo>
                      <a:pt x="63" y="54"/>
                    </a:lnTo>
                    <a:lnTo>
                      <a:pt x="73" y="69"/>
                    </a:lnTo>
                    <a:lnTo>
                      <a:pt x="82" y="84"/>
                    </a:lnTo>
                    <a:lnTo>
                      <a:pt x="85" y="93"/>
                    </a:lnTo>
                    <a:lnTo>
                      <a:pt x="87" y="103"/>
                    </a:lnTo>
                    <a:lnTo>
                      <a:pt x="90" y="113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8" y="124"/>
                    </a:lnTo>
                    <a:lnTo>
                      <a:pt x="83" y="120"/>
                    </a:lnTo>
                    <a:lnTo>
                      <a:pt x="78" y="118"/>
                    </a:lnTo>
                    <a:lnTo>
                      <a:pt x="75" y="116"/>
                    </a:lnTo>
                    <a:lnTo>
                      <a:pt x="71" y="115"/>
                    </a:lnTo>
                    <a:lnTo>
                      <a:pt x="70" y="119"/>
                    </a:lnTo>
                    <a:lnTo>
                      <a:pt x="64" y="124"/>
                    </a:lnTo>
                    <a:lnTo>
                      <a:pt x="61" y="129"/>
                    </a:lnTo>
                    <a:lnTo>
                      <a:pt x="57" y="131"/>
                    </a:lnTo>
                    <a:lnTo>
                      <a:pt x="54" y="141"/>
                    </a:lnTo>
                    <a:lnTo>
                      <a:pt x="54" y="147"/>
                    </a:lnTo>
                    <a:lnTo>
                      <a:pt x="56" y="156"/>
                    </a:lnTo>
                    <a:lnTo>
                      <a:pt x="56" y="165"/>
                    </a:lnTo>
                    <a:lnTo>
                      <a:pt x="46" y="165"/>
                    </a:lnTo>
                    <a:lnTo>
                      <a:pt x="37" y="1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7840" y="29782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22"/>
                    </a:moveTo>
                    <a:lnTo>
                      <a:pt x="0" y="1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8"/>
                    </a:lnTo>
                    <a:lnTo>
                      <a:pt x="7" y="19"/>
                    </a:lnTo>
                    <a:lnTo>
                      <a:pt x="2" y="2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234040" y="2746440"/>
                <a:ext cx="30240" cy="160200"/>
              </a:xfrm>
              <a:custGeom>
                <a:avLst/>
                <a:gdLst/>
                <a:ahLst/>
                <a:rect l="l" t="t" r="r" b="b"/>
                <a:pathLst>
                  <a:path w="19" h="101">
                    <a:moveTo>
                      <a:pt x="1" y="97"/>
                    </a:moveTo>
                    <a:lnTo>
                      <a:pt x="0" y="86"/>
                    </a:lnTo>
                    <a:lnTo>
                      <a:pt x="0" y="74"/>
                    </a:lnTo>
                    <a:lnTo>
                      <a:pt x="1" y="62"/>
                    </a:lnTo>
                    <a:lnTo>
                      <a:pt x="3" y="50"/>
                    </a:lnTo>
                    <a:lnTo>
                      <a:pt x="8" y="25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18" y="26"/>
                    </a:lnTo>
                    <a:lnTo>
                      <a:pt x="17" y="51"/>
                    </a:lnTo>
                    <a:lnTo>
                      <a:pt x="14" y="63"/>
                    </a:lnTo>
                    <a:lnTo>
                      <a:pt x="12" y="75"/>
                    </a:lnTo>
                    <a:lnTo>
                      <a:pt x="8" y="88"/>
                    </a:lnTo>
                    <a:lnTo>
                      <a:pt x="3" y="100"/>
                    </a:lnTo>
                    <a:lnTo>
                      <a:pt x="1" y="98"/>
                    </a:lnTo>
                    <a:lnTo>
                      <a:pt x="1" y="97"/>
                    </a:lnTo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07320" y="2181240"/>
                <a:ext cx="614160" cy="631800"/>
              </a:xfrm>
              <a:custGeom>
                <a:avLst/>
                <a:gdLst/>
                <a:ahLst/>
                <a:rect l="l" t="t" r="r" b="b"/>
                <a:pathLst>
                  <a:path w="387" h="398">
                    <a:moveTo>
                      <a:pt x="66" y="397"/>
                    </a:moveTo>
                    <a:lnTo>
                      <a:pt x="58" y="392"/>
                    </a:lnTo>
                    <a:lnTo>
                      <a:pt x="51" y="387"/>
                    </a:lnTo>
                    <a:lnTo>
                      <a:pt x="45" y="382"/>
                    </a:lnTo>
                    <a:lnTo>
                      <a:pt x="38" y="375"/>
                    </a:lnTo>
                    <a:lnTo>
                      <a:pt x="27" y="361"/>
                    </a:lnTo>
                    <a:lnTo>
                      <a:pt x="18" y="346"/>
                    </a:lnTo>
                    <a:lnTo>
                      <a:pt x="10" y="331"/>
                    </a:lnTo>
                    <a:lnTo>
                      <a:pt x="5" y="315"/>
                    </a:lnTo>
                    <a:lnTo>
                      <a:pt x="1" y="299"/>
                    </a:lnTo>
                    <a:lnTo>
                      <a:pt x="0" y="283"/>
                    </a:lnTo>
                    <a:lnTo>
                      <a:pt x="1" y="269"/>
                    </a:lnTo>
                    <a:lnTo>
                      <a:pt x="2" y="256"/>
                    </a:lnTo>
                    <a:lnTo>
                      <a:pt x="5" y="251"/>
                    </a:lnTo>
                    <a:lnTo>
                      <a:pt x="7" y="246"/>
                    </a:lnTo>
                    <a:lnTo>
                      <a:pt x="10" y="240"/>
                    </a:lnTo>
                    <a:lnTo>
                      <a:pt x="13" y="238"/>
                    </a:lnTo>
                    <a:lnTo>
                      <a:pt x="17" y="233"/>
                    </a:lnTo>
                    <a:lnTo>
                      <a:pt x="20" y="231"/>
                    </a:lnTo>
                    <a:lnTo>
                      <a:pt x="24" y="229"/>
                    </a:lnTo>
                    <a:lnTo>
                      <a:pt x="29" y="229"/>
                    </a:lnTo>
                    <a:lnTo>
                      <a:pt x="34" y="229"/>
                    </a:lnTo>
                    <a:lnTo>
                      <a:pt x="40" y="231"/>
                    </a:lnTo>
                    <a:lnTo>
                      <a:pt x="45" y="233"/>
                    </a:lnTo>
                    <a:lnTo>
                      <a:pt x="52" y="236"/>
                    </a:lnTo>
                    <a:lnTo>
                      <a:pt x="53" y="243"/>
                    </a:lnTo>
                    <a:lnTo>
                      <a:pt x="55" y="249"/>
                    </a:lnTo>
                    <a:lnTo>
                      <a:pt x="62" y="251"/>
                    </a:lnTo>
                    <a:lnTo>
                      <a:pt x="74" y="251"/>
                    </a:lnTo>
                    <a:lnTo>
                      <a:pt x="82" y="240"/>
                    </a:lnTo>
                    <a:lnTo>
                      <a:pt x="92" y="228"/>
                    </a:lnTo>
                    <a:lnTo>
                      <a:pt x="99" y="213"/>
                    </a:lnTo>
                    <a:lnTo>
                      <a:pt x="107" y="197"/>
                    </a:lnTo>
                    <a:lnTo>
                      <a:pt x="112" y="181"/>
                    </a:lnTo>
                    <a:lnTo>
                      <a:pt x="115" y="165"/>
                    </a:lnTo>
                    <a:lnTo>
                      <a:pt x="115" y="158"/>
                    </a:lnTo>
                    <a:lnTo>
                      <a:pt x="115" y="149"/>
                    </a:lnTo>
                    <a:lnTo>
                      <a:pt x="115" y="143"/>
                    </a:lnTo>
                    <a:lnTo>
                      <a:pt x="114" y="136"/>
                    </a:lnTo>
                    <a:lnTo>
                      <a:pt x="108" y="133"/>
                    </a:lnTo>
                    <a:lnTo>
                      <a:pt x="102" y="129"/>
                    </a:lnTo>
                    <a:lnTo>
                      <a:pt x="99" y="124"/>
                    </a:lnTo>
                    <a:lnTo>
                      <a:pt x="95" y="117"/>
                    </a:lnTo>
                    <a:lnTo>
                      <a:pt x="94" y="110"/>
                    </a:lnTo>
                    <a:lnTo>
                      <a:pt x="92" y="104"/>
                    </a:lnTo>
                    <a:lnTo>
                      <a:pt x="92" y="97"/>
                    </a:lnTo>
                    <a:lnTo>
                      <a:pt x="92" y="92"/>
                    </a:lnTo>
                    <a:lnTo>
                      <a:pt x="104" y="97"/>
                    </a:lnTo>
                    <a:lnTo>
                      <a:pt x="122" y="103"/>
                    </a:lnTo>
                    <a:lnTo>
                      <a:pt x="122" y="120"/>
                    </a:lnTo>
                    <a:lnTo>
                      <a:pt x="120" y="137"/>
                    </a:lnTo>
                    <a:lnTo>
                      <a:pt x="122" y="145"/>
                    </a:lnTo>
                    <a:lnTo>
                      <a:pt x="126" y="152"/>
                    </a:lnTo>
                    <a:lnTo>
                      <a:pt x="128" y="154"/>
                    </a:lnTo>
                    <a:lnTo>
                      <a:pt x="132" y="158"/>
                    </a:lnTo>
                    <a:lnTo>
                      <a:pt x="136" y="158"/>
                    </a:lnTo>
                    <a:lnTo>
                      <a:pt x="141" y="159"/>
                    </a:lnTo>
                    <a:lnTo>
                      <a:pt x="141" y="143"/>
                    </a:lnTo>
                    <a:lnTo>
                      <a:pt x="141" y="125"/>
                    </a:lnTo>
                    <a:lnTo>
                      <a:pt x="139" y="107"/>
                    </a:lnTo>
                    <a:lnTo>
                      <a:pt x="137" y="90"/>
                    </a:lnTo>
                    <a:lnTo>
                      <a:pt x="134" y="83"/>
                    </a:lnTo>
                    <a:lnTo>
                      <a:pt x="132" y="75"/>
                    </a:lnTo>
                    <a:lnTo>
                      <a:pt x="129" y="68"/>
                    </a:lnTo>
                    <a:lnTo>
                      <a:pt x="126" y="63"/>
                    </a:lnTo>
                    <a:lnTo>
                      <a:pt x="120" y="57"/>
                    </a:lnTo>
                    <a:lnTo>
                      <a:pt x="115" y="53"/>
                    </a:lnTo>
                    <a:lnTo>
                      <a:pt x="109" y="50"/>
                    </a:lnTo>
                    <a:lnTo>
                      <a:pt x="102" y="49"/>
                    </a:lnTo>
                    <a:lnTo>
                      <a:pt x="102" y="39"/>
                    </a:lnTo>
                    <a:lnTo>
                      <a:pt x="104" y="31"/>
                    </a:lnTo>
                    <a:lnTo>
                      <a:pt x="108" y="23"/>
                    </a:lnTo>
                    <a:lnTo>
                      <a:pt x="112" y="18"/>
                    </a:lnTo>
                    <a:lnTo>
                      <a:pt x="118" y="12"/>
                    </a:lnTo>
                    <a:lnTo>
                      <a:pt x="123" y="9"/>
                    </a:lnTo>
                    <a:lnTo>
                      <a:pt x="131" y="7"/>
                    </a:lnTo>
                    <a:lnTo>
                      <a:pt x="137" y="4"/>
                    </a:lnTo>
                    <a:lnTo>
                      <a:pt x="144" y="4"/>
                    </a:lnTo>
                    <a:lnTo>
                      <a:pt x="154" y="4"/>
                    </a:lnTo>
                    <a:lnTo>
                      <a:pt x="161" y="5"/>
                    </a:lnTo>
                    <a:lnTo>
                      <a:pt x="169" y="7"/>
                    </a:lnTo>
                    <a:lnTo>
                      <a:pt x="177" y="9"/>
                    </a:lnTo>
                    <a:lnTo>
                      <a:pt x="184" y="12"/>
                    </a:lnTo>
                    <a:lnTo>
                      <a:pt x="192" y="16"/>
                    </a:lnTo>
                    <a:lnTo>
                      <a:pt x="198" y="20"/>
                    </a:lnTo>
                    <a:lnTo>
                      <a:pt x="202" y="27"/>
                    </a:lnTo>
                    <a:lnTo>
                      <a:pt x="202" y="36"/>
                    </a:lnTo>
                    <a:lnTo>
                      <a:pt x="202" y="43"/>
                    </a:lnTo>
                    <a:lnTo>
                      <a:pt x="202" y="52"/>
                    </a:lnTo>
                    <a:lnTo>
                      <a:pt x="201" y="61"/>
                    </a:lnTo>
                    <a:lnTo>
                      <a:pt x="199" y="70"/>
                    </a:lnTo>
                    <a:lnTo>
                      <a:pt x="201" y="77"/>
                    </a:lnTo>
                    <a:lnTo>
                      <a:pt x="202" y="84"/>
                    </a:lnTo>
                    <a:lnTo>
                      <a:pt x="204" y="84"/>
                    </a:lnTo>
                    <a:lnTo>
                      <a:pt x="207" y="84"/>
                    </a:lnTo>
                    <a:lnTo>
                      <a:pt x="211" y="79"/>
                    </a:lnTo>
                    <a:lnTo>
                      <a:pt x="213" y="70"/>
                    </a:lnTo>
                    <a:lnTo>
                      <a:pt x="216" y="63"/>
                    </a:lnTo>
                    <a:lnTo>
                      <a:pt x="218" y="54"/>
                    </a:lnTo>
                    <a:lnTo>
                      <a:pt x="224" y="36"/>
                    </a:lnTo>
                    <a:lnTo>
                      <a:pt x="229" y="19"/>
                    </a:lnTo>
                    <a:lnTo>
                      <a:pt x="234" y="11"/>
                    </a:lnTo>
                    <a:lnTo>
                      <a:pt x="239" y="5"/>
                    </a:lnTo>
                    <a:lnTo>
                      <a:pt x="244" y="2"/>
                    </a:lnTo>
                    <a:lnTo>
                      <a:pt x="251" y="0"/>
                    </a:lnTo>
                    <a:lnTo>
                      <a:pt x="260" y="0"/>
                    </a:lnTo>
                    <a:lnTo>
                      <a:pt x="271" y="2"/>
                    </a:lnTo>
                    <a:lnTo>
                      <a:pt x="281" y="8"/>
                    </a:lnTo>
                    <a:lnTo>
                      <a:pt x="297" y="18"/>
                    </a:lnTo>
                    <a:lnTo>
                      <a:pt x="278" y="36"/>
                    </a:lnTo>
                    <a:lnTo>
                      <a:pt x="250" y="70"/>
                    </a:lnTo>
                    <a:lnTo>
                      <a:pt x="244" y="77"/>
                    </a:lnTo>
                    <a:lnTo>
                      <a:pt x="239" y="86"/>
                    </a:lnTo>
                    <a:lnTo>
                      <a:pt x="234" y="93"/>
                    </a:lnTo>
                    <a:lnTo>
                      <a:pt x="234" y="100"/>
                    </a:lnTo>
                    <a:lnTo>
                      <a:pt x="234" y="107"/>
                    </a:lnTo>
                    <a:lnTo>
                      <a:pt x="236" y="111"/>
                    </a:lnTo>
                    <a:lnTo>
                      <a:pt x="241" y="115"/>
                    </a:lnTo>
                    <a:lnTo>
                      <a:pt x="249" y="118"/>
                    </a:lnTo>
                    <a:lnTo>
                      <a:pt x="258" y="103"/>
                    </a:lnTo>
                    <a:lnTo>
                      <a:pt x="268" y="86"/>
                    </a:lnTo>
                    <a:lnTo>
                      <a:pt x="281" y="66"/>
                    </a:lnTo>
                    <a:lnTo>
                      <a:pt x="294" y="50"/>
                    </a:lnTo>
                    <a:lnTo>
                      <a:pt x="302" y="43"/>
                    </a:lnTo>
                    <a:lnTo>
                      <a:pt x="311" y="36"/>
                    </a:lnTo>
                    <a:lnTo>
                      <a:pt x="318" y="32"/>
                    </a:lnTo>
                    <a:lnTo>
                      <a:pt x="328" y="29"/>
                    </a:lnTo>
                    <a:lnTo>
                      <a:pt x="336" y="27"/>
                    </a:lnTo>
                    <a:lnTo>
                      <a:pt x="346" y="29"/>
                    </a:lnTo>
                    <a:lnTo>
                      <a:pt x="355" y="31"/>
                    </a:lnTo>
                    <a:lnTo>
                      <a:pt x="366" y="36"/>
                    </a:lnTo>
                    <a:lnTo>
                      <a:pt x="372" y="43"/>
                    </a:lnTo>
                    <a:lnTo>
                      <a:pt x="377" y="50"/>
                    </a:lnTo>
                    <a:lnTo>
                      <a:pt x="381" y="58"/>
                    </a:lnTo>
                    <a:lnTo>
                      <a:pt x="383" y="65"/>
                    </a:lnTo>
                    <a:lnTo>
                      <a:pt x="386" y="73"/>
                    </a:lnTo>
                    <a:lnTo>
                      <a:pt x="386" y="81"/>
                    </a:lnTo>
                    <a:lnTo>
                      <a:pt x="386" y="88"/>
                    </a:lnTo>
                    <a:lnTo>
                      <a:pt x="386" y="97"/>
                    </a:lnTo>
                    <a:lnTo>
                      <a:pt x="383" y="103"/>
                    </a:lnTo>
                    <a:lnTo>
                      <a:pt x="381" y="110"/>
                    </a:lnTo>
                    <a:lnTo>
                      <a:pt x="377" y="117"/>
                    </a:lnTo>
                    <a:lnTo>
                      <a:pt x="372" y="124"/>
                    </a:lnTo>
                    <a:lnTo>
                      <a:pt x="367" y="131"/>
                    </a:lnTo>
                    <a:lnTo>
                      <a:pt x="360" y="136"/>
                    </a:lnTo>
                    <a:lnTo>
                      <a:pt x="353" y="141"/>
                    </a:lnTo>
                    <a:lnTo>
                      <a:pt x="345" y="145"/>
                    </a:lnTo>
                    <a:lnTo>
                      <a:pt x="344" y="151"/>
                    </a:lnTo>
                    <a:lnTo>
                      <a:pt x="344" y="154"/>
                    </a:lnTo>
                    <a:lnTo>
                      <a:pt x="355" y="154"/>
                    </a:lnTo>
                    <a:lnTo>
                      <a:pt x="366" y="154"/>
                    </a:lnTo>
                    <a:lnTo>
                      <a:pt x="367" y="154"/>
                    </a:lnTo>
                    <a:lnTo>
                      <a:pt x="368" y="152"/>
                    </a:lnTo>
                    <a:lnTo>
                      <a:pt x="371" y="152"/>
                    </a:lnTo>
                    <a:lnTo>
                      <a:pt x="372" y="152"/>
                    </a:lnTo>
                    <a:lnTo>
                      <a:pt x="366" y="178"/>
                    </a:lnTo>
                    <a:lnTo>
                      <a:pt x="363" y="199"/>
                    </a:lnTo>
                    <a:lnTo>
                      <a:pt x="361" y="220"/>
                    </a:lnTo>
                    <a:lnTo>
                      <a:pt x="361" y="239"/>
                    </a:lnTo>
                    <a:lnTo>
                      <a:pt x="364" y="278"/>
                    </a:lnTo>
                    <a:lnTo>
                      <a:pt x="367" y="327"/>
                    </a:lnTo>
                    <a:lnTo>
                      <a:pt x="366" y="327"/>
                    </a:lnTo>
                    <a:lnTo>
                      <a:pt x="364" y="329"/>
                    </a:lnTo>
                    <a:lnTo>
                      <a:pt x="358" y="321"/>
                    </a:lnTo>
                    <a:lnTo>
                      <a:pt x="354" y="312"/>
                    </a:lnTo>
                    <a:lnTo>
                      <a:pt x="349" y="304"/>
                    </a:lnTo>
                    <a:lnTo>
                      <a:pt x="346" y="296"/>
                    </a:lnTo>
                    <a:lnTo>
                      <a:pt x="341" y="281"/>
                    </a:lnTo>
                    <a:lnTo>
                      <a:pt x="338" y="265"/>
                    </a:lnTo>
                    <a:lnTo>
                      <a:pt x="335" y="232"/>
                    </a:lnTo>
                    <a:lnTo>
                      <a:pt x="330" y="197"/>
                    </a:lnTo>
                    <a:lnTo>
                      <a:pt x="328" y="204"/>
                    </a:lnTo>
                    <a:lnTo>
                      <a:pt x="326" y="205"/>
                    </a:lnTo>
                    <a:lnTo>
                      <a:pt x="325" y="204"/>
                    </a:lnTo>
                    <a:lnTo>
                      <a:pt x="323" y="202"/>
                    </a:lnTo>
                    <a:lnTo>
                      <a:pt x="323" y="209"/>
                    </a:lnTo>
                    <a:lnTo>
                      <a:pt x="323" y="216"/>
                    </a:lnTo>
                    <a:lnTo>
                      <a:pt x="325" y="217"/>
                    </a:lnTo>
                    <a:lnTo>
                      <a:pt x="328" y="217"/>
                    </a:lnTo>
                    <a:lnTo>
                      <a:pt x="323" y="229"/>
                    </a:lnTo>
                    <a:lnTo>
                      <a:pt x="320" y="240"/>
                    </a:lnTo>
                    <a:lnTo>
                      <a:pt x="318" y="251"/>
                    </a:lnTo>
                    <a:lnTo>
                      <a:pt x="318" y="261"/>
                    </a:lnTo>
                    <a:lnTo>
                      <a:pt x="321" y="269"/>
                    </a:lnTo>
                    <a:lnTo>
                      <a:pt x="323" y="277"/>
                    </a:lnTo>
                    <a:lnTo>
                      <a:pt x="328" y="285"/>
                    </a:lnTo>
                    <a:lnTo>
                      <a:pt x="331" y="294"/>
                    </a:lnTo>
                    <a:lnTo>
                      <a:pt x="341" y="307"/>
                    </a:lnTo>
                    <a:lnTo>
                      <a:pt x="350" y="322"/>
                    </a:lnTo>
                    <a:lnTo>
                      <a:pt x="355" y="329"/>
                    </a:lnTo>
                    <a:lnTo>
                      <a:pt x="359" y="335"/>
                    </a:lnTo>
                    <a:lnTo>
                      <a:pt x="361" y="342"/>
                    </a:lnTo>
                    <a:lnTo>
                      <a:pt x="363" y="351"/>
                    </a:lnTo>
                    <a:lnTo>
                      <a:pt x="354" y="353"/>
                    </a:lnTo>
                    <a:lnTo>
                      <a:pt x="345" y="355"/>
                    </a:lnTo>
                    <a:lnTo>
                      <a:pt x="335" y="355"/>
                    </a:lnTo>
                    <a:lnTo>
                      <a:pt x="325" y="355"/>
                    </a:lnTo>
                    <a:lnTo>
                      <a:pt x="302" y="351"/>
                    </a:lnTo>
                    <a:lnTo>
                      <a:pt x="279" y="348"/>
                    </a:lnTo>
                    <a:lnTo>
                      <a:pt x="256" y="342"/>
                    </a:lnTo>
                    <a:lnTo>
                      <a:pt x="234" y="337"/>
                    </a:lnTo>
                    <a:lnTo>
                      <a:pt x="214" y="333"/>
                    </a:lnTo>
                    <a:lnTo>
                      <a:pt x="197" y="330"/>
                    </a:lnTo>
                    <a:lnTo>
                      <a:pt x="176" y="334"/>
                    </a:lnTo>
                    <a:lnTo>
                      <a:pt x="156" y="340"/>
                    </a:lnTo>
                    <a:lnTo>
                      <a:pt x="147" y="341"/>
                    </a:lnTo>
                    <a:lnTo>
                      <a:pt x="137" y="344"/>
                    </a:lnTo>
                    <a:lnTo>
                      <a:pt x="128" y="344"/>
                    </a:lnTo>
                    <a:lnTo>
                      <a:pt x="120" y="344"/>
                    </a:lnTo>
                    <a:lnTo>
                      <a:pt x="109" y="363"/>
                    </a:lnTo>
                    <a:lnTo>
                      <a:pt x="99" y="380"/>
                    </a:lnTo>
                    <a:lnTo>
                      <a:pt x="92" y="387"/>
                    </a:lnTo>
                    <a:lnTo>
                      <a:pt x="85" y="392"/>
                    </a:lnTo>
                    <a:lnTo>
                      <a:pt x="77" y="395"/>
                    </a:lnTo>
                    <a:lnTo>
                      <a:pt x="66" y="397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43680" y="2630520"/>
                <a:ext cx="74520" cy="128520"/>
              </a:xfrm>
              <a:custGeom>
                <a:avLst/>
                <a:gdLst/>
                <a:ahLst/>
                <a:rect l="l" t="t" r="r" b="b"/>
                <a:pathLst>
                  <a:path w="47" h="81">
                    <a:moveTo>
                      <a:pt x="26" y="80"/>
                    </a:moveTo>
                    <a:lnTo>
                      <a:pt x="20" y="73"/>
                    </a:lnTo>
                    <a:lnTo>
                      <a:pt x="15" y="64"/>
                    </a:lnTo>
                    <a:lnTo>
                      <a:pt x="11" y="55"/>
                    </a:lnTo>
                    <a:lnTo>
                      <a:pt x="7" y="44"/>
                    </a:lnTo>
                    <a:lnTo>
                      <a:pt x="1" y="23"/>
                    </a:lnTo>
                    <a:lnTo>
                      <a:pt x="0" y="9"/>
                    </a:lnTo>
                    <a:lnTo>
                      <a:pt x="6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7" y="2"/>
                    </a:lnTo>
                    <a:lnTo>
                      <a:pt x="32" y="7"/>
                    </a:lnTo>
                    <a:lnTo>
                      <a:pt x="37" y="12"/>
                    </a:lnTo>
                    <a:lnTo>
                      <a:pt x="41" y="19"/>
                    </a:lnTo>
                    <a:lnTo>
                      <a:pt x="43" y="28"/>
                    </a:lnTo>
                    <a:lnTo>
                      <a:pt x="46" y="36"/>
                    </a:lnTo>
                    <a:lnTo>
                      <a:pt x="46" y="44"/>
                    </a:lnTo>
                    <a:lnTo>
                      <a:pt x="46" y="54"/>
                    </a:lnTo>
                    <a:lnTo>
                      <a:pt x="45" y="61"/>
                    </a:lnTo>
                    <a:lnTo>
                      <a:pt x="42" y="68"/>
                    </a:lnTo>
                    <a:lnTo>
                      <a:pt x="38" y="74"/>
                    </a:lnTo>
                    <a:lnTo>
                      <a:pt x="32" y="78"/>
                    </a:lnTo>
                    <a:lnTo>
                      <a:pt x="26" y="8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21680" y="2295360"/>
                <a:ext cx="139680" cy="182880"/>
              </a:xfrm>
              <a:custGeom>
                <a:avLst/>
                <a:gdLst/>
                <a:ahLst/>
                <a:rect l="l" t="t" r="r" b="b"/>
                <a:pathLst>
                  <a:path w="88" h="115">
                    <a:moveTo>
                      <a:pt x="13" y="114"/>
                    </a:moveTo>
                    <a:lnTo>
                      <a:pt x="9" y="107"/>
                    </a:lnTo>
                    <a:lnTo>
                      <a:pt x="5" y="102"/>
                    </a:lnTo>
                    <a:lnTo>
                      <a:pt x="3" y="96"/>
                    </a:lnTo>
                    <a:lnTo>
                      <a:pt x="1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1" y="65"/>
                    </a:lnTo>
                    <a:lnTo>
                      <a:pt x="7" y="52"/>
                    </a:lnTo>
                    <a:lnTo>
                      <a:pt x="13" y="39"/>
                    </a:lnTo>
                    <a:lnTo>
                      <a:pt x="20" y="28"/>
                    </a:lnTo>
                    <a:lnTo>
                      <a:pt x="30" y="19"/>
                    </a:lnTo>
                    <a:lnTo>
                      <a:pt x="40" y="11"/>
                    </a:lnTo>
                    <a:lnTo>
                      <a:pt x="50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2" y="8"/>
                    </a:lnTo>
                    <a:lnTo>
                      <a:pt x="84" y="12"/>
                    </a:lnTo>
                    <a:lnTo>
                      <a:pt x="86" y="18"/>
                    </a:lnTo>
                    <a:lnTo>
                      <a:pt x="87" y="25"/>
                    </a:lnTo>
                    <a:lnTo>
                      <a:pt x="87" y="32"/>
                    </a:lnTo>
                    <a:lnTo>
                      <a:pt x="80" y="49"/>
                    </a:lnTo>
                    <a:lnTo>
                      <a:pt x="73" y="64"/>
                    </a:lnTo>
                    <a:lnTo>
                      <a:pt x="69" y="71"/>
                    </a:lnTo>
                    <a:lnTo>
                      <a:pt x="62" y="76"/>
                    </a:lnTo>
                    <a:lnTo>
                      <a:pt x="57" y="80"/>
                    </a:lnTo>
                    <a:lnTo>
                      <a:pt x="46" y="82"/>
                    </a:lnTo>
                    <a:lnTo>
                      <a:pt x="41" y="75"/>
                    </a:lnTo>
                    <a:lnTo>
                      <a:pt x="37" y="68"/>
                    </a:lnTo>
                    <a:lnTo>
                      <a:pt x="36" y="61"/>
                    </a:lnTo>
                    <a:lnTo>
                      <a:pt x="35" y="54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5" y="84"/>
                    </a:lnTo>
                    <a:lnTo>
                      <a:pt x="23" y="102"/>
                    </a:lnTo>
                    <a:lnTo>
                      <a:pt x="22" y="110"/>
                    </a:lnTo>
                    <a:lnTo>
                      <a:pt x="20" y="114"/>
                    </a:lnTo>
                    <a:lnTo>
                      <a:pt x="17" y="114"/>
                    </a:lnTo>
                    <a:lnTo>
                      <a:pt x="13" y="114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10320" y="2216160"/>
                <a:ext cx="214200" cy="244440"/>
              </a:xfrm>
              <a:custGeom>
                <a:avLst/>
                <a:gdLst/>
                <a:ahLst/>
                <a:rect l="l" t="t" r="r" b="b"/>
                <a:pathLst>
                  <a:path w="135" h="154">
                    <a:moveTo>
                      <a:pt x="102" y="153"/>
                    </a:moveTo>
                    <a:lnTo>
                      <a:pt x="87" y="148"/>
                    </a:lnTo>
                    <a:lnTo>
                      <a:pt x="74" y="145"/>
                    </a:lnTo>
                    <a:lnTo>
                      <a:pt x="62" y="141"/>
                    </a:lnTo>
                    <a:lnTo>
                      <a:pt x="50" y="135"/>
                    </a:lnTo>
                    <a:lnTo>
                      <a:pt x="38" y="128"/>
                    </a:lnTo>
                    <a:lnTo>
                      <a:pt x="30" y="121"/>
                    </a:lnTo>
                    <a:lnTo>
                      <a:pt x="21" y="114"/>
                    </a:lnTo>
                    <a:lnTo>
                      <a:pt x="14" y="104"/>
                    </a:lnTo>
                    <a:lnTo>
                      <a:pt x="9" y="95"/>
                    </a:lnTo>
                    <a:lnTo>
                      <a:pt x="4" y="85"/>
                    </a:lnTo>
                    <a:lnTo>
                      <a:pt x="1" y="73"/>
                    </a:lnTo>
                    <a:lnTo>
                      <a:pt x="0" y="62"/>
                    </a:lnTo>
                    <a:lnTo>
                      <a:pt x="0" y="48"/>
                    </a:lnTo>
                    <a:lnTo>
                      <a:pt x="3" y="35"/>
                    </a:lnTo>
                    <a:lnTo>
                      <a:pt x="7" y="20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2" y="23"/>
                    </a:lnTo>
                    <a:lnTo>
                      <a:pt x="20" y="42"/>
                    </a:lnTo>
                    <a:lnTo>
                      <a:pt x="20" y="58"/>
                    </a:lnTo>
                    <a:lnTo>
                      <a:pt x="20" y="73"/>
                    </a:lnTo>
                    <a:lnTo>
                      <a:pt x="21" y="85"/>
                    </a:lnTo>
                    <a:lnTo>
                      <a:pt x="23" y="96"/>
                    </a:lnTo>
                    <a:lnTo>
                      <a:pt x="27" y="104"/>
                    </a:lnTo>
                    <a:lnTo>
                      <a:pt x="32" y="112"/>
                    </a:lnTo>
                    <a:lnTo>
                      <a:pt x="38" y="118"/>
                    </a:lnTo>
                    <a:lnTo>
                      <a:pt x="46" y="123"/>
                    </a:lnTo>
                    <a:lnTo>
                      <a:pt x="55" y="127"/>
                    </a:lnTo>
                    <a:lnTo>
                      <a:pt x="67" y="130"/>
                    </a:lnTo>
                    <a:lnTo>
                      <a:pt x="79" y="131"/>
                    </a:lnTo>
                    <a:lnTo>
                      <a:pt x="95" y="132"/>
                    </a:lnTo>
                    <a:lnTo>
                      <a:pt x="111" y="132"/>
                    </a:lnTo>
                    <a:lnTo>
                      <a:pt x="130" y="134"/>
                    </a:lnTo>
                    <a:lnTo>
                      <a:pt x="133" y="138"/>
                    </a:lnTo>
                    <a:lnTo>
                      <a:pt x="134" y="145"/>
                    </a:lnTo>
                    <a:lnTo>
                      <a:pt x="125" y="148"/>
                    </a:lnTo>
                    <a:lnTo>
                      <a:pt x="117" y="151"/>
                    </a:lnTo>
                    <a:lnTo>
                      <a:pt x="110" y="153"/>
                    </a:lnTo>
                    <a:lnTo>
                      <a:pt x="102" y="153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01120" y="1849320"/>
                <a:ext cx="212400" cy="393840"/>
              </a:xfrm>
              <a:custGeom>
                <a:avLst/>
                <a:gdLst/>
                <a:ahLst/>
                <a:rect l="l" t="t" r="r" b="b"/>
                <a:pathLst>
                  <a:path w="134" h="248">
                    <a:moveTo>
                      <a:pt x="67" y="247"/>
                    </a:moveTo>
                    <a:lnTo>
                      <a:pt x="52" y="245"/>
                    </a:lnTo>
                    <a:lnTo>
                      <a:pt x="40" y="239"/>
                    </a:lnTo>
                    <a:lnTo>
                      <a:pt x="28" y="232"/>
                    </a:lnTo>
                    <a:lnTo>
                      <a:pt x="19" y="225"/>
                    </a:lnTo>
                    <a:lnTo>
                      <a:pt x="13" y="216"/>
                    </a:lnTo>
                    <a:lnTo>
                      <a:pt x="8" y="205"/>
                    </a:lnTo>
                    <a:lnTo>
                      <a:pt x="4" y="193"/>
                    </a:lnTo>
                    <a:lnTo>
                      <a:pt x="1" y="181"/>
                    </a:lnTo>
                    <a:lnTo>
                      <a:pt x="0" y="168"/>
                    </a:lnTo>
                    <a:lnTo>
                      <a:pt x="0" y="154"/>
                    </a:lnTo>
                    <a:lnTo>
                      <a:pt x="1" y="141"/>
                    </a:lnTo>
                    <a:lnTo>
                      <a:pt x="3" y="126"/>
                    </a:lnTo>
                    <a:lnTo>
                      <a:pt x="6" y="99"/>
                    </a:lnTo>
                    <a:lnTo>
                      <a:pt x="10" y="72"/>
                    </a:lnTo>
                    <a:lnTo>
                      <a:pt x="30" y="72"/>
                    </a:lnTo>
                    <a:lnTo>
                      <a:pt x="45" y="69"/>
                    </a:lnTo>
                    <a:lnTo>
                      <a:pt x="50" y="66"/>
                    </a:lnTo>
                    <a:lnTo>
                      <a:pt x="55" y="64"/>
                    </a:lnTo>
                    <a:lnTo>
                      <a:pt x="58" y="59"/>
                    </a:lnTo>
                    <a:lnTo>
                      <a:pt x="60" y="56"/>
                    </a:lnTo>
                    <a:lnTo>
                      <a:pt x="63" y="52"/>
                    </a:lnTo>
                    <a:lnTo>
                      <a:pt x="65" y="46"/>
                    </a:lnTo>
                    <a:lnTo>
                      <a:pt x="65" y="41"/>
                    </a:lnTo>
                    <a:lnTo>
                      <a:pt x="65" y="34"/>
                    </a:lnTo>
                    <a:lnTo>
                      <a:pt x="65" y="18"/>
                    </a:lnTo>
                    <a:lnTo>
                      <a:pt x="65" y="0"/>
                    </a:lnTo>
                    <a:lnTo>
                      <a:pt x="70" y="2"/>
                    </a:lnTo>
                    <a:lnTo>
                      <a:pt x="75" y="4"/>
                    </a:lnTo>
                    <a:lnTo>
                      <a:pt x="80" y="9"/>
                    </a:lnTo>
                    <a:lnTo>
                      <a:pt x="86" y="13"/>
                    </a:lnTo>
                    <a:lnTo>
                      <a:pt x="96" y="25"/>
                    </a:lnTo>
                    <a:lnTo>
                      <a:pt x="106" y="38"/>
                    </a:lnTo>
                    <a:lnTo>
                      <a:pt x="116" y="66"/>
                    </a:lnTo>
                    <a:lnTo>
                      <a:pt x="125" y="96"/>
                    </a:lnTo>
                    <a:lnTo>
                      <a:pt x="129" y="113"/>
                    </a:lnTo>
                    <a:lnTo>
                      <a:pt x="132" y="127"/>
                    </a:lnTo>
                    <a:lnTo>
                      <a:pt x="133" y="143"/>
                    </a:lnTo>
                    <a:lnTo>
                      <a:pt x="133" y="157"/>
                    </a:lnTo>
                    <a:lnTo>
                      <a:pt x="132" y="172"/>
                    </a:lnTo>
                    <a:lnTo>
                      <a:pt x="128" y="186"/>
                    </a:lnTo>
                    <a:lnTo>
                      <a:pt x="123" y="198"/>
                    </a:lnTo>
                    <a:lnTo>
                      <a:pt x="116" y="211"/>
                    </a:lnTo>
                    <a:lnTo>
                      <a:pt x="108" y="222"/>
                    </a:lnTo>
                    <a:lnTo>
                      <a:pt x="96" y="232"/>
                    </a:lnTo>
                    <a:lnTo>
                      <a:pt x="83" y="240"/>
                    </a:lnTo>
                    <a:lnTo>
                      <a:pt x="67" y="2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88320" y="22287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6"/>
                    </a:moveTo>
                    <a:lnTo>
                      <a:pt x="1" y="4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3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3d7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86480" y="2155680"/>
                <a:ext cx="111240" cy="51120"/>
              </a:xfrm>
              <a:custGeom>
                <a:avLst/>
                <a:gdLst/>
                <a:ahLst/>
                <a:rect l="l" t="t" r="r" b="b"/>
                <a:pathLst>
                  <a:path w="70" h="32">
                    <a:moveTo>
                      <a:pt x="0" y="31"/>
                    </a:moveTo>
                    <a:lnTo>
                      <a:pt x="1" y="22"/>
                    </a:lnTo>
                    <a:lnTo>
                      <a:pt x="4" y="15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50" y="8"/>
                    </a:lnTo>
                    <a:lnTo>
                      <a:pt x="60" y="16"/>
                    </a:lnTo>
                    <a:lnTo>
                      <a:pt x="69" y="24"/>
                    </a:lnTo>
                    <a:lnTo>
                      <a:pt x="68" y="26"/>
                    </a:lnTo>
                    <a:lnTo>
                      <a:pt x="65" y="27"/>
                    </a:lnTo>
                    <a:lnTo>
                      <a:pt x="62" y="24"/>
                    </a:lnTo>
                    <a:lnTo>
                      <a:pt x="57" y="22"/>
                    </a:lnTo>
                    <a:lnTo>
                      <a:pt x="54" y="20"/>
                    </a:lnTo>
                    <a:lnTo>
                      <a:pt x="50" y="20"/>
                    </a:lnTo>
                    <a:lnTo>
                      <a:pt x="42" y="19"/>
                    </a:lnTo>
                    <a:lnTo>
                      <a:pt x="32" y="22"/>
                    </a:lnTo>
                    <a:lnTo>
                      <a:pt x="14" y="27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07000" y="1819440"/>
                <a:ext cx="136800" cy="29196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5" y="183"/>
                    </a:moveTo>
                    <a:lnTo>
                      <a:pt x="15" y="178"/>
                    </a:lnTo>
                    <a:lnTo>
                      <a:pt x="7" y="173"/>
                    </a:lnTo>
                    <a:lnTo>
                      <a:pt x="4" y="168"/>
                    </a:lnTo>
                    <a:lnTo>
                      <a:pt x="1" y="164"/>
                    </a:lnTo>
                    <a:lnTo>
                      <a:pt x="0" y="158"/>
                    </a:lnTo>
                    <a:lnTo>
                      <a:pt x="0" y="153"/>
                    </a:lnTo>
                    <a:lnTo>
                      <a:pt x="2" y="148"/>
                    </a:lnTo>
                    <a:lnTo>
                      <a:pt x="6" y="144"/>
                    </a:lnTo>
                    <a:lnTo>
                      <a:pt x="25" y="125"/>
                    </a:lnTo>
                    <a:lnTo>
                      <a:pt x="43" y="107"/>
                    </a:lnTo>
                    <a:lnTo>
                      <a:pt x="37" y="88"/>
                    </a:lnTo>
                    <a:lnTo>
                      <a:pt x="30" y="69"/>
                    </a:lnTo>
                    <a:lnTo>
                      <a:pt x="24" y="52"/>
                    </a:lnTo>
                    <a:lnTo>
                      <a:pt x="20" y="34"/>
                    </a:lnTo>
                    <a:lnTo>
                      <a:pt x="24" y="22"/>
                    </a:lnTo>
                    <a:lnTo>
                      <a:pt x="28" y="12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3"/>
                    </a:lnTo>
                    <a:lnTo>
                      <a:pt x="61" y="8"/>
                    </a:lnTo>
                    <a:lnTo>
                      <a:pt x="66" y="14"/>
                    </a:lnTo>
                    <a:lnTo>
                      <a:pt x="71" y="21"/>
                    </a:lnTo>
                    <a:lnTo>
                      <a:pt x="75" y="27"/>
                    </a:lnTo>
                    <a:lnTo>
                      <a:pt x="79" y="35"/>
                    </a:lnTo>
                    <a:lnTo>
                      <a:pt x="81" y="44"/>
                    </a:lnTo>
                    <a:lnTo>
                      <a:pt x="84" y="52"/>
                    </a:lnTo>
                    <a:lnTo>
                      <a:pt x="85" y="60"/>
                    </a:lnTo>
                    <a:lnTo>
                      <a:pt x="85" y="68"/>
                    </a:lnTo>
                    <a:lnTo>
                      <a:pt x="65" y="68"/>
                    </a:lnTo>
                    <a:lnTo>
                      <a:pt x="47" y="68"/>
                    </a:lnTo>
                    <a:lnTo>
                      <a:pt x="49" y="76"/>
                    </a:lnTo>
                    <a:lnTo>
                      <a:pt x="52" y="85"/>
                    </a:lnTo>
                    <a:lnTo>
                      <a:pt x="55" y="95"/>
                    </a:lnTo>
                    <a:lnTo>
                      <a:pt x="61" y="103"/>
                    </a:lnTo>
                    <a:lnTo>
                      <a:pt x="70" y="122"/>
                    </a:lnTo>
                    <a:lnTo>
                      <a:pt x="77" y="139"/>
                    </a:lnTo>
                    <a:lnTo>
                      <a:pt x="79" y="148"/>
                    </a:lnTo>
                    <a:lnTo>
                      <a:pt x="79" y="156"/>
                    </a:lnTo>
                    <a:lnTo>
                      <a:pt x="77" y="162"/>
                    </a:lnTo>
                    <a:lnTo>
                      <a:pt x="72" y="169"/>
                    </a:lnTo>
                    <a:lnTo>
                      <a:pt x="66" y="175"/>
                    </a:lnTo>
                    <a:lnTo>
                      <a:pt x="55" y="178"/>
                    </a:lnTo>
                    <a:lnTo>
                      <a:pt x="43" y="181"/>
                    </a:lnTo>
                    <a:lnTo>
                      <a:pt x="25" y="183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307360" y="199080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9" y="68"/>
                    </a:moveTo>
                    <a:lnTo>
                      <a:pt x="10" y="59"/>
                    </a:lnTo>
                    <a:lnTo>
                      <a:pt x="12" y="50"/>
                    </a:lnTo>
                    <a:lnTo>
                      <a:pt x="10" y="43"/>
                    </a:lnTo>
                    <a:lnTo>
                      <a:pt x="8" y="36"/>
                    </a:lnTo>
                    <a:lnTo>
                      <a:pt x="4" y="25"/>
                    </a:lnTo>
                    <a:lnTo>
                      <a:pt x="0" y="11"/>
                    </a:lnTo>
                    <a:lnTo>
                      <a:pt x="17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0"/>
                    </a:lnTo>
                    <a:lnTo>
                      <a:pt x="68" y="2"/>
                    </a:lnTo>
                    <a:lnTo>
                      <a:pt x="74" y="3"/>
                    </a:lnTo>
                    <a:lnTo>
                      <a:pt x="78" y="4"/>
                    </a:lnTo>
                    <a:lnTo>
                      <a:pt x="80" y="7"/>
                    </a:lnTo>
                    <a:lnTo>
                      <a:pt x="67" y="22"/>
                    </a:lnTo>
                    <a:lnTo>
                      <a:pt x="46" y="41"/>
                    </a:lnTo>
                    <a:lnTo>
                      <a:pt x="25" y="59"/>
                    </a:lnTo>
                    <a:lnTo>
                      <a:pt x="9" y="68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13480" y="1881360"/>
                <a:ext cx="103320" cy="214200"/>
              </a:xfrm>
              <a:custGeom>
                <a:avLst/>
                <a:gdLst/>
                <a:ahLst/>
                <a:rect l="l" t="t" r="r" b="b"/>
                <a:pathLst>
                  <a:path w="65" h="135">
                    <a:moveTo>
                      <a:pt x="1" y="134"/>
                    </a:moveTo>
                    <a:lnTo>
                      <a:pt x="0" y="128"/>
                    </a:lnTo>
                    <a:lnTo>
                      <a:pt x="1" y="121"/>
                    </a:lnTo>
                    <a:lnTo>
                      <a:pt x="3" y="112"/>
                    </a:lnTo>
                    <a:lnTo>
                      <a:pt x="5" y="102"/>
                    </a:lnTo>
                    <a:lnTo>
                      <a:pt x="15" y="80"/>
                    </a:lnTo>
                    <a:lnTo>
                      <a:pt x="25" y="57"/>
                    </a:lnTo>
                    <a:lnTo>
                      <a:pt x="36" y="35"/>
                    </a:lnTo>
                    <a:lnTo>
                      <a:pt x="47" y="18"/>
                    </a:lnTo>
                    <a:lnTo>
                      <a:pt x="52" y="11"/>
                    </a:lnTo>
                    <a:lnTo>
                      <a:pt x="57" y="5"/>
                    </a:lnTo>
                    <a:lnTo>
                      <a:pt x="62" y="2"/>
                    </a:lnTo>
                    <a:lnTo>
                      <a:pt x="64" y="0"/>
                    </a:lnTo>
                    <a:lnTo>
                      <a:pt x="62" y="27"/>
                    </a:lnTo>
                    <a:lnTo>
                      <a:pt x="60" y="55"/>
                    </a:lnTo>
                    <a:lnTo>
                      <a:pt x="57" y="69"/>
                    </a:lnTo>
                    <a:lnTo>
                      <a:pt x="52" y="83"/>
                    </a:lnTo>
                    <a:lnTo>
                      <a:pt x="49" y="91"/>
                    </a:lnTo>
                    <a:lnTo>
                      <a:pt x="45" y="99"/>
                    </a:lnTo>
                    <a:lnTo>
                      <a:pt x="39" y="107"/>
                    </a:lnTo>
                    <a:lnTo>
                      <a:pt x="32" y="116"/>
                    </a:lnTo>
                    <a:lnTo>
                      <a:pt x="25" y="121"/>
                    </a:lnTo>
                    <a:lnTo>
                      <a:pt x="17" y="128"/>
                    </a:lnTo>
                    <a:lnTo>
                      <a:pt x="9" y="133"/>
                    </a:lnTo>
                    <a:lnTo>
                      <a:pt x="1" y="1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193240" y="1790640"/>
                <a:ext cx="234720" cy="179280"/>
              </a:xfrm>
              <a:custGeom>
                <a:avLst/>
                <a:gdLst/>
                <a:ahLst/>
                <a:rect l="l" t="t" r="r" b="b"/>
                <a:pathLst>
                  <a:path w="148" h="113">
                    <a:moveTo>
                      <a:pt x="48" y="110"/>
                    </a:moveTo>
                    <a:lnTo>
                      <a:pt x="30" y="96"/>
                    </a:lnTo>
                    <a:lnTo>
                      <a:pt x="17" y="80"/>
                    </a:lnTo>
                    <a:lnTo>
                      <a:pt x="12" y="73"/>
                    </a:lnTo>
                    <a:lnTo>
                      <a:pt x="6" y="63"/>
                    </a:lnTo>
                    <a:lnTo>
                      <a:pt x="2" y="55"/>
                    </a:lnTo>
                    <a:lnTo>
                      <a:pt x="0" y="44"/>
                    </a:lnTo>
                    <a:lnTo>
                      <a:pt x="19" y="32"/>
                    </a:lnTo>
                    <a:lnTo>
                      <a:pt x="35" y="21"/>
                    </a:lnTo>
                    <a:lnTo>
                      <a:pt x="52" y="11"/>
                    </a:lnTo>
                    <a:lnTo>
                      <a:pt x="70" y="5"/>
                    </a:lnTo>
                    <a:lnTo>
                      <a:pt x="77" y="3"/>
                    </a:lnTo>
                    <a:lnTo>
                      <a:pt x="86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4" y="2"/>
                    </a:lnTo>
                    <a:lnTo>
                      <a:pt x="124" y="5"/>
                    </a:lnTo>
                    <a:lnTo>
                      <a:pt x="135" y="7"/>
                    </a:lnTo>
                    <a:lnTo>
                      <a:pt x="147" y="11"/>
                    </a:lnTo>
                    <a:lnTo>
                      <a:pt x="123" y="33"/>
                    </a:lnTo>
                    <a:lnTo>
                      <a:pt x="94" y="56"/>
                    </a:lnTo>
                    <a:lnTo>
                      <a:pt x="80" y="70"/>
                    </a:lnTo>
                    <a:lnTo>
                      <a:pt x="67" y="82"/>
                    </a:lnTo>
                    <a:lnTo>
                      <a:pt x="62" y="89"/>
                    </a:lnTo>
                    <a:lnTo>
                      <a:pt x="58" y="97"/>
                    </a:lnTo>
                    <a:lnTo>
                      <a:pt x="55" y="104"/>
                    </a:lnTo>
                    <a:lnTo>
                      <a:pt x="52" y="112"/>
                    </a:lnTo>
                    <a:lnTo>
                      <a:pt x="50" y="110"/>
                    </a:lnTo>
                    <a:lnTo>
                      <a:pt x="48" y="110"/>
                    </a:lnTo>
                  </a:path>
                </a:pathLst>
              </a:custGeom>
              <a:solidFill>
                <a:srgbClr val="84c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45400" y="187020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7" y="34"/>
                    </a:move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16" y="6"/>
                    </a:lnTo>
                    <a:lnTo>
                      <a:pt x="20" y="10"/>
                    </a:lnTo>
                    <a:lnTo>
                      <a:pt x="21" y="15"/>
                    </a:lnTo>
                    <a:lnTo>
                      <a:pt x="21" y="21"/>
                    </a:lnTo>
                    <a:lnTo>
                      <a:pt x="18" y="26"/>
                    </a:lnTo>
                    <a:lnTo>
                      <a:pt x="13" y="32"/>
                    </a:lnTo>
                    <a:lnTo>
                      <a:pt x="7" y="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8480" y="186228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23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5" y="12"/>
                    </a:lnTo>
                    <a:lnTo>
                      <a:pt x="3" y="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8075520" y="1631880"/>
              <a:ext cx="231840" cy="1857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50" y="116"/>
                  </a:moveTo>
                  <a:lnTo>
                    <a:pt x="37" y="106"/>
                  </a:lnTo>
                  <a:lnTo>
                    <a:pt x="25" y="95"/>
                  </a:lnTo>
                  <a:lnTo>
                    <a:pt x="13" y="87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15" y="55"/>
                  </a:lnTo>
                  <a:lnTo>
                    <a:pt x="30" y="39"/>
                  </a:lnTo>
                  <a:lnTo>
                    <a:pt x="38" y="32"/>
                  </a:lnTo>
                  <a:lnTo>
                    <a:pt x="45" y="26"/>
                  </a:lnTo>
                  <a:lnTo>
                    <a:pt x="55" y="21"/>
                  </a:lnTo>
                  <a:lnTo>
                    <a:pt x="62" y="16"/>
                  </a:lnTo>
                  <a:lnTo>
                    <a:pt x="71" y="12"/>
                  </a:lnTo>
                  <a:lnTo>
                    <a:pt x="80" y="9"/>
                  </a:lnTo>
                  <a:lnTo>
                    <a:pt x="90" y="5"/>
                  </a:lnTo>
                  <a:lnTo>
                    <a:pt x="100" y="4"/>
                  </a:lnTo>
                  <a:lnTo>
                    <a:pt x="120" y="2"/>
                  </a:lnTo>
                  <a:lnTo>
                    <a:pt x="145" y="0"/>
                  </a:lnTo>
                  <a:lnTo>
                    <a:pt x="118" y="26"/>
                  </a:lnTo>
                  <a:lnTo>
                    <a:pt x="93" y="52"/>
                  </a:lnTo>
                  <a:lnTo>
                    <a:pt x="82" y="66"/>
                  </a:lnTo>
                  <a:lnTo>
                    <a:pt x="71" y="82"/>
                  </a:lnTo>
                  <a:lnTo>
                    <a:pt x="62" y="98"/>
                  </a:lnTo>
                  <a:lnTo>
                    <a:pt x="56" y="114"/>
                  </a:lnTo>
                  <a:lnTo>
                    <a:pt x="52" y="116"/>
                  </a:lnTo>
                  <a:lnTo>
                    <a:pt x="50" y="116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72560" y="163980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2" y="64"/>
                  </a:moveTo>
                  <a:lnTo>
                    <a:pt x="16" y="61"/>
                  </a:lnTo>
                  <a:lnTo>
                    <a:pt x="0" y="59"/>
                  </a:lnTo>
                  <a:lnTo>
                    <a:pt x="3" y="50"/>
                  </a:lnTo>
                  <a:lnTo>
                    <a:pt x="7" y="42"/>
                  </a:lnTo>
                  <a:lnTo>
                    <a:pt x="13" y="32"/>
                  </a:lnTo>
                  <a:lnTo>
                    <a:pt x="22" y="23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51" y="15"/>
                  </a:lnTo>
                  <a:lnTo>
                    <a:pt x="46" y="30"/>
                  </a:lnTo>
                  <a:lnTo>
                    <a:pt x="43" y="46"/>
                  </a:lnTo>
                  <a:lnTo>
                    <a:pt x="43" y="64"/>
                  </a:lnTo>
                  <a:lnTo>
                    <a:pt x="37" y="64"/>
                  </a:lnTo>
                  <a:lnTo>
                    <a:pt x="32" y="64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7000" y="455760"/>
            <a:ext cx="6632280" cy="152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38120" y="31237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mmunica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844720" cy="535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8000"/>
          </a:bodyPr>
          <a:p>
            <a:pPr marL="109440" indent="-109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anage Behavior –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668680" y="2057400"/>
            <a:ext cx="3224160" cy="4597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62720" y="5181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Not At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Att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n’t Measur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n’t Control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May Not Impact Work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978440" y="1523880"/>
            <a:ext cx="4191120" cy="535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14440" y="2209320"/>
            <a:ext cx="4419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an Measur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Has a Direct Impact on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68760" cy="558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9720" y="1138320"/>
            <a:ext cx="7223040" cy="42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55760" y="61372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34440" cy="32529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914400" y="4114800"/>
            <a:ext cx="1449360" cy="2249640"/>
            <a:chOff x="914400" y="4114800"/>
            <a:chExt cx="1449360" cy="2249640"/>
          </a:xfrm>
        </p:grpSpPr>
        <p:sp>
          <p:nvSpPr>
            <p:cNvPr id="47" name=""/>
            <p:cNvSpPr/>
            <p:nvPr/>
          </p:nvSpPr>
          <p:spPr>
            <a:xfrm>
              <a:off x="914400" y="4114800"/>
              <a:ext cx="1449360" cy="2249640"/>
            </a:xfrm>
            <a:custGeom>
              <a:avLst/>
              <a:gdLst/>
              <a:ahLst/>
              <a:rect l="l" t="t" r="r" b="b"/>
              <a:pathLst>
                <a:path w="913" h="1417">
                  <a:moveTo>
                    <a:pt x="3" y="1134"/>
                  </a:moveTo>
                  <a:lnTo>
                    <a:pt x="10" y="1145"/>
                  </a:lnTo>
                  <a:lnTo>
                    <a:pt x="17" y="1155"/>
                  </a:lnTo>
                  <a:lnTo>
                    <a:pt x="25" y="1165"/>
                  </a:lnTo>
                  <a:lnTo>
                    <a:pt x="34" y="1175"/>
                  </a:lnTo>
                  <a:lnTo>
                    <a:pt x="43" y="1184"/>
                  </a:lnTo>
                  <a:lnTo>
                    <a:pt x="52" y="1193"/>
                  </a:lnTo>
                  <a:lnTo>
                    <a:pt x="62" y="1200"/>
                  </a:lnTo>
                  <a:lnTo>
                    <a:pt x="72" y="1207"/>
                  </a:lnTo>
                  <a:lnTo>
                    <a:pt x="83" y="1213"/>
                  </a:lnTo>
                  <a:lnTo>
                    <a:pt x="93" y="1219"/>
                  </a:lnTo>
                  <a:lnTo>
                    <a:pt x="105" y="1224"/>
                  </a:lnTo>
                  <a:lnTo>
                    <a:pt x="116" y="1227"/>
                  </a:lnTo>
                  <a:lnTo>
                    <a:pt x="127" y="1230"/>
                  </a:lnTo>
                  <a:lnTo>
                    <a:pt x="138" y="1230"/>
                  </a:lnTo>
                  <a:lnTo>
                    <a:pt x="151" y="1230"/>
                  </a:lnTo>
                  <a:lnTo>
                    <a:pt x="162" y="1229"/>
                  </a:lnTo>
                  <a:lnTo>
                    <a:pt x="178" y="1212"/>
                  </a:lnTo>
                  <a:lnTo>
                    <a:pt x="196" y="1194"/>
                  </a:lnTo>
                  <a:lnTo>
                    <a:pt x="205" y="1186"/>
                  </a:lnTo>
                  <a:lnTo>
                    <a:pt x="215" y="1178"/>
                  </a:lnTo>
                  <a:lnTo>
                    <a:pt x="225" y="1171"/>
                  </a:lnTo>
                  <a:lnTo>
                    <a:pt x="234" y="1165"/>
                  </a:lnTo>
                  <a:lnTo>
                    <a:pt x="234" y="1164"/>
                  </a:lnTo>
                  <a:lnTo>
                    <a:pt x="235" y="1162"/>
                  </a:lnTo>
                  <a:lnTo>
                    <a:pt x="236" y="1161"/>
                  </a:lnTo>
                  <a:lnTo>
                    <a:pt x="237" y="1161"/>
                  </a:lnTo>
                  <a:lnTo>
                    <a:pt x="240" y="1159"/>
                  </a:lnTo>
                  <a:lnTo>
                    <a:pt x="242" y="1157"/>
                  </a:lnTo>
                  <a:lnTo>
                    <a:pt x="246" y="1158"/>
                  </a:lnTo>
                  <a:lnTo>
                    <a:pt x="254" y="1152"/>
                  </a:lnTo>
                  <a:lnTo>
                    <a:pt x="263" y="1146"/>
                  </a:lnTo>
                  <a:lnTo>
                    <a:pt x="272" y="1138"/>
                  </a:lnTo>
                  <a:lnTo>
                    <a:pt x="280" y="1131"/>
                  </a:lnTo>
                  <a:lnTo>
                    <a:pt x="288" y="1123"/>
                  </a:lnTo>
                  <a:lnTo>
                    <a:pt x="296" y="1114"/>
                  </a:lnTo>
                  <a:lnTo>
                    <a:pt x="302" y="1106"/>
                  </a:lnTo>
                  <a:lnTo>
                    <a:pt x="309" y="1098"/>
                  </a:lnTo>
                  <a:lnTo>
                    <a:pt x="310" y="1098"/>
                  </a:lnTo>
                  <a:lnTo>
                    <a:pt x="314" y="1097"/>
                  </a:lnTo>
                  <a:lnTo>
                    <a:pt x="313" y="1091"/>
                  </a:lnTo>
                  <a:lnTo>
                    <a:pt x="313" y="1085"/>
                  </a:lnTo>
                  <a:lnTo>
                    <a:pt x="314" y="1078"/>
                  </a:lnTo>
                  <a:lnTo>
                    <a:pt x="315" y="1072"/>
                  </a:lnTo>
                  <a:lnTo>
                    <a:pt x="318" y="1066"/>
                  </a:lnTo>
                  <a:lnTo>
                    <a:pt x="320" y="1060"/>
                  </a:lnTo>
                  <a:lnTo>
                    <a:pt x="323" y="1055"/>
                  </a:lnTo>
                  <a:lnTo>
                    <a:pt x="327" y="1050"/>
                  </a:lnTo>
                  <a:lnTo>
                    <a:pt x="345" y="1035"/>
                  </a:lnTo>
                  <a:lnTo>
                    <a:pt x="345" y="1033"/>
                  </a:lnTo>
                  <a:lnTo>
                    <a:pt x="345" y="1029"/>
                  </a:lnTo>
                  <a:lnTo>
                    <a:pt x="345" y="1026"/>
                  </a:lnTo>
                  <a:lnTo>
                    <a:pt x="346" y="1023"/>
                  </a:lnTo>
                  <a:lnTo>
                    <a:pt x="348" y="1016"/>
                  </a:lnTo>
                  <a:lnTo>
                    <a:pt x="351" y="1010"/>
                  </a:lnTo>
                  <a:lnTo>
                    <a:pt x="337" y="1004"/>
                  </a:lnTo>
                  <a:lnTo>
                    <a:pt x="324" y="996"/>
                  </a:lnTo>
                  <a:lnTo>
                    <a:pt x="318" y="992"/>
                  </a:lnTo>
                  <a:lnTo>
                    <a:pt x="312" y="987"/>
                  </a:lnTo>
                  <a:lnTo>
                    <a:pt x="307" y="983"/>
                  </a:lnTo>
                  <a:lnTo>
                    <a:pt x="302" y="977"/>
                  </a:lnTo>
                  <a:lnTo>
                    <a:pt x="290" y="999"/>
                  </a:lnTo>
                  <a:lnTo>
                    <a:pt x="279" y="1021"/>
                  </a:lnTo>
                  <a:lnTo>
                    <a:pt x="273" y="1032"/>
                  </a:lnTo>
                  <a:lnTo>
                    <a:pt x="267" y="1042"/>
                  </a:lnTo>
                  <a:lnTo>
                    <a:pt x="260" y="1052"/>
                  </a:lnTo>
                  <a:lnTo>
                    <a:pt x="252" y="1063"/>
                  </a:lnTo>
                  <a:lnTo>
                    <a:pt x="246" y="1071"/>
                  </a:lnTo>
                  <a:lnTo>
                    <a:pt x="240" y="1077"/>
                  </a:lnTo>
                  <a:lnTo>
                    <a:pt x="234" y="1083"/>
                  </a:lnTo>
                  <a:lnTo>
                    <a:pt x="227" y="1089"/>
                  </a:lnTo>
                  <a:lnTo>
                    <a:pt x="221" y="1095"/>
                  </a:lnTo>
                  <a:lnTo>
                    <a:pt x="213" y="1098"/>
                  </a:lnTo>
                  <a:lnTo>
                    <a:pt x="205" y="1102"/>
                  </a:lnTo>
                  <a:lnTo>
                    <a:pt x="196" y="1103"/>
                  </a:lnTo>
                  <a:lnTo>
                    <a:pt x="189" y="1103"/>
                  </a:lnTo>
                  <a:lnTo>
                    <a:pt x="182" y="1102"/>
                  </a:lnTo>
                  <a:lnTo>
                    <a:pt x="175" y="1102"/>
                  </a:lnTo>
                  <a:lnTo>
                    <a:pt x="169" y="1100"/>
                  </a:lnTo>
                  <a:lnTo>
                    <a:pt x="163" y="1097"/>
                  </a:lnTo>
                  <a:lnTo>
                    <a:pt x="157" y="1093"/>
                  </a:lnTo>
                  <a:lnTo>
                    <a:pt x="151" y="1088"/>
                  </a:lnTo>
                  <a:lnTo>
                    <a:pt x="147" y="1081"/>
                  </a:lnTo>
                  <a:lnTo>
                    <a:pt x="145" y="1077"/>
                  </a:lnTo>
                  <a:lnTo>
                    <a:pt x="142" y="1071"/>
                  </a:lnTo>
                  <a:lnTo>
                    <a:pt x="141" y="1066"/>
                  </a:lnTo>
                  <a:lnTo>
                    <a:pt x="140" y="1060"/>
                  </a:lnTo>
                  <a:lnTo>
                    <a:pt x="141" y="1054"/>
                  </a:lnTo>
                  <a:lnTo>
                    <a:pt x="141" y="1049"/>
                  </a:lnTo>
                  <a:lnTo>
                    <a:pt x="143" y="1044"/>
                  </a:lnTo>
                  <a:lnTo>
                    <a:pt x="144" y="1038"/>
                  </a:lnTo>
                  <a:lnTo>
                    <a:pt x="148" y="1027"/>
                  </a:lnTo>
                  <a:lnTo>
                    <a:pt x="153" y="1018"/>
                  </a:lnTo>
                  <a:lnTo>
                    <a:pt x="159" y="1008"/>
                  </a:lnTo>
                  <a:lnTo>
                    <a:pt x="167" y="999"/>
                  </a:lnTo>
                  <a:lnTo>
                    <a:pt x="192" y="975"/>
                  </a:lnTo>
                  <a:lnTo>
                    <a:pt x="216" y="951"/>
                  </a:lnTo>
                  <a:lnTo>
                    <a:pt x="229" y="939"/>
                  </a:lnTo>
                  <a:lnTo>
                    <a:pt x="240" y="926"/>
                  </a:lnTo>
                  <a:lnTo>
                    <a:pt x="249" y="913"/>
                  </a:lnTo>
                  <a:lnTo>
                    <a:pt x="259" y="898"/>
                  </a:lnTo>
                  <a:lnTo>
                    <a:pt x="254" y="898"/>
                  </a:lnTo>
                  <a:lnTo>
                    <a:pt x="248" y="897"/>
                  </a:lnTo>
                  <a:lnTo>
                    <a:pt x="243" y="898"/>
                  </a:lnTo>
                  <a:lnTo>
                    <a:pt x="239" y="899"/>
                  </a:lnTo>
                  <a:lnTo>
                    <a:pt x="220" y="899"/>
                  </a:lnTo>
                  <a:lnTo>
                    <a:pt x="202" y="897"/>
                  </a:lnTo>
                  <a:lnTo>
                    <a:pt x="185" y="893"/>
                  </a:lnTo>
                  <a:lnTo>
                    <a:pt x="168" y="889"/>
                  </a:lnTo>
                  <a:lnTo>
                    <a:pt x="151" y="883"/>
                  </a:lnTo>
                  <a:lnTo>
                    <a:pt x="136" y="876"/>
                  </a:lnTo>
                  <a:lnTo>
                    <a:pt x="119" y="870"/>
                  </a:lnTo>
                  <a:lnTo>
                    <a:pt x="104" y="863"/>
                  </a:lnTo>
                  <a:lnTo>
                    <a:pt x="79" y="849"/>
                  </a:lnTo>
                  <a:lnTo>
                    <a:pt x="54" y="833"/>
                  </a:lnTo>
                  <a:lnTo>
                    <a:pt x="43" y="824"/>
                  </a:lnTo>
                  <a:lnTo>
                    <a:pt x="33" y="814"/>
                  </a:lnTo>
                  <a:lnTo>
                    <a:pt x="29" y="808"/>
                  </a:lnTo>
                  <a:lnTo>
                    <a:pt x="24" y="802"/>
                  </a:lnTo>
                  <a:lnTo>
                    <a:pt x="21" y="796"/>
                  </a:lnTo>
                  <a:lnTo>
                    <a:pt x="18" y="788"/>
                  </a:lnTo>
                  <a:lnTo>
                    <a:pt x="16" y="782"/>
                  </a:lnTo>
                  <a:lnTo>
                    <a:pt x="16" y="776"/>
                  </a:lnTo>
                  <a:lnTo>
                    <a:pt x="16" y="769"/>
                  </a:lnTo>
                  <a:lnTo>
                    <a:pt x="19" y="764"/>
                  </a:lnTo>
                  <a:lnTo>
                    <a:pt x="27" y="754"/>
                  </a:lnTo>
                  <a:lnTo>
                    <a:pt x="37" y="743"/>
                  </a:lnTo>
                  <a:lnTo>
                    <a:pt x="48" y="737"/>
                  </a:lnTo>
                  <a:lnTo>
                    <a:pt x="60" y="732"/>
                  </a:lnTo>
                  <a:lnTo>
                    <a:pt x="72" y="728"/>
                  </a:lnTo>
                  <a:lnTo>
                    <a:pt x="86" y="726"/>
                  </a:lnTo>
                  <a:lnTo>
                    <a:pt x="97" y="726"/>
                  </a:lnTo>
                  <a:lnTo>
                    <a:pt x="110" y="726"/>
                  </a:lnTo>
                  <a:lnTo>
                    <a:pt x="123" y="727"/>
                  </a:lnTo>
                  <a:lnTo>
                    <a:pt x="135" y="730"/>
                  </a:lnTo>
                  <a:lnTo>
                    <a:pt x="160" y="736"/>
                  </a:lnTo>
                  <a:lnTo>
                    <a:pt x="186" y="743"/>
                  </a:lnTo>
                  <a:lnTo>
                    <a:pt x="199" y="745"/>
                  </a:lnTo>
                  <a:lnTo>
                    <a:pt x="211" y="748"/>
                  </a:lnTo>
                  <a:lnTo>
                    <a:pt x="224" y="751"/>
                  </a:lnTo>
                  <a:lnTo>
                    <a:pt x="236" y="752"/>
                  </a:lnTo>
                  <a:lnTo>
                    <a:pt x="309" y="759"/>
                  </a:lnTo>
                  <a:lnTo>
                    <a:pt x="309" y="757"/>
                  </a:lnTo>
                  <a:lnTo>
                    <a:pt x="308" y="754"/>
                  </a:lnTo>
                  <a:lnTo>
                    <a:pt x="306" y="750"/>
                  </a:lnTo>
                  <a:lnTo>
                    <a:pt x="304" y="748"/>
                  </a:lnTo>
                  <a:lnTo>
                    <a:pt x="301" y="724"/>
                  </a:lnTo>
                  <a:lnTo>
                    <a:pt x="296" y="700"/>
                  </a:lnTo>
                  <a:lnTo>
                    <a:pt x="292" y="676"/>
                  </a:lnTo>
                  <a:lnTo>
                    <a:pt x="288" y="652"/>
                  </a:lnTo>
                  <a:lnTo>
                    <a:pt x="283" y="628"/>
                  </a:lnTo>
                  <a:lnTo>
                    <a:pt x="280" y="604"/>
                  </a:lnTo>
                  <a:lnTo>
                    <a:pt x="276" y="580"/>
                  </a:lnTo>
                  <a:lnTo>
                    <a:pt x="275" y="556"/>
                  </a:lnTo>
                  <a:lnTo>
                    <a:pt x="271" y="503"/>
                  </a:lnTo>
                  <a:lnTo>
                    <a:pt x="266" y="450"/>
                  </a:lnTo>
                  <a:lnTo>
                    <a:pt x="261" y="398"/>
                  </a:lnTo>
                  <a:lnTo>
                    <a:pt x="257" y="345"/>
                  </a:lnTo>
                  <a:lnTo>
                    <a:pt x="256" y="319"/>
                  </a:lnTo>
                  <a:lnTo>
                    <a:pt x="256" y="293"/>
                  </a:lnTo>
                  <a:lnTo>
                    <a:pt x="257" y="268"/>
                  </a:lnTo>
                  <a:lnTo>
                    <a:pt x="260" y="241"/>
                  </a:lnTo>
                  <a:lnTo>
                    <a:pt x="263" y="216"/>
                  </a:lnTo>
                  <a:lnTo>
                    <a:pt x="267" y="189"/>
                  </a:lnTo>
                  <a:lnTo>
                    <a:pt x="275" y="164"/>
                  </a:lnTo>
                  <a:lnTo>
                    <a:pt x="283" y="137"/>
                  </a:lnTo>
                  <a:lnTo>
                    <a:pt x="294" y="122"/>
                  </a:lnTo>
                  <a:lnTo>
                    <a:pt x="306" y="105"/>
                  </a:lnTo>
                  <a:lnTo>
                    <a:pt x="318" y="89"/>
                  </a:lnTo>
                  <a:lnTo>
                    <a:pt x="332" y="74"/>
                  </a:lnTo>
                  <a:lnTo>
                    <a:pt x="345" y="60"/>
                  </a:lnTo>
                  <a:lnTo>
                    <a:pt x="360" y="48"/>
                  </a:lnTo>
                  <a:lnTo>
                    <a:pt x="368" y="41"/>
                  </a:lnTo>
                  <a:lnTo>
                    <a:pt x="375" y="36"/>
                  </a:lnTo>
                  <a:lnTo>
                    <a:pt x="383" y="31"/>
                  </a:lnTo>
                  <a:lnTo>
                    <a:pt x="392" y="26"/>
                  </a:lnTo>
                  <a:lnTo>
                    <a:pt x="410" y="17"/>
                  </a:lnTo>
                  <a:lnTo>
                    <a:pt x="430" y="9"/>
                  </a:lnTo>
                  <a:lnTo>
                    <a:pt x="440" y="7"/>
                  </a:lnTo>
                  <a:lnTo>
                    <a:pt x="450" y="4"/>
                  </a:lnTo>
                  <a:lnTo>
                    <a:pt x="459" y="2"/>
                  </a:lnTo>
                  <a:lnTo>
                    <a:pt x="470" y="0"/>
                  </a:lnTo>
                  <a:lnTo>
                    <a:pt x="480" y="0"/>
                  </a:lnTo>
                  <a:lnTo>
                    <a:pt x="490" y="0"/>
                  </a:lnTo>
                  <a:lnTo>
                    <a:pt x="500" y="1"/>
                  </a:lnTo>
                  <a:lnTo>
                    <a:pt x="510" y="4"/>
                  </a:lnTo>
                  <a:lnTo>
                    <a:pt x="520" y="7"/>
                  </a:lnTo>
                  <a:lnTo>
                    <a:pt x="529" y="12"/>
                  </a:lnTo>
                  <a:lnTo>
                    <a:pt x="537" y="19"/>
                  </a:lnTo>
                  <a:lnTo>
                    <a:pt x="546" y="26"/>
                  </a:lnTo>
                  <a:lnTo>
                    <a:pt x="554" y="36"/>
                  </a:lnTo>
                  <a:lnTo>
                    <a:pt x="561" y="46"/>
                  </a:lnTo>
                  <a:lnTo>
                    <a:pt x="569" y="57"/>
                  </a:lnTo>
                  <a:lnTo>
                    <a:pt x="576" y="67"/>
                  </a:lnTo>
                  <a:lnTo>
                    <a:pt x="583" y="78"/>
                  </a:lnTo>
                  <a:lnTo>
                    <a:pt x="588" y="89"/>
                  </a:lnTo>
                  <a:lnTo>
                    <a:pt x="594" y="101"/>
                  </a:lnTo>
                  <a:lnTo>
                    <a:pt x="599" y="113"/>
                  </a:lnTo>
                  <a:lnTo>
                    <a:pt x="609" y="136"/>
                  </a:lnTo>
                  <a:lnTo>
                    <a:pt x="616" y="161"/>
                  </a:lnTo>
                  <a:lnTo>
                    <a:pt x="622" y="186"/>
                  </a:lnTo>
                  <a:lnTo>
                    <a:pt x="627" y="212"/>
                  </a:lnTo>
                  <a:lnTo>
                    <a:pt x="631" y="238"/>
                  </a:lnTo>
                  <a:lnTo>
                    <a:pt x="633" y="265"/>
                  </a:lnTo>
                  <a:lnTo>
                    <a:pt x="634" y="291"/>
                  </a:lnTo>
                  <a:lnTo>
                    <a:pt x="634" y="316"/>
                  </a:lnTo>
                  <a:lnTo>
                    <a:pt x="633" y="343"/>
                  </a:lnTo>
                  <a:lnTo>
                    <a:pt x="632" y="369"/>
                  </a:lnTo>
                  <a:lnTo>
                    <a:pt x="629" y="394"/>
                  </a:lnTo>
                  <a:lnTo>
                    <a:pt x="627" y="419"/>
                  </a:lnTo>
                  <a:lnTo>
                    <a:pt x="622" y="453"/>
                  </a:lnTo>
                  <a:lnTo>
                    <a:pt x="616" y="486"/>
                  </a:lnTo>
                  <a:lnTo>
                    <a:pt x="610" y="520"/>
                  </a:lnTo>
                  <a:lnTo>
                    <a:pt x="604" y="554"/>
                  </a:lnTo>
                  <a:lnTo>
                    <a:pt x="599" y="587"/>
                  </a:lnTo>
                  <a:lnTo>
                    <a:pt x="596" y="621"/>
                  </a:lnTo>
                  <a:lnTo>
                    <a:pt x="592" y="654"/>
                  </a:lnTo>
                  <a:lnTo>
                    <a:pt x="591" y="689"/>
                  </a:lnTo>
                  <a:lnTo>
                    <a:pt x="586" y="705"/>
                  </a:lnTo>
                  <a:lnTo>
                    <a:pt x="583" y="721"/>
                  </a:lnTo>
                  <a:lnTo>
                    <a:pt x="582" y="736"/>
                  </a:lnTo>
                  <a:lnTo>
                    <a:pt x="582" y="750"/>
                  </a:lnTo>
                  <a:lnTo>
                    <a:pt x="594" y="749"/>
                  </a:lnTo>
                  <a:lnTo>
                    <a:pt x="605" y="747"/>
                  </a:lnTo>
                  <a:lnTo>
                    <a:pt x="616" y="743"/>
                  </a:lnTo>
                  <a:lnTo>
                    <a:pt x="627" y="740"/>
                  </a:lnTo>
                  <a:lnTo>
                    <a:pt x="638" y="737"/>
                  </a:lnTo>
                  <a:lnTo>
                    <a:pt x="650" y="734"/>
                  </a:lnTo>
                  <a:lnTo>
                    <a:pt x="660" y="731"/>
                  </a:lnTo>
                  <a:lnTo>
                    <a:pt x="670" y="729"/>
                  </a:lnTo>
                  <a:lnTo>
                    <a:pt x="696" y="721"/>
                  </a:lnTo>
                  <a:lnTo>
                    <a:pt x="720" y="714"/>
                  </a:lnTo>
                  <a:lnTo>
                    <a:pt x="745" y="707"/>
                  </a:lnTo>
                  <a:lnTo>
                    <a:pt x="771" y="700"/>
                  </a:lnTo>
                  <a:lnTo>
                    <a:pt x="795" y="693"/>
                  </a:lnTo>
                  <a:lnTo>
                    <a:pt x="821" y="689"/>
                  </a:lnTo>
                  <a:lnTo>
                    <a:pt x="847" y="685"/>
                  </a:lnTo>
                  <a:lnTo>
                    <a:pt x="872" y="683"/>
                  </a:lnTo>
                  <a:lnTo>
                    <a:pt x="883" y="686"/>
                  </a:lnTo>
                  <a:lnTo>
                    <a:pt x="896" y="690"/>
                  </a:lnTo>
                  <a:lnTo>
                    <a:pt x="901" y="692"/>
                  </a:lnTo>
                  <a:lnTo>
                    <a:pt x="905" y="695"/>
                  </a:lnTo>
                  <a:lnTo>
                    <a:pt x="909" y="700"/>
                  </a:lnTo>
                  <a:lnTo>
                    <a:pt x="911" y="706"/>
                  </a:lnTo>
                  <a:lnTo>
                    <a:pt x="912" y="714"/>
                  </a:lnTo>
                  <a:lnTo>
                    <a:pt x="912" y="721"/>
                  </a:lnTo>
                  <a:lnTo>
                    <a:pt x="910" y="729"/>
                  </a:lnTo>
                  <a:lnTo>
                    <a:pt x="910" y="737"/>
                  </a:lnTo>
                  <a:lnTo>
                    <a:pt x="902" y="748"/>
                  </a:lnTo>
                  <a:lnTo>
                    <a:pt x="892" y="757"/>
                  </a:lnTo>
                  <a:lnTo>
                    <a:pt x="883" y="767"/>
                  </a:lnTo>
                  <a:lnTo>
                    <a:pt x="873" y="776"/>
                  </a:lnTo>
                  <a:lnTo>
                    <a:pt x="863" y="783"/>
                  </a:lnTo>
                  <a:lnTo>
                    <a:pt x="853" y="791"/>
                  </a:lnTo>
                  <a:lnTo>
                    <a:pt x="842" y="797"/>
                  </a:lnTo>
                  <a:lnTo>
                    <a:pt x="831" y="803"/>
                  </a:lnTo>
                  <a:lnTo>
                    <a:pt x="808" y="815"/>
                  </a:lnTo>
                  <a:lnTo>
                    <a:pt x="786" y="826"/>
                  </a:lnTo>
                  <a:lnTo>
                    <a:pt x="764" y="839"/>
                  </a:lnTo>
                  <a:lnTo>
                    <a:pt x="742" y="851"/>
                  </a:lnTo>
                  <a:lnTo>
                    <a:pt x="686" y="874"/>
                  </a:lnTo>
                  <a:lnTo>
                    <a:pt x="687" y="876"/>
                  </a:lnTo>
                  <a:lnTo>
                    <a:pt x="687" y="877"/>
                  </a:lnTo>
                  <a:lnTo>
                    <a:pt x="686" y="878"/>
                  </a:lnTo>
                  <a:lnTo>
                    <a:pt x="685" y="879"/>
                  </a:lnTo>
                  <a:lnTo>
                    <a:pt x="683" y="880"/>
                  </a:lnTo>
                  <a:lnTo>
                    <a:pt x="681" y="881"/>
                  </a:lnTo>
                  <a:lnTo>
                    <a:pt x="674" y="882"/>
                  </a:lnTo>
                  <a:lnTo>
                    <a:pt x="667" y="882"/>
                  </a:lnTo>
                  <a:lnTo>
                    <a:pt x="674" y="897"/>
                  </a:lnTo>
                  <a:lnTo>
                    <a:pt x="683" y="911"/>
                  </a:lnTo>
                  <a:lnTo>
                    <a:pt x="692" y="925"/>
                  </a:lnTo>
                  <a:lnTo>
                    <a:pt x="703" y="939"/>
                  </a:lnTo>
                  <a:lnTo>
                    <a:pt x="725" y="964"/>
                  </a:lnTo>
                  <a:lnTo>
                    <a:pt x="745" y="990"/>
                  </a:lnTo>
                  <a:lnTo>
                    <a:pt x="756" y="999"/>
                  </a:lnTo>
                  <a:lnTo>
                    <a:pt x="768" y="1007"/>
                  </a:lnTo>
                  <a:lnTo>
                    <a:pt x="780" y="1015"/>
                  </a:lnTo>
                  <a:lnTo>
                    <a:pt x="794" y="1021"/>
                  </a:lnTo>
                  <a:lnTo>
                    <a:pt x="799" y="1027"/>
                  </a:lnTo>
                  <a:lnTo>
                    <a:pt x="805" y="1033"/>
                  </a:lnTo>
                  <a:lnTo>
                    <a:pt x="808" y="1039"/>
                  </a:lnTo>
                  <a:lnTo>
                    <a:pt x="811" y="1047"/>
                  </a:lnTo>
                  <a:lnTo>
                    <a:pt x="813" y="1053"/>
                  </a:lnTo>
                  <a:lnTo>
                    <a:pt x="813" y="1061"/>
                  </a:lnTo>
                  <a:lnTo>
                    <a:pt x="813" y="1069"/>
                  </a:lnTo>
                  <a:lnTo>
                    <a:pt x="813" y="1077"/>
                  </a:lnTo>
                  <a:lnTo>
                    <a:pt x="809" y="1085"/>
                  </a:lnTo>
                  <a:lnTo>
                    <a:pt x="807" y="1093"/>
                  </a:lnTo>
                  <a:lnTo>
                    <a:pt x="802" y="1100"/>
                  </a:lnTo>
                  <a:lnTo>
                    <a:pt x="798" y="1107"/>
                  </a:lnTo>
                  <a:lnTo>
                    <a:pt x="794" y="1114"/>
                  </a:lnTo>
                  <a:lnTo>
                    <a:pt x="788" y="1119"/>
                  </a:lnTo>
                  <a:lnTo>
                    <a:pt x="781" y="1123"/>
                  </a:lnTo>
                  <a:lnTo>
                    <a:pt x="774" y="1127"/>
                  </a:lnTo>
                  <a:lnTo>
                    <a:pt x="762" y="1128"/>
                  </a:lnTo>
                  <a:lnTo>
                    <a:pt x="751" y="1128"/>
                  </a:lnTo>
                  <a:lnTo>
                    <a:pt x="740" y="1125"/>
                  </a:lnTo>
                  <a:lnTo>
                    <a:pt x="730" y="1121"/>
                  </a:lnTo>
                  <a:lnTo>
                    <a:pt x="720" y="1117"/>
                  </a:lnTo>
                  <a:lnTo>
                    <a:pt x="710" y="1110"/>
                  </a:lnTo>
                  <a:lnTo>
                    <a:pt x="702" y="1102"/>
                  </a:lnTo>
                  <a:lnTo>
                    <a:pt x="694" y="1094"/>
                  </a:lnTo>
                  <a:lnTo>
                    <a:pt x="686" y="1085"/>
                  </a:lnTo>
                  <a:lnTo>
                    <a:pt x="678" y="1076"/>
                  </a:lnTo>
                  <a:lnTo>
                    <a:pt x="672" y="1066"/>
                  </a:lnTo>
                  <a:lnTo>
                    <a:pt x="665" y="1055"/>
                  </a:lnTo>
                  <a:lnTo>
                    <a:pt x="653" y="1035"/>
                  </a:lnTo>
                  <a:lnTo>
                    <a:pt x="643" y="1016"/>
                  </a:lnTo>
                  <a:lnTo>
                    <a:pt x="639" y="1008"/>
                  </a:lnTo>
                  <a:lnTo>
                    <a:pt x="636" y="1001"/>
                  </a:lnTo>
                  <a:lnTo>
                    <a:pt x="632" y="993"/>
                  </a:lnTo>
                  <a:lnTo>
                    <a:pt x="629" y="985"/>
                  </a:lnTo>
                  <a:lnTo>
                    <a:pt x="619" y="995"/>
                  </a:lnTo>
                  <a:lnTo>
                    <a:pt x="609" y="1004"/>
                  </a:lnTo>
                  <a:lnTo>
                    <a:pt x="598" y="1012"/>
                  </a:lnTo>
                  <a:lnTo>
                    <a:pt x="588" y="1018"/>
                  </a:lnTo>
                  <a:lnTo>
                    <a:pt x="575" y="1024"/>
                  </a:lnTo>
                  <a:lnTo>
                    <a:pt x="564" y="1028"/>
                  </a:lnTo>
                  <a:lnTo>
                    <a:pt x="557" y="1029"/>
                  </a:lnTo>
                  <a:lnTo>
                    <a:pt x="550" y="1030"/>
                  </a:lnTo>
                  <a:lnTo>
                    <a:pt x="543" y="1030"/>
                  </a:lnTo>
                  <a:lnTo>
                    <a:pt x="537" y="1029"/>
                  </a:lnTo>
                  <a:lnTo>
                    <a:pt x="533" y="1036"/>
                  </a:lnTo>
                  <a:lnTo>
                    <a:pt x="529" y="1044"/>
                  </a:lnTo>
                  <a:lnTo>
                    <a:pt x="523" y="1050"/>
                  </a:lnTo>
                  <a:lnTo>
                    <a:pt x="518" y="1057"/>
                  </a:lnTo>
                  <a:lnTo>
                    <a:pt x="507" y="1069"/>
                  </a:lnTo>
                  <a:lnTo>
                    <a:pt x="495" y="1080"/>
                  </a:lnTo>
                  <a:lnTo>
                    <a:pt x="499" y="1085"/>
                  </a:lnTo>
                  <a:lnTo>
                    <a:pt x="497" y="1088"/>
                  </a:lnTo>
                  <a:lnTo>
                    <a:pt x="499" y="1103"/>
                  </a:lnTo>
                  <a:lnTo>
                    <a:pt x="502" y="1119"/>
                  </a:lnTo>
                  <a:lnTo>
                    <a:pt x="507" y="1133"/>
                  </a:lnTo>
                  <a:lnTo>
                    <a:pt x="513" y="1148"/>
                  </a:lnTo>
                  <a:lnTo>
                    <a:pt x="519" y="1161"/>
                  </a:lnTo>
                  <a:lnTo>
                    <a:pt x="526" y="1174"/>
                  </a:lnTo>
                  <a:lnTo>
                    <a:pt x="534" y="1186"/>
                  </a:lnTo>
                  <a:lnTo>
                    <a:pt x="544" y="1198"/>
                  </a:lnTo>
                  <a:lnTo>
                    <a:pt x="544" y="1203"/>
                  </a:lnTo>
                  <a:lnTo>
                    <a:pt x="546" y="1206"/>
                  </a:lnTo>
                  <a:lnTo>
                    <a:pt x="548" y="1210"/>
                  </a:lnTo>
                  <a:lnTo>
                    <a:pt x="550" y="1213"/>
                  </a:lnTo>
                  <a:lnTo>
                    <a:pt x="554" y="1213"/>
                  </a:lnTo>
                  <a:lnTo>
                    <a:pt x="558" y="1213"/>
                  </a:lnTo>
                  <a:lnTo>
                    <a:pt x="562" y="1213"/>
                  </a:lnTo>
                  <a:lnTo>
                    <a:pt x="567" y="1213"/>
                  </a:lnTo>
                  <a:lnTo>
                    <a:pt x="575" y="1212"/>
                  </a:lnTo>
                  <a:lnTo>
                    <a:pt x="583" y="1210"/>
                  </a:lnTo>
                  <a:lnTo>
                    <a:pt x="587" y="1210"/>
                  </a:lnTo>
                  <a:lnTo>
                    <a:pt x="591" y="1210"/>
                  </a:lnTo>
                  <a:lnTo>
                    <a:pt x="594" y="1210"/>
                  </a:lnTo>
                  <a:lnTo>
                    <a:pt x="597" y="1212"/>
                  </a:lnTo>
                  <a:lnTo>
                    <a:pt x="601" y="1213"/>
                  </a:lnTo>
                  <a:lnTo>
                    <a:pt x="603" y="1216"/>
                  </a:lnTo>
                  <a:lnTo>
                    <a:pt x="605" y="1220"/>
                  </a:lnTo>
                  <a:lnTo>
                    <a:pt x="608" y="1226"/>
                  </a:lnTo>
                  <a:lnTo>
                    <a:pt x="613" y="1239"/>
                  </a:lnTo>
                  <a:lnTo>
                    <a:pt x="618" y="1253"/>
                  </a:lnTo>
                  <a:lnTo>
                    <a:pt x="624" y="1267"/>
                  </a:lnTo>
                  <a:lnTo>
                    <a:pt x="628" y="1282"/>
                  </a:lnTo>
                  <a:lnTo>
                    <a:pt x="629" y="1289"/>
                  </a:lnTo>
                  <a:lnTo>
                    <a:pt x="631" y="1296"/>
                  </a:lnTo>
                  <a:lnTo>
                    <a:pt x="631" y="1303"/>
                  </a:lnTo>
                  <a:lnTo>
                    <a:pt x="631" y="1311"/>
                  </a:lnTo>
                  <a:lnTo>
                    <a:pt x="629" y="1317"/>
                  </a:lnTo>
                  <a:lnTo>
                    <a:pt x="628" y="1325"/>
                  </a:lnTo>
                  <a:lnTo>
                    <a:pt x="624" y="1331"/>
                  </a:lnTo>
                  <a:lnTo>
                    <a:pt x="621" y="1338"/>
                  </a:lnTo>
                  <a:lnTo>
                    <a:pt x="613" y="1344"/>
                  </a:lnTo>
                  <a:lnTo>
                    <a:pt x="606" y="1347"/>
                  </a:lnTo>
                  <a:lnTo>
                    <a:pt x="602" y="1349"/>
                  </a:lnTo>
                  <a:lnTo>
                    <a:pt x="597" y="1350"/>
                  </a:lnTo>
                  <a:lnTo>
                    <a:pt x="594" y="1351"/>
                  </a:lnTo>
                  <a:lnTo>
                    <a:pt x="589" y="1351"/>
                  </a:lnTo>
                  <a:lnTo>
                    <a:pt x="587" y="1356"/>
                  </a:lnTo>
                  <a:lnTo>
                    <a:pt x="584" y="1359"/>
                  </a:lnTo>
                  <a:lnTo>
                    <a:pt x="581" y="1363"/>
                  </a:lnTo>
                  <a:lnTo>
                    <a:pt x="576" y="1366"/>
                  </a:lnTo>
                  <a:lnTo>
                    <a:pt x="567" y="1371"/>
                  </a:lnTo>
                  <a:lnTo>
                    <a:pt x="558" y="1374"/>
                  </a:lnTo>
                  <a:lnTo>
                    <a:pt x="553" y="1373"/>
                  </a:lnTo>
                  <a:lnTo>
                    <a:pt x="548" y="1373"/>
                  </a:lnTo>
                  <a:lnTo>
                    <a:pt x="542" y="1374"/>
                  </a:lnTo>
                  <a:lnTo>
                    <a:pt x="537" y="1375"/>
                  </a:lnTo>
                  <a:lnTo>
                    <a:pt x="532" y="1376"/>
                  </a:lnTo>
                  <a:lnTo>
                    <a:pt x="526" y="1378"/>
                  </a:lnTo>
                  <a:lnTo>
                    <a:pt x="521" y="1378"/>
                  </a:lnTo>
                  <a:lnTo>
                    <a:pt x="515" y="1376"/>
                  </a:lnTo>
                  <a:lnTo>
                    <a:pt x="513" y="1374"/>
                  </a:lnTo>
                  <a:lnTo>
                    <a:pt x="510" y="1378"/>
                  </a:lnTo>
                  <a:lnTo>
                    <a:pt x="506" y="1380"/>
                  </a:lnTo>
                  <a:lnTo>
                    <a:pt x="502" y="1382"/>
                  </a:lnTo>
                  <a:lnTo>
                    <a:pt x="498" y="1384"/>
                  </a:lnTo>
                  <a:lnTo>
                    <a:pt x="489" y="1386"/>
                  </a:lnTo>
                  <a:lnTo>
                    <a:pt x="480" y="1386"/>
                  </a:lnTo>
                  <a:lnTo>
                    <a:pt x="461" y="1385"/>
                  </a:lnTo>
                  <a:lnTo>
                    <a:pt x="444" y="1385"/>
                  </a:lnTo>
                  <a:lnTo>
                    <a:pt x="439" y="1387"/>
                  </a:lnTo>
                  <a:lnTo>
                    <a:pt x="434" y="1388"/>
                  </a:lnTo>
                  <a:lnTo>
                    <a:pt x="429" y="1387"/>
                  </a:lnTo>
                  <a:lnTo>
                    <a:pt x="424" y="1387"/>
                  </a:lnTo>
                  <a:lnTo>
                    <a:pt x="420" y="1386"/>
                  </a:lnTo>
                  <a:lnTo>
                    <a:pt x="416" y="1386"/>
                  </a:lnTo>
                  <a:lnTo>
                    <a:pt x="412" y="1388"/>
                  </a:lnTo>
                  <a:lnTo>
                    <a:pt x="407" y="1392"/>
                  </a:lnTo>
                  <a:lnTo>
                    <a:pt x="399" y="1393"/>
                  </a:lnTo>
                  <a:lnTo>
                    <a:pt x="391" y="1395"/>
                  </a:lnTo>
                  <a:lnTo>
                    <a:pt x="386" y="1395"/>
                  </a:lnTo>
                  <a:lnTo>
                    <a:pt x="383" y="1397"/>
                  </a:lnTo>
                  <a:lnTo>
                    <a:pt x="378" y="1399"/>
                  </a:lnTo>
                  <a:lnTo>
                    <a:pt x="375" y="1402"/>
                  </a:lnTo>
                  <a:lnTo>
                    <a:pt x="369" y="1405"/>
                  </a:lnTo>
                  <a:lnTo>
                    <a:pt x="363" y="1407"/>
                  </a:lnTo>
                  <a:lnTo>
                    <a:pt x="356" y="1407"/>
                  </a:lnTo>
                  <a:lnTo>
                    <a:pt x="351" y="1407"/>
                  </a:lnTo>
                  <a:lnTo>
                    <a:pt x="343" y="1407"/>
                  </a:lnTo>
                  <a:lnTo>
                    <a:pt x="337" y="1409"/>
                  </a:lnTo>
                  <a:lnTo>
                    <a:pt x="331" y="1411"/>
                  </a:lnTo>
                  <a:lnTo>
                    <a:pt x="324" y="1414"/>
                  </a:lnTo>
                  <a:lnTo>
                    <a:pt x="303" y="1414"/>
                  </a:lnTo>
                  <a:lnTo>
                    <a:pt x="283" y="1414"/>
                  </a:lnTo>
                  <a:lnTo>
                    <a:pt x="272" y="1414"/>
                  </a:lnTo>
                  <a:lnTo>
                    <a:pt x="262" y="1414"/>
                  </a:lnTo>
                  <a:lnTo>
                    <a:pt x="251" y="1415"/>
                  </a:lnTo>
                  <a:lnTo>
                    <a:pt x="240" y="1416"/>
                  </a:lnTo>
                  <a:lnTo>
                    <a:pt x="222" y="1414"/>
                  </a:lnTo>
                  <a:lnTo>
                    <a:pt x="204" y="1412"/>
                  </a:lnTo>
                  <a:lnTo>
                    <a:pt x="194" y="1409"/>
                  </a:lnTo>
                  <a:lnTo>
                    <a:pt x="186" y="1406"/>
                  </a:lnTo>
                  <a:lnTo>
                    <a:pt x="178" y="1401"/>
                  </a:lnTo>
                  <a:lnTo>
                    <a:pt x="171" y="1395"/>
                  </a:lnTo>
                  <a:lnTo>
                    <a:pt x="167" y="1385"/>
                  </a:lnTo>
                  <a:lnTo>
                    <a:pt x="167" y="1375"/>
                  </a:lnTo>
                  <a:lnTo>
                    <a:pt x="166" y="1364"/>
                  </a:lnTo>
                  <a:lnTo>
                    <a:pt x="167" y="1354"/>
                  </a:lnTo>
                  <a:lnTo>
                    <a:pt x="176" y="1326"/>
                  </a:lnTo>
                  <a:lnTo>
                    <a:pt x="166" y="1313"/>
                  </a:lnTo>
                  <a:lnTo>
                    <a:pt x="153" y="1300"/>
                  </a:lnTo>
                  <a:lnTo>
                    <a:pt x="151" y="1302"/>
                  </a:lnTo>
                  <a:lnTo>
                    <a:pt x="149" y="1304"/>
                  </a:lnTo>
                  <a:lnTo>
                    <a:pt x="146" y="1305"/>
                  </a:lnTo>
                  <a:lnTo>
                    <a:pt x="143" y="1305"/>
                  </a:lnTo>
                  <a:lnTo>
                    <a:pt x="138" y="1305"/>
                  </a:lnTo>
                  <a:lnTo>
                    <a:pt x="132" y="1304"/>
                  </a:lnTo>
                  <a:lnTo>
                    <a:pt x="117" y="1299"/>
                  </a:lnTo>
                  <a:lnTo>
                    <a:pt x="101" y="1293"/>
                  </a:lnTo>
                  <a:lnTo>
                    <a:pt x="86" y="1285"/>
                  </a:lnTo>
                  <a:lnTo>
                    <a:pt x="70" y="1275"/>
                  </a:lnTo>
                  <a:lnTo>
                    <a:pt x="64" y="1270"/>
                  </a:lnTo>
                  <a:lnTo>
                    <a:pt x="57" y="1265"/>
                  </a:lnTo>
                  <a:lnTo>
                    <a:pt x="51" y="1258"/>
                  </a:lnTo>
                  <a:lnTo>
                    <a:pt x="45" y="1251"/>
                  </a:lnTo>
                  <a:lnTo>
                    <a:pt x="40" y="1244"/>
                  </a:lnTo>
                  <a:lnTo>
                    <a:pt x="35" y="1237"/>
                  </a:lnTo>
                  <a:lnTo>
                    <a:pt x="29" y="1229"/>
                  </a:lnTo>
                  <a:lnTo>
                    <a:pt x="26" y="1221"/>
                  </a:lnTo>
                  <a:lnTo>
                    <a:pt x="18" y="1200"/>
                  </a:lnTo>
                  <a:lnTo>
                    <a:pt x="12" y="1179"/>
                  </a:lnTo>
                  <a:lnTo>
                    <a:pt x="7" y="1160"/>
                  </a:lnTo>
                  <a:lnTo>
                    <a:pt x="0" y="1139"/>
                  </a:lnTo>
                  <a:lnTo>
                    <a:pt x="1" y="1136"/>
                  </a:lnTo>
                  <a:lnTo>
                    <a:pt x="3" y="1134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8680" y="5219640"/>
              <a:ext cx="1389240" cy="297000"/>
            </a:xfrm>
            <a:custGeom>
              <a:avLst/>
              <a:gdLst/>
              <a:ahLst/>
              <a:rect l="l" t="t" r="r" b="b"/>
              <a:pathLst>
                <a:path w="875" h="187">
                  <a:moveTo>
                    <a:pt x="35" y="52"/>
                  </a:moveTo>
                  <a:lnTo>
                    <a:pt x="46" y="49"/>
                  </a:lnTo>
                  <a:lnTo>
                    <a:pt x="57" y="47"/>
                  </a:lnTo>
                  <a:lnTo>
                    <a:pt x="68" y="46"/>
                  </a:lnTo>
                  <a:lnTo>
                    <a:pt x="78" y="45"/>
                  </a:lnTo>
                  <a:lnTo>
                    <a:pt x="89" y="46"/>
                  </a:lnTo>
                  <a:lnTo>
                    <a:pt x="100" y="47"/>
                  </a:lnTo>
                  <a:lnTo>
                    <a:pt x="111" y="49"/>
                  </a:lnTo>
                  <a:lnTo>
                    <a:pt x="122" y="51"/>
                  </a:lnTo>
                  <a:lnTo>
                    <a:pt x="144" y="57"/>
                  </a:lnTo>
                  <a:lnTo>
                    <a:pt x="166" y="62"/>
                  </a:lnTo>
                  <a:lnTo>
                    <a:pt x="187" y="67"/>
                  </a:lnTo>
                  <a:lnTo>
                    <a:pt x="209" y="71"/>
                  </a:lnTo>
                  <a:lnTo>
                    <a:pt x="238" y="74"/>
                  </a:lnTo>
                  <a:lnTo>
                    <a:pt x="267" y="76"/>
                  </a:lnTo>
                  <a:lnTo>
                    <a:pt x="297" y="78"/>
                  </a:lnTo>
                  <a:lnTo>
                    <a:pt x="326" y="79"/>
                  </a:lnTo>
                  <a:lnTo>
                    <a:pt x="355" y="79"/>
                  </a:lnTo>
                  <a:lnTo>
                    <a:pt x="385" y="80"/>
                  </a:lnTo>
                  <a:lnTo>
                    <a:pt x="414" y="80"/>
                  </a:lnTo>
                  <a:lnTo>
                    <a:pt x="443" y="82"/>
                  </a:lnTo>
                  <a:lnTo>
                    <a:pt x="459" y="81"/>
                  </a:lnTo>
                  <a:lnTo>
                    <a:pt x="474" y="79"/>
                  </a:lnTo>
                  <a:lnTo>
                    <a:pt x="489" y="76"/>
                  </a:lnTo>
                  <a:lnTo>
                    <a:pt x="505" y="73"/>
                  </a:lnTo>
                  <a:lnTo>
                    <a:pt x="522" y="71"/>
                  </a:lnTo>
                  <a:lnTo>
                    <a:pt x="537" y="69"/>
                  </a:lnTo>
                  <a:lnTo>
                    <a:pt x="554" y="68"/>
                  </a:lnTo>
                  <a:lnTo>
                    <a:pt x="571" y="68"/>
                  </a:lnTo>
                  <a:lnTo>
                    <a:pt x="595" y="61"/>
                  </a:lnTo>
                  <a:lnTo>
                    <a:pt x="619" y="54"/>
                  </a:lnTo>
                  <a:lnTo>
                    <a:pt x="644" y="47"/>
                  </a:lnTo>
                  <a:lnTo>
                    <a:pt x="668" y="40"/>
                  </a:lnTo>
                  <a:lnTo>
                    <a:pt x="692" y="32"/>
                  </a:lnTo>
                  <a:lnTo>
                    <a:pt x="718" y="24"/>
                  </a:lnTo>
                  <a:lnTo>
                    <a:pt x="742" y="18"/>
                  </a:lnTo>
                  <a:lnTo>
                    <a:pt x="768" y="11"/>
                  </a:lnTo>
                  <a:lnTo>
                    <a:pt x="792" y="5"/>
                  </a:lnTo>
                  <a:lnTo>
                    <a:pt x="817" y="2"/>
                  </a:lnTo>
                  <a:lnTo>
                    <a:pt x="830" y="0"/>
                  </a:lnTo>
                  <a:lnTo>
                    <a:pt x="842" y="1"/>
                  </a:lnTo>
                  <a:lnTo>
                    <a:pt x="849" y="2"/>
                  </a:lnTo>
                  <a:lnTo>
                    <a:pt x="855" y="2"/>
                  </a:lnTo>
                  <a:lnTo>
                    <a:pt x="862" y="4"/>
                  </a:lnTo>
                  <a:lnTo>
                    <a:pt x="868" y="6"/>
                  </a:lnTo>
                  <a:lnTo>
                    <a:pt x="870" y="9"/>
                  </a:lnTo>
                  <a:lnTo>
                    <a:pt x="872" y="12"/>
                  </a:lnTo>
                  <a:lnTo>
                    <a:pt x="873" y="15"/>
                  </a:lnTo>
                  <a:lnTo>
                    <a:pt x="874" y="19"/>
                  </a:lnTo>
                  <a:lnTo>
                    <a:pt x="874" y="25"/>
                  </a:lnTo>
                  <a:lnTo>
                    <a:pt x="872" y="32"/>
                  </a:lnTo>
                  <a:lnTo>
                    <a:pt x="864" y="44"/>
                  </a:lnTo>
                  <a:lnTo>
                    <a:pt x="855" y="54"/>
                  </a:lnTo>
                  <a:lnTo>
                    <a:pt x="846" y="63"/>
                  </a:lnTo>
                  <a:lnTo>
                    <a:pt x="836" y="71"/>
                  </a:lnTo>
                  <a:lnTo>
                    <a:pt x="815" y="86"/>
                  </a:lnTo>
                  <a:lnTo>
                    <a:pt x="794" y="99"/>
                  </a:lnTo>
                  <a:lnTo>
                    <a:pt x="772" y="112"/>
                  </a:lnTo>
                  <a:lnTo>
                    <a:pt x="750" y="124"/>
                  </a:lnTo>
                  <a:lnTo>
                    <a:pt x="728" y="136"/>
                  </a:lnTo>
                  <a:lnTo>
                    <a:pt x="706" y="147"/>
                  </a:lnTo>
                  <a:lnTo>
                    <a:pt x="683" y="157"/>
                  </a:lnTo>
                  <a:lnTo>
                    <a:pt x="660" y="167"/>
                  </a:lnTo>
                  <a:lnTo>
                    <a:pt x="653" y="168"/>
                  </a:lnTo>
                  <a:lnTo>
                    <a:pt x="646" y="170"/>
                  </a:lnTo>
                  <a:lnTo>
                    <a:pt x="639" y="173"/>
                  </a:lnTo>
                  <a:lnTo>
                    <a:pt x="633" y="174"/>
                  </a:lnTo>
                  <a:lnTo>
                    <a:pt x="627" y="164"/>
                  </a:lnTo>
                  <a:lnTo>
                    <a:pt x="621" y="153"/>
                  </a:lnTo>
                  <a:lnTo>
                    <a:pt x="615" y="141"/>
                  </a:lnTo>
                  <a:lnTo>
                    <a:pt x="611" y="129"/>
                  </a:lnTo>
                  <a:lnTo>
                    <a:pt x="633" y="121"/>
                  </a:lnTo>
                  <a:lnTo>
                    <a:pt x="657" y="112"/>
                  </a:lnTo>
                  <a:lnTo>
                    <a:pt x="680" y="103"/>
                  </a:lnTo>
                  <a:lnTo>
                    <a:pt x="704" y="95"/>
                  </a:lnTo>
                  <a:lnTo>
                    <a:pt x="727" y="84"/>
                  </a:lnTo>
                  <a:lnTo>
                    <a:pt x="750" y="73"/>
                  </a:lnTo>
                  <a:lnTo>
                    <a:pt x="760" y="67"/>
                  </a:lnTo>
                  <a:lnTo>
                    <a:pt x="772" y="60"/>
                  </a:lnTo>
                  <a:lnTo>
                    <a:pt x="783" y="54"/>
                  </a:lnTo>
                  <a:lnTo>
                    <a:pt x="794" y="46"/>
                  </a:lnTo>
                  <a:lnTo>
                    <a:pt x="795" y="43"/>
                  </a:lnTo>
                  <a:lnTo>
                    <a:pt x="794" y="40"/>
                  </a:lnTo>
                  <a:lnTo>
                    <a:pt x="793" y="38"/>
                  </a:lnTo>
                  <a:lnTo>
                    <a:pt x="792" y="35"/>
                  </a:lnTo>
                  <a:lnTo>
                    <a:pt x="767" y="49"/>
                  </a:lnTo>
                  <a:lnTo>
                    <a:pt x="742" y="62"/>
                  </a:lnTo>
                  <a:lnTo>
                    <a:pt x="729" y="69"/>
                  </a:lnTo>
                  <a:lnTo>
                    <a:pt x="717" y="76"/>
                  </a:lnTo>
                  <a:lnTo>
                    <a:pt x="704" y="80"/>
                  </a:lnTo>
                  <a:lnTo>
                    <a:pt x="691" y="85"/>
                  </a:lnTo>
                  <a:lnTo>
                    <a:pt x="663" y="97"/>
                  </a:lnTo>
                  <a:lnTo>
                    <a:pt x="634" y="107"/>
                  </a:lnTo>
                  <a:lnTo>
                    <a:pt x="605" y="116"/>
                  </a:lnTo>
                  <a:lnTo>
                    <a:pt x="576" y="124"/>
                  </a:lnTo>
                  <a:lnTo>
                    <a:pt x="546" y="130"/>
                  </a:lnTo>
                  <a:lnTo>
                    <a:pt x="516" y="136"/>
                  </a:lnTo>
                  <a:lnTo>
                    <a:pt x="485" y="138"/>
                  </a:lnTo>
                  <a:lnTo>
                    <a:pt x="454" y="140"/>
                  </a:lnTo>
                  <a:lnTo>
                    <a:pt x="440" y="143"/>
                  </a:lnTo>
                  <a:lnTo>
                    <a:pt x="425" y="145"/>
                  </a:lnTo>
                  <a:lnTo>
                    <a:pt x="411" y="145"/>
                  </a:lnTo>
                  <a:lnTo>
                    <a:pt x="396" y="145"/>
                  </a:lnTo>
                  <a:lnTo>
                    <a:pt x="367" y="143"/>
                  </a:lnTo>
                  <a:lnTo>
                    <a:pt x="338" y="140"/>
                  </a:lnTo>
                  <a:lnTo>
                    <a:pt x="308" y="138"/>
                  </a:lnTo>
                  <a:lnTo>
                    <a:pt x="279" y="134"/>
                  </a:lnTo>
                  <a:lnTo>
                    <a:pt x="249" y="131"/>
                  </a:lnTo>
                  <a:lnTo>
                    <a:pt x="221" y="128"/>
                  </a:lnTo>
                  <a:lnTo>
                    <a:pt x="190" y="123"/>
                  </a:lnTo>
                  <a:lnTo>
                    <a:pt x="160" y="117"/>
                  </a:lnTo>
                  <a:lnTo>
                    <a:pt x="147" y="114"/>
                  </a:lnTo>
                  <a:lnTo>
                    <a:pt x="132" y="109"/>
                  </a:lnTo>
                  <a:lnTo>
                    <a:pt x="118" y="104"/>
                  </a:lnTo>
                  <a:lnTo>
                    <a:pt x="105" y="97"/>
                  </a:lnTo>
                  <a:lnTo>
                    <a:pt x="101" y="98"/>
                  </a:lnTo>
                  <a:lnTo>
                    <a:pt x="98" y="101"/>
                  </a:lnTo>
                  <a:lnTo>
                    <a:pt x="98" y="103"/>
                  </a:lnTo>
                  <a:lnTo>
                    <a:pt x="97" y="105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104" y="114"/>
                  </a:lnTo>
                  <a:lnTo>
                    <a:pt x="110" y="118"/>
                  </a:lnTo>
                  <a:lnTo>
                    <a:pt x="117" y="121"/>
                  </a:lnTo>
                  <a:lnTo>
                    <a:pt x="123" y="124"/>
                  </a:lnTo>
                  <a:lnTo>
                    <a:pt x="138" y="126"/>
                  </a:lnTo>
                  <a:lnTo>
                    <a:pt x="152" y="130"/>
                  </a:lnTo>
                  <a:lnTo>
                    <a:pt x="178" y="135"/>
                  </a:lnTo>
                  <a:lnTo>
                    <a:pt x="204" y="141"/>
                  </a:lnTo>
                  <a:lnTo>
                    <a:pt x="217" y="143"/>
                  </a:lnTo>
                  <a:lnTo>
                    <a:pt x="231" y="146"/>
                  </a:lnTo>
                  <a:lnTo>
                    <a:pt x="245" y="147"/>
                  </a:lnTo>
                  <a:lnTo>
                    <a:pt x="259" y="148"/>
                  </a:lnTo>
                  <a:lnTo>
                    <a:pt x="257" y="150"/>
                  </a:lnTo>
                  <a:lnTo>
                    <a:pt x="254" y="152"/>
                  </a:lnTo>
                  <a:lnTo>
                    <a:pt x="252" y="155"/>
                  </a:lnTo>
                  <a:lnTo>
                    <a:pt x="252" y="157"/>
                  </a:lnTo>
                  <a:lnTo>
                    <a:pt x="249" y="165"/>
                  </a:lnTo>
                  <a:lnTo>
                    <a:pt x="247" y="171"/>
                  </a:lnTo>
                  <a:lnTo>
                    <a:pt x="239" y="186"/>
                  </a:lnTo>
                  <a:lnTo>
                    <a:pt x="172" y="184"/>
                  </a:lnTo>
                  <a:lnTo>
                    <a:pt x="152" y="177"/>
                  </a:lnTo>
                  <a:lnTo>
                    <a:pt x="131" y="171"/>
                  </a:lnTo>
                  <a:lnTo>
                    <a:pt x="111" y="164"/>
                  </a:lnTo>
                  <a:lnTo>
                    <a:pt x="91" y="157"/>
                  </a:lnTo>
                  <a:lnTo>
                    <a:pt x="71" y="148"/>
                  </a:lnTo>
                  <a:lnTo>
                    <a:pt x="53" y="138"/>
                  </a:lnTo>
                  <a:lnTo>
                    <a:pt x="44" y="132"/>
                  </a:lnTo>
                  <a:lnTo>
                    <a:pt x="36" y="126"/>
                  </a:lnTo>
                  <a:lnTo>
                    <a:pt x="27" y="119"/>
                  </a:lnTo>
                  <a:lnTo>
                    <a:pt x="19" y="111"/>
                  </a:lnTo>
                  <a:lnTo>
                    <a:pt x="17" y="109"/>
                  </a:lnTo>
                  <a:lnTo>
                    <a:pt x="14" y="107"/>
                  </a:lnTo>
                  <a:lnTo>
                    <a:pt x="10" y="105"/>
                  </a:lnTo>
                  <a:lnTo>
                    <a:pt x="7" y="101"/>
                  </a:lnTo>
                  <a:lnTo>
                    <a:pt x="3" y="92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12" y="63"/>
                  </a:lnTo>
                  <a:lnTo>
                    <a:pt x="25" y="57"/>
                  </a:lnTo>
                  <a:lnTo>
                    <a:pt x="35" y="52"/>
                  </a:lnTo>
                </a:path>
              </a:pathLst>
            </a:custGeom>
            <a:solidFill>
              <a:srgbClr val="ec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947880" y="4130640"/>
              <a:ext cx="982440" cy="2211480"/>
              <a:chOff x="947880" y="4130640"/>
              <a:chExt cx="982440" cy="2211480"/>
            </a:xfrm>
          </p:grpSpPr>
          <p:sp>
            <p:nvSpPr>
              <p:cNvPr id="50" name=""/>
              <p:cNvSpPr/>
              <p:nvPr/>
            </p:nvSpPr>
            <p:spPr>
              <a:xfrm>
                <a:off x="947880" y="5981760"/>
                <a:ext cx="217440" cy="183960"/>
              </a:xfrm>
              <a:custGeom>
                <a:avLst/>
                <a:gdLst/>
                <a:ahLst/>
                <a:rect l="l" t="t" r="r" b="b"/>
                <a:pathLst>
                  <a:path w="137" h="116">
                    <a:moveTo>
                      <a:pt x="136" y="65"/>
                    </a:moveTo>
                    <a:lnTo>
                      <a:pt x="133" y="71"/>
                    </a:lnTo>
                    <a:lnTo>
                      <a:pt x="132" y="77"/>
                    </a:lnTo>
                    <a:lnTo>
                      <a:pt x="130" y="83"/>
                    </a:lnTo>
                    <a:lnTo>
                      <a:pt x="129" y="89"/>
                    </a:lnTo>
                    <a:lnTo>
                      <a:pt x="128" y="101"/>
                    </a:lnTo>
                    <a:lnTo>
                      <a:pt x="128" y="114"/>
                    </a:lnTo>
                    <a:lnTo>
                      <a:pt x="121" y="115"/>
                    </a:lnTo>
                    <a:lnTo>
                      <a:pt x="115" y="115"/>
                    </a:lnTo>
                    <a:lnTo>
                      <a:pt x="109" y="114"/>
                    </a:lnTo>
                    <a:lnTo>
                      <a:pt x="103" y="113"/>
                    </a:lnTo>
                    <a:lnTo>
                      <a:pt x="92" y="110"/>
                    </a:lnTo>
                    <a:lnTo>
                      <a:pt x="79" y="105"/>
                    </a:lnTo>
                    <a:lnTo>
                      <a:pt x="69" y="98"/>
                    </a:lnTo>
                    <a:lnTo>
                      <a:pt x="58" y="91"/>
                    </a:lnTo>
                    <a:lnTo>
                      <a:pt x="48" y="83"/>
                    </a:lnTo>
                    <a:lnTo>
                      <a:pt x="38" y="75"/>
                    </a:lnTo>
                    <a:lnTo>
                      <a:pt x="31" y="67"/>
                    </a:lnTo>
                    <a:lnTo>
                      <a:pt x="25" y="58"/>
                    </a:lnTo>
                    <a:lnTo>
                      <a:pt x="19" y="49"/>
                    </a:lnTo>
                    <a:lnTo>
                      <a:pt x="15" y="41"/>
                    </a:lnTo>
                    <a:lnTo>
                      <a:pt x="11" y="30"/>
                    </a:lnTo>
                    <a:lnTo>
                      <a:pt x="7" y="21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5" y="15"/>
                    </a:lnTo>
                    <a:lnTo>
                      <a:pt x="30" y="29"/>
                    </a:lnTo>
                    <a:lnTo>
                      <a:pt x="38" y="35"/>
                    </a:lnTo>
                    <a:lnTo>
                      <a:pt x="45" y="41"/>
                    </a:lnTo>
                    <a:lnTo>
                      <a:pt x="54" y="46"/>
                    </a:lnTo>
                    <a:lnTo>
                      <a:pt x="62" y="51"/>
                    </a:lnTo>
                    <a:lnTo>
                      <a:pt x="71" y="55"/>
                    </a:lnTo>
                    <a:lnTo>
                      <a:pt x="80" y="58"/>
                    </a:lnTo>
                    <a:lnTo>
                      <a:pt x="89" y="61"/>
                    </a:lnTo>
                    <a:lnTo>
                      <a:pt x="97" y="64"/>
                    </a:lnTo>
                    <a:lnTo>
                      <a:pt x="107" y="65"/>
                    </a:lnTo>
                    <a:lnTo>
                      <a:pt x="117" y="66"/>
                    </a:lnTo>
                    <a:lnTo>
                      <a:pt x="126" y="66"/>
                    </a:lnTo>
                    <a:lnTo>
                      <a:pt x="136" y="65"/>
                    </a:lnTo>
                  </a:path>
                </a:pathLst>
              </a:cu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66760" y="5940360"/>
                <a:ext cx="362160" cy="401760"/>
              </a:xfrm>
              <a:custGeom>
                <a:avLst/>
                <a:gdLst/>
                <a:ahLst/>
                <a:rect l="l" t="t" r="r" b="b"/>
                <a:pathLst>
                  <a:path w="228" h="253">
                    <a:moveTo>
                      <a:pt x="44" y="52"/>
                    </a:moveTo>
                    <a:lnTo>
                      <a:pt x="51" y="46"/>
                    </a:lnTo>
                    <a:lnTo>
                      <a:pt x="57" y="41"/>
                    </a:lnTo>
                    <a:lnTo>
                      <a:pt x="64" y="35"/>
                    </a:lnTo>
                    <a:lnTo>
                      <a:pt x="70" y="30"/>
                    </a:lnTo>
                    <a:lnTo>
                      <a:pt x="84" y="23"/>
                    </a:lnTo>
                    <a:lnTo>
                      <a:pt x="99" y="15"/>
                    </a:lnTo>
                    <a:lnTo>
                      <a:pt x="111" y="12"/>
                    </a:lnTo>
                    <a:lnTo>
                      <a:pt x="123" y="8"/>
                    </a:lnTo>
                    <a:lnTo>
                      <a:pt x="135" y="4"/>
                    </a:lnTo>
                    <a:lnTo>
                      <a:pt x="147" y="0"/>
                    </a:lnTo>
                    <a:lnTo>
                      <a:pt x="151" y="1"/>
                    </a:lnTo>
                    <a:lnTo>
                      <a:pt x="155" y="4"/>
                    </a:lnTo>
                    <a:lnTo>
                      <a:pt x="159" y="6"/>
                    </a:lnTo>
                    <a:lnTo>
                      <a:pt x="162" y="10"/>
                    </a:lnTo>
                    <a:lnTo>
                      <a:pt x="168" y="16"/>
                    </a:lnTo>
                    <a:lnTo>
                      <a:pt x="176" y="24"/>
                    </a:lnTo>
                    <a:lnTo>
                      <a:pt x="182" y="34"/>
                    </a:lnTo>
                    <a:lnTo>
                      <a:pt x="187" y="44"/>
                    </a:lnTo>
                    <a:lnTo>
                      <a:pt x="190" y="53"/>
                    </a:lnTo>
                    <a:lnTo>
                      <a:pt x="193" y="63"/>
                    </a:lnTo>
                    <a:lnTo>
                      <a:pt x="195" y="73"/>
                    </a:lnTo>
                    <a:lnTo>
                      <a:pt x="195" y="83"/>
                    </a:lnTo>
                    <a:lnTo>
                      <a:pt x="194" y="94"/>
                    </a:lnTo>
                    <a:lnTo>
                      <a:pt x="192" y="105"/>
                    </a:lnTo>
                    <a:lnTo>
                      <a:pt x="189" y="113"/>
                    </a:lnTo>
                    <a:lnTo>
                      <a:pt x="187" y="119"/>
                    </a:lnTo>
                    <a:lnTo>
                      <a:pt x="184" y="125"/>
                    </a:lnTo>
                    <a:lnTo>
                      <a:pt x="181" y="131"/>
                    </a:lnTo>
                    <a:lnTo>
                      <a:pt x="176" y="137"/>
                    </a:lnTo>
                    <a:lnTo>
                      <a:pt x="171" y="142"/>
                    </a:lnTo>
                    <a:lnTo>
                      <a:pt x="167" y="147"/>
                    </a:lnTo>
                    <a:lnTo>
                      <a:pt x="162" y="152"/>
                    </a:lnTo>
                    <a:lnTo>
                      <a:pt x="138" y="169"/>
                    </a:lnTo>
                    <a:lnTo>
                      <a:pt x="115" y="184"/>
                    </a:lnTo>
                    <a:lnTo>
                      <a:pt x="116" y="185"/>
                    </a:lnTo>
                    <a:lnTo>
                      <a:pt x="117" y="185"/>
                    </a:lnTo>
                    <a:lnTo>
                      <a:pt x="117" y="187"/>
                    </a:lnTo>
                    <a:lnTo>
                      <a:pt x="124" y="187"/>
                    </a:lnTo>
                    <a:lnTo>
                      <a:pt x="130" y="185"/>
                    </a:lnTo>
                    <a:lnTo>
                      <a:pt x="136" y="182"/>
                    </a:lnTo>
                    <a:lnTo>
                      <a:pt x="143" y="178"/>
                    </a:lnTo>
                    <a:lnTo>
                      <a:pt x="149" y="176"/>
                    </a:lnTo>
                    <a:lnTo>
                      <a:pt x="154" y="173"/>
                    </a:lnTo>
                    <a:lnTo>
                      <a:pt x="161" y="171"/>
                    </a:lnTo>
                    <a:lnTo>
                      <a:pt x="168" y="170"/>
                    </a:lnTo>
                    <a:lnTo>
                      <a:pt x="176" y="166"/>
                    </a:lnTo>
                    <a:lnTo>
                      <a:pt x="186" y="163"/>
                    </a:lnTo>
                    <a:lnTo>
                      <a:pt x="190" y="161"/>
                    </a:lnTo>
                    <a:lnTo>
                      <a:pt x="195" y="161"/>
                    </a:lnTo>
                    <a:lnTo>
                      <a:pt x="201" y="161"/>
                    </a:lnTo>
                    <a:lnTo>
                      <a:pt x="206" y="163"/>
                    </a:lnTo>
                    <a:lnTo>
                      <a:pt x="212" y="176"/>
                    </a:lnTo>
                    <a:lnTo>
                      <a:pt x="219" y="189"/>
                    </a:lnTo>
                    <a:lnTo>
                      <a:pt x="221" y="195"/>
                    </a:lnTo>
                    <a:lnTo>
                      <a:pt x="224" y="202"/>
                    </a:lnTo>
                    <a:lnTo>
                      <a:pt x="225" y="209"/>
                    </a:lnTo>
                    <a:lnTo>
                      <a:pt x="226" y="215"/>
                    </a:lnTo>
                    <a:lnTo>
                      <a:pt x="227" y="219"/>
                    </a:lnTo>
                    <a:lnTo>
                      <a:pt x="226" y="223"/>
                    </a:lnTo>
                    <a:lnTo>
                      <a:pt x="225" y="226"/>
                    </a:lnTo>
                    <a:lnTo>
                      <a:pt x="224" y="230"/>
                    </a:lnTo>
                    <a:lnTo>
                      <a:pt x="222" y="233"/>
                    </a:lnTo>
                    <a:lnTo>
                      <a:pt x="220" y="237"/>
                    </a:lnTo>
                    <a:lnTo>
                      <a:pt x="217" y="240"/>
                    </a:lnTo>
                    <a:lnTo>
                      <a:pt x="215" y="242"/>
                    </a:lnTo>
                    <a:lnTo>
                      <a:pt x="204" y="247"/>
                    </a:lnTo>
                    <a:lnTo>
                      <a:pt x="204" y="245"/>
                    </a:lnTo>
                    <a:lnTo>
                      <a:pt x="203" y="243"/>
                    </a:lnTo>
                    <a:lnTo>
                      <a:pt x="203" y="240"/>
                    </a:lnTo>
                    <a:lnTo>
                      <a:pt x="200" y="239"/>
                    </a:lnTo>
                    <a:lnTo>
                      <a:pt x="189" y="243"/>
                    </a:lnTo>
                    <a:lnTo>
                      <a:pt x="178" y="247"/>
                    </a:lnTo>
                    <a:lnTo>
                      <a:pt x="166" y="248"/>
                    </a:lnTo>
                    <a:lnTo>
                      <a:pt x="154" y="250"/>
                    </a:lnTo>
                    <a:lnTo>
                      <a:pt x="141" y="250"/>
                    </a:lnTo>
                    <a:lnTo>
                      <a:pt x="130" y="250"/>
                    </a:lnTo>
                    <a:lnTo>
                      <a:pt x="117" y="250"/>
                    </a:lnTo>
                    <a:lnTo>
                      <a:pt x="106" y="249"/>
                    </a:lnTo>
                    <a:lnTo>
                      <a:pt x="95" y="251"/>
                    </a:lnTo>
                    <a:lnTo>
                      <a:pt x="84" y="252"/>
                    </a:lnTo>
                    <a:lnTo>
                      <a:pt x="72" y="252"/>
                    </a:lnTo>
                    <a:lnTo>
                      <a:pt x="60" y="252"/>
                    </a:lnTo>
                    <a:lnTo>
                      <a:pt x="48" y="250"/>
                    </a:lnTo>
                    <a:lnTo>
                      <a:pt x="37" y="247"/>
                    </a:lnTo>
                    <a:lnTo>
                      <a:pt x="32" y="245"/>
                    </a:lnTo>
                    <a:lnTo>
                      <a:pt x="27" y="243"/>
                    </a:lnTo>
                    <a:lnTo>
                      <a:pt x="23" y="239"/>
                    </a:lnTo>
                    <a:lnTo>
                      <a:pt x="19" y="235"/>
                    </a:lnTo>
                    <a:lnTo>
                      <a:pt x="17" y="228"/>
                    </a:lnTo>
                    <a:lnTo>
                      <a:pt x="17" y="222"/>
                    </a:lnTo>
                    <a:lnTo>
                      <a:pt x="17" y="215"/>
                    </a:lnTo>
                    <a:lnTo>
                      <a:pt x="19" y="209"/>
                    </a:lnTo>
                    <a:lnTo>
                      <a:pt x="20" y="202"/>
                    </a:lnTo>
                    <a:lnTo>
                      <a:pt x="22" y="195"/>
                    </a:lnTo>
                    <a:lnTo>
                      <a:pt x="25" y="189"/>
                    </a:lnTo>
                    <a:lnTo>
                      <a:pt x="27" y="183"/>
                    </a:lnTo>
                    <a:lnTo>
                      <a:pt x="34" y="187"/>
                    </a:lnTo>
                    <a:lnTo>
                      <a:pt x="42" y="191"/>
                    </a:lnTo>
                    <a:lnTo>
                      <a:pt x="49" y="195"/>
                    </a:lnTo>
                    <a:lnTo>
                      <a:pt x="55" y="201"/>
                    </a:lnTo>
                    <a:lnTo>
                      <a:pt x="58" y="201"/>
                    </a:lnTo>
                    <a:lnTo>
                      <a:pt x="60" y="200"/>
                    </a:lnTo>
                    <a:lnTo>
                      <a:pt x="61" y="198"/>
                    </a:lnTo>
                    <a:lnTo>
                      <a:pt x="63" y="197"/>
                    </a:lnTo>
                    <a:lnTo>
                      <a:pt x="60" y="192"/>
                    </a:lnTo>
                    <a:lnTo>
                      <a:pt x="56" y="188"/>
                    </a:lnTo>
                    <a:lnTo>
                      <a:pt x="52" y="185"/>
                    </a:lnTo>
                    <a:lnTo>
                      <a:pt x="48" y="182"/>
                    </a:lnTo>
                    <a:lnTo>
                      <a:pt x="38" y="178"/>
                    </a:lnTo>
                    <a:lnTo>
                      <a:pt x="30" y="173"/>
                    </a:lnTo>
                    <a:lnTo>
                      <a:pt x="1" y="144"/>
                    </a:lnTo>
                    <a:lnTo>
                      <a:pt x="0" y="136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1" y="115"/>
                    </a:lnTo>
                    <a:lnTo>
                      <a:pt x="3" y="109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10" y="91"/>
                    </a:lnTo>
                    <a:lnTo>
                      <a:pt x="17" y="80"/>
                    </a:lnTo>
                    <a:lnTo>
                      <a:pt x="25" y="70"/>
                    </a:lnTo>
                    <a:lnTo>
                      <a:pt x="34" y="61"/>
                    </a:lnTo>
                    <a:lnTo>
                      <a:pt x="44" y="52"/>
                    </a:lnTo>
                  </a:path>
                </a:pathLst>
              </a:cu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39920" y="4130640"/>
                <a:ext cx="563400" cy="1023840"/>
              </a:xfrm>
              <a:custGeom>
                <a:avLst/>
                <a:gdLst/>
                <a:ahLst/>
                <a:rect l="l" t="t" r="r" b="b"/>
                <a:pathLst>
                  <a:path w="355" h="645">
                    <a:moveTo>
                      <a:pt x="22" y="140"/>
                    </a:moveTo>
                    <a:lnTo>
                      <a:pt x="33" y="123"/>
                    </a:lnTo>
                    <a:lnTo>
                      <a:pt x="43" y="108"/>
                    </a:lnTo>
                    <a:lnTo>
                      <a:pt x="55" y="92"/>
                    </a:lnTo>
                    <a:lnTo>
                      <a:pt x="68" y="78"/>
                    </a:lnTo>
                    <a:lnTo>
                      <a:pt x="80" y="64"/>
                    </a:lnTo>
                    <a:lnTo>
                      <a:pt x="93" y="52"/>
                    </a:lnTo>
                    <a:lnTo>
                      <a:pt x="108" y="40"/>
                    </a:lnTo>
                    <a:lnTo>
                      <a:pt x="123" y="29"/>
                    </a:lnTo>
                    <a:lnTo>
                      <a:pt x="138" y="23"/>
                    </a:lnTo>
                    <a:lnTo>
                      <a:pt x="154" y="15"/>
                    </a:lnTo>
                    <a:lnTo>
                      <a:pt x="170" y="9"/>
                    </a:lnTo>
                    <a:lnTo>
                      <a:pt x="187" y="2"/>
                    </a:lnTo>
                    <a:lnTo>
                      <a:pt x="195" y="1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21" y="0"/>
                    </a:lnTo>
                    <a:lnTo>
                      <a:pt x="230" y="1"/>
                    </a:lnTo>
                    <a:lnTo>
                      <a:pt x="238" y="4"/>
                    </a:lnTo>
                    <a:lnTo>
                      <a:pt x="245" y="7"/>
                    </a:lnTo>
                    <a:lnTo>
                      <a:pt x="254" y="12"/>
                    </a:lnTo>
                    <a:lnTo>
                      <a:pt x="262" y="21"/>
                    </a:lnTo>
                    <a:lnTo>
                      <a:pt x="271" y="28"/>
                    </a:lnTo>
                    <a:lnTo>
                      <a:pt x="277" y="36"/>
                    </a:lnTo>
                    <a:lnTo>
                      <a:pt x="284" y="46"/>
                    </a:lnTo>
                    <a:lnTo>
                      <a:pt x="292" y="55"/>
                    </a:lnTo>
                    <a:lnTo>
                      <a:pt x="298" y="64"/>
                    </a:lnTo>
                    <a:lnTo>
                      <a:pt x="304" y="74"/>
                    </a:lnTo>
                    <a:lnTo>
                      <a:pt x="309" y="84"/>
                    </a:lnTo>
                    <a:lnTo>
                      <a:pt x="319" y="105"/>
                    </a:lnTo>
                    <a:lnTo>
                      <a:pt x="327" y="126"/>
                    </a:lnTo>
                    <a:lnTo>
                      <a:pt x="334" y="148"/>
                    </a:lnTo>
                    <a:lnTo>
                      <a:pt x="339" y="170"/>
                    </a:lnTo>
                    <a:lnTo>
                      <a:pt x="346" y="197"/>
                    </a:lnTo>
                    <a:lnTo>
                      <a:pt x="350" y="223"/>
                    </a:lnTo>
                    <a:lnTo>
                      <a:pt x="352" y="251"/>
                    </a:lnTo>
                    <a:lnTo>
                      <a:pt x="354" y="276"/>
                    </a:lnTo>
                    <a:lnTo>
                      <a:pt x="354" y="302"/>
                    </a:lnTo>
                    <a:lnTo>
                      <a:pt x="353" y="328"/>
                    </a:lnTo>
                    <a:lnTo>
                      <a:pt x="352" y="353"/>
                    </a:lnTo>
                    <a:lnTo>
                      <a:pt x="349" y="379"/>
                    </a:lnTo>
                    <a:lnTo>
                      <a:pt x="342" y="429"/>
                    </a:lnTo>
                    <a:lnTo>
                      <a:pt x="334" y="479"/>
                    </a:lnTo>
                    <a:lnTo>
                      <a:pt x="325" y="531"/>
                    </a:lnTo>
                    <a:lnTo>
                      <a:pt x="317" y="584"/>
                    </a:lnTo>
                    <a:lnTo>
                      <a:pt x="316" y="603"/>
                    </a:lnTo>
                    <a:lnTo>
                      <a:pt x="285" y="601"/>
                    </a:lnTo>
                    <a:lnTo>
                      <a:pt x="256" y="601"/>
                    </a:lnTo>
                    <a:lnTo>
                      <a:pt x="226" y="602"/>
                    </a:lnTo>
                    <a:lnTo>
                      <a:pt x="196" y="604"/>
                    </a:lnTo>
                    <a:lnTo>
                      <a:pt x="167" y="608"/>
                    </a:lnTo>
                    <a:lnTo>
                      <a:pt x="137" y="612"/>
                    </a:lnTo>
                    <a:lnTo>
                      <a:pt x="107" y="617"/>
                    </a:lnTo>
                    <a:lnTo>
                      <a:pt x="79" y="623"/>
                    </a:lnTo>
                    <a:lnTo>
                      <a:pt x="71" y="626"/>
                    </a:lnTo>
                    <a:lnTo>
                      <a:pt x="62" y="629"/>
                    </a:lnTo>
                    <a:lnTo>
                      <a:pt x="59" y="631"/>
                    </a:lnTo>
                    <a:lnTo>
                      <a:pt x="54" y="632"/>
                    </a:lnTo>
                    <a:lnTo>
                      <a:pt x="50" y="633"/>
                    </a:lnTo>
                    <a:lnTo>
                      <a:pt x="46" y="633"/>
                    </a:lnTo>
                    <a:lnTo>
                      <a:pt x="31" y="644"/>
                    </a:lnTo>
                    <a:lnTo>
                      <a:pt x="25" y="600"/>
                    </a:lnTo>
                    <a:lnTo>
                      <a:pt x="20" y="556"/>
                    </a:lnTo>
                    <a:lnTo>
                      <a:pt x="16" y="513"/>
                    </a:lnTo>
                    <a:lnTo>
                      <a:pt x="12" y="471"/>
                    </a:lnTo>
                    <a:lnTo>
                      <a:pt x="9" y="428"/>
                    </a:lnTo>
                    <a:lnTo>
                      <a:pt x="6" y="384"/>
                    </a:lnTo>
                    <a:lnTo>
                      <a:pt x="3" y="342"/>
                    </a:lnTo>
                    <a:lnTo>
                      <a:pt x="0" y="299"/>
                    </a:lnTo>
                    <a:lnTo>
                      <a:pt x="1" y="278"/>
                    </a:lnTo>
                    <a:lnTo>
                      <a:pt x="2" y="257"/>
                    </a:lnTo>
                    <a:lnTo>
                      <a:pt x="4" y="237"/>
                    </a:lnTo>
                    <a:lnTo>
                      <a:pt x="6" y="218"/>
                    </a:lnTo>
                    <a:lnTo>
                      <a:pt x="9" y="198"/>
                    </a:lnTo>
                    <a:lnTo>
                      <a:pt x="12" y="179"/>
                    </a:lnTo>
                    <a:lnTo>
                      <a:pt x="17" y="159"/>
                    </a:lnTo>
                    <a:lnTo>
                      <a:pt x="22" y="140"/>
                    </a:lnTo>
                  </a:path>
                </a:pathLst>
              </a:custGeom>
              <a:solidFill>
                <a:srgbClr val="ec91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51080" y="5724360"/>
                <a:ext cx="449280" cy="579600"/>
              </a:xfrm>
              <a:custGeom>
                <a:avLst/>
                <a:gdLst/>
                <a:ahLst/>
                <a:rect l="l" t="t" r="r" b="b"/>
                <a:pathLst>
                  <a:path w="283" h="365">
                    <a:moveTo>
                      <a:pt x="40" y="94"/>
                    </a:moveTo>
                    <a:lnTo>
                      <a:pt x="41" y="92"/>
                    </a:lnTo>
                    <a:lnTo>
                      <a:pt x="43" y="89"/>
                    </a:lnTo>
                    <a:lnTo>
                      <a:pt x="43" y="92"/>
                    </a:lnTo>
                    <a:lnTo>
                      <a:pt x="44" y="94"/>
                    </a:lnTo>
                    <a:lnTo>
                      <a:pt x="45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49" y="96"/>
                    </a:lnTo>
                    <a:lnTo>
                      <a:pt x="51" y="94"/>
                    </a:lnTo>
                    <a:lnTo>
                      <a:pt x="51" y="92"/>
                    </a:lnTo>
                    <a:lnTo>
                      <a:pt x="51" y="90"/>
                    </a:lnTo>
                    <a:lnTo>
                      <a:pt x="49" y="88"/>
                    </a:lnTo>
                    <a:lnTo>
                      <a:pt x="49" y="84"/>
                    </a:lnTo>
                    <a:lnTo>
                      <a:pt x="49" y="79"/>
                    </a:lnTo>
                    <a:lnTo>
                      <a:pt x="48" y="71"/>
                    </a:lnTo>
                    <a:lnTo>
                      <a:pt x="49" y="65"/>
                    </a:lnTo>
                    <a:lnTo>
                      <a:pt x="51" y="58"/>
                    </a:lnTo>
                    <a:lnTo>
                      <a:pt x="54" y="51"/>
                    </a:lnTo>
                    <a:lnTo>
                      <a:pt x="58" y="46"/>
                    </a:lnTo>
                    <a:lnTo>
                      <a:pt x="62" y="41"/>
                    </a:lnTo>
                    <a:lnTo>
                      <a:pt x="68" y="36"/>
                    </a:lnTo>
                    <a:lnTo>
                      <a:pt x="74" y="34"/>
                    </a:lnTo>
                    <a:lnTo>
                      <a:pt x="84" y="27"/>
                    </a:lnTo>
                    <a:lnTo>
                      <a:pt x="95" y="23"/>
                    </a:lnTo>
                    <a:lnTo>
                      <a:pt x="94" y="19"/>
                    </a:lnTo>
                    <a:lnTo>
                      <a:pt x="91" y="16"/>
                    </a:lnTo>
                    <a:lnTo>
                      <a:pt x="89" y="15"/>
                    </a:lnTo>
                    <a:lnTo>
                      <a:pt x="86" y="13"/>
                    </a:lnTo>
                    <a:lnTo>
                      <a:pt x="87" y="7"/>
                    </a:lnTo>
                    <a:lnTo>
                      <a:pt x="88" y="0"/>
                    </a:lnTo>
                    <a:lnTo>
                      <a:pt x="97" y="3"/>
                    </a:lnTo>
                    <a:lnTo>
                      <a:pt x="108" y="6"/>
                    </a:lnTo>
                    <a:lnTo>
                      <a:pt x="117" y="9"/>
                    </a:lnTo>
                    <a:lnTo>
                      <a:pt x="128" y="9"/>
                    </a:lnTo>
                    <a:lnTo>
                      <a:pt x="129" y="15"/>
                    </a:lnTo>
                    <a:lnTo>
                      <a:pt x="130" y="20"/>
                    </a:lnTo>
                    <a:lnTo>
                      <a:pt x="133" y="26"/>
                    </a:lnTo>
                    <a:lnTo>
                      <a:pt x="137" y="30"/>
                    </a:lnTo>
                    <a:lnTo>
                      <a:pt x="140" y="38"/>
                    </a:lnTo>
                    <a:lnTo>
                      <a:pt x="144" y="44"/>
                    </a:lnTo>
                    <a:lnTo>
                      <a:pt x="149" y="49"/>
                    </a:lnTo>
                    <a:lnTo>
                      <a:pt x="155" y="55"/>
                    </a:lnTo>
                    <a:lnTo>
                      <a:pt x="167" y="65"/>
                    </a:lnTo>
                    <a:lnTo>
                      <a:pt x="179" y="75"/>
                    </a:lnTo>
                    <a:lnTo>
                      <a:pt x="186" y="76"/>
                    </a:lnTo>
                    <a:lnTo>
                      <a:pt x="194" y="76"/>
                    </a:lnTo>
                    <a:lnTo>
                      <a:pt x="202" y="75"/>
                    </a:lnTo>
                    <a:lnTo>
                      <a:pt x="209" y="72"/>
                    </a:lnTo>
                    <a:lnTo>
                      <a:pt x="209" y="76"/>
                    </a:lnTo>
                    <a:lnTo>
                      <a:pt x="207" y="77"/>
                    </a:lnTo>
                    <a:lnTo>
                      <a:pt x="206" y="79"/>
                    </a:lnTo>
                    <a:lnTo>
                      <a:pt x="203" y="102"/>
                    </a:lnTo>
                    <a:lnTo>
                      <a:pt x="198" y="125"/>
                    </a:lnTo>
                    <a:lnTo>
                      <a:pt x="195" y="137"/>
                    </a:lnTo>
                    <a:lnTo>
                      <a:pt x="193" y="148"/>
                    </a:lnTo>
                    <a:lnTo>
                      <a:pt x="189" y="159"/>
                    </a:lnTo>
                    <a:lnTo>
                      <a:pt x="184" y="170"/>
                    </a:lnTo>
                    <a:lnTo>
                      <a:pt x="184" y="176"/>
                    </a:lnTo>
                    <a:lnTo>
                      <a:pt x="184" y="184"/>
                    </a:lnTo>
                    <a:lnTo>
                      <a:pt x="189" y="187"/>
                    </a:lnTo>
                    <a:lnTo>
                      <a:pt x="194" y="177"/>
                    </a:lnTo>
                    <a:lnTo>
                      <a:pt x="199" y="166"/>
                    </a:lnTo>
                    <a:lnTo>
                      <a:pt x="203" y="156"/>
                    </a:lnTo>
                    <a:lnTo>
                      <a:pt x="206" y="146"/>
                    </a:lnTo>
                    <a:lnTo>
                      <a:pt x="211" y="123"/>
                    </a:lnTo>
                    <a:lnTo>
                      <a:pt x="217" y="101"/>
                    </a:lnTo>
                    <a:lnTo>
                      <a:pt x="221" y="115"/>
                    </a:lnTo>
                    <a:lnTo>
                      <a:pt x="225" y="127"/>
                    </a:lnTo>
                    <a:lnTo>
                      <a:pt x="230" y="140"/>
                    </a:lnTo>
                    <a:lnTo>
                      <a:pt x="236" y="152"/>
                    </a:lnTo>
                    <a:lnTo>
                      <a:pt x="242" y="163"/>
                    </a:lnTo>
                    <a:lnTo>
                      <a:pt x="249" y="176"/>
                    </a:lnTo>
                    <a:lnTo>
                      <a:pt x="256" y="187"/>
                    </a:lnTo>
                    <a:lnTo>
                      <a:pt x="263" y="199"/>
                    </a:lnTo>
                    <a:lnTo>
                      <a:pt x="256" y="206"/>
                    </a:lnTo>
                    <a:lnTo>
                      <a:pt x="248" y="213"/>
                    </a:lnTo>
                    <a:lnTo>
                      <a:pt x="242" y="211"/>
                    </a:lnTo>
                    <a:lnTo>
                      <a:pt x="236" y="209"/>
                    </a:lnTo>
                    <a:lnTo>
                      <a:pt x="230" y="208"/>
                    </a:lnTo>
                    <a:lnTo>
                      <a:pt x="225" y="208"/>
                    </a:lnTo>
                    <a:lnTo>
                      <a:pt x="219" y="209"/>
                    </a:lnTo>
                    <a:lnTo>
                      <a:pt x="214" y="211"/>
                    </a:lnTo>
                    <a:lnTo>
                      <a:pt x="208" y="215"/>
                    </a:lnTo>
                    <a:lnTo>
                      <a:pt x="203" y="218"/>
                    </a:lnTo>
                    <a:lnTo>
                      <a:pt x="195" y="204"/>
                    </a:lnTo>
                    <a:lnTo>
                      <a:pt x="186" y="189"/>
                    </a:lnTo>
                    <a:lnTo>
                      <a:pt x="179" y="173"/>
                    </a:lnTo>
                    <a:lnTo>
                      <a:pt x="173" y="156"/>
                    </a:lnTo>
                    <a:lnTo>
                      <a:pt x="168" y="139"/>
                    </a:lnTo>
                    <a:lnTo>
                      <a:pt x="165" y="121"/>
                    </a:lnTo>
                    <a:lnTo>
                      <a:pt x="163" y="112"/>
                    </a:lnTo>
                    <a:lnTo>
                      <a:pt x="162" y="103"/>
                    </a:lnTo>
                    <a:lnTo>
                      <a:pt x="162" y="94"/>
                    </a:lnTo>
                    <a:lnTo>
                      <a:pt x="162" y="84"/>
                    </a:lnTo>
                    <a:lnTo>
                      <a:pt x="160" y="84"/>
                    </a:lnTo>
                    <a:lnTo>
                      <a:pt x="157" y="82"/>
                    </a:lnTo>
                    <a:lnTo>
                      <a:pt x="155" y="82"/>
                    </a:lnTo>
                    <a:lnTo>
                      <a:pt x="152" y="82"/>
                    </a:lnTo>
                    <a:lnTo>
                      <a:pt x="151" y="90"/>
                    </a:lnTo>
                    <a:lnTo>
                      <a:pt x="149" y="98"/>
                    </a:lnTo>
                    <a:lnTo>
                      <a:pt x="151" y="106"/>
                    </a:lnTo>
                    <a:lnTo>
                      <a:pt x="151" y="113"/>
                    </a:lnTo>
                    <a:lnTo>
                      <a:pt x="154" y="129"/>
                    </a:lnTo>
                    <a:lnTo>
                      <a:pt x="157" y="144"/>
                    </a:lnTo>
                    <a:lnTo>
                      <a:pt x="162" y="158"/>
                    </a:lnTo>
                    <a:lnTo>
                      <a:pt x="167" y="173"/>
                    </a:lnTo>
                    <a:lnTo>
                      <a:pt x="173" y="187"/>
                    </a:lnTo>
                    <a:lnTo>
                      <a:pt x="180" y="201"/>
                    </a:lnTo>
                    <a:lnTo>
                      <a:pt x="187" y="213"/>
                    </a:lnTo>
                    <a:lnTo>
                      <a:pt x="195" y="226"/>
                    </a:lnTo>
                    <a:lnTo>
                      <a:pt x="186" y="226"/>
                    </a:lnTo>
                    <a:lnTo>
                      <a:pt x="176" y="227"/>
                    </a:lnTo>
                    <a:lnTo>
                      <a:pt x="172" y="228"/>
                    </a:lnTo>
                    <a:lnTo>
                      <a:pt x="168" y="230"/>
                    </a:lnTo>
                    <a:lnTo>
                      <a:pt x="163" y="232"/>
                    </a:lnTo>
                    <a:lnTo>
                      <a:pt x="160" y="235"/>
                    </a:lnTo>
                    <a:lnTo>
                      <a:pt x="161" y="238"/>
                    </a:lnTo>
                    <a:lnTo>
                      <a:pt x="162" y="240"/>
                    </a:lnTo>
                    <a:lnTo>
                      <a:pt x="165" y="241"/>
                    </a:lnTo>
                    <a:lnTo>
                      <a:pt x="166" y="240"/>
                    </a:lnTo>
                    <a:lnTo>
                      <a:pt x="172" y="239"/>
                    </a:lnTo>
                    <a:lnTo>
                      <a:pt x="178" y="239"/>
                    </a:lnTo>
                    <a:lnTo>
                      <a:pt x="178" y="238"/>
                    </a:lnTo>
                    <a:lnTo>
                      <a:pt x="181" y="238"/>
                    </a:lnTo>
                    <a:lnTo>
                      <a:pt x="176" y="241"/>
                    </a:lnTo>
                    <a:lnTo>
                      <a:pt x="171" y="243"/>
                    </a:lnTo>
                    <a:lnTo>
                      <a:pt x="170" y="244"/>
                    </a:lnTo>
                    <a:lnTo>
                      <a:pt x="168" y="245"/>
                    </a:lnTo>
                    <a:lnTo>
                      <a:pt x="166" y="248"/>
                    </a:lnTo>
                    <a:lnTo>
                      <a:pt x="166" y="251"/>
                    </a:lnTo>
                    <a:lnTo>
                      <a:pt x="168" y="252"/>
                    </a:lnTo>
                    <a:lnTo>
                      <a:pt x="170" y="253"/>
                    </a:lnTo>
                    <a:lnTo>
                      <a:pt x="172" y="253"/>
                    </a:lnTo>
                    <a:lnTo>
                      <a:pt x="174" y="253"/>
                    </a:lnTo>
                    <a:lnTo>
                      <a:pt x="179" y="252"/>
                    </a:lnTo>
                    <a:lnTo>
                      <a:pt x="184" y="249"/>
                    </a:lnTo>
                    <a:lnTo>
                      <a:pt x="188" y="249"/>
                    </a:lnTo>
                    <a:lnTo>
                      <a:pt x="192" y="246"/>
                    </a:lnTo>
                    <a:lnTo>
                      <a:pt x="195" y="243"/>
                    </a:lnTo>
                    <a:lnTo>
                      <a:pt x="199" y="240"/>
                    </a:lnTo>
                    <a:lnTo>
                      <a:pt x="206" y="234"/>
                    </a:lnTo>
                    <a:lnTo>
                      <a:pt x="213" y="226"/>
                    </a:lnTo>
                    <a:lnTo>
                      <a:pt x="217" y="223"/>
                    </a:lnTo>
                    <a:lnTo>
                      <a:pt x="220" y="221"/>
                    </a:lnTo>
                    <a:lnTo>
                      <a:pt x="224" y="219"/>
                    </a:lnTo>
                    <a:lnTo>
                      <a:pt x="228" y="218"/>
                    </a:lnTo>
                    <a:lnTo>
                      <a:pt x="231" y="218"/>
                    </a:lnTo>
                    <a:lnTo>
                      <a:pt x="236" y="220"/>
                    </a:lnTo>
                    <a:lnTo>
                      <a:pt x="241" y="222"/>
                    </a:lnTo>
                    <a:lnTo>
                      <a:pt x="246" y="227"/>
                    </a:lnTo>
                    <a:lnTo>
                      <a:pt x="249" y="230"/>
                    </a:lnTo>
                    <a:lnTo>
                      <a:pt x="252" y="234"/>
                    </a:lnTo>
                    <a:lnTo>
                      <a:pt x="254" y="237"/>
                    </a:lnTo>
                    <a:lnTo>
                      <a:pt x="256" y="241"/>
                    </a:lnTo>
                    <a:lnTo>
                      <a:pt x="257" y="249"/>
                    </a:lnTo>
                    <a:lnTo>
                      <a:pt x="260" y="258"/>
                    </a:lnTo>
                    <a:lnTo>
                      <a:pt x="269" y="276"/>
                    </a:lnTo>
                    <a:lnTo>
                      <a:pt x="276" y="294"/>
                    </a:lnTo>
                    <a:lnTo>
                      <a:pt x="279" y="304"/>
                    </a:lnTo>
                    <a:lnTo>
                      <a:pt x="281" y="314"/>
                    </a:lnTo>
                    <a:lnTo>
                      <a:pt x="282" y="323"/>
                    </a:lnTo>
                    <a:lnTo>
                      <a:pt x="282" y="334"/>
                    </a:lnTo>
                    <a:lnTo>
                      <a:pt x="279" y="339"/>
                    </a:lnTo>
                    <a:lnTo>
                      <a:pt x="275" y="344"/>
                    </a:lnTo>
                    <a:lnTo>
                      <a:pt x="270" y="347"/>
                    </a:lnTo>
                    <a:lnTo>
                      <a:pt x="265" y="349"/>
                    </a:lnTo>
                    <a:lnTo>
                      <a:pt x="253" y="352"/>
                    </a:lnTo>
                    <a:lnTo>
                      <a:pt x="241" y="354"/>
                    </a:lnTo>
                    <a:lnTo>
                      <a:pt x="244" y="346"/>
                    </a:lnTo>
                    <a:lnTo>
                      <a:pt x="244" y="338"/>
                    </a:lnTo>
                    <a:lnTo>
                      <a:pt x="244" y="331"/>
                    </a:lnTo>
                    <a:lnTo>
                      <a:pt x="244" y="323"/>
                    </a:lnTo>
                    <a:lnTo>
                      <a:pt x="242" y="315"/>
                    </a:lnTo>
                    <a:lnTo>
                      <a:pt x="240" y="307"/>
                    </a:lnTo>
                    <a:lnTo>
                      <a:pt x="236" y="299"/>
                    </a:lnTo>
                    <a:lnTo>
                      <a:pt x="233" y="293"/>
                    </a:lnTo>
                    <a:lnTo>
                      <a:pt x="228" y="287"/>
                    </a:lnTo>
                    <a:lnTo>
                      <a:pt x="222" y="282"/>
                    </a:lnTo>
                    <a:lnTo>
                      <a:pt x="219" y="280"/>
                    </a:lnTo>
                    <a:lnTo>
                      <a:pt x="216" y="278"/>
                    </a:lnTo>
                    <a:lnTo>
                      <a:pt x="211" y="278"/>
                    </a:lnTo>
                    <a:lnTo>
                      <a:pt x="208" y="278"/>
                    </a:lnTo>
                    <a:lnTo>
                      <a:pt x="205" y="282"/>
                    </a:lnTo>
                    <a:lnTo>
                      <a:pt x="204" y="285"/>
                    </a:lnTo>
                    <a:lnTo>
                      <a:pt x="204" y="288"/>
                    </a:lnTo>
                    <a:lnTo>
                      <a:pt x="204" y="292"/>
                    </a:lnTo>
                    <a:lnTo>
                      <a:pt x="205" y="294"/>
                    </a:lnTo>
                    <a:lnTo>
                      <a:pt x="208" y="294"/>
                    </a:lnTo>
                    <a:lnTo>
                      <a:pt x="210" y="294"/>
                    </a:lnTo>
                    <a:lnTo>
                      <a:pt x="211" y="293"/>
                    </a:lnTo>
                    <a:lnTo>
                      <a:pt x="214" y="289"/>
                    </a:lnTo>
                    <a:lnTo>
                      <a:pt x="217" y="291"/>
                    </a:lnTo>
                    <a:lnTo>
                      <a:pt x="219" y="293"/>
                    </a:lnTo>
                    <a:lnTo>
                      <a:pt x="221" y="296"/>
                    </a:lnTo>
                    <a:lnTo>
                      <a:pt x="224" y="299"/>
                    </a:lnTo>
                    <a:lnTo>
                      <a:pt x="227" y="306"/>
                    </a:lnTo>
                    <a:lnTo>
                      <a:pt x="230" y="314"/>
                    </a:lnTo>
                    <a:lnTo>
                      <a:pt x="232" y="318"/>
                    </a:lnTo>
                    <a:lnTo>
                      <a:pt x="233" y="324"/>
                    </a:lnTo>
                    <a:lnTo>
                      <a:pt x="234" y="330"/>
                    </a:lnTo>
                    <a:lnTo>
                      <a:pt x="234" y="335"/>
                    </a:lnTo>
                    <a:lnTo>
                      <a:pt x="233" y="341"/>
                    </a:lnTo>
                    <a:lnTo>
                      <a:pt x="232" y="347"/>
                    </a:lnTo>
                    <a:lnTo>
                      <a:pt x="230" y="352"/>
                    </a:lnTo>
                    <a:lnTo>
                      <a:pt x="227" y="356"/>
                    </a:lnTo>
                    <a:lnTo>
                      <a:pt x="220" y="360"/>
                    </a:lnTo>
                    <a:lnTo>
                      <a:pt x="212" y="363"/>
                    </a:lnTo>
                    <a:lnTo>
                      <a:pt x="203" y="359"/>
                    </a:lnTo>
                    <a:lnTo>
                      <a:pt x="190" y="360"/>
                    </a:lnTo>
                    <a:lnTo>
                      <a:pt x="178" y="361"/>
                    </a:lnTo>
                    <a:lnTo>
                      <a:pt x="165" y="362"/>
                    </a:lnTo>
                    <a:lnTo>
                      <a:pt x="152" y="364"/>
                    </a:lnTo>
                    <a:lnTo>
                      <a:pt x="155" y="355"/>
                    </a:lnTo>
                    <a:lnTo>
                      <a:pt x="156" y="347"/>
                    </a:lnTo>
                    <a:lnTo>
                      <a:pt x="157" y="337"/>
                    </a:lnTo>
                    <a:lnTo>
                      <a:pt x="155" y="327"/>
                    </a:lnTo>
                    <a:lnTo>
                      <a:pt x="153" y="318"/>
                    </a:lnTo>
                    <a:lnTo>
                      <a:pt x="149" y="308"/>
                    </a:lnTo>
                    <a:lnTo>
                      <a:pt x="146" y="299"/>
                    </a:lnTo>
                    <a:lnTo>
                      <a:pt x="143" y="291"/>
                    </a:lnTo>
                    <a:lnTo>
                      <a:pt x="140" y="288"/>
                    </a:lnTo>
                    <a:lnTo>
                      <a:pt x="138" y="285"/>
                    </a:lnTo>
                    <a:lnTo>
                      <a:pt x="134" y="283"/>
                    </a:lnTo>
                    <a:lnTo>
                      <a:pt x="130" y="280"/>
                    </a:lnTo>
                    <a:lnTo>
                      <a:pt x="124" y="278"/>
                    </a:lnTo>
                    <a:lnTo>
                      <a:pt x="117" y="277"/>
                    </a:lnTo>
                    <a:lnTo>
                      <a:pt x="118" y="275"/>
                    </a:lnTo>
                    <a:lnTo>
                      <a:pt x="112" y="258"/>
                    </a:lnTo>
                    <a:lnTo>
                      <a:pt x="107" y="241"/>
                    </a:lnTo>
                    <a:lnTo>
                      <a:pt x="103" y="224"/>
                    </a:lnTo>
                    <a:lnTo>
                      <a:pt x="98" y="207"/>
                    </a:lnTo>
                    <a:lnTo>
                      <a:pt x="95" y="190"/>
                    </a:lnTo>
                    <a:lnTo>
                      <a:pt x="91" y="172"/>
                    </a:lnTo>
                    <a:lnTo>
                      <a:pt x="89" y="155"/>
                    </a:lnTo>
                    <a:lnTo>
                      <a:pt x="88" y="137"/>
                    </a:lnTo>
                    <a:lnTo>
                      <a:pt x="83" y="135"/>
                    </a:lnTo>
                    <a:lnTo>
                      <a:pt x="79" y="134"/>
                    </a:lnTo>
                    <a:lnTo>
                      <a:pt x="76" y="139"/>
                    </a:lnTo>
                    <a:lnTo>
                      <a:pt x="81" y="177"/>
                    </a:lnTo>
                    <a:lnTo>
                      <a:pt x="78" y="170"/>
                    </a:lnTo>
                    <a:lnTo>
                      <a:pt x="73" y="161"/>
                    </a:lnTo>
                    <a:lnTo>
                      <a:pt x="69" y="153"/>
                    </a:lnTo>
                    <a:lnTo>
                      <a:pt x="62" y="146"/>
                    </a:lnTo>
                    <a:lnTo>
                      <a:pt x="56" y="141"/>
                    </a:lnTo>
                    <a:lnTo>
                      <a:pt x="51" y="134"/>
                    </a:lnTo>
                    <a:lnTo>
                      <a:pt x="43" y="130"/>
                    </a:lnTo>
                    <a:lnTo>
                      <a:pt x="37" y="125"/>
                    </a:lnTo>
                    <a:lnTo>
                      <a:pt x="32" y="125"/>
                    </a:lnTo>
                    <a:lnTo>
                      <a:pt x="27" y="126"/>
                    </a:lnTo>
                    <a:lnTo>
                      <a:pt x="22" y="127"/>
                    </a:lnTo>
                    <a:lnTo>
                      <a:pt x="18" y="129"/>
                    </a:lnTo>
                    <a:lnTo>
                      <a:pt x="8" y="132"/>
                    </a:lnTo>
                    <a:lnTo>
                      <a:pt x="0" y="134"/>
                    </a:lnTo>
                    <a:lnTo>
                      <a:pt x="10" y="125"/>
                    </a:lnTo>
                    <a:lnTo>
                      <a:pt x="21" y="115"/>
                    </a:lnTo>
                    <a:lnTo>
                      <a:pt x="30" y="105"/>
                    </a:lnTo>
                    <a:lnTo>
                      <a:pt x="40" y="94"/>
                    </a:lnTo>
                  </a:path>
                </a:pathLst>
              </a:cu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90680" y="5446800"/>
                <a:ext cx="539640" cy="384120"/>
              </a:xfrm>
              <a:custGeom>
                <a:avLst/>
                <a:gdLst/>
                <a:ahLst/>
                <a:rect l="l" t="t" r="r" b="b"/>
                <a:pathLst>
                  <a:path w="340" h="242">
                    <a:moveTo>
                      <a:pt x="37" y="34"/>
                    </a:moveTo>
                    <a:lnTo>
                      <a:pt x="38" y="34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2" y="29"/>
                    </a:lnTo>
                    <a:lnTo>
                      <a:pt x="41" y="27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5" y="24"/>
                    </a:lnTo>
                    <a:lnTo>
                      <a:pt x="31" y="24"/>
                    </a:lnTo>
                    <a:lnTo>
                      <a:pt x="28" y="24"/>
                    </a:lnTo>
                    <a:lnTo>
                      <a:pt x="29" y="18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41" y="9"/>
                    </a:lnTo>
                    <a:lnTo>
                      <a:pt x="45" y="10"/>
                    </a:lnTo>
                    <a:lnTo>
                      <a:pt x="64" y="12"/>
                    </a:lnTo>
                    <a:lnTo>
                      <a:pt x="83" y="13"/>
                    </a:lnTo>
                    <a:lnTo>
                      <a:pt x="102" y="15"/>
                    </a:lnTo>
                    <a:lnTo>
                      <a:pt x="122" y="14"/>
                    </a:lnTo>
                    <a:lnTo>
                      <a:pt x="109" y="18"/>
                    </a:lnTo>
                    <a:lnTo>
                      <a:pt x="96" y="22"/>
                    </a:lnTo>
                    <a:lnTo>
                      <a:pt x="90" y="24"/>
                    </a:lnTo>
                    <a:lnTo>
                      <a:pt x="83" y="26"/>
                    </a:lnTo>
                    <a:lnTo>
                      <a:pt x="78" y="31"/>
                    </a:lnTo>
                    <a:lnTo>
                      <a:pt x="72" y="33"/>
                    </a:lnTo>
                    <a:lnTo>
                      <a:pt x="70" y="37"/>
                    </a:lnTo>
                    <a:lnTo>
                      <a:pt x="70" y="40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3"/>
                    </a:lnTo>
                    <a:lnTo>
                      <a:pt x="83" y="39"/>
                    </a:lnTo>
                    <a:lnTo>
                      <a:pt x="92" y="35"/>
                    </a:lnTo>
                    <a:lnTo>
                      <a:pt x="102" y="31"/>
                    </a:lnTo>
                    <a:lnTo>
                      <a:pt x="113" y="29"/>
                    </a:lnTo>
                    <a:lnTo>
                      <a:pt x="110" y="33"/>
                    </a:lnTo>
                    <a:lnTo>
                      <a:pt x="110" y="37"/>
                    </a:lnTo>
                    <a:lnTo>
                      <a:pt x="110" y="41"/>
                    </a:lnTo>
                    <a:lnTo>
                      <a:pt x="111" y="43"/>
                    </a:lnTo>
                    <a:lnTo>
                      <a:pt x="114" y="50"/>
                    </a:lnTo>
                    <a:lnTo>
                      <a:pt x="118" y="57"/>
                    </a:lnTo>
                    <a:lnTo>
                      <a:pt x="124" y="62"/>
                    </a:lnTo>
                    <a:lnTo>
                      <a:pt x="131" y="65"/>
                    </a:lnTo>
                    <a:lnTo>
                      <a:pt x="139" y="68"/>
                    </a:lnTo>
                    <a:lnTo>
                      <a:pt x="145" y="70"/>
                    </a:lnTo>
                    <a:lnTo>
                      <a:pt x="153" y="71"/>
                    </a:lnTo>
                    <a:lnTo>
                      <a:pt x="161" y="71"/>
                    </a:lnTo>
                    <a:lnTo>
                      <a:pt x="169" y="70"/>
                    </a:lnTo>
                    <a:lnTo>
                      <a:pt x="177" y="69"/>
                    </a:lnTo>
                    <a:lnTo>
                      <a:pt x="172" y="81"/>
                    </a:lnTo>
                    <a:lnTo>
                      <a:pt x="164" y="90"/>
                    </a:lnTo>
                    <a:lnTo>
                      <a:pt x="158" y="99"/>
                    </a:lnTo>
                    <a:lnTo>
                      <a:pt x="149" y="108"/>
                    </a:lnTo>
                    <a:lnTo>
                      <a:pt x="141" y="115"/>
                    </a:lnTo>
                    <a:lnTo>
                      <a:pt x="132" y="122"/>
                    </a:lnTo>
                    <a:lnTo>
                      <a:pt x="121" y="127"/>
                    </a:lnTo>
                    <a:lnTo>
                      <a:pt x="110" y="129"/>
                    </a:lnTo>
                    <a:lnTo>
                      <a:pt x="101" y="131"/>
                    </a:lnTo>
                    <a:lnTo>
                      <a:pt x="93" y="129"/>
                    </a:lnTo>
                    <a:lnTo>
                      <a:pt x="84" y="127"/>
                    </a:lnTo>
                    <a:lnTo>
                      <a:pt x="78" y="123"/>
                    </a:lnTo>
                    <a:lnTo>
                      <a:pt x="70" y="117"/>
                    </a:lnTo>
                    <a:lnTo>
                      <a:pt x="64" y="112"/>
                    </a:lnTo>
                    <a:lnTo>
                      <a:pt x="57" y="106"/>
                    </a:lnTo>
                    <a:lnTo>
                      <a:pt x="52" y="98"/>
                    </a:lnTo>
                    <a:lnTo>
                      <a:pt x="51" y="95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48" y="86"/>
                    </a:lnTo>
                    <a:lnTo>
                      <a:pt x="48" y="85"/>
                    </a:lnTo>
                    <a:lnTo>
                      <a:pt x="45" y="83"/>
                    </a:lnTo>
                    <a:lnTo>
                      <a:pt x="46" y="81"/>
                    </a:lnTo>
                    <a:lnTo>
                      <a:pt x="47" y="79"/>
                    </a:lnTo>
                    <a:lnTo>
                      <a:pt x="48" y="79"/>
                    </a:lnTo>
                    <a:lnTo>
                      <a:pt x="50" y="77"/>
                    </a:lnTo>
                    <a:lnTo>
                      <a:pt x="53" y="75"/>
                    </a:lnTo>
                    <a:lnTo>
                      <a:pt x="56" y="72"/>
                    </a:lnTo>
                    <a:lnTo>
                      <a:pt x="60" y="70"/>
                    </a:lnTo>
                    <a:lnTo>
                      <a:pt x="62" y="67"/>
                    </a:lnTo>
                    <a:lnTo>
                      <a:pt x="63" y="65"/>
                    </a:lnTo>
                    <a:lnTo>
                      <a:pt x="62" y="63"/>
                    </a:lnTo>
                    <a:lnTo>
                      <a:pt x="61" y="62"/>
                    </a:lnTo>
                    <a:lnTo>
                      <a:pt x="59" y="59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5" y="65"/>
                    </a:lnTo>
                    <a:lnTo>
                      <a:pt x="41" y="69"/>
                    </a:lnTo>
                    <a:lnTo>
                      <a:pt x="34" y="79"/>
                    </a:lnTo>
                    <a:lnTo>
                      <a:pt x="29" y="88"/>
                    </a:lnTo>
                    <a:lnTo>
                      <a:pt x="28" y="93"/>
                    </a:lnTo>
                    <a:lnTo>
                      <a:pt x="28" y="98"/>
                    </a:lnTo>
                    <a:lnTo>
                      <a:pt x="32" y="102"/>
                    </a:lnTo>
                    <a:lnTo>
                      <a:pt x="35" y="101"/>
                    </a:lnTo>
                    <a:lnTo>
                      <a:pt x="37" y="99"/>
                    </a:lnTo>
                    <a:lnTo>
                      <a:pt x="37" y="96"/>
                    </a:lnTo>
                    <a:lnTo>
                      <a:pt x="37" y="93"/>
                    </a:lnTo>
                    <a:lnTo>
                      <a:pt x="41" y="101"/>
                    </a:lnTo>
                    <a:lnTo>
                      <a:pt x="45" y="109"/>
                    </a:lnTo>
                    <a:lnTo>
                      <a:pt x="51" y="115"/>
                    </a:lnTo>
                    <a:lnTo>
                      <a:pt x="56" y="121"/>
                    </a:lnTo>
                    <a:lnTo>
                      <a:pt x="64" y="126"/>
                    </a:lnTo>
                    <a:lnTo>
                      <a:pt x="70" y="131"/>
                    </a:lnTo>
                    <a:lnTo>
                      <a:pt x="77" y="134"/>
                    </a:lnTo>
                    <a:lnTo>
                      <a:pt x="83" y="138"/>
                    </a:lnTo>
                    <a:lnTo>
                      <a:pt x="90" y="140"/>
                    </a:lnTo>
                    <a:lnTo>
                      <a:pt x="97" y="141"/>
                    </a:lnTo>
                    <a:lnTo>
                      <a:pt x="102" y="142"/>
                    </a:lnTo>
                    <a:lnTo>
                      <a:pt x="110" y="142"/>
                    </a:lnTo>
                    <a:lnTo>
                      <a:pt x="117" y="141"/>
                    </a:lnTo>
                    <a:lnTo>
                      <a:pt x="123" y="139"/>
                    </a:lnTo>
                    <a:lnTo>
                      <a:pt x="129" y="137"/>
                    </a:lnTo>
                    <a:lnTo>
                      <a:pt x="135" y="134"/>
                    </a:lnTo>
                    <a:lnTo>
                      <a:pt x="136" y="143"/>
                    </a:lnTo>
                    <a:lnTo>
                      <a:pt x="135" y="151"/>
                    </a:lnTo>
                    <a:lnTo>
                      <a:pt x="133" y="160"/>
                    </a:lnTo>
                    <a:lnTo>
                      <a:pt x="132" y="170"/>
                    </a:lnTo>
                    <a:lnTo>
                      <a:pt x="131" y="179"/>
                    </a:lnTo>
                    <a:lnTo>
                      <a:pt x="131" y="188"/>
                    </a:lnTo>
                    <a:lnTo>
                      <a:pt x="132" y="193"/>
                    </a:lnTo>
                    <a:lnTo>
                      <a:pt x="133" y="196"/>
                    </a:lnTo>
                    <a:lnTo>
                      <a:pt x="136" y="201"/>
                    </a:lnTo>
                    <a:lnTo>
                      <a:pt x="140" y="206"/>
                    </a:lnTo>
                    <a:lnTo>
                      <a:pt x="144" y="211"/>
                    </a:lnTo>
                    <a:lnTo>
                      <a:pt x="148" y="214"/>
                    </a:lnTo>
                    <a:lnTo>
                      <a:pt x="154" y="217"/>
                    </a:lnTo>
                    <a:lnTo>
                      <a:pt x="159" y="218"/>
                    </a:lnTo>
                    <a:lnTo>
                      <a:pt x="166" y="218"/>
                    </a:lnTo>
                    <a:lnTo>
                      <a:pt x="172" y="218"/>
                    </a:lnTo>
                    <a:lnTo>
                      <a:pt x="178" y="217"/>
                    </a:lnTo>
                    <a:lnTo>
                      <a:pt x="184" y="215"/>
                    </a:lnTo>
                    <a:lnTo>
                      <a:pt x="189" y="214"/>
                    </a:lnTo>
                    <a:lnTo>
                      <a:pt x="194" y="211"/>
                    </a:lnTo>
                    <a:lnTo>
                      <a:pt x="198" y="207"/>
                    </a:lnTo>
                    <a:lnTo>
                      <a:pt x="202" y="203"/>
                    </a:lnTo>
                    <a:lnTo>
                      <a:pt x="205" y="200"/>
                    </a:lnTo>
                    <a:lnTo>
                      <a:pt x="208" y="196"/>
                    </a:lnTo>
                    <a:lnTo>
                      <a:pt x="211" y="191"/>
                    </a:lnTo>
                    <a:lnTo>
                      <a:pt x="213" y="186"/>
                    </a:lnTo>
                    <a:lnTo>
                      <a:pt x="216" y="176"/>
                    </a:lnTo>
                    <a:lnTo>
                      <a:pt x="219" y="165"/>
                    </a:lnTo>
                    <a:lnTo>
                      <a:pt x="221" y="154"/>
                    </a:lnTo>
                    <a:lnTo>
                      <a:pt x="223" y="143"/>
                    </a:lnTo>
                    <a:lnTo>
                      <a:pt x="228" y="145"/>
                    </a:lnTo>
                    <a:lnTo>
                      <a:pt x="232" y="146"/>
                    </a:lnTo>
                    <a:lnTo>
                      <a:pt x="237" y="146"/>
                    </a:lnTo>
                    <a:lnTo>
                      <a:pt x="242" y="146"/>
                    </a:lnTo>
                    <a:lnTo>
                      <a:pt x="246" y="144"/>
                    </a:lnTo>
                    <a:lnTo>
                      <a:pt x="250" y="143"/>
                    </a:lnTo>
                    <a:lnTo>
                      <a:pt x="254" y="140"/>
                    </a:lnTo>
                    <a:lnTo>
                      <a:pt x="258" y="138"/>
                    </a:lnTo>
                    <a:lnTo>
                      <a:pt x="266" y="131"/>
                    </a:lnTo>
                    <a:lnTo>
                      <a:pt x="274" y="122"/>
                    </a:lnTo>
                    <a:lnTo>
                      <a:pt x="280" y="112"/>
                    </a:lnTo>
                    <a:lnTo>
                      <a:pt x="286" y="103"/>
                    </a:lnTo>
                    <a:lnTo>
                      <a:pt x="297" y="83"/>
                    </a:lnTo>
                    <a:lnTo>
                      <a:pt x="308" y="64"/>
                    </a:lnTo>
                    <a:lnTo>
                      <a:pt x="309" y="63"/>
                    </a:lnTo>
                    <a:lnTo>
                      <a:pt x="310" y="64"/>
                    </a:lnTo>
                    <a:lnTo>
                      <a:pt x="312" y="65"/>
                    </a:lnTo>
                    <a:lnTo>
                      <a:pt x="313" y="67"/>
                    </a:lnTo>
                    <a:lnTo>
                      <a:pt x="315" y="70"/>
                    </a:lnTo>
                    <a:lnTo>
                      <a:pt x="316" y="73"/>
                    </a:lnTo>
                    <a:lnTo>
                      <a:pt x="318" y="76"/>
                    </a:lnTo>
                    <a:lnTo>
                      <a:pt x="318" y="77"/>
                    </a:lnTo>
                    <a:lnTo>
                      <a:pt x="319" y="79"/>
                    </a:lnTo>
                    <a:lnTo>
                      <a:pt x="321" y="81"/>
                    </a:lnTo>
                    <a:lnTo>
                      <a:pt x="323" y="81"/>
                    </a:lnTo>
                    <a:lnTo>
                      <a:pt x="325" y="79"/>
                    </a:lnTo>
                    <a:lnTo>
                      <a:pt x="327" y="77"/>
                    </a:lnTo>
                    <a:lnTo>
                      <a:pt x="329" y="76"/>
                    </a:lnTo>
                    <a:lnTo>
                      <a:pt x="329" y="71"/>
                    </a:lnTo>
                    <a:lnTo>
                      <a:pt x="329" y="67"/>
                    </a:lnTo>
                    <a:lnTo>
                      <a:pt x="327" y="63"/>
                    </a:lnTo>
                    <a:lnTo>
                      <a:pt x="326" y="60"/>
                    </a:lnTo>
                    <a:lnTo>
                      <a:pt x="324" y="57"/>
                    </a:lnTo>
                    <a:lnTo>
                      <a:pt x="322" y="54"/>
                    </a:lnTo>
                    <a:lnTo>
                      <a:pt x="319" y="52"/>
                    </a:lnTo>
                    <a:lnTo>
                      <a:pt x="316" y="50"/>
                    </a:lnTo>
                    <a:lnTo>
                      <a:pt x="306" y="45"/>
                    </a:lnTo>
                    <a:lnTo>
                      <a:pt x="296" y="40"/>
                    </a:lnTo>
                    <a:lnTo>
                      <a:pt x="291" y="39"/>
                    </a:lnTo>
                    <a:lnTo>
                      <a:pt x="287" y="38"/>
                    </a:lnTo>
                    <a:lnTo>
                      <a:pt x="282" y="39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5" y="46"/>
                    </a:lnTo>
                    <a:lnTo>
                      <a:pt x="276" y="48"/>
                    </a:lnTo>
                    <a:lnTo>
                      <a:pt x="279" y="50"/>
                    </a:lnTo>
                    <a:lnTo>
                      <a:pt x="288" y="53"/>
                    </a:lnTo>
                    <a:lnTo>
                      <a:pt x="298" y="57"/>
                    </a:lnTo>
                    <a:lnTo>
                      <a:pt x="287" y="77"/>
                    </a:lnTo>
                    <a:lnTo>
                      <a:pt x="275" y="99"/>
                    </a:lnTo>
                    <a:lnTo>
                      <a:pt x="267" y="110"/>
                    </a:lnTo>
                    <a:lnTo>
                      <a:pt x="259" y="118"/>
                    </a:lnTo>
                    <a:lnTo>
                      <a:pt x="255" y="123"/>
                    </a:lnTo>
                    <a:lnTo>
                      <a:pt x="250" y="127"/>
                    </a:lnTo>
                    <a:lnTo>
                      <a:pt x="245" y="129"/>
                    </a:lnTo>
                    <a:lnTo>
                      <a:pt x="240" y="132"/>
                    </a:lnTo>
                    <a:lnTo>
                      <a:pt x="235" y="134"/>
                    </a:lnTo>
                    <a:lnTo>
                      <a:pt x="231" y="134"/>
                    </a:lnTo>
                    <a:lnTo>
                      <a:pt x="226" y="132"/>
                    </a:lnTo>
                    <a:lnTo>
                      <a:pt x="222" y="131"/>
                    </a:lnTo>
                    <a:lnTo>
                      <a:pt x="213" y="125"/>
                    </a:lnTo>
                    <a:lnTo>
                      <a:pt x="206" y="121"/>
                    </a:lnTo>
                    <a:lnTo>
                      <a:pt x="202" y="117"/>
                    </a:lnTo>
                    <a:lnTo>
                      <a:pt x="198" y="112"/>
                    </a:lnTo>
                    <a:lnTo>
                      <a:pt x="196" y="106"/>
                    </a:lnTo>
                    <a:lnTo>
                      <a:pt x="195" y="100"/>
                    </a:lnTo>
                    <a:lnTo>
                      <a:pt x="194" y="93"/>
                    </a:lnTo>
                    <a:lnTo>
                      <a:pt x="193" y="88"/>
                    </a:lnTo>
                    <a:lnTo>
                      <a:pt x="191" y="82"/>
                    </a:lnTo>
                    <a:lnTo>
                      <a:pt x="188" y="79"/>
                    </a:lnTo>
                    <a:lnTo>
                      <a:pt x="193" y="67"/>
                    </a:lnTo>
                    <a:lnTo>
                      <a:pt x="198" y="64"/>
                    </a:lnTo>
                    <a:lnTo>
                      <a:pt x="204" y="62"/>
                    </a:lnTo>
                    <a:lnTo>
                      <a:pt x="209" y="58"/>
                    </a:lnTo>
                    <a:lnTo>
                      <a:pt x="213" y="53"/>
                    </a:lnTo>
                    <a:lnTo>
                      <a:pt x="217" y="48"/>
                    </a:lnTo>
                    <a:lnTo>
                      <a:pt x="221" y="43"/>
                    </a:lnTo>
                    <a:lnTo>
                      <a:pt x="223" y="37"/>
                    </a:lnTo>
                    <a:lnTo>
                      <a:pt x="225" y="31"/>
                    </a:lnTo>
                    <a:lnTo>
                      <a:pt x="224" y="29"/>
                    </a:lnTo>
                    <a:lnTo>
                      <a:pt x="224" y="27"/>
                    </a:lnTo>
                    <a:lnTo>
                      <a:pt x="225" y="26"/>
                    </a:lnTo>
                    <a:lnTo>
                      <a:pt x="225" y="24"/>
                    </a:lnTo>
                    <a:lnTo>
                      <a:pt x="234" y="26"/>
                    </a:lnTo>
                    <a:lnTo>
                      <a:pt x="244" y="29"/>
                    </a:lnTo>
                    <a:lnTo>
                      <a:pt x="254" y="32"/>
                    </a:lnTo>
                    <a:lnTo>
                      <a:pt x="264" y="35"/>
                    </a:lnTo>
                    <a:lnTo>
                      <a:pt x="266" y="35"/>
                    </a:lnTo>
                    <a:lnTo>
                      <a:pt x="267" y="33"/>
                    </a:lnTo>
                    <a:lnTo>
                      <a:pt x="270" y="31"/>
                    </a:lnTo>
                    <a:lnTo>
                      <a:pt x="271" y="29"/>
                    </a:lnTo>
                    <a:lnTo>
                      <a:pt x="269" y="26"/>
                    </a:lnTo>
                    <a:lnTo>
                      <a:pt x="267" y="23"/>
                    </a:lnTo>
                    <a:lnTo>
                      <a:pt x="265" y="22"/>
                    </a:lnTo>
                    <a:lnTo>
                      <a:pt x="262" y="21"/>
                    </a:lnTo>
                    <a:lnTo>
                      <a:pt x="256" y="20"/>
                    </a:lnTo>
                    <a:lnTo>
                      <a:pt x="250" y="19"/>
                    </a:lnTo>
                    <a:lnTo>
                      <a:pt x="245" y="16"/>
                    </a:lnTo>
                    <a:lnTo>
                      <a:pt x="239" y="14"/>
                    </a:lnTo>
                    <a:lnTo>
                      <a:pt x="233" y="14"/>
                    </a:lnTo>
                    <a:lnTo>
                      <a:pt x="226" y="15"/>
                    </a:lnTo>
                    <a:lnTo>
                      <a:pt x="221" y="15"/>
                    </a:lnTo>
                    <a:lnTo>
                      <a:pt x="215" y="15"/>
                    </a:lnTo>
                    <a:lnTo>
                      <a:pt x="213" y="14"/>
                    </a:lnTo>
                    <a:lnTo>
                      <a:pt x="210" y="13"/>
                    </a:lnTo>
                    <a:lnTo>
                      <a:pt x="207" y="12"/>
                    </a:lnTo>
                    <a:lnTo>
                      <a:pt x="206" y="10"/>
                    </a:lnTo>
                    <a:lnTo>
                      <a:pt x="200" y="10"/>
                    </a:lnTo>
                    <a:lnTo>
                      <a:pt x="196" y="10"/>
                    </a:lnTo>
                    <a:lnTo>
                      <a:pt x="281" y="0"/>
                    </a:lnTo>
                    <a:lnTo>
                      <a:pt x="279" y="4"/>
                    </a:lnTo>
                    <a:lnTo>
                      <a:pt x="279" y="9"/>
                    </a:lnTo>
                    <a:lnTo>
                      <a:pt x="280" y="12"/>
                    </a:lnTo>
                    <a:lnTo>
                      <a:pt x="281" y="16"/>
                    </a:lnTo>
                    <a:lnTo>
                      <a:pt x="283" y="20"/>
                    </a:lnTo>
                    <a:lnTo>
                      <a:pt x="283" y="24"/>
                    </a:lnTo>
                    <a:lnTo>
                      <a:pt x="283" y="27"/>
                    </a:lnTo>
                    <a:lnTo>
                      <a:pt x="283" y="31"/>
                    </a:lnTo>
                    <a:lnTo>
                      <a:pt x="285" y="33"/>
                    </a:lnTo>
                    <a:lnTo>
                      <a:pt x="288" y="35"/>
                    </a:lnTo>
                    <a:lnTo>
                      <a:pt x="291" y="35"/>
                    </a:lnTo>
                    <a:lnTo>
                      <a:pt x="294" y="35"/>
                    </a:lnTo>
                    <a:lnTo>
                      <a:pt x="296" y="33"/>
                    </a:lnTo>
                    <a:lnTo>
                      <a:pt x="297" y="31"/>
                    </a:lnTo>
                    <a:lnTo>
                      <a:pt x="297" y="27"/>
                    </a:lnTo>
                    <a:lnTo>
                      <a:pt x="297" y="24"/>
                    </a:lnTo>
                    <a:lnTo>
                      <a:pt x="305" y="31"/>
                    </a:lnTo>
                    <a:lnTo>
                      <a:pt x="313" y="38"/>
                    </a:lnTo>
                    <a:lnTo>
                      <a:pt x="320" y="46"/>
                    </a:lnTo>
                    <a:lnTo>
                      <a:pt x="327" y="55"/>
                    </a:lnTo>
                    <a:lnTo>
                      <a:pt x="332" y="65"/>
                    </a:lnTo>
                    <a:lnTo>
                      <a:pt x="336" y="76"/>
                    </a:lnTo>
                    <a:lnTo>
                      <a:pt x="337" y="81"/>
                    </a:lnTo>
                    <a:lnTo>
                      <a:pt x="338" y="87"/>
                    </a:lnTo>
                    <a:lnTo>
                      <a:pt x="339" y="92"/>
                    </a:lnTo>
                    <a:lnTo>
                      <a:pt x="339" y="98"/>
                    </a:lnTo>
                    <a:lnTo>
                      <a:pt x="337" y="105"/>
                    </a:lnTo>
                    <a:lnTo>
                      <a:pt x="337" y="110"/>
                    </a:lnTo>
                    <a:lnTo>
                      <a:pt x="334" y="117"/>
                    </a:lnTo>
                    <a:lnTo>
                      <a:pt x="331" y="123"/>
                    </a:lnTo>
                    <a:lnTo>
                      <a:pt x="324" y="134"/>
                    </a:lnTo>
                    <a:lnTo>
                      <a:pt x="316" y="143"/>
                    </a:lnTo>
                    <a:lnTo>
                      <a:pt x="307" y="151"/>
                    </a:lnTo>
                    <a:lnTo>
                      <a:pt x="297" y="160"/>
                    </a:lnTo>
                    <a:lnTo>
                      <a:pt x="287" y="167"/>
                    </a:lnTo>
                    <a:lnTo>
                      <a:pt x="277" y="175"/>
                    </a:lnTo>
                    <a:lnTo>
                      <a:pt x="267" y="177"/>
                    </a:lnTo>
                    <a:lnTo>
                      <a:pt x="260" y="179"/>
                    </a:lnTo>
                    <a:lnTo>
                      <a:pt x="251" y="181"/>
                    </a:lnTo>
                    <a:lnTo>
                      <a:pt x="242" y="181"/>
                    </a:lnTo>
                    <a:lnTo>
                      <a:pt x="244" y="176"/>
                    </a:lnTo>
                    <a:lnTo>
                      <a:pt x="247" y="173"/>
                    </a:lnTo>
                    <a:lnTo>
                      <a:pt x="248" y="171"/>
                    </a:lnTo>
                    <a:lnTo>
                      <a:pt x="250" y="169"/>
                    </a:lnTo>
                    <a:lnTo>
                      <a:pt x="251" y="167"/>
                    </a:lnTo>
                    <a:lnTo>
                      <a:pt x="251" y="165"/>
                    </a:lnTo>
                    <a:lnTo>
                      <a:pt x="248" y="163"/>
                    </a:lnTo>
                    <a:lnTo>
                      <a:pt x="247" y="162"/>
                    </a:lnTo>
                    <a:lnTo>
                      <a:pt x="244" y="160"/>
                    </a:lnTo>
                    <a:lnTo>
                      <a:pt x="242" y="162"/>
                    </a:lnTo>
                    <a:lnTo>
                      <a:pt x="228" y="185"/>
                    </a:lnTo>
                    <a:lnTo>
                      <a:pt x="212" y="208"/>
                    </a:lnTo>
                    <a:lnTo>
                      <a:pt x="203" y="218"/>
                    </a:lnTo>
                    <a:lnTo>
                      <a:pt x="194" y="227"/>
                    </a:lnTo>
                    <a:lnTo>
                      <a:pt x="188" y="232"/>
                    </a:lnTo>
                    <a:lnTo>
                      <a:pt x="183" y="234"/>
                    </a:lnTo>
                    <a:lnTo>
                      <a:pt x="178" y="239"/>
                    </a:lnTo>
                    <a:lnTo>
                      <a:pt x="172" y="241"/>
                    </a:lnTo>
                    <a:lnTo>
                      <a:pt x="164" y="240"/>
                    </a:lnTo>
                    <a:lnTo>
                      <a:pt x="159" y="239"/>
                    </a:lnTo>
                    <a:lnTo>
                      <a:pt x="153" y="236"/>
                    </a:lnTo>
                    <a:lnTo>
                      <a:pt x="148" y="232"/>
                    </a:lnTo>
                    <a:lnTo>
                      <a:pt x="137" y="222"/>
                    </a:lnTo>
                    <a:lnTo>
                      <a:pt x="128" y="211"/>
                    </a:lnTo>
                    <a:lnTo>
                      <a:pt x="124" y="206"/>
                    </a:lnTo>
                    <a:lnTo>
                      <a:pt x="121" y="201"/>
                    </a:lnTo>
                    <a:lnTo>
                      <a:pt x="118" y="196"/>
                    </a:lnTo>
                    <a:lnTo>
                      <a:pt x="116" y="189"/>
                    </a:lnTo>
                    <a:lnTo>
                      <a:pt x="114" y="184"/>
                    </a:lnTo>
                    <a:lnTo>
                      <a:pt x="113" y="177"/>
                    </a:lnTo>
                    <a:lnTo>
                      <a:pt x="113" y="170"/>
                    </a:lnTo>
                    <a:lnTo>
                      <a:pt x="114" y="164"/>
                    </a:lnTo>
                    <a:lnTo>
                      <a:pt x="113" y="160"/>
                    </a:lnTo>
                    <a:lnTo>
                      <a:pt x="110" y="158"/>
                    </a:lnTo>
                    <a:lnTo>
                      <a:pt x="106" y="157"/>
                    </a:lnTo>
                    <a:lnTo>
                      <a:pt x="104" y="157"/>
                    </a:lnTo>
                    <a:lnTo>
                      <a:pt x="101" y="160"/>
                    </a:lnTo>
                    <a:lnTo>
                      <a:pt x="100" y="164"/>
                    </a:lnTo>
                    <a:lnTo>
                      <a:pt x="101" y="167"/>
                    </a:lnTo>
                    <a:lnTo>
                      <a:pt x="102" y="170"/>
                    </a:lnTo>
                    <a:lnTo>
                      <a:pt x="87" y="170"/>
                    </a:lnTo>
                    <a:lnTo>
                      <a:pt x="73" y="167"/>
                    </a:lnTo>
                    <a:lnTo>
                      <a:pt x="59" y="164"/>
                    </a:lnTo>
                    <a:lnTo>
                      <a:pt x="45" y="158"/>
                    </a:lnTo>
                    <a:lnTo>
                      <a:pt x="39" y="154"/>
                    </a:lnTo>
                    <a:lnTo>
                      <a:pt x="33" y="150"/>
                    </a:lnTo>
                    <a:lnTo>
                      <a:pt x="27" y="146"/>
                    </a:lnTo>
                    <a:lnTo>
                      <a:pt x="21" y="141"/>
                    </a:lnTo>
                    <a:lnTo>
                      <a:pt x="16" y="136"/>
                    </a:lnTo>
                    <a:lnTo>
                      <a:pt x="12" y="131"/>
                    </a:lnTo>
                    <a:lnTo>
                      <a:pt x="8" y="125"/>
                    </a:lnTo>
                    <a:lnTo>
                      <a:pt x="4" y="118"/>
                    </a:lnTo>
                    <a:lnTo>
                      <a:pt x="2" y="115"/>
                    </a:lnTo>
                    <a:lnTo>
                      <a:pt x="1" y="110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1" y="87"/>
                    </a:lnTo>
                    <a:lnTo>
                      <a:pt x="6" y="72"/>
                    </a:lnTo>
                    <a:lnTo>
                      <a:pt x="11" y="57"/>
                    </a:lnTo>
                    <a:lnTo>
                      <a:pt x="37" y="34"/>
                    </a:lnTo>
                  </a:path>
                </a:pathLst>
              </a:cu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93920" y="5105520"/>
                <a:ext cx="446040" cy="220680"/>
              </a:xfrm>
              <a:custGeom>
                <a:avLst/>
                <a:gdLst/>
                <a:ahLst/>
                <a:rect l="l" t="t" r="r" b="b"/>
                <a:pathLst>
                  <a:path w="281" h="139">
                    <a:moveTo>
                      <a:pt x="14" y="36"/>
                    </a:moveTo>
                    <a:lnTo>
                      <a:pt x="22" y="32"/>
                    </a:lnTo>
                    <a:lnTo>
                      <a:pt x="29" y="28"/>
                    </a:lnTo>
                    <a:lnTo>
                      <a:pt x="37" y="26"/>
                    </a:lnTo>
                    <a:lnTo>
                      <a:pt x="45" y="24"/>
                    </a:lnTo>
                    <a:lnTo>
                      <a:pt x="62" y="19"/>
                    </a:lnTo>
                    <a:lnTo>
                      <a:pt x="79" y="16"/>
                    </a:lnTo>
                    <a:lnTo>
                      <a:pt x="97" y="14"/>
                    </a:lnTo>
                    <a:lnTo>
                      <a:pt x="113" y="11"/>
                    </a:lnTo>
                    <a:lnTo>
                      <a:pt x="131" y="9"/>
                    </a:lnTo>
                    <a:lnTo>
                      <a:pt x="148" y="5"/>
                    </a:lnTo>
                    <a:lnTo>
                      <a:pt x="164" y="3"/>
                    </a:lnTo>
                    <a:lnTo>
                      <a:pt x="180" y="1"/>
                    </a:lnTo>
                    <a:lnTo>
                      <a:pt x="197" y="0"/>
                    </a:lnTo>
                    <a:lnTo>
                      <a:pt x="214" y="0"/>
                    </a:lnTo>
                    <a:lnTo>
                      <a:pt x="231" y="0"/>
                    </a:lnTo>
                    <a:lnTo>
                      <a:pt x="248" y="1"/>
                    </a:lnTo>
                    <a:lnTo>
                      <a:pt x="264" y="2"/>
                    </a:lnTo>
                    <a:lnTo>
                      <a:pt x="280" y="4"/>
                    </a:lnTo>
                    <a:lnTo>
                      <a:pt x="277" y="33"/>
                    </a:lnTo>
                    <a:lnTo>
                      <a:pt x="273" y="62"/>
                    </a:lnTo>
                    <a:lnTo>
                      <a:pt x="269" y="91"/>
                    </a:lnTo>
                    <a:lnTo>
                      <a:pt x="266" y="119"/>
                    </a:lnTo>
                    <a:lnTo>
                      <a:pt x="265" y="120"/>
                    </a:lnTo>
                    <a:lnTo>
                      <a:pt x="264" y="121"/>
                    </a:lnTo>
                    <a:lnTo>
                      <a:pt x="264" y="122"/>
                    </a:lnTo>
                    <a:lnTo>
                      <a:pt x="265" y="124"/>
                    </a:lnTo>
                    <a:lnTo>
                      <a:pt x="264" y="126"/>
                    </a:lnTo>
                    <a:lnTo>
                      <a:pt x="250" y="129"/>
                    </a:lnTo>
                    <a:lnTo>
                      <a:pt x="235" y="133"/>
                    </a:lnTo>
                    <a:lnTo>
                      <a:pt x="219" y="134"/>
                    </a:lnTo>
                    <a:lnTo>
                      <a:pt x="204" y="136"/>
                    </a:lnTo>
                    <a:lnTo>
                      <a:pt x="174" y="138"/>
                    </a:lnTo>
                    <a:lnTo>
                      <a:pt x="143" y="138"/>
                    </a:lnTo>
                    <a:lnTo>
                      <a:pt x="113" y="138"/>
                    </a:lnTo>
                    <a:lnTo>
                      <a:pt x="83" y="137"/>
                    </a:lnTo>
                    <a:lnTo>
                      <a:pt x="52" y="135"/>
                    </a:lnTo>
                    <a:lnTo>
                      <a:pt x="23" y="135"/>
                    </a:lnTo>
                    <a:lnTo>
                      <a:pt x="16" y="114"/>
                    </a:lnTo>
                    <a:lnTo>
                      <a:pt x="10" y="92"/>
                    </a:lnTo>
                    <a:lnTo>
                      <a:pt x="6" y="81"/>
                    </a:lnTo>
                    <a:lnTo>
                      <a:pt x="3" y="69"/>
                    </a:lnTo>
                    <a:lnTo>
                      <a:pt x="2" y="57"/>
                    </a:lnTo>
                    <a:lnTo>
                      <a:pt x="0" y="45"/>
                    </a:lnTo>
                    <a:lnTo>
                      <a:pt x="3" y="43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0"/>
                    </a:lnTo>
                    <a:lnTo>
                      <a:pt x="13" y="38"/>
                    </a:lnTo>
                    <a:lnTo>
                      <a:pt x="14" y="36"/>
                    </a:lnTo>
                  </a:path>
                </a:pathLst>
              </a:custGeom>
              <a:solidFill>
                <a:srgbClr val="e46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52600" y="60930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27" y="0"/>
                    </a:moveTo>
                    <a:lnTo>
                      <a:pt x="29" y="10"/>
                    </a:lnTo>
                    <a:lnTo>
                      <a:pt x="33" y="21"/>
                    </a:lnTo>
                    <a:lnTo>
                      <a:pt x="34" y="25"/>
                    </a:lnTo>
                    <a:lnTo>
                      <a:pt x="35" y="30"/>
                    </a:lnTo>
                    <a:lnTo>
                      <a:pt x="35" y="36"/>
                    </a:lnTo>
                    <a:lnTo>
                      <a:pt x="33" y="40"/>
                    </a:lnTo>
                    <a:lnTo>
                      <a:pt x="34" y="43"/>
                    </a:lnTo>
                    <a:lnTo>
                      <a:pt x="36" y="45"/>
                    </a:lnTo>
                    <a:lnTo>
                      <a:pt x="31" y="46"/>
                    </a:lnTo>
                    <a:lnTo>
                      <a:pt x="27" y="49"/>
                    </a:lnTo>
                    <a:lnTo>
                      <a:pt x="23" y="52"/>
                    </a:lnTo>
                    <a:lnTo>
                      <a:pt x="20" y="55"/>
                    </a:lnTo>
                    <a:lnTo>
                      <a:pt x="0" y="57"/>
                    </a:lnTo>
                    <a:lnTo>
                      <a:pt x="9" y="44"/>
                    </a:lnTo>
                    <a:lnTo>
                      <a:pt x="17" y="30"/>
                    </a:lnTo>
                    <a:lnTo>
                      <a:pt x="20" y="22"/>
                    </a:lnTo>
                    <a:lnTo>
                      <a:pt x="24" y="15"/>
                    </a:lnTo>
                    <a:lnTo>
                      <a:pt x="25" y="7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04800" y="6176880"/>
                <a:ext cx="74880" cy="138240"/>
              </a:xfrm>
              <a:custGeom>
                <a:avLst/>
                <a:gdLst/>
                <a:ahLst/>
                <a:rect l="l" t="t" r="r" b="b"/>
                <a:pathLst>
                  <a:path w="47" h="87">
                    <a:moveTo>
                      <a:pt x="27" y="3"/>
                    </a:moveTo>
                    <a:lnTo>
                      <a:pt x="33" y="10"/>
                    </a:lnTo>
                    <a:lnTo>
                      <a:pt x="38" y="18"/>
                    </a:lnTo>
                    <a:lnTo>
                      <a:pt x="41" y="26"/>
                    </a:lnTo>
                    <a:lnTo>
                      <a:pt x="44" y="34"/>
                    </a:lnTo>
                    <a:lnTo>
                      <a:pt x="45" y="43"/>
                    </a:lnTo>
                    <a:lnTo>
                      <a:pt x="46" y="51"/>
                    </a:lnTo>
                    <a:lnTo>
                      <a:pt x="46" y="60"/>
                    </a:lnTo>
                    <a:lnTo>
                      <a:pt x="45" y="69"/>
                    </a:lnTo>
                    <a:lnTo>
                      <a:pt x="44" y="73"/>
                    </a:lnTo>
                    <a:lnTo>
                      <a:pt x="41" y="77"/>
                    </a:lnTo>
                    <a:lnTo>
                      <a:pt x="38" y="79"/>
                    </a:lnTo>
                    <a:lnTo>
                      <a:pt x="36" y="81"/>
                    </a:lnTo>
                    <a:lnTo>
                      <a:pt x="29" y="84"/>
                    </a:lnTo>
                    <a:lnTo>
                      <a:pt x="22" y="86"/>
                    </a:lnTo>
                    <a:lnTo>
                      <a:pt x="24" y="81"/>
                    </a:lnTo>
                    <a:lnTo>
                      <a:pt x="25" y="77"/>
                    </a:lnTo>
                    <a:lnTo>
                      <a:pt x="25" y="72"/>
                    </a:lnTo>
                    <a:lnTo>
                      <a:pt x="25" y="67"/>
                    </a:lnTo>
                    <a:lnTo>
                      <a:pt x="25" y="59"/>
                    </a:lnTo>
                    <a:lnTo>
                      <a:pt x="22" y="49"/>
                    </a:lnTo>
                    <a:lnTo>
                      <a:pt x="14" y="32"/>
                    </a:lnTo>
                    <a:lnTo>
                      <a:pt x="9" y="1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1" y="1"/>
                    </a:lnTo>
                    <a:lnTo>
                      <a:pt x="27" y="3"/>
                    </a:lnTo>
                  </a:path>
                </a:pathLst>
              </a:cu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12720" y="55641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0"/>
                    </a:moveTo>
                    <a:lnTo>
                      <a:pt x="8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52680" y="55944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9" y="2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54120" y="5567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8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4600" y="548784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16" y="1"/>
                    </a:moveTo>
                    <a:lnTo>
                      <a:pt x="26" y="0"/>
                    </a:lnTo>
                    <a:lnTo>
                      <a:pt x="38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3" y="4"/>
                    </a:lnTo>
                    <a:lnTo>
                      <a:pt x="58" y="7"/>
                    </a:lnTo>
                    <a:lnTo>
                      <a:pt x="51" y="5"/>
                    </a:lnTo>
                    <a:lnTo>
                      <a:pt x="44" y="4"/>
                    </a:lnTo>
                    <a:lnTo>
                      <a:pt x="37" y="3"/>
                    </a:lnTo>
                    <a:lnTo>
                      <a:pt x="29" y="4"/>
                    </a:lnTo>
                    <a:lnTo>
                      <a:pt x="22" y="5"/>
                    </a:lnTo>
                    <a:lnTo>
                      <a:pt x="15" y="5"/>
                    </a:lnTo>
                    <a:lnTo>
                      <a:pt x="7" y="8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19280" y="5603760"/>
                <a:ext cx="108000" cy="17172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4" y="24"/>
                    </a:moveTo>
                    <a:lnTo>
                      <a:pt x="11" y="20"/>
                    </a:lnTo>
                    <a:lnTo>
                      <a:pt x="17" y="14"/>
                    </a:lnTo>
                    <a:lnTo>
                      <a:pt x="23" y="7"/>
                    </a:lnTo>
                    <a:lnTo>
                      <a:pt x="28" y="0"/>
                    </a:lnTo>
                    <a:lnTo>
                      <a:pt x="31" y="9"/>
                    </a:lnTo>
                    <a:lnTo>
                      <a:pt x="32" y="18"/>
                    </a:lnTo>
                    <a:lnTo>
                      <a:pt x="33" y="28"/>
                    </a:lnTo>
                    <a:lnTo>
                      <a:pt x="33" y="36"/>
                    </a:lnTo>
                    <a:lnTo>
                      <a:pt x="32" y="45"/>
                    </a:lnTo>
                    <a:lnTo>
                      <a:pt x="31" y="53"/>
                    </a:lnTo>
                    <a:lnTo>
                      <a:pt x="28" y="61"/>
                    </a:lnTo>
                    <a:lnTo>
                      <a:pt x="23" y="68"/>
                    </a:lnTo>
                    <a:lnTo>
                      <a:pt x="23" y="71"/>
                    </a:lnTo>
                    <a:lnTo>
                      <a:pt x="23" y="72"/>
                    </a:lnTo>
                    <a:lnTo>
                      <a:pt x="25" y="74"/>
                    </a:lnTo>
                    <a:lnTo>
                      <a:pt x="25" y="75"/>
                    </a:lnTo>
                    <a:lnTo>
                      <a:pt x="28" y="76"/>
                    </a:lnTo>
                    <a:lnTo>
                      <a:pt x="31" y="74"/>
                    </a:lnTo>
                    <a:lnTo>
                      <a:pt x="36" y="68"/>
                    </a:lnTo>
                    <a:lnTo>
                      <a:pt x="39" y="61"/>
                    </a:lnTo>
                    <a:lnTo>
                      <a:pt x="41" y="55"/>
                    </a:lnTo>
                    <a:lnTo>
                      <a:pt x="42" y="47"/>
                    </a:lnTo>
                    <a:lnTo>
                      <a:pt x="44" y="33"/>
                    </a:lnTo>
                    <a:lnTo>
                      <a:pt x="44" y="16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56" y="32"/>
                    </a:lnTo>
                    <a:lnTo>
                      <a:pt x="59" y="35"/>
                    </a:lnTo>
                    <a:lnTo>
                      <a:pt x="63" y="37"/>
                    </a:lnTo>
                    <a:lnTo>
                      <a:pt x="67" y="39"/>
                    </a:lnTo>
                    <a:lnTo>
                      <a:pt x="66" y="48"/>
                    </a:lnTo>
                    <a:lnTo>
                      <a:pt x="65" y="59"/>
                    </a:lnTo>
                    <a:lnTo>
                      <a:pt x="63" y="68"/>
                    </a:lnTo>
                    <a:lnTo>
                      <a:pt x="61" y="78"/>
                    </a:lnTo>
                    <a:lnTo>
                      <a:pt x="56" y="86"/>
                    </a:lnTo>
                    <a:lnTo>
                      <a:pt x="51" y="94"/>
                    </a:lnTo>
                    <a:lnTo>
                      <a:pt x="48" y="97"/>
                    </a:lnTo>
                    <a:lnTo>
                      <a:pt x="44" y="100"/>
                    </a:lnTo>
                    <a:lnTo>
                      <a:pt x="41" y="103"/>
                    </a:lnTo>
                    <a:lnTo>
                      <a:pt x="36" y="105"/>
                    </a:lnTo>
                    <a:lnTo>
                      <a:pt x="28" y="106"/>
                    </a:lnTo>
                    <a:lnTo>
                      <a:pt x="21" y="107"/>
                    </a:lnTo>
                    <a:lnTo>
                      <a:pt x="17" y="107"/>
                    </a:lnTo>
                    <a:lnTo>
                      <a:pt x="13" y="106"/>
                    </a:lnTo>
                    <a:lnTo>
                      <a:pt x="9" y="104"/>
                    </a:lnTo>
                    <a:lnTo>
                      <a:pt x="7" y="101"/>
                    </a:lnTo>
                    <a:lnTo>
                      <a:pt x="4" y="97"/>
                    </a:lnTo>
                    <a:lnTo>
                      <a:pt x="2" y="92"/>
                    </a:lnTo>
                    <a:lnTo>
                      <a:pt x="1" y="88"/>
                    </a:lnTo>
                    <a:lnTo>
                      <a:pt x="0" y="83"/>
                    </a:lnTo>
                    <a:lnTo>
                      <a:pt x="0" y="74"/>
                    </a:lnTo>
                    <a:lnTo>
                      <a:pt x="1" y="64"/>
                    </a:lnTo>
                    <a:lnTo>
                      <a:pt x="3" y="54"/>
                    </a:lnTo>
                    <a:lnTo>
                      <a:pt x="4" y="45"/>
                    </a:lnTo>
                    <a:lnTo>
                      <a:pt x="6" y="34"/>
                    </a:lnTo>
                    <a:lnTo>
                      <a:pt x="4" y="24"/>
                    </a:lnTo>
                  </a:path>
                </a:pathLst>
              </a:custGeom>
              <a:solidFill>
                <a:srgbClr val="ed8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74720" y="55879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3" y="4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d8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38440" y="5553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0"/>
                    </a:moveTo>
                    <a:lnTo>
                      <a:pt x="7" y="0"/>
                    </a:lnTo>
                    <a:lnTo>
                      <a:pt x="9" y="1"/>
                    </a:lnTo>
                    <a:lnTo>
                      <a:pt x="10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46360" y="55976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2" y="0"/>
                    </a:moveTo>
                    <a:lnTo>
                      <a:pt x="6" y="1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54280" y="6053040"/>
                <a:ext cx="147600" cy="230400"/>
              </a:xfrm>
              <a:custGeom>
                <a:avLst/>
                <a:gdLst/>
                <a:ahLst/>
                <a:rect l="l" t="t" r="r" b="b"/>
                <a:pathLst>
                  <a:path w="93" h="145">
                    <a:moveTo>
                      <a:pt x="15" y="2"/>
                    </a:moveTo>
                    <a:lnTo>
                      <a:pt x="27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10"/>
                    </a:lnTo>
                    <a:lnTo>
                      <a:pt x="73" y="21"/>
                    </a:lnTo>
                    <a:lnTo>
                      <a:pt x="79" y="32"/>
                    </a:lnTo>
                    <a:lnTo>
                      <a:pt x="83" y="43"/>
                    </a:lnTo>
                    <a:lnTo>
                      <a:pt x="87" y="55"/>
                    </a:lnTo>
                    <a:lnTo>
                      <a:pt x="89" y="67"/>
                    </a:lnTo>
                    <a:lnTo>
                      <a:pt x="91" y="79"/>
                    </a:lnTo>
                    <a:lnTo>
                      <a:pt x="92" y="92"/>
                    </a:lnTo>
                    <a:lnTo>
                      <a:pt x="91" y="96"/>
                    </a:lnTo>
                    <a:lnTo>
                      <a:pt x="90" y="100"/>
                    </a:lnTo>
                    <a:lnTo>
                      <a:pt x="89" y="103"/>
                    </a:lnTo>
                    <a:lnTo>
                      <a:pt x="87" y="107"/>
                    </a:lnTo>
                    <a:lnTo>
                      <a:pt x="84" y="111"/>
                    </a:lnTo>
                    <a:lnTo>
                      <a:pt x="81" y="114"/>
                    </a:lnTo>
                    <a:lnTo>
                      <a:pt x="78" y="115"/>
                    </a:lnTo>
                    <a:lnTo>
                      <a:pt x="75" y="118"/>
                    </a:lnTo>
                    <a:lnTo>
                      <a:pt x="62" y="123"/>
                    </a:lnTo>
                    <a:lnTo>
                      <a:pt x="63" y="115"/>
                    </a:lnTo>
                    <a:lnTo>
                      <a:pt x="64" y="108"/>
                    </a:lnTo>
                    <a:lnTo>
                      <a:pt x="64" y="100"/>
                    </a:lnTo>
                    <a:lnTo>
                      <a:pt x="63" y="92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5" y="70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6" y="70"/>
                    </a:lnTo>
                    <a:lnTo>
                      <a:pt x="48" y="79"/>
                    </a:lnTo>
                    <a:lnTo>
                      <a:pt x="50" y="87"/>
                    </a:lnTo>
                    <a:lnTo>
                      <a:pt x="52" y="96"/>
                    </a:lnTo>
                    <a:lnTo>
                      <a:pt x="52" y="105"/>
                    </a:lnTo>
                    <a:lnTo>
                      <a:pt x="52" y="112"/>
                    </a:lnTo>
                    <a:lnTo>
                      <a:pt x="50" y="121"/>
                    </a:lnTo>
                    <a:lnTo>
                      <a:pt x="47" y="129"/>
                    </a:lnTo>
                    <a:lnTo>
                      <a:pt x="44" y="137"/>
                    </a:lnTo>
                    <a:lnTo>
                      <a:pt x="40" y="139"/>
                    </a:lnTo>
                    <a:lnTo>
                      <a:pt x="36" y="142"/>
                    </a:lnTo>
                    <a:lnTo>
                      <a:pt x="32" y="144"/>
                    </a:lnTo>
                    <a:lnTo>
                      <a:pt x="27" y="144"/>
                    </a:lnTo>
                    <a:lnTo>
                      <a:pt x="32" y="140"/>
                    </a:lnTo>
                    <a:lnTo>
                      <a:pt x="36" y="134"/>
                    </a:lnTo>
                    <a:lnTo>
                      <a:pt x="38" y="129"/>
                    </a:lnTo>
                    <a:lnTo>
                      <a:pt x="40" y="123"/>
                    </a:lnTo>
                    <a:lnTo>
                      <a:pt x="40" y="108"/>
                    </a:lnTo>
                    <a:lnTo>
                      <a:pt x="38" y="94"/>
                    </a:lnTo>
                    <a:lnTo>
                      <a:pt x="35" y="80"/>
                    </a:lnTo>
                    <a:lnTo>
                      <a:pt x="30" y="67"/>
                    </a:lnTo>
                    <a:lnTo>
                      <a:pt x="25" y="54"/>
                    </a:lnTo>
                    <a:lnTo>
                      <a:pt x="19" y="41"/>
                    </a:lnTo>
                    <a:lnTo>
                      <a:pt x="12" y="29"/>
                    </a:lnTo>
                    <a:lnTo>
                      <a:pt x="5" y="16"/>
                    </a:lnTo>
                    <a:lnTo>
                      <a:pt x="0" y="12"/>
                    </a:lnTo>
                    <a:lnTo>
                      <a:pt x="7" y="9"/>
                    </a:lnTo>
                    <a:lnTo>
                      <a:pt x="15" y="2"/>
                    </a:lnTo>
                  </a:path>
                </a:pathLst>
              </a:cu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62200" y="55767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921280" y="3962520"/>
            <a:ext cx="1827360" cy="267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38280" y="2176560"/>
            <a:ext cx="3856320" cy="470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8040" y="302760"/>
            <a:ext cx="7851600" cy="1451160"/>
          </a:xfrm>
          <a:prstGeom prst="rect">
            <a:avLst/>
          </a:prstGeom>
          <a:solidFill>
            <a:srgbClr val="ffff00"/>
          </a:solidFill>
          <a:ln w="25560">
            <a:solidFill>
              <a:srgbClr val="9933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“</a:t>
            </a: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Old Geezer” - Style Safety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243828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Years ago – Polic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Do it my way or risk losing your jo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592360" cy="360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2589120" cy="322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71440" y="22860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Do As I Say, Not As I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Benguiat Bk BT"/>
              </a:rPr>
              <a:t>Do As I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You Must Enforce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Benguiat Bk BT"/>
              </a:rPr>
              <a:t>You Must Educate Safety</a:t>
            </a:r>
            <a:r>
              <a:rPr b="1" lang="en-US" sz="3200" spc="-1" strike="noStrike">
                <a:solidFill>
                  <a:srgbClr val="99ff33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Production Above All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Benguiat Bk BT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Benguiat Bk BT"/>
              </a:rPr>
              <a:t>Saf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4440" y="453960"/>
            <a:ext cx="744228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173400" cy="449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297180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Tea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Way to Build a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Dependent on Buy-In From Every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nguiat Bk BT"/>
              </a:rPr>
              <a:t>Measurable (Behavior) vs. Non-Measurable (Attitu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1523880"/>
            <a:ext cx="2743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99ff33"/>
                </a:solidFill>
                <a:uFillTx/>
                <a:latin typeface="Benguiat Bk BT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40560" y="1447920"/>
            <a:ext cx="2529000" cy="353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643200"/>
            <a:ext cx="2254320" cy="32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ead by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Explain vs. Expl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Consistently Follow Safet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Manage Behavior - Not At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ke Safety Seri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4876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Benguiat Bk BT"/>
              </a:rPr>
              <a:t>Superviso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786040" cy="528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38120" y="259056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Knows the Right Way to Do a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Looks Out for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nguiat Bk BT"/>
              </a:rPr>
              <a:t>Takes Responsibility for Their Ow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3352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Benguiat Bk BT"/>
              </a:rPr>
              <a:t>Everyo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844720" cy="336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9320" y="4151160"/>
            <a:ext cx="299700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08040"/>
            <a:ext cx="777528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5333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Set a Good Safet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3046680" cy="54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6280" y="379440"/>
            <a:ext cx="7775640" cy="1146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33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Benguiat Bk BT"/>
              </a:rPr>
              <a:t>Behavior-based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281916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enguiat Bk BT"/>
              </a:rPr>
              <a:t>Coach Consta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363920" cy="53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20:24:01Z</dcterms:created>
  <dc:creator>Becky White</dc:creator>
  <dc:description/>
  <dc:language>en-US</dc:language>
  <cp:lastModifiedBy>AWCC</cp:lastModifiedBy>
  <dcterms:modified xsi:type="dcterms:W3CDTF">2006-10-12T17:57:44Z</dcterms:modified>
  <cp:revision>24</cp:revision>
  <dc:subject/>
  <dc:title>PowerPoint Presentation</dc:title>
</cp:coreProperties>
</file>