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7C1-D266-4D3D-A1B4-ED8C6A0D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ADF-A846-4D67-9204-BDE79FED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2DD-FC43-4A9E-8E84-44353C29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682-9CF2-4132-96FC-A193BBB1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8E1-8E98-443E-9085-3D75F550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ED2-82E1-419C-A865-09B7FCAC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1CB-D436-4E87-BF1E-A74AC0CF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38F-8166-4065-85CA-229BC755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57D-B69A-47CB-841E-7DA15916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1D6-3283-4A23-AB15-6E2B79D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018-F21F-4158-AA6B-A0AA453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30D-CEF6-4FE1-ACB6-776CDCC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76A4-ED8F-48A3-9625-57C925F3BF92}" type="slidenum"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7400" y="685800"/>
          <a:ext cx="271476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685800"/>
                    <a:ext cx="27147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5181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One Rung at a Time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2286000"/>
          <a:ext cx="2021040" cy="281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286000"/>
                    <a:ext cx="2021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57200" y="6215040"/>
            <a:ext cx="8458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Benguiat Bk BT"/>
              </a:rPr>
              <a:t>Arkansas Workers’ Compensation Commission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Benguiat Bk BT"/>
              </a:rPr>
              <a:t>Health &amp; Safety Division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181480" y="1371600"/>
          <a:ext cx="3714840" cy="51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371600"/>
                    <a:ext cx="371484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943600" y="1981080"/>
          <a:ext cx="1914480" cy="272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1981080"/>
                    <a:ext cx="191448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2819520"/>
            <a:ext cx="5029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6.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Face the Ladder When Going Up or Down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7.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One Person on a Ladder at a Time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4267080"/>
          <a:ext cx="2133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267080"/>
                    <a:ext cx="2133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743200" y="4800600"/>
          <a:ext cx="2629080" cy="152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800600"/>
                    <a:ext cx="2629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715000" y="1447920"/>
          <a:ext cx="3181320" cy="516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1447920"/>
                    <a:ext cx="318132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629400" y="1219320"/>
          <a:ext cx="1676520" cy="2571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9400" y="1219320"/>
                    <a:ext cx="16765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464160" y="3352680"/>
          <a:ext cx="20322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64160" y="3352680"/>
                    <a:ext cx="20322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67280" y="2286000"/>
          <a:ext cx="2819520" cy="274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2286000"/>
                    <a:ext cx="281952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3124080"/>
            <a:ext cx="62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8.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Use the Right          Ladder For the Task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48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705720" y="2133720"/>
          <a:ext cx="2195280" cy="44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2133720"/>
                    <a:ext cx="219528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80880" y="2666880"/>
            <a:ext cx="75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9.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Never Use Metal       Ladders Around       Electrical Wires or Equipment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48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2819520"/>
          <a:ext cx="2505240" cy="340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19520"/>
                    <a:ext cx="25052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809880" y="3200400"/>
            <a:ext cx="4876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10.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Ladders                   Should be as               Compact as             Possible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11.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 Carry              Ladders          Properly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24360" y="2733840"/>
          <a:ext cx="5219640" cy="23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2733840"/>
                    <a:ext cx="521964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248520" y="4343400"/>
          <a:ext cx="1619280" cy="19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4343400"/>
                    <a:ext cx="16192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12. 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Tie Ladders Off Before Using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172200" y="1523880"/>
          <a:ext cx="262908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523880"/>
                    <a:ext cx="262908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905120" y="4083120"/>
          <a:ext cx="5715000" cy="228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4083120"/>
                    <a:ext cx="5715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Benguiat Bk BT"/>
              </a:rPr>
              <a:t>General Requirements for Ladders</a:t>
            </a:r>
            <a:endParaRPr b="0" lang="en-US" sz="6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429000" y="2971800"/>
          <a:ext cx="232092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971800"/>
                    <a:ext cx="2320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Benguiat Bk BT"/>
              </a:rPr>
              <a:t>Types of Ladders</a:t>
            </a:r>
            <a:br>
              <a:rPr sz="4800"/>
            </a:br>
            <a:endParaRPr b="0" lang="en-US" sz="6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1. </a:t>
            </a:r>
            <a:r>
              <a:rPr b="1" lang="en-US" sz="6000" spc="-1" strike="noStrike">
                <a:solidFill>
                  <a:srgbClr val="009900"/>
                </a:solidFill>
                <a:latin typeface="Benguiat Bk BT"/>
              </a:rPr>
              <a:t>Portable 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2. </a:t>
            </a:r>
            <a:r>
              <a:rPr b="1" lang="en-US" sz="6000" spc="-1" strike="noStrike">
                <a:solidFill>
                  <a:srgbClr val="009900"/>
                </a:solidFill>
                <a:latin typeface="Benguiat Bk BT"/>
              </a:rPr>
              <a:t>Step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3. </a:t>
            </a:r>
            <a:r>
              <a:rPr b="1" lang="en-US" sz="6000" spc="-1" strike="noStrike">
                <a:solidFill>
                  <a:srgbClr val="009900"/>
                </a:solidFill>
                <a:latin typeface="Benguiat Bk BT"/>
              </a:rPr>
              <a:t>Extension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Portable Ladders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enguiat Bk BT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Benguiat Bk BT"/>
              </a:rPr>
              <a:t>Inspection and Care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Check for: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1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Can it support 4 times the load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Benguiat Bk BT"/>
              </a:rPr>
              <a:t>(3.3 times for extra heavy-duty type ladders)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2. 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Slip-resistant rungs or step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19920" y="3276720"/>
          <a:ext cx="1562040" cy="325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276720"/>
                    <a:ext cx="156204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315200" y="2133720"/>
          <a:ext cx="1676520" cy="444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2133720"/>
                    <a:ext cx="16765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Falls: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9448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19% of Permanent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14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Disabilities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14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147240" indent="-14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21% of Temporary Total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14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Disabilities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477120" y="457200"/>
          <a:ext cx="1847880" cy="38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57200"/>
                    <a:ext cx="184788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enguiat Bk BT"/>
              </a:rPr>
              <a:t>Step Ladders</a:t>
            </a:r>
            <a:br>
              <a:rPr sz="4400"/>
            </a:b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Inspection and Care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Check for: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1. 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Make sure all 4 legs are in contact with the ground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2. 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Don’t use step ladders like straight ladder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3. 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Don’t use rear braces as steps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4. 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Make sure spreaders are locked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0" y="4800600"/>
          <a:ext cx="23814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4800600"/>
                    <a:ext cx="23814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238880" y="2133720"/>
          <a:ext cx="1882800" cy="41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2133720"/>
                    <a:ext cx="188280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361280" y="228600"/>
          <a:ext cx="178272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61280" y="228600"/>
                    <a:ext cx="17827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Extension Ladders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marL="75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Inspection and Care: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75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Check for: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75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1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Long enough for the job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75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*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at least 3 feet above point of 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support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     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75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*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can work without overreaching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75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2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Height adjusted only by user, and only when on ground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75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3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Base of ladder one quarter (1/4) working length of the ladder from the support wall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75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781680" y="457200"/>
          <a:ext cx="1563840" cy="640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457200"/>
                    <a:ext cx="15638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Fixed Ladders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7162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Benguiat Bk BT"/>
              </a:rPr>
              <a:t>General Tips:</a:t>
            </a:r>
            <a:endParaRPr b="0" lang="en-US" sz="2600" spc="-1" strike="noStrike">
              <a:solidFill>
                <a:srgbClr val="ff33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Check for:</a:t>
            </a:r>
            <a:endParaRPr b="0" lang="en-US" sz="2600" spc="-1" strike="noStrike">
              <a:solidFill>
                <a:srgbClr val="ff33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1.  </a:t>
            </a:r>
            <a:r>
              <a:rPr b="1" lang="en-US" sz="2600" spc="-1" strike="noStrike">
                <a:solidFill>
                  <a:srgbClr val="009900"/>
                </a:solidFill>
                <a:latin typeface="Benguiat Bk BT"/>
              </a:rPr>
              <a:t>Proper support of ladder and rungs</a:t>
            </a:r>
            <a:endParaRPr b="0" lang="en-US" sz="2600" spc="-1" strike="noStrike">
              <a:solidFill>
                <a:srgbClr val="ff33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2.  </a:t>
            </a:r>
            <a:r>
              <a:rPr b="1" lang="en-US" sz="2600" spc="-1" strike="noStrike">
                <a:solidFill>
                  <a:srgbClr val="009900"/>
                </a:solidFill>
                <a:latin typeface="Benguiat Bk BT"/>
              </a:rPr>
              <a:t>Proper length of ladder </a:t>
            </a:r>
            <a:endParaRPr b="0" lang="en-US" sz="2600" spc="-1" strike="noStrike">
              <a:solidFill>
                <a:srgbClr val="ff33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3.  </a:t>
            </a:r>
            <a:r>
              <a:rPr b="1" lang="en-US" sz="2600" spc="-1" strike="noStrike">
                <a:solidFill>
                  <a:srgbClr val="009900"/>
                </a:solidFill>
                <a:latin typeface="Benguiat Bk BT"/>
              </a:rPr>
              <a:t>Clearances between sides, front &amp; back of ladder</a:t>
            </a: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600" spc="-1" strike="noStrike">
              <a:solidFill>
                <a:srgbClr val="ff33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4.  </a:t>
            </a:r>
            <a:r>
              <a:rPr b="1" lang="en-US" sz="2600" spc="-1" strike="noStrike">
                <a:solidFill>
                  <a:srgbClr val="009900"/>
                </a:solidFill>
                <a:latin typeface="Benguiat Bk BT"/>
              </a:rPr>
              <a:t>Rungs designed to prevent slipping</a:t>
            </a:r>
            <a:endParaRPr b="0" lang="en-US" sz="2600" spc="-1" strike="noStrike">
              <a:solidFill>
                <a:srgbClr val="ff33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5.  </a:t>
            </a:r>
            <a:r>
              <a:rPr b="1" lang="en-US" sz="2600" spc="-1" strike="noStrike">
                <a:solidFill>
                  <a:srgbClr val="009900"/>
                </a:solidFill>
                <a:latin typeface="Benguiat Bk BT"/>
              </a:rPr>
              <a:t>Cages, wells, safety devices, self-retracting lifelines, platforms as required </a:t>
            </a:r>
            <a:endParaRPr b="0" lang="en-US" sz="2600" spc="-1" strike="noStrike">
              <a:solidFill>
                <a:srgbClr val="ff33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Benguiat Bk BT"/>
              </a:rPr>
              <a:t>6.  </a:t>
            </a:r>
            <a:r>
              <a:rPr b="1" lang="en-US" sz="2600" spc="-1" strike="noStrike">
                <a:solidFill>
                  <a:srgbClr val="009900"/>
                </a:solidFill>
                <a:latin typeface="Benguiat Bk BT"/>
              </a:rPr>
              <a:t>Proper step-across distances, extensions of side rails above top level and flaring and clearance of rails</a:t>
            </a:r>
            <a:endParaRPr b="0" lang="en-US" sz="2600" spc="-1" strike="noStrike">
              <a:solidFill>
                <a:srgbClr val="ff33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781680" y="4971960"/>
          <a:ext cx="1095480" cy="18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4971960"/>
                    <a:ext cx="1095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039160" y="257040"/>
          <a:ext cx="1104840" cy="660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39160" y="257040"/>
                    <a:ext cx="1104840" cy="66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Cages for fixed ladders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124080" y="16765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enguiat Bk BT"/>
              </a:rPr>
              <a:t>Inspection and Care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Check for: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1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Horizontal Bands: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*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Fastened to rails or    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structure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*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Spacing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2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Vertical Bars: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*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Inside horizontal band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*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Fastened to horizontal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band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*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Spacing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920" y="2209680"/>
          <a:ext cx="2666880" cy="39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09680"/>
                    <a:ext cx="26668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Cages for fixed ladders 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(contd.)</a:t>
            </a:r>
            <a:br>
              <a:rPr sz="3200"/>
            </a:b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Inspection and Care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Check for: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3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Size of cage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4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No projections inside cage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5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Bottom of cage flared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6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Top of cage 42-inches above platform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562720" y="2438280"/>
          <a:ext cx="3427200" cy="415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438280"/>
                    <a:ext cx="342720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Wells for Fixed Ladders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enguiat Bk BT"/>
              </a:rPr>
              <a:t>Inspection and Care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Check for: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1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Completely encircle ladder</a:t>
            </a: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2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Free of projections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3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Proper diameter and length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515280" y="2286000"/>
          <a:ext cx="262872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5280" y="2286000"/>
                    <a:ext cx="262872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Ladder Safety Devices and Support Systems</a:t>
            </a:r>
            <a:r>
              <a:rPr b="1" lang="en-US" sz="4400" spc="-1" strike="noStrike">
                <a:solidFill>
                  <a:srgbClr val="ff3300"/>
                </a:solidFill>
                <a:latin typeface="Benguiat Bk B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Inspection and Care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Must: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1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Withstand a 500 lb.  drop test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2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Hands-free operation, going up or down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3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Activate 2 feet after a fall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4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Limit speed of descent to maximum of  7 feet per second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5. 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Length of lifeline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* </a:t>
            </a:r>
            <a:r>
              <a:rPr b="1" lang="en-US" sz="2800" spc="-1" strike="noStrike">
                <a:solidFill>
                  <a:srgbClr val="3333cc"/>
                </a:solidFill>
                <a:latin typeface="Benguiat Bk BT"/>
              </a:rPr>
              <a:t>9 inches or les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537240" y="4229280"/>
          <a:ext cx="2606760" cy="26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37240" y="4229280"/>
                    <a:ext cx="260676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Mounting Fixed ladders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Inspection and Care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Check for: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1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Proper attachment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2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Mountings &amp; installation - don’t reduce strength of the ladder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enguiat Bk BT"/>
              </a:rPr>
              <a:t>3. </a:t>
            </a:r>
            <a:r>
              <a:rPr b="1" lang="en-US" sz="3200" spc="-1" strike="noStrike">
                <a:solidFill>
                  <a:srgbClr val="009900"/>
                </a:solidFill>
                <a:latin typeface="Benguiat Bk BT"/>
              </a:rPr>
              <a:t>Side rails, steps &amp; rungs for side-step ladders continuous in extension</a:t>
            </a:r>
            <a:r>
              <a:rPr b="1" lang="en-US" sz="2800" spc="-1" strike="noStrike">
                <a:solidFill>
                  <a:srgbClr val="0099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154560" y="2514600"/>
          <a:ext cx="283716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4560" y="2514600"/>
                    <a:ext cx="28371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685800"/>
            <a:ext cx="74678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3333ff"/>
                    </a:gs>
                    <a:gs pos="100000">
                      <a:srgbClr val="6699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cccff"/>
                  </a:outerShdw>
                </a:effectLst>
                <a:latin typeface="Impact"/>
              </a:rPr>
              <a:t>That's all Folk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3333ff"/>
                  </a:gs>
                  <a:gs pos="100000">
                    <a:srgbClr val="6699ff"/>
                  </a:gs>
                </a:gsLst>
                <a:lin ang="13500000"/>
              </a:gradFill>
              <a:effectLst>
                <a:outerShdw dist="17819" dir="2700000" blurRad="0" rotWithShape="0">
                  <a:srgbClr val="cccc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981080" y="4648320"/>
            <a:ext cx="5410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 you!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Benguiat Bk BT"/>
              </a:rPr>
              <a:t>Gravity</a:t>
            </a:r>
            <a:br>
              <a:rPr sz="7200"/>
            </a:br>
            <a:endParaRPr b="0" lang="en-US" sz="7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26840" y="5257800"/>
            <a:ext cx="556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Never Forgets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771640" y="2090880"/>
          <a:ext cx="3600720" cy="26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090880"/>
                    <a:ext cx="360072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438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1.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  Inspect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0" name="clip0155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282420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800600" y="1676520"/>
          <a:ext cx="3249720" cy="48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676520"/>
                    <a:ext cx="324972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12840" y="0"/>
          <a:ext cx="6718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0"/>
                    <a:ext cx="671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895480"/>
            <a:ext cx="5413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2.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Resting on            Stable, Solid         Ground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010280" y="4267080"/>
          <a:ext cx="1800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4267080"/>
                    <a:ext cx="1800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410080" y="1371600"/>
          <a:ext cx="1400400" cy="511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371600"/>
                    <a:ext cx="14004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05320" y="4419720"/>
          <a:ext cx="1809720" cy="20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4419720"/>
                    <a:ext cx="180972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867280" y="1371600"/>
          <a:ext cx="1943280" cy="511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1371600"/>
                    <a:ext cx="194328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2514600"/>
            <a:ext cx="71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3. 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Don’t Climb          too High for          Your Ladder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629400" y="914400"/>
          <a:ext cx="971640" cy="125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9400" y="914400"/>
                    <a:ext cx="971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4.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Keep Your            Body Between the Side Rails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91320" y="1447920"/>
          <a:ext cx="2800080" cy="515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447920"/>
                    <a:ext cx="28000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629400" y="1981080"/>
          <a:ext cx="99072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1981080"/>
                    <a:ext cx="990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Benguiat Bk BT"/>
              </a:rPr>
              <a:t>Ladder Safety Tips:</a:t>
            </a:r>
            <a:br>
              <a:rPr sz="6000"/>
            </a:b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057400"/>
          <a:ext cx="26542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057400"/>
                    <a:ext cx="26542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990720" y="2590920"/>
          <a:ext cx="1257120" cy="188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590920"/>
                    <a:ext cx="12571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895480" y="373392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5.  </a:t>
            </a:r>
            <a:r>
              <a:rPr b="1" lang="en-US" sz="4800" spc="-1" strike="noStrike">
                <a:solidFill>
                  <a:srgbClr val="009900"/>
                </a:solidFill>
                <a:latin typeface="Benguiat Bk BT"/>
              </a:rPr>
              <a:t>Remember the “3-Point Rule”</a:t>
            </a:r>
            <a:endParaRPr b="0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16:13:06Z</dcterms:created>
  <dc:creator>Becky White</dc:creator>
  <dc:description/>
  <dc:language>en-US</dc:language>
  <cp:lastModifiedBy>AWCC</cp:lastModifiedBy>
  <dcterms:modified xsi:type="dcterms:W3CDTF">2006-10-12T20:56:56Z</dcterms:modified>
  <cp:revision>10</cp:revision>
  <dc:subject/>
  <dc:title>LADDER SAFETY  </dc:title>
</cp:coreProperties>
</file>